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01C6-4E3C-4C9C-9D93-D578C059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AC5-CC68-464A-9AC0-6F73B740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3DFD-7C87-4997-825A-90FB8A44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5424-42B1-4295-8FA5-6B02483B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99B3-89FB-4D8B-BE40-4A2E1EFA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CFB-B15C-44BE-97EA-38041CAF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7433-4CE4-4B76-A9A9-DAF69FA0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88B6-97B8-4114-AC2F-AA2EF5E5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60CE-92B3-414D-9920-CC05887F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FE0-22B8-49C8-AF9F-D52100C6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C74-9C32-44A2-8DEF-3DF333D5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B288-3DBB-4C34-8B1A-E14A1B4C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BFD1-DBCB-4B9C-9211-6E5794148C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p=0&amp;text=&#1075;&#1083;&#1102;&#1082;&#1086;&#1079;&#1072;%20&#1074;%20&#1082;&#1072;&#1088;&#1090;&#1080;&#1085;&#1082;&#1072;&#1093;&amp;img_url=i017.radikal.ru%2F0908%2Fe2%2F7543b251a56f.jpg&amp;rpt=simage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verustar.ru/uploads/posts/2009-06/1245483584_4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g1.liveinternet.ru/images/foto/b/3/751/2774751/f_15527458.jp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v.foto.radikal.ru/0705/4b/fcfc9bbf1aae.jpg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g0.liveinternet.ru/images/attach/c/0/36/411/36411049_gost_2.jpg" TargetMode="External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87;&#1091;&#1083;&#1103;&#1088;&#1085;&#1072;&#1103;_&#1084;&#1091;&#1079;&#1099;&#1082;&#1072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7;&#1089;&#1085;&#1103;" TargetMode="External"/><Relationship Id="rId2" Type="http://schemas.openxmlformats.org/officeDocument/2006/relationships/hyperlink" Target="http://ru.wikipedia.org/wiki/ABBA" TargetMode="External"/><Relationship Id="rId3" Type="http://schemas.openxmlformats.org/officeDocument/2006/relationships/hyperlink" Target="http://ru.wikipedia.org/wiki/Boney_M" TargetMode="External"/><Relationship Id="rId4" Type="http://schemas.openxmlformats.org/officeDocument/2006/relationships/hyperlink" Target="http://ru.wikipedia.org/wiki/&#1056;&#1101;&#1081;&#1074;" TargetMode="External"/><Relationship Id="rId5" Type="http://schemas.openxmlformats.org/officeDocument/2006/relationships/hyperlink" Target="http://ru.wikipedia.org/wiki/&#1045;&#1074;&#1088;&#1086;&#1087;&#1086;&#1087;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lamour.ru/upload/iblock/541/madonnab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celebrity-gossip.net/images/photos/madonna_family_arthur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popcornnews.ru/upload/_540_450_90_aaUnc2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87;-&#1089;&#1090;&#1080;&#1083;&#1100;" TargetMode="External"/><Relationship Id="rId2" Type="http://schemas.openxmlformats.org/officeDocument/2006/relationships/hyperlink" Target="http://ru.wikipedia.org/wiki/&#1055;&#1086;&#1087;-&#1089;&#1090;&#1080;&#1083;&#1100;" TargetMode="External"/><Relationship Id="rId3" Type="http://schemas.openxmlformats.org/officeDocument/2006/relationships/hyperlink" Target="http://ru.wikipedia.org/wiki/Disco" TargetMode="External"/><Relationship Id="rId4" Type="http://schemas.openxmlformats.org/officeDocument/2006/relationships/hyperlink" Target="http://ru.wikipedia.org/wiki/&#1055;&#1086;&#1087;-&#1089;&#1090;&#1080;&#1083;&#1100;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alikov.ru/img/cont/Instrumental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hoster.bmstu.ru/~culture/kobzon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mignews.com.ua/data/Articles/MainPhoto/198041.JPE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p-povod.ru/images/chetenado.jpg" TargetMode="External"/><Relationship Id="rId8" Type="http://schemas.openxmlformats.org/officeDocument/2006/relationships/image" Target="../media/image14.jpeg"/><Relationship Id="rId9" Type="http://schemas.openxmlformats.org/officeDocument/2006/relationships/hyperlink" Target="file:///../&#1056;&#1072;&#1073;&#1086;&#1095;&#1080;&#1081;%20&#1089;&#1090;&#1086;&#1083;/&#1053;&#1086;&#1074;&#1072;&#1103;%20&#1087;&#1072;&#1087;&#1082;&#1072;/&#1041;&#1072;&#1083;&#1072;&#1075;&#1072;&#1085;%20&#1051;&#1080;&#1084;&#1080;&#1090;&#1077;&#1076;%20-%20&#1063;&#1077;%20&#1058;&#1077;%20&#1053;&#1072;&#1076;&#1086;!.mp3" TargetMode="External"/><Relationship Id="rId10" Type="http://schemas.openxmlformats.org/officeDocument/2006/relationships/hyperlink" Target="file:///../&#1056;&#1072;&#1073;&#1086;&#1095;&#1080;&#1081;%20&#1089;&#1090;&#1086;&#1083;/&#1053;&#1086;&#1074;&#1072;&#1103;%20&#1087;&#1072;&#1087;&#1082;&#1072;/&#1041;&#1072;&#1083;&#1072;&#1075;&#1072;&#1085;%20&#1051;&#1080;&#1084;&#1080;&#1090;&#1077;&#1076;%20-%20&#1063;&#1077;%20&#1058;&#1077;%20&#1053;&#1072;&#1076;&#1086;!.mp3" TargetMode="External"/><Relationship Id="rId11" Type="http://schemas.openxmlformats.org/officeDocument/2006/relationships/hyperlink" Target="file:///../&#1056;&#1072;&#1073;&#1086;&#1095;&#1080;&#1081;%20&#1089;&#1090;&#1086;&#1083;/&#1053;&#1086;&#1074;&#1072;&#1103;%20&#1087;&#1072;&#1087;&#1082;&#1072;/&#1041;&#1072;&#1083;&#1072;&#1075;&#1072;&#1085;%20&#1051;&#1080;&#1084;&#1080;&#1090;&#1077;&#1076;%20-%20&#1063;&#1077;%20&#1058;&#1077;%20&#1053;&#1072;&#1076;&#1086;!.mp3" TargetMode="External"/><Relationship Id="rId12" Type="http://schemas.openxmlformats.org/officeDocument/2006/relationships/hyperlink" Target="file:///../&#1056;&#1072;&#1073;&#1086;&#1095;&#1080;&#1081;%20&#1089;&#1090;&#1086;&#1083;/&#1053;&#1086;&#1074;&#1072;&#1103;%20&#1087;&#1072;&#1087;&#1082;&#1072;/&#1041;&#1072;&#1083;&#1072;&#1075;&#1072;&#1085;%20&#1051;&#1080;&#1084;&#1080;&#1090;&#1077;&#1076;%20-%20&#1063;&#1077;%20&#1058;&#1077;%20&#1053;&#1072;&#1076;&#1086;!.mp3" TargetMode="Externa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katysweetie.ucoz.ru/0_22e7_b275db66_XL.jpe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hyperlink" Target="http://best-info.ucoz.ru/_ld/3/05277.jpg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upertrevligt.com/mine/rita%20pavone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hyperlink" Target="http://www.youtube.com/watch?v=Yv3wl1uadXI" TargetMode="External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Danniiminogueperforming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g-fotki.yandex.ru/get/20/giya17.2e/0_9e15_819eadcc_XL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www.cool-stars.ru/media/photologue/photos/mikhail_boyarsky_g24-7.jpg" TargetMode="External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95280" y="465120"/>
            <a:ext cx="719928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п-музык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11" descr="Борис Моисеев, официальный сайт"/>
          <p:cNvPicPr/>
          <p:nvPr/>
        </p:nvPicPr>
        <p:blipFill>
          <a:blip r:embed="rId1"/>
          <a:stretch/>
        </p:blipFill>
        <p:spPr>
          <a:xfrm>
            <a:off x="6877080" y="1731960"/>
            <a:ext cx="1747800" cy="2065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i?id=26030539&amp;tov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08360" y="1943280"/>
            <a:ext cx="1898640" cy="1717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Картинка 30 из 2413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4262400"/>
            <a:ext cx="2251080" cy="1940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Картинка 32 из 1241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80000" y="3911760"/>
            <a:ext cx="1757160" cy="2563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Картинка 11 из 414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4000" y="1801800"/>
            <a:ext cx="1968480" cy="1911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Картинка 11 из 9471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79280" y="4363920"/>
            <a:ext cx="26719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 rot="5400000">
            <a:off x="-2642040" y="3009960"/>
            <a:ext cx="6335640" cy="693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данс-п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15" name="WordArt 5"/>
          <p:cNvSpPr txBox="1"/>
          <p:nvPr/>
        </p:nvSpPr>
        <p:spPr>
          <a:xfrm>
            <a:off x="2050920" y="189000"/>
            <a:ext cx="58327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ните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Picture 7" descr="фото"/>
          <p:cNvPicPr/>
          <p:nvPr/>
        </p:nvPicPr>
        <p:blipFill>
          <a:blip r:embed="rId1"/>
          <a:stretch/>
        </p:blipFill>
        <p:spPr>
          <a:xfrm>
            <a:off x="5867280" y="1197000"/>
            <a:ext cx="3132360" cy="44481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203640" y="450864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5867280" y="5950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́йли Энн Мино́у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2124000" y="5950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U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6" descr="Картинка 17 из 974"/>
          <p:cNvPicPr/>
          <p:nvPr/>
        </p:nvPicPr>
        <p:blipFill>
          <a:blip r:embed="rId2"/>
          <a:stretch/>
        </p:blipFill>
        <p:spPr>
          <a:xfrm>
            <a:off x="1476360" y="1268280"/>
            <a:ext cx="30243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24000" y="33336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-му́зыка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Pop-musi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Popular musi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 — направление современной музыки, вид современной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массовой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 flipH="1">
            <a:off x="3492360" y="1484280"/>
            <a:ext cx="648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5219640" y="1484280"/>
            <a:ext cx="64764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24000" y="2492280"/>
            <a:ext cx="33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широком значении, это люба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ссовая музы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включая рок, электронику, джаз, блю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292720" y="2421000"/>
            <a:ext cx="3527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узком значении — отдельный жанр популярной музыки, непосредственно поп-музыка с определенными характеристи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195640" y="5084640"/>
            <a:ext cx="63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50920" y="450864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черты поп-музыки как жанра — простота, мелодичность, опора на вокал и ритм с меньшим вниманием к инструментальной части.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95280" y="333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ая и практически единственная форма композиции в поп-музыке —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есн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79280" y="1413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ексты поп-музыки обычно посвящены личным чувств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6"/>
          <p:cNvSpPr txBox="1"/>
          <p:nvPr/>
        </p:nvSpPr>
        <p:spPr>
          <a:xfrm>
            <a:off x="2484360" y="2565360"/>
            <a:ext cx="4176720" cy="62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р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79280" y="35002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первые термин pop music в английском языке прозвучал еще в 1926 год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50920" y="429264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тоящим прорывом в поп-музыке стало появление в 1970-е стиля «диско» (евродиско) и таких групп, как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BB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oney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79280" y="515772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90-е и 2000-е к этому прибавляется танцевальная электронная музыка 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эй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79280" y="59500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йчас с поп-музыкой ассоциируется в основном западная её разновидность,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европоп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771640" y="1125360"/>
            <a:ext cx="33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донна, одна из самых успешных поп-исполнитель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Картинка 9 из 858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3360"/>
            <a:ext cx="2388960" cy="338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Картинка 84 из 167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333360"/>
            <a:ext cx="2695680" cy="3529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Картинка 3 из 167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00360" y="4076640"/>
            <a:ext cx="3384360" cy="2583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2"/>
          <p:cNvSpPr/>
          <p:nvPr/>
        </p:nvSpPr>
        <p:spPr>
          <a:xfrm>
            <a:off x="6300720" y="5373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рде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7164360" y="4005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й Рит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1187280" y="4797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к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395280" y="260280"/>
            <a:ext cx="83217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Жанры поп-музык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50920" y="1413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ассик-поп (Classic-Pop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— музыкальный стиль, основным инструментом в котором является фортепьяно. Является логическим продолжением развития стил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оп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0" y="2421000"/>
            <a:ext cx="864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п-диско (Pop-Disco)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- музыкальный стиль, возникший в конце 70-х годов в результате синтеза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p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isco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стилей. Отличается красивой мелодией, изысканным вокалом и диско-рит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79280" y="4724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ктро-поп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— подстиль синти-попа с преобладанием звука синтезаторов. Тесно связан с музыкой "новой волны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50920" y="55166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анс-поп (англ.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dance-pop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— стиль электронной танцевальной музыки и поджанр поп-музыки, который эволюционировал из эпохи после диско, около 1981 г., и сочетал танцевальные ритмы со стилями поп, хаус и/или песенной структурой современным ритм-н-блюз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179280" y="3429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иль Italo-Pop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является продолжением развития стил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op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на итальянской эстраде и объединяет множество талантливых итальянских исполнителей. По своему звучанию близок к танцевальной поп-эстраде, но содержит явные элементы Pop и итальянский колор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 rot="5400000">
            <a:off x="-2642040" y="3009960"/>
            <a:ext cx="6335640" cy="693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классик-п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2050920" y="189000"/>
            <a:ext cx="58327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ните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16" descr="Картинка 11 из 28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981000"/>
            <a:ext cx="2160360" cy="2874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Картинка 4 из 404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765000"/>
            <a:ext cx="2011320" cy="3095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9"/>
          <p:cNvSpPr/>
          <p:nvPr/>
        </p:nvSpPr>
        <p:spPr>
          <a:xfrm>
            <a:off x="2987640" y="13413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осиф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бзон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- заслуженный артист СССР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4932360" y="2637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Дмитрий мал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2" descr="Картинка 35 из 62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4076640"/>
            <a:ext cx="2592360" cy="24796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3"/>
          <p:cNvSpPr/>
          <p:nvPr/>
        </p:nvSpPr>
        <p:spPr>
          <a:xfrm>
            <a:off x="7956720" y="5877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Анна В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5" descr="Картинка 4 из 2981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68360" y="4043520"/>
            <a:ext cx="2880000" cy="2490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6"/>
          <p:cNvSpPr/>
          <p:nvPr/>
        </p:nvSpPr>
        <p:spPr>
          <a:xfrm>
            <a:off x="1042920" y="4581360"/>
            <a:ext cx="11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Групп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“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Чё те надо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”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Балаган Лимитед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 rot="5400000">
            <a:off x="-2642040" y="3009960"/>
            <a:ext cx="6335640" cy="693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оп-диск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2050920" y="189000"/>
            <a:ext cx="58327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ните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Picture 7" descr="Картинка 14 из 1878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10340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1619280" y="3860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ритн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ирс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friske1"/>
          <p:cNvPicPr/>
          <p:nvPr/>
        </p:nvPicPr>
        <p:blipFill>
          <a:blip r:embed="rId3"/>
          <a:stretch/>
        </p:blipFill>
        <p:spPr>
          <a:xfrm>
            <a:off x="5076720" y="1125360"/>
            <a:ext cx="3780000" cy="2619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5724360" y="3860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анна Фрис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6948360" y="630864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Банд’Эро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4" descr="Картинка 14 из 174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71640" y="4221000"/>
            <a:ext cx="41054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 rot="5400000">
            <a:off x="-2642040" y="3009960"/>
            <a:ext cx="6335640" cy="693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итало-п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2050920" y="189000"/>
            <a:ext cx="58327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ните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Picture 7" descr="Картинка 4 из 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557360"/>
            <a:ext cx="3673440" cy="4817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4356000" y="1052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ITA PAV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посмотреть"/>
          <p:cNvPicPr/>
          <p:nvPr/>
        </p:nvPicPr>
        <p:blipFill>
          <a:blip r:embed="rId3"/>
          <a:stretch/>
        </p:blipFill>
        <p:spPr>
          <a:xfrm>
            <a:off x="-33480360" y="3000240"/>
            <a:ext cx="228600" cy="219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проиграть"/>
          <p:cNvPicPr/>
          <p:nvPr/>
        </p:nvPicPr>
        <p:blipFill>
          <a:blip r:embed="rId4"/>
          <a:stretch/>
        </p:blipFill>
        <p:spPr>
          <a:xfrm>
            <a:off x="-33480360" y="3000240"/>
            <a:ext cx="304920" cy="295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i?&amp;tov=0&amp;id=170982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578200" y="3000240"/>
            <a:ext cx="10476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 rot="5400000">
            <a:off x="-2642040" y="3009960"/>
            <a:ext cx="6335640" cy="693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электро-п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2050920" y="189000"/>
            <a:ext cx="58327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ните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Picture 7" descr="фот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836640"/>
            <a:ext cx="1349280" cy="2454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7596360" y="3357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ни Миноу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948360" y="6165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-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187280" y="6093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4211640" y="61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р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4211640" y="3284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хаил Боя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826920" y="3357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тару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5" descr="Картинка 11 из 45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71640" y="836640"/>
            <a:ext cx="1647720" cy="2479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Картинка 26 из 579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1052640"/>
            <a:ext cx="3330720" cy="2217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Картинка 56 из 10177"/>
          <p:cNvPicPr/>
          <p:nvPr/>
        </p:nvPicPr>
        <p:blipFill>
          <a:blip r:embed="rId7"/>
          <a:stretch/>
        </p:blipFill>
        <p:spPr>
          <a:xfrm>
            <a:off x="900000" y="4292640"/>
            <a:ext cx="2232000" cy="1673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Картинка 32 из 2353"/>
          <p:cNvPicPr/>
          <p:nvPr/>
        </p:nvPicPr>
        <p:blipFill>
          <a:blip r:embed="rId8"/>
          <a:stretch/>
        </p:blipFill>
        <p:spPr>
          <a:xfrm>
            <a:off x="3564000" y="4221000"/>
            <a:ext cx="2663640" cy="1773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3" descr="Картинка 26 из 734"/>
          <p:cNvPicPr/>
          <p:nvPr/>
        </p:nvPicPr>
        <p:blipFill>
          <a:blip r:embed="rId9"/>
          <a:stretch/>
        </p:blipFill>
        <p:spPr>
          <a:xfrm>
            <a:off x="6443640" y="4221000"/>
            <a:ext cx="2521080" cy="16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4:24:20Z</dcterms:created>
  <dc:creator>Name</dc:creator>
  <dc:description/>
  <dc:language>en-US</dc:language>
  <cp:lastModifiedBy>Коля</cp:lastModifiedBy>
  <dcterms:modified xsi:type="dcterms:W3CDTF">2013-03-20T19:30:19Z</dcterms:modified>
  <cp:revision>7</cp:revision>
  <dc:subject/>
  <dc:title>Слайд 1</dc:title>
</cp:coreProperties>
</file>