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6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3.gif" ContentType="image/gif"/>
  <Override PartName="/ppt/media/image27.jpeg" ContentType="image/jpeg"/>
  <Override PartName="/ppt/media/image26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8DE-A0BF-4004-AEB1-19A486D8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FA6-25C3-4BF5-9A60-DC24BE8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528-0704-4BE0-AE90-53555861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33A-E33B-43A5-A6E3-BA033630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A57-CEF5-48C7-A973-54FA1B5A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7F0-7E23-4584-BE9E-45909128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59B-37D3-443C-8C93-1E425E0E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381-3BF5-4F6A-AE8A-1F38AF75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8BB-E72A-4319-B687-4344EBD0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5F0-7E62-46E4-9F6C-188CD79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9BB-D461-4AC4-BDAA-E110CDC7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6DB-9E4F-45BD-B3D5-C648854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8FA-DE8E-469C-B35E-7784AADA9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балина Мария и Ганджалян Ж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подаватель геометри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йбрахманова Г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33520" y="0"/>
            <a:ext cx="8076960" cy="34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БЪЁМ ПИРАМИДЫ</a:t>
            </a:r>
            <a:endParaRPr b="0" lang="en-US" sz="3600" spc="1" strike="noStrike">
              <a:ln w="381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ъем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еченной пирамиды, высота которой рав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а площади оснований равны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вычисляется по формул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685800" y="152280"/>
            <a:ext cx="7467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едствие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5" descr="S6006349"/>
          <p:cNvPicPr/>
          <p:nvPr/>
        </p:nvPicPr>
        <p:blipFill>
          <a:blip r:embed="rId2"/>
          <a:srcRect l="14926" t="38504" r="16418" b="42249"/>
          <a:stretch/>
        </p:blipFill>
        <p:spPr>
          <a:xfrm>
            <a:off x="1371600" y="4456080"/>
            <a:ext cx="5943600" cy="1162080"/>
          </a:xfrm>
          <a:prstGeom prst="rect">
            <a:avLst/>
          </a:prstGeom>
          <a:ln w="76320">
            <a:solidFill>
              <a:srgbClr val="db2591"/>
            </a:solidFill>
            <a:miter/>
          </a:ln>
        </p:spPr>
      </p:pic>
    </p:spTree>
  </p:cSld>
  <p:transition>
    <p:comb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05280" y="137124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доказательства теоремы об объеме пирамиды мы установили, что в сечении треугольной пирамиды плоскостью, параллельной плоскости основания, получается треугольник, подобный основанию. Оказывается, имеет место и более общее свойство. Рассмотрим какую-нибудь фигуру Ф, лежащую  в плоскости а, и точку О, не лежащую в этой в этой плоскости. Проведем через каждую точку М фигуры Ф прямую ОМ и рассмотрим множество 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ек пересечения этих прямых с плоскостью а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араллельной плоскости а. можно доказать, что фигура 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а фигуре Ф. это свойство широко используется на практике. Например, на нем основано устройство кинопроектора, фотоаппарата, телескопа и других оптических приб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 rot="241800">
            <a:off x="914040" y="304560"/>
            <a:ext cx="6629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60000"/>
                </a:gradFill>
                <a:latin typeface="Arial Black"/>
              </a:rPr>
              <a:t>Замечание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60000"/>
              </a:gradFill>
              <a:latin typeface="Arial Black"/>
              <a:ea typeface="Arial Black"/>
            </a:endParaRPr>
          </a:p>
        </p:txBody>
      </p:sp>
      <p:pic>
        <p:nvPicPr>
          <p:cNvPr id="69" name="Picture 9" descr="S6006335"/>
          <p:cNvPicPr/>
          <p:nvPr/>
        </p:nvPicPr>
        <p:blipFill>
          <a:blip r:embed="rId2"/>
          <a:srcRect l="11009" t="16628" r="11009" b="11675"/>
          <a:stretch/>
        </p:blipFill>
        <p:spPr>
          <a:xfrm>
            <a:off x="5367240" y="1600200"/>
            <a:ext cx="3481560" cy="42670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Найдите объем правильной треугольной пирамиды, высота которой равна 12 см, а сторона основания равна 13 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 правильной треугольной пирамиде плоский угол при вершине равен а, а сторона основания х. найдите объем пирам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йдите объем пирамиды с высот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 м, а основанием служит квадрат со стороной  3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380880" y="5335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И ДЛЯ РЕШЕНИЯ</a:t>
            </a:r>
            <a:endParaRPr b="0" lang="en-US" sz="36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ы вспомнили, что такое пирамида, научились пользоваться формулой нахождения объема пирами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304920" y="304920"/>
            <a:ext cx="41907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Вывод</a:t>
            </a:r>
            <a:endParaRPr b="1" i="1" lang="en-US" sz="3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4" name="Picture 5" descr="face wow"/>
          <p:cNvPicPr/>
          <p:nvPr/>
        </p:nvPicPr>
        <p:blipFill>
          <a:blip r:embed="rId2"/>
          <a:stretch/>
        </p:blipFill>
        <p:spPr>
          <a:xfrm>
            <a:off x="7696080" y="57150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430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АСИБО ЗА ПРОСМОТР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PIC_0043"/>
          <p:cNvPicPr/>
          <p:nvPr/>
        </p:nvPicPr>
        <p:blipFill>
          <a:blip r:embed="rId2"/>
          <a:srcRect l="18867" t="18085" r="32076" b="0"/>
          <a:stretch/>
        </p:blipFill>
        <p:spPr>
          <a:xfrm>
            <a:off x="304920" y="1600200"/>
            <a:ext cx="3833640" cy="48006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</p:spTree>
  </p:cSld>
  <p:transition>
    <p:blinds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685800" y="1447920"/>
            <a:ext cx="7467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всё!!!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СПОМНИТЬ, ЧТО ТАКОЕ ПИРАМИ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НАУЧИТЬСЯ ПОЛЬЗОВАТЬСЯ ФОРМУЛОЙ НАХОЖДЕНИЯ ОБЪЁМА ПИРАМ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981080" y="533520"/>
            <a:ext cx="495324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работы: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" name="Picture 22" descr="face flirty"/>
          <p:cNvPicPr/>
          <p:nvPr/>
        </p:nvPicPr>
        <p:blipFill>
          <a:blip r:embed="rId2"/>
          <a:stretch/>
        </p:blipFill>
        <p:spPr>
          <a:xfrm>
            <a:off x="6781680" y="52578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ЧТО ТАКОЕ 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ТЕОР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ДОКАЗ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СЛЕД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ЗАМЕЧ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ЗАДАЧИ ДЛЯ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Black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828800" y="152280"/>
            <a:ext cx="43434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: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8" name="Picture 5" descr="face angry"/>
          <p:cNvPicPr/>
          <p:nvPr/>
        </p:nvPicPr>
        <p:blipFill>
          <a:blip r:embed="rId4"/>
          <a:stretch/>
        </p:blipFill>
        <p:spPr>
          <a:xfrm>
            <a:off x="7162920" y="5029200"/>
            <a:ext cx="961920" cy="76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009999"/>
                </a:solidFill>
                <a:uFillTx/>
                <a:latin typeface="Arial"/>
              </a:rPr>
              <a:t>ПИРАМИД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мида – это многогранник, одной из граней которой служит многоугольник, а остальные грани – треугольники с общей вершиной. В зависимости от числа боковых граней делятся на треугольные, четырехугольные и т.д. Перпендикуляр, опущенный из вершины на плоскость ее осн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вы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ce laughing"/>
          <p:cNvPicPr/>
          <p:nvPr/>
        </p:nvPicPr>
        <p:blipFill>
          <a:blip r:embed="rId2"/>
          <a:stretch/>
        </p:blipFill>
        <p:spPr>
          <a:xfrm>
            <a:off x="7467480" y="54864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 Black"/>
              </a:rPr>
              <a:t>Объём пирамиды равен одной трети произведения площади основания на выс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838080" y="3808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орема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Picture 7" descr="S6006332"/>
          <p:cNvPicPr/>
          <p:nvPr/>
        </p:nvPicPr>
        <p:blipFill>
          <a:blip r:embed="rId2"/>
          <a:srcRect l="18868" t="8017" r="16982" b="0"/>
          <a:stretch/>
        </p:blipFill>
        <p:spPr>
          <a:xfrm rot="635400">
            <a:off x="4419720" y="1828440"/>
            <a:ext cx="4251240" cy="4572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p:transition>
    <p:checke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Bookman Old Style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ссмотрим треугольную пирамиду ОАВС с объёмо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площадью основания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 высотой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 Проведем ось Ох, где ОМ – высота пирамиды и рассмотрим сечение А1 В1 С1 пирамиды плоскостью, перпендикулярной к оси Ох и, значит, параллельной плоскости основания. Обозначим через х абсциссу точки М1 пересечения этой плоскости с осью Ох, а чере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х) – площадь сечения.   Выразим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х) через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 х. треугольники      А1 В1 С1 и АВС под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6006332"/>
          <p:cNvPicPr/>
          <p:nvPr/>
        </p:nvPicPr>
        <p:blipFill>
          <a:blip r:embed="rId2"/>
          <a:srcRect l="18865" t="8019" r="18865" b="0"/>
          <a:stretch/>
        </p:blipFill>
        <p:spPr>
          <a:xfrm>
            <a:off x="6095880" y="2286000"/>
            <a:ext cx="2514600" cy="2786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wipe dir="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параллельна АВ, поэтому треугольники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И ОАВ подобны. Следовательно, 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В=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А. Прямоугольные треугольники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М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и ОАМ также подобны ( они имеют общий острый угол с вершиной О). Поэтому ОА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А=ОМ</a:t>
            </a:r>
            <a:r>
              <a:rPr b="0" lang="ru-RU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М=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Таким образом,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 А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АВ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=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х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Аналогично доказывается, что В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С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С=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A</a:t>
            </a:r>
            <a:r>
              <a:rPr b="0" lang="en-US" sz="900" spc="-1" strike="noStrike">
                <a:solidFill>
                  <a:srgbClr val="ffff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CA=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Итак, треугольники АВС и АВС подобны с коэффициентом подобия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x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. Следовательно, 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S (x)/S=x</a:t>
            </a:r>
            <a:r>
              <a:rPr b="0" lang="en-US" sz="1200" spc="-1" strike="noStrike">
                <a:solidFill>
                  <a:srgbClr val="ffff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/h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6006340"/>
          <p:cNvPicPr/>
          <p:nvPr/>
        </p:nvPicPr>
        <p:blipFill>
          <a:blip r:embed="rId2"/>
          <a:srcRect l="36471" t="36078" r="27059" b="45103"/>
          <a:stretch/>
        </p:blipFill>
        <p:spPr>
          <a:xfrm>
            <a:off x="3962520" y="5562720"/>
            <a:ext cx="2361960" cy="914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Применяя теперь основную формулу для вычисления объемов тел при а=0, 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b</a:t>
            </a: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=</a:t>
            </a:r>
            <a:r>
              <a:rPr b="1" i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h</a:t>
            </a:r>
            <a:r>
              <a:rPr b="1" i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, получаем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6006346"/>
          <p:cNvPicPr/>
          <p:nvPr/>
        </p:nvPicPr>
        <p:blipFill>
          <a:blip r:embed="rId2"/>
          <a:srcRect l="0" t="40910" r="0" b="34847"/>
          <a:stretch/>
        </p:blipFill>
        <p:spPr>
          <a:xfrm>
            <a:off x="457200" y="2819520"/>
            <a:ext cx="8001000" cy="2057400"/>
          </a:xfrm>
          <a:prstGeom prst="rect">
            <a:avLst/>
          </a:prstGeom>
          <a:ln w="76320">
            <a:solidFill>
              <a:srgbClr val="db2591"/>
            </a:solidFill>
            <a:miter/>
          </a:ln>
        </p:spPr>
      </p:pic>
      <p:pic>
        <p:nvPicPr>
          <p:cNvPr id="62" name="Picture 6" descr="face tired"/>
          <p:cNvPicPr/>
          <p:nvPr/>
        </p:nvPicPr>
        <p:blipFill>
          <a:blip r:embed="rId3"/>
          <a:stretch/>
        </p:blipFill>
        <p:spPr>
          <a:xfrm>
            <a:off x="7696080" y="228600"/>
            <a:ext cx="96228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кажем теперь терему для произвольной пирамиды с высото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и площадью основания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Такую пирамиду можно разбить на треугольные пирамиды с общей высотой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Выразим объем каждой треугольной пирамиды по доказанной нами формуле и сложим эти объемы. Вынося за скобки общий множитель 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3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, получим в скобках сумму площадей оснований треугольных пирамид, т.е. площадь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основания исходной пирамиды. Таким образом, объем исходной пирамиды равен 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h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 Теорема доказ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t</cp:lastModifiedBy>
  <dcterms:modified xsi:type="dcterms:W3CDTF">2009-11-24T09:55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