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5.png" ContentType="image/png"/>
  <Override PartName="/ppt/media/image25.gif" ContentType="image/gif"/>
  <Override PartName="/ppt/media/image6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3.gif" ContentType="image/gif"/>
  <Override PartName="/ppt/media/image27.jpeg" ContentType="image/jpeg"/>
  <Override PartName="/ppt/media/image26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5F6-56C6-4A91-A983-F217D7C8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BE8-DCE0-44CA-9BB4-3FDB3F59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819-0717-4611-8843-3475C484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0CA-3B18-469C-853A-70E174ED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C44-F819-43D9-96AF-CE5C85DD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8CD-CB14-4F3E-B2E5-B22A8CEC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B8D-DD25-41B2-9BD8-8AE25F5B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F5E-DD8B-4C91-9A6F-68942913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C90-5419-4477-A64B-EAA47DB9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059-D4D7-4104-B2E9-5A0FF4ED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E26-59A7-4CF4-8847-8BCDC60B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D08-56F4-4F1F-A506-181C5F8D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DF8C-B631-4700-96EA-D3F61F64F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балина Мария и Ганджалян Жа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подаватель геометри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йбрахманова Г.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533520" y="0"/>
            <a:ext cx="8076960" cy="346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БЪЁМ ПИРАМИДЫ</a:t>
            </a:r>
            <a:endParaRPr b="0" lang="en-US" sz="3600" spc="1" strike="noStrike">
              <a:ln w="381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ъем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еченной пирамиды, высота которой рав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а площади оснований равн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вычисляется по формул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685800" y="152280"/>
            <a:ext cx="7467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едствие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5" descr="S6006349"/>
          <p:cNvPicPr/>
          <p:nvPr/>
        </p:nvPicPr>
        <p:blipFill>
          <a:blip r:embed="rId2"/>
          <a:srcRect l="14926" t="38504" r="16418" b="42249"/>
          <a:stretch/>
        </p:blipFill>
        <p:spPr>
          <a:xfrm>
            <a:off x="1371600" y="4456080"/>
            <a:ext cx="5943600" cy="1162080"/>
          </a:xfrm>
          <a:prstGeom prst="rect">
            <a:avLst/>
          </a:prstGeom>
          <a:ln w="76320">
            <a:solidFill>
              <a:srgbClr val="db2591"/>
            </a:solidFill>
            <a:miter/>
          </a:ln>
        </p:spPr>
      </p:pic>
    </p:spTree>
  </p:cSld>
  <p:transition>
    <p:comb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05280" y="1371240"/>
            <a:ext cx="5715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де доказательства теоремы об объеме пирамиды мы установили, что в сечении треугольной пирамиды плоскостью, параллельной плоскости основания, получается треугольник, подобный основанию. Оказывается, имеет место и более общее свойство. Рассмотрим какую-нибудь фигуру Ф, лежащую  в плоскости а, и точку О, не лежащую в этой в этой плоскости. Проведем через каждую точку М фигуры Ф прямую ОМ и рассмотрим множество Ф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чек пересечения этих прямых с плоскостью 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араллельной плоскости а. можно доказать, что фигура Ф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а фигуре Ф. это свойство широко используется на практике. Например, на нем основано устройство кинопроектора, фотоаппарата, телескопа и других оптических приб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 rot="241800">
            <a:off x="914040" y="304560"/>
            <a:ext cx="6629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60000"/>
                </a:gradFill>
                <a:latin typeface="Arial Black"/>
              </a:rPr>
              <a:t>Замечание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60000"/>
              </a:gradFill>
              <a:latin typeface="Arial Black"/>
              <a:ea typeface="Arial Black"/>
            </a:endParaRPr>
          </a:p>
        </p:txBody>
      </p:sp>
      <p:pic>
        <p:nvPicPr>
          <p:cNvPr id="69" name="Picture 9" descr="S6006335"/>
          <p:cNvPicPr/>
          <p:nvPr/>
        </p:nvPicPr>
        <p:blipFill>
          <a:blip r:embed="rId2"/>
          <a:srcRect l="11009" t="16628" r="11009" b="11675"/>
          <a:stretch/>
        </p:blipFill>
        <p:spPr>
          <a:xfrm>
            <a:off x="5367240" y="1600200"/>
            <a:ext cx="3481560" cy="42670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Найдите объем правильной треугольной пирамиды, высота которой равна 12 см, а сторона основания равна 13 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 правильной треугольной пирамиде плоский угол при вершине равен а, а сторона основания х. найдите объем пирам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Найдите объем пирамиды с высот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 м, а основанием служит квадрат со стороной  3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80880" y="5335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И ДЛЯ РЕШЕНИЯ</a:t>
            </a:r>
            <a:endParaRPr b="0" lang="en-US" sz="36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ы вспомнили, что такое пирамида, научились пользоваться формулой нахождения объема пирами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304920" y="304920"/>
            <a:ext cx="41907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ывод</a:t>
            </a:r>
            <a:endParaRPr b="1" i="1" lang="en-US" sz="36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4" name="Picture 5" descr="face wow"/>
          <p:cNvPicPr/>
          <p:nvPr/>
        </p:nvPicPr>
        <p:blipFill>
          <a:blip r:embed="rId2"/>
          <a:stretch/>
        </p:blipFill>
        <p:spPr>
          <a:xfrm>
            <a:off x="7696080" y="57150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143000" y="304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ЗА ПРОСМОТР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PIC_0043"/>
          <p:cNvPicPr/>
          <p:nvPr/>
        </p:nvPicPr>
        <p:blipFill>
          <a:blip r:embed="rId2"/>
          <a:srcRect l="18867" t="18085" r="32076" b="0"/>
          <a:stretch/>
        </p:blipFill>
        <p:spPr>
          <a:xfrm>
            <a:off x="304920" y="1600200"/>
            <a:ext cx="3833640" cy="48006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>
    <p:blinds dir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685800" y="1447920"/>
            <a:ext cx="7467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всё!!!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СПОМНИТЬ, ЧТО ТАКОЕ ПИРАМ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НАУЧИТЬСЯ ПОЛЬЗОВАТЬСЯ ФОРМУЛОЙ НАХОЖДЕНИЯ ОБЪЁМА ПИРАМ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981080" y="533520"/>
            <a:ext cx="49532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работы: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5" name="Picture 22" descr="face flirty"/>
          <p:cNvPicPr/>
          <p:nvPr/>
        </p:nvPicPr>
        <p:blipFill>
          <a:blip r:embed="rId2"/>
          <a:stretch/>
        </p:blipFill>
        <p:spPr>
          <a:xfrm>
            <a:off x="6781680" y="52578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ЧТО ТАКОЕ ПИРАМ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ТЕОР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ДОКАЗА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СЛЕД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ЗАМЕ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ЗАДАЧИ ДЛЯ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828800" y="152280"/>
            <a:ext cx="4343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лан: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8" name="Picture 5" descr="face angry"/>
          <p:cNvPicPr/>
          <p:nvPr/>
        </p:nvPicPr>
        <p:blipFill>
          <a:blip r:embed="rId4"/>
          <a:stretch/>
        </p:blipFill>
        <p:spPr>
          <a:xfrm>
            <a:off x="7162920" y="5029200"/>
            <a:ext cx="961920" cy="762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009999"/>
                </a:solidFill>
                <a:uFillTx/>
                <a:latin typeface="Arial"/>
              </a:rPr>
              <a:t>ПИРАМИД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амида – это многогранник, одной из граней которой служит многоугольник, а остальные грани – треугольники с общей вершиной. В зависимости от числа боковых граней делятся на треугольные, четырехугольные и т.д. Перпендикуляр, опущенный из вершины на плоскость ее осн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тся выс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ace laughing"/>
          <p:cNvPicPr/>
          <p:nvPr/>
        </p:nvPicPr>
        <p:blipFill>
          <a:blip r:embed="rId2"/>
          <a:stretch/>
        </p:blipFill>
        <p:spPr>
          <a:xfrm>
            <a:off x="7467480" y="54864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 Black"/>
              </a:rPr>
              <a:t>Объём пирамиды равен одной трети произведения площади основания на выс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838080" y="38088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орема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7" descr="S6006332"/>
          <p:cNvPicPr/>
          <p:nvPr/>
        </p:nvPicPr>
        <p:blipFill>
          <a:blip r:embed="rId2"/>
          <a:srcRect l="18868" t="8017" r="16982" b="0"/>
          <a:stretch/>
        </p:blipFill>
        <p:spPr>
          <a:xfrm rot="635400">
            <a:off x="4419720" y="1828440"/>
            <a:ext cx="4251240" cy="4572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p:transition>
    <p:checke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Доказ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смотрим треугольную пирамиду ОАВС с объёмом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площадью основания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 высотой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 Проведем ось Ох, где ОМ – высота пирамиды и рассмотрим сечение А1 В1 С1 пирамиды плоскостью, перпендикулярной к оси Ох и, значит, параллельной плоскости основания. Обозначим через х абсциссу точки М1 пересечения этой плоскости с осью Ох, а через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х) – площадь сечения.   Выразим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х) через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 х. треугольники      А1 В1 С1 и АВС подоб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6006332"/>
          <p:cNvPicPr/>
          <p:nvPr/>
        </p:nvPicPr>
        <p:blipFill>
          <a:blip r:embed="rId2"/>
          <a:srcRect l="18865" t="8019" r="18865" b="0"/>
          <a:stretch/>
        </p:blipFill>
        <p:spPr>
          <a:xfrm>
            <a:off x="6095880" y="2286000"/>
            <a:ext cx="2514600" cy="2786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ipe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параллельна АВ, поэтому треугольники 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И ОАВ подобны. Следовательно, 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АВ=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А. Прямоугольные треугольники 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М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и ОАМ также подобны ( они имеют общий острый угол с вершиной О). Поэтому 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А=ОМ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М=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x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Таким образом,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А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АВ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=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х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Аналогично доказывается, что В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С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С=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x/h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C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CA=x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Итак, треугольники АВС и АВС подобны с коэффициентом подобия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x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Следовательно,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 (x)/S=x</a:t>
            </a:r>
            <a:r>
              <a:rPr b="0" lang="en-US" sz="1200" spc="-1" strike="noStrike">
                <a:solidFill>
                  <a:srgbClr val="ffff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6006340"/>
          <p:cNvPicPr/>
          <p:nvPr/>
        </p:nvPicPr>
        <p:blipFill>
          <a:blip r:embed="rId2"/>
          <a:srcRect l="36471" t="36078" r="27059" b="45103"/>
          <a:stretch/>
        </p:blipFill>
        <p:spPr>
          <a:xfrm>
            <a:off x="3962520" y="5562720"/>
            <a:ext cx="2361960" cy="914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blinds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Применяя теперь основную формулу для вычисления объемов тел при а=0, </a:t>
            </a: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b</a:t>
            </a:r>
            <a:r>
              <a:rPr b="1" i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=</a:t>
            </a: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h</a:t>
            </a:r>
            <a:r>
              <a:rPr b="1" i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, получаем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6006346"/>
          <p:cNvPicPr/>
          <p:nvPr/>
        </p:nvPicPr>
        <p:blipFill>
          <a:blip r:embed="rId2"/>
          <a:srcRect l="0" t="40910" r="0" b="34847"/>
          <a:stretch/>
        </p:blipFill>
        <p:spPr>
          <a:xfrm>
            <a:off x="457200" y="2819520"/>
            <a:ext cx="8001000" cy="2057400"/>
          </a:xfrm>
          <a:prstGeom prst="rect">
            <a:avLst/>
          </a:prstGeom>
          <a:ln w="76320">
            <a:solidFill>
              <a:srgbClr val="db2591"/>
            </a:solidFill>
            <a:miter/>
          </a:ln>
        </p:spPr>
      </p:pic>
      <p:pic>
        <p:nvPicPr>
          <p:cNvPr id="62" name="Picture 6" descr="face tired"/>
          <p:cNvPicPr/>
          <p:nvPr/>
        </p:nvPicPr>
        <p:blipFill>
          <a:blip r:embed="rId3"/>
          <a:stretch/>
        </p:blipFill>
        <p:spPr>
          <a:xfrm>
            <a:off x="7696080" y="2286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окажем теперь терему для произвольной пирамиды с высотой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и площадью основания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 Такую пирамиду можно разбить на треугольные пирамиды с общей высотой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 Выразим объем каждой треугольной пирамиды по доказанной нами формуле и сложим эти объемы. Вынося за скобки общий множитель 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3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, получим в скобках сумму площадей оснований треугольных пирамид, т.е. площадь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основания исходной пирамиды. Таким образом, объем исходной пирамиды равен 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 Теорема доказ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st</cp:lastModifiedBy>
  <dcterms:modified xsi:type="dcterms:W3CDTF">2009-11-24T09:55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