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B959-AAE5-4FE3-980A-A992E8B6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C1F8-66A8-41DA-9DF2-370FE670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31D-855B-4F4C-8C11-51B01FFA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C77-EABB-4CF6-B996-684DDF43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626B-537A-4D0E-B7DD-A7E4114D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CDA3-F308-47E1-ADCF-7DCB00D8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66CD-1303-41C5-8953-C707EA8D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2C0F-738F-4BE4-94C0-234E5F5C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76FE-A8AC-4E08-AA7E-1700CE13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D54F-4FAD-4054-972E-90C3FC34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4FB1-3EB2-4085-BF0B-E779212E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71BD-9D66-42ED-8005-2833CE78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812E-C099-4DEF-82DA-73673B1C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C028-4EBB-4DC4-BD88-B033768E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5F35-7F6F-40A0-BFAE-E7BB313C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58C8-FAC1-4F9B-93AB-5EDDA5D8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5E98-A9F4-46CA-B2A2-7DF1B035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465D-B120-401B-A3C3-79DDB1FD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0A0C-3DE8-4789-AA8D-BE5CC6FD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349-9DB7-4613-B8F8-8699FF1E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D64E-75DC-412B-B3AD-34C4CB44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558-9305-4677-8564-D403330A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BC6-667C-424B-96C4-DEF5DCE5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D0D-96E3-477C-991C-EA009057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B2E4-CCB3-4A9A-B7BC-8A59B1D168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174C-CB8C-4065-A22A-C3BD363E5E2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avs-tour.ru/Spain/WPAPER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painmania.narod.ru/litra/servantes.html" TargetMode="External"/><Relationship Id="rId2" Type="http://schemas.openxmlformats.org/officeDocument/2006/relationships/hyperlink" Target="http://spainmania.narod.ru/litra/devega.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urspain.ru/index2.php?option=com_datsogallery&amp;func=wmark&amp;oid=29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urspain.ru/index2.php?option=com_datsogallery&amp;func=wmark&amp;oid=13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11.nnm.ru/3/d/e/8/4/2f4d8509750c39c666de7f3cc51_prev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e5ffff"/>
                </a:solidFill>
                <a:latin typeface="Tahoma"/>
              </a:rPr>
              <a:t>Неизвестная </a:t>
            </a:r>
            <a:br>
              <a:rPr sz="9600"/>
            </a:br>
            <a:r>
              <a:rPr b="0" lang="ru-RU" sz="9600" spc="-1" strike="noStrike">
                <a:solidFill>
                  <a:srgbClr val="e5ffff"/>
                </a:solidFill>
                <a:latin typeface="Tahoma"/>
              </a:rPr>
              <a:t>Испания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Картинка 1 из 1286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692280"/>
            <a:ext cx="7489800" cy="560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итература Испан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олотой век в литературе Испании (вторая половина XVI - первая половина XVII веков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Мигель де Сервантес Сааведра </a:t>
            </a:r>
            <a:br>
              <a:rPr sz="1800"/>
            </a:b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Лопе де Вег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ирсо де Молин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дро Кальдерон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уис де Гонгора-и-Аргот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рансиско де Кеведо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льтасар Граси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ания «золотого века» — родина ведущего прозаического жанра новоевропейской литературы —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оман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берущего начало от двух корней: от «Дон Кихота» Сервантеса и от плутовского романа, прообразом которого является «Жизнь Ласарильо де Тормес» (1554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 влиянием итальянской новеллистики в испанской литературе «золотого века» складывается и развивается жанр новеллы, окончательно оформившийся под пером Сервантеса — создателя «Назидательных новелл» (1613). Однако со временем в испанской барочной прозе начинает брать верх риторическое начало, подчиняющее себе ренессансное «подражание Природе». Образ «человека внутреннего» в литературе барокко сменяется типом «человека внешнего», озабоченного тем, как он выглядит в глазах других, выстраивающим свое «я» по канонам, навязываемым ему социумом. Стиль прозы барокко характеризует причудливое смешение аллегорической образности и натуралистического гротеска, фантастики и бытописания (характерный образец — «Критикон» Бальтасара Грасиана). Прозаики барокко (например, Ф. де Кеведо) тяготеют к разработке (в том числе — и пародийной) уже существующих фабульных схем (позднегреческого романа, плутовской автобиографии, менипповой сатиры), к стилевым клиш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2920" y="404280"/>
            <a:ext cx="40388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иболее известное произведение эпохи «Золотого века» в Испании – «Хитроумный Идальго Дон Кихот Ламанчский», автор – Мигель де Сервантес Саавед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2" descr="Картинка 6 из 559"/>
          <p:cNvPicPr/>
          <p:nvPr/>
        </p:nvPicPr>
        <p:blipFill>
          <a:blip r:embed="rId1"/>
          <a:stretch/>
        </p:blipFill>
        <p:spPr>
          <a:xfrm>
            <a:off x="468360" y="836640"/>
            <a:ext cx="4246560" cy="566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Х век – один из самых драматических и плодотворных периодов испанской истории и испанской культур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цвет словесности на рубеж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IX-XX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в. связан с деятельностью таких писателей, как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гель де Унамундо (1864-193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тонио Мачадо (1875-193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дерико Гарсиа Лорка (1898-193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гель Делибе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спанская литература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XX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е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кусство Испании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XVI-XVII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в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ультурном развитии именно к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 Испания достигла наивысшего расцвета, в первую очередь в литературе и в живопис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архитектуре традиции средневекового европейского и арабского зодчества соединились с влиянием итальянского Возрождения, а с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 – барокко. В результате испанская архитектура так до конца и не освободилась от сочетания в одном произведении черт разных сти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рхитектура Испан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анская готика начала складываться приблизительно к XIII веку. Ее развитие протекало неравномерно в силу раздробленности королевства и влияния в различных историческим областях местных традиций или воздействия искусства арабов. Стиль проявил себя почти исключительно в храмовом зодчестве, в то время как светская архитектура сохраняла во многом верность диалогу с мавританской традицией. В Испании распространение новых архитектурных идей было медленным. Цистерианцы привнесли ряд готических приемов: это проявилось в форме арок и ребер свода, да и в самом использовании стрельчатых арок. Также свой отпечаток наложили мавританские приемы на трактовку готической системы невюрного каркаса : свод над средокрестием опирается на крестообразно расположенные арки, в пространстве между ними помещается восьмиконечная ажурная звезда. В Севильском соборе, воздвигнутом на месте мечети, кампанилой служит бывший минарет Хиральда; наиболее же ярко воздействие арабского искусства проявилось в кирпичных соборах, возводимых мусульманскими мастер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бор в бургосе – столице средневековой Кастил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0" y="-360"/>
            <a:ext cx="403848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анская готика. Собор в Толед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200px-Burgos_-_Catedral_002"/>
          <p:cNvPicPr/>
          <p:nvPr/>
        </p:nvPicPr>
        <p:blipFill>
          <a:blip r:embed="rId1"/>
          <a:stretch/>
        </p:blipFill>
        <p:spPr>
          <a:xfrm>
            <a:off x="395280" y="1125360"/>
            <a:ext cx="3913200" cy="5732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Испанская готика, собор в Толедо"/>
          <p:cNvPicPr/>
          <p:nvPr/>
        </p:nvPicPr>
        <p:blipFill>
          <a:blip r:embed="rId2"/>
          <a:stretch/>
        </p:blipFill>
        <p:spPr>
          <a:xfrm>
            <a:off x="4572000" y="1125360"/>
            <a:ext cx="4300560" cy="573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анская архитектур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. Во многом следовала средневековым традициям. Существовали следующие архитектурные стил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тиль платереско – («чеканный», «узорчатый») относится к испанским постройкам первой половины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, оформленным с ювелирной точностью и изыскан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онце 40-х гг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 В испанскую архитектуру постепенно проникли черты итальянского барокко, однако здесь этот стиль приобрел более сдержанный характ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рубеж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I-XV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.распространился стиль «чурригереск» по имени мастера Хосе Бенито Чурригера. Сооружения были предельно насыщены декоративными деталями и обильными украшени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арта Испан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Picture 5" descr="Карта Испании"/>
          <p:cNvPicPr/>
          <p:nvPr/>
        </p:nvPicPr>
        <p:blipFill>
          <a:blip r:embed="rId1"/>
          <a:stretch/>
        </p:blipFill>
        <p:spPr>
          <a:xfrm>
            <a:off x="1908000" y="1197000"/>
            <a:ext cx="5688360" cy="52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Картинка 9 из 7392"/>
          <p:cNvPicPr/>
          <p:nvPr/>
        </p:nvPicPr>
        <p:blipFill>
          <a:blip r:embed="rId1"/>
          <a:stretch/>
        </p:blipFill>
        <p:spPr>
          <a:xfrm>
            <a:off x="0" y="907920"/>
            <a:ext cx="4557600" cy="5732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Картинка 11 из 7392"/>
          <p:cNvPicPr/>
          <p:nvPr/>
        </p:nvPicPr>
        <p:blipFill>
          <a:blip r:embed="rId2"/>
          <a:stretch/>
        </p:blipFill>
        <p:spPr>
          <a:xfrm>
            <a:off x="4559400" y="907920"/>
            <a:ext cx="4552920" cy="5761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Стиль барокко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Живопис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 второй половины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XVI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. Испния была художественной провинцией, ее живопись известна по работам мастеров  эпохи Возрождения. Деятельность спанских живописцев жестко конролировалась инквизицией (запрещалось писать обнаженное женское тело, в изображениях Богоматери нельзя было показывать их ноги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панская школа складывалась под влиянием таких разных источников, как средневековая готика, мавританское искусство при несомненном воздействии идей европейского Возрождения. Быть может поэтому в творчестве испанских художников христианские сюжеты удивительным образом уживаются с чувственным ощущением действительности, а картины бытия королей, блистательных особ и принцесс не заслоняют стихии красочной народной жизни с ее патриархальность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иод конца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VI-XVII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в. не случайно называют «Золотым веком испанской живописи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иболее известными художниками того времени был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ль Греко (1541-1614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усепе Рибера (1591-1652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рансиско Сурбаран (1598-1664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его Веласкес (1599-166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артоломе Эстебан Мурильо (1618-1682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Флаг Испан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6" descr="флаг испании"/>
          <p:cNvPicPr/>
          <p:nvPr/>
        </p:nvPicPr>
        <p:blipFill>
          <a:blip r:embed="rId1"/>
          <a:stretch/>
        </p:blipFill>
        <p:spPr>
          <a:xfrm>
            <a:off x="2124000" y="2060640"/>
            <a:ext cx="5327640" cy="32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оролевская семь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5" descr="Королевская семья"/>
          <p:cNvPicPr/>
          <p:nvPr/>
        </p:nvPicPr>
        <p:blipFill>
          <a:blip r:embed="rId1"/>
          <a:stretch/>
        </p:blipFill>
        <p:spPr>
          <a:xfrm>
            <a:off x="1258920" y="1197000"/>
            <a:ext cx="6983280" cy="519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Испан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6280"/>
            <a:ext cx="7129440" cy="583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гионы Испан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ания – многонациональная страна со своеобразными каталонской, галийской и барской культур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ть «известная Испания» - это Андалузия, Арагон, Валенсия, Кастилия, Каталония, благодаря курортам – Болеарские и Канарские остр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есть «неизвестная Испания», в основном ее север – Астурия, Кантабрия, Галисия, Наварра, страна Басков, Ла-Риох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лив Гибралта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8" descr="Гибралтар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413000"/>
            <a:ext cx="6696360" cy="502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атало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867280" y="836280"/>
            <a:ext cx="3276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аталон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Cataluña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 - красивейший край, одна из автономий Испании, знаменитая своей интересной историей, богатой культурой, старинными обычаями, и, конечно, великолепными средиземноморскими курортами. Каталония является крупнейшим культурным, деловым и индустриальным центром Испан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аталон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находится на северо-востоке Иберийского полуострова, с востока граничит со Средиземным морем, а на западе ее окружают живописные горы Пирене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ягкий средиземноморский климат, прекрасная природа и огромные по протяженности пляжи делают Каталонию одним из ведущих мировых курорто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ащищающие Каталонию от ветров Пиренейские горы и влияние моря обеспечивают приятную погоду почти целый год. Средиземноморский умеренный климат способствует тому, что зима здесь мягкая (средняя температура не меньше 10 градусов), а лето - жаркое и сухо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0" descr="Каталония"/>
          <p:cNvPicPr/>
          <p:nvPr/>
        </p:nvPicPr>
        <p:blipFill>
          <a:blip r:embed="rId1"/>
          <a:stretch/>
        </p:blipFill>
        <p:spPr>
          <a:xfrm>
            <a:off x="0" y="1773360"/>
            <a:ext cx="5761080" cy="380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адрид – столица Испан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Picture 6" descr="Картинка 3 из 1286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268280"/>
            <a:ext cx="7632720" cy="508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5:12:18Z</dcterms:created>
  <dc:creator>Ольга</dc:creator>
  <dc:description/>
  <dc:language>en-US</dc:language>
  <cp:lastModifiedBy>Довольный пользователь Microsoft Office</cp:lastModifiedBy>
  <cp:lastPrinted>2013-04-13T06:31:34Z</cp:lastPrinted>
  <dcterms:modified xsi:type="dcterms:W3CDTF">2013-04-13T06:43:15Z</dcterms:modified>
  <cp:revision>30</cp:revision>
  <dc:subject/>
  <dc:title>Слайд 1</dc:title>
</cp:coreProperties>
</file>