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90B-C21A-47DA-9C96-F67F7079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43F-2455-4936-84B0-2D59DE7A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6E7-751E-4727-935E-5BF14C86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FD7-8C07-4A5C-B9A0-E3961E36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E764-19AF-4C05-92C6-2569FE39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2404-CA17-4C9A-9816-0320C2C6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A8A3-CA98-4B67-8765-81714CE8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6A01-6196-4650-A290-17A9FEEF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40BB-247D-43C2-BF06-1DF22149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9409-7A5F-4692-9323-89B3C836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8354-C1A7-471B-9D61-7FAA1087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4A2-2D29-41FC-B12C-B6964D2D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FB73-DEC5-469F-A718-54F23867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3428-D049-4EC7-A3CF-7C13F5C0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8F19-40B0-471E-8173-6B8C768E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B5DC-B2D6-422E-963E-AF9A8765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F1E3-3212-4A38-8506-B7853BFE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53C-1BF2-4E0E-AD60-C0A046AB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B59-6E4B-4572-91BB-91687DF9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2BB-E64C-4E5E-B443-854E60C2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7C4-32E3-4B99-A626-C6CC7858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4A1-83A4-4B0C-85F4-D61A3DA6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BEE-80E0-4C84-9CBE-004E7CD0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D81-EC81-48FB-B1BE-75B3DE14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1BC5-08ED-4421-BD78-8B236EFF7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271D-2FF4-4A2C-A136-89FF7CBA23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avs-tour.ru/Spain/WPAPER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painmania.narod.ru/litra/servantes.html" TargetMode="External"/><Relationship Id="rId2" Type="http://schemas.openxmlformats.org/officeDocument/2006/relationships/hyperlink" Target="http://spainmania.narod.ru/litra/devega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urspain.ru/index2.php?option=com_datsogallery&amp;func=wmark&amp;oid=29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urspain.ru/index2.php?option=com_datsogallery&amp;func=wmark&amp;oid=1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11.nnm.ru/3/d/e/8/4/2f4d8509750c39c666de7f3cc51_prev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Неизвестная </a:t>
            </a:r>
            <a:br>
              <a:rPr sz="9600"/>
            </a:b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Испания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Картинка 1 из 1286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692280"/>
            <a:ext cx="7489800" cy="560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тур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олотой век в литературе Испании (вторая половина XVI - первая половина XVII век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Мигель де Сервантес Сааведра </a:t>
            </a:r>
            <a:br>
              <a:rPr sz="1800"/>
            </a:b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Лопе де Вег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рсо де Моли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ро Кальдеро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уис де Гонгора-и-Аргот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ансиско де Кевед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льтасар Граси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ания «золотого века» — родина ведущего прозаического жанра новоевропейской литературы —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оман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берущего начало от двух корней: от «Дон Кихота» Сервантеса и от плутовского романа, прообразом которого является «Жизнь Ласарильо де Тормес» (1554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влиянием итальянской новеллистики в испанской литературе «золотого века» складывается и развивается жанр новеллы, окончательно оформившийся под пером Сервантеса — создателя «Назидательных новелл» (1613). Однако со временем в испанской барочной прозе начинает брать верх риторическое начало, подчиняющее себе ренессансное «подражание Природе». Образ «человека внутреннего» в литературе барокко сменяется типом «человека внешнего», озабоченного тем, как он выглядит в глазах других, выстраивающим свое «я» по канонам, навязываемым ему социумом. Стиль прозы барокко характеризует причудливое смешение аллегорической образности и натуралистического гротеска, фантастики и бытописания (характерный образец — «Критикон» Бальтасара Грасиана). Прозаики барокко (например, Ф. де Кеведо) тяготеют к разработке (в том числе — и пародийной) уже существующих фабульных схем (позднегреческого романа, плутовской автобиографии, менипповой сатиры), к стилевым клиш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2920" y="404280"/>
            <a:ext cx="4038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более известное произведение эпохи «Золотого века» в Испании – «Хитроумный Идальго Дон Кихот Ламанчский», автор – Мигель де Сервантес Саавед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2" descr="Картинка 6 из 559"/>
          <p:cNvPicPr/>
          <p:nvPr/>
        </p:nvPicPr>
        <p:blipFill>
          <a:blip r:embed="rId1"/>
          <a:stretch/>
        </p:blipFill>
        <p:spPr>
          <a:xfrm>
            <a:off x="468360" y="836640"/>
            <a:ext cx="424656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Х век – один из самых драматических и плодотворных периодов испанской истории и испанской культу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цвет словесности на рубеж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IX-XX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. связан с деятельностью таких писателей, ка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гель де Унамундо (1864-193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онио Мачадо (1875-193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ико Гарсиа Лорка (1898-193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гель Делибе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панская литература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X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кусство Испании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VI-XVII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ультурном развитии именно к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Испания достигла наивысшего расцвета, в первую очередь в литературе и в живопис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архитектуре традиции средневекового европейского и арабского зодчества соединились с влиянием итальянского Возрождения, а 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– барокко. В результате испанская архитектура так до конца и не освободилась от сочетания в одном произведении черт разных сти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рхитектур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анская готика начала складываться приблизительно к XIII веку. Ее развитие протекало неравномерно в силу раздробленности королевства и влияния в различных историческим областях местных традиций или воздействия искусства арабов. Стиль проявил себя почти исключительно в храмовом зодчестве, в то время как светская архитектура сохраняла во многом верность диалогу с мавританской традицией. В Испании распространение новых архитектурных идей было медленным. Цистерианцы привнесли ряд готических приемов: это проявилось в форме арок и ребер свода, да и в самом использовании стрельчатых арок. Также свой отпечаток наложили мавританские приемы на трактовку готической системы невюрного каркаса : свод над средокрестием опирается на крестообразно расположенные арки, в пространстве между ними помещается восьмиконечная ажурная звезда. В Севильском соборе, воздвигнутом на месте мечети, кампанилой служит бывший минарет Хиральда; наиболее же ярко воздействие арабского искусства проявилось в кирпичных соборах, возводимых мусульманскими мастер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ор в бургосе – столице средневековой Кастил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-360"/>
            <a:ext cx="403848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анская готика. Собор в Толед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200px-Burgos_-_Catedral_002"/>
          <p:cNvPicPr/>
          <p:nvPr/>
        </p:nvPicPr>
        <p:blipFill>
          <a:blip r:embed="rId1"/>
          <a:stretch/>
        </p:blipFill>
        <p:spPr>
          <a:xfrm>
            <a:off x="395280" y="1125360"/>
            <a:ext cx="3913200" cy="573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Испанская готика, собор в Толедо"/>
          <p:cNvPicPr/>
          <p:nvPr/>
        </p:nvPicPr>
        <p:blipFill>
          <a:blip r:embed="rId2"/>
          <a:stretch/>
        </p:blipFill>
        <p:spPr>
          <a:xfrm>
            <a:off x="4572000" y="1125360"/>
            <a:ext cx="430056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анская архитектур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. Во многом следовала средневековым традициям. Существовали следующие архитектурные сти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тиль платереско – («чеканный», «узорчатый») относится к испанским постройкам первой половин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, оформленным с ювелирной точностью и изыскан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онце 40-х гг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В испанскую архитектуру постепенно проникли черты итальянского барокко, однако здесь этот стиль приобрел более сдержанный харак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рубеж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-XV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.распространился стиль «чурригереск» по имени мастера Хосе Бенито Чурригера. Сооружения были предельно насыщены декоративными деталями и обильными украшен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рт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5" descr="Карта Испании"/>
          <p:cNvPicPr/>
          <p:nvPr/>
        </p:nvPicPr>
        <p:blipFill>
          <a:blip r:embed="rId1"/>
          <a:stretch/>
        </p:blipFill>
        <p:spPr>
          <a:xfrm>
            <a:off x="1908000" y="1197000"/>
            <a:ext cx="5688360" cy="52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Картинка 9 из 7392"/>
          <p:cNvPicPr/>
          <p:nvPr/>
        </p:nvPicPr>
        <p:blipFill>
          <a:blip r:embed="rId1"/>
          <a:stretch/>
        </p:blipFill>
        <p:spPr>
          <a:xfrm>
            <a:off x="0" y="907920"/>
            <a:ext cx="4557600" cy="5732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Картинка 11 из 7392"/>
          <p:cNvPicPr/>
          <p:nvPr/>
        </p:nvPicPr>
        <p:blipFill>
          <a:blip r:embed="rId2"/>
          <a:stretch/>
        </p:blipFill>
        <p:spPr>
          <a:xfrm>
            <a:off x="4559400" y="907920"/>
            <a:ext cx="4552920" cy="5761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тиль барокко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ивопис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 второй половины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XVI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 Испния была художественной провинцией, ее живопись известна по работам мастеров  эпохи Возрождения. Деятельность спанских живописцев жестко конролировалась инквизицией (запрещалось писать обнаженное женское тело, в изображениях Богоматери нельзя было показывать их ног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панская школа складывалась под влиянием таких разных источников, как средневековая готика, мавританское искусство при несомненном воздействии идей европейского Возрождения. Быть может поэтому в творчестве испанских художников христианские сюжеты удивительным образом уживаются с чувственным ощущением действительности, а картины бытия королей, блистательных особ и принцесс не заслоняют стихии красочной народной жизни с ее патриархальность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 конц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VI-XVII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в. не случайно называют «Золотым веком испанской живописи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иболее известными художниками того времени был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ль Греко (1541-16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усепе Рибера (1591-165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рансиско Сурбаран (1598-166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его Веласкес (1599-166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артоломе Эстебан Мурильо (1618-1682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лаг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6" descr="флаг испании"/>
          <p:cNvPicPr/>
          <p:nvPr/>
        </p:nvPicPr>
        <p:blipFill>
          <a:blip r:embed="rId1"/>
          <a:stretch/>
        </p:blipFill>
        <p:spPr>
          <a:xfrm>
            <a:off x="2124000" y="2060640"/>
            <a:ext cx="5327640" cy="32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оролевская 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5" descr="Королевская семья"/>
          <p:cNvPicPr/>
          <p:nvPr/>
        </p:nvPicPr>
        <p:blipFill>
          <a:blip r:embed="rId1"/>
          <a:stretch/>
        </p:blipFill>
        <p:spPr>
          <a:xfrm>
            <a:off x="1258920" y="1197000"/>
            <a:ext cx="6983280" cy="519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Исп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6280"/>
            <a:ext cx="7129440" cy="58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гионы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ания – многонациональная страна со своеобразными каталонской, галийской и барской культур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ь «известная Испания» - это Андалузия, Арагон, Валенсия, Кастилия, Каталония, благодаря курортам – Болеарские и Канарские остр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есть «неизвестная Испания», в основном ее север – Астурия, Кантабрия, Галисия, Наварра, страна Басков, Ла-Рио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лив Гибралта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8" descr="Гибралта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413000"/>
            <a:ext cx="6696360" cy="50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тало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67280" y="836280"/>
            <a:ext cx="327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атало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Cataluña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 - красивейший край, одна из автономий Испании, знаменитая своей интересной историей, богатой культурой, старинными обычаями, и, конечно, великолепными средиземноморскими курортами. Каталония является крупнейшим культурным, деловым и индустриальным центром Испан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атало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находится на северо-востоке Иберийского полуострова, с востока граничит со Средиземным морем, а на западе ее окружают живописные горы Пирене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ягкий средиземноморский климат, прекрасная природа и огромные по протяженности пляжи делают Каталонию одним из ведущих мировых курорт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щищающие Каталонию от ветров Пиренейские горы и влияние моря обеспечивают приятную погоду почти целый год. Средиземноморский умеренный климат способствует тому, что зима здесь мягкая (средняя температура не меньше 10 градусов), а лето - жаркое и сухо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0" descr="Каталония"/>
          <p:cNvPicPr/>
          <p:nvPr/>
        </p:nvPicPr>
        <p:blipFill>
          <a:blip r:embed="rId1"/>
          <a:stretch/>
        </p:blipFill>
        <p:spPr>
          <a:xfrm>
            <a:off x="0" y="1773360"/>
            <a:ext cx="5761080" cy="380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адрид – столица Испан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Picture 6" descr="Картинка 3 из 1286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268280"/>
            <a:ext cx="7632720" cy="508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5:12:18Z</dcterms:created>
  <dc:creator>Ольга</dc:creator>
  <dc:description/>
  <dc:language>en-US</dc:language>
  <cp:lastModifiedBy>Довольный пользователь Microsoft Office</cp:lastModifiedBy>
  <cp:lastPrinted>2013-04-13T06:31:34Z</cp:lastPrinted>
  <dcterms:modified xsi:type="dcterms:W3CDTF">2013-04-13T06:43:15Z</dcterms:modified>
  <cp:revision>30</cp:revision>
  <dc:subject/>
  <dc:title>Слайд 1</dc:title>
</cp:coreProperties>
</file>