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C05-7E7F-4F13-9FCB-4764B62B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D16-63AF-42F3-8F41-3D5D0D75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C9F-B645-4F4E-8E64-030351C4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F14-B269-45FA-B231-9047BE74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675-7150-4852-B348-974F5338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B46-9D42-41EB-B13E-9A15641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0A4-D502-42AC-B32B-8006408A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52B-B5EC-40A6-ADCE-0C7CB95F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9AE-F7EE-4648-9ADD-ABC203AA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904-5497-4514-8292-A60FF221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BAE-2B9B-4DD0-BD6E-E68CD464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0FF-AF6C-461B-A2A1-7ECA4319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9DA-27A6-4C31-B2DE-BA0590FC908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fdc.gov.pk/cott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900igr.net/datai/tekhnologija/KHlopok/0005-005-Indijskaja-legenda-glasit-chto-khlopok-podarili-ljudjam-bogi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g.taobaocdn.com/imgextra/i1/65012965/T2yxpXXoXMXXXXXXXX_!!65012965.gif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0igr.net/datas/tekhnologija/Viskoza/0004-004-Rasteni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900igr.net/datas/tekhnologija/KHlopok/0013-013-Pervichnaja-obrabotka-khlopk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900igr.net/datas/tekhnologija/KHlopok/0013-013-Pervichnaja-obrabotka-khlopka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Натуральные волокна. Х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лопок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357440" y="2285640"/>
            <a:ext cx="4329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Урок технологии (швейное дел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для учащихся СКОШ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VIII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Учитель технологии: Авдонина Еле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Картинка 142 из 105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857240"/>
            <a:ext cx="3429000" cy="380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Получение хлопкового волок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Картинка 132 из 105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643040"/>
            <a:ext cx="4438800" cy="38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а 112 из 105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BatangChe"/>
              </a:rPr>
              <a:t>Как получают хлопковые тк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48a54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Картинка 74 из 105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60360"/>
            <a:ext cx="7715520" cy="5097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ичная обработка хло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хлопка с по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варительная очис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рт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аковка в кипы (прессова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68 из 105907">
            <a:hlinkClick r:id="rId1"/>
          </p:cNvPr>
          <p:cNvPicPr/>
          <p:nvPr/>
        </p:nvPicPr>
        <p:blipFill>
          <a:blip r:embed="rId2"/>
          <a:srcRect l="68209" t="19218" r="18846" b="55570"/>
          <a:stretch/>
        </p:blipFill>
        <p:spPr>
          <a:xfrm>
            <a:off x="6929280" y="157176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Картинка 68 из 105907">
            <a:hlinkClick r:id="rId3"/>
          </p:cNvPr>
          <p:cNvPicPr/>
          <p:nvPr/>
        </p:nvPicPr>
        <p:blipFill>
          <a:blip r:embed="rId4"/>
          <a:srcRect l="52669" t="55249" r="23161" b="21937"/>
          <a:stretch/>
        </p:blipFill>
        <p:spPr>
          <a:xfrm>
            <a:off x="6786720" y="4786200"/>
            <a:ext cx="2000160" cy="135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артинка 5 из 122597"/>
          <p:cNvPicPr/>
          <p:nvPr/>
        </p:nvPicPr>
        <p:blipFill>
          <a:blip r:embed="rId1"/>
          <a:stretch/>
        </p:blipFill>
        <p:spPr>
          <a:xfrm>
            <a:off x="214200" y="12859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артинка 62 из 146267"/>
          <p:cNvPicPr/>
          <p:nvPr/>
        </p:nvPicPr>
        <p:blipFill>
          <a:blip r:embed="rId2"/>
          <a:stretch/>
        </p:blipFill>
        <p:spPr>
          <a:xfrm>
            <a:off x="4786200" y="2249640"/>
            <a:ext cx="4052880" cy="4346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одство хлопковых ткан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кани получаемые из хлопкового волок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Картинка 37 из 105907"/>
          <p:cNvPicPr/>
          <p:nvPr/>
        </p:nvPicPr>
        <p:blipFill>
          <a:blip r:embed="rId1"/>
          <a:stretch/>
        </p:blipFill>
        <p:spPr>
          <a:xfrm>
            <a:off x="428760" y="1841400"/>
            <a:ext cx="7929360" cy="4786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Швейные изделия из хлопковых тк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://im5-tub-ru.yandex.net/i?id=390772670-04-72"/>
          <p:cNvPicPr/>
          <p:nvPr/>
        </p:nvPicPr>
        <p:blipFill>
          <a:blip r:embed="rId1"/>
          <a:stretch/>
        </p:blipFill>
        <p:spPr>
          <a:xfrm>
            <a:off x="3857760" y="2428920"/>
            <a:ext cx="164304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im2-tub-ru.yandex.net/i?id=131437017-00-72"/>
          <p:cNvPicPr/>
          <p:nvPr/>
        </p:nvPicPr>
        <p:blipFill>
          <a:blip r:embed="rId2"/>
          <a:stretch/>
        </p:blipFill>
        <p:spPr>
          <a:xfrm>
            <a:off x="5786280" y="3286080"/>
            <a:ext cx="3000600" cy="319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im0-tub-ru.yandex.net/i?id=54959480-65-72"/>
          <p:cNvPicPr/>
          <p:nvPr/>
        </p:nvPicPr>
        <p:blipFill>
          <a:blip r:embed="rId3"/>
          <a:stretch/>
        </p:blipFill>
        <p:spPr>
          <a:xfrm>
            <a:off x="6357960" y="906480"/>
            <a:ext cx="2036880" cy="216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Картинка 128 из 105907"/>
          <p:cNvPicPr/>
          <p:nvPr/>
        </p:nvPicPr>
        <p:blipFill>
          <a:blip r:embed="rId4"/>
          <a:stretch/>
        </p:blipFill>
        <p:spPr>
          <a:xfrm>
            <a:off x="392040" y="1785960"/>
            <a:ext cx="3179880" cy="4000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4:33:58Z</dcterms:created>
  <dc:creator>204</dc:creator>
  <dc:description/>
  <dc:language>en-US</dc:language>
  <cp:lastModifiedBy>Daniil</cp:lastModifiedBy>
  <dcterms:modified xsi:type="dcterms:W3CDTF">2013-05-29T11:15:49Z</dcterms:modified>
  <cp:revision>47</cp:revision>
  <dc:subject/>
  <dc:title>заголовок</dc:title>
</cp:coreProperties>
</file>