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59E3-41F3-400F-A543-281053636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22CE-0F52-4105-B7A6-5C8DC59E4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8D19-B5C7-4BA4-8318-50951AE00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9E7B-D379-43E4-A415-D29F0BBD8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C48C-6C88-4B54-B3B9-7CD2911ED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EC88-5572-40D2-99FA-DDFF6FD0F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28A7-0DFC-4672-BF46-231040D92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9105-415B-4651-8A66-AA9350448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71A4-CA26-4500-A292-7355F8321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AD95-A7ED-4711-9555-3F98B5199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BC75-36B4-4E39-8D70-B32D939F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12C9-46A6-4469-AF4B-90AE21CF2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6C19F-6292-4B84-A203-F4A70CA5279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nfdc.gov.pk/cotton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900igr.net/datai/tekhnologija/KHlopok/0005-005-Indijskaja-legenda-glasit-chto-khlopok-podarili-ljudjam-bogi.jp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g.taobaocdn.com/imgextra/i1/65012965/T2yxpXXoXMXXXXXXXX_!!65012965.gif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900igr.net/datas/tekhnologija/Viskoza/0004-004-Rastenie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900igr.net/datas/tekhnologija/KHlopok/0013-013-Pervichnaja-obrabotka-khlopka.jpg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900igr.net/datas/tekhnologija/KHlopok/0013-013-Pervichnaja-obrabotka-khlopka.jpg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Натуральные волокна. Х</a:t>
            </a: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лопок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357440" y="2285640"/>
            <a:ext cx="43290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nstantia"/>
              </a:rPr>
              <a:t>Урок технологии (швейное дело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nstantia"/>
              </a:rPr>
              <a:t>5 клас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для учащихся СКОШ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VIII 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ви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Учитель технологии: Авдонина Елена Николае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Картинка 142 из 10590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57160" y="1857240"/>
            <a:ext cx="3429000" cy="38005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3735"/>
                </a:solidFill>
                <a:latin typeface="Calibri"/>
              </a:rPr>
              <a:t>Получение хлопкового волок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6" descr="Картинка 132 из 10590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4240" y="1643040"/>
            <a:ext cx="4438800" cy="3809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Картинка 112 из 10590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34120" y="285768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  <a:ea typeface="BatangChe"/>
              </a:rPr>
              <a:t>Как получают хлопковые тка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48a54"/>
                </a:solidFill>
                <a:latin typeface="Calibri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2" descr="Картинка 74 из 10590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4240" y="1260360"/>
            <a:ext cx="7715520" cy="509760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ервичная обработка хлоп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бор хлопка с по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дварительная очист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ртиров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паковка в кипы (прессовани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Картинка 68 из 105907">
            <a:hlinkClick r:id="rId1"/>
          </p:cNvPr>
          <p:cNvPicPr/>
          <p:nvPr/>
        </p:nvPicPr>
        <p:blipFill>
          <a:blip r:embed="rId2"/>
          <a:srcRect l="68209" t="19218" r="18846" b="55570"/>
          <a:stretch/>
        </p:blipFill>
        <p:spPr>
          <a:xfrm>
            <a:off x="6929280" y="1571760"/>
            <a:ext cx="1428840" cy="2000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Картинка 68 из 105907">
            <a:hlinkClick r:id="rId3"/>
          </p:cNvPr>
          <p:cNvPicPr/>
          <p:nvPr/>
        </p:nvPicPr>
        <p:blipFill>
          <a:blip r:embed="rId4"/>
          <a:srcRect l="52669" t="55249" r="23161" b="21937"/>
          <a:stretch/>
        </p:blipFill>
        <p:spPr>
          <a:xfrm>
            <a:off x="6786720" y="4786200"/>
            <a:ext cx="2000160" cy="135756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Картинка 5 из 122597"/>
          <p:cNvPicPr/>
          <p:nvPr/>
        </p:nvPicPr>
        <p:blipFill>
          <a:blip r:embed="rId1"/>
          <a:stretch/>
        </p:blipFill>
        <p:spPr>
          <a:xfrm>
            <a:off x="214200" y="128592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Картинка 62 из 146267"/>
          <p:cNvPicPr/>
          <p:nvPr/>
        </p:nvPicPr>
        <p:blipFill>
          <a:blip r:embed="rId2"/>
          <a:stretch/>
        </p:blipFill>
        <p:spPr>
          <a:xfrm>
            <a:off x="4786200" y="2249640"/>
            <a:ext cx="4052880" cy="43462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изводство хлопковых тканей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кани получаемые из хлопкового волок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Картинка 37 из 105907"/>
          <p:cNvPicPr/>
          <p:nvPr/>
        </p:nvPicPr>
        <p:blipFill>
          <a:blip r:embed="rId1"/>
          <a:stretch/>
        </p:blipFill>
        <p:spPr>
          <a:xfrm>
            <a:off x="428760" y="1841400"/>
            <a:ext cx="7929360" cy="478656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Швейные изделия из хлопковых ткан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http://im5-tub-ru.yandex.net/i?id=390772670-04-72"/>
          <p:cNvPicPr/>
          <p:nvPr/>
        </p:nvPicPr>
        <p:blipFill>
          <a:blip r:embed="rId1"/>
          <a:stretch/>
        </p:blipFill>
        <p:spPr>
          <a:xfrm>
            <a:off x="3857760" y="2428920"/>
            <a:ext cx="1643040" cy="2786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http://im2-tub-ru.yandex.net/i?id=131437017-00-72"/>
          <p:cNvPicPr/>
          <p:nvPr/>
        </p:nvPicPr>
        <p:blipFill>
          <a:blip r:embed="rId2"/>
          <a:stretch/>
        </p:blipFill>
        <p:spPr>
          <a:xfrm>
            <a:off x="5786280" y="3286080"/>
            <a:ext cx="3000600" cy="3192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http://im0-tub-ru.yandex.net/i?id=54959480-65-72"/>
          <p:cNvPicPr/>
          <p:nvPr/>
        </p:nvPicPr>
        <p:blipFill>
          <a:blip r:embed="rId3"/>
          <a:stretch/>
        </p:blipFill>
        <p:spPr>
          <a:xfrm>
            <a:off x="6357960" y="906480"/>
            <a:ext cx="2036880" cy="2165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Картинка 128 из 105907"/>
          <p:cNvPicPr/>
          <p:nvPr/>
        </p:nvPicPr>
        <p:blipFill>
          <a:blip r:embed="rId4"/>
          <a:stretch/>
        </p:blipFill>
        <p:spPr>
          <a:xfrm>
            <a:off x="392040" y="1785960"/>
            <a:ext cx="3179880" cy="40003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5T04:33:58Z</dcterms:created>
  <dc:creator>204</dc:creator>
  <dc:description/>
  <dc:language>en-US</dc:language>
  <cp:lastModifiedBy>Daniil</cp:lastModifiedBy>
  <dcterms:modified xsi:type="dcterms:W3CDTF">2013-05-29T11:15:49Z</dcterms:modified>
  <cp:revision>47</cp:revision>
  <dc:subject/>
  <dc:title>заголовок</dc:title>
</cp:coreProperties>
</file>