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3E1-E6DF-44F1-9D19-F50E0767A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C47-913C-4C2F-B3E3-6CF5B57937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20C-98E3-4B66-BFA4-7919882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226-6E7E-4F4B-B724-995AD124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8A3-20B9-4851-828A-284B6129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534-5A4A-423E-93DE-58F7E876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E0E-E14D-4FFE-AF32-28D1B01C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9D7-0F3C-40DF-8A53-8B3420F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BB0E-BE9B-4B25-BB41-4BE8CB0C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E16C-E30A-4DE6-BBB5-DD7344E4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907-1BA3-4590-8612-C446E1DF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6CC-46DC-4716-B11D-856395E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42D6-187A-4B41-BCD8-5945F05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A7A-D43C-455D-8557-8E9D5A0C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B779-0D52-4B54-91BE-707B9896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A06-ABCB-4EA9-B693-34D5EF7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B79C-9800-476E-AAEB-D419BB9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083-C00B-4566-A08F-8CE653C3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EDC-CCFE-415F-BE96-14BAD54B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1F25-E745-4074-B527-67470BD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87F6-CAAE-4879-8660-FF4D683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F782-B483-4956-842A-CEDAB91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0533-FB0B-4350-B437-4ACCF348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68265-D8C2-491B-8C20-1E26398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1D5-1C5D-454D-A393-09F4CD8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AAF2-09E1-4EAF-B628-17983E3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024A-0576-4F4E-B289-62FA1EEA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3DE1-00A0-4AF8-9414-8282AAF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1EE6-2D97-4D43-9331-B3CF35F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C9DE-8E58-4617-831E-2B88B03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2DD6-6A40-4A19-9EE8-D5095FCF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8EFA-973D-49C2-87BF-BD42EB0D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1B92-E61B-48B2-9023-136CF69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ED70-DFE1-441B-9B21-84651AEF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1EA3-3BE9-4062-B414-E5BE651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DE9-4A84-4B57-BAA0-F7640FA8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EF15A-364A-48EC-8C76-45DABD1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DE0B-61DF-4204-9C54-3379F01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C68A6-DA26-4CC8-A0FA-35B3E68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708B-DB99-43CF-8CB8-F7715E7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566C-B0B2-4414-BCA0-1EE55DD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7905-BC03-460E-B9BB-2E5A81F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517F-9F49-4BD0-9E1B-CFE60E35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1AD0-FCBD-462C-A2FC-2ED01CAD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7780-1C2F-41A2-8A8D-1942C35C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BF1F-38B1-4447-B0D9-1321EAD3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D0C-AA4E-41D2-A25E-27AB29C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A2EA-7776-46EB-8DDA-B4E93135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B3F3-DE1A-4BCF-B456-6D30FAB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3204-AFC9-4E42-B9F5-27528515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0581-B9F9-4779-915B-6A220309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571A0-1608-4BD7-AC18-7E434EE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ADD8-E5F3-4C9E-BDDA-375201C6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A359-4EAE-4FAB-8BAD-3EEE3B8D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DAE6-44E9-43A5-9500-93547FF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B894B-9835-4F29-8782-270E9283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9361-5C96-4F51-BF57-13435A1C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00A-571A-4234-812E-DCD2E3C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E941-A9BF-4BC6-9CAA-34DC50DB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3D94-A1D7-4CD7-B871-AE46B5A1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20B2-0899-4E6E-808F-D85AB736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488B-7D72-4CCF-97CD-CE8CFC1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0A60-0DFB-41E1-A5A5-ED7980EC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9479-A82C-4520-957C-72F7070D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4F31-F2B4-4976-A60D-ADB2B524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56AEC-1214-41CA-92F7-D2A713A6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A6E3-ECE3-41CB-BE39-3AD84ED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36926-88B4-4AF0-99E5-F7A85EB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866-7218-47B0-BF7C-CFD39E09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2DFA8-F78C-4F07-9A39-93CF714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DC0F-47E5-46E5-9E8A-315C401D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4C1F7-BE98-4B94-9814-AD9E818B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BA67-31CB-493B-B86B-16395898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812D-38A4-4E33-AA41-E824D90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B8EF-AF33-44C6-B776-216AF8E5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4ED5-158A-434B-9E25-23B4BDB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75B7-EF88-4D47-A500-EDC55C6F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13AC-D76C-451B-9011-E2D56B4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0D69-D526-4251-996B-68D052BE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1B3-1E4C-4707-AF10-3CB7B871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AD1E-C411-4220-8A4F-A68124DA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8032-0F16-4462-BC00-92ACB90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908D-3725-47D6-9678-405B961B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A966-67D1-4F13-88A4-14054FFB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14A89-778F-44B5-9712-4C446F4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820-8673-41B6-9B89-A2179AA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8DEC-75A8-4401-80CB-588A73B2C04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E645-86B8-48FB-96B5-1F0A70E817E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7E2-05FE-4EC4-AE80-8CB2FAA53C0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914-E52F-46D5-818C-01E566F4241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FBAB-F4C9-46FF-B1C2-980AC8B4DFF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1F1-2960-408E-9D56-75BA542107E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79A-BCAD-4CEC-A602-49EEC90C9B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givanie.com/vigivanie-pri-zemletryasenii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3" descr=""/>
          <p:cNvPicPr/>
          <p:nvPr/>
        </p:nvPicPr>
        <p:blipFill>
          <a:blip r:embed="rId1"/>
          <a:stretch/>
        </p:blipFill>
        <p:spPr>
          <a:xfrm>
            <a:off x="706320" y="2462040"/>
            <a:ext cx="10358640" cy="4395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85880" y="499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Федеральное Бюджетное Государственное образовательное учреждение высшего профессионального образовани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оссийский государственный аграрный университет - мсх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имени K.A. ТИМИРЯЗЕ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(ФБГОУ ВПО РГАУ - МСХА имени К.А.Тимирязева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КАЛУЖСКИЙ ФИЛИА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214200"/>
            <a:ext cx="82580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января 1970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атастрофа на заводе «Красное Сормово», расположенном в Нижнем Новгороде. Инцидент случился во время строительства атомной подлодки К 320. В результате неразрешенного запуска реактора, проработавшего на запредельных мощностях около 15 секунд, произошло заражение зоны цеха, в котором строилось судно. Около 1000 человек находилось в цехе на момент аварии. Благодаря закрытости цеха, удалось избежать радиоактивного заражения местности. Многих рабочих в тот день отправили домой, не предоставив необходимой медицинской помощи и дезактивационной обработки. Трое из шести доставленных в московскую больницу скончались от острой лучевой болезни, остальные дали подписку о неразглашении на 25 лет. Более тысячи человек принимали участие в работах по ликвидации аварии до 24 апреля 1970 года. Только 380 из них остались живы к январю 2005 год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400" y="428760"/>
            <a:ext cx="82580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м серьезным инцидентом в атомной энергетике США стала авария на АЭС Тримайл-Айленд в штате Пенсильвания, произошедшая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марта 1979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результате серии сбоев в работе оборудования и грубых ошибок операторов на втором энергоблоке АЭС произошло расплавление 53% активной зоны реактора. Произошел выброс в атмосферу инертных радиоактивных газов – ксенона и йода Кроме того, в реку Сукуахана было сброшено 185 кубических метров слаборадиоактивной воды. Из района, подвергшегося радиационному воздействию, было эвакуировано 200 тысяч человек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Содержимое 3" descr="1300326023_002_28185_2.jpg"/>
          <p:cNvPicPr/>
          <p:nvPr/>
        </p:nvPicPr>
        <p:blipFill>
          <a:blip r:embed="rId1"/>
          <a:stretch/>
        </p:blipFill>
        <p:spPr>
          <a:xfrm>
            <a:off x="1143000" y="714240"/>
            <a:ext cx="6858000" cy="53848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4"/>
          <p:cNvSpPr/>
          <p:nvPr/>
        </p:nvSpPr>
        <p:spPr>
          <a:xfrm>
            <a:off x="1928880" y="6215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Тримайл-Айлен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очь с 25 на 26 апреля 1986 года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етвертом блоке Чернобыльской АЭС (Украина) произошла крупнейшая ядерная авария в мире, с частичным разрушением активной зоны реактора и выходом осколков деления за пределы зоны. По свидетельству специалистов, авария произошла из-за попытки проделать эксперимент по снятию дополнительной энергии во время работы основного атомного реактора. В атмосферу было выброшено 190 тонн радиоактивных веществ. 8 из 140 тонн радиоактивного топлива реактора оказались в воздухе. Другие опасные вещества продолжали покидать реактор в результате пожара, длившегося почти две недели. Люди в Чернобыле подверглись облучению в 90 раз большему, чем при падении бомбы на Хиросиму. В результате аварии произошло радиоактивное заражение в радиусе 30 км. Загрязнена территория площадью 160 тысяч квадратных километров. Пострадали северная часть Украины, Беларусь и запад России. Радиационному загрязнению подверглись 19 российских регионов с территорией почти 60 тысяч квадратных километров и с населением 2,6 миллиона человек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bp21.jpg"/>
          <p:cNvPicPr/>
          <p:nvPr/>
        </p:nvPicPr>
        <p:blipFill>
          <a:blip r:embed="rId1"/>
          <a:stretch/>
        </p:blipFill>
        <p:spPr>
          <a:xfrm>
            <a:off x="1000080" y="214200"/>
            <a:ext cx="7292880" cy="6053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1643040" y="62866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рия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Содержимое 6" descr="bp7.jpg"/>
          <p:cNvPicPr/>
          <p:nvPr/>
        </p:nvPicPr>
        <p:blipFill>
          <a:blip r:embed="rId1"/>
          <a:stretch/>
        </p:blipFill>
        <p:spPr>
          <a:xfrm>
            <a:off x="428760" y="214200"/>
            <a:ext cx="5257800" cy="32148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bp91.jpg"/>
          <p:cNvPicPr/>
          <p:nvPr/>
        </p:nvPicPr>
        <p:blipFill>
          <a:blip r:embed="rId2"/>
          <a:stretch/>
        </p:blipFill>
        <p:spPr>
          <a:xfrm>
            <a:off x="4000680" y="3433680"/>
            <a:ext cx="5143320" cy="342432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8"/>
          <p:cNvSpPr/>
          <p:nvPr/>
        </p:nvSpPr>
        <p:spPr>
          <a:xfrm>
            <a:off x="642960" y="385776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следствия от аварии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2560" y="-360"/>
            <a:ext cx="854388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сентября 1999 года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рупнейшая авария в истории атомной энергетики Японии. На заводе по изготовлению топлива для АЭС в научном городке Токаймура (префектура Ибараки) из-за ошибки персонала началась неуправляемая цепная реакция, которая продолжалась в течение 17 часов. Облучению подверглись 439 человек, 119 из них получили дозу, превышающую ежегодно допустимый уровень. Трое рабочих получили критические дозы облучения. Двое из них скончались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августа 2004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 произошла авария на АЭС «Михама», расположенной в 320 километрах к западу от Токио на о.Хонсю. В турбине третьего реактора произошел мощный выброс пара температурой около 200 градусов по Цельсию. Находившиеся рядом сотрудники АЭС получили серьезные ожоги. В момент аварии в здании, где расположен третий реактор, находились около 200 человек. Утечки радиоактивных материалов в результате аварии не обнаружено. Четыре человека погибли, 18 – серьезно пострадали. Авария стала самой серьезной по числу жертв на АЭС в Японии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71680" y="285480"/>
            <a:ext cx="8115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«Михама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Рисунок 4" descr="52325621.jpg"/>
          <p:cNvPicPr/>
          <p:nvPr/>
        </p:nvPicPr>
        <p:blipFill>
          <a:blip r:embed="rId1"/>
          <a:stretch/>
        </p:blipFill>
        <p:spPr>
          <a:xfrm>
            <a:off x="785880" y="357120"/>
            <a:ext cx="8157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42960" y="428760"/>
            <a:ext cx="80438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самого мощного за всю историю Японии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марта 2011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была разрушена турбина на АЭС Онагава. Возникший пожар был быстро ликвидирован. Гораздо серьезнее сложилась ситуация на АЭС Фукусима-1, где из-за отключения охлаждающей системы расплавилось ядерное топливо в реакторе блока №1. В связи с обнаруженной утечкой снаружи блока, была проведена эвакуация в 10-ти километровой зоне вокруг АЭС. На следующий день, телекомпания NHK продемонстрировала снимки, на которых была видна разрушенная стена блока АЭС, о взрыве на которой сообщили СМ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1300326023_010_20997_10.jpg"/>
          <p:cNvPicPr/>
          <p:nvPr/>
        </p:nvPicPr>
        <p:blipFill>
          <a:blip r:embed="rId1"/>
          <a:stretch/>
        </p:blipFill>
        <p:spPr>
          <a:xfrm>
            <a:off x="571680" y="285840"/>
            <a:ext cx="7358040" cy="55180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571840" y="60008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Фукусима-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12280"/>
            <a:ext cx="842940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Крупнейшие  радиационные катастроф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8" name="Содержимое 7" descr="versii_katastrofy_chaes.jpg"/>
          <p:cNvPicPr/>
          <p:nvPr/>
        </p:nvPicPr>
        <p:blipFill>
          <a:blip r:embed="rId1"/>
          <a:stretch/>
        </p:blipFill>
        <p:spPr>
          <a:xfrm>
            <a:off x="857160" y="1785960"/>
            <a:ext cx="7697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БЩАЯ ХАРАКТЕРИСТИКА ПОСЛЕДСТВИЙ РАДИАЦИОННЫХ АВАРИЙ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16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осрочные последствия аварий и катастроф на объектах с ядерной технологией, которые носят экологический характер оцениваются, главным образом, по величине радиационного ущерба, наносимого здоровью людей. Кроме того, важной количественной мерой этих последствий является степень ухудшения условий обитания и жизнедеятельности людей. Безусловно, уровень смертности и ухудшения здоровья людей имеет прямую связь с условиями обитания и жизнедеятельности, поэтому рассматриваются в комплексе с ним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радиационных аварий обусловлены их поражающими факторами, к которым на объекте аварии относятся ионизирующее излучение как непосредственно при выбросе, так и при радиоактивном загрязнении территории объекта; ударная волна (при наличии взрыва при аварии); тепловое воздействие и воздействие продуктов сгорания (при наличии пожаров при аварии). Вне объекта аварии поражающим фактором является ионизирующее излучение вследствие радиоактивного загрязнения окружающей среды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2560" y="357120"/>
            <a:ext cx="854388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Историческая справк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в мире АЭС опытно-промышленного назначения была запущена в СССР 27 июня 1954 году в городе Обнинске Калужской области и благополучно функционировала на протяжении 50 лет. До этого энергия атомного ядра использовалась преимущественно в военных целях. Пуск первой АЭС ознаменовал открытие нового направления в энергетике, получившего признание на 1-й Международной научно-технической конференции по мирному использованию атомной энергии (август 1955, Женев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убежом первая АЭС промышленного назначения была введена в эксплуатацию в 1956 году в Колдер-Холле (Англия). Через год вступила в строй АЭС в Шиппингпорте (СШ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три года после запуска первой в мире АЭС на океанские просторы вышло первое в мире атомное судно – ледокол “Ленин”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RIAN_archive_409173_World's_first_nuclear_power_plant_in_Obninsk.jpg"/>
          <p:cNvPicPr/>
          <p:nvPr/>
        </p:nvPicPr>
        <p:blipFill>
          <a:blip r:embed="rId1"/>
          <a:stretch/>
        </p:blipFill>
        <p:spPr>
          <a:xfrm>
            <a:off x="571680" y="285840"/>
            <a:ext cx="8283240" cy="55004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1643040" y="5929200"/>
            <a:ext cx="60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ервая в мире АЭС (г.Обнинск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5" descr="92423_original.jpg"/>
          <p:cNvPicPr/>
          <p:nvPr/>
        </p:nvPicPr>
        <p:blipFill>
          <a:blip r:embed="rId1"/>
          <a:stretch/>
        </p:blipFill>
        <p:spPr>
          <a:xfrm>
            <a:off x="571680" y="500040"/>
            <a:ext cx="7812000" cy="49291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428840" y="571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мное судно – ледокол “Ленин”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680" y="356760"/>
            <a:ext cx="8115120" cy="59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с момента начала эксплуатации атомных станций в 14 странах мира произошло более 150 инцидентов и аварий различной степени сложности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ССР первая тяжелая радиационная авария произошл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июня 1948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следующий же день после выхода атомного реактора по наработке оружейного плутония (объект «А» комбината «Маяк» в Челябинской области) на проектную мощность. В результате недостаточного охлаждения нескольких урановых блоков произошло их локальное сплавление с окружающим графитом, так называемый «козел». В течение девяти суток «закозлившийся» канал расчищался путем ручной рассверловки. В ходе ликвидации аварии облучению подвергся весь мужской персонал реактора, а также солдаты строительных батальонов, привлеченные к ликвидации аварии.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400" y="214200"/>
            <a:ext cx="825804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марта 1949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облучение получили около 124 тысяч человек, пострадал 41 населенный пункт. Трагедия случилась в результате массового сброса в реку Теча высокоактивных жидких радиоактивных отходов комбинатом «Маяк». Среднюю индивидуальную дозу, в размере 210 м3в получили 28 100 человек, которые проживали в прибрежных населенных пунктах реки Теча. У части пострадавших наблюдались случаи хронической  лучевой болезн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декабря 1952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вошел в историю, как дата первой в мире серьезной аварии на атомной электростанции. Причиной этому, стала ошибка технического характера, которую допустил персонал АЭС Чолк-Ривер в штате Онтарио. Произошел перегрев и частичное расплавление активной зоны. Земля неподалеку от реки Оттава, впитала в себя около 3800 кубических метров радиоактивно загрязненной воды. Во внешнюю среду попали тысячи кюри продуктов дел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57120" y="28548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Чолк-Риве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Рисунок 3" descr="0_5be72_57787cba_xl.jpg"/>
          <p:cNvPicPr/>
          <p:nvPr/>
        </p:nvPicPr>
        <p:blipFill>
          <a:blip r:embed="rId1"/>
          <a:stretch/>
        </p:blipFill>
        <p:spPr>
          <a:xfrm>
            <a:off x="714240" y="285840"/>
            <a:ext cx="70581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42960" y="214200"/>
            <a:ext cx="80438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сентября 1957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роизошла «Каштымская» авария. ЧП случилось в Челябинской области, где на ПО «Маяк»  взорвалась содержавшая 20 миллионов кюри радиоактивности емкость. Мощность взрыва приравнивалась ко взрыву 70-100 тонн тротила. Тогда образовался Восточно-Уральский радиоактивный след, который покрывал площадь более 20 тысяч кв. км. От радиоактивного облака пострадали жители Свердловской, Тюменской и Челябинских областей. Разовому облучению до 100 рентген в первые часы после взрыва, подверглись более пяти тысяч человек, объявили специалисты. В ликвидации последствий засекреченной в советское время катастрофы принимали участие от 25 до 30 тысяч военных, в период с 1957 по 1959 год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1:31:05Z</dcterms:created>
  <dc:creator>пользователь</dc:creator>
  <dc:description/>
  <dc:language>en-US</dc:language>
  <cp:lastModifiedBy>пользователь</cp:lastModifiedBy>
  <dcterms:modified xsi:type="dcterms:W3CDTF">2013-02-20T13:24:21Z</dcterms:modified>
  <cp:revision>12</cp:revision>
  <dc:subject/>
  <dc:title>Крупнейшие радиационные катастрофы</dc:title>
</cp:coreProperties>
</file>