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C6D-7861-4CBE-B6AC-CE96D3B81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C050-1B2A-4DEF-8635-D9567F132D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194-1F95-423F-BCFE-519C8629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724-B085-4B4C-828D-3F5010C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D85-1B25-4058-82A2-C2FAF491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0EA-663E-435D-AD5F-C5818B8C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178-9509-4C1A-8E4B-64357389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FAA9-8BA8-47A3-B55B-8A59EE33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E27C-4A74-465D-B7C3-C7A85BE6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F93-33E0-41D4-BB17-2D334E3F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0438-F702-4F81-BFF7-AD779AC9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9A23-AEC2-4204-8C7D-12D0B3E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25D0-7FB2-4F48-8566-79D7A49F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8DA-283A-491E-A78F-6AF8D4A1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7F77-D6D1-4C30-A9AA-CEC4AD9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FC2A-CAD8-4BD7-BED1-1423EA2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A62-6CA6-465C-8F13-8F54947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CF26-3CFF-48CB-B87B-D2273AC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35E5-2082-4409-8119-87D0F942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95CE-9334-4518-BC69-8598474D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7CB0-5CC6-427D-9DF6-AFFAC1D0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AFFE-CC87-4082-9319-CE8EB5F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D026-9C89-443C-8F86-16D0571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B03D-343A-4DF7-BD6F-A713453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AFC-0604-477B-BBA6-5DF81A0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5C13-A173-473B-8BCD-1B0F5FA3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0F30-09D5-4622-9302-8718B69A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5B43-8B31-424C-825F-B96833E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C41D-A608-4169-81C6-7AE8E8D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18C1-5275-4A5C-BB73-5B57460C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F0CE-2916-4921-A83B-CFB609C4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62CE-8EEC-41ED-8BDF-351D0EB9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BF2E-57B4-46CE-AC44-E9FA9790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162E-D539-4500-915D-8166BA8F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9003-0773-4217-B37D-21AA0F29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1E3-77EF-49C4-8609-4DD3664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638F-54A2-4881-AE11-0EC8E857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D9F0-CD5D-4B38-B99B-FA3074E0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9322-6A88-4D78-B436-DE2F8C56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C0BA-C7E0-413B-9873-1E6F0C9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38D6-B5F2-4D46-ADB3-D5D11CA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89B9-0DA3-4976-B4FF-B8E49CE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9AC7-8EEF-4DBF-81A1-BDD8ED2E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68DD-7490-40B9-8BBC-5C250A5C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18ED-8203-4AE2-A19B-23358A91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4471-59AB-4D0E-8FC4-B375E17E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08A-DC99-41F7-B082-9090309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0F1E-5174-4DF2-89D4-394ADBBF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03A9-D59A-422E-995E-13AE4C1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FEFA-A340-4BD2-9DFB-C88F74C9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31BE-C551-4B63-AAE3-F639C0F4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2686-D6EA-4DF4-9C8B-44028AB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E596-0536-480D-9787-0305B6EE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A156-5D82-4E0F-B90E-9127098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D0141-E69F-4D58-B092-F1D01A8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3A2B-D617-411E-BB68-53242B1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ACED5-7F7F-4B00-980A-A1513052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5DA-750F-4440-A377-ED0E0E1A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1E46-ED35-4674-96A7-27ABB277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64BB-FCC1-4890-AC1F-7C37AFB0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2EF36-389F-4E53-B7D3-1A5801E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22E1-44F9-4AE7-8AE9-0123144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54AA4-D8DC-4D66-AA56-49BCE5B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79FF-EE17-476F-9D16-C96739E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4A37A-E073-4151-A914-B673B4D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557E-D26D-4444-99F5-97F879DA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E7CE-3664-474C-8DBE-A4A5CDB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E7CF6-F4E9-462B-9ADA-2C7D010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0F5-BC28-47AE-8C76-3BDEFF3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5990-E8B4-4832-A01C-5EE8EF28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46CA-44EA-49C8-9AEA-3A3D24A5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0CB1-5E39-4BCD-8CC4-11330C26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032D-DFF9-44CA-84C3-EFD9B32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5DA6-2119-4009-940B-575D815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1C237-61F9-437F-A504-E4B1D6B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6F14-3D9A-4E5E-9A24-B2F368E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7C51-0EF5-4373-B2B8-419F53A2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4FF0-8A16-4351-8BC8-22F3C292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AED1-AC71-4FF2-B3F5-2EE3A7C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484-B825-4C06-8406-CABB099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547B4-DF65-479B-9B92-D11A02D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D836-2245-46C2-B295-C11962A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D5CB-E3B6-4FE4-AABE-4EE8D26C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0F309-FA49-4AD3-9378-FB7E6FA7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1B98-7E4F-48C7-AC7B-E2A86A0F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02C-CA53-406C-A93A-93896A92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E91-557D-4004-886C-B0A0D5F85B9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8C51-41B3-453F-824B-B204C16A7D8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D6E-4B62-4E6A-B868-A9235E9F16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0462-8A3D-400B-B2C3-A2B1FE5AC1A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D9EE-6E46-4842-99EB-6062956ABC0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8F5A-7A52-4CAF-9F06-2F281A26412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CDA-2530-4BE9-B285-99B6C0A65E1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givanie.com/vigivanie-pri-zemletryasenii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3" descr=""/>
          <p:cNvPicPr/>
          <p:nvPr/>
        </p:nvPicPr>
        <p:blipFill>
          <a:blip r:embed="rId1"/>
          <a:stretch/>
        </p:blipFill>
        <p:spPr>
          <a:xfrm>
            <a:off x="706320" y="2462040"/>
            <a:ext cx="10358640" cy="4395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85880" y="499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Федеральное Бюджетное Государственное образовательное учреждение высшего профессионального образовани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оссийский государственный аграрный университет - мсх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имени K.A. ТИМИРЯЗЕ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(ФБГОУ ВПО РГАУ - МСХА имени К.А.Тимирязева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КАЛУЖСКИЙ ФИЛИА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214200"/>
            <a:ext cx="82580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января 1970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атастрофа на заводе «Красное Сормово», расположенном в Нижнем Новгороде. Инцидент случился во время строительства атомной подлодки К 320. В результате неразрешенного запуска реактора, проработавшего на запредельных мощностях около 15 секунд, произошло заражение зоны цеха, в котором строилось судно. Около 1000 человек находилось в цехе на момент аварии. Благодаря закрытости цеха, удалось избежать радиоактивного заражения местности. Многих рабочих в тот день отправили домой, не предоставив необходимой медицинской помощи и дезактивационной обработки. Трое из шести доставленных в московскую больницу скончались от острой лучевой болезни, остальные дали подписку о неразглашении на 25 лет. Более тысячи человек принимали участие в работах по ликвидации аварии до 24 апреля 1970 года. Только 380 из них остались живы к январю 2005 год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400" y="428760"/>
            <a:ext cx="82580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м серьезным инцидентом в атомной энергетике США стала авария на АЭС Тримайл-Айленд в штате Пенсильвания, произошедшая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марта 1979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результате серии сбоев в работе оборудования и грубых ошибок операторов на втором энергоблоке АЭС произошло расплавление 53% активной зоны реактора. Произошел выброс в атмосферу инертных радиоактивных газов – ксенона и йода Кроме того, в реку Сукуахана было сброшено 185 кубических метров слаборадиоактивной воды. Из района, подвергшегося радиационному воздействию, было эвакуировано 200 тысяч человек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Содержимое 3" descr="1300326023_002_28185_2.jpg"/>
          <p:cNvPicPr/>
          <p:nvPr/>
        </p:nvPicPr>
        <p:blipFill>
          <a:blip r:embed="rId1"/>
          <a:stretch/>
        </p:blipFill>
        <p:spPr>
          <a:xfrm>
            <a:off x="1143000" y="714240"/>
            <a:ext cx="6858000" cy="53848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4"/>
          <p:cNvSpPr/>
          <p:nvPr/>
        </p:nvSpPr>
        <p:spPr>
          <a:xfrm>
            <a:off x="1928880" y="6215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Тримайл-Айлен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очь с 25 на 26 апреля 1986 года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етвертом блоке Чернобыльской АЭС (Украина) произошла крупнейшая ядерная авария в мире, с частичным разрушением активной зоны реактора и выходом осколков деления за пределы зоны. По свидетельству специалистов, авария произошла из-за попытки проделать эксперимент по снятию дополнительной энергии во время работы основного атомного реактора. В атмосферу было выброшено 190 тонн радиоактивных веществ. 8 из 140 тонн радиоактивного топлива реактора оказались в воздухе. Другие опасные вещества продолжали покидать реактор в результате пожара, длившегося почти две недели. Люди в Чернобыле подверглись облучению в 90 раз большему, чем при падении бомбы на Хиросиму. В результате аварии произошло радиоактивное заражение в радиусе 30 км. Загрязнена территория площадью 160 тысяч квадратных километров. Пострадали северная часть Украины, Беларусь и запад России. Радиационному загрязнению подверглись 19 российских регионов с территорией почти 60 тысяч квадратных километров и с населением 2,6 миллиона человек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bp21.jpg"/>
          <p:cNvPicPr/>
          <p:nvPr/>
        </p:nvPicPr>
        <p:blipFill>
          <a:blip r:embed="rId1"/>
          <a:stretch/>
        </p:blipFill>
        <p:spPr>
          <a:xfrm>
            <a:off x="1000080" y="214200"/>
            <a:ext cx="7292880" cy="6053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1643040" y="62866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рия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Содержимое 6" descr="bp7.jpg"/>
          <p:cNvPicPr/>
          <p:nvPr/>
        </p:nvPicPr>
        <p:blipFill>
          <a:blip r:embed="rId1"/>
          <a:stretch/>
        </p:blipFill>
        <p:spPr>
          <a:xfrm>
            <a:off x="428760" y="214200"/>
            <a:ext cx="5257800" cy="32148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bp91.jpg"/>
          <p:cNvPicPr/>
          <p:nvPr/>
        </p:nvPicPr>
        <p:blipFill>
          <a:blip r:embed="rId2"/>
          <a:stretch/>
        </p:blipFill>
        <p:spPr>
          <a:xfrm>
            <a:off x="4000680" y="3433680"/>
            <a:ext cx="5143320" cy="342432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8"/>
          <p:cNvSpPr/>
          <p:nvPr/>
        </p:nvSpPr>
        <p:spPr>
          <a:xfrm>
            <a:off x="642960" y="385776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следствия от аварии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2560" y="-360"/>
            <a:ext cx="854388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сентября 1999 года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рупнейшая авария в истории атомной энергетики Японии. На заводе по изготовлению топлива для АЭС в научном городке Токаймура (префектура Ибараки) из-за ошибки персонала началась неуправляемая цепная реакция, которая продолжалась в течение 17 часов. Облучению подверглись 439 человек, 119 из них получили дозу, превышающую ежегодно допустимый уровень. Трое рабочих получили критические дозы облучения. Двое из них скончались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августа 2004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 произошла авария на АЭС «Михама», расположенной в 320 километрах к западу от Токио на о.Хонсю. В турбине третьего реактора произошел мощный выброс пара температурой около 200 градусов по Цельсию. Находившиеся рядом сотрудники АЭС получили серьезные ожоги. В момент аварии в здании, где расположен третий реактор, находились около 200 человек. Утечки радиоактивных материалов в результате аварии не обнаружено. Четыре человека погибли, 18 – серьезно пострадали. Авария стала самой серьезной по числу жертв на АЭС в Японии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71680" y="285480"/>
            <a:ext cx="8115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«Михама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Рисунок 4" descr="52325621.jpg"/>
          <p:cNvPicPr/>
          <p:nvPr/>
        </p:nvPicPr>
        <p:blipFill>
          <a:blip r:embed="rId1"/>
          <a:stretch/>
        </p:blipFill>
        <p:spPr>
          <a:xfrm>
            <a:off x="785880" y="357120"/>
            <a:ext cx="8157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42960" y="428760"/>
            <a:ext cx="80438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самого мощного за всю историю Японии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марта 2011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была разрушена турбина на АЭС Онагава. Возникший пожар был быстро ликвидирован. Гораздо серьезнее сложилась ситуация на АЭС Фукусима-1, где из-за отключения охлаждающей системы расплавилось ядерное топливо в реакторе блока №1. В связи с обнаруженной утечкой снаружи блока, была проведена эвакуация в 10-ти километровой зоне вокруг АЭС. На следующий день, телекомпания NHK продемонстрировала снимки, на которых была видна разрушенная стена блока АЭС, о взрыве на которой сообщили СМ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1300326023_010_20997_10.jpg"/>
          <p:cNvPicPr/>
          <p:nvPr/>
        </p:nvPicPr>
        <p:blipFill>
          <a:blip r:embed="rId1"/>
          <a:stretch/>
        </p:blipFill>
        <p:spPr>
          <a:xfrm>
            <a:off x="571680" y="285840"/>
            <a:ext cx="7358040" cy="55180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571840" y="60008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Фукусима-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12280"/>
            <a:ext cx="842940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Крупнейшие  радиационные катастроф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8" name="Содержимое 7" descr="versii_katastrofy_chaes.jpg"/>
          <p:cNvPicPr/>
          <p:nvPr/>
        </p:nvPicPr>
        <p:blipFill>
          <a:blip r:embed="rId1"/>
          <a:stretch/>
        </p:blipFill>
        <p:spPr>
          <a:xfrm>
            <a:off x="857160" y="1785960"/>
            <a:ext cx="7697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БЩАЯ ХАРАКТЕРИСТИКА ПОСЛЕДСТВИЙ РАДИАЦИОННЫХ АВАРИЙ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16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осрочные последствия аварий и катастроф на объектах с ядерной технологией, которые носят экологический характер оцениваются, главным образом, по величине радиационного ущерба, наносимого здоровью людей. Кроме того, важной количественной мерой этих последствий является степень ухудшения условий обитания и жизнедеятельности людей. Безусловно, уровень смертности и ухудшения здоровья людей имеет прямую связь с условиями обитания и жизнедеятельности, поэтому рассматриваются в комплексе с ним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радиационных аварий обусловлены их поражающими факторами, к которым на объекте аварии относятся ионизирующее излучение как непосредственно при выбросе, так и при радиоактивном загрязнении территории объекта; ударная волна (при наличии взрыва при аварии); тепловое воздействие и воздействие продуктов сгорания (при наличии пожаров при аварии). Вне объекта аварии поражающим фактором является ионизирующее излучение вследствие радиоактивного загрязнения окружающей среды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2560" y="357120"/>
            <a:ext cx="854388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Историческая справк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в мире АЭС опытно-промышленного назначения была запущена в СССР 27 июня 1954 году в городе Обнинске Калужской области и благополучно функционировала на протяжении 50 лет. До этого энергия атомного ядра использовалась преимущественно в военных целях. Пуск первой АЭС ознаменовал открытие нового направления в энергетике, получившего признание на 1-й Международной научно-технической конференции по мирному использованию атомной энергии (август 1955, Женев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убежом первая АЭС промышленного назначения была введена в эксплуатацию в 1956 году в Колдер-Холле (Англия). Через год вступила в строй АЭС в Шиппингпорте (СШ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три года после запуска первой в мире АЭС на океанские просторы вышло первое в мире атомное судно – ледокол “Ленин”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RIAN_archive_409173_World's_first_nuclear_power_plant_in_Obninsk.jpg"/>
          <p:cNvPicPr/>
          <p:nvPr/>
        </p:nvPicPr>
        <p:blipFill>
          <a:blip r:embed="rId1"/>
          <a:stretch/>
        </p:blipFill>
        <p:spPr>
          <a:xfrm>
            <a:off x="571680" y="285840"/>
            <a:ext cx="8283240" cy="55004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1643040" y="5929200"/>
            <a:ext cx="60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ервая в мире АЭС (г.Обнинск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5" descr="92423_original.jpg"/>
          <p:cNvPicPr/>
          <p:nvPr/>
        </p:nvPicPr>
        <p:blipFill>
          <a:blip r:embed="rId1"/>
          <a:stretch/>
        </p:blipFill>
        <p:spPr>
          <a:xfrm>
            <a:off x="571680" y="500040"/>
            <a:ext cx="7812000" cy="49291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428840" y="571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мное судно – ледокол “Ленин”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680" y="356760"/>
            <a:ext cx="8115120" cy="59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с момента начала эксплуатации атомных станций в 14 странах мира произошло более 150 инцидентов и аварий различной степени сложности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ССР первая тяжелая радиационная авария произошл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июня 1948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следующий же день после выхода атомного реактора по наработке оружейного плутония (объект «А» комбината «Маяк» в Челябинской области) на проектную мощность. В результате недостаточного охлаждения нескольких урановых блоков произошло их локальное сплавление с окружающим графитом, так называемый «козел». В течение девяти суток «закозлившийся» канал расчищался путем ручной рассверловки. В ходе ликвидации аварии облучению подвергся весь мужской персонал реактора, а также солдаты строительных батальонов, привлеченные к ликвидации аварии.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400" y="214200"/>
            <a:ext cx="825804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марта 1949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облучение получили около 124 тысяч человек, пострадал 41 населенный пункт. Трагедия случилась в результате массового сброса в реку Теча высокоактивных жидких радиоактивных отходов комбинатом «Маяк». Среднюю индивидуальную дозу, в размере 210 м3в получили 28 100 человек, которые проживали в прибрежных населенных пунктах реки Теча. У части пострадавших наблюдались случаи хронической  лучевой болезн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декабря 1952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вошел в историю, как дата первой в мире серьезной аварии на атомной электростанции. Причиной этому, стала ошибка технического характера, которую допустил персонал АЭС Чолк-Ривер в штате Онтарио. Произошел перегрев и частичное расплавление активной зоны. Земля неподалеку от реки Оттава, впитала в себя около 3800 кубических метров радиоактивно загрязненной воды. Во внешнюю среду попали тысячи кюри продуктов дел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57120" y="28548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Чолк-Риве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Рисунок 3" descr="0_5be72_57787cba_xl.jpg"/>
          <p:cNvPicPr/>
          <p:nvPr/>
        </p:nvPicPr>
        <p:blipFill>
          <a:blip r:embed="rId1"/>
          <a:stretch/>
        </p:blipFill>
        <p:spPr>
          <a:xfrm>
            <a:off x="714240" y="285840"/>
            <a:ext cx="70581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42960" y="214200"/>
            <a:ext cx="80438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сентября 1957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роизошла «Каштымская» авария. ЧП случилось в Челябинской области, где на ПО «Маяк»  взорвалась содержавшая 20 миллионов кюри радиоактивности емкость. Мощность взрыва приравнивалась ко взрыву 70-100 тонн тротила. Тогда образовался Восточно-Уральский радиоактивный след, который покрывал площадь более 20 тысяч кв. км. От радиоактивного облака пострадали жители Свердловской, Тюменской и Челябинских областей. Разовому облучению до 100 рентген в первые часы после взрыва, подверглись более пяти тысяч человек, объявили специалисты. В ликвидации последствий засекреченной в советское время катастрофы принимали участие от 25 до 30 тысяч военных, в период с 1957 по 1959 год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1:31:05Z</dcterms:created>
  <dc:creator>пользователь</dc:creator>
  <dc:description/>
  <dc:language>en-US</dc:language>
  <cp:lastModifiedBy>пользователь</cp:lastModifiedBy>
  <dcterms:modified xsi:type="dcterms:W3CDTF">2013-02-20T13:24:21Z</dcterms:modified>
  <cp:revision>12</cp:revision>
  <dc:subject/>
  <dc:title>Крупнейшие радиационные катастрофы</dc:title>
</cp:coreProperties>
</file>