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0417-2B1B-4126-857F-5AD59D9233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589E-C2E3-479A-8D08-8F296C48BF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70B-B61B-4E7A-802D-BEC61129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7D1-445B-4D54-B305-BE23DE82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4E5-31EF-466E-8771-71F5E53C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D07-9A2F-47D4-924E-29470D2B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3C02-1058-4A0A-A9CF-2C8F4BCC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1CCB-9288-4DF3-9B3B-1A502336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0E36-D769-46C8-8E18-F6990925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935F-DE2B-452A-A27E-531EE19A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EE28-E57D-455A-B15B-61E90838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5677-0620-486E-9BC7-8AE4207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393F-4E3F-4BDD-A2C8-57ED4C8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8EE-DD8C-40F8-9712-B698253E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8A5E-6B41-4BB8-BF37-381B279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7CBE-ABB7-485B-9FA4-3693C431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0E8B-996D-491F-8602-A49BAF79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6C8C-EAD5-4FEF-88C6-D8E89444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30C1-82BF-4F18-ABD5-5D180AE6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6ED9-B3D4-4FCD-B0C5-9D8BCF66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8B329-3A83-48D4-BDB4-583DE8A9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592E-E3C0-48A6-8702-E91C7356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49AE-E491-4AC2-A4F4-3558A0CD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D0EA-F487-436C-AC3C-7D4CF299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CE5-65EA-4F09-A219-C01190DD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FFFA-477C-4A2D-8F4D-73A8BBA8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2E89-C530-42D8-9D59-1E1143D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9275-B389-4CA8-9B11-03405BE7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A199-E10E-48F6-A715-C29F9C3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EC60-41C9-4938-9102-254EAA9D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B279-3A96-4990-B2D2-8AAA3E49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9D19-FDF0-4711-A16C-6ACBAAE8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38C5-4187-4420-9C99-F93F383B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FFA9-30EC-4459-8818-A82F2618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6605-BD44-487D-992D-A3BA9F90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852-B9D0-44B3-8E43-A910C8DF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AE868-8258-4366-9260-C402F550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5F6FD-2751-4AA2-9318-36ED80CE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CDC5D-8C9B-40C8-ABC8-FB2B950A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09A0E-A03A-4384-9CAB-4CDABB42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36E9-7A9C-47C5-84A5-087EA083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F068-3C84-492B-8EC7-E009582E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B088D-FB38-4277-B869-AA42E970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39536-CD09-4B32-9620-8A43C5F3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05BC-BE36-43B1-953D-99897414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D765B-3660-427E-9C6E-F9A54C7D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E88-4859-4205-BF78-042689EF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C84D3-E4DA-4FA2-A070-2EB9BAC1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A224F-54E5-43CF-B431-D340E7B3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E1555-A60A-4A91-9018-680F133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2A253-7202-4345-BE58-0C35D1C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97C80-4A72-4358-A08C-7E5787D0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E0E57-EA48-4F8C-AF50-1E847A5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8FAAE-303F-485E-A1A4-FB25395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B991-AB09-4E7B-B25A-3F8113E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F7F5-1B73-4BC4-A64B-7FA9ADDA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BBCC0-81E0-4D11-9820-EBE89D43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52F-C400-4AAE-9D52-4BC90E8B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938A2-6A26-4A66-97CE-C5A7B456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7B334-81DE-4005-90E1-13232C66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D0AE7-56FD-45B6-AA46-ECB635A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2F596-10FE-4DC5-8D2F-B946A7FD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2A897-0CBF-4F80-974E-B9A0AF77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3C617-3499-41E0-836A-815C64B7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E57E-7179-4C66-B947-6DC58973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12434-63DB-4A63-9B70-F72B9F9A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B869-5488-44B1-BABD-EDA3EF81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421D8-E83A-44A3-846D-369B39DA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4FC-F434-4900-B266-5E10146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EF799-71DD-4B66-92DA-BEA13C90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9DBF1-7A87-498D-8ABB-29BDB0D0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94209-AE1F-400C-8E46-CEAA98C9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FBA8F-F242-4BF2-B479-39690805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2083-03EC-4B00-ACE1-FF2504A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933A3-4505-444C-A3E7-085D5FDF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D0A4-CBF4-4874-A80A-A3F79125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E8079-29FF-4416-BA0F-77A5A49C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12BF0-E6D4-4053-960D-E676EA7F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EF6C6-5468-450D-B286-ADC2BA1A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0E9-31A2-4C97-BF69-AEB67BA2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062FD-EDF5-46FF-A7C2-D7F61C30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4FCE9-2395-446F-A70E-346A2BD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8D994-24BE-45F8-853D-83B43647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8EA04-E38E-4DED-91EB-62195054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08590-04AD-41DA-960B-F735E2BD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BA8-3862-4538-ABFF-FE7585D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A80E-A10D-4457-9E6E-3E36784F0D4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4EB7-DCC1-4D0B-9F64-14992A93AA4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DBE1-132D-42B4-A82F-05A5489B8D2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20DB-9BF0-4833-898D-CCA54F19797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EA2E-5E3E-4D91-83DA-0F8F1FC9548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99C0-7B8F-461F-BD5A-9B0FF590843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4D14-9138-40D7-8460-4ED5250A94F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igivanie.com/vigivanie-pri-zemletryasenii.html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3" descr=""/>
          <p:cNvPicPr/>
          <p:nvPr/>
        </p:nvPicPr>
        <p:blipFill>
          <a:blip r:embed="rId1"/>
          <a:stretch/>
        </p:blipFill>
        <p:spPr>
          <a:xfrm>
            <a:off x="706320" y="2462040"/>
            <a:ext cx="10358640" cy="43959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785880" y="49968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Федеральное Бюджетное Государственное образовательное учреждение высшего профессионального образовани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российский государственный аграрный университет - мсх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имени K.A. ТИМИРЯЗЕВ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(ФБГОУ ВПО РГАУ - МСХА имени К.А.Тимирязева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КАЛУЖСКИЙ ФИЛИА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28400" y="214200"/>
            <a:ext cx="8258040" cy="61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января 1970 года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ошла катастрофа на заводе «Красное Сормово», расположенном в Нижнем Новгороде. Инцидент случился во время строительства атомной подлодки К 320. В результате неразрешенного запуска реактора, проработавшего на запредельных мощностях около 15 секунд, произошло заражение зоны цеха, в котором строилось судно. Около 1000 человек находилось в цехе на момент аварии. Благодаря закрытости цеха, удалось избежать радиоактивного заражения местности. Многих рабочих в тот день отправили домой, не предоставив необходимой медицинской помощи и дезактивационной обработки. Трое из шести доставленных в московскую больницу скончались от острой лучевой болезни, остальные дали подписку о неразглашении на 25 лет. Более тысячи человек принимали участие в работах по ликвидации аварии до 24 апреля 1970 года. Только 380 из них остались живы к январю 2005 год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28400" y="428760"/>
            <a:ext cx="825804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м серьезным инцидентом в атомной энергетике США стала авария на АЭС Тримайл-Айленд в штате Пенсильвания, произошедшая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марта 1979 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результате серии сбоев в работе оборудования и грубых ошибок операторов на втором энергоблоке АЭС произошло расплавление 53% активной зоны реактора. Произошел выброс в атмосферу инертных радиоактивных газов – ксенона и йода Кроме того, в реку Сукуахана было сброшено 185 кубических метров слаборадиоактивной воды. Из района, подвергшегося радиационному воздействию, было эвакуировано 200 тысяч человек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Содержимое 3" descr="1300326023_002_28185_2.jpg"/>
          <p:cNvPicPr/>
          <p:nvPr/>
        </p:nvPicPr>
        <p:blipFill>
          <a:blip r:embed="rId1"/>
          <a:stretch/>
        </p:blipFill>
        <p:spPr>
          <a:xfrm>
            <a:off x="1143000" y="714240"/>
            <a:ext cx="6858000" cy="538488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4"/>
          <p:cNvSpPr/>
          <p:nvPr/>
        </p:nvSpPr>
        <p:spPr>
          <a:xfrm>
            <a:off x="1928880" y="62150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Тримайл-Айлен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очь с 25 на 26 апреля 1986 года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етвертом блоке Чернобыльской АЭС (Украина) произошла крупнейшая ядерная авария в мире, с частичным разрушением активной зоны реактора и выходом осколков деления за пределы зоны. По свидетельству специалистов, авария произошла из-за попытки проделать эксперимент по снятию дополнительной энергии во время работы основного атомного реактора. В атмосферу было выброшено 190 тонн радиоактивных веществ. 8 из 140 тонн радиоактивного топлива реактора оказались в воздухе. Другие опасные вещества продолжали покидать реактор в результате пожара, длившегося почти две недели. Люди в Чернобыле подверглись облучению в 90 раз большему, чем при падении бомбы на Хиросиму. В результате аварии произошло радиоактивное заражение в радиусе 30 км. Загрязнена территория площадью 160 тысяч квадратных километров. Пострадали северная часть Украины, Беларусь и запад России. Радиационному загрязнению подверглись 19 российских регионов с территорией почти 60 тысяч квадратных километров и с населением 2,6 миллиона человек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Содержимое 3" descr="bp21.jpg"/>
          <p:cNvPicPr/>
          <p:nvPr/>
        </p:nvPicPr>
        <p:blipFill>
          <a:blip r:embed="rId1"/>
          <a:stretch/>
        </p:blipFill>
        <p:spPr>
          <a:xfrm>
            <a:off x="1000080" y="214200"/>
            <a:ext cx="7292880" cy="605340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4"/>
          <p:cNvSpPr/>
          <p:nvPr/>
        </p:nvSpPr>
        <p:spPr>
          <a:xfrm>
            <a:off x="1643040" y="628668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ария на Чернобыльской АЭ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Содержимое 6" descr="bp7.jpg"/>
          <p:cNvPicPr/>
          <p:nvPr/>
        </p:nvPicPr>
        <p:blipFill>
          <a:blip r:embed="rId1"/>
          <a:stretch/>
        </p:blipFill>
        <p:spPr>
          <a:xfrm>
            <a:off x="428760" y="214200"/>
            <a:ext cx="5257800" cy="32148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7" descr="bp91.jpg"/>
          <p:cNvPicPr/>
          <p:nvPr/>
        </p:nvPicPr>
        <p:blipFill>
          <a:blip r:embed="rId2"/>
          <a:stretch/>
        </p:blipFill>
        <p:spPr>
          <a:xfrm>
            <a:off x="4000680" y="3433680"/>
            <a:ext cx="5143320" cy="342432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8"/>
          <p:cNvSpPr/>
          <p:nvPr/>
        </p:nvSpPr>
        <p:spPr>
          <a:xfrm>
            <a:off x="642960" y="385776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оследствия от аварии на Чернобыльской АЭС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42560" y="-360"/>
            <a:ext cx="854388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сентября 1999 года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ошла крупнейшая авария в истории атомной энергетики Японии. На заводе по изготовлению топлива для АЭС в научном городке Токаймура (префектура Ибараки) из-за ошибки персонала началась неуправляемая цепная реакция, которая продолжалась в течение 17 часов. Облучению подверглись 439 человек, 119 из них получили дозу, превышающую ежегодно допустимый уровень. Трое рабочих получили критические дозы облучения. Двое из них скончались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августа 2004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 произошла авария на АЭС «Михама», расположенной в 320 километрах к западу от Токио на о.Хонсю. В турбине третьего реактора произошел мощный выброс пара температурой около 200 градусов по Цельсию. Находившиеся рядом сотрудники АЭС получили серьезные ожоги. В момент аварии в здании, где расположен третий реактор, находились около 200 человек. Утечки радиоактивных материалов в результате аварии не обнаружено. Четыре человека погибли, 18 – серьезно пострадали. Авария стала самой серьезной по числу жертв на АЭС в Японии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71680" y="285480"/>
            <a:ext cx="811512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«Михама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Рисунок 4" descr="52325621.jpg"/>
          <p:cNvPicPr/>
          <p:nvPr/>
        </p:nvPicPr>
        <p:blipFill>
          <a:blip r:embed="rId1"/>
          <a:stretch/>
        </p:blipFill>
        <p:spPr>
          <a:xfrm>
            <a:off x="785880" y="357120"/>
            <a:ext cx="8157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42960" y="428760"/>
            <a:ext cx="804384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езультате самого мощного за всю историю Японии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 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 марта 2011 года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была разрушена турбина на АЭС Онагава. Возникший пожар был быстро ликвидирован. Гораздо серьезнее сложилась ситуация на АЭС Фукусима-1, где из-за отключения охлаждающей системы расплавилось ядерное топливо в реакторе блока №1. В связи с обнаруженной утечкой снаружи блока, была проведена эвакуация в 10-ти километровой зоне вокруг АЭС. На следующий день, телекомпания NHK продемонстрировала снимки, на которых была видна разрушенная стена блока АЭС, о взрыве на которой сообщили СМ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3" descr="1300326023_010_20997_10.jpg"/>
          <p:cNvPicPr/>
          <p:nvPr/>
        </p:nvPicPr>
        <p:blipFill>
          <a:blip r:embed="rId1"/>
          <a:stretch/>
        </p:blipFill>
        <p:spPr>
          <a:xfrm>
            <a:off x="571680" y="285840"/>
            <a:ext cx="7358040" cy="55180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2571840" y="60008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Фукусима-1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320" y="512280"/>
            <a:ext cx="842940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Крупнейшие  радиационные катастрофы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8" name="Содержимое 7" descr="versii_katastrofy_chaes.jpg"/>
          <p:cNvPicPr/>
          <p:nvPr/>
        </p:nvPicPr>
        <p:blipFill>
          <a:blip r:embed="rId1"/>
          <a:stretch/>
        </p:blipFill>
        <p:spPr>
          <a:xfrm>
            <a:off x="857160" y="1785960"/>
            <a:ext cx="76978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ОБЩАЯ ХАРАКТЕРИСТИКА ПОСЛЕДСТВИЙ РАДИАЦИОННЫХ АВАРИЙ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16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осрочные последствия аварий и катастроф на объектах с ядерной технологией, которые носят экологический характер оцениваются, главным образом, по величине радиационного ущерба, наносимого здоровью людей. Кроме того, важной количественной мерой этих последствий является степень ухудшения условий обитания и жизнедеятельности людей. Безусловно, уровень смертности и ухудшения здоровья людей имеет прямую связь с условиями обитания и жизнедеятельности, поэтому рассматриваются в комплексе с ними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ствия радиационных аварий обусловлены их поражающими факторами, к которым на объекте аварии относятся ионизирующее излучение как непосредственно при выбросе, так и при радиоактивном загрязнении территории объекта; ударная волна (при наличии взрыва при аварии); тепловое воздействие и воздействие продуктов сгорания (при наличии пожаров при аварии). Вне объекта аварии поражающим фактором является ионизирующее излучение вследствие радиоактивного загрязнения окружающей среды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42560" y="357120"/>
            <a:ext cx="854388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i="1" lang="ru-RU" sz="2300" spc="-1" strike="noStrike">
                <a:solidFill>
                  <a:srgbClr val="ffffff"/>
                </a:solidFill>
                <a:latin typeface="Corbel"/>
              </a:rPr>
              <a:t>Историческая справка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в мире АЭС опытно-промышленного назначения была запущена в СССР 27 июня 1954 году в городе Обнинске Калужской области и благополучно функционировала на протяжении 50 лет. До этого энергия атомного ядра использовалась преимущественно в военных целях. Пуск первой АЭС ознаменовал открытие нового направления в энергетике, получившего признание на 1-й Международной научно-технической конференции по мирному использованию атомной энергии (август 1955, Женева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рубежом первая АЭС промышленного назначения была введена в эксплуатацию в 1956 году в Колдер-Холле (Англия). Через год вступила в строй АЭС в Шиппингпорте (США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три года после запуска первой в мире АЭС на океанские просторы вышло первое в мире атомное судно – ледокол “Ленин”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RIAN_archive_409173_World's_first_nuclear_power_plant_in_Obninsk.jpg"/>
          <p:cNvPicPr/>
          <p:nvPr/>
        </p:nvPicPr>
        <p:blipFill>
          <a:blip r:embed="rId1"/>
          <a:stretch/>
        </p:blipFill>
        <p:spPr>
          <a:xfrm>
            <a:off x="571680" y="285840"/>
            <a:ext cx="8283240" cy="550044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1643040" y="5929200"/>
            <a:ext cx="607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ервая в мире АЭС (г.Обнинск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5" descr="92423_original.jpg"/>
          <p:cNvPicPr/>
          <p:nvPr/>
        </p:nvPicPr>
        <p:blipFill>
          <a:blip r:embed="rId1"/>
          <a:stretch/>
        </p:blipFill>
        <p:spPr>
          <a:xfrm>
            <a:off x="571680" y="500040"/>
            <a:ext cx="7812000" cy="492912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6"/>
          <p:cNvSpPr/>
          <p:nvPr/>
        </p:nvSpPr>
        <p:spPr>
          <a:xfrm>
            <a:off x="1428840" y="57150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омное судно – ледокол “Ленин”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71680" y="356760"/>
            <a:ext cx="8115120" cy="59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 с момента начала эксплуатации атомных станций в 14 странах мира произошло более 150 инцидентов и аварий различной степени сложности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ССР первая тяжелая радиационная авария произошла 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 июня 1948 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 следующий же день после выхода атомного реактора по наработке оружейного плутония (объект «А» комбината «Маяк» в Челябинской области) на проектную мощность. В результате недостаточного охлаждения нескольких урановых блоков произошло их локальное сплавление с окружающим графитом, так называемый «козел». В течение девяти суток «закозлившийся» канал расчищался путем ручной рассверловки. В ходе ликвидации аварии облучению подвергся весь мужской персонал реактора, а также солдаты строительных батальонов, привлеченные к ликвидации аварии. 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400" y="214200"/>
            <a:ext cx="825804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марта 1949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облучение получили около 124 тысяч человек, пострадал 41 населенный пункт. Трагедия случилась в результате массового сброса в реку Теча высокоактивных жидких радиоактивных отходов комбинатом «Маяк». Среднюю индивидуальную дозу, в размере 210 м3в получили 28 100 человек, которые проживали в прибрежных населенных пунктах реки Теча. У части пострадавших наблюдались случаи хронической  лучевой болезни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декабря 1952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вошел в историю, как дата первой в мире серьезной аварии на атомной электростанции. Причиной этому, стала ошибка технического характера, которую допустил персонал АЭС Чолк-Ривер в штате Онтарио. Произошел перегрев и частичное расплавление активной зоны. Земля неподалеку от реки Оттава, впитала в себя около 3800 кубических метров радиоактивно загрязненной воды. Во внешнюю среду попали тысячи кюри продуктов дел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57120" y="285480"/>
            <a:ext cx="832968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ЭС Чолк-Ривер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Рисунок 3" descr="0_5be72_57787cba_xl.jpg"/>
          <p:cNvPicPr/>
          <p:nvPr/>
        </p:nvPicPr>
        <p:blipFill>
          <a:blip r:embed="rId1"/>
          <a:stretch/>
        </p:blipFill>
        <p:spPr>
          <a:xfrm>
            <a:off x="714240" y="285840"/>
            <a:ext cx="70581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42960" y="214200"/>
            <a:ext cx="8043840" cy="61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сентября 1957 года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произошла «Каштымская» авария. ЧП случилось в Челябинской области, где на ПО «Маяк»  взорвалась содержавшая 20 миллионов кюри радиоактивности емкость. Мощность взрыва приравнивалась ко взрыву 70-100 тонн тротила. Тогда образовался Восточно-Уральский радиоактивный след, который покрывал площадь более 20 тысяч кв. км. От радиоактивного облака пострадали жители Свердловской, Тюменской и Челябинских областей. Разовому облучению до 100 рентген в первые часы после взрыва, подверглись более пяти тысяч человек, объявили специалисты. В ликвидации последствий засекреченной в советское время катастрофы принимали участие от 25 до 30 тысяч военных, в период с 1957 по 1959 годы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1:31:05Z</dcterms:created>
  <dc:creator>пользователь</dc:creator>
  <dc:description/>
  <dc:language>en-US</dc:language>
  <cp:lastModifiedBy>пользователь</cp:lastModifiedBy>
  <dcterms:modified xsi:type="dcterms:W3CDTF">2013-02-20T13:24:21Z</dcterms:modified>
  <cp:revision>12</cp:revision>
  <dc:subject/>
  <dc:title>Крупнейшие радиационные катастрофы</dc:title>
</cp:coreProperties>
</file>