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A96-E2C6-49AA-8273-5EEE3169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BEC-7EFC-4637-A7E1-B2D12C83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E2B-39A4-45DD-862A-7E234D60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CEE-BBD5-4951-B28C-3D7C4FE8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9542-D717-4D6C-B235-F051B800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98D8-6ED3-46EF-A4C1-AC1C4C55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6391-41D7-493F-BF98-3D8CE9E4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465B-6D88-42B1-9217-2E85EBDC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B784-0116-4D5A-BC37-7413F63F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9C72-ABE6-4ED7-AF87-B1D3DB82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8EA4-F9B6-4CDC-A631-E079F626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E72-45E8-49C6-B84F-9E28FE52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989F-E650-4ECA-93BE-F4D6EE3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A0B2-2FE6-405A-B132-7B6DABEE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4049-F883-4289-B17B-403A703A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F9EF-49E5-4120-A35B-AFE3F8CF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D7BB-2686-4699-AB26-15BB7B29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209-8EDC-44D2-B7E9-B253DF04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BBA-7815-4D9C-9993-A9D1D7C5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D21-6AB0-4748-B80B-499A25A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2E6-CA73-4148-BCF3-0B1B40F2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077-047F-4584-BAC1-33649DA1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A80-4B7E-4BF7-9D13-CE8F7A9B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B6A-3664-4BB7-8360-2916A5F2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1CB-1939-4503-91E1-B561C54EBF7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7907-722B-4EA6-8F36-948E3BB35AE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7;&#1083;&#1086;&#1074;,_&#1041;&#1086;&#1088;&#1080;&#1089;_&#1052;&#1080;&#1093;&#1072;&#1081;&#1083;&#1086;&#1074;&#1080;&#1095;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ru.wikipedia.org/wiki/&#1061;&#1072;&#1088;&#1072;&#1082;&#1090;&#1077;&#1088;" TargetMode="External"/><Relationship Id="rId3" Type="http://schemas.openxmlformats.org/officeDocument/2006/relationships/hyperlink" Target="http://ru.wikipedia.org/wiki/&#1058;&#1080;&#1087;&#1099;_&#1074;&#1099;&#1089;&#1096;&#1077;&#1081;_&#1085;&#1077;&#1088;&#1074;&#1085;&#1086;&#1081;_&#1076;&#1077;&#1103;&#1090;&#1077;&#1083;&#1100;&#1085;&#1086;&#1089;&#1090;&#1080;" TargetMode="External"/><Relationship Id="rId4" Type="http://schemas.openxmlformats.org/officeDocument/2006/relationships/hyperlink" Target="http://ru.wikipedia.org/wiki/&#1055;&#1089;&#1080;&#1093;&#1080;&#1095;&#1077;&#1089;&#1082;&#1080;&#1077;_&#1087;&#1088;&#1086;&#1094;&#1077;&#1089;&#1089;&#1099;" TargetMode="External"/><Relationship Id="rId5" Type="http://schemas.openxmlformats.org/officeDocument/2006/relationships/hyperlink" Target="http://ru.wikipedia.org/wiki/&#1042;&#1086;&#1089;&#1087;&#1088;&#1080;&#1103;&#1090;&#1080;&#1077;" TargetMode="External"/><Relationship Id="rId6" Type="http://schemas.openxmlformats.org/officeDocument/2006/relationships/hyperlink" Target="http://ru.wikipedia.org/wiki/&#1052;&#1099;&#1096;&#1083;&#1077;&#1085;&#1080;&#1077;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7407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Tahoma"/>
              </a:rPr>
              <a:t>Психология индивидуальных различий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(или дифференциальная психология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76720" y="5013000"/>
            <a:ext cx="374472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64600" y="47628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кола Юного Психол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973320" y="5805360"/>
            <a:ext cx="2346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осква, 2010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66"/>
                </a:solidFill>
                <a:uFillTx/>
                <a:latin typeface="Tahoma"/>
              </a:rPr>
              <a:t>Основные 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Выделение наиболее существенных, информативных психологических характеристик человека, изучение их струк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Изучение пределов, в которых психологические признаки изменяются (межиндивидуальная вариативность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Изучение различий между группами лю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Выявление факторов, лежащих в основе индивидуально-психологических различ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42920" y="907920"/>
            <a:ext cx="761832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Предмет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ивидуальные различия между люд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mg1"/>
          <p:cNvPicPr/>
          <p:nvPr/>
        </p:nvPicPr>
        <p:blipFill>
          <a:blip r:embed="rId1"/>
          <a:stretch/>
        </p:blipFill>
        <p:spPr>
          <a:xfrm>
            <a:off x="5940360" y="4689360"/>
            <a:ext cx="2952720" cy="1825920"/>
          </a:xfrm>
          <a:prstGeom prst="rect">
            <a:avLst/>
          </a:prstGeom>
          <a:ln w="0">
            <a:noFill/>
          </a:ln>
        </p:spPr>
      </p:pic>
      <p:grpSp>
        <p:nvGrpSpPr>
          <p:cNvPr id="138" name="Diagram 9"/>
          <p:cNvGrpSpPr/>
          <p:nvPr/>
        </p:nvGrpSpPr>
        <p:grpSpPr>
          <a:xfrm>
            <a:off x="1692360" y="293040"/>
            <a:ext cx="5679720" cy="5173560"/>
            <a:chOff x="1692360" y="293040"/>
            <a:chExt cx="5679720" cy="5173560"/>
          </a:xfrm>
        </p:grpSpPr>
        <p:sp>
          <p:nvSpPr>
            <p:cNvPr id="139" name="_s1028"/>
            <p:cNvSpPr/>
            <p:nvPr/>
          </p:nvSpPr>
          <p:spPr>
            <a:xfrm flipH="1">
              <a:off x="3112200" y="2880360"/>
              <a:ext cx="709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1029"/>
            <p:cNvSpPr/>
            <p:nvPr/>
          </p:nvSpPr>
          <p:spPr>
            <a:xfrm>
              <a:off x="1692360" y="2233080"/>
              <a:ext cx="1420200" cy="1293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Социальные факторы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: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Среда обитани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литическ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Географическ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И др.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1030"/>
            <p:cNvSpPr/>
            <p:nvPr/>
          </p:nvSpPr>
          <p:spPr>
            <a:xfrm>
              <a:off x="4532040" y="3526920"/>
              <a:ext cx="0" cy="64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1031"/>
            <p:cNvSpPr/>
            <p:nvPr/>
          </p:nvSpPr>
          <p:spPr>
            <a:xfrm>
              <a:off x="3822120" y="4173480"/>
              <a:ext cx="1419480" cy="1293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Воспитание: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Образован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Обучение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/ </a:t>
              </a: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Воспитан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Самовоспитан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1032"/>
            <p:cNvSpPr/>
            <p:nvPr/>
          </p:nvSpPr>
          <p:spPr>
            <a:xfrm>
              <a:off x="5241960" y="2880360"/>
              <a:ext cx="709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1033"/>
            <p:cNvSpPr/>
            <p:nvPr/>
          </p:nvSpPr>
          <p:spPr>
            <a:xfrm>
              <a:off x="5951880" y="2233080"/>
              <a:ext cx="1420200" cy="1293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Биологические факторы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: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Наследствен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Задатк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Способност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_s1034"/>
            <p:cNvSpPr/>
            <p:nvPr/>
          </p:nvSpPr>
          <p:spPr>
            <a:xfrm flipV="1">
              <a:off x="4532040" y="1586520"/>
              <a:ext cx="0" cy="64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1035"/>
            <p:cNvSpPr/>
            <p:nvPr/>
          </p:nvSpPr>
          <p:spPr>
            <a:xfrm>
              <a:off x="3822120" y="293040"/>
              <a:ext cx="1419480" cy="12931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Что влияет на развит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личностных различий?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1036"/>
            <p:cNvSpPr/>
            <p:nvPr/>
          </p:nvSpPr>
          <p:spPr>
            <a:xfrm>
              <a:off x="3822120" y="2233080"/>
              <a:ext cx="1419480" cy="1293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Развитие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Задат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ожденные, устойчивые психофизиологические особенности человека, оказывающие существенное влияние на развитие его способно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Способ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индивидуальные свойства личности, являющиеся субъективными условиями успешного осуществления определённого рода деятель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и не сводятся к имеющимся у индивида знаниям, умениям, навыкам. Они обнаруживаются в быстроте, глубине и прочности овладения способами и приёмами некоторой деятельности и являются внутренними психическими регуляторами, обусловливающими возможность их приобрет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отечественной психологии наибольший вклад в экспериментальные исследования способностей внес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Б. М. Тепл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Одаренн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комплексное явление. Оно связано с выполнением человеком определённой деятельности, то есть одарённость состоит из различных способно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«качественно-своеобразное сочетание способностей, от которого зависит возможность достижения большего или меньшего успеха в выполнении той или другой деятельности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Методы дифференциальной психологии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Аппаратные мето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редназначены, в основном, для изучения психофизических основ поведения человек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Психогенетические мето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рименяются для выявления причин возникновения индивидуальных психических особенносте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Собственно, психологические мето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аблюдение, эксперимент, тест и др.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обственно психологические метод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блю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ы и опро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Тест_-Социальный_интеллект-_Гилфорда_-_субтест_4_задание_9"/>
          <p:cNvPicPr/>
          <p:nvPr/>
        </p:nvPicPr>
        <p:blipFill>
          <a:blip r:embed="rId1"/>
          <a:stretch/>
        </p:blipFill>
        <p:spPr>
          <a:xfrm>
            <a:off x="4427640" y="-135000"/>
            <a:ext cx="4716360" cy="2705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тат"/>
          <p:cNvPicPr/>
          <p:nvPr/>
        </p:nvPicPr>
        <p:blipFill>
          <a:blip r:embed="rId2"/>
          <a:stretch/>
        </p:blipFill>
        <p:spPr>
          <a:xfrm>
            <a:off x="0" y="3735360"/>
            <a:ext cx="2652840" cy="3122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роршаха пятно"/>
          <p:cNvPicPr/>
          <p:nvPr/>
        </p:nvPicPr>
        <p:blipFill>
          <a:blip r:embed="rId3"/>
          <a:stretch/>
        </p:blipFill>
        <p:spPr>
          <a:xfrm>
            <a:off x="5759280" y="4640400"/>
            <a:ext cx="3384720" cy="2217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Основные разновидности тестов лич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Личностные опросн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MPI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, 16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орный опросник Кеттела, тест Гилфорда на социальный интеллект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Проек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тивные метод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Пятна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Рорш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Т, рисуно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н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мето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и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temperament"/>
          <p:cNvPicPr/>
          <p:nvPr/>
        </p:nvPicPr>
        <p:blipFill>
          <a:blip r:embed="rId1"/>
          <a:srcRect l="4378" t="0" r="5197" b="1878"/>
          <a:stretch/>
        </p:blipFill>
        <p:spPr>
          <a:xfrm>
            <a:off x="6156360" y="0"/>
            <a:ext cx="29876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Темперамент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5327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–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 устойчивое объединение индивидуальных особенностей личности, связанных с динамическими, а не содержательными аспектами деятельности. Темперамент составляет основу развития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характе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; вообще, с физиологической точки зрения темперамент —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тип высшей нервной деятельност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челове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 индивидуально-своеобразные свойства психики, отражающие динамику психической деятельности человека, и проявляющиеся независимо от его целей, мотивов и содержания. Темперамент слабо меняется в течение жизн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Tahoma"/>
              </a:rPr>
              <a:t>От темперамента человека завис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корость возникновения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психических процесс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(например, скорость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восприят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быстрота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мышле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длительность сосредоточения внимания и т. п.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ластичность и устойчивость психических явлений, легкость их смены и переключения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емп и ритм деятель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тенсивность психических процессов (например, сила эмоций, активность воли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правленность психической деятельности на определенные объекты (экстраверсия или интроверс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643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Темперамент</a:t>
            </a: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надлежащее соотношение</a:t>
            </a: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               частей»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2205000"/>
            <a:ext cx="4038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холерик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ильный, неуравновешенный, подвижный тип высшей нервн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флегмат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сильный, уравновешенный, инертный тип высшей нервн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меланхолик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лабый, неуравновешенный, инертный тип высшей нервн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сангвин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меет сильный, уравновешенный, подвижный тип высшей нерв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хол флег санг меланх"/>
          <p:cNvPicPr/>
          <p:nvPr/>
        </p:nvPicPr>
        <p:blipFill>
          <a:blip r:embed="rId1"/>
          <a:stretch/>
        </p:blipFill>
        <p:spPr>
          <a:xfrm>
            <a:off x="0" y="1844640"/>
            <a:ext cx="4381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Характер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54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руктура стойких, сравнительно постоянных психических свойств, определяющих особенности отношений и поведения личности. Когда говорят о характере, то обычно подразумевают под этим именно такую совокупность свойств и качеств личности, которые накладывают определенную печать на все ее проявления и деяния. Черты характера составляют те существенные свойства человека, которые определяют тот или иной образ поведения, образ жизни. Статику характера определяет тип нервной деятельности, а его динамику — окружающая сред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из-за множественного разнообразия в современной психологии нет общей классификации характрров"/>
          <p:cNvPicPr/>
          <p:nvPr/>
        </p:nvPicPr>
        <p:blipFill>
          <a:blip r:embed="rId1"/>
          <a:stretch/>
        </p:blipFill>
        <p:spPr>
          <a:xfrm>
            <a:off x="6227640" y="260280"/>
            <a:ext cx="26701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Акцентуации характер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крайние варианты нормы как результат усиления отдельных чер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центуация характера при весьма неблагоприятных обстоятельствах может привести к патологическим нарушениям и изменениям поведения личности, к психопатии, но отождествлять ее с патологией неправомер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План лекци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ие представления об индивидуальности (индивид, личность, индивидуальнос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ки психологи индивидуальных различ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мет и задачи дифференциальной психоло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и методы исследований современной дифференциальной псих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ера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Характер и темперамент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 характер формируется в процессе жизни, а темперамент возникает биологически (при рожден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 темперамент отличается стабильностью, характер постоянно 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 характер зависит от мотивов и воли, темперамент - 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Спасибо за внимание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Wingdings"/>
                <a:ea typeface="Wingdings"/>
              </a:rPr>
              <a:t></a:t>
            </a: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66"/>
                </a:solidFill>
                <a:latin typeface="Wingdings"/>
                <a:ea typeface="Wingdings"/>
              </a:rPr>
              <a:t></a:t>
            </a: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66"/>
                </a:solidFill>
                <a:latin typeface="Wingdings"/>
                <a:ea typeface="Wingdings"/>
              </a:rPr>
              <a:t>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утенок"/>
          <p:cNvPicPr/>
          <p:nvPr/>
        </p:nvPicPr>
        <p:blipFill>
          <a:blip r:embed="rId1"/>
          <a:stretch/>
        </p:blipFill>
        <p:spPr>
          <a:xfrm>
            <a:off x="4857840" y="3029040"/>
            <a:ext cx="4286160" cy="3828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Индивид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129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к, как единичное природное существо, представитель вида homo sapiens, продукт филогенетического и онтогенетического развития, единства врожденного и приобретенного, носитель индивидуально-своеобразных, прежде всего биологически обусловленных черт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71640" y="3195720"/>
            <a:ext cx="403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нятие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индивид* отвечает прежде всего на вопрос, в чем данн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обен всем другим людям? То есть указывает на объединение данного человека с человеческим вид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дивидные свойства человека (тип нервной системы, задатки, состояние здоровья и т. д.) необходимо учитывать при профориентации, профотборе и осуществлении индивидуального подхода в обучении и воспитан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индивидуальность"/>
          <p:cNvPicPr/>
          <p:nvPr/>
        </p:nvPicPr>
        <p:blipFill>
          <a:blip r:embed="rId1"/>
          <a:stretch/>
        </p:blipFill>
        <p:spPr>
          <a:xfrm>
            <a:off x="5148360" y="1844640"/>
            <a:ext cx="3995640" cy="3195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Индивидуаль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4859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единство неповторимых личностных свойств конкретного человека. Это своеобразие его психофизиологической структуры (тип темперамента, физи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сихические особенности, интеллект, мировоззрение, жизненный опыт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71640" y="508464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. Л. Рубинштейн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"человек есть индивидуальность в силу наличия у него      особенных, единичных, неповторимых свойств... человек есть      личность, поскольку у него есть свое лицо"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личность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Лич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997360"/>
            <a:ext cx="74660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т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лат.persona) результат процесса воспитани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самовоспитания, термин подразумев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ловеческого индивида как субъект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шений и сознательной деятельности (лицо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ироком смысле слов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йчивую систему социально значимых черт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ющих индивида как члена того или иного общества или общ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603432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Личность — это индивид, осознающий свою индивиду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Лич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овокупность внутренних условий, через которые преломляются внешние воздействия.  (С.Л.Рубинштей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динамическая организация тех внутренних психических процессов, которые определяют характерное для нее поведение и мышление. (Г.Олпорт, Р. Кеттел, Г. Айзен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 взаимодействия поведения и факторов окружающей среды; центральную роль играют когнитивные компоненты (А. Бандура, Дж. Рот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чность определяется через иерархию потребностей (А. Масло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чный мир переживаний человека (К. Роджерс) и др.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1989000"/>
            <a:ext cx="7543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раздел психологической науки, изучающий особенности индивидов или групп людей, объединяемых каким-нибудь общим признаком (возраст, пол, класс, этническая группа и т.п.) 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 же – природу, источники и последствия различий этих индивид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042920" y="620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66"/>
                </a:solidFill>
                <a:uFillTx/>
                <a:latin typeface="Tahoma"/>
              </a:rPr>
              <a:t>Психология индивидуальных различ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Истоки дифференциальной психологии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620280"/>
            <a:ext cx="80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ипократ (род. ок. 460 в. до н.э.) – учение о четырех типах темперамен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истематизированное описание индивидуальных особенностей поведения принадлежит ученику Платон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Теофрасту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род. ок. 370 до н. э. ) и изложено в трактате «Характеры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ы Ч. Дарвина 30х – 60х гг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вые систематические исследования индивидуальных различий были проведены английским ученым Ф. Гальтоном во второй половине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00 г. в своей работе «О психологии индивидуальных различий» Штерн предложил название «дифференциальная психология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04 г. во Франции появляется новая процедура оценки уровня развития способностей А. Бине (предложил в качестве показателя интеллектуального развития использовать умственный возраст — соответствие уровня развития ребенка средним показателям детей определенной возрастной группы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12 г. немецким психологом В. Штерном был предложен широко применяемый вплоть до нашего времени показатель интеллектуального развития, который численно равен отношению умственного возраста ребенка к его хронологическому возрасту. Этот показатель получил название коэффициента интеллекта (IQ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йшее развитие дифференциальной психологии связано с такими именами, как Г. Айзенк, Р.  Кеттелл, А. Анастази, Б. М. Теплов, В. Д. Небылицын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Номотетический подх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кцент ставится на вскрытии причиннооследственных связей и закономерностей, объясняющих поведение человек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Идеографический подх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кцентирование уникальности каждой личности, описанию ее своеобразия и особенносте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5:32:11Z</dcterms:created>
  <dc:creator>Татьяна</dc:creator>
  <dc:description/>
  <dc:language>en-US</dc:language>
  <cp:lastModifiedBy>ZooM</cp:lastModifiedBy>
  <dcterms:modified xsi:type="dcterms:W3CDTF">2013-12-10T23:41:31Z</dcterms:modified>
  <cp:revision>13</cp:revision>
  <dc:subject/>
  <dc:title>Психология индивидуальных различий</dc:title>
</cp:coreProperties>
</file>