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271-B488-45DD-9C8F-4DCE392C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A13-1FA6-45DC-93F0-AF087BFE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906-5E4B-4D2F-8375-9821AD5C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82E-49F4-4150-97F5-B214439A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A9C7-F97A-4106-9055-8481253C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9BCD-7E6F-4681-8F6B-54B6111E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B06B-84EB-4E3A-8C35-DB5EFEB0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5EE1-AACD-45BB-B411-3D113D6E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1C07-EA7E-4427-9790-A4389622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7A40-D3F7-481C-AFF6-D622B623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467F-E0BA-4BD0-8886-44ED2E4D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E44-5435-4767-A18C-63DAB2E9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BCB7-3630-4312-B00B-2A1EFCC3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E79E-EB75-4B84-B718-1AC39B2F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D3BE-FD6A-4228-8245-60BBEA0A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422D-8453-4CDD-808F-822315E1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89EF-CDB3-4900-A759-83E37396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539-2030-4733-B0FE-A4F15EBD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790-164E-497C-AB55-B637EC22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E6F-5D20-4F3C-8F63-6EB5296B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A91-6379-4742-BF3E-9406CCA7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10E-3831-40B3-A6DB-3DE2D97A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AAB-5F7C-4A82-AF35-6606C7C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F50-FAC9-4511-8C62-F911D606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0E37-864B-470A-938F-D2C8A2B1A5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98F7-16FA-455E-9E79-3CBC543DC0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7;&#1087;&#1083;&#1086;&#1074;,_&#1041;&#1086;&#1088;&#1080;&#1089;_&#1052;&#1080;&#1093;&#1072;&#1081;&#1083;&#1086;&#1074;&#1080;&#1095;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ru.wikipedia.org/wiki/&#1061;&#1072;&#1088;&#1072;&#1082;&#1090;&#1077;&#1088;" TargetMode="External"/><Relationship Id="rId3" Type="http://schemas.openxmlformats.org/officeDocument/2006/relationships/hyperlink" Target="http://ru.wikipedia.org/wiki/&#1058;&#1080;&#1087;&#1099;_&#1074;&#1099;&#1089;&#1096;&#1077;&#1081;_&#1085;&#1077;&#1088;&#1074;&#1085;&#1086;&#1081;_&#1076;&#1077;&#1103;&#1090;&#1077;&#1083;&#1100;&#1085;&#1086;&#1089;&#1090;&#1080;" TargetMode="External"/><Relationship Id="rId4" Type="http://schemas.openxmlformats.org/officeDocument/2006/relationships/hyperlink" Target="http://ru.wikipedia.org/wiki/&#1055;&#1089;&#1080;&#1093;&#1080;&#1095;&#1077;&#1089;&#1082;&#1080;&#1077;_&#1087;&#1088;&#1086;&#1094;&#1077;&#1089;&#1089;&#1099;" TargetMode="External"/><Relationship Id="rId5" Type="http://schemas.openxmlformats.org/officeDocument/2006/relationships/hyperlink" Target="http://ru.wikipedia.org/wiki/&#1042;&#1086;&#1089;&#1087;&#1088;&#1080;&#1103;&#1090;&#1080;&#1077;" TargetMode="External"/><Relationship Id="rId6" Type="http://schemas.openxmlformats.org/officeDocument/2006/relationships/hyperlink" Target="http://ru.wikipedia.org/wiki/&#1052;&#1099;&#1096;&#1083;&#1077;&#1085;&#1080;&#1077;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1700280"/>
            <a:ext cx="774072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Tahoma"/>
              </a:rPr>
              <a:t>Психология индивидуальных различий</a:t>
            </a: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(или дифференциальная психология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276720" y="5013000"/>
            <a:ext cx="374472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964600" y="47628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Школа Юного Психоло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973320" y="5805360"/>
            <a:ext cx="2346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осква, 2010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66"/>
                </a:solidFill>
                <a:uFillTx/>
                <a:latin typeface="Tahoma"/>
              </a:rPr>
              <a:t>Основные 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Выделение наиболее существенных, информативных психологических характеристик человека, изучение их струк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Изучение пределов, в которых психологические признаки изменяются (межиндивидуальная вариативность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Изучение различий между группами люд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Выявление факторов, лежащих в основе индивидуально-психологических различ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42920" y="907920"/>
            <a:ext cx="761832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Предмет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ивидуальные различия между людь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img1"/>
          <p:cNvPicPr/>
          <p:nvPr/>
        </p:nvPicPr>
        <p:blipFill>
          <a:blip r:embed="rId1"/>
          <a:stretch/>
        </p:blipFill>
        <p:spPr>
          <a:xfrm>
            <a:off x="5940360" y="4689360"/>
            <a:ext cx="2952720" cy="1825920"/>
          </a:xfrm>
          <a:prstGeom prst="rect">
            <a:avLst/>
          </a:prstGeom>
          <a:ln w="0">
            <a:noFill/>
          </a:ln>
        </p:spPr>
      </p:pic>
      <p:grpSp>
        <p:nvGrpSpPr>
          <p:cNvPr id="138" name="Diagram 9"/>
          <p:cNvGrpSpPr/>
          <p:nvPr/>
        </p:nvGrpSpPr>
        <p:grpSpPr>
          <a:xfrm>
            <a:off x="1692360" y="293040"/>
            <a:ext cx="5679720" cy="5173560"/>
            <a:chOff x="1692360" y="293040"/>
            <a:chExt cx="5679720" cy="5173560"/>
          </a:xfrm>
        </p:grpSpPr>
        <p:sp>
          <p:nvSpPr>
            <p:cNvPr id="139" name="_s1028"/>
            <p:cNvSpPr/>
            <p:nvPr/>
          </p:nvSpPr>
          <p:spPr>
            <a:xfrm flipH="1">
              <a:off x="3112200" y="2880360"/>
              <a:ext cx="709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1029"/>
            <p:cNvSpPr/>
            <p:nvPr/>
          </p:nvSpPr>
          <p:spPr>
            <a:xfrm>
              <a:off x="1692360" y="2233080"/>
              <a:ext cx="1420200" cy="1293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Социальные факторы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: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Среда обитания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литическ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Географическ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И др.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1030"/>
            <p:cNvSpPr/>
            <p:nvPr/>
          </p:nvSpPr>
          <p:spPr>
            <a:xfrm>
              <a:off x="4532040" y="3526920"/>
              <a:ext cx="0" cy="64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1031"/>
            <p:cNvSpPr/>
            <p:nvPr/>
          </p:nvSpPr>
          <p:spPr>
            <a:xfrm>
              <a:off x="3822120" y="4173480"/>
              <a:ext cx="1419480" cy="1293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Воспитание: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Образован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Обучение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/ </a:t>
              </a: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Воспитан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ahoma"/>
                </a:rPr>
                <a:t>Самовоспитан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1032"/>
            <p:cNvSpPr/>
            <p:nvPr/>
          </p:nvSpPr>
          <p:spPr>
            <a:xfrm>
              <a:off x="5241960" y="2880360"/>
              <a:ext cx="709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1033"/>
            <p:cNvSpPr/>
            <p:nvPr/>
          </p:nvSpPr>
          <p:spPr>
            <a:xfrm>
              <a:off x="5951880" y="2233080"/>
              <a:ext cx="1420200" cy="1293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Tahoma"/>
                </a:rPr>
                <a:t>Биологические факторы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: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Наследственность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Задатк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Способност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_s1034"/>
            <p:cNvSpPr/>
            <p:nvPr/>
          </p:nvSpPr>
          <p:spPr>
            <a:xfrm flipV="1">
              <a:off x="4532040" y="1586520"/>
              <a:ext cx="0" cy="64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1035"/>
            <p:cNvSpPr/>
            <p:nvPr/>
          </p:nvSpPr>
          <p:spPr>
            <a:xfrm>
              <a:off x="3822120" y="293040"/>
              <a:ext cx="1419480" cy="12931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Что влияет на развити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личностных различий?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1036"/>
            <p:cNvSpPr/>
            <p:nvPr/>
          </p:nvSpPr>
          <p:spPr>
            <a:xfrm>
              <a:off x="3822120" y="2233080"/>
              <a:ext cx="1419480" cy="1293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Развитие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42560" y="18864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Задат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рожденные, устойчивые психофизиологические особенности человека, оказывающие существенное влияние на развитие его способно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Способ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индивидуальные свойства личности, являющиеся субъективными условиями успешного осуществления определённого рода деятель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ости не сводятся к имеющимся у индивида знаниям, умениям, навыкам. Они обнаруживаются в быстроте, глубине и прочности овладения способами и приёмами некоторой деятельности и являются внутренними психическими регуляторами, обусловливающими возможность их приобрет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отечественной психологии наибольший вклад в экспериментальные исследования способностей внес 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Б. М. Тепл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ahoma"/>
              </a:rPr>
              <a:t>Одареннос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комплексное явление. Оно связано с выполнением человеком определённой деятельности, то есть одарённость состоит из различных способно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«качественно-своеобразное сочетание способностей, от которого зависит возможность достижения большего или меньшего успеха в выполнении той или другой деятельности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Методы дифференциальной психологии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Аппаратные мето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редназначены, в основном, для изучения психофизических основ поведения человек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Психогенетические мето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применяются для выявления причин возникновения индивидуальных психических особенносте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1" lang="ru-RU" sz="2800" spc="-1" strike="noStrike" u="sng">
                <a:solidFill>
                  <a:srgbClr val="ffff66"/>
                </a:solidFill>
                <a:uFillTx/>
                <a:latin typeface="Tahoma"/>
              </a:rPr>
              <a:t>Собственно, психологические метод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наблюдение, эксперимент, тест и др.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обственно психологические метод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блю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се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сты и опро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Тест_-Социальный_интеллект-_Гилфорда_-_субтест_4_задание_9"/>
          <p:cNvPicPr/>
          <p:nvPr/>
        </p:nvPicPr>
        <p:blipFill>
          <a:blip r:embed="rId1"/>
          <a:stretch/>
        </p:blipFill>
        <p:spPr>
          <a:xfrm>
            <a:off x="4427640" y="-135000"/>
            <a:ext cx="4716360" cy="2705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тат"/>
          <p:cNvPicPr/>
          <p:nvPr/>
        </p:nvPicPr>
        <p:blipFill>
          <a:blip r:embed="rId2"/>
          <a:stretch/>
        </p:blipFill>
        <p:spPr>
          <a:xfrm>
            <a:off x="0" y="3735360"/>
            <a:ext cx="2652840" cy="3122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роршаха пятно"/>
          <p:cNvPicPr/>
          <p:nvPr/>
        </p:nvPicPr>
        <p:blipFill>
          <a:blip r:embed="rId3"/>
          <a:stretch/>
        </p:blipFill>
        <p:spPr>
          <a:xfrm>
            <a:off x="5759280" y="4640400"/>
            <a:ext cx="3384720" cy="2217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Основные разновидности тестов лич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Личностные опросни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MPI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, 16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акторный опросник Кеттела, тест Гилфорда на социальный интеллект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Проек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тивные методи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Пятна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Рорш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Т, рисуно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чны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мето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ки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temperament"/>
          <p:cNvPicPr/>
          <p:nvPr/>
        </p:nvPicPr>
        <p:blipFill>
          <a:blip r:embed="rId1"/>
          <a:srcRect l="4378" t="0" r="5197" b="1878"/>
          <a:stretch/>
        </p:blipFill>
        <p:spPr>
          <a:xfrm>
            <a:off x="6156360" y="0"/>
            <a:ext cx="298764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Темперамент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5327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–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 устойчивое объединение индивидуальных особенностей личности, связанных с динамическими, а не содержательными аспектами деятельности. Темперамент составляет основу развития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характе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; вообще, с физиологической точки зрения темперамент —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тип высшей нервной деятельност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челове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—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 индивидуально-своеобразные свойства психики, отражающие динамику психической деятельности человека, и проявляющиеся независимо от его целей, мотивов и содержания. Темперамент слабо меняется в течение жизн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Tahoma"/>
              </a:rPr>
              <a:t>От темперамента человека завися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корость возникновения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психических процесс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(например, скорость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восприят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быстрота </a:t>
            </a:r>
            <a:r>
              <a:rPr b="0" lang="ru-RU" sz="1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мышле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длительность сосредоточения внимания и т. п.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ластичность и устойчивость психических явлений, легкость их смены и переключения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емп и ритм деятельност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тенсивность психических процессов (например, сила эмоций, активность воли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правленность психической деятельности на определенные объекты (экстраверсия или интроверс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643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Темперамент</a:t>
            </a:r>
            <a:br>
              <a:rPr sz="1800"/>
            </a:b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«надлежащее соотношение</a:t>
            </a:r>
            <a:br>
              <a:rPr sz="1800"/>
            </a:b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               частей»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32360" y="2205000"/>
            <a:ext cx="4038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холерик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ильный, неуравновешенный, подвижный тип высшей нервн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флегмати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сильный, уравновешенный, инертный тип высшей нервн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меланхолик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— слабый, неуравновешенный, инертный тип высшей нервн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сангвини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меет сильный, уравновешенный, подвижный тип высшей нерв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хол флег санг меланх"/>
          <p:cNvPicPr/>
          <p:nvPr/>
        </p:nvPicPr>
        <p:blipFill>
          <a:blip r:embed="rId1"/>
          <a:stretch/>
        </p:blipFill>
        <p:spPr>
          <a:xfrm>
            <a:off x="0" y="1844640"/>
            <a:ext cx="4381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Характер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54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руктура стойких, сравнительно постоянных психических свойств, определяющих особенности отношений и поведения личности. Когда говорят о характере, то обычно подразумевают под этим именно такую совокупность свойств и качеств личности, которые накладывают определенную печать на все ее проявления и деяния. Черты характера составляют те существенные свойства человека, которые определяют тот или иной образ поведения, образ жизни. Статику характера определяет тип нервной деятельности, а его динамику — окружающая сред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из-за множественного разнообразия в современной психологии нет общей классификации характрров"/>
          <p:cNvPicPr/>
          <p:nvPr/>
        </p:nvPicPr>
        <p:blipFill>
          <a:blip r:embed="rId1"/>
          <a:stretch/>
        </p:blipFill>
        <p:spPr>
          <a:xfrm>
            <a:off x="6227640" y="260280"/>
            <a:ext cx="26701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Акцентуации характер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крайние варианты нормы как результат усиления отдельных чер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центуация характера при весьма неблагоприятных обстоятельствах может привести к патологическим нарушениям и изменениям поведения личности, к психопатии, но отождествлять ее с патологией неправомер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План лекци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ие представления об индивидуальности (индивид, личность, индивидуальнос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ки психологи индивидуальных различ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мет и задачи дифференциальной психолог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направления и методы исследований современной дифференциальной псих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перам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ракт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Характер и темперамент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 характер формируется в процессе жизни, а темперамент возникает биологически (при рожден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 темперамент отличается стабильностью, характер постоянно меня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 характер зависит от мотивов и воли, темперамент - н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Спасибо за внимание</a:t>
            </a:r>
            <a:br>
              <a:rPr sz="4400"/>
            </a:br>
            <a:r>
              <a:rPr b="1" lang="ru-RU" sz="4400" spc="-1" strike="noStrike">
                <a:solidFill>
                  <a:srgbClr val="ffff66"/>
                </a:solidFill>
                <a:latin typeface="Wingdings"/>
                <a:ea typeface="Wingdings"/>
              </a:rPr>
              <a:t></a:t>
            </a: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66"/>
                </a:solidFill>
                <a:latin typeface="Wingdings"/>
                <a:ea typeface="Wingdings"/>
              </a:rPr>
              <a:t></a:t>
            </a: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66"/>
                </a:solidFill>
                <a:latin typeface="Wingdings"/>
                <a:ea typeface="Wingdings"/>
              </a:rPr>
              <a:t>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утенок"/>
          <p:cNvPicPr/>
          <p:nvPr/>
        </p:nvPicPr>
        <p:blipFill>
          <a:blip r:embed="rId1"/>
          <a:stretch/>
        </p:blipFill>
        <p:spPr>
          <a:xfrm>
            <a:off x="4857840" y="3029040"/>
            <a:ext cx="4286160" cy="3828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Индивид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129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к, как единичное природное существо, представитель вида homo sapiens, продукт филогенетического и онтогенетического развития, единства врожденного и приобретенного, носитель индивидуально-своеобразных, прежде всего биологически обусловленных черт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971640" y="3195720"/>
            <a:ext cx="403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нятие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*индивид* отвечает прежде всего на вопрос, в чем данн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обен всем другим людям? То есть указывает на объединение данного человека с человеческим вид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дивидные свойства человека (тип нервной системы, задатки, состояние здоровья и т. д.) необходимо учитывать при профориентации, профотборе и осуществлении индивидуального подхода в обучении и воспитан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индивидуальность"/>
          <p:cNvPicPr/>
          <p:nvPr/>
        </p:nvPicPr>
        <p:blipFill>
          <a:blip r:embed="rId1"/>
          <a:stretch/>
        </p:blipFill>
        <p:spPr>
          <a:xfrm>
            <a:off x="5148360" y="1844640"/>
            <a:ext cx="3995640" cy="3195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Индивидуаль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4859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единство неповторимых личностных свойств конкретного человека. Это своеобразие его психофизиологической структуры (тип темперамента, физическ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сихические особенности, интеллект, мировоззрение, жизненный опыт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71640" y="5084640"/>
            <a:ext cx="79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. Л. Рубинштейн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"человек есть индивидуальность в силу наличия у него      особенных, единичных, неповторимых свойств... человек есть      личность, поскольку у него есть свое лицо"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личность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5210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Лич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997360"/>
            <a:ext cx="74660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от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лат.persona) результат процесса воспитани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самовоспитания, термин подразумевающ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ловеческого индивида как субъект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шений и сознательной деятельности (лицо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ироком смысле слова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йчивую систему социально значимых черт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зующих индивида как члена того или иного общества или общ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603432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*Личность — это индивид, осознающий свою индивиду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Лич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овокупность внутренних условий, через которые преломляются внешние воздействия.  (С.Л.Рубинштей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динамическая организация тех внутренних психических процессов, которые определяют характерное для нее поведение и мышление. (Г.Олпорт, Р. Кеттел, Г. Айзен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 взаимодействия поведения и факторов окружающей среды; центральную роль играют когнитивные компоненты (А. Бандура, Дж. Рот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чность определяется через иерархию потребностей (А. Масло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чный мир переживаний человека (К. Роджерс) и др.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99640" y="1989000"/>
            <a:ext cx="7543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раздел психологической науки, изучающий особенности индивидов или групп людей, объединяемых каким-нибудь общим признаком (возраст, пол, класс, этническая группа и т.п.) 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 же – природу, источники и последствия различий этих индивид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042920" y="620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66"/>
                </a:solidFill>
                <a:uFillTx/>
                <a:latin typeface="Tahoma"/>
              </a:rPr>
              <a:t>Психология индивидуальных различ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ahoma"/>
              </a:rPr>
              <a:t>Истоки дифференциальной психологии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00000" y="620280"/>
            <a:ext cx="806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ипократ (род. ок. 460 в. до н.э.) – учение о четырех типах темперамен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истематизированное описание индивидуальных особенностей поведения принадлежит ученику Платон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Теофрасту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род. ок. 370 до н. э. ) и изложено в трактате «Характеры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ы Ч. Дарвина 30х – 60х гг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вые систематические исследования индивидуальных различий были проведены английским ученым Ф. Гальтоном во второй половине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00 г. в своей работе «О психологии индивидуальных различий» Штерн предложил название «дифференциальная психология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04 г. во Франции появляется новая процедура оценки уровня развития способностей А. Бине (предложил в качестве показателя интеллектуального развития использовать умственный возраст — соответствие уровня развития ребенка средним показателям детей определенной возрастной группы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12 г. немецким психологом В. Штерном был предложен широко применяемый вплоть до нашего времени показатель интеллектуального развития, который численно равен отношению умственного возраста ребенка к его хронологическому возрасту. Этот показатель получил название коэффициента интеллекта (IQ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йшее развитие дифференциальной психологии связано с такими именами, как Г. Айзенк, Р.  Кеттелл, А. Анастази, Б. М. Теплов, В. Д. Небылицын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ahoma"/>
              </a:rPr>
              <a:t>*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Номотетический подх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кцент ставится на вскрытии причиннооследственных связей и закономерностей, объясняющих поведение человека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Идеографический подх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кцентирование уникальности каждой личности, описанию ее своеобразия и особенносте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5:32:11Z</dcterms:created>
  <dc:creator>Татьяна</dc:creator>
  <dc:description/>
  <dc:language>en-US</dc:language>
  <cp:lastModifiedBy>ZooM</cp:lastModifiedBy>
  <dcterms:modified xsi:type="dcterms:W3CDTF">2013-12-10T23:41:31Z</dcterms:modified>
  <cp:revision>13</cp:revision>
  <dc:subject/>
  <dc:title>Психология индивидуальных различий</dc:title>
</cp:coreProperties>
</file>