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9AA-8156-49D9-972B-EC05814C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B23-9A9B-4A8E-87DE-82EE0F9B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FA4-30A1-473D-8AA2-6A780B0A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329-151E-4D21-AC6C-753EC4F4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9D8-0CF2-4B49-A33E-0E3EB0D3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B51-2822-438F-923B-A061F870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480-C6C3-4B1E-B0EF-179948B1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8CC-DD4C-4D41-9B18-A0614591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C53-A579-4A65-AAF4-DCE3D885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972-DBBB-44AA-8879-01F3C3D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73E-5E40-4438-A44A-5FABD116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75E-FA14-40FB-8AA6-631F4BB7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0213-B65F-4A28-99E2-A71943645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268280"/>
            <a:ext cx="82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"Самый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вежливый класс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</p:txBody>
      </p:sp>
      <p:pic>
        <p:nvPicPr>
          <p:cNvPr id="42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250920" y="260280"/>
            <a:ext cx="208764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3"/>
          <a:stretch/>
        </p:blipFill>
        <p:spPr>
          <a:xfrm>
            <a:off x="6732720" y="4724280"/>
            <a:ext cx="20872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lekino"/>
              </a:rPr>
              <a:t>Как нужно вести себя в школе,               какие                     правила                        ты знаешь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3168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65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lekino"/>
              </a:rPr>
              <a:t>Обманывать,            не выполнять свои обещания – это хорошо или плох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lekino"/>
              </a:rPr>
              <a:t>КЛЯТВА ВЕЖЛИВ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59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рыцарями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Всегда "спасибо" гов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"День добрый ", "До свиданья "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Нет в мире лучше зва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рыцарями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И лень, и грубость позаб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И говорить прилич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каждый лич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рыцарями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В борьбе со злом добро доб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Невежд разить мечом волшеб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И строгим словом, и целеб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28688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КОНКУРС 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«Герб замка толерантн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lekino"/>
              </a:rPr>
              <a:t>Нашему рыцарю Вежливости нужен свой герб, которым он смог бы украсить вход над дворцом Толеран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lekino"/>
              </a:rPr>
              <a:t>В этом конкурсе вам необходимо нарисовать герб и объяснить судьям, почему вы выбрали именно такой рису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КОНКУРС 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«Герб замка толерантн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1078" b="0"/>
          <a:stretch/>
        </p:blipFill>
        <p:spPr>
          <a:xfrm>
            <a:off x="1258920" y="1700280"/>
            <a:ext cx="64087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836640"/>
            <a:ext cx="820908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СПАСИБ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за участие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До новых встреч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</p:txBody>
      </p:sp>
      <p:pic>
        <p:nvPicPr>
          <p:cNvPr id="100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3492360" y="3279600"/>
            <a:ext cx="24480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:\Documents and Settings\Aida\Рабочий стол\Рисунок1.jpg"/>
          <p:cNvPicPr/>
          <p:nvPr/>
        </p:nvPicPr>
        <p:blipFill>
          <a:blip r:embed="rId2"/>
          <a:srcRect l="16962" t="9520" r="15159" b="40063"/>
          <a:stretch/>
        </p:blipFill>
        <p:spPr>
          <a:xfrm>
            <a:off x="252360" y="1100160"/>
            <a:ext cx="86407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lekino"/>
              </a:rPr>
              <a:t>Что такое толерант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Arlekino"/>
              </a:rPr>
              <a:t>Толерантность </a:t>
            </a: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–                       это терпимость к чужому образу жизни, поведению, обычаям, чувствам, мнениям, идеям, веровани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17636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4"/>
          <a:stretch/>
        </p:blipFill>
        <p:spPr>
          <a:xfrm>
            <a:off x="35640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5"/>
          <a:stretch/>
        </p:blipFill>
        <p:spPr>
          <a:xfrm>
            <a:off x="5364000" y="558648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6"/>
          <a:stretch/>
        </p:blipFill>
        <p:spPr>
          <a:xfrm>
            <a:off x="716436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7"/>
          <a:stretch/>
        </p:blipFill>
        <p:spPr>
          <a:xfrm>
            <a:off x="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8"/>
          <a:stretch/>
        </p:blipFill>
        <p:spPr>
          <a:xfrm>
            <a:off x="17636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9"/>
          <a:stretch/>
        </p:blipFill>
        <p:spPr>
          <a:xfrm>
            <a:off x="35640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10"/>
          <a:stretch/>
        </p:blipFill>
        <p:spPr>
          <a:xfrm>
            <a:off x="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11"/>
          <a:stretch/>
        </p:blipFill>
        <p:spPr>
          <a:xfrm>
            <a:off x="17636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12"/>
          <a:stretch/>
        </p:blipFill>
        <p:spPr>
          <a:xfrm>
            <a:off x="53640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13"/>
          <a:stretch/>
        </p:blipFill>
        <p:spPr>
          <a:xfrm>
            <a:off x="356400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14"/>
          <a:stretch/>
        </p:blipFill>
        <p:spPr>
          <a:xfrm>
            <a:off x="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5"/>
          <a:stretch/>
        </p:blipFill>
        <p:spPr>
          <a:xfrm>
            <a:off x="176364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16"/>
          <a:stretch/>
        </p:blipFill>
        <p:spPr>
          <a:xfrm>
            <a:off x="72612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17"/>
          <a:stretch/>
        </p:blipFill>
        <p:spPr>
          <a:xfrm>
            <a:off x="54608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18"/>
          <a:stretch/>
        </p:blipFill>
        <p:spPr>
          <a:xfrm>
            <a:off x="366084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19"/>
          <a:stretch/>
        </p:blipFill>
        <p:spPr>
          <a:xfrm>
            <a:off x="9684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0"/>
          <a:stretch/>
        </p:blipFill>
        <p:spPr>
          <a:xfrm>
            <a:off x="1860480" y="5592600"/>
            <a:ext cx="18478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lekino"/>
              </a:rPr>
              <a:t>Что такое толерант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lek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Arlekino"/>
              </a:rPr>
              <a:t>Быть толерантным </a:t>
            </a: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–             значит быть спокойным, терпимым, но самое главное – это быть вежливы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718812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rcRect l="0" t="0" r="64953" b="0"/>
          <a:stretch/>
        </p:blipFill>
        <p:spPr>
          <a:xfrm>
            <a:off x="8748720" y="551340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5"/>
          <a:stretch/>
        </p:blipFill>
        <p:spPr>
          <a:xfrm>
            <a:off x="356400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6"/>
          <a:stretch/>
        </p:blipFill>
        <p:spPr>
          <a:xfrm>
            <a:off x="176364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7"/>
          <a:stretch/>
        </p:blipFill>
        <p:spPr>
          <a:xfrm>
            <a:off x="-36360" y="5516640"/>
            <a:ext cx="184752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1125360"/>
            <a:ext cx="8209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khive"/>
              </a:rPr>
              <a:t>КОНКУР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khive"/>
              <a:ea typeface="Arkh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khive"/>
              </a:rPr>
              <a:t>"Вопрос - ответ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khive"/>
              <a:ea typeface="Arkhiv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132000" y="3645000"/>
            <a:ext cx="2664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Как нужн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 </a:t>
            </a: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вести себя              за столом?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80000" y="4508640"/>
            <a:ext cx="33847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lekino"/>
              </a:rPr>
              <a:t>Кто кому должен уступать            место                     в                транспорте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2000" y="2492280"/>
            <a:ext cx="28350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Какие слова мы говорим при приветствии и  прощани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Если ты съел конфету, то что ты сделаешь            с фантиком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6368" r="0" b="11819"/>
          <a:stretch/>
        </p:blipFill>
        <p:spPr>
          <a:xfrm>
            <a:off x="6443640" y="4292640"/>
            <a:ext cx="23860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9:31:40Z</dcterms:created>
  <dc:creator>Admin</dc:creator>
  <dc:description/>
  <dc:language>en-US</dc:language>
  <cp:lastModifiedBy>Admin</cp:lastModifiedBy>
  <dcterms:modified xsi:type="dcterms:W3CDTF">2010-11-16T22:11:48Z</dcterms:modified>
  <cp:revision>21</cp:revision>
  <dc:subject/>
  <dc:title>Слайд 1</dc:title>
</cp:coreProperties>
</file>