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2A7-3B40-4CAD-8EE7-0B778A2B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F8-DDBD-4721-8CAB-5686244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47A-C6B2-4D74-B9C0-31D1BA5D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0E4-CD45-4A10-9226-A7F02E38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8F2-4941-4625-A000-74100FBA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840-0B56-4706-AF39-4353968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C9D-6B41-4746-8091-3BA25404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DF6-57FB-4649-A5E9-F28DED9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6BE-C9F7-4393-A569-3622F8C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04D-0216-4CC5-8552-34CE244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317-525A-4224-AF78-3257F1C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142-249C-402A-9DF5-6BBC8C4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01C9-9A4B-4AF1-8C18-BBD87A806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268280"/>
            <a:ext cx="82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"Самый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вежливый класс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250920" y="260280"/>
            <a:ext cx="208764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3"/>
          <a:stretch/>
        </p:blipFill>
        <p:spPr>
          <a:xfrm>
            <a:off x="6732720" y="4724280"/>
            <a:ext cx="20872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lekino"/>
              </a:rPr>
              <a:t>Как нужно вести себя в школе,               какие                     правила                        ты знаеш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3168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Обманывать,            не выполнять свои обещания – это хорошо или плох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lekino"/>
              </a:rPr>
              <a:t>КЛЯТВА ВЕЖЛ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сегда "спасибо" гов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"День добрый ", "До свиданья "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т в мире лучше зва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лень, и грубость поза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говорить прил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каждый 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 борьбе со злом добро до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вежд разить мечом волшеб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строгим словом, и цел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868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Нашему рыцарю Вежливости нужен свой герб, которым он смог бы украсить вход над дворцом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В этом конкурсе вам необходимо нарисовать герб и объяснить судьям, почему вы выбрали именно такой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1078" b="0"/>
          <a:stretch/>
        </p:blipFill>
        <p:spPr>
          <a:xfrm>
            <a:off x="1258920" y="1700280"/>
            <a:ext cx="64087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836640"/>
            <a:ext cx="82090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СПАСИБ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за участие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До новых встреч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100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3492360" y="3279600"/>
            <a:ext cx="2448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:\Documents and Settings\Aida\Рабочий стол\Рисунок1.jpg"/>
          <p:cNvPicPr/>
          <p:nvPr/>
        </p:nvPicPr>
        <p:blipFill>
          <a:blip r:embed="rId2"/>
          <a:srcRect l="16962" t="9520" r="15159" b="40063"/>
          <a:stretch/>
        </p:blipFill>
        <p:spPr>
          <a:xfrm>
            <a:off x="252360" y="1100160"/>
            <a:ext cx="8640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Толерантность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          это терпимость к чужому образу жизни, поведению, обычаям, чувствам, мнениям, идеям, веровани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5364000" y="558648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716436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7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8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9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10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1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12"/>
          <a:stretch/>
        </p:blipFill>
        <p:spPr>
          <a:xfrm>
            <a:off x="53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13"/>
          <a:stretch/>
        </p:blipFill>
        <p:spPr>
          <a:xfrm>
            <a:off x="356400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14"/>
          <a:stretch/>
        </p:blipFill>
        <p:spPr>
          <a:xfrm>
            <a:off x="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5"/>
          <a:stretch/>
        </p:blipFill>
        <p:spPr>
          <a:xfrm>
            <a:off x="17636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16"/>
          <a:stretch/>
        </p:blipFill>
        <p:spPr>
          <a:xfrm>
            <a:off x="72612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17"/>
          <a:stretch/>
        </p:blipFill>
        <p:spPr>
          <a:xfrm>
            <a:off x="54608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8"/>
          <a:stretch/>
        </p:blipFill>
        <p:spPr>
          <a:xfrm>
            <a:off x="3660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19"/>
          <a:stretch/>
        </p:blipFill>
        <p:spPr>
          <a:xfrm>
            <a:off x="96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0"/>
          <a:stretch/>
        </p:blipFill>
        <p:spPr>
          <a:xfrm>
            <a:off x="1860480" y="5592600"/>
            <a:ext cx="1847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Быть толерантным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значит быть спокойным, терпимым, но самое главное – это быть вежлив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718812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rcRect l="0" t="0" r="64953" b="0"/>
          <a:stretch/>
        </p:blipFill>
        <p:spPr>
          <a:xfrm>
            <a:off x="8748720" y="551340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5"/>
          <a:stretch/>
        </p:blipFill>
        <p:spPr>
          <a:xfrm>
            <a:off x="35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6"/>
          <a:stretch/>
        </p:blipFill>
        <p:spPr>
          <a:xfrm>
            <a:off x="176364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7"/>
          <a:stretch/>
        </p:blipFill>
        <p:spPr>
          <a:xfrm>
            <a:off x="-36360" y="5516640"/>
            <a:ext cx="1847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1125360"/>
            <a:ext cx="8209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КОНКУР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"Вопрос - ответ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132000" y="3645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 нуж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 </a:t>
            </a: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вести себя              за столом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384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Кто кому должен уступать            место                     в                транспорт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8350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ие слова мы говорим при приветствии и  прощани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Если ты съел конфету, то что ты сделаешь            с фантиком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6368" r="0" b="11819"/>
          <a:stretch/>
        </p:blipFill>
        <p:spPr>
          <a:xfrm>
            <a:off x="6443640" y="4292640"/>
            <a:ext cx="2386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9:31:40Z</dcterms:created>
  <dc:creator>Admin</dc:creator>
  <dc:description/>
  <dc:language>en-US</dc:language>
  <cp:lastModifiedBy>Admin</cp:lastModifiedBy>
  <dcterms:modified xsi:type="dcterms:W3CDTF">2010-11-16T22:11:48Z</dcterms:modified>
  <cp:revision>21</cp:revision>
  <dc:subject/>
  <dc:title>Слайд 1</dc:title>
</cp:coreProperties>
</file>