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60D-BECF-43EE-BC5B-1A5B7757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D28-04D6-422E-8A88-0A75DA4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5A7-A9F2-4550-9EC2-36B7DE34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7FE-4D07-4758-B3F1-B223F9B3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AF32-BB81-4B44-91F8-F54A89DC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1FE6-800B-45CF-8C1A-AE3D5DE9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1787-74BE-4506-8948-FA0C2742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D19B-D928-4995-9CE3-BB6F1521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F73C-04E3-4CF0-8A6F-5377FE43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0EDD-BACB-4BB6-90FB-F3371B81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986D-A80D-4F9A-AAF3-050F94AB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CFA-3DA4-4BC7-8B81-AC832A7A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C41A-04DE-42AB-A276-070325D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858D-313A-49EE-BA49-FD4F4D11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9A98-A9C6-4323-BB93-B71B70DD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8F46-2CF1-4CAF-9C73-8BD682B5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FF4F-18F4-4438-929E-B9F48F20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B5CCB-6B05-4E82-8458-EB52DED1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254CC-C3ED-492F-812E-7C863DD5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1314D-BB71-46CB-A58B-2A694E26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BF458-6A15-4BBC-BC14-14F47E0F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77C57-DEA4-42CF-A71E-08ECACEE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C4B-7103-4901-A271-1CA1FC36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4720C-553A-4701-9336-EC14771D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47C60-9EA6-43F7-95E1-43E46E3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BC831-4A67-4027-83AF-984A992B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3020B-DD5D-4F83-9351-1D6D673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4825C-39E5-42CF-835D-BDFEA514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F2DFC-3D5F-4BF6-8D0D-3474BD23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84DD9-B8DB-4B99-9209-884FA6FF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BA4A-4469-406D-B858-B2759BEC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D9512-FA51-4DF9-B429-4829CD4D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FA19-CB47-4A9F-9D92-01869060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733-B169-4268-8A00-19AC8BDF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A5953-F41B-4349-BD58-94937B2D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B995-08BF-4299-B6E1-A625A923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A41F-2D92-4CF5-9DF0-1E65DF26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EA3B-78BF-422D-B61D-DCC9622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0666-E89A-47A7-88C1-2EF37E0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F9FE-430F-4A82-ABC5-89AFFC88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9F74-7113-43DD-9577-FADEBE0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AB80A-6729-42B2-9D9B-6629A9B8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EB8C-883A-41CD-9761-8879CB44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0C8-7DA1-473A-BDFB-FF58E232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210-55A8-478F-B462-322F60C2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6B2-1626-4AAA-911E-2906C138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8CA-D870-49E6-929B-6BEB6448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2F9-DFB2-4A90-8F8D-04ABAD8D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B556-5E67-45BD-BFA7-28E69B67D64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B368-8510-4375-B75B-A93A01860F4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BCDE-ECD3-486F-8D85-03E178952A1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1AC8-707B-4CA6-8213-6A1B43E375D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ntique-lit.niv.ru/antique-lit/bilety4/bilet-10.htm" TargetMode="External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ru.wikipedia.org/wiki/%CF%F0%EE%EC%E5%F2%E5%E9_%EF%F0%E8%EA%EE%E2%E0%ED%ED%FB%E9_(%DD%F1%F5%E8%EB)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75;&#1077;&#1076;&#1080;&#1103;" TargetMode="External"/><Relationship Id="rId2" Type="http://schemas.openxmlformats.org/officeDocument/2006/relationships/hyperlink" Target="http://ru.wikipedia.org/wiki/&#1044;&#1088;&#1077;&#1074;&#1085;&#1103;&#1103;_&#1043;&#1088;&#1077;&#1094;&#1080;&#1103;" TargetMode="External"/><Relationship Id="rId3" Type="http://schemas.openxmlformats.org/officeDocument/2006/relationships/hyperlink" Target="http://ru.wikipedia.org/wiki/&#1044;&#1088;&#1072;&#1084;&#1072;&#1090;&#1091;&#1088;&#1075;" TargetMode="External"/><Relationship Id="rId4" Type="http://schemas.openxmlformats.org/officeDocument/2006/relationships/hyperlink" Target="http://ru.wikipedia.org/wiki/&#1069;&#1089;&#1093;&#1080;&#1083;" TargetMode="External"/><Relationship Id="rId5" Type="http://schemas.openxmlformats.org/officeDocument/2006/relationships/hyperlink" Target="http://ru.wikipedia.org/wiki/444_&#1075;&#1086;&#1076;_&#1076;&#1086;_&#1085;._&#1101;." TargetMode="External"/><Relationship Id="rId6" Type="http://schemas.openxmlformats.org/officeDocument/2006/relationships/hyperlink" Target="http://ru.wikipedia.org/wiki/443_&#1075;&#1086;&#1076;_&#1076;&#1086;_&#1085;._&#1101;.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84;&#1077;&#1090;&#1077;&#1081;" TargetMode="External"/><Relationship Id="rId2" Type="http://schemas.openxmlformats.org/officeDocument/2006/relationships/hyperlink" Target="http://ru.wikipedia.org/wiki/&#1047;&#1077;&#1074;&#1089;" TargetMode="External"/><Relationship Id="rId3" Type="http://schemas.openxmlformats.org/officeDocument/2006/relationships/hyperlink" Target="http://ru.wikipedia.org/wiki/&#1054;&#1082;&#1077;&#1072;&#1085;&#1080;&#1076;&#1099;" TargetMode="External"/><Relationship Id="rId4" Type="http://schemas.openxmlformats.org/officeDocument/2006/relationships/hyperlink" Target="http://ru.wikipedia.org/wiki/&#1054;&#1082;&#1077;&#1072;&#1085;" TargetMode="External"/><Relationship Id="rId5" Type="http://schemas.openxmlformats.org/officeDocument/2006/relationships/hyperlink" Target="http://ru.wikipedia.org/wiki/&#1048;&#1086;" TargetMode="External"/><Relationship Id="rId6" Type="http://schemas.openxmlformats.org/officeDocument/2006/relationships/hyperlink" Target="http://ru.wikipedia.org/wiki/&#1043;&#1077;&#1088;&#1084;&#1077;&#1089;" TargetMode="External"/><Relationship Id="rId7" Type="http://schemas.openxmlformats.org/officeDocument/2006/relationships/hyperlink" Target="http://ru.wikipedia.org/wiki/&#1058;&#1072;&#1088;&#1090;&#1072;&#1088;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rtclassic.edu.ru/attach.asp?a_no=1507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tecapleyades.net/imagenes_sociopol/icke49_2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схил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«Прометей прикованный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рок литературы 9 клас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http://ugabuga.ru/files/monsters/drev_mif/eshil1.png"/>
          <p:cNvPicPr/>
          <p:nvPr/>
        </p:nvPicPr>
        <p:blipFill>
          <a:blip r:embed="rId1"/>
          <a:stretch/>
        </p:blipFill>
        <p:spPr>
          <a:xfrm>
            <a:off x="6715080" y="357120"/>
            <a:ext cx="183996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точники информ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antique-lit.niv.ru/antique-lit/bilety4/bilet-10.ht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ru.wikipedia.org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wiki/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мете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икованны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_(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Эсхил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ugabuga.ru/files/monsters/drev_mif/eshil1.pn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via-midgard.info/uploads/posts/2011-08/1312275719_prometheus.jp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www.kmrz.ru/catimg/14/14124.jp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gorodinfo.org.ua/uploads/images/00/00/03/2011/01/18/688dc9.jp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помните миф  «Прометей»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то такой Прометей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ие качества должны вызвать восхищение у человека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в символический смысл образа Прометея для современного культурного человека? Как это закреплено в язык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5114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«Прометей прикованный»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трагед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древнегреческог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драматург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Эсхил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представленная в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44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6"/>
              </a:rPr>
              <a:t>44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годах до н. э. Известны переводы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 О. Нилендера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.К.Апта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 И. Пиотровског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2" descr="http://via-midgard.info/uploads/posts/2011-08/1312275719_prometheus.jpg"/>
          <p:cNvPicPr/>
          <p:nvPr/>
        </p:nvPicPr>
        <p:blipFill>
          <a:blip r:embed="rId7"/>
          <a:stretch/>
        </p:blipFill>
        <p:spPr>
          <a:xfrm>
            <a:off x="5500800" y="1428840"/>
            <a:ext cx="3171600" cy="4600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Краткий сюжет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42884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Промете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жестоко поплатился за похищение огня для людей. По велению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Зевса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он был прикован Гефестом (богом огня) к скале на краю света. Узника посещают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Океаниды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, их отец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Океан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, царевна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Ио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(возлюбленная Зевса), в своих скитаниях по свету случайно попавшая к скале. Прометей рассказывает им, что он сделал для людей, выкрав огонь у богов, и проклинает Зевс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Финал трагедии остается открытым. К Прометею является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6"/>
              </a:rPr>
              <a:t>Гермес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и угрожает узнику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7"/>
              </a:rPr>
              <a:t>Тартар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Финал трагедии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«Вот и впрямь вокруг задрожала земля, И молнии вьются, и громы гремят… О Небо, о мать святая, Земля, Посмотрите: страдаю безвинно!»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440064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ировоззрение Эсхила в основе своей было религиозно-мифологическим. Он верил, что существует извечный миропорядок, который подчиняется действию закона мировой справедливости. Человек, вольно или невольно нарушивший справедливый порядок, будет наказан богами, и тем самым равновесие восстановится. Идея неотвратимости возмездия и торжества справедливости проходит через все трагедии Эсхил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2" descr="http://www.kmrz.ru/catimg/14/14124.jpg"/>
          <p:cNvPicPr/>
          <p:nvPr/>
        </p:nvPicPr>
        <p:blipFill>
          <a:blip r:embed="rId1"/>
          <a:stretch/>
        </p:blipFill>
        <p:spPr>
          <a:xfrm>
            <a:off x="5286240" y="857160"/>
            <a:ext cx="3538800" cy="5348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gorodinfo.org.ua/uploads/images/00/00/03/2011/01/18/688dc9.jpg"/>
          <p:cNvPicPr/>
          <p:nvPr/>
        </p:nvPicPr>
        <p:blipFill>
          <a:blip r:embed="rId1"/>
          <a:stretch/>
        </p:blipFill>
        <p:spPr>
          <a:xfrm>
            <a:off x="857160" y="357120"/>
            <a:ext cx="7143840" cy="44877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785880" y="500076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схил убеждает зрителя в необходимости борьбы со всякой тиранией и деспотией. Эта борьба возможна благодаря только постоянному прогресс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24456"/>
                </a:solidFill>
                <a:latin typeface="Trebuchet MS"/>
              </a:rPr>
              <a:t>Якоб Йорданс  1593-1678</a:t>
            </a:r>
            <a:br>
              <a:rPr sz="1600"/>
            </a:br>
            <a:r>
              <a:rPr b="1" lang="en-US" sz="1600" spc="-1" strike="noStrike">
                <a:solidFill>
                  <a:srgbClr val="424456"/>
                </a:solidFill>
                <a:latin typeface="Trebuchet MS"/>
              </a:rPr>
              <a:t>Prometheus Bound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45003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повесть о борьбе против верховного божества Зевса (Зевс изображен деспотом, предателем, трусом и хитрецом)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изведение поражает краткостью и незначительным содержанием хоровых парти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Характеры монолитны и статичны как и в других произведениях Эсхил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героях никаких противоречий, они выступают каждый с одной чертой. Не характеры - общие схем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йствия нет: монологи и диало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Картинка 19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000080"/>
            <a:ext cx="35226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857480" y="5429160"/>
            <a:ext cx="37148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rebuchet MS"/>
              </a:rPr>
              <a:t>Автор неизвестен</a:t>
            </a:r>
            <a:br>
              <a:rPr sz="1800"/>
            </a:br>
            <a:r>
              <a:rPr b="1" lang="ru-RU" sz="1800" spc="-1" strike="noStrike">
                <a:solidFill>
                  <a:srgbClr val="424456"/>
                </a:solidFill>
                <a:latin typeface="Trebuchet MS"/>
              </a:rPr>
              <a:t>Прометей прикованный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Тональность:  восхвалительно-риторическая декламация в адрес единственного героя трагедии Прометея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е возвышает Прометея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витием действия является постепенное и неуклонное нагнетание трагизма личности Прометея и постепенное нарастание монументально-патетического стиля трагедии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Картинка 21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785880"/>
            <a:ext cx="384336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48574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Образ Промете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480" y="1285560"/>
            <a:ext cx="44290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Эсхил рисует образ борца, морального победителя в условиях физического страдания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Дух человека нельзя ничем побороть, никакими страданиями и угрозами, если он вооружен глубокой идейностью и железной воле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м Прометей – это сверхчеловечески мощный герой, молчаливо терпящий любую казнь и не боящийся никаких угроз и наказаний. Это непреклонная личность, вне всяких колебаний и противореч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http://www.softtutograf.com/files/Mif-o-Prometee.jpg"/>
          <p:cNvPicPr/>
          <p:nvPr/>
        </p:nvPicPr>
        <p:blipFill>
          <a:blip r:embed="rId1"/>
          <a:stretch/>
        </p:blipFill>
        <p:spPr>
          <a:xfrm>
            <a:off x="4844880" y="1857240"/>
            <a:ext cx="3997440" cy="3143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5:31:24Z</dcterms:created>
  <dc:creator>Admin</dc:creator>
  <dc:description/>
  <dc:language>en-US</dc:language>
  <cp:lastModifiedBy>Admin</cp:lastModifiedBy>
  <dcterms:modified xsi:type="dcterms:W3CDTF">2011-09-15T17:10:16Z</dcterms:modified>
  <cp:revision>10</cp:revision>
  <dc:subject/>
  <dc:title>Эсхил  «Прометей прикованный»</dc:title>
</cp:coreProperties>
</file>