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00C-3983-47BE-9D85-77B707E7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6C8B-1A03-46CA-BA51-40344C8C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F6A-DDF6-4DEC-99BC-C58C7DC0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73E-B502-4DA3-9A32-D9FB3544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E2D0-F57A-4D40-919C-327681B2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F09B-2E02-4A35-B01F-3CDDD58C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1025-CE6C-4521-BE38-8C70BF1C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5CA1-8DF1-4334-9688-435054AC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70A7-0074-49F4-8312-C851D2CF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78CD-E67B-495D-99F5-91FA03E5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F7BD-5162-4E7A-84E8-E667617B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8E2A-F364-4C97-BA35-21C1B2D8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7B52-E9AF-4798-8245-9ADC8E5D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CBA3-343A-412D-9FA6-4A722409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638F-4CB8-4DBC-A229-A7BE4BF5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04CB-D6C9-4F23-9BDA-29809D8C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0D12-746A-48F5-AF5B-BB1605A7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27F69-9F9A-43BB-A770-5654E133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C47CB-0F4A-46AD-A755-BDCFB412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9CA99-D563-41A5-9756-EA162C69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AE807-7019-4595-8546-9FCC69C4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B39EC-9E93-4A32-8685-17B9C47E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1D2-3C8C-4E2A-B48B-0549B3AB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08B57-4344-4F18-A090-DF7E528F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59B42-22C4-42C6-A0F7-6C531E3F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8E065-9061-4DEC-A375-A14E3238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FF12F-6BE5-45E3-91BC-2EE809A1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9F4309-4AD1-4FF6-A1F3-1DFBBB55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A2AC5-36B9-4E51-A04A-A6994362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10139-A27E-4D49-8A14-FAD1F747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BF643-037D-448F-9730-FF14458A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0736C-2FD0-40BE-92E2-6C9D1DC5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11CA2-B029-4EE4-A626-DFBD16B5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7846-A68A-4ECC-8075-ADDC2FC6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41838-86E7-4880-A550-0D31DC62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55C57-E0A5-44FE-A8FC-7054A242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0B3FB-E929-4194-BB16-78139003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F203B-3D05-4369-A907-01F5D633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233E8-18AD-45D9-80AE-BEF36E76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BF2FC-6247-4FC7-981C-5886D67C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1BDC4-BFD6-4D5C-9B45-B0A2CA09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E8D95-9D07-4AC0-AC9C-CB12CA7E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F6EED-EF12-4336-B551-4808FE78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0F58-333D-4D15-9502-F231CDE1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665-8DEE-4F49-8076-B40AD2A2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D47A-BFD3-4012-A225-A6FD583E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EB8-7515-41E0-A67B-40477B89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59C-5ABD-4E78-A1DD-4A86C850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6196-5A45-4781-A852-CECF0AA7C63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3F3F-8A9A-45A1-AFEB-25FED649123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991D-46C0-4685-97DE-C628471994A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999D-E629-4940-AA11-E6BCDFA0AF7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ntique-lit.niv.ru/antique-lit/bilety4/bilet-10.htm" TargetMode="External"/><Relationship Id="rId2" Type="http://schemas.openxmlformats.org/officeDocument/2006/relationships/hyperlink" Target="http://ru.wikipedia.org/" TargetMode="External"/><Relationship Id="rId3" Type="http://schemas.openxmlformats.org/officeDocument/2006/relationships/hyperlink" Target="http://ru.wikipedia.org/wiki/%CF%F0%EE%EC%E5%F2%E5%E9_%EF%F0%E8%EA%EE%E2%E0%ED%ED%FB%E9_(%DD%F1%F5%E8%EB)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2;&#1075;&#1077;&#1076;&#1080;&#1103;" TargetMode="External"/><Relationship Id="rId2" Type="http://schemas.openxmlformats.org/officeDocument/2006/relationships/hyperlink" Target="http://ru.wikipedia.org/wiki/&#1044;&#1088;&#1077;&#1074;&#1085;&#1103;&#1103;_&#1043;&#1088;&#1077;&#1094;&#1080;&#1103;" TargetMode="External"/><Relationship Id="rId3" Type="http://schemas.openxmlformats.org/officeDocument/2006/relationships/hyperlink" Target="http://ru.wikipedia.org/wiki/&#1044;&#1088;&#1072;&#1084;&#1072;&#1090;&#1091;&#1088;&#1075;" TargetMode="External"/><Relationship Id="rId4" Type="http://schemas.openxmlformats.org/officeDocument/2006/relationships/hyperlink" Target="http://ru.wikipedia.org/wiki/&#1069;&#1089;&#1093;&#1080;&#1083;" TargetMode="External"/><Relationship Id="rId5" Type="http://schemas.openxmlformats.org/officeDocument/2006/relationships/hyperlink" Target="http://ru.wikipedia.org/wiki/444_&#1075;&#1086;&#1076;_&#1076;&#1086;_&#1085;._&#1101;." TargetMode="External"/><Relationship Id="rId6" Type="http://schemas.openxmlformats.org/officeDocument/2006/relationships/hyperlink" Target="http://ru.wikipedia.org/wiki/443_&#1075;&#1086;&#1076;_&#1076;&#1086;_&#1085;._&#1101;." TargetMode="Externa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86;&#1084;&#1077;&#1090;&#1077;&#1081;" TargetMode="External"/><Relationship Id="rId2" Type="http://schemas.openxmlformats.org/officeDocument/2006/relationships/hyperlink" Target="http://ru.wikipedia.org/wiki/&#1047;&#1077;&#1074;&#1089;" TargetMode="External"/><Relationship Id="rId3" Type="http://schemas.openxmlformats.org/officeDocument/2006/relationships/hyperlink" Target="http://ru.wikipedia.org/wiki/&#1054;&#1082;&#1077;&#1072;&#1085;&#1080;&#1076;&#1099;" TargetMode="External"/><Relationship Id="rId4" Type="http://schemas.openxmlformats.org/officeDocument/2006/relationships/hyperlink" Target="http://ru.wikipedia.org/wiki/&#1054;&#1082;&#1077;&#1072;&#1085;" TargetMode="External"/><Relationship Id="rId5" Type="http://schemas.openxmlformats.org/officeDocument/2006/relationships/hyperlink" Target="http://ru.wikipedia.org/wiki/&#1048;&#1086;" TargetMode="External"/><Relationship Id="rId6" Type="http://schemas.openxmlformats.org/officeDocument/2006/relationships/hyperlink" Target="http://ru.wikipedia.org/wiki/&#1043;&#1077;&#1088;&#1084;&#1077;&#1089;" TargetMode="External"/><Relationship Id="rId7" Type="http://schemas.openxmlformats.org/officeDocument/2006/relationships/hyperlink" Target="http://ru.wikipedia.org/wiki/&#1058;&#1072;&#1088;&#1090;&#1072;&#1088;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rtclassic.edu.ru/attach.asp?a_no=1507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bliotecapleyades.net/imagenes_sociopol/icke49_25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Эсхил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 «Прометей прикованный»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рок литературы 9 класс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2" descr="http://ugabuga.ru/files/monsters/drev_mif/eshil1.png"/>
          <p:cNvPicPr/>
          <p:nvPr/>
        </p:nvPicPr>
        <p:blipFill>
          <a:blip r:embed="rId1"/>
          <a:stretch/>
        </p:blipFill>
        <p:spPr>
          <a:xfrm>
            <a:off x="6715080" y="357120"/>
            <a:ext cx="1839960" cy="2536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сточники информац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antique-lit.niv.ru/antique-lit/bilety4/bilet-10.htm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ru.wikipedia.org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›</a:t>
            </a: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wiki/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Прометей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_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прикованный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_(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Эсхил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ttp://ugabuga.ru/files/monsters/drev_mif/eshil1.png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ttp://via-midgard.info/uploads/posts/2011-08/1312275719_prometheus.jpg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ttp://www.kmrz.ru/catimg/14/14124.jpg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ttp://gorodinfo.org.ua/uploads/images/00/00/03/2011/01/18/688dc9.jpg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дание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помните миф  «Прометей»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то такой Прометей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ие качества должны вызвать восхищение у человека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ов символический смысл образа Прометея для современного культурного человека? Как это закреплено в языке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5114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«Прометей прикованный»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7168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трагед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древнегреческого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драматург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4"/>
              </a:rPr>
              <a:t>Эсхил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представленная в </a:t>
            </a: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5"/>
              </a:rPr>
              <a:t>443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6"/>
              </a:rPr>
              <a:t>443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годах до н. э. Известны переводы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. О. Нилендера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.К.Апта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. И. Пиотровског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2" descr="http://via-midgard.info/uploads/posts/2011-08/1312275719_prometheus.jpg"/>
          <p:cNvPicPr/>
          <p:nvPr/>
        </p:nvPicPr>
        <p:blipFill>
          <a:blip r:embed="rId7"/>
          <a:stretch/>
        </p:blipFill>
        <p:spPr>
          <a:xfrm>
            <a:off x="5500800" y="1428840"/>
            <a:ext cx="3171600" cy="4600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Краткий сюжет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428840"/>
            <a:ext cx="82868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Прометей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жестоко поплатился за похищение огня для людей. По велению </a:t>
            </a: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Зевса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он был прикован Гефестом (богом огня) к скале на краю света. Узника посещают </a:t>
            </a: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Океаниды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, их отец </a:t>
            </a: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  <a:hlinkClick r:id="rId4"/>
              </a:rPr>
              <a:t>Океан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, царевна </a:t>
            </a: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  <a:hlinkClick r:id="rId5"/>
              </a:rPr>
              <a:t>Ио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(возлюбленная Зевса), в своих скитаниях по свету случайно попавшая к скале. Прометей рассказывает им, что он сделал для людей, выкрав огонь у богов, и проклинает Зевс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Финал трагедии остается открытым. К Прометею является </a:t>
            </a: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  <a:hlinkClick r:id="rId6"/>
              </a:rPr>
              <a:t>Гермес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и угрожает узнику </a:t>
            </a:r>
            <a:r>
              <a:rPr b="0" lang="ru-RU" sz="2600" spc="-1" strike="noStrike" u="sng">
                <a:solidFill>
                  <a:srgbClr val="67afbd"/>
                </a:solidFill>
                <a:uFillTx/>
                <a:latin typeface="Georgia"/>
                <a:hlinkClick r:id="rId7"/>
              </a:rPr>
              <a:t>Тартаром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Финал трагедии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«Вот и впрямь вокруг задрожала земля, И молнии вьются, и громы гремят… О Небо, о мать святая, Земля, Посмотрите: страдаю безвинно!»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440064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ировоззрение Эсхила в основе своей было религиозно-мифологическим. Он верил, что существует извечный миропорядок, который подчиняется действию закона мировой справедливости. Человек, вольно или невольно нарушивший справедливый порядок, будет наказан богами, и тем самым равновесие восстановится. Идея неотвратимости возмездия и торжества справедливости проходит через все трагедии Эсхила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2" descr="http://www.kmrz.ru/catimg/14/14124.jpg"/>
          <p:cNvPicPr/>
          <p:nvPr/>
        </p:nvPicPr>
        <p:blipFill>
          <a:blip r:embed="rId1"/>
          <a:stretch/>
        </p:blipFill>
        <p:spPr>
          <a:xfrm>
            <a:off x="5286240" y="857160"/>
            <a:ext cx="3538800" cy="5348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ttp://gorodinfo.org.ua/uploads/images/00/00/03/2011/01/18/688dc9.jpg"/>
          <p:cNvPicPr/>
          <p:nvPr/>
        </p:nvPicPr>
        <p:blipFill>
          <a:blip r:embed="rId1"/>
          <a:stretch/>
        </p:blipFill>
        <p:spPr>
          <a:xfrm>
            <a:off x="857160" y="357120"/>
            <a:ext cx="7143840" cy="448776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5"/>
          <p:cNvSpPr/>
          <p:nvPr/>
        </p:nvSpPr>
        <p:spPr>
          <a:xfrm>
            <a:off x="785880" y="5000760"/>
            <a:ext cx="77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схил убеждает зрителя в необходимости борьбы со всякой тиранией и деспотией. Эта борьба возможна благодаря только постоянному прогрессу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52840" y="1101240"/>
            <a:ext cx="33829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24456"/>
                </a:solidFill>
                <a:latin typeface="Trebuchet MS"/>
              </a:rPr>
              <a:t>Якоб Йорданс  1593-1678</a:t>
            </a:r>
            <a:br>
              <a:rPr sz="1600"/>
            </a:br>
            <a:r>
              <a:rPr b="1" lang="en-US" sz="1600" spc="-1" strike="noStrike">
                <a:solidFill>
                  <a:srgbClr val="424456"/>
                </a:solidFill>
                <a:latin typeface="Trebuchet MS"/>
              </a:rPr>
              <a:t>Prometheus Bound</a:t>
            </a:r>
            <a:br>
              <a:rPr sz="1600"/>
            </a:b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450036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5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то повесть о борьбе против верховного божества Зевса (Зевс изображен деспотом, предателем, трусом и хитрецом).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5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оизведение поражает краткостью и незначительным содержанием хоровых партий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5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Характеры монолитны и статичны как и в других произведениях Эсхил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5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героях никаких противоречий, они выступают каждый с одной чертой. Не характеры - общие схемы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56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ействия нет: монологи и диалог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7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Картинка 19 из 1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4960" y="1000080"/>
            <a:ext cx="352260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857480" y="5429160"/>
            <a:ext cx="37148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456"/>
                </a:solidFill>
                <a:latin typeface="Trebuchet MS"/>
              </a:rPr>
              <a:t>Автор неизвестен</a:t>
            </a:r>
            <a:br>
              <a:rPr sz="1800"/>
            </a:br>
            <a:r>
              <a:rPr b="1" lang="ru-RU" sz="1800" spc="-1" strike="noStrike">
                <a:solidFill>
                  <a:srgbClr val="424456"/>
                </a:solidFill>
                <a:latin typeface="Trebuchet MS"/>
              </a:rPr>
              <a:t>Прометей прикованный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147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Тональность:  восхвалительно-риторическая декламация в адрес единственного героя трагедии Прометея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79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79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се возвышает Прометея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792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79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звитием действия является постепенное и неуклонное нагнетание трагизма личности Прометея и постепенное нарастание монументально-патетического стиля трагедии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7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2" descr="Картинка 21 из 1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785880"/>
            <a:ext cx="3843360" cy="471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48574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Образ Прометея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85480" y="1285560"/>
            <a:ext cx="44290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Эсхил рисует образ борца, морального победителя в условиях физического страдания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Дух человека нельзя ничем побороть, никакими страданиями и угрозами, если он вооружен глубокой идейностью и железной волей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Сам Прометей – это сверхчеловечески мощный герой, молчаливо терпящий любую казнь и не боящийся никаких угроз и наказаний. Это непреклонная личность, вне всяких колебаний и противоречий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6" name="Picture 2" descr="http://www.softtutograf.com/files/Mif-o-Prometee.jpg"/>
          <p:cNvPicPr/>
          <p:nvPr/>
        </p:nvPicPr>
        <p:blipFill>
          <a:blip r:embed="rId1"/>
          <a:stretch/>
        </p:blipFill>
        <p:spPr>
          <a:xfrm>
            <a:off x="4844880" y="1857240"/>
            <a:ext cx="3997440" cy="3143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5:31:24Z</dcterms:created>
  <dc:creator>Admin</dc:creator>
  <dc:description/>
  <dc:language>en-US</dc:language>
  <cp:lastModifiedBy>Admin</cp:lastModifiedBy>
  <dcterms:modified xsi:type="dcterms:W3CDTF">2011-09-15T17:10:16Z</dcterms:modified>
  <cp:revision>10</cp:revision>
  <dc:subject/>
  <dc:title>Эсхил  «Прометей прикованный»</dc:title>
</cp:coreProperties>
</file>