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9100-7B60-42A6-8E56-3EDBE1C4F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7B2F-0F29-4293-940D-AF0E4F5C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02EA-4B6A-43D2-BE68-0669117CB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0481-BF0B-4BE5-8638-3FCAAD5EB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BDBD3-3565-48E1-99B5-1A560D315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B2687-95EF-465B-A0B7-8C10DEE5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73EE-9B55-4370-8E81-F037060F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F62E-B43B-4D95-BA78-6EA98885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1A49-C4DB-4F87-8777-33065FA2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08A7-655A-4D9C-B9C9-73FD6C90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AF30-4A8E-412B-A5E5-90AF465A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505E-BAA9-4385-B370-FFE3FE3D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AD4CA-AF2A-4861-AC6F-564665FC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6CC89-86DE-40F8-B34D-FDC6E3E3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E402-1310-4330-B957-7FDAF3AA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4ABD-034B-4591-B089-1DB8DF666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0B72-FECE-41D8-9946-EAD771B13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F438BB-B966-46BF-92E2-8240B6281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CC656D-9E16-47DE-BE93-98097676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8D78BC-0D50-4096-AD7D-B1CADBDC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2AD749-5B30-49B9-B02F-E7043CA6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ABD2B2-C075-4505-9397-26189002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B20D-554A-4635-A870-421027FE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4741BF-6312-49B7-877F-B4A06429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8271C6-7FDB-48C4-9ADC-6FE566EE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3257C0-933D-4D28-B5FD-E760F6E2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5DB088-D977-4EE8-9DBE-5D53C2D8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044B51-59D5-42E6-8C64-B41950CE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F5F65F-FA9C-4F72-8876-414F4F4FF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B876B2-F27C-4D97-8E9B-53BC418CC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745F3-69E7-4C3C-AC52-4D1FA912A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9E3D7-6A38-41FA-8983-516FCA9D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D26EE-44BA-428E-A810-63B56651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D489-A2D0-4F7A-91A7-93EF73B5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F7179-63ED-4FBE-A55E-42103F1F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9491E-EDF7-4741-8EDC-620A6DEF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12809-9FDE-4E2B-A0D3-3B3257BE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84D14-E2E6-4BCD-BA86-B259BC76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F7C9F-9637-44CA-9EA9-99A83339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8819F-3A4C-4102-A5A7-D5EDFC90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75870-11D5-42BE-A6D1-3579CD7E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1CDB8-C8D0-48CE-8BD0-67EB5E6F1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19824-776F-4589-ADAD-EFF6C7E4C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A695-3329-4F72-A99C-8492CCFB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062C-B7F0-428E-80CA-0E247228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4FBB-165A-46F2-966E-93D2D282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EC94-B083-434B-B44A-6E233B66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75C6-0CC2-44CA-836B-1C44CA48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74AC-2DD1-4961-848B-48EF38A09997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620E-D0F7-484C-BB03-EE2EBF374A5F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CC92-6105-47C2-97AF-2664DBC2D42A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33AB-4850-4342-9186-746D5B43643B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antique-lit.niv.ru/antique-lit/bilety4/bilet-10.htm" TargetMode="External"/><Relationship Id="rId2" Type="http://schemas.openxmlformats.org/officeDocument/2006/relationships/hyperlink" Target="http://ru.wikipedia.org/" TargetMode="External"/><Relationship Id="rId3" Type="http://schemas.openxmlformats.org/officeDocument/2006/relationships/hyperlink" Target="http://ru.wikipedia.org/wiki/%CF%F0%EE%EC%E5%F2%E5%E9_%EF%F0%E8%EA%EE%E2%E0%ED%ED%FB%E9_(%DD%F1%F5%E8%EB)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88;&#1072;&#1075;&#1077;&#1076;&#1080;&#1103;" TargetMode="External"/><Relationship Id="rId2" Type="http://schemas.openxmlformats.org/officeDocument/2006/relationships/hyperlink" Target="http://ru.wikipedia.org/wiki/&#1044;&#1088;&#1077;&#1074;&#1085;&#1103;&#1103;_&#1043;&#1088;&#1077;&#1094;&#1080;&#1103;" TargetMode="External"/><Relationship Id="rId3" Type="http://schemas.openxmlformats.org/officeDocument/2006/relationships/hyperlink" Target="http://ru.wikipedia.org/wiki/&#1044;&#1088;&#1072;&#1084;&#1072;&#1090;&#1091;&#1088;&#1075;" TargetMode="External"/><Relationship Id="rId4" Type="http://schemas.openxmlformats.org/officeDocument/2006/relationships/hyperlink" Target="http://ru.wikipedia.org/wiki/&#1069;&#1089;&#1093;&#1080;&#1083;" TargetMode="External"/><Relationship Id="rId5" Type="http://schemas.openxmlformats.org/officeDocument/2006/relationships/hyperlink" Target="http://ru.wikipedia.org/wiki/444_&#1075;&#1086;&#1076;_&#1076;&#1086;_&#1085;._&#1101;." TargetMode="External"/><Relationship Id="rId6" Type="http://schemas.openxmlformats.org/officeDocument/2006/relationships/hyperlink" Target="http://ru.wikipedia.org/wiki/443_&#1075;&#1086;&#1076;_&#1076;&#1086;_&#1085;._&#1101;." TargetMode="External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8;&#1086;&#1084;&#1077;&#1090;&#1077;&#1081;" TargetMode="External"/><Relationship Id="rId2" Type="http://schemas.openxmlformats.org/officeDocument/2006/relationships/hyperlink" Target="http://ru.wikipedia.org/wiki/&#1047;&#1077;&#1074;&#1089;" TargetMode="External"/><Relationship Id="rId3" Type="http://schemas.openxmlformats.org/officeDocument/2006/relationships/hyperlink" Target="http://ru.wikipedia.org/wiki/&#1054;&#1082;&#1077;&#1072;&#1085;&#1080;&#1076;&#1099;" TargetMode="External"/><Relationship Id="rId4" Type="http://schemas.openxmlformats.org/officeDocument/2006/relationships/hyperlink" Target="http://ru.wikipedia.org/wiki/&#1054;&#1082;&#1077;&#1072;&#1085;" TargetMode="External"/><Relationship Id="rId5" Type="http://schemas.openxmlformats.org/officeDocument/2006/relationships/hyperlink" Target="http://ru.wikipedia.org/wiki/&#1048;&#1086;" TargetMode="External"/><Relationship Id="rId6" Type="http://schemas.openxmlformats.org/officeDocument/2006/relationships/hyperlink" Target="http://ru.wikipedia.org/wiki/&#1043;&#1077;&#1088;&#1084;&#1077;&#1089;" TargetMode="External"/><Relationship Id="rId7" Type="http://schemas.openxmlformats.org/officeDocument/2006/relationships/hyperlink" Target="http://ru.wikipedia.org/wiki/&#1058;&#1072;&#1088;&#1090;&#1072;&#1088;" TargetMode="Externa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artclassic.edu.ru/attach.asp?a_no=1507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ibliotecapleyades.net/imagenes_sociopol/icke49_25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Эсхил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 «Прометей прикованный»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Урок литературы 9 класс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Picture 2" descr="http://ugabuga.ru/files/monsters/drev_mif/eshil1.png"/>
          <p:cNvPicPr/>
          <p:nvPr/>
        </p:nvPicPr>
        <p:blipFill>
          <a:blip r:embed="rId1"/>
          <a:stretch/>
        </p:blipFill>
        <p:spPr>
          <a:xfrm>
            <a:off x="6715080" y="357120"/>
            <a:ext cx="1839960" cy="2536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Источники информаци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http://antique-lit.niv.ru/antique-lit/bilety4/bilet-10.htm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67afbd"/>
                </a:solidFill>
                <a:uFillTx/>
                <a:latin typeface="Georgia"/>
                <a:hlinkClick r:id="rId2"/>
              </a:rPr>
              <a:t>ru.wikipedia.org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›</a:t>
            </a:r>
            <a:r>
              <a:rPr b="0" lang="en-US" sz="2600" spc="-1" strike="noStrike" u="sng">
                <a:solidFill>
                  <a:srgbClr val="67afbd"/>
                </a:solidFill>
                <a:uFillTx/>
                <a:latin typeface="Georgia"/>
                <a:hlinkClick r:id="rId3"/>
              </a:rPr>
              <a:t>wiki/</a:t>
            </a: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Прометей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_</a:t>
            </a: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прикованный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_(</a:t>
            </a: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Эсхил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http://ugabuga.ru/files/monsters/drev_mif/eshil1.png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http://via-midgard.info/uploads/posts/2011-08/1312275719_prometheus.jpg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http://www.kmrz.ru/catimg/14/14124.jpg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http://gorodinfo.org.ua/uploads/images/00/00/03/2011/01/18/688dc9.jpg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Задание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спомните миф  «Прометей» 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то такой Прометей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акие качества должны вызвать восхищение у человека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аков символический смысл образа Прометея для современного культурного человека? Как это закреплено в языке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5114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Trebuchet MS"/>
              </a:rPr>
              <a:t>«Прометей прикованный»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71680" y="15717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трагедия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 u="sng">
                <a:solidFill>
                  <a:srgbClr val="67afbd"/>
                </a:solidFill>
                <a:uFillTx/>
                <a:latin typeface="Georgia"/>
                <a:hlinkClick r:id="rId2"/>
              </a:rPr>
              <a:t>древнегреческого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 u="sng">
                <a:solidFill>
                  <a:srgbClr val="67afbd"/>
                </a:solidFill>
                <a:uFillTx/>
                <a:latin typeface="Georgia"/>
                <a:hlinkClick r:id="rId3"/>
              </a:rPr>
              <a:t>драматурга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400" spc="-1" strike="noStrike" u="sng">
                <a:solidFill>
                  <a:srgbClr val="67afbd"/>
                </a:solidFill>
                <a:uFillTx/>
                <a:latin typeface="Georgia"/>
                <a:hlinkClick r:id="rId4"/>
              </a:rPr>
              <a:t>Эсхила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, представленная в </a:t>
            </a:r>
            <a:r>
              <a:rPr b="0" lang="ru-RU" sz="2400" spc="-1" strike="noStrike" u="sng">
                <a:solidFill>
                  <a:srgbClr val="67afbd"/>
                </a:solidFill>
                <a:uFillTx/>
                <a:latin typeface="Georgia"/>
                <a:hlinkClick r:id="rId5"/>
              </a:rPr>
              <a:t>443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ru-RU" sz="2400" spc="-1" strike="noStrike" u="sng">
                <a:solidFill>
                  <a:srgbClr val="67afbd"/>
                </a:solidFill>
                <a:uFillTx/>
                <a:latin typeface="Georgia"/>
                <a:hlinkClick r:id="rId6"/>
              </a:rPr>
              <a:t>443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годах до н. э. Известны переводы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. О. Нилендера,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.К.Апта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А. И. Пиотровского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1" name="Picture 2" descr="http://via-midgard.info/uploads/posts/2011-08/1312275719_prometheus.jpg"/>
          <p:cNvPicPr/>
          <p:nvPr/>
        </p:nvPicPr>
        <p:blipFill>
          <a:blip r:embed="rId7"/>
          <a:stretch/>
        </p:blipFill>
        <p:spPr>
          <a:xfrm>
            <a:off x="5500800" y="1428840"/>
            <a:ext cx="3171600" cy="46004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Trebuchet MS"/>
              </a:rPr>
              <a:t>Краткий сюжет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6760" y="1428840"/>
            <a:ext cx="82868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300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Прометей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жестоко поплатился за похищение огня для людей. По велению </a:t>
            </a:r>
            <a:r>
              <a:rPr b="0" lang="ru-RU" sz="2600" spc="-1" strike="noStrike" u="sng">
                <a:solidFill>
                  <a:srgbClr val="67afbd"/>
                </a:solidFill>
                <a:uFillTx/>
                <a:latin typeface="Georgia"/>
                <a:hlinkClick r:id="rId2"/>
              </a:rPr>
              <a:t>Зевса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он был прикован Гефестом (богом огня) к скале на краю света. Узника посещают </a:t>
            </a:r>
            <a:r>
              <a:rPr b="0" lang="ru-RU" sz="2600" spc="-1" strike="noStrike" u="sng">
                <a:solidFill>
                  <a:srgbClr val="67afbd"/>
                </a:solidFill>
                <a:uFillTx/>
                <a:latin typeface="Georgia"/>
                <a:hlinkClick r:id="rId3"/>
              </a:rPr>
              <a:t>Океаниды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, их отец </a:t>
            </a:r>
            <a:r>
              <a:rPr b="0" lang="ru-RU" sz="2600" spc="-1" strike="noStrike" u="sng">
                <a:solidFill>
                  <a:srgbClr val="67afbd"/>
                </a:solidFill>
                <a:uFillTx/>
                <a:latin typeface="Georgia"/>
                <a:hlinkClick r:id="rId4"/>
              </a:rPr>
              <a:t>Океан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, царевна </a:t>
            </a:r>
            <a:r>
              <a:rPr b="0" lang="ru-RU" sz="2600" spc="-1" strike="noStrike" u="sng">
                <a:solidFill>
                  <a:srgbClr val="67afbd"/>
                </a:solidFill>
                <a:uFillTx/>
                <a:latin typeface="Georgia"/>
                <a:hlinkClick r:id="rId5"/>
              </a:rPr>
              <a:t>Ио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(возлюбленная Зевса), в своих скитаниях по свету случайно попавшая к скале. Прометей рассказывает им, что он сделал для людей, выкрав огонь у богов, и проклинает Зевса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Финал трагедии остается открытым. К Прометею является </a:t>
            </a:r>
            <a:r>
              <a:rPr b="0" lang="ru-RU" sz="2600" spc="-1" strike="noStrike" u="sng">
                <a:solidFill>
                  <a:srgbClr val="67afbd"/>
                </a:solidFill>
                <a:uFillTx/>
                <a:latin typeface="Georgia"/>
                <a:hlinkClick r:id="rId6"/>
              </a:rPr>
              <a:t>Гермес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и угрожает узнику </a:t>
            </a:r>
            <a:r>
              <a:rPr b="0" lang="ru-RU" sz="2600" spc="-1" strike="noStrike" u="sng">
                <a:solidFill>
                  <a:srgbClr val="67afbd"/>
                </a:solidFill>
                <a:uFillTx/>
                <a:latin typeface="Georgia"/>
                <a:hlinkClick r:id="rId7"/>
              </a:rPr>
              <a:t>Тартаром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Финал трагедии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«Вот и впрямь вокруг задрожала земля, И молнии вьются, и громы гремят… О Небо, о мать святая, Земля, Посмотрите: страдаю безвинно!»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7200" y="642600"/>
            <a:ext cx="440064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9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ировоззрение Эсхила в основе своей было религиозно-мифологическим. Он верил, что существует извечный миропорядок, который подчиняется действию закона мировой справедливости. Человек, вольно или невольно нарушивший справедливый порядок, будет наказан богами, и тем самым равновесие восстановится. Идея неотвратимости возмездия и торжества справедливости проходит через все трагедии Эсхила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5" name="Picture 2" descr="http://www.kmrz.ru/catimg/14/14124.jpg"/>
          <p:cNvPicPr/>
          <p:nvPr/>
        </p:nvPicPr>
        <p:blipFill>
          <a:blip r:embed="rId1"/>
          <a:stretch/>
        </p:blipFill>
        <p:spPr>
          <a:xfrm>
            <a:off x="5286240" y="857160"/>
            <a:ext cx="3538800" cy="53485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http://gorodinfo.org.ua/uploads/images/00/00/03/2011/01/18/688dc9.jpg"/>
          <p:cNvPicPr/>
          <p:nvPr/>
        </p:nvPicPr>
        <p:blipFill>
          <a:blip r:embed="rId1"/>
          <a:stretch/>
        </p:blipFill>
        <p:spPr>
          <a:xfrm>
            <a:off x="857160" y="357120"/>
            <a:ext cx="7143840" cy="448776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5"/>
          <p:cNvSpPr/>
          <p:nvPr/>
        </p:nvSpPr>
        <p:spPr>
          <a:xfrm>
            <a:off x="785880" y="5000760"/>
            <a:ext cx="77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схил убеждает зрителя в необходимости борьбы со всякой тиранией и деспотией. Эта борьба возможна благодаря только постоянному прогрессу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52840" y="1101240"/>
            <a:ext cx="338292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24456"/>
                </a:solidFill>
                <a:latin typeface="Trebuchet MS"/>
              </a:rPr>
              <a:t>Якоб Йорданс  1593-1678</a:t>
            </a:r>
            <a:br>
              <a:rPr sz="1600"/>
            </a:br>
            <a:r>
              <a:rPr b="1" lang="en-US" sz="1600" spc="-1" strike="noStrike">
                <a:solidFill>
                  <a:srgbClr val="424456"/>
                </a:solidFill>
                <a:latin typeface="Trebuchet MS"/>
              </a:rPr>
              <a:t>Prometheus Bound</a:t>
            </a:r>
            <a:br>
              <a:rPr sz="1600"/>
            </a:br>
            <a:endParaRPr b="0" lang="en-US" sz="1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85480" y="1356840"/>
            <a:ext cx="450036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756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Это повесть о борьбе против верховного божества Зевса (Зевс изображен деспотом, предателем, трусом и хитрецом).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756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оизведение поражает краткостью и незначительным содержанием хоровых партий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756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Характеры монолитны и статичны как и в других произведениях Эсхил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756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героях никаких противоречий, они выступают каждый с одной чертой. Не характеры - общие схемы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756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Действия нет: монологи и диалог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75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0" name="Picture 2" descr="Картинка 19 из 1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4960" y="1000080"/>
            <a:ext cx="3522600" cy="48578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857480" y="5429160"/>
            <a:ext cx="37148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24456"/>
                </a:solidFill>
                <a:latin typeface="Trebuchet MS"/>
              </a:rPr>
              <a:t>Автор неизвестен</a:t>
            </a:r>
            <a:br>
              <a:rPr sz="1800"/>
            </a:br>
            <a:r>
              <a:rPr b="1" lang="ru-RU" sz="1800" spc="-1" strike="noStrike">
                <a:solidFill>
                  <a:srgbClr val="424456"/>
                </a:solidFill>
                <a:latin typeface="Trebuchet MS"/>
              </a:rPr>
              <a:t>Прометей прикованный</a:t>
            </a: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6147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92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Тональность:  восхвалительно-риторическая декламация в адрес единственного героя трагедии Прометея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792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792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се возвышает Прометея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792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792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Развитием действия является постепенное и неуклонное нагнетание трагизма личности Прометея и постепенное нарастание монументально-патетического стиля трагедии.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7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3" name="Picture 2" descr="Картинка 21 из 1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6200" y="785880"/>
            <a:ext cx="3843360" cy="4714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28400" y="499680"/>
            <a:ext cx="48574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Trebuchet MS"/>
              </a:rPr>
              <a:t>Образ Прометея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85480" y="1285560"/>
            <a:ext cx="442908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Эсхил рисует образ борца, морального победителя в условиях физического страдания.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Дух человека нельзя ничем побороть, никакими страданиями и угрозами, если он вооружен глубокой идейностью и железной волей.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Сам Прометей – это сверхчеловечески мощный герой, молчаливо терпящий любую казнь и не боящийся никаких угроз и наказаний. Это непреклонная личность, вне всяких колебаний и противоречий.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6" name="Picture 2" descr="http://www.softtutograf.com/files/Mif-o-Prometee.jpg"/>
          <p:cNvPicPr/>
          <p:nvPr/>
        </p:nvPicPr>
        <p:blipFill>
          <a:blip r:embed="rId1"/>
          <a:stretch/>
        </p:blipFill>
        <p:spPr>
          <a:xfrm>
            <a:off x="4844880" y="1857240"/>
            <a:ext cx="3997440" cy="31435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15:31:24Z</dcterms:created>
  <dc:creator>Admin</dc:creator>
  <dc:description/>
  <dc:language>en-US</dc:language>
  <cp:lastModifiedBy>Admin</cp:lastModifiedBy>
  <dcterms:modified xsi:type="dcterms:W3CDTF">2011-09-15T17:10:16Z</dcterms:modified>
  <cp:revision>10</cp:revision>
  <dc:subject/>
  <dc:title>Эсхил  «Прометей прикованный»</dc:title>
</cp:coreProperties>
</file>