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9358-D771-4DCE-A9F9-DF8620BA8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01BB-7F34-4048-98FD-406C4DF1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0416-AFAC-48C8-A922-B58BBA4C5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3062-65BE-4DDA-AA83-0360886D9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C9AF3-899E-4DDA-9150-E784087F4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9EE2A0-2C50-4E97-88CC-664AA0A3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9E0DE-A4BE-4493-AA1A-335EDE78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0AC75-1900-4E22-8568-57C1BD08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1C509A-80B8-4C8A-AE01-F894BC8F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A56F8-04B1-44F1-8500-EE29CF65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B11B0-9CD9-4E22-B40C-7B07FF18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32CE-9B1E-48A1-9652-F193A6AB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6DF838-7E01-46A8-B35C-239048C5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9038E6-14AF-4D37-9893-FE8D1437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F4C83-A06D-421D-9BF6-E6F1C3EB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05BF5-115A-4AD8-BF6F-672A89CDB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2B4CB0-0E85-4283-A950-A8FF9AC3B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5991-0FC8-461C-B2FF-F7E889440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08A3-E3C4-46B7-ACE2-BB273D2E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9038-FD84-4F0F-88BB-D7819B7F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F0AF-86B7-4A4B-8004-B9AAD2C7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EA48-1C70-4200-B455-7D7DD7EB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B078-0C99-4802-A6A0-06593F42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F32B-677F-41FF-91B2-46590FA4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E268-834B-483E-8BBF-064B8D9218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3803-AB16-4A26-9BBB-9F8A26E836C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Исследовательская  тема: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«СИСТЕМА СЧИСЛЕНИЯ. ПРОИСХОЖДЕНИЕ ЧИСЛА НОЛЬ»  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Десятичная система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0" name="Picture 7" descr="img1"/>
          <p:cNvPicPr/>
          <p:nvPr/>
        </p:nvPicPr>
        <p:blipFill>
          <a:blip r:embed="rId1"/>
          <a:stretch/>
        </p:blipFill>
        <p:spPr>
          <a:xfrm>
            <a:off x="4038480" y="1752480"/>
            <a:ext cx="1295640" cy="1219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P4131303"/>
          <p:cNvPicPr/>
          <p:nvPr/>
        </p:nvPicPr>
        <p:blipFill>
          <a:blip r:embed="rId2"/>
          <a:stretch/>
        </p:blipFill>
        <p:spPr>
          <a:xfrm>
            <a:off x="6019920" y="1219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сять символов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ть но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15" descr="P4131340"/>
          <p:cNvPicPr/>
          <p:nvPr/>
        </p:nvPicPr>
        <p:blipFill>
          <a:blip r:embed="rId3"/>
          <a:stretch/>
        </p:blipFill>
        <p:spPr>
          <a:xfrm>
            <a:off x="152280" y="2666880"/>
            <a:ext cx="2971800" cy="23623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9" descr="P4131327"/>
          <p:cNvPicPr/>
          <p:nvPr/>
        </p:nvPicPr>
        <p:blipFill>
          <a:blip r:embed="rId4"/>
          <a:stretch/>
        </p:blipFill>
        <p:spPr>
          <a:xfrm>
            <a:off x="3276720" y="3505320"/>
            <a:ext cx="28954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ИНДУС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БЕЛ –ТОЧКА – КРУЖОК – НО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7" descr="P4141389"/>
          <p:cNvPicPr/>
          <p:nvPr/>
        </p:nvPicPr>
        <p:blipFill>
          <a:blip r:embed="rId1"/>
          <a:stretch/>
        </p:blipFill>
        <p:spPr>
          <a:xfrm>
            <a:off x="762120" y="2514600"/>
            <a:ext cx="7086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ерспектив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были придуманы отрицательные числ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5" descr="P4141354"/>
          <p:cNvPicPr/>
          <p:nvPr/>
        </p:nvPicPr>
        <p:blipFill>
          <a:blip r:embed="rId1"/>
          <a:stretch/>
        </p:blipFill>
        <p:spPr>
          <a:xfrm>
            <a:off x="685800" y="2743200"/>
            <a:ext cx="7238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тлас по математике. М., 200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тская энциклопедия. Том 3 «Древние Египет и Греция». М., 199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тская энциклопедия. Том 5 «Древние цивилизации». М., 199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нциклопедия для детей. Том 9 «Математика». М., 199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6" descr="P4141371"/>
          <p:cNvPicPr/>
          <p:nvPr/>
        </p:nvPicPr>
        <p:blipFill>
          <a:blip r:embed="rId1"/>
          <a:stretch/>
        </p:blipFill>
        <p:spPr>
          <a:xfrm>
            <a:off x="4876920" y="1447920"/>
            <a:ext cx="33051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2286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ЦЕЛЬ ИССЛЕДОВАН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следование причин отсутствия числ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ль в системах счисления древни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ивилизац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ЗАДАЧИ ИССЛЕДОВАН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знать ,какие были системы счисл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яснить ,какие системы счисления использует современный человек.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ледовать происхождение числа ноль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МОИ ГИПОТЕЗ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положим, ноль необходим был тогда, когда нужно было сказать «НЕТ».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зможно,  ноль преобразовался из точки.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, если ноль – это случайная клякса на древнем папирусе.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пустим, ноль перепутали со знаком умножения.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ИСТЕМЫ  СЧИСЛЕН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0" name="Picture 10" descr="P4151411"/>
          <p:cNvPicPr/>
          <p:nvPr/>
        </p:nvPicPr>
        <p:blipFill>
          <a:blip r:embed="rId1"/>
          <a:stretch/>
        </p:blipFill>
        <p:spPr>
          <a:xfrm>
            <a:off x="533520" y="1295280"/>
            <a:ext cx="7619760" cy="46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Римские цифр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2" name="Picture 25" descr="P4131296"/>
          <p:cNvPicPr/>
          <p:nvPr/>
        </p:nvPicPr>
        <p:blipFill>
          <a:blip r:embed="rId1"/>
          <a:stretch/>
        </p:blipFill>
        <p:spPr>
          <a:xfrm>
            <a:off x="5715000" y="1219320"/>
            <a:ext cx="2971800" cy="2590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3" descr="P4131293"/>
          <p:cNvPicPr/>
          <p:nvPr/>
        </p:nvPicPr>
        <p:blipFill>
          <a:blip r:embed="rId2"/>
          <a:stretch/>
        </p:blipFill>
        <p:spPr>
          <a:xfrm>
            <a:off x="2895480" y="2133720"/>
            <a:ext cx="3200400" cy="2324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1" descr="P4131288"/>
          <p:cNvPicPr/>
          <p:nvPr/>
        </p:nvPicPr>
        <p:blipFill>
          <a:blip r:embed="rId3"/>
          <a:stretch/>
        </p:blipFill>
        <p:spPr>
          <a:xfrm>
            <a:off x="228600" y="3352680"/>
            <a:ext cx="3124080" cy="24004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5334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мь букв для написания всех циф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33" descr="P4131305"/>
          <p:cNvPicPr/>
          <p:nvPr/>
        </p:nvPicPr>
        <p:blipFill>
          <a:blip r:embed="rId4"/>
          <a:stretch/>
        </p:blipFill>
        <p:spPr>
          <a:xfrm>
            <a:off x="5410080" y="4114800"/>
            <a:ext cx="3276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Двоичная систем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ва знака – 1 и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5" descr="P4131309"/>
          <p:cNvPicPr/>
          <p:nvPr/>
        </p:nvPicPr>
        <p:blipFill>
          <a:blip r:embed="rId1"/>
          <a:stretch/>
        </p:blipFill>
        <p:spPr>
          <a:xfrm>
            <a:off x="4572000" y="1295280"/>
            <a:ext cx="3695760" cy="3276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P4131307"/>
          <p:cNvPicPr/>
          <p:nvPr/>
        </p:nvPicPr>
        <p:blipFill>
          <a:blip r:embed="rId2"/>
          <a:stretch/>
        </p:blipFill>
        <p:spPr>
          <a:xfrm>
            <a:off x="380880" y="2286000"/>
            <a:ext cx="35816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Шестидесятеричная систем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с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инута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раду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20" descr="P4131323"/>
          <p:cNvPicPr/>
          <p:nvPr/>
        </p:nvPicPr>
        <p:blipFill>
          <a:blip r:embed="rId1"/>
          <a:stretch/>
        </p:blipFill>
        <p:spPr>
          <a:xfrm rot="1824600">
            <a:off x="4198680" y="1698120"/>
            <a:ext cx="3657600" cy="3264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3" descr="P4131342"/>
          <p:cNvPicPr/>
          <p:nvPr/>
        </p:nvPicPr>
        <p:blipFill>
          <a:blip r:embed="rId2"/>
          <a:stretch/>
        </p:blipFill>
        <p:spPr>
          <a:xfrm>
            <a:off x="228600" y="3429000"/>
            <a:ext cx="33526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истема «КИПУ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зелки на шнурке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ль не обнаруж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16" descr="P4131316"/>
          <p:cNvPicPr/>
          <p:nvPr/>
        </p:nvPicPr>
        <p:blipFill>
          <a:blip r:embed="rId1"/>
          <a:stretch/>
        </p:blipFill>
        <p:spPr>
          <a:xfrm>
            <a:off x="5029200" y="1219320"/>
            <a:ext cx="3124080" cy="4267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2" descr="P4131312"/>
          <p:cNvPicPr/>
          <p:nvPr/>
        </p:nvPicPr>
        <p:blipFill>
          <a:blip r:embed="rId2"/>
          <a:stretch/>
        </p:blipFill>
        <p:spPr>
          <a:xfrm>
            <a:off x="304920" y="2895480"/>
            <a:ext cx="4368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5-24T12:25:21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