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C58-92DD-4F52-B0E2-F64AEF05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BF9-4A79-4AB4-A7D6-897A968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9F4-79EA-4879-9390-9BECA4C5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34A-768A-4DF7-871F-04593086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1327-5C89-4A8C-83E6-F84F58AC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0C9D8-C7D8-429E-A8C9-B8857B7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408B-2CFB-4E9F-B888-9EA5106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FA83-7A54-4C63-91BA-90E3F269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05B89-2B1C-413F-8726-793EEB4C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D029-31E8-413E-8C31-21563AF6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172E-F912-4685-A1DA-2127865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AB3-4DD4-4772-B9C1-0FCBEDA0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E3AEF-4EA3-40A7-ADFE-7CC0FED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A5121-AF53-439C-9948-3D4329B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0C50-8A78-444E-B109-8CC0769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BB8F-CF3A-4E2A-894B-3C18617D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9331D-99E5-4350-B5DB-A1E8A84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D4F-E2C6-48E6-91C1-2EFDC82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71B-D6CD-4281-878E-07A97CC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5F6-F715-49CF-BCD1-0F10575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9A-A114-439D-9040-876F3E1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6F9-66FE-419C-8281-E9D4D63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8CD-3BF5-4C10-B5CC-CB06780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37A-E2CA-46E1-8161-5BE4E38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2181-4FB7-4413-A7EE-49E61F37A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1DB-CE66-4BDE-8A9F-381A837F42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следовательская  тема: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«СИСТЕМА СЧИСЛЕНИЯ. ПРОИСХОЖДЕНИЕ ЧИСЛА НОЛЬ»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сятичная систем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7" descr="img1"/>
          <p:cNvPicPr/>
          <p:nvPr/>
        </p:nvPicPr>
        <p:blipFill>
          <a:blip r:embed="rId1"/>
          <a:stretch/>
        </p:blipFill>
        <p:spPr>
          <a:xfrm>
            <a:off x="4038480" y="17524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4131303"/>
          <p:cNvPicPr/>
          <p:nvPr/>
        </p:nvPicPr>
        <p:blipFill>
          <a:blip r:embed="rId2"/>
          <a:stretch/>
        </p:blipFill>
        <p:spPr>
          <a:xfrm>
            <a:off x="6019920" y="1219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ять символов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н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5" descr="P4131340"/>
          <p:cNvPicPr/>
          <p:nvPr/>
        </p:nvPicPr>
        <p:blipFill>
          <a:blip r:embed="rId3"/>
          <a:stretch/>
        </p:blipFill>
        <p:spPr>
          <a:xfrm>
            <a:off x="152280" y="2666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P4131327"/>
          <p:cNvPicPr/>
          <p:nvPr/>
        </p:nvPicPr>
        <p:blipFill>
          <a:blip r:embed="rId4"/>
          <a:stretch/>
        </p:blipFill>
        <p:spPr>
          <a:xfrm>
            <a:off x="3276720" y="35053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ДУС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ЕЛ –ТОЧКА – КРУЖОК – 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P4141389"/>
          <p:cNvPicPr/>
          <p:nvPr/>
        </p:nvPicPr>
        <p:blipFill>
          <a:blip r:embed="rId1"/>
          <a:stretch/>
        </p:blipFill>
        <p:spPr>
          <a:xfrm>
            <a:off x="762120" y="25146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ыли придуманы отрицательные чис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P4141354"/>
          <p:cNvPicPr/>
          <p:nvPr/>
        </p:nvPicPr>
        <p:blipFill>
          <a:blip r:embed="rId1"/>
          <a:stretch/>
        </p:blipFill>
        <p:spPr>
          <a:xfrm>
            <a:off x="685800" y="27432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лас по математике. М.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3 «Древние Египет и Греция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5 «Древние цивилизации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циклопедия для детей. Том 9 «Математика». М.,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P4141371"/>
          <p:cNvPicPr/>
          <p:nvPr/>
        </p:nvPicPr>
        <p:blipFill>
          <a:blip r:embed="rId1"/>
          <a:stretch/>
        </p:blipFill>
        <p:spPr>
          <a:xfrm>
            <a:off x="4876920" y="1447920"/>
            <a:ext cx="3305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причин отсутствия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ль в системах счисления древн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,какие были системы счис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,какие системы счисления использует современный человек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ледовать происхождение числа ноль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И ГИПОТЕЗ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ожим, ноль необходим был тогда, когда нужно было сказать «НЕТ».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,  ноль преобразовался из точки.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, если ноль – это случайная клякса на древнем папирусе.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пустим, ноль перепутали со знаком умножения.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Ы  СЧИСЛ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0" descr="P4151411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имские циф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5" descr="P4131296"/>
          <p:cNvPicPr/>
          <p:nvPr/>
        </p:nvPicPr>
        <p:blipFill>
          <a:blip r:embed="rId1"/>
          <a:stretch/>
        </p:blipFill>
        <p:spPr>
          <a:xfrm>
            <a:off x="5715000" y="121932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4131293"/>
          <p:cNvPicPr/>
          <p:nvPr/>
        </p:nvPicPr>
        <p:blipFill>
          <a:blip r:embed="rId2"/>
          <a:stretch/>
        </p:blipFill>
        <p:spPr>
          <a:xfrm>
            <a:off x="2895480" y="213372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P4131288"/>
          <p:cNvPicPr/>
          <p:nvPr/>
        </p:nvPicPr>
        <p:blipFill>
          <a:blip r:embed="rId3"/>
          <a:stretch/>
        </p:blipFill>
        <p:spPr>
          <a:xfrm>
            <a:off x="228600" y="3352680"/>
            <a:ext cx="3124080" cy="240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 букв для написания всех циф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3" descr="P4131305"/>
          <p:cNvPicPr/>
          <p:nvPr/>
        </p:nvPicPr>
        <p:blipFill>
          <a:blip r:embed="rId4"/>
          <a:stretch/>
        </p:blipFill>
        <p:spPr>
          <a:xfrm>
            <a:off x="5410080" y="41148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во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знака – 1 и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4131309"/>
          <p:cNvPicPr/>
          <p:nvPr/>
        </p:nvPicPr>
        <p:blipFill>
          <a:blip r:embed="rId1"/>
          <a:stretch/>
        </p:blipFill>
        <p:spPr>
          <a:xfrm>
            <a:off x="4572000" y="1295280"/>
            <a:ext cx="3695760" cy="327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P4131307"/>
          <p:cNvPicPr/>
          <p:nvPr/>
        </p:nvPicPr>
        <p:blipFill>
          <a:blip r:embed="rId2"/>
          <a:stretch/>
        </p:blipFill>
        <p:spPr>
          <a:xfrm>
            <a:off x="380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естидесятер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а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0" descr="P4131323"/>
          <p:cNvPicPr/>
          <p:nvPr/>
        </p:nvPicPr>
        <p:blipFill>
          <a:blip r:embed="rId1"/>
          <a:stretch/>
        </p:blipFill>
        <p:spPr>
          <a:xfrm rot="1824600">
            <a:off x="4198680" y="1698120"/>
            <a:ext cx="3657600" cy="326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P4131342"/>
          <p:cNvPicPr/>
          <p:nvPr/>
        </p:nvPicPr>
        <p:blipFill>
          <a:blip r:embed="rId2"/>
          <a:stretch/>
        </p:blipFill>
        <p:spPr>
          <a:xfrm>
            <a:off x="228600" y="34290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а «КИПУ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зелки на шнурк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ль не обнаруж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6" descr="P4131316"/>
          <p:cNvPicPr/>
          <p:nvPr/>
        </p:nvPicPr>
        <p:blipFill>
          <a:blip r:embed="rId1"/>
          <a:stretch/>
        </p:blipFill>
        <p:spPr>
          <a:xfrm>
            <a:off x="5029200" y="121932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P4131312"/>
          <p:cNvPicPr/>
          <p:nvPr/>
        </p:nvPicPr>
        <p:blipFill>
          <a:blip r:embed="rId2"/>
          <a:stretch/>
        </p:blipFill>
        <p:spPr>
          <a:xfrm>
            <a:off x="304920" y="2895480"/>
            <a:ext cx="43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24T12:25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