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812-206E-4995-820D-B2E819BC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2AC-6584-4924-BBB3-B0EBF208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A32-620E-47C2-B4E3-4D731359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B2A-CA3F-4F10-85E8-1D62059F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860E6-7278-4CB9-BBDE-4BA3F899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B1C9F-1FDD-4F1C-9AC1-04D24AC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A8791-A8B4-47FD-9045-67AC3F16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C732C-58E1-4629-AEB1-C05CB874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001D6-861F-4451-903C-4FB5452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E6275-6610-4705-B2F0-EC5F5E1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3E1AE-2BF6-421B-A78B-07E1E552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48C-5481-477D-A4CA-E6B0DB7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A38B4-1186-4656-97A8-2C751E4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E8FD2-3128-49F4-B9A1-6625AD7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1EBA9-9A77-4627-848E-590954F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18C57-E6D4-4AFE-AAF5-5C9C8DB5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4B6CE-CAFA-4B34-8DA0-51918B4D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4BE-273B-4A82-A7A9-A02D7BCE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4AD-8797-4192-8528-5CD7E057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D4C-3CDB-4C0C-91F5-AFB99764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4FD-BE00-4E5D-978C-F0026DB3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1C0-90D8-4E5B-8BA2-2729D262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E8F-9DC2-40F5-A4AE-EC4CB8A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64B-7922-49C5-BF1C-160C7B5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5A9-9ECD-4C78-8AEA-B718DAB02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895-4286-4BBD-ADAD-1B723749E7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следовательская  тема: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«СИСТЕМА СЧИСЛЕНИЯ. ПРОИСХОЖДЕНИЕ ЧИСЛА НОЛЬ»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сятичная систем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7" descr="img1"/>
          <p:cNvPicPr/>
          <p:nvPr/>
        </p:nvPicPr>
        <p:blipFill>
          <a:blip r:embed="rId1"/>
          <a:stretch/>
        </p:blipFill>
        <p:spPr>
          <a:xfrm>
            <a:off x="4038480" y="17524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P4131303"/>
          <p:cNvPicPr/>
          <p:nvPr/>
        </p:nvPicPr>
        <p:blipFill>
          <a:blip r:embed="rId2"/>
          <a:stretch/>
        </p:blipFill>
        <p:spPr>
          <a:xfrm>
            <a:off x="6019920" y="1219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ять символов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н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5" descr="P4131340"/>
          <p:cNvPicPr/>
          <p:nvPr/>
        </p:nvPicPr>
        <p:blipFill>
          <a:blip r:embed="rId3"/>
          <a:stretch/>
        </p:blipFill>
        <p:spPr>
          <a:xfrm>
            <a:off x="152280" y="2666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P4131327"/>
          <p:cNvPicPr/>
          <p:nvPr/>
        </p:nvPicPr>
        <p:blipFill>
          <a:blip r:embed="rId4"/>
          <a:stretch/>
        </p:blipFill>
        <p:spPr>
          <a:xfrm>
            <a:off x="3276720" y="3505320"/>
            <a:ext cx="2895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НДУС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ЕЛ –ТОЧКА – КРУЖОК – Н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P4141389"/>
          <p:cNvPicPr/>
          <p:nvPr/>
        </p:nvPicPr>
        <p:blipFill>
          <a:blip r:embed="rId1"/>
          <a:stretch/>
        </p:blipFill>
        <p:spPr>
          <a:xfrm>
            <a:off x="762120" y="25146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ыли придуманы отрицательные чис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P4141354"/>
          <p:cNvPicPr/>
          <p:nvPr/>
        </p:nvPicPr>
        <p:blipFill>
          <a:blip r:embed="rId1"/>
          <a:stretch/>
        </p:blipFill>
        <p:spPr>
          <a:xfrm>
            <a:off x="685800" y="27432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лас по математике. М.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ая энциклопедия. Том 3 «Древние Египет и Греция». М.,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ая энциклопедия. Том 5 «Древние цивилизации». М.,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циклопедия для детей. Том 9 «Математика». М.,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P4141371"/>
          <p:cNvPicPr/>
          <p:nvPr/>
        </p:nvPicPr>
        <p:blipFill>
          <a:blip r:embed="rId1"/>
          <a:stretch/>
        </p:blipFill>
        <p:spPr>
          <a:xfrm>
            <a:off x="4876920" y="1447920"/>
            <a:ext cx="3305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причин отсутствия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ль в системах счисления древн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,какие были системы счис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,какие системы счисления использует современный человек.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ледовать происхождение числа ноль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И ГИПОТЕЗ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ожим, ноль необходим был тогда, когда нужно было сказать «НЕТ».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о,  ноль преобразовался из точки.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, если ноль – это случайная клякса на древнем папирусе.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пустим, ноль перепутали со знаком умножения.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СТЕМЫ  СЧИСЛ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0" descr="P4151411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имские циф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25" descr="P4131296"/>
          <p:cNvPicPr/>
          <p:nvPr/>
        </p:nvPicPr>
        <p:blipFill>
          <a:blip r:embed="rId1"/>
          <a:stretch/>
        </p:blipFill>
        <p:spPr>
          <a:xfrm>
            <a:off x="5715000" y="1219320"/>
            <a:ext cx="2971800" cy="25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4131293"/>
          <p:cNvPicPr/>
          <p:nvPr/>
        </p:nvPicPr>
        <p:blipFill>
          <a:blip r:embed="rId2"/>
          <a:stretch/>
        </p:blipFill>
        <p:spPr>
          <a:xfrm>
            <a:off x="2895480" y="213372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P4131288"/>
          <p:cNvPicPr/>
          <p:nvPr/>
        </p:nvPicPr>
        <p:blipFill>
          <a:blip r:embed="rId3"/>
          <a:stretch/>
        </p:blipFill>
        <p:spPr>
          <a:xfrm>
            <a:off x="228600" y="3352680"/>
            <a:ext cx="3124080" cy="2400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 букв для написания всех циф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3" descr="P4131305"/>
          <p:cNvPicPr/>
          <p:nvPr/>
        </p:nvPicPr>
        <p:blipFill>
          <a:blip r:embed="rId4"/>
          <a:stretch/>
        </p:blipFill>
        <p:spPr>
          <a:xfrm>
            <a:off x="5410080" y="41148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воичная систе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а знака – 1 и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4131309"/>
          <p:cNvPicPr/>
          <p:nvPr/>
        </p:nvPicPr>
        <p:blipFill>
          <a:blip r:embed="rId1"/>
          <a:stretch/>
        </p:blipFill>
        <p:spPr>
          <a:xfrm>
            <a:off x="4572000" y="1295280"/>
            <a:ext cx="3695760" cy="327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P4131307"/>
          <p:cNvPicPr/>
          <p:nvPr/>
        </p:nvPicPr>
        <p:blipFill>
          <a:blip r:embed="rId2"/>
          <a:stretch/>
        </p:blipFill>
        <p:spPr>
          <a:xfrm>
            <a:off x="380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естидесятеричная систе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та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д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0" descr="P4131323"/>
          <p:cNvPicPr/>
          <p:nvPr/>
        </p:nvPicPr>
        <p:blipFill>
          <a:blip r:embed="rId1"/>
          <a:stretch/>
        </p:blipFill>
        <p:spPr>
          <a:xfrm rot="1824600">
            <a:off x="4198680" y="1698120"/>
            <a:ext cx="3657600" cy="326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P4131342"/>
          <p:cNvPicPr/>
          <p:nvPr/>
        </p:nvPicPr>
        <p:blipFill>
          <a:blip r:embed="rId2"/>
          <a:stretch/>
        </p:blipFill>
        <p:spPr>
          <a:xfrm>
            <a:off x="228600" y="342900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стема «КИПУ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зелки на шнурк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ль не обнаруж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6" descr="P4131316"/>
          <p:cNvPicPr/>
          <p:nvPr/>
        </p:nvPicPr>
        <p:blipFill>
          <a:blip r:embed="rId1"/>
          <a:stretch/>
        </p:blipFill>
        <p:spPr>
          <a:xfrm>
            <a:off x="5029200" y="121932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P4131312"/>
          <p:cNvPicPr/>
          <p:nvPr/>
        </p:nvPicPr>
        <p:blipFill>
          <a:blip r:embed="rId2"/>
          <a:stretch/>
        </p:blipFill>
        <p:spPr>
          <a:xfrm>
            <a:off x="304920" y="2895480"/>
            <a:ext cx="436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24T12:25:2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