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0DBC-AD2E-4B1F-9FE7-06ED65E60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57A0-0BD0-4A4A-802D-09466F99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B439-59B5-4813-BDF9-8B3E3B4EE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774A-FD77-4A3B-B743-A06056EEC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F1DC2A-2835-481D-BA95-D38866911D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3E0A86-D943-4290-ACCC-71783046A4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3AF551-8F86-4B4B-8DB4-46837AD2CF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5BE600-6F60-44C6-8907-A49D0C1E6F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5C82B-27BC-49B2-9FF4-172A413878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479240" y="2966760"/>
            <a:ext cx="6296040" cy="68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4CCA5B-17B0-46A4-8E9E-BAAAB41541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6D452-264D-47BA-A33B-609CB9F4F1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87A9-EC4A-4E2A-A767-1DFAF374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FD39E1-A9A3-4EEF-B0D2-E1DCCE3E5D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B22755-5206-4607-ADCE-26DF3A9ED2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15E175-4567-464E-8C72-E873E6128C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FB8F03-224B-4B5B-984B-AF0B301768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BA4D14-B5E9-485C-A3D1-CC20A3AC0A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FA31-3C53-4BBE-82C4-78E21459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8E5F-D655-4B8B-84B4-4838B6D1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80FC-2CFF-4842-9703-D739D7F5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79240" y="2966760"/>
            <a:ext cx="6296040" cy="68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E1BA-8B08-4E4C-AE06-F67CFCC8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33EF-4EB6-4C55-9B23-12A15549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A9A2-64E8-4A3E-85FC-8F420154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9455-752D-4BBF-81CB-7D87715E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04000" y="6245280"/>
            <a:ext cx="5396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9C37-A89D-407E-9B70-BC347F5DFECA}" type="slidenum"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924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F7F1-B387-4D87-910A-4D44D1788F11}" type="slidenum"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770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9770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770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9770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770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9770a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770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770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770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708280"/>
            <a:ext cx="7666200" cy="19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ПОЛОЖЕНИЕ ЧЕЛОВЕКА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В СИСТЕМЕ 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ЖИВОТНОГО МИР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Человек – это биосоциальное существо, занимающее высокую ступень эволюционного развития, обладающего сознанием, речью, абстрактным мышлением и способное к общественному труду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195640" y="2060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ИМПЕРИЯ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16360" y="2060640"/>
            <a:ext cx="20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КЛЕТОЧНЫЕ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79640" y="2492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НАДЦАРСТВО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16360" y="249228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ЭУКАРИОТЫ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292428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ЦАРСТВО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2924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ЖИВОТНЫЕ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79640" y="3357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ПОДЦАРСТВО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16360" y="335772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МНОГОКЛЕТОЧНЫЕ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56000" y="3860640"/>
            <a:ext cx="16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ТИП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16360" y="3789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ХОРДОВЫЕ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11280" y="429264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КЛАСС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16360" y="422100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МЛЕКОПИТАЮЩИЕ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11280" y="472428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ОТРЯД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16360" y="4653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ПРИМАТЫ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50920" y="5157720"/>
            <a:ext cx="19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СЕМЕЙСТВО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16360" y="50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ГОМИНИДЫ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56000" y="558972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РОД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16360" y="55166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ЧЕЛОВЕК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6021360"/>
            <a:ext cx="11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ВИД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16360" y="59500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HOMO SAPIENS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 rot="424200">
            <a:off x="250920" y="764640"/>
            <a:ext cx="7562880" cy="172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КЛАССИФИКАЦИЯ ЧЕЛОВЕК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16360" y="2349360"/>
            <a:ext cx="0" cy="2160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16360" y="2781360"/>
            <a:ext cx="0" cy="2160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16360" y="3213000"/>
            <a:ext cx="0" cy="2160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16360" y="3645000"/>
            <a:ext cx="0" cy="21564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16360" y="4149720"/>
            <a:ext cx="0" cy="2160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16360" y="4581360"/>
            <a:ext cx="0" cy="2160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16360" y="5013360"/>
            <a:ext cx="0" cy="2160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16360" y="5445000"/>
            <a:ext cx="0" cy="2160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16360" y="5877000"/>
            <a:ext cx="0" cy="2160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76600" cy="1197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313760" y="3705120"/>
            <a:ext cx="183024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Сходство человека с </a:t>
            </a:r>
            <a:br>
              <a:rPr sz="3600"/>
            </a:b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хордовым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На ранних стадиях развития есть хорда;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Нервная система состоит из головного и спинного мозга;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Сходство в строении скелета;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Замкнутая кровеносная система;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Органы дыхания: воздухоносные пути и лёгкие.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16164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Сходство человека с млекопитающим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43588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Потомство вскармливают молоком;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Наличие млечных, сальных и потовых желёз;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Постоянная температура тела;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Общий план строения внутренних органов;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Специализированные зубы (резцы, клыки, предкоренные и коренные),лёгочное дыхание;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Четырехкамерное сердце и левая дуга аорты;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Наличие внутреннего уха, наличие диафрагмы.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020080" y="5634000"/>
            <a:ext cx="1123920" cy="1224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Сходство человека с</a:t>
            </a:r>
            <a:br>
              <a:rPr sz="3600"/>
            </a:b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приматам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Единый план строения верхних и нижних конечностей (пятипалые с подвижными пальцами);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Отсутствие хвоста, очень сходные ушные раковины, наличие ногтей на пальцах;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Короткое туловище, длинные ноги, строение верхней губы;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Внутреннее строение органов, мимика;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Состав крови, белковый обмен, структура ДНК;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6948360" y="0"/>
            <a:ext cx="194148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Систематическое положение человека в отряде приматы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3640" y="1413000"/>
            <a:ext cx="2303280" cy="504720"/>
          </a:xfrm>
          <a:prstGeom prst="rect">
            <a:avLst/>
          </a:prstGeom>
          <a:solidFill>
            <a:srgbClr val="fbc997"/>
          </a:solidFill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9280" y="2205000"/>
            <a:ext cx="2016360" cy="719280"/>
          </a:xfrm>
          <a:prstGeom prst="rect">
            <a:avLst/>
          </a:prstGeom>
          <a:solidFill>
            <a:srgbClr val="fbc997"/>
          </a:solidFill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3280" y="2205000"/>
            <a:ext cx="4321440" cy="719280"/>
          </a:xfrm>
          <a:prstGeom prst="rect">
            <a:avLst/>
          </a:prstGeom>
          <a:solidFill>
            <a:srgbClr val="fbc997"/>
          </a:solidFill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84360" y="2205000"/>
            <a:ext cx="1871640" cy="719280"/>
          </a:xfrm>
          <a:prstGeom prst="rect">
            <a:avLst/>
          </a:prstGeom>
          <a:solidFill>
            <a:srgbClr val="fbc997"/>
          </a:solidFill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51280" y="3213000"/>
            <a:ext cx="4392720" cy="647640"/>
          </a:xfrm>
          <a:prstGeom prst="rect">
            <a:avLst/>
          </a:prstGeom>
          <a:solidFill>
            <a:srgbClr val="fbc997"/>
          </a:solidFill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3213000"/>
            <a:ext cx="3386160" cy="647640"/>
          </a:xfrm>
          <a:prstGeom prst="rect">
            <a:avLst/>
          </a:prstGeom>
          <a:solidFill>
            <a:srgbClr val="fbc997"/>
          </a:solidFill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08720" y="4797360"/>
            <a:ext cx="1835280" cy="792360"/>
          </a:xfrm>
          <a:prstGeom prst="rect">
            <a:avLst/>
          </a:prstGeom>
          <a:solidFill>
            <a:srgbClr val="fbc997"/>
          </a:solidFill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08720" y="4797360"/>
            <a:ext cx="1728720" cy="1295640"/>
          </a:xfrm>
          <a:prstGeom prst="rect">
            <a:avLst/>
          </a:prstGeom>
          <a:solidFill>
            <a:srgbClr val="fbc997"/>
          </a:solidFill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08360" y="4797360"/>
            <a:ext cx="1728720" cy="792360"/>
          </a:xfrm>
          <a:prstGeom prst="rect">
            <a:avLst/>
          </a:prstGeom>
          <a:solidFill>
            <a:srgbClr val="fbc997"/>
          </a:solidFill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35280" y="4797360"/>
            <a:ext cx="1728720" cy="792360"/>
          </a:xfrm>
          <a:prstGeom prst="rect">
            <a:avLst/>
          </a:prstGeom>
          <a:solidFill>
            <a:srgbClr val="fbc997"/>
          </a:solidFill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797360"/>
            <a:ext cx="1728720" cy="792360"/>
          </a:xfrm>
          <a:prstGeom prst="rect">
            <a:avLst/>
          </a:prstGeom>
          <a:solidFill>
            <a:srgbClr val="fbc997"/>
          </a:solidFill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050560" y="1773360"/>
            <a:ext cx="1008360" cy="360360"/>
          </a:xfrm>
          <a:prstGeom prst="line">
            <a:avLst/>
          </a:prstGeom>
          <a:ln w="9360">
            <a:solidFill>
              <a:srgbClr val="e97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067280" y="1916280"/>
            <a:ext cx="0" cy="217440"/>
          </a:xfrm>
          <a:prstGeom prst="line">
            <a:avLst/>
          </a:prstGeom>
          <a:ln w="9360">
            <a:solidFill>
              <a:srgbClr val="e97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80000" y="1773360"/>
            <a:ext cx="576360" cy="360360"/>
          </a:xfrm>
          <a:prstGeom prst="line">
            <a:avLst/>
          </a:prstGeom>
          <a:ln w="9360">
            <a:solidFill>
              <a:srgbClr val="e97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635280" y="2997360"/>
            <a:ext cx="1152720" cy="360360"/>
          </a:xfrm>
          <a:prstGeom prst="line">
            <a:avLst/>
          </a:prstGeom>
          <a:ln w="9360">
            <a:solidFill>
              <a:srgbClr val="e97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308720" y="2924280"/>
            <a:ext cx="358920" cy="144360"/>
          </a:xfrm>
          <a:prstGeom prst="line">
            <a:avLst/>
          </a:prstGeom>
          <a:ln w="9360">
            <a:solidFill>
              <a:srgbClr val="e97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68360" y="3933720"/>
            <a:ext cx="790560" cy="790560"/>
          </a:xfrm>
          <a:prstGeom prst="line">
            <a:avLst/>
          </a:prstGeom>
          <a:ln w="9360">
            <a:solidFill>
              <a:srgbClr val="e97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79640" y="3933720"/>
            <a:ext cx="576360" cy="790560"/>
          </a:xfrm>
          <a:prstGeom prst="line">
            <a:avLst/>
          </a:prstGeom>
          <a:ln w="9360">
            <a:solidFill>
              <a:srgbClr val="e97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571640" y="3860640"/>
            <a:ext cx="1655640" cy="792360"/>
          </a:xfrm>
          <a:prstGeom prst="line">
            <a:avLst/>
          </a:prstGeom>
          <a:ln w="9360">
            <a:solidFill>
              <a:srgbClr val="e97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6443640" y="3933720"/>
            <a:ext cx="504720" cy="792360"/>
          </a:xfrm>
          <a:prstGeom prst="line">
            <a:avLst/>
          </a:prstGeom>
          <a:ln w="9360">
            <a:solidFill>
              <a:srgbClr val="e97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885080" y="3933720"/>
            <a:ext cx="646200" cy="792360"/>
          </a:xfrm>
          <a:prstGeom prst="line">
            <a:avLst/>
          </a:prstGeom>
          <a:ln w="9360">
            <a:solidFill>
              <a:srgbClr val="e97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1413000"/>
            <a:ext cx="19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ПРИМАТЫ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9280" y="2205000"/>
            <a:ext cx="201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Лемуры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полуобезьяны)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11280" y="2205000"/>
            <a:ext cx="216072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Долгопяты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полуобезьяны)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2205000"/>
            <a:ext cx="475128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Человекоподобные, или антропоиды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обезьяны и человек)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797360"/>
            <a:ext cx="169236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Игрунковые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гапалиды)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8000" y="4797360"/>
            <a:ext cx="158436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Цебусовые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цебиды)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80000" y="4797360"/>
            <a:ext cx="158400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Мартышко-образные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обезьяны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580000" y="4869000"/>
            <a:ext cx="1584360" cy="12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Человеко-образные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обезьяны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понгиды)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380360" y="4869000"/>
            <a:ext cx="17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Люди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гоминиды)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9640" y="3213000"/>
            <a:ext cx="31672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Широконосые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обезьяны Нового Света)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59280" y="3213000"/>
            <a:ext cx="4500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Узконосые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обезьяны Старого Света и человек)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Рудименты и атавизмы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362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Рудименты – это недоразвитые органы, которые практически утратили в процессе эволюции свои функции.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Атавизмы – это признаки, которые некогда существовали у наших предков, в дальнейшем были утрачены, но гены отвечающие за их развитие, ещё сохраняются и при определённых условиях вызывают образование этих древних признаков.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755280" y="765000"/>
            <a:ext cx="28083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Примерами рудиментов являются мышцы ушной раковины, хвостовые позвонки(копчик),остатки мигательной перепонки глаза, червеобразный отросток слепой кишки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79280" y="765000"/>
            <a:ext cx="539640" cy="576360"/>
            <a:chOff x="179280" y="765000"/>
            <a:chExt cx="539640" cy="576360"/>
          </a:xfrm>
        </p:grpSpPr>
        <p:sp>
          <p:nvSpPr>
            <p:cNvPr id="158" name=""/>
            <p:cNvSpPr/>
            <p:nvPr/>
          </p:nvSpPr>
          <p:spPr>
            <a:xfrm>
              <a:off x="358560" y="765000"/>
              <a:ext cx="0" cy="5763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3280" y="765000"/>
              <a:ext cx="0" cy="5763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9280" y="1052640"/>
              <a:ext cx="53964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219640" y="765000"/>
            <a:ext cx="539640" cy="576360"/>
            <a:chOff x="5219640" y="765000"/>
            <a:chExt cx="539640" cy="576360"/>
          </a:xfrm>
        </p:grpSpPr>
        <p:sp>
          <p:nvSpPr>
            <p:cNvPr id="162" name=""/>
            <p:cNvSpPr/>
            <p:nvPr/>
          </p:nvSpPr>
          <p:spPr>
            <a:xfrm>
              <a:off x="5398920" y="765000"/>
              <a:ext cx="0" cy="5763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43640" y="765000"/>
              <a:ext cx="0" cy="5763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19640" y="1052640"/>
              <a:ext cx="53964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724360" y="765000"/>
            <a:ext cx="31687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Яркими примерами атавизмов являются волосяной покоов на лице, наружный хвост, лишние пары молочных желёз, перепонки между пальцами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7043760" y="3933720"/>
            <a:ext cx="2100240" cy="2924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4716360" y="3933720"/>
            <a:ext cx="2219400" cy="2924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3564000" y="404640"/>
            <a:ext cx="1676160" cy="15145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1835280" y="4819680"/>
            <a:ext cx="2808000" cy="20383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6"/>
          <a:stretch/>
        </p:blipFill>
        <p:spPr>
          <a:xfrm>
            <a:off x="0" y="4292640"/>
            <a:ext cx="1830240" cy="2565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7"/>
          <a:stretch/>
        </p:blipFill>
        <p:spPr>
          <a:xfrm>
            <a:off x="3635280" y="3500280"/>
            <a:ext cx="3529080" cy="1459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8"/>
          <a:stretch/>
        </p:blipFill>
        <p:spPr>
          <a:xfrm>
            <a:off x="3564000" y="1916280"/>
            <a:ext cx="16192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537320" y="4005360"/>
            <a:ext cx="1606680" cy="28526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Отличия человека от человекообразных обезьян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Только человеку свойственно прямохождение, благодаря этому он имеет мощные ноги, сводчатую стопу, широкий таз,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S-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образный позвоночник  высокая степень развития рук и способность выполнять разнообразные, тонкие и высокоточные операции, большой объем головного мозга, который в 2,5 раза превышает мозг антропоидов и в 3,5 раза — площадь его поверхности, и, наконец, речь, которая свойственна только человеку. 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17:40:37Z</dcterms:created>
  <dc:creator>леха</dc:creator>
  <dc:description/>
  <cp:keywords/>
  <dc:language>en-US</dc:language>
  <cp:lastModifiedBy>леха</cp:lastModifiedBy>
  <dcterms:modified xsi:type="dcterms:W3CDTF">2009-02-10T21:43:12Z</dcterms:modified>
  <cp:revision>16</cp:revision>
  <dc:subject/>
  <dc:title>Слайд застав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31049</vt:lpwstr>
  </property>
</Properties>
</file>