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683-FF24-4A9D-A858-1F1F2C4A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1BB-E980-4532-8313-AE3FCB21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8E1-088C-4545-A823-351C4B4D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AF2-3945-4C69-914C-3728CA4C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959E8-149E-4A8E-B25D-53983E8737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F1E6-507C-430B-BF5B-86D9211CDE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3299-3676-4600-8FA4-24853160B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44DCF-E498-41FF-9206-8E25057F6B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7B54D-E123-4F55-9D96-4A4BF4F67E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79240" y="2966760"/>
            <a:ext cx="62960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71278-57D1-45C8-B7E2-BEBF9BBAB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9DA4A-2490-4C7B-A412-7FB516768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450-D572-4E13-A615-027A5E4B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6BEF7-5937-493C-975E-AD1A76E92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0873C-FE1B-476C-B140-E09F2D7F8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C3A0-75F2-4418-9283-67E7514E6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04B9E-6FEB-426E-937A-FC1A887F5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98355-961A-4411-9F21-3E37F9CD7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6EA-459F-460E-9A18-C75379E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ADA-E6B6-4D65-BE94-D11576E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C7E-C497-45B5-A607-3265D66C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9240" y="2966760"/>
            <a:ext cx="62960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FC9-D809-43FF-AE73-982A4620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2FD-50CB-4BAA-B0BC-B5D8A399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537-A614-4BB8-A389-784A431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A54-88B4-4B0F-BFFE-E0393EC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2C94-8126-45F7-9467-CE808750E408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FA3-00D4-452A-8C0B-B1C7D0E225C5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77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76662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ЛОЖЕНИЕ ЧЕЛОВЕКА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СИСТЕМЕ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ЖИВОТНОГО МИ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еловек – это биосоциальное существо, занимающее высокую ступень эволюционного развития, обладающего сознанием, речью, абстрактным мышлением и способное к общественному труду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5640" y="20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МПЕРИЯ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20606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ЕТОЧ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Д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24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ЭУКАРИО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3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ОД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3357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НОГОКЛЕТОЧ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386064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ТИП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3789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ХОРД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292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22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724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ТРЯ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ИМА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1577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ЕМЕЙ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ОМИНИ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5897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551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602136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950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OMO SAPIENS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424200">
            <a:off x="250920" y="764640"/>
            <a:ext cx="756288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КЛАССИФИКАЦИЯ ЧЕЛОВЕ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2349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2781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213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3645000"/>
            <a:ext cx="0" cy="215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14972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581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5013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445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5877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1197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3760" y="3705120"/>
            <a:ext cx="1830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 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хордовы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 ранних стадиях развития есть хорд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ервная система состоит из головного и спинного мозг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Сходство в строении скелет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Замкнутая кровеносная систем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Органы дыхания: воздухоносные пути и лёгкие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61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 млекопитающи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томство вскармливают молоком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аличие млечных, сальных и потовых желёз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стоянная температура тела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бщий план строения внутренних органов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пециализированные зубы (резцы, клыки, предкоренные и коренные),лёгочное дыхание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Четырехкамерное сердце и левая дуга аорты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аличие внутреннего уха, наличие диафрагмы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0080" y="5634000"/>
            <a:ext cx="1123920" cy="1224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римата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Единый план строения верхних и нижних конечностей (пятипалые с подвижными пальцами)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тсутствие хвоста, очень сходные ушные раковины, наличие ногтей на пальцах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Короткое туловище, длинные ноги, строение верхней губы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Внутреннее строение органов, мимика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остав крови, белковый обмен, структура ДНК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9414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истематическое положение человека в отряде прима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1413000"/>
            <a:ext cx="2303280" cy="50472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201636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205000"/>
            <a:ext cx="432144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2205000"/>
            <a:ext cx="187164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51280" y="3213000"/>
            <a:ext cx="4392720" cy="647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213000"/>
            <a:ext cx="3386160" cy="647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4797360"/>
            <a:ext cx="183528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4797360"/>
            <a:ext cx="1728720" cy="1295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0560" y="1773360"/>
            <a:ext cx="100836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916280"/>
            <a:ext cx="0" cy="21744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1773360"/>
            <a:ext cx="57636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35280" y="2997360"/>
            <a:ext cx="115272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2924280"/>
            <a:ext cx="358920" cy="144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3933720"/>
            <a:ext cx="790560" cy="7905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933720"/>
            <a:ext cx="576360" cy="7905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1640" y="3860640"/>
            <a:ext cx="165564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443640" y="3933720"/>
            <a:ext cx="50472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3933720"/>
            <a:ext cx="64620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14130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РИМАТЫ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емур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луобезьян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205000"/>
            <a:ext cx="21607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лгопя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луобезьян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205000"/>
            <a:ext cx="4751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оподобные, или антропои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и человек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97360"/>
            <a:ext cx="1692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грунк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гапал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797360"/>
            <a:ext cx="1584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ебус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цеб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4797360"/>
            <a:ext cx="15840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артышко-образ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безьян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4869000"/>
            <a:ext cx="15843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о-образ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безьян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нг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4869000"/>
            <a:ext cx="17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юди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гомин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3213000"/>
            <a:ext cx="316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Широконос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Нового Света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3213000"/>
            <a:ext cx="450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зконос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Старого Света и человек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удименты и атавизм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Рудименты – это недоразвитые органы, которые практически утратили в процессе эволюции свои функции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Атавизмы – это признаки, которые некогда существовали у наших предков, в дальнейшем были утрачены, но гены отвечающие за их развитие, ещё сохраняются и при определённых условиях вызывают образование этих древних признаков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2808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Примерами рудиментов являются мышцы ушной раковины, хвостовые позвонки(копчик),остатки мигательной перепонки глаза, червеобразный отросток слепой кишк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9280" y="765000"/>
            <a:ext cx="539640" cy="576360"/>
            <a:chOff x="179280" y="765000"/>
            <a:chExt cx="539640" cy="576360"/>
          </a:xfrm>
        </p:grpSpPr>
        <p:sp>
          <p:nvSpPr>
            <p:cNvPr id="158" name=""/>
            <p:cNvSpPr/>
            <p:nvPr/>
          </p:nvSpPr>
          <p:spPr>
            <a:xfrm>
              <a:off x="35856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328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1052640"/>
              <a:ext cx="539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19640" y="765000"/>
            <a:ext cx="539640" cy="576360"/>
            <a:chOff x="5219640" y="765000"/>
            <a:chExt cx="539640" cy="576360"/>
          </a:xfrm>
        </p:grpSpPr>
        <p:sp>
          <p:nvSpPr>
            <p:cNvPr id="162" name=""/>
            <p:cNvSpPr/>
            <p:nvPr/>
          </p:nvSpPr>
          <p:spPr>
            <a:xfrm>
              <a:off x="539892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4364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1052640"/>
              <a:ext cx="539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724360" y="765000"/>
            <a:ext cx="316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Яркими примерами атавизмов являются волосяной покоов на лице, наружный хвост, лишние пары молочных желёз, перепонки между пальцам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043760" y="3933720"/>
            <a:ext cx="2100240" cy="2924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221940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564000" y="404640"/>
            <a:ext cx="1676160" cy="151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835280" y="4819680"/>
            <a:ext cx="2808000" cy="2038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1830240" cy="256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635280" y="3500280"/>
            <a:ext cx="3529080" cy="145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3564000" y="1916280"/>
            <a:ext cx="1619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37320" y="4005360"/>
            <a:ext cx="1606680" cy="2852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тличия человека от человекообразных обезья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Только человеку свойственно прямохождение, благодаря этому он имеет мощные ноги, сводчатую стопу, широкий таз,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разный позвоночник  высокая степень развития рук и способность выполнять разнообразные, тонкие и высокоточные операции, большой объем головного мозга, который в 2,5 раза превышает мозг антропоидов и в 3,5 раза — площадь его поверхности, и, наконец, речь, которая свойственна только человеку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7:40:37Z</dcterms:created>
  <dc:creator>леха</dc:creator>
  <dc:description/>
  <cp:keywords/>
  <dc:language>en-US</dc:language>
  <cp:lastModifiedBy>леха</cp:lastModifiedBy>
  <dcterms:modified xsi:type="dcterms:W3CDTF">2009-02-10T21:43:12Z</dcterms:modified>
  <cp:revision>16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