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3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media/image10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3D443-0309-426C-85D8-B8B938876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79240" y="2966760"/>
            <a:ext cx="62960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438B4-D00A-4B1A-B420-0CA828BFA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79240" y="2966760"/>
            <a:ext cx="62960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D8F48-1774-4F82-B2A4-56559AD7B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79240" y="2966760"/>
            <a:ext cx="62960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AD57E-C73B-4293-A175-312B030B7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A7E5BE-2CCA-479F-905F-F90CF340A5B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479240" y="2966760"/>
            <a:ext cx="62960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E25E50-245A-4BCD-BF9D-343E0A18C59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479240" y="2966760"/>
            <a:ext cx="62960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AE15FF-E316-4D73-BAE9-8B9EC9EA78E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79240" y="2966760"/>
            <a:ext cx="62960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7A48BF-9C4D-428E-A6FB-2786CAAF319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479240" y="2966760"/>
            <a:ext cx="62960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9937A4-02D3-4F3A-9543-C8F78B6CC0A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1479240" y="2966760"/>
            <a:ext cx="6296040" cy="68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244DAC-D0AA-43FD-956B-C115FAD4CCD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79240" y="2966760"/>
            <a:ext cx="62960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CDFABF-6EAF-4E06-8255-F0D58BACA76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79240" y="2966760"/>
            <a:ext cx="62960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B689D-A8BF-45A1-9B63-B3084E8C2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79240" y="2966760"/>
            <a:ext cx="62960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27C1CC-99A0-49FB-89D9-FAC2B49E3E9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479240" y="2966760"/>
            <a:ext cx="62960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02DE0C-E05F-425D-ABE4-E456A6576F4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79240" y="2966760"/>
            <a:ext cx="62960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2D0A43-E3D0-466A-8834-6C6A5669234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79240" y="2966760"/>
            <a:ext cx="62960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C3450A-D069-42F3-A57F-3C62E4649E1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79240" y="2966760"/>
            <a:ext cx="62960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12E753-CA37-4E59-9BE5-658E20C9BC4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79240" y="2966760"/>
            <a:ext cx="62960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8D2CF-0A5D-4CA4-85AC-335C77EDE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79240" y="2966760"/>
            <a:ext cx="62960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914EE-2C01-4BBB-AA19-9577F92A1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79240" y="2966760"/>
            <a:ext cx="62960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ECD29-1465-40D4-BBB0-6C04E2308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79240" y="2966760"/>
            <a:ext cx="6296040" cy="68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4CDB0-E9C4-48B2-A324-5732AB6FE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79240" y="2966760"/>
            <a:ext cx="62960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00670-24FA-42D6-BEDE-36913B285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79240" y="2966760"/>
            <a:ext cx="62960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240AF-DF40-4A95-AE3E-399D3DEF9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79240" y="2966760"/>
            <a:ext cx="62960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AEA9C-475F-4758-9EF8-9D719A1A4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5228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977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70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e9770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70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977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70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e9770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70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9770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70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e9770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70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e9770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70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370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3708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04000" y="6245280"/>
            <a:ext cx="53964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CD48F-9983-4656-90FC-77515B033D1C}" type="slidenum"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79240" y="2966760"/>
            <a:ext cx="62960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B583F-2465-467A-9E97-F595B97F66BB}" type="slidenum"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70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9770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9770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9770a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9770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9770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9770a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9770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9770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9770a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9770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9770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9770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9770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9770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9770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9770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9770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pn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image" Target="../media/image14.jpeg"/><Relationship Id="rId9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-360" y="2708280"/>
            <a:ext cx="7666200" cy="19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ПОЛОЖЕНИЕ ЧЕЛОВЕКА</a:t>
            </a:r>
            <a:br>
              <a:rPr sz="4000"/>
            </a:b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В СИСТЕМЕ </a:t>
            </a:r>
            <a:br>
              <a:rPr sz="4000"/>
            </a:b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ЖИВОТНОГО МИРА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229600" cy="56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Человек – это биосоциальное существо, занимающее высокую ступень эволюционного развития, обладающего сознанием, речью, абстрактным мышлением и способное к общественному труду.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2195640" y="206064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ИМПЕРИЯ</a:t>
            </a:r>
            <a:endParaRPr b="0" lang="en-US" sz="18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716360" y="2060640"/>
            <a:ext cx="205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КЛЕТОЧНЫЕ</a:t>
            </a:r>
            <a:endParaRPr b="0" lang="en-US" sz="18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979640" y="249228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НАДЦАРСТВО</a:t>
            </a:r>
            <a:endParaRPr b="0" lang="en-US" sz="18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716360" y="2492280"/>
            <a:ext cx="17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ЭУКАРИОТЫ</a:t>
            </a:r>
            <a:endParaRPr b="0" lang="en-US" sz="18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268360" y="2924280"/>
            <a:ext cx="16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ЦАРСТВО</a:t>
            </a:r>
            <a:endParaRPr b="0" lang="en-US" sz="18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360" y="2924280"/>
            <a:ext cx="20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ЖИВОТНЫЕ</a:t>
            </a:r>
            <a:endParaRPr b="0" lang="en-US" sz="18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79640" y="335772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ПОДЦАРСТВО</a:t>
            </a:r>
            <a:endParaRPr b="0" lang="en-US" sz="18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716360" y="3357720"/>
            <a:ext cx="251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МНОГОКЛЕТОЧНЫЕ</a:t>
            </a:r>
            <a:endParaRPr b="0" lang="en-US" sz="18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556000" y="3860640"/>
            <a:ext cx="16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ТИП</a:t>
            </a:r>
            <a:endParaRPr b="0" lang="en-US" sz="18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716360" y="3789360"/>
            <a:ext cx="20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ХОРДОВЫЕ</a:t>
            </a:r>
            <a:endParaRPr b="0" lang="en-US" sz="18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411280" y="4292640"/>
            <a:ext cx="16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КЛАСС</a:t>
            </a:r>
            <a:endParaRPr b="0" lang="en-US" sz="18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716360" y="4221000"/>
            <a:ext cx="27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МЛЕКОПИТАЮЩИЕ</a:t>
            </a:r>
            <a:endParaRPr b="0" lang="en-US" sz="18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411280" y="4724280"/>
            <a:ext cx="14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ОТРЯД</a:t>
            </a:r>
            <a:endParaRPr b="0" lang="en-US" sz="18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716360" y="465300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ПРИМАТЫ</a:t>
            </a:r>
            <a:endParaRPr b="0" lang="en-US" sz="18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050920" y="5157720"/>
            <a:ext cx="19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СЕМЕЙСТВО</a:t>
            </a:r>
            <a:endParaRPr b="0" lang="en-US" sz="18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716360" y="508464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ГОМИНИДЫ</a:t>
            </a:r>
            <a:endParaRPr b="0" lang="en-US" sz="18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556000" y="5589720"/>
            <a:ext cx="11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РОД</a:t>
            </a:r>
            <a:endParaRPr b="0" lang="en-US" sz="18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716360" y="551664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ЧЕЛОВЕК</a:t>
            </a:r>
            <a:endParaRPr b="0" lang="en-US" sz="18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627280" y="6021360"/>
            <a:ext cx="11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ВИД</a:t>
            </a:r>
            <a:endParaRPr b="0" lang="en-US" sz="18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716360" y="5950080"/>
            <a:ext cx="20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HOMO SAPIENS</a:t>
            </a:r>
            <a:endParaRPr b="0" lang="en-US" sz="18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 rot="424200">
            <a:off x="250920" y="764640"/>
            <a:ext cx="7562880" cy="172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008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Arial"/>
              </a:rPr>
              <a:t>КЛАССИФИКАЦИЯ ЧЕЛОВЕКА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solidFill>
                <a:srgbClr val="008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916360" y="2349360"/>
            <a:ext cx="0" cy="21600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916360" y="2781360"/>
            <a:ext cx="0" cy="21600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916360" y="3213000"/>
            <a:ext cx="0" cy="21600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16360" y="3645000"/>
            <a:ext cx="0" cy="21564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916360" y="4149720"/>
            <a:ext cx="0" cy="21600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16360" y="4581360"/>
            <a:ext cx="0" cy="21600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916360" y="5013360"/>
            <a:ext cx="0" cy="21600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916360" y="5445000"/>
            <a:ext cx="0" cy="21600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916360" y="5877000"/>
            <a:ext cx="0" cy="21600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9770a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476600" cy="11970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7313760" y="3705120"/>
            <a:ext cx="1830240" cy="31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Сходство человека с </a:t>
            </a:r>
            <a:br>
              <a:rPr sz="3600"/>
            </a:b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хордовыми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3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На ранних стадиях развития есть хорда;</a:t>
            </a: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Нервная система состоит из головного и спинного мозга;</a:t>
            </a: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Сходство в строении скелета;</a:t>
            </a: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Замкнутая кровеносная система;</a:t>
            </a: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Органы дыхания: воздухоносные пути и лёгкие.</a:t>
            </a: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50920" y="16164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Сходство человека с млекопитающими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3640" y="1341360"/>
            <a:ext cx="843588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Потомство вскармливают молоком;</a:t>
            </a:r>
            <a:endParaRPr b="0" lang="en-US" sz="2800" spc="-1" strike="noStrike">
              <a:solidFill>
                <a:srgbClr val="e9770a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Наличие млечных, сальных и потовых желёз;</a:t>
            </a:r>
            <a:endParaRPr b="0" lang="en-US" sz="2800" spc="-1" strike="noStrike">
              <a:solidFill>
                <a:srgbClr val="e9770a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Постоянная температура тела;</a:t>
            </a:r>
            <a:endParaRPr b="0" lang="en-US" sz="2800" spc="-1" strike="noStrike">
              <a:solidFill>
                <a:srgbClr val="e9770a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Общий план строения внутренних органов;</a:t>
            </a:r>
            <a:endParaRPr b="0" lang="en-US" sz="2800" spc="-1" strike="noStrike">
              <a:solidFill>
                <a:srgbClr val="e9770a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Специализированные зубы (резцы, клыки, предкоренные и коренные),лёгочное дыхание;</a:t>
            </a:r>
            <a:endParaRPr b="0" lang="en-US" sz="2800" spc="-1" strike="noStrike">
              <a:solidFill>
                <a:srgbClr val="e9770a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Четырехкамерное сердце и левая дуга аорты;</a:t>
            </a:r>
            <a:endParaRPr b="0" lang="en-US" sz="2800" spc="-1" strike="noStrike">
              <a:solidFill>
                <a:srgbClr val="e9770a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Наличие внутреннего уха, наличие диафрагмы.</a:t>
            </a:r>
            <a:endParaRPr b="0" lang="en-US" sz="2800" spc="-1" strike="noStrike">
              <a:solidFill>
                <a:srgbClr val="e9770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8020080" y="5634000"/>
            <a:ext cx="1123920" cy="122400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Сходство человека с</a:t>
            </a:r>
            <a:br>
              <a:rPr sz="3600"/>
            </a:b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приматами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Единый план строения верхних и нижних конечностей (пятипалые с подвижными пальцами);</a:t>
            </a:r>
            <a:endParaRPr b="0" lang="en-US" sz="2800" spc="-1" strike="noStrike">
              <a:solidFill>
                <a:srgbClr val="e9770a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Отсутствие хвоста, очень сходные ушные раковины, наличие ногтей на пальцах;</a:t>
            </a:r>
            <a:endParaRPr b="0" lang="en-US" sz="2800" spc="-1" strike="noStrike">
              <a:solidFill>
                <a:srgbClr val="e9770a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Короткое туловище, длинные ноги, строение верхней губы;</a:t>
            </a:r>
            <a:endParaRPr b="0" lang="en-US" sz="2800" spc="-1" strike="noStrike">
              <a:solidFill>
                <a:srgbClr val="e9770a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Внутреннее строение органов, мимика;</a:t>
            </a:r>
            <a:endParaRPr b="0" lang="en-US" sz="2800" spc="-1" strike="noStrike">
              <a:solidFill>
                <a:srgbClr val="e9770a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Состав крови, белковый обмен, структура ДНК;</a:t>
            </a:r>
            <a:endParaRPr b="0" lang="en-US" sz="2800" spc="-1" strike="noStrike">
              <a:solidFill>
                <a:srgbClr val="e9770a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6948360" y="0"/>
            <a:ext cx="1941480" cy="14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Систематическое положение человека в отряде приматы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203640" y="1413000"/>
            <a:ext cx="2303280" cy="504720"/>
          </a:xfrm>
          <a:prstGeom prst="rect">
            <a:avLst/>
          </a:prstGeom>
          <a:solidFill>
            <a:srgbClr val="fbc997"/>
          </a:solidFill>
          <a:ln w="9360">
            <a:solidFill>
              <a:srgbClr val="e977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79280" y="2205000"/>
            <a:ext cx="2016360" cy="719280"/>
          </a:xfrm>
          <a:prstGeom prst="rect">
            <a:avLst/>
          </a:prstGeom>
          <a:solidFill>
            <a:srgbClr val="fbc997"/>
          </a:solidFill>
          <a:ln w="9360">
            <a:solidFill>
              <a:srgbClr val="e977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643280" y="2205000"/>
            <a:ext cx="4321440" cy="719280"/>
          </a:xfrm>
          <a:prstGeom prst="rect">
            <a:avLst/>
          </a:prstGeom>
          <a:solidFill>
            <a:srgbClr val="fbc997"/>
          </a:solidFill>
          <a:ln w="9360">
            <a:solidFill>
              <a:srgbClr val="e977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484360" y="2205000"/>
            <a:ext cx="1871640" cy="719280"/>
          </a:xfrm>
          <a:prstGeom prst="rect">
            <a:avLst/>
          </a:prstGeom>
          <a:solidFill>
            <a:srgbClr val="fbc997"/>
          </a:solidFill>
          <a:ln w="9360">
            <a:solidFill>
              <a:srgbClr val="e977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751280" y="3213000"/>
            <a:ext cx="4392720" cy="647640"/>
          </a:xfrm>
          <a:prstGeom prst="rect">
            <a:avLst/>
          </a:prstGeom>
          <a:solidFill>
            <a:srgbClr val="fbc997"/>
          </a:solidFill>
          <a:ln w="9360">
            <a:solidFill>
              <a:srgbClr val="e977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50920" y="3213000"/>
            <a:ext cx="3386160" cy="647640"/>
          </a:xfrm>
          <a:prstGeom prst="rect">
            <a:avLst/>
          </a:prstGeom>
          <a:solidFill>
            <a:srgbClr val="fbc997"/>
          </a:solidFill>
          <a:ln w="9360">
            <a:solidFill>
              <a:srgbClr val="e977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308720" y="4797360"/>
            <a:ext cx="1835280" cy="792360"/>
          </a:xfrm>
          <a:prstGeom prst="rect">
            <a:avLst/>
          </a:prstGeom>
          <a:solidFill>
            <a:srgbClr val="fbc997"/>
          </a:solidFill>
          <a:ln w="9360">
            <a:solidFill>
              <a:srgbClr val="e977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508720" y="4797360"/>
            <a:ext cx="1728720" cy="1295640"/>
          </a:xfrm>
          <a:prstGeom prst="rect">
            <a:avLst/>
          </a:prstGeom>
          <a:solidFill>
            <a:srgbClr val="fbc997"/>
          </a:solidFill>
          <a:ln w="9360">
            <a:solidFill>
              <a:srgbClr val="e977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08360" y="4797360"/>
            <a:ext cx="1728720" cy="792360"/>
          </a:xfrm>
          <a:prstGeom prst="rect">
            <a:avLst/>
          </a:prstGeom>
          <a:solidFill>
            <a:srgbClr val="fbc997"/>
          </a:solidFill>
          <a:ln w="9360">
            <a:solidFill>
              <a:srgbClr val="e977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835280" y="4797360"/>
            <a:ext cx="1728720" cy="792360"/>
          </a:xfrm>
          <a:prstGeom prst="rect">
            <a:avLst/>
          </a:prstGeom>
          <a:solidFill>
            <a:srgbClr val="fbc997"/>
          </a:solidFill>
          <a:ln w="9360">
            <a:solidFill>
              <a:srgbClr val="e977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4797360"/>
            <a:ext cx="1728720" cy="792360"/>
          </a:xfrm>
          <a:prstGeom prst="rect">
            <a:avLst/>
          </a:prstGeom>
          <a:solidFill>
            <a:srgbClr val="fbc997"/>
          </a:solidFill>
          <a:ln w="9360">
            <a:solidFill>
              <a:srgbClr val="e977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2050560" y="1773360"/>
            <a:ext cx="1008360" cy="360360"/>
          </a:xfrm>
          <a:prstGeom prst="line">
            <a:avLst/>
          </a:prstGeom>
          <a:ln w="9360">
            <a:solidFill>
              <a:srgbClr val="e97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067280" y="1916280"/>
            <a:ext cx="0" cy="217440"/>
          </a:xfrm>
          <a:prstGeom prst="line">
            <a:avLst/>
          </a:prstGeom>
          <a:ln w="9360">
            <a:solidFill>
              <a:srgbClr val="e97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580000" y="1773360"/>
            <a:ext cx="576360" cy="360360"/>
          </a:xfrm>
          <a:prstGeom prst="line">
            <a:avLst/>
          </a:prstGeom>
          <a:ln w="9360">
            <a:solidFill>
              <a:srgbClr val="e97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3635280" y="2997360"/>
            <a:ext cx="1152720" cy="360360"/>
          </a:xfrm>
          <a:prstGeom prst="line">
            <a:avLst/>
          </a:prstGeom>
          <a:ln w="9360">
            <a:solidFill>
              <a:srgbClr val="e97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308720" y="2924280"/>
            <a:ext cx="358920" cy="144360"/>
          </a:xfrm>
          <a:prstGeom prst="line">
            <a:avLst/>
          </a:prstGeom>
          <a:ln w="9360">
            <a:solidFill>
              <a:srgbClr val="e97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468360" y="3933720"/>
            <a:ext cx="790560" cy="790560"/>
          </a:xfrm>
          <a:prstGeom prst="line">
            <a:avLst/>
          </a:prstGeom>
          <a:ln w="9360">
            <a:solidFill>
              <a:srgbClr val="e97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79640" y="3933720"/>
            <a:ext cx="576360" cy="790560"/>
          </a:xfrm>
          <a:prstGeom prst="line">
            <a:avLst/>
          </a:prstGeom>
          <a:ln w="9360">
            <a:solidFill>
              <a:srgbClr val="e97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571640" y="3860640"/>
            <a:ext cx="1655640" cy="792360"/>
          </a:xfrm>
          <a:prstGeom prst="line">
            <a:avLst/>
          </a:prstGeom>
          <a:ln w="9360">
            <a:solidFill>
              <a:srgbClr val="e97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6443640" y="3933720"/>
            <a:ext cx="504720" cy="792360"/>
          </a:xfrm>
          <a:prstGeom prst="line">
            <a:avLst/>
          </a:prstGeom>
          <a:ln w="9360">
            <a:solidFill>
              <a:srgbClr val="e97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885080" y="3933720"/>
            <a:ext cx="646200" cy="792360"/>
          </a:xfrm>
          <a:prstGeom prst="line">
            <a:avLst/>
          </a:prstGeom>
          <a:ln w="9360">
            <a:solidFill>
              <a:srgbClr val="e97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19640" y="1413000"/>
            <a:ext cx="194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ПРИМАТЫ</a:t>
            </a:r>
            <a:endParaRPr b="0" lang="en-US" sz="24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79280" y="2205000"/>
            <a:ext cx="20163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Лемуры</a:t>
            </a:r>
            <a:endParaRPr b="0" lang="en-US" sz="1800" spc="-1" strike="noStrike">
              <a:solidFill>
                <a:srgbClr val="e9770a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(полуобезьяны)</a:t>
            </a:r>
            <a:endParaRPr b="0" lang="en-US" sz="18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11280" y="2205000"/>
            <a:ext cx="2160720" cy="7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Долгопяты</a:t>
            </a:r>
            <a:endParaRPr b="0" lang="en-US" sz="1800" spc="-1" strike="noStrike">
              <a:solidFill>
                <a:srgbClr val="e9770a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(полуобезьяны)</a:t>
            </a:r>
            <a:endParaRPr b="0" lang="en-US" sz="18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572000" y="2205000"/>
            <a:ext cx="4751280" cy="7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Человекоподобные, или антропоиды</a:t>
            </a:r>
            <a:endParaRPr b="0" lang="en-US" sz="1800" spc="-1" strike="noStrike">
              <a:solidFill>
                <a:srgbClr val="e9770a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(обезьяны и человек)</a:t>
            </a:r>
            <a:endParaRPr b="0" lang="en-US" sz="18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4797360"/>
            <a:ext cx="1692360" cy="7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Игрунковые</a:t>
            </a:r>
            <a:endParaRPr b="0" lang="en-US" sz="1800" spc="-1" strike="noStrike">
              <a:solidFill>
                <a:srgbClr val="e9770a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(гапалиды)</a:t>
            </a:r>
            <a:endParaRPr b="0" lang="en-US" sz="18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08000" y="4797360"/>
            <a:ext cx="1584360" cy="7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Цебусовые</a:t>
            </a:r>
            <a:endParaRPr b="0" lang="en-US" sz="1800" spc="-1" strike="noStrike">
              <a:solidFill>
                <a:srgbClr val="e9770a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(цебиды)</a:t>
            </a:r>
            <a:endParaRPr b="0" lang="en-US" sz="18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780000" y="4797360"/>
            <a:ext cx="1584000" cy="81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Мартышко-образные</a:t>
            </a:r>
            <a:endParaRPr b="0" lang="en-US" sz="1800" spc="-1" strike="noStrike">
              <a:solidFill>
                <a:srgbClr val="e9770a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обезьяны</a:t>
            </a:r>
            <a:endParaRPr b="0" lang="en-US" sz="18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580000" y="4869000"/>
            <a:ext cx="1584360" cy="12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Человеко-образные</a:t>
            </a:r>
            <a:endParaRPr b="0" lang="en-US" sz="1800" spc="-1" strike="noStrike">
              <a:solidFill>
                <a:srgbClr val="e9770a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обезьяны</a:t>
            </a:r>
            <a:endParaRPr b="0" lang="en-US" sz="1800" spc="-1" strike="noStrike">
              <a:solidFill>
                <a:srgbClr val="e9770a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(понгиды)</a:t>
            </a:r>
            <a:endParaRPr b="0" lang="en-US" sz="18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380360" y="4869000"/>
            <a:ext cx="176364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Люди</a:t>
            </a:r>
            <a:endParaRPr b="0" lang="en-US" sz="1800" spc="-1" strike="noStrike">
              <a:solidFill>
                <a:srgbClr val="e9770a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(гоминиды)</a:t>
            </a:r>
            <a:endParaRPr b="0" lang="en-US" sz="18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39640" y="3213000"/>
            <a:ext cx="316728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Широконосые</a:t>
            </a:r>
            <a:endParaRPr b="0" lang="en-US" sz="1800" spc="-1" strike="noStrike">
              <a:solidFill>
                <a:srgbClr val="e9770a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(обезьяны Нового Света)</a:t>
            </a:r>
            <a:endParaRPr b="0" lang="en-US" sz="18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859280" y="3213000"/>
            <a:ext cx="450072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Узконосые</a:t>
            </a:r>
            <a:endParaRPr b="0" lang="en-US" sz="1800" spc="-1" strike="noStrike">
              <a:solidFill>
                <a:srgbClr val="e9770a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(обезьяны Старого Света и человек)</a:t>
            </a:r>
            <a:endParaRPr b="0" lang="en-US" sz="1800" spc="-1" strike="noStrike">
              <a:solidFill>
                <a:srgbClr val="e9770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Рудименты и атавизмы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24000" y="1484280"/>
            <a:ext cx="83628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70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9770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Рудименты – это недоразвитые органы, которые практически утратили в процессе эволюции свои функции.</a:t>
            </a: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Атавизмы – это признаки, которые некогда существовали у наших предков, в дальнейшем были утрачены, но гены отвечающие за их развитие, ещё сохраняются и при определённых условиях вызывают образование этих древних признаков.</a:t>
            </a: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755280" y="765000"/>
            <a:ext cx="280836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274680"/>
                <a:tab algn="l" pos="549360"/>
                <a:tab algn="l" pos="824040"/>
                <a:tab algn="l" pos="1098720"/>
                <a:tab algn="l" pos="1373040"/>
                <a:tab algn="l" pos="1647720"/>
                <a:tab algn="l" pos="1922400"/>
                <a:tab algn="l" pos="2197080"/>
                <a:tab algn="l" pos="2471760"/>
                <a:tab algn="l" pos="2746440"/>
                <a:tab algn="l" pos="3021120"/>
                <a:tab algn="l" pos="3295800"/>
                <a:tab algn="l" pos="3570120"/>
                <a:tab algn="l" pos="3844800"/>
                <a:tab algn="l" pos="4119480"/>
                <a:tab algn="l" pos="4394160"/>
                <a:tab algn="l" pos="4668840"/>
                <a:tab algn="l" pos="4943520"/>
                <a:tab algn="l" pos="5218200"/>
                <a:tab algn="l" pos="549288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Примерами рудиментов являются мышцы ушной раковины, хвостовые позвонки(копчик),остатки мигательной перепонки глаза, червеобразный отросток слепой кишки.</a:t>
            </a:r>
            <a:endParaRPr b="0" lang="en-US" sz="2400" spc="-1" strike="noStrike">
              <a:solidFill>
                <a:srgbClr val="e9770a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179280" y="765000"/>
            <a:ext cx="539640" cy="576360"/>
            <a:chOff x="179280" y="765000"/>
            <a:chExt cx="539640" cy="576360"/>
          </a:xfrm>
        </p:grpSpPr>
        <p:sp>
          <p:nvSpPr>
            <p:cNvPr id="158" name=""/>
            <p:cNvSpPr/>
            <p:nvPr/>
          </p:nvSpPr>
          <p:spPr>
            <a:xfrm>
              <a:off x="358560" y="765000"/>
              <a:ext cx="0" cy="57636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9770a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03280" y="765000"/>
              <a:ext cx="0" cy="57636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9770a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79280" y="1052640"/>
              <a:ext cx="539640" cy="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9770a"/>
                </a:solidFill>
                <a:latin typeface="Arial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5219640" y="765000"/>
            <a:ext cx="539640" cy="576360"/>
            <a:chOff x="5219640" y="765000"/>
            <a:chExt cx="539640" cy="576360"/>
          </a:xfrm>
        </p:grpSpPr>
        <p:sp>
          <p:nvSpPr>
            <p:cNvPr id="162" name=""/>
            <p:cNvSpPr/>
            <p:nvPr/>
          </p:nvSpPr>
          <p:spPr>
            <a:xfrm>
              <a:off x="5398920" y="765000"/>
              <a:ext cx="0" cy="57636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9770a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543640" y="765000"/>
              <a:ext cx="0" cy="57636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9770a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219640" y="1052640"/>
              <a:ext cx="539640" cy="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9770a"/>
                </a:solidFill>
                <a:latin typeface="Arial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724360" y="765000"/>
            <a:ext cx="3168720" cy="27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274680"/>
                <a:tab algn="l" pos="549360"/>
                <a:tab algn="l" pos="824040"/>
                <a:tab algn="l" pos="1098720"/>
                <a:tab algn="l" pos="1373040"/>
                <a:tab algn="l" pos="1647720"/>
                <a:tab algn="l" pos="1922400"/>
                <a:tab algn="l" pos="2197080"/>
                <a:tab algn="l" pos="2471760"/>
                <a:tab algn="l" pos="2746440"/>
                <a:tab algn="l" pos="3021120"/>
                <a:tab algn="l" pos="3295800"/>
                <a:tab algn="l" pos="3570120"/>
                <a:tab algn="l" pos="3844800"/>
                <a:tab algn="l" pos="4119480"/>
                <a:tab algn="l" pos="4394160"/>
                <a:tab algn="l" pos="4668840"/>
                <a:tab algn="l" pos="4943520"/>
                <a:tab algn="l" pos="5218200"/>
                <a:tab algn="l" pos="549288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Яркими примерами атавизмов являются волосяной покоов на лице, наружный хвост, лишние пары молочных желёз, перепонки между пальцами.</a:t>
            </a:r>
            <a:endParaRPr b="0" lang="en-US" sz="2400" spc="-1" strike="noStrike">
              <a:solidFill>
                <a:srgbClr val="e9770a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7043760" y="3933720"/>
            <a:ext cx="2100240" cy="292428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3"/>
          <a:stretch/>
        </p:blipFill>
        <p:spPr>
          <a:xfrm>
            <a:off x="4716360" y="3933720"/>
            <a:ext cx="2219400" cy="292428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4"/>
          <a:stretch/>
        </p:blipFill>
        <p:spPr>
          <a:xfrm>
            <a:off x="3564000" y="404640"/>
            <a:ext cx="1676160" cy="151452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5"/>
          <a:stretch/>
        </p:blipFill>
        <p:spPr>
          <a:xfrm>
            <a:off x="1835280" y="4819680"/>
            <a:ext cx="2808000" cy="203832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6"/>
          <a:stretch/>
        </p:blipFill>
        <p:spPr>
          <a:xfrm>
            <a:off x="0" y="4292640"/>
            <a:ext cx="1830240" cy="256536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7"/>
          <a:stretch/>
        </p:blipFill>
        <p:spPr>
          <a:xfrm>
            <a:off x="3635280" y="3500280"/>
            <a:ext cx="3529080" cy="145908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8"/>
          <a:stretch/>
        </p:blipFill>
        <p:spPr>
          <a:xfrm>
            <a:off x="3564000" y="1916280"/>
            <a:ext cx="161928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7537320" y="4005360"/>
            <a:ext cx="1606680" cy="285264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Отличия человека от человекообразных обезьян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50920" y="1700280"/>
            <a:ext cx="822960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8000"/>
                </a:solidFill>
                <a:latin typeface="Arial"/>
              </a:rPr>
              <a:t>Только человеку свойственно прямохождение, благодаря этому он имеет мощные ноги, сводчатую стопу, широкий таз,</a:t>
            </a: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S-</a:t>
            </a:r>
            <a:r>
              <a:rPr b="0" lang="ru-RU" sz="2800" spc="-1" strike="noStrike">
                <a:solidFill>
                  <a:srgbClr val="008000"/>
                </a:solidFill>
                <a:latin typeface="Arial"/>
              </a:rPr>
              <a:t>образный позвоночник  высокая степень развития рук и способность выполнять разнообразные, тонкие и высокоточные операции, большой объем головного мозга, который в 2,5 раза превышает мозг антропоидов и в 3,5 раза — площадь его поверхности, и, наконец, речь, которая свойственна только человеку. </a:t>
            </a:r>
            <a:endParaRPr b="0" lang="en-US" sz="2800" spc="-1" strike="noStrike">
              <a:solidFill>
                <a:srgbClr val="e9770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0T17:40:37Z</dcterms:created>
  <dc:creator>леха</dc:creator>
  <dc:description/>
  <cp:keywords/>
  <dc:language>en-US</dc:language>
  <cp:lastModifiedBy>леха</cp:lastModifiedBy>
  <dcterms:modified xsi:type="dcterms:W3CDTF">2009-02-10T21:43:12Z</dcterms:modified>
  <cp:revision>16</cp:revision>
  <dc:subject/>
  <dc:title>Слайд заставк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1950931049</vt:lpwstr>
  </property>
</Properties>
</file>