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32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D1B-C933-41A1-B67C-8A85A815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2D2-45D9-49E2-9273-8300A670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60622-CFC4-4A00-8036-8A27E51F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D0BC8-21B7-4D3C-B8B8-743FCFF7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B4826-46E2-484E-90F8-B024D21A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3D4BF-F873-45AB-A50D-5D857C5E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53FAF-EDE8-4A6C-B7A2-D50AC7FD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B5E73-D47C-44FA-90AA-6A5E50E7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134FD-41AB-4745-9C40-89586D30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3E4F6-C3A3-492E-AC10-FF15D631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85A60-8712-4C45-A306-B047FBB4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83F-5E9C-404E-96D2-C1855EB9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8A8-CE44-42BC-9DEE-4F7D1E92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80F0-5706-4E90-9A1D-2F21CB9D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5B0B-7F3D-45C2-A084-0BDBA6D5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3D61-8A3F-401A-A334-410ADA24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9958-3CB5-4CF8-B822-85154BDD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7763-EA84-42A1-A03A-C0E90453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CC0F-1FBA-4518-B26C-AF3E3028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E185-EDE0-41C7-9672-AAE92596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1F1-0C3F-4DEE-A439-512757EC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04F3-27D4-42DC-861F-D01DFD91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F485-9396-4596-A891-40DD16B8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3AE1-5754-4564-8F3C-84361253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3114-E143-4C15-B98B-F004CE4D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691D-E849-439D-9545-2166AFC6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19CA-3DE3-4600-9B22-32DEE48C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7C74-BF3D-4EB5-A63E-D61F50DE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4102A-AE70-43C8-A924-A9077984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3D7C-2C89-43BA-9E2D-23F236A1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75431-C020-4615-8232-F14A5A81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4D0-5C0D-4120-A0C2-EBF16DFA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AFFC-EF5C-419D-9807-D34FC9C0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78FD9-5773-45F2-ABA1-B938ACC2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EDA6-FFE9-4F68-B73B-097B01C9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5485F-4656-4A5A-8853-0C410667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E1EE-1918-4C61-B868-3C37B611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E885C-207D-43B5-9E94-FBB5D45D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2DE3D-BFF4-49CE-B533-4FF8B5B5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82A7C-AE63-4CD4-905E-95BD1EFC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AFADB-02B7-4E2F-A9F8-9E191CE6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563F8-F648-4159-AD68-0855AE5C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F96-49D9-4CDC-BA0D-25861513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25154-548C-4AD3-8D15-B220DEF8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C5B49-3BD7-4434-B856-D81EF67A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F43E4-99D2-4D16-955C-393DE4A6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7A63C-6673-4D8C-BDF0-C29732C3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27DE6-FB46-400C-85AE-78D8F950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ADC10-51AC-436E-A930-71E7C1AA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9FAAF-9BE9-4286-A7A9-EE367005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6770D-29E6-4417-AB2C-58ED1B08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58D56-4B1E-4DBE-AB94-37D856BF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0ECBB-8FC7-44CB-B07F-229D9B16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9D3-0051-44EA-868F-EF9C358C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84661-EA59-4B4F-9E47-C5431BE6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7F33A-10E4-4C96-9B9A-0BC65B8C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0B948-09AB-45B6-A912-6ABCB064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67C68-2DA1-44B6-87F3-43F0DA29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F0346-3222-4448-B178-A6A31B14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40EA8-64AA-485C-8AE2-51BEE35A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35B31-FCEC-438F-9298-7829B655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9F7F1-3B86-4C80-A7FD-F7DFB016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008AD-1E51-4953-8388-0248E655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25DD9-876B-4835-8BD9-14871B06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C1E-4D85-427E-87CB-11664713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5CC10-5DA1-4E92-9F31-A60FDB12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73147-CD7B-4F60-8215-0C6ADA3F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A5062-B01D-46A6-807F-C50D4D88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0F2AF-76A3-4084-A4E2-0827F04A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CA9B0-6355-4D22-8E61-50FF5E52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25C99-EA69-4502-BDC7-14974D37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AF357-B700-4B2A-A692-2F09BE38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7B116-BC18-4F04-9FFF-B74BAB0E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E407D-2183-47A1-A08F-DE21BD23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C93B3-74C6-4482-AE80-31212DA2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479-8D20-4312-9646-8E498D80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8B5D0-0051-4D66-A4A5-B2CA8B47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6EF06-5F46-4BC7-8A69-C533E2B4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87CC6-FF93-4E0E-ABCA-CB52B91F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3C535-67BA-4D63-B884-09118B65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134A0-1EAF-4D40-8BB6-06033198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F41BF-EA23-4F2D-B648-64DA76ED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052B0-5F57-4FA9-A988-2B1D4130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0ADFD-17AB-4014-85F0-8DCFE1EA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3E182-5048-4C5C-BB27-97F44080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321A8-9D35-4701-89CA-5751BEF5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1D1-36AD-423D-A59F-251C0906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4C189-22F1-407A-8074-307EB438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4E6FE-D5F4-420C-903B-E95FCE12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6F450-EB03-4934-A01B-A9FF4C10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E8BF2-E5AA-4C99-A195-0C44BFF5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D69B4-95D3-4FAD-A712-97927057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736EF-88FB-42C8-8419-A3CD3118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75EC7-031D-4CC0-AA16-EEBD2AF3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35CE2-E180-4868-A033-43FDDF56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BB0AC-96F4-40AE-AC3B-A65B9F2A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4D0EC-2D52-46EC-ADEE-6852678D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2A1-CA88-49B4-9C65-EFC6147D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EA191-0BF9-48C8-B21B-799563A4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4FBDF-55CD-464D-8727-9DF680BB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CCBB3-09CA-4296-B1C8-09DC3997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DDADA-43C8-4F3B-B4BE-9DF73B21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159F3-45F4-4FEF-9390-0B68529D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B6535-9DDE-47B2-9BF6-AAA92027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30E60-917D-4F2A-B6BA-78E1AF67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C5EEE-B447-4261-91A9-72FCE13B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C71D9-AFF7-41FC-9B1E-9D56133F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F34CB-9A7C-429F-9190-AF647117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D04C-9A9E-44E7-89FB-3492EF3C5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C6D9-B059-495D-99C2-9DABCCCC4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8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D09F-A85A-4738-A1B8-541B9CF371C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3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38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C6F2-1EFC-4A29-92D6-9E3577B0BC2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85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3D23-8A3B-4746-83C6-28EF5ACFAD0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0E47-136A-4D62-A664-B231750EA32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A782-1A1C-4B57-BEB1-E7B7938FDBD5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5030-1E6F-48CC-9B8A-2EFD0200A2F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5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DB58-555F-4D11-85E5-08DEA6EF591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rasteniya-lecarstvennie.ru/uploads/posts/2011-07/1311695228_1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28760" y="1071720"/>
            <a:ext cx="80438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: Носкова Мари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ОШ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 Верещагино Перм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Рисунок 5" descr="sch012.png"/>
          <p:cNvPicPr/>
          <p:nvPr/>
        </p:nvPicPr>
        <p:blipFill>
          <a:blip r:embed="rId1"/>
          <a:stretch/>
        </p:blipFill>
        <p:spPr>
          <a:xfrm>
            <a:off x="1928880" y="3500280"/>
            <a:ext cx="564336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1432080" y="128520"/>
            <a:ext cx="7510320" cy="13035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500040" y="142848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Сдай клеща на анализ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" name="Picture 4" descr="http://www.zin.ru/labs/parantr/img/Fig3B.jpg"/>
          <p:cNvPicPr/>
          <p:nvPr/>
        </p:nvPicPr>
        <p:blipFill>
          <a:blip r:embed="rId2"/>
          <a:stretch/>
        </p:blipFill>
        <p:spPr>
          <a:xfrm>
            <a:off x="2071800" y="2286000"/>
            <a:ext cx="47149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http://images.medicinenet.com/images/SlideShow/lyme_disease_s6_rash.jpg"/>
          <p:cNvPicPr/>
          <p:nvPr/>
        </p:nvPicPr>
        <p:blipFill>
          <a:blip r:embed="rId1"/>
          <a:stretch/>
        </p:blipFill>
        <p:spPr>
          <a:xfrm>
            <a:off x="357120" y="2143080"/>
            <a:ext cx="4521240" cy="3071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Вокруг укуса может возникнуть пятно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39" name="Picture 4" descr="Картинка 92 из 87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928880"/>
            <a:ext cx="3357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7252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2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9053640" cy="28036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http://newsfromweb.ru/images/news7/b10db4617b404908d1.jpg"/>
          <p:cNvPicPr/>
          <p:nvPr/>
        </p:nvPicPr>
        <p:blipFill>
          <a:blip r:embed="rId2"/>
          <a:stretch/>
        </p:blipFill>
        <p:spPr>
          <a:xfrm>
            <a:off x="2357280" y="2500200"/>
            <a:ext cx="50706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Содержимое 3" descr="81.gif"/>
          <p:cNvPicPr/>
          <p:nvPr/>
        </p:nvPicPr>
        <p:blipFill>
          <a:blip r:embed="rId1"/>
          <a:stretch/>
        </p:blipFill>
        <p:spPr>
          <a:xfrm>
            <a:off x="2678040" y="1571760"/>
            <a:ext cx="64659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3" name="Содержимое 8" descr="клещ.jpg"/>
          <p:cNvPicPr/>
          <p:nvPr/>
        </p:nvPicPr>
        <p:blipFill>
          <a:blip r:embed="rId1"/>
          <a:stretch/>
        </p:blipFill>
        <p:spPr>
          <a:xfrm>
            <a:off x="2714760" y="3286080"/>
            <a:ext cx="4762440" cy="323856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5" descr=""/>
          <p:cNvPicPr/>
          <p:nvPr/>
        </p:nvPicPr>
        <p:blipFill>
          <a:blip r:embed="rId2"/>
          <a:stretch/>
        </p:blipFill>
        <p:spPr>
          <a:xfrm>
            <a:off x="201600" y="42840"/>
            <a:ext cx="87534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8840" y="1928880"/>
            <a:ext cx="5000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Правильно оденься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407" name="Прямоугольник 5" descr=""/>
          <p:cNvPicPr/>
          <p:nvPr/>
        </p:nvPicPr>
        <p:blipFill>
          <a:blip r:embed="rId1"/>
          <a:stretch/>
        </p:blipFill>
        <p:spPr>
          <a:xfrm>
            <a:off x="-6480" y="-73080"/>
            <a:ext cx="9156960" cy="19749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http://www.amur.info/resample.php?type=news&amp;name=21573_Les-Kleschi-1.jpg&amp;width=250"/>
          <p:cNvPicPr/>
          <p:nvPr/>
        </p:nvPicPr>
        <p:blipFill>
          <a:blip r:embed="rId2"/>
          <a:stretch/>
        </p:blipFill>
        <p:spPr>
          <a:xfrm>
            <a:off x="1285920" y="3143160"/>
            <a:ext cx="3620880" cy="314352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7" descr="007.jpg"/>
          <p:cNvPicPr/>
          <p:nvPr/>
        </p:nvPicPr>
        <p:blipFill>
          <a:blip r:embed="rId3"/>
          <a:stretch/>
        </p:blipFill>
        <p:spPr>
          <a:xfrm>
            <a:off x="6500880" y="2428920"/>
            <a:ext cx="17859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432080" y="-237960"/>
            <a:ext cx="7510320" cy="1944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59984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Обработай одежду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2" descr="http://www.vse-v-ogorod.ru/img/cont/im_174.jpg"/>
          <p:cNvPicPr/>
          <p:nvPr/>
        </p:nvPicPr>
        <p:blipFill>
          <a:blip r:embed="rId2"/>
          <a:stretch/>
        </p:blipFill>
        <p:spPr>
          <a:xfrm>
            <a:off x="2786040" y="3000240"/>
            <a:ext cx="4148280" cy="3214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http://comagro-semena.ru/data/protect/img/1291846941_3_50b.jpg"/>
          <p:cNvPicPr/>
          <p:nvPr/>
        </p:nvPicPr>
        <p:blipFill>
          <a:blip r:embed="rId3"/>
          <a:stretch/>
        </p:blipFill>
        <p:spPr>
          <a:xfrm>
            <a:off x="7429680" y="2428920"/>
            <a:ext cx="1314360" cy="3809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http://www.ижхимия.рф/data/catalog/003374.jpg"/>
          <p:cNvPicPr/>
          <p:nvPr/>
        </p:nvPicPr>
        <p:blipFill>
          <a:blip r:embed="rId4"/>
          <a:stretch/>
        </p:blipFill>
        <p:spPr>
          <a:xfrm>
            <a:off x="1285920" y="2286000"/>
            <a:ext cx="11001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432080" y="-237960"/>
            <a:ext cx="7510320" cy="1944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214280" y="1643040"/>
            <a:ext cx="69724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Чаще осматривай себя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7" name="Picture 2" descr="http://spushkino.narod.ru/trips/trip_2011/i_trip_2011/trip_2011_020.jpg"/>
          <p:cNvPicPr/>
          <p:nvPr/>
        </p:nvPicPr>
        <p:blipFill>
          <a:blip r:embed="rId2"/>
          <a:stretch/>
        </p:blipFill>
        <p:spPr>
          <a:xfrm>
            <a:off x="357120" y="3000240"/>
            <a:ext cx="4000680" cy="30006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http://www.mancompany.ru/upload/iblock/062/xsau%20teucuourkryb%20onysfbmxtlpd%20yfbqdpzkwvgyicsg%2011%20ovtsgrysuhewijvi.jpg"/>
          <p:cNvPicPr/>
          <p:nvPr/>
        </p:nvPicPr>
        <p:blipFill>
          <a:blip r:embed="rId3"/>
          <a:stretch/>
        </p:blipFill>
        <p:spPr>
          <a:xfrm>
            <a:off x="4714920" y="3000240"/>
            <a:ext cx="4222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432080" y="-237960"/>
            <a:ext cx="7510320" cy="19443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1499760" y="1599840"/>
            <a:ext cx="718668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Не приноси домой цветы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1" name="Picture 2" descr="http://img-2004-05.photosight.ru/17/492403.jpg"/>
          <p:cNvPicPr/>
          <p:nvPr/>
        </p:nvPicPr>
        <p:blipFill>
          <a:blip r:embed="rId2"/>
          <a:stretch/>
        </p:blipFill>
        <p:spPr>
          <a:xfrm>
            <a:off x="965160" y="3000240"/>
            <a:ext cx="3767040" cy="25005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http://www.forumimage.ru/uploads/20110516/130553116265008527.jpg"/>
          <p:cNvPicPr/>
          <p:nvPr/>
        </p:nvPicPr>
        <p:blipFill>
          <a:blip r:embed="rId3"/>
          <a:stretch/>
        </p:blipFill>
        <p:spPr>
          <a:xfrm>
            <a:off x="5072040" y="300024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352520" y="-225360"/>
            <a:ext cx="7510320" cy="1944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1356840" y="1499760"/>
            <a:ext cx="7115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Осматривай животных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5" name="Picture 2" descr="http://www.forumimage.ru/uploads/20110516/130553093126003774.jpg"/>
          <p:cNvPicPr/>
          <p:nvPr/>
        </p:nvPicPr>
        <p:blipFill>
          <a:blip r:embed="rId2"/>
          <a:stretch/>
        </p:blipFill>
        <p:spPr>
          <a:xfrm>
            <a:off x="1000080" y="3000240"/>
            <a:ext cx="4500720" cy="30006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http://megdunami.com/assets/images/prs/good/9df8d_f65047c71eff7e347a485aa4a73a76c1.jpg"/>
          <p:cNvPicPr/>
          <p:nvPr/>
        </p:nvPicPr>
        <p:blipFill>
          <a:blip r:embed="rId3"/>
          <a:stretch/>
        </p:blipFill>
        <p:spPr>
          <a:xfrm>
            <a:off x="5786280" y="2928960"/>
            <a:ext cx="30387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60020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rbel"/>
              </a:rPr>
              <a:t>Вытащи клеща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9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-122400"/>
            <a:ext cx="7162920" cy="1328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http://www.arina-tour.ru/russia/tour_baikal/info/stat/pic/002_2.jpg"/>
          <p:cNvPicPr/>
          <p:nvPr/>
        </p:nvPicPr>
        <p:blipFill>
          <a:blip r:embed="rId2"/>
          <a:stretch/>
        </p:blipFill>
        <p:spPr>
          <a:xfrm>
            <a:off x="1285920" y="2714760"/>
            <a:ext cx="64530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1432080" y="128520"/>
            <a:ext cx="7510320" cy="13035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2203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Обратись в поликлинику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3" name="Picture 6" descr="http://kp.ru/f/12/image/90/60/726090.jpg"/>
          <p:cNvPicPr/>
          <p:nvPr/>
        </p:nvPicPr>
        <p:blipFill>
          <a:blip r:embed="rId2"/>
          <a:stretch/>
        </p:blipFill>
        <p:spPr>
          <a:xfrm>
            <a:off x="2786040" y="257184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5:48:04Z</dcterms:created>
  <dc:creator>User</dc:creator>
  <dc:description/>
  <dc:language>en-US</dc:language>
  <cp:lastModifiedBy>Олег</cp:lastModifiedBy>
  <dcterms:modified xsi:type="dcterms:W3CDTF">2012-05-11T18:38:05Z</dcterms:modified>
  <cp:revision>19</cp:revision>
  <dc:subject/>
  <dc:title>Слайд 1</dc:title>
</cp:coreProperties>
</file>