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3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4F3-6374-4E17-AF1D-CF8C1E29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CD1-15AD-4C23-8BCB-B5715AF7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8A1DF-3AC2-4DA1-A70C-9F58E23D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8F6A7-B6E3-491A-B854-2363A4E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225D8-7850-4F33-8BF2-46AD07BC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FBD3F-AF5D-483A-9194-02AD1D8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A19E4-7CBF-4366-923E-BCD8CCE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0DAF8-77D1-4174-8316-04CF3C68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74335-EC9E-4925-B0CE-79914D88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8CFD2-0301-468B-96B3-D37AA586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6C271-573F-4A61-A53C-F59CC604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532-E7A1-41CB-90A4-65B3F924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AFE-CC08-4B4B-A789-AC76674F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D1ED-2692-421F-B4EF-55CF6E3D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D581-AE10-4DD4-8323-FC78102F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845B-D9AD-4A8A-A13D-B7F5D831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FCB4-8DAE-498A-BE32-FC7D4431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7F50-DD0E-4F65-BBF2-F8DA40FB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A5B-E9A5-4537-A4E7-981BB904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4966-98AE-4D16-ADAA-E1BAB198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971-9FCE-4E1E-876A-2D4123CA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6A58-5ADC-43C6-A3DC-B5373CC9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F416-0105-4F3B-9911-3C0F9E1E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1B99-B58E-426A-AD22-7116AAB5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471F-3309-4B6B-80B3-C9771B95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3FD7-732C-4331-8E54-9C606656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2191-DB76-4627-A01E-C5DE98E4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4DE7-48BD-4C33-8BCC-25666E18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0203-7B95-44CA-A0AD-E303D4A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16C6-2643-4871-96BA-21ED3CD3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D492-C491-4203-A107-4D987285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BC0-7BEE-4A0B-96B9-7666E6DC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ABE7-50EA-462D-8CAF-CB1F24DE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4C2B-FC25-404A-976D-503D6BEE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33DB-F12D-487B-A473-59496001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5D2E-9BE5-4517-81CE-E56F7AAA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F8ED-1459-4194-9818-AB9F2568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02E8-5E69-4365-8D49-36ED31D0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BDD8-CA1B-4897-93A6-21F7E132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C3AD-7057-4CE9-A420-E379DD1B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8175-90B8-4C53-9A90-3C7FDDB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93B89-B826-42B5-BD59-A957EDEE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058-A432-4AD1-912C-1C1D4AE5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59FFB-BFE0-4DF2-814D-59109DD6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C5D4-25C8-4BD9-866F-DF9559B2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4ED2-7F7C-4F02-B73A-40C392DD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7701-7392-47A8-BCB9-3BCF6BE6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A953C-96C8-4158-8463-4B39C935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D509C-B2C3-4CC4-9B33-AB5D157E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7AA84-C41C-4164-ADA5-528D5BA0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3896-84B9-40D2-B015-FB8E3D42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ED7A-932C-4596-B725-18D576BB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91485-1317-41CA-A27C-A9E7C11D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5AD-2475-4FFF-8036-38296A16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3669C-553C-4BDE-A7E5-C33AE323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5629-01FE-41EB-8F97-84697692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73523-15CF-4529-8C7A-DBFBF83A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D336-21EC-49B1-B5BB-B218AEDF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6FFC3-37B8-46C3-901F-3F401C90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5D467-A6EF-4FBB-850D-5CFB677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3867B-5597-41D1-A32B-01E19D0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5D026-4B90-438C-B0C5-0E58A87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EF98D-DD66-446D-A185-505A64C9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625C4-C30B-4EB8-830D-DE5ECE95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975-ED45-47AF-9E44-F3A4CD61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60CA-B958-4B3D-BD90-413C2CE3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832B-99F0-48CD-8178-16F8BE4D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3EE61-9F3C-4A04-9AF8-6C46ED9E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A3E3-DBF3-421E-AC5A-59DE1A30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957F1-0504-49F4-974E-F801A560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1DFF2-2D4A-465E-A356-C86C0070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EF034-A839-4441-9E2F-F85FDF57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FDC18-C250-4490-97FF-CC2C880D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828B2-26C7-4C1E-B42E-7F786A36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A2727-1CA1-4EE3-B776-253B0DDB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F5E-43F5-4D89-9123-C4C034DF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01592-8E0F-4B8E-B5EC-56DED030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8BC65-FD46-4DCC-A7C9-BEF42774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4E8D-9511-4A6C-B7A9-9DB36238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1FA39-44D2-4B2E-AF15-72F6905F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171F9-F496-4801-9BFD-3700B60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89888-79EE-4E69-AE32-B7401C9A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603D1-CBFB-4B15-82E6-F3520BC0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7CE4A-9387-4005-B7C6-84DBA159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53E97-6DE0-4811-8F96-BE55219C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0C2BF-F9DE-49FC-96BF-B76ECA5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B77-E169-4C3D-88D1-859928EF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9612-CB72-4259-A63F-A469AD61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27945-48E1-4AC8-AE01-C7150394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20E40-552C-4AC3-AA22-E5DFFFE6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13187-2279-4F12-B298-7341EFDC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3518F-9D0E-4FDB-8BFE-095BFEB4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C9A8B-FB2D-4055-82B4-2F39C68B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A8054-CEAD-44FF-88C3-5672BD9D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564B-911F-41E9-AA03-A92531D7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635B6-C69E-4BB9-8928-C8182F13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33CFA-BF64-4BAB-8D31-A80BDDEB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E02-DD57-4441-9EED-20215E8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6C607-41C6-4036-A2F8-DA23D9B1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541D8-E95D-47DA-9C7B-C2A45E80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07E37-6F75-41EC-A7A1-61A29095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334A4-9212-48B4-BA47-E13EA63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DF4E5-3F97-4872-83A5-E4BC414F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EC5A6-83C7-4D8D-85ED-F1BC91FF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E02D-5EC9-487B-B740-DA4ED4D4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E9675-EB1A-4EF2-97FF-02AA4647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15386-2C96-4A89-9B03-0C0B6A10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D15D3-62BF-42DE-86C9-F4A82B0A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D110-5CD6-46C6-8C96-14DA1128D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5E2F-D5ED-4693-92CF-D00251158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6013-EC0E-4E7E-B1E3-0422A265A61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38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DCC4-17C3-42E9-A7B0-F22C169B455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469C-78D1-4D4A-8928-342BFFEE25A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02D2-1D47-4867-80EB-B7E0B301401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298E-F22B-4C68-8F1E-1A2BE3C48A3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61D1-5C73-43F3-B422-B9839A0C7F5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9B8E-C4D4-4B3B-9E41-50B7CED75CE0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rasteniya-lecarstvennie.ru/uploads/posts/2011-07/1311695228_1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0438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Носкова Мар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Верещагино Перм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Рисунок 5" descr="sch012.png"/>
          <p:cNvPicPr/>
          <p:nvPr/>
        </p:nvPicPr>
        <p:blipFill>
          <a:blip r:embed="rId1"/>
          <a:stretch/>
        </p:blipFill>
        <p:spPr>
          <a:xfrm>
            <a:off x="1928880" y="3500280"/>
            <a:ext cx="5643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432080" y="128520"/>
            <a:ext cx="7510320" cy="13035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500040" y="14284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Сдай клеща на анализ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4" descr="http://www.zin.ru/labs/parantr/img/Fig3B.jpg"/>
          <p:cNvPicPr/>
          <p:nvPr/>
        </p:nvPicPr>
        <p:blipFill>
          <a:blip r:embed="rId2"/>
          <a:stretch/>
        </p:blipFill>
        <p:spPr>
          <a:xfrm>
            <a:off x="2071800" y="2286000"/>
            <a:ext cx="47149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://images.medicinenet.com/images/SlideShow/lyme_disease_s6_rash.jpg"/>
          <p:cNvPicPr/>
          <p:nvPr/>
        </p:nvPicPr>
        <p:blipFill>
          <a:blip r:embed="rId1"/>
          <a:stretch/>
        </p:blipFill>
        <p:spPr>
          <a:xfrm>
            <a:off x="357120" y="2143080"/>
            <a:ext cx="4521240" cy="3071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Вокруг укуса может возникнуть пятно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9" name="Picture 4" descr="Картинка 92 из 87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92888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725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9053640" cy="2803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http://newsfromweb.ru/images/news7/b10db4617b404908d1.jpg"/>
          <p:cNvPicPr/>
          <p:nvPr/>
        </p:nvPicPr>
        <p:blipFill>
          <a:blip r:embed="rId2"/>
          <a:stretch/>
        </p:blipFill>
        <p:spPr>
          <a:xfrm>
            <a:off x="2357280" y="2500200"/>
            <a:ext cx="5070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Содержимое 3" descr="81.gif"/>
          <p:cNvPicPr/>
          <p:nvPr/>
        </p:nvPicPr>
        <p:blipFill>
          <a:blip r:embed="rId1"/>
          <a:stretch/>
        </p:blipFill>
        <p:spPr>
          <a:xfrm>
            <a:off x="2678040" y="1571760"/>
            <a:ext cx="6465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3" name="Содержимое 8" descr="клещ.jpg"/>
          <p:cNvPicPr/>
          <p:nvPr/>
        </p:nvPicPr>
        <p:blipFill>
          <a:blip r:embed="rId1"/>
          <a:stretch/>
        </p:blipFill>
        <p:spPr>
          <a:xfrm>
            <a:off x="2714760" y="3286080"/>
            <a:ext cx="4762440" cy="323856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" descr=""/>
          <p:cNvPicPr/>
          <p:nvPr/>
        </p:nvPicPr>
        <p:blipFill>
          <a:blip r:embed="rId2"/>
          <a:stretch/>
        </p:blipFill>
        <p:spPr>
          <a:xfrm>
            <a:off x="201600" y="42840"/>
            <a:ext cx="87534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8840" y="1928880"/>
            <a:ext cx="5000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Правильно оденься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07" name="Прямоугольник 5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9156960" cy="1974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www.amur.info/resample.php?type=news&amp;name=21573_Les-Kleschi-1.jpg&amp;width=250"/>
          <p:cNvPicPr/>
          <p:nvPr/>
        </p:nvPicPr>
        <p:blipFill>
          <a:blip r:embed="rId2"/>
          <a:stretch/>
        </p:blipFill>
        <p:spPr>
          <a:xfrm>
            <a:off x="1285920" y="3143160"/>
            <a:ext cx="3620880" cy="31435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7" descr="007.jpg"/>
          <p:cNvPicPr/>
          <p:nvPr/>
        </p:nvPicPr>
        <p:blipFill>
          <a:blip r:embed="rId3"/>
          <a:stretch/>
        </p:blipFill>
        <p:spPr>
          <a:xfrm>
            <a:off x="6500880" y="2428920"/>
            <a:ext cx="17859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432080" y="-237960"/>
            <a:ext cx="7510320" cy="1944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Обработай одежду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2" descr="http://www.vse-v-ogorod.ru/img/cont/im_174.jpg"/>
          <p:cNvPicPr/>
          <p:nvPr/>
        </p:nvPicPr>
        <p:blipFill>
          <a:blip r:embed="rId2"/>
          <a:stretch/>
        </p:blipFill>
        <p:spPr>
          <a:xfrm>
            <a:off x="2786040" y="3000240"/>
            <a:ext cx="4148280" cy="3214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http://comagro-semena.ru/data/protect/img/1291846941_3_50b.jpg"/>
          <p:cNvPicPr/>
          <p:nvPr/>
        </p:nvPicPr>
        <p:blipFill>
          <a:blip r:embed="rId3"/>
          <a:stretch/>
        </p:blipFill>
        <p:spPr>
          <a:xfrm>
            <a:off x="7429680" y="2428920"/>
            <a:ext cx="131436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www.ижхимия.рф/data/catalog/003374.jpg"/>
          <p:cNvPicPr/>
          <p:nvPr/>
        </p:nvPicPr>
        <p:blipFill>
          <a:blip r:embed="rId4"/>
          <a:stretch/>
        </p:blipFill>
        <p:spPr>
          <a:xfrm>
            <a:off x="1285920" y="2286000"/>
            <a:ext cx="1100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432080" y="-237960"/>
            <a:ext cx="7510320" cy="1944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214280" y="1643040"/>
            <a:ext cx="69724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Чаще осматривай себ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7" name="Picture 2" descr="http://spushkino.narod.ru/trips/trip_2011/i_trip_2011/trip_2011_020.jpg"/>
          <p:cNvPicPr/>
          <p:nvPr/>
        </p:nvPicPr>
        <p:blipFill>
          <a:blip r:embed="rId2"/>
          <a:stretch/>
        </p:blipFill>
        <p:spPr>
          <a:xfrm>
            <a:off x="357120" y="300024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www.mancompany.ru/upload/iblock/062/xsau%20teucuourkryb%20onysfbmxtlpd%20yfbqdpzkwvgyicsg%2011%20ovtsgrysuhewijvi.jpg"/>
          <p:cNvPicPr/>
          <p:nvPr/>
        </p:nvPicPr>
        <p:blipFill>
          <a:blip r:embed="rId3"/>
          <a:stretch/>
        </p:blipFill>
        <p:spPr>
          <a:xfrm>
            <a:off x="4714920" y="3000240"/>
            <a:ext cx="4222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32080" y="-237960"/>
            <a:ext cx="7510320" cy="1944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499760" y="1599840"/>
            <a:ext cx="71866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Не приноси домой цвет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1" name="Picture 2" descr="http://img-2004-05.photosight.ru/17/492403.jpg"/>
          <p:cNvPicPr/>
          <p:nvPr/>
        </p:nvPicPr>
        <p:blipFill>
          <a:blip r:embed="rId2"/>
          <a:stretch/>
        </p:blipFill>
        <p:spPr>
          <a:xfrm>
            <a:off x="965160" y="3000240"/>
            <a:ext cx="3767040" cy="2500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http://www.forumimage.ru/uploads/20110516/130553116265008527.jpg"/>
          <p:cNvPicPr/>
          <p:nvPr/>
        </p:nvPicPr>
        <p:blipFill>
          <a:blip r:embed="rId3"/>
          <a:stretch/>
        </p:blipFill>
        <p:spPr>
          <a:xfrm>
            <a:off x="5072040" y="300024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352520" y="-225360"/>
            <a:ext cx="7510320" cy="1944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1356840" y="1499760"/>
            <a:ext cx="7115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Осматривай животных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2" descr="http://www.forumimage.ru/uploads/20110516/130553093126003774.jpg"/>
          <p:cNvPicPr/>
          <p:nvPr/>
        </p:nvPicPr>
        <p:blipFill>
          <a:blip r:embed="rId2"/>
          <a:stretch/>
        </p:blipFill>
        <p:spPr>
          <a:xfrm>
            <a:off x="1000080" y="3000240"/>
            <a:ext cx="4500720" cy="3000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megdunami.com/assets/images/prs/good/9df8d_f65047c71eff7e347a485aa4a73a76c1.jpg"/>
          <p:cNvPicPr/>
          <p:nvPr/>
        </p:nvPicPr>
        <p:blipFill>
          <a:blip r:embed="rId3"/>
          <a:stretch/>
        </p:blipFill>
        <p:spPr>
          <a:xfrm>
            <a:off x="5786280" y="2928960"/>
            <a:ext cx="30387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Вытащи клеща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9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-122400"/>
            <a:ext cx="7162920" cy="1328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://www.arina-tour.ru/russia/tour_baikal/info/stat/pic/002_2.jpg"/>
          <p:cNvPicPr/>
          <p:nvPr/>
        </p:nvPicPr>
        <p:blipFill>
          <a:blip r:embed="rId2"/>
          <a:stretch/>
        </p:blipFill>
        <p:spPr>
          <a:xfrm>
            <a:off x="1285920" y="2714760"/>
            <a:ext cx="64530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432080" y="128520"/>
            <a:ext cx="7510320" cy="1303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2203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Обратись в поликлинику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3" name="Picture 6" descr="http://kp.ru/f/12/image/90/60/726090.jpg"/>
          <p:cNvPicPr/>
          <p:nvPr/>
        </p:nvPicPr>
        <p:blipFill>
          <a:blip r:embed="rId2"/>
          <a:stretch/>
        </p:blipFill>
        <p:spPr>
          <a:xfrm>
            <a:off x="2786040" y="2571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5:48:04Z</dcterms:created>
  <dc:creator>User</dc:creator>
  <dc:description/>
  <dc:language>en-US</dc:language>
  <cp:lastModifiedBy>Олег</cp:lastModifiedBy>
  <dcterms:modified xsi:type="dcterms:W3CDTF">2012-05-11T18:38:05Z</dcterms:modified>
  <cp:revision>19</cp:revision>
  <dc:subject/>
  <dc:title>Слайд 1</dc:title>
</cp:coreProperties>
</file>