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32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3C4-7372-4C36-917A-7B9F5E7A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79E-AB1C-453E-A157-58E4B619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B2987-1706-46FD-A013-04B94BEA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15D61-7E7F-4760-9029-59A4052D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CDD61-769F-4868-9BA5-661E07AD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E3735-AADF-4728-A08E-543AFC52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9CDF1-57A6-4F6F-97AA-2809026B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6A799-D81F-4DF9-86B9-519B2160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FA829-8C7D-41CE-8C01-1B921BC4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A731F-ACE1-4C24-904A-93EC2110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2E3D2-6DBE-4127-BDE6-20A82D89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1FE-952E-4BCE-89CC-248A70A0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BDB-9600-4722-BEEA-26A29987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3E63-5C2D-405B-B75A-522F964B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3CC6-7AF4-41A6-BACF-74BA0F76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B84D-191B-4B95-9F04-C71A5FFA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0D5E-EEF4-4C74-9B2E-FCD1D96A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DBEF-32CA-4F36-85C5-11D25765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D3D1-414E-4764-8336-4CE90AC4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2D2D-1B3E-4444-9629-2DD5CA4C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E16-088C-4C4D-BADA-55A59681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E3D0-EC49-4A6B-A834-382B6073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EA2B-E516-43B3-8375-43B62F69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A22C-0003-4214-BEA8-AB3D9C35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786B-C9BF-4754-AD23-F478AE36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2B06-1808-47BC-901F-250071F3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78B3-310F-40C6-8FA2-23E2F933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CE15-41CD-4D18-900B-CDB6A05D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B2D1C-7686-47BA-A681-F6BAA4C2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EB599-DAD8-444A-8C1E-FEEA3A6C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8BF9-758D-45F5-BE63-30E3B2B4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A72-3D00-4A88-9DE8-8EADADD8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622FC-03A8-4B11-B41A-40B94E21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9D104-D8CC-4058-973D-493A6002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45DF1-4842-4041-90D5-3B74EA3A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4BBB2-A82F-40F1-878B-42EA3179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2AEA5-F029-4F8B-8EB2-5AC21E80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CDBDF-EBF9-42FA-865F-12B98155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9DB2E-2E0F-4D57-8455-08A34120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60E1E-62B6-4307-90E3-ABE7385A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4352D-A848-45E4-B0EA-ED6A8C37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CA9D9-84E7-4997-A1A8-65F7C5DB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441-B638-4904-BD12-5C273BE8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3BD90-7C3E-40EC-B586-94206679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D2E75-2918-408C-AA9F-1AE3E78A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A0129-442D-4A77-944D-60B3DA9A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E2EA9-2DDC-4F9A-91DE-24825569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46536-6CB0-49F9-931B-862AA0DF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2FDD4-5878-4C74-940B-A78B1B24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F5C23-2939-4D97-80E4-FA9BA73F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0330C-8A8B-4A73-A6FE-5F29E3BC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51EA-4340-4393-AEBA-5F2DF6A8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64389-E223-4EF4-A24B-1B06DE3C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666-7BED-4460-A775-31F7D778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910DB-B7CF-4C01-B895-F27CD6FC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56838-A0CE-48B8-849D-90410AC8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6AC38-0B95-4DD1-BE50-DF3D4ED0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A3F47-0B49-47BE-8B3F-9F242BAD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76EB7-0A81-4FE6-900B-43B37F04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06CE7-9609-45AA-855A-B488B8AD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8FF26-89DA-4778-9893-EA0DAB1A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3BEAD-7C11-423C-BD56-DBC740DA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2B6B6-D4CF-48C7-9621-76C4B764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CEA3A-C587-483C-8BC4-C863709B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8DE-053D-40B5-AFC4-5285ACB7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1B8AB-F027-4F1D-986C-86D52E92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C4CD5-8393-4C9B-81D4-E9ACC6CB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9E844-E207-4FB8-9495-80A90246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944FA-BA27-46A0-9842-A5C65770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7E4B5-F6C7-4471-9FB3-3C4B4585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6F422-7734-4ED5-ADC2-BCCEF634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FE84E-A4D2-42C8-B657-960F1E5E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28065-760D-4B37-9613-FADB1249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147A1-DF00-4000-8337-9CA58DBD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7634D-7BFD-486D-A3CB-76C7933B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26C-59E5-4BA4-83B6-532953E5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82E90-1B09-4D7E-8ED3-51DF82FA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A0A06-DF22-4FD9-8A13-8EDE1FF4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E0E65-D96C-4D6C-830E-26CAA016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B0023-8D29-465D-BE23-B0915BFE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7C892-37A3-4D0A-A073-40BFE5B8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794A1-2585-4955-97B1-FB494E80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90E55-0231-4A79-927D-77743596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A20A0-E3EE-4FF8-8587-B8840B63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18476-86A3-42D2-85D0-4A27A275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09124-01E1-4FD2-92B2-1FCD4CFB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2FD-C133-4610-B5F2-30A87EFA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B35B5-DD78-4933-B156-0332BD25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169E4-AC4A-4137-9283-4E79D176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95ACB-A6E9-430A-B933-1BC77019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6F6C5-FE2B-4AFE-A077-762A2682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015B2-A6F3-4131-9F99-99D9220E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5F4BE-4D9E-46DA-A9E5-9D0B6F31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60E36-7EF3-4683-9110-12D2A944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AFADA-A212-44B6-BA4D-47811D9E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603B7-2109-45AA-A1A9-9203B413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09BD0-F784-4875-A21C-4873DAD9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804-6F66-4B50-AD10-B35F0827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9629A-312B-4A3E-98F8-C6D61AB6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B8724-A6DD-4977-8C42-D733AF9B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BD286-C5CE-4952-9AD3-AAACACD1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EBAD4-8518-4910-BB6B-A95CB399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8711F-A449-41B6-B551-6570E9DB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F25B5-46AE-4F2A-A98B-619E815B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F876A-6932-4C79-9913-5ED89CD4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BC5CA-71A7-4503-B46B-9F45596E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82964-5940-42B8-AA85-0FCD7F6D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AC601-E4A1-499D-AF41-6A492F34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1A1C-9259-4174-860C-1A11D76DE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0235-FC3B-4B32-8BC2-3195D698F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8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B11C-2533-4C27-A2CB-174F288B776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3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38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4ADA-9709-4A91-BF46-9F20F6AF4F5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85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0DFA-C958-42A3-9C6B-C4E80A712E3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67F5-6139-4358-A10E-B91B5CB3C12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2023-63BF-496A-8109-CEF9181EE00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E29D-A336-4AAF-9495-B5CDEF119CE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5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D653-FBF0-404A-8490-F27785AF681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rasteniya-lecarstvennie.ru/uploads/posts/2011-07/1311695228_1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28760" y="1071720"/>
            <a:ext cx="80438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: Носкова Мари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ОШ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 Верещагино Перм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Рисунок 5" descr="sch012.png"/>
          <p:cNvPicPr/>
          <p:nvPr/>
        </p:nvPicPr>
        <p:blipFill>
          <a:blip r:embed="rId1"/>
          <a:stretch/>
        </p:blipFill>
        <p:spPr>
          <a:xfrm>
            <a:off x="1928880" y="3500280"/>
            <a:ext cx="564336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1432080" y="128520"/>
            <a:ext cx="7510320" cy="13035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500040" y="142848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Сдай клеща на анализ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" name="Picture 4" descr="http://www.zin.ru/labs/parantr/img/Fig3B.jpg"/>
          <p:cNvPicPr/>
          <p:nvPr/>
        </p:nvPicPr>
        <p:blipFill>
          <a:blip r:embed="rId2"/>
          <a:stretch/>
        </p:blipFill>
        <p:spPr>
          <a:xfrm>
            <a:off x="2071800" y="2286000"/>
            <a:ext cx="47149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http://images.medicinenet.com/images/SlideShow/lyme_disease_s6_rash.jpg"/>
          <p:cNvPicPr/>
          <p:nvPr/>
        </p:nvPicPr>
        <p:blipFill>
          <a:blip r:embed="rId1"/>
          <a:stretch/>
        </p:blipFill>
        <p:spPr>
          <a:xfrm>
            <a:off x="357120" y="2143080"/>
            <a:ext cx="4521240" cy="3071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Вокруг укуса может возникнуть пятно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39" name="Picture 4" descr="Картинка 92 из 87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928880"/>
            <a:ext cx="3357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7252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2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9053640" cy="28036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http://newsfromweb.ru/images/news7/b10db4617b404908d1.jpg"/>
          <p:cNvPicPr/>
          <p:nvPr/>
        </p:nvPicPr>
        <p:blipFill>
          <a:blip r:embed="rId2"/>
          <a:stretch/>
        </p:blipFill>
        <p:spPr>
          <a:xfrm>
            <a:off x="2357280" y="2500200"/>
            <a:ext cx="50706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Содержимое 3" descr="81.gif"/>
          <p:cNvPicPr/>
          <p:nvPr/>
        </p:nvPicPr>
        <p:blipFill>
          <a:blip r:embed="rId1"/>
          <a:stretch/>
        </p:blipFill>
        <p:spPr>
          <a:xfrm>
            <a:off x="2678040" y="1571760"/>
            <a:ext cx="64659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3" name="Содержимое 8" descr="клещ.jpg"/>
          <p:cNvPicPr/>
          <p:nvPr/>
        </p:nvPicPr>
        <p:blipFill>
          <a:blip r:embed="rId1"/>
          <a:stretch/>
        </p:blipFill>
        <p:spPr>
          <a:xfrm>
            <a:off x="2714760" y="3286080"/>
            <a:ext cx="4762440" cy="323856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5" descr=""/>
          <p:cNvPicPr/>
          <p:nvPr/>
        </p:nvPicPr>
        <p:blipFill>
          <a:blip r:embed="rId2"/>
          <a:stretch/>
        </p:blipFill>
        <p:spPr>
          <a:xfrm>
            <a:off x="201600" y="42840"/>
            <a:ext cx="87534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8840" y="1928880"/>
            <a:ext cx="5000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Правильно оденься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407" name="Прямоугольник 5" descr=""/>
          <p:cNvPicPr/>
          <p:nvPr/>
        </p:nvPicPr>
        <p:blipFill>
          <a:blip r:embed="rId1"/>
          <a:stretch/>
        </p:blipFill>
        <p:spPr>
          <a:xfrm>
            <a:off x="-6480" y="-73080"/>
            <a:ext cx="9156960" cy="19749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http://www.amur.info/resample.php?type=news&amp;name=21573_Les-Kleschi-1.jpg&amp;width=250"/>
          <p:cNvPicPr/>
          <p:nvPr/>
        </p:nvPicPr>
        <p:blipFill>
          <a:blip r:embed="rId2"/>
          <a:stretch/>
        </p:blipFill>
        <p:spPr>
          <a:xfrm>
            <a:off x="1285920" y="3143160"/>
            <a:ext cx="3620880" cy="314352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7" descr="007.jpg"/>
          <p:cNvPicPr/>
          <p:nvPr/>
        </p:nvPicPr>
        <p:blipFill>
          <a:blip r:embed="rId3"/>
          <a:stretch/>
        </p:blipFill>
        <p:spPr>
          <a:xfrm>
            <a:off x="6500880" y="2428920"/>
            <a:ext cx="17859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432080" y="-237960"/>
            <a:ext cx="7510320" cy="1944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5998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Обработай одежду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2" descr="http://www.vse-v-ogorod.ru/img/cont/im_174.jpg"/>
          <p:cNvPicPr/>
          <p:nvPr/>
        </p:nvPicPr>
        <p:blipFill>
          <a:blip r:embed="rId2"/>
          <a:stretch/>
        </p:blipFill>
        <p:spPr>
          <a:xfrm>
            <a:off x="2786040" y="3000240"/>
            <a:ext cx="4148280" cy="3214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http://comagro-semena.ru/data/protect/img/1291846941_3_50b.jpg"/>
          <p:cNvPicPr/>
          <p:nvPr/>
        </p:nvPicPr>
        <p:blipFill>
          <a:blip r:embed="rId3"/>
          <a:stretch/>
        </p:blipFill>
        <p:spPr>
          <a:xfrm>
            <a:off x="7429680" y="2428920"/>
            <a:ext cx="1314360" cy="3809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http://www.ижхимия.рф/data/catalog/003374.jpg"/>
          <p:cNvPicPr/>
          <p:nvPr/>
        </p:nvPicPr>
        <p:blipFill>
          <a:blip r:embed="rId4"/>
          <a:stretch/>
        </p:blipFill>
        <p:spPr>
          <a:xfrm>
            <a:off x="1285920" y="2286000"/>
            <a:ext cx="11001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432080" y="-237960"/>
            <a:ext cx="7510320" cy="1944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214280" y="1643040"/>
            <a:ext cx="69724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Чаще осматривай себя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7" name="Picture 2" descr="http://spushkino.narod.ru/trips/trip_2011/i_trip_2011/trip_2011_020.jpg"/>
          <p:cNvPicPr/>
          <p:nvPr/>
        </p:nvPicPr>
        <p:blipFill>
          <a:blip r:embed="rId2"/>
          <a:stretch/>
        </p:blipFill>
        <p:spPr>
          <a:xfrm>
            <a:off x="357120" y="300024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http://www.mancompany.ru/upload/iblock/062/xsau%20teucuourkryb%20onysfbmxtlpd%20yfbqdpzkwvgyicsg%2011%20ovtsgrysuhewijvi.jpg"/>
          <p:cNvPicPr/>
          <p:nvPr/>
        </p:nvPicPr>
        <p:blipFill>
          <a:blip r:embed="rId3"/>
          <a:stretch/>
        </p:blipFill>
        <p:spPr>
          <a:xfrm>
            <a:off x="4714920" y="3000240"/>
            <a:ext cx="4222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432080" y="-237960"/>
            <a:ext cx="7510320" cy="19443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1499760" y="1599840"/>
            <a:ext cx="718668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Не приноси домой цветы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1" name="Picture 2" descr="http://img-2004-05.photosight.ru/17/492403.jpg"/>
          <p:cNvPicPr/>
          <p:nvPr/>
        </p:nvPicPr>
        <p:blipFill>
          <a:blip r:embed="rId2"/>
          <a:stretch/>
        </p:blipFill>
        <p:spPr>
          <a:xfrm>
            <a:off x="965160" y="3000240"/>
            <a:ext cx="3767040" cy="25005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http://www.forumimage.ru/uploads/20110516/130553116265008527.jpg"/>
          <p:cNvPicPr/>
          <p:nvPr/>
        </p:nvPicPr>
        <p:blipFill>
          <a:blip r:embed="rId3"/>
          <a:stretch/>
        </p:blipFill>
        <p:spPr>
          <a:xfrm>
            <a:off x="5072040" y="300024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352520" y="-225360"/>
            <a:ext cx="7510320" cy="1944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1356840" y="1499760"/>
            <a:ext cx="7115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Осматривай животных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5" name="Picture 2" descr="http://www.forumimage.ru/uploads/20110516/130553093126003774.jpg"/>
          <p:cNvPicPr/>
          <p:nvPr/>
        </p:nvPicPr>
        <p:blipFill>
          <a:blip r:embed="rId2"/>
          <a:stretch/>
        </p:blipFill>
        <p:spPr>
          <a:xfrm>
            <a:off x="1000080" y="3000240"/>
            <a:ext cx="4500720" cy="30006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http://megdunami.com/assets/images/prs/good/9df8d_f65047c71eff7e347a485aa4a73a76c1.jpg"/>
          <p:cNvPicPr/>
          <p:nvPr/>
        </p:nvPicPr>
        <p:blipFill>
          <a:blip r:embed="rId3"/>
          <a:stretch/>
        </p:blipFill>
        <p:spPr>
          <a:xfrm>
            <a:off x="5786280" y="2928960"/>
            <a:ext cx="30387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rbel"/>
              </a:rPr>
              <a:t>Вытащи клеща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9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-122400"/>
            <a:ext cx="7162920" cy="1328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http://www.arina-tour.ru/russia/tour_baikal/info/stat/pic/002_2.jpg"/>
          <p:cNvPicPr/>
          <p:nvPr/>
        </p:nvPicPr>
        <p:blipFill>
          <a:blip r:embed="rId2"/>
          <a:stretch/>
        </p:blipFill>
        <p:spPr>
          <a:xfrm>
            <a:off x="1285920" y="2714760"/>
            <a:ext cx="64530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1432080" y="128520"/>
            <a:ext cx="7510320" cy="13035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2203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Обратись в поликлинику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3" name="Picture 6" descr="http://kp.ru/f/12/image/90/60/726090.jpg"/>
          <p:cNvPicPr/>
          <p:nvPr/>
        </p:nvPicPr>
        <p:blipFill>
          <a:blip r:embed="rId2"/>
          <a:stretch/>
        </p:blipFill>
        <p:spPr>
          <a:xfrm>
            <a:off x="2786040" y="257184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5:48:04Z</dcterms:created>
  <dc:creator>User</dc:creator>
  <dc:description/>
  <dc:language>en-US</dc:language>
  <cp:lastModifiedBy>Олег</cp:lastModifiedBy>
  <dcterms:modified xsi:type="dcterms:W3CDTF">2012-05-11T18:38:05Z</dcterms:modified>
  <cp:revision>19</cp:revision>
  <dc:subject/>
  <dc:title>Слайд 1</dc:title>
</cp:coreProperties>
</file>