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B14-3D6C-484D-AB5A-307681B1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967-DEA4-4599-B02C-E62DFE61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700-A8B4-462A-98CC-6567D82F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FD1-7482-4ECA-9E13-BA599C1E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8531-5464-4E15-9405-49108EA5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49D5-72D3-48EF-AD95-F7D0A778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3F92-5B5B-4E0A-8E2B-0B1119A3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7D00-B28A-4647-883B-2C9FFAFA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8E2D-438E-40F3-87DD-1BA3B916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712C-D014-4144-982D-EFBF8C35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02A9-A683-4DBD-A466-57362AC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F11-69AF-47A2-BBF1-3A130580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6EBC-F6C0-4FF1-82E6-53F64A84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F501-E2C8-4769-9161-B48F1066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C2CD-65D8-4525-9E2E-2B3412F9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A638-87A9-4BF6-B9E0-4766266A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BB5A-8779-4718-8606-B2E32626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8C3-0254-4606-9CF8-1CB3D636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611-068E-4E0E-8992-8A09C956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DB5-B5D5-4C59-9DAE-6C32421E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CE9-4808-4045-8C40-32212554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CAC-325E-49F1-897B-9C2FE117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1B6-F0DA-4D60-8C14-C6F7C223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94A-3270-4BA2-A082-527D31D7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5E00-6AB4-4DFD-B084-7459C22CF8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ECF4-A851-4024-A296-A845C934C7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5" descr=""/>
          <p:cNvPicPr/>
          <p:nvPr/>
        </p:nvPicPr>
        <p:blipFill>
          <a:blip r:embed="rId2"/>
          <a:stretch/>
        </p:blipFill>
        <p:spPr>
          <a:xfrm>
            <a:off x="-55440" y="103320"/>
            <a:ext cx="9205920" cy="410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85840" y="142920"/>
            <a:ext cx="85406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merican Retro"/>
              </a:rPr>
              <a:t>Москва́</a:t>
            </a:r>
            <a:r>
              <a:rPr b="0" lang="ru-RU" sz="2800" spc="-1" strike="noStrike">
                <a:solidFill>
                  <a:srgbClr val="ffffff"/>
                </a:solidFill>
                <a:latin typeface="American Retro"/>
              </a:rPr>
              <a:t> — столица Российской Федерации, город федерального значения, административный центр Центрального федерального округа и центр Московской области, в состав которой не входит. Крупнейший по численности населения город России и Европы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merican Retro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merican Retro"/>
              </a:rPr>
              <a:t> Входит в десятку крупнейших городов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Рисунок 3" descr="image8.jpg"/>
          <p:cNvPicPr/>
          <p:nvPr/>
        </p:nvPicPr>
        <p:blipFill>
          <a:blip r:embed="rId1"/>
          <a:stretch/>
        </p:blipFill>
        <p:spPr>
          <a:xfrm>
            <a:off x="1143000" y="3643200"/>
            <a:ext cx="2413080" cy="28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7" name="Рисунок 4" descr="127.jpg"/>
          <p:cNvPicPr/>
          <p:nvPr/>
        </p:nvPicPr>
        <p:blipFill>
          <a:blip r:embed="rId2"/>
          <a:stretch/>
        </p:blipFill>
        <p:spPr>
          <a:xfrm>
            <a:off x="4214880" y="3643200"/>
            <a:ext cx="4119480" cy="279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Прямоугольник 1" descr=""/>
          <p:cNvPicPr/>
          <p:nvPr/>
        </p:nvPicPr>
        <p:blipFill>
          <a:blip r:embed="rId1"/>
          <a:stretch/>
        </p:blipFill>
        <p:spPr>
          <a:xfrm>
            <a:off x="-208080" y="-208080"/>
            <a:ext cx="4999320" cy="18050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28760" y="1500120"/>
            <a:ext cx="82864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merican Retro"/>
              </a:rPr>
              <a:t>Название города связано с именем реки Москвы, которая носила это имя задолго до появления посе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merican Retro"/>
              </a:rPr>
              <a:t>Возраст Москвы точно не известен. Самые древние археологические находки на территории Москвы относятся к каменному веку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merican Retro"/>
              </a:rPr>
              <a:t>в 1156 г. Юрий Долгорукий, судя по сообщению Тверской летописи, заложил здесь город: построил новую, более обширную деревянно-земляную креп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Рисунок 3" descr="moscou8.jpg"/>
          <p:cNvPicPr/>
          <p:nvPr/>
        </p:nvPicPr>
        <p:blipFill>
          <a:blip r:embed="rId2"/>
          <a:stretch/>
        </p:blipFill>
        <p:spPr>
          <a:xfrm>
            <a:off x="3786120" y="4000680"/>
            <a:ext cx="4343400" cy="26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-122400" y="36360"/>
            <a:ext cx="8955360" cy="16164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3" descr="400px-0_4707b_6549aa91_spasskaya.jpg"/>
          <p:cNvPicPr/>
          <p:nvPr/>
        </p:nvPicPr>
        <p:blipFill>
          <a:blip r:embed="rId2"/>
          <a:stretch/>
        </p:blipFill>
        <p:spPr>
          <a:xfrm>
            <a:off x="571680" y="1571760"/>
            <a:ext cx="2357280" cy="353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3" name="Прямоугольник 4"/>
          <p:cNvSpPr/>
          <p:nvPr/>
        </p:nvSpPr>
        <p:spPr>
          <a:xfrm>
            <a:off x="428760" y="5214960"/>
            <a:ext cx="264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merican Retro"/>
              </a:rPr>
              <a:t>Спасская башня</a:t>
            </a:r>
            <a:r>
              <a:rPr b="0" lang="ru-RU" sz="1800" spc="-1" strike="noStrike">
                <a:solidFill>
                  <a:srgbClr val="ffffff"/>
                </a:solidFill>
                <a:latin typeface="American Retro"/>
              </a:rPr>
              <a:t> (ранее — Фроловская башня) — одна из 20 башен Московского Кремля, выходящая на Красную площад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Рисунок 5" descr="300px-Kremlingrand.jpg"/>
          <p:cNvPicPr/>
          <p:nvPr/>
        </p:nvPicPr>
        <p:blipFill>
          <a:blip r:embed="rId3"/>
          <a:stretch/>
        </p:blipFill>
        <p:spPr>
          <a:xfrm>
            <a:off x="3357720" y="1571760"/>
            <a:ext cx="2654280" cy="353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5" name="Прямоугольник 6"/>
          <p:cNvSpPr/>
          <p:nvPr/>
        </p:nvSpPr>
        <p:spPr>
          <a:xfrm>
            <a:off x="3357720" y="5226120"/>
            <a:ext cx="2643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Большой Кремлёвский дворец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один из дворцов Московского Кремля. Построен в 1838—1849 год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Рисунок 7" descr="220px-Tsar_kolokol_Foto_Sherer.jpg"/>
          <p:cNvPicPr/>
          <p:nvPr/>
        </p:nvPicPr>
        <p:blipFill>
          <a:blip r:embed="rId4"/>
          <a:stretch/>
        </p:blipFill>
        <p:spPr>
          <a:xfrm>
            <a:off x="6429240" y="1571760"/>
            <a:ext cx="2362320" cy="352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7" name="Прямоугольник 8"/>
          <p:cNvSpPr/>
          <p:nvPr/>
        </p:nvSpPr>
        <p:spPr>
          <a:xfrm>
            <a:off x="6357960" y="5429160"/>
            <a:ext cx="257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Царь-колокол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— памятник русского литейного искусства XVIII 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3" descr="m01-1.jpg"/>
          <p:cNvPicPr/>
          <p:nvPr/>
        </p:nvPicPr>
        <p:blipFill>
          <a:blip r:embed="rId1"/>
          <a:stretch/>
        </p:blipFill>
        <p:spPr>
          <a:xfrm>
            <a:off x="500040" y="500040"/>
            <a:ext cx="2892600" cy="38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9" name="Прямоугольник 4"/>
          <p:cNvSpPr/>
          <p:nvPr/>
        </p:nvSpPr>
        <p:spPr>
          <a:xfrm>
            <a:off x="500040" y="4611600"/>
            <a:ext cx="2928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Собор Василия Блаженного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православный храм, расположенный на Красной площади Китай-города в Москве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Рисунок 5" descr="300px-Lenins_Mausoleum.jpg"/>
          <p:cNvPicPr/>
          <p:nvPr/>
        </p:nvPicPr>
        <p:blipFill>
          <a:blip r:embed="rId2"/>
          <a:stretch/>
        </p:blipFill>
        <p:spPr>
          <a:xfrm>
            <a:off x="3714840" y="500040"/>
            <a:ext cx="3452760" cy="258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1" name="Прямоугольник 6"/>
          <p:cNvSpPr/>
          <p:nvPr/>
        </p:nvSpPr>
        <p:spPr>
          <a:xfrm>
            <a:off x="7358040" y="500040"/>
            <a:ext cx="164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Мавзолей В. И. Ленина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памятник-усыпальница на Красной площади у Кремлёвской стены в Моск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Прямоугольник 7"/>
          <p:cNvSpPr/>
          <p:nvPr/>
        </p:nvSpPr>
        <p:spPr>
          <a:xfrm>
            <a:off x="7143840" y="4000680"/>
            <a:ext cx="200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Государственная Третьяковская галерея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 — художественный музей в Москве, основанный в 1856 году купцом Павлом Третьяков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Рисунок 8" descr="800px-The_State_Tretyakov_Gallery.jpg"/>
          <p:cNvPicPr/>
          <p:nvPr/>
        </p:nvPicPr>
        <p:blipFill>
          <a:blip r:embed="rId3"/>
          <a:stretch/>
        </p:blipFill>
        <p:spPr>
          <a:xfrm>
            <a:off x="3714840" y="4000680"/>
            <a:ext cx="345420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3" descr="50_big.jpg"/>
          <p:cNvPicPr/>
          <p:nvPr/>
        </p:nvPicPr>
        <p:blipFill>
          <a:blip r:embed="rId1"/>
          <a:stretch/>
        </p:blipFill>
        <p:spPr>
          <a:xfrm>
            <a:off x="357120" y="357120"/>
            <a:ext cx="3357720" cy="244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5" name="Прямоугольник 4"/>
          <p:cNvSpPr/>
          <p:nvPr/>
        </p:nvSpPr>
        <p:spPr>
          <a:xfrm>
            <a:off x="285840" y="3000240"/>
            <a:ext cx="214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Монумент Победы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обелиск на площади Победителей в Парке Победы на Поклонной Го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Рисунок 5" descr="800px-Loubianka_square_memorial.jpg"/>
          <p:cNvPicPr/>
          <p:nvPr/>
        </p:nvPicPr>
        <p:blipFill>
          <a:blip r:embed="rId2"/>
          <a:stretch/>
        </p:blipFill>
        <p:spPr>
          <a:xfrm>
            <a:off x="5324400" y="357120"/>
            <a:ext cx="3544920" cy="235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7" name="Прямоугольник 6"/>
          <p:cNvSpPr/>
          <p:nvPr/>
        </p:nvSpPr>
        <p:spPr>
          <a:xfrm>
            <a:off x="5000760" y="2857680"/>
            <a:ext cx="4143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merican Retro"/>
              </a:rPr>
              <a:t>Соловецкий камень</a:t>
            </a:r>
            <a:r>
              <a:rPr b="0" lang="ru-RU" sz="1800" spc="-1" strike="noStrike">
                <a:solidFill>
                  <a:srgbClr val="ffffff"/>
                </a:solidFill>
                <a:latin typeface="American Retro"/>
              </a:rPr>
              <a:t> — Памятник жертвам политических репрессий в СССР, находящийся в Москве, на Лубянской 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площа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Рисунок 7" descr="Triumphal_Gates_on_the_Poklonnaya_Hill.JPG"/>
          <p:cNvPicPr/>
          <p:nvPr/>
        </p:nvPicPr>
        <p:blipFill>
          <a:blip r:embed="rId3"/>
          <a:stretch/>
        </p:blipFill>
        <p:spPr>
          <a:xfrm>
            <a:off x="2714760" y="3786120"/>
            <a:ext cx="329544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9" name="Прямоугольник 8"/>
          <p:cNvSpPr/>
          <p:nvPr/>
        </p:nvSpPr>
        <p:spPr>
          <a:xfrm>
            <a:off x="6143760" y="4143240"/>
            <a:ext cx="221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Московские Триумфальные ворота 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сооружены в 1829—1834 годах  в честь победы русского народа в Отечественной войне 1812 года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4:27:30Z</dcterms:created>
  <dc:creator>Калаш</dc:creator>
  <dc:description/>
  <dc:language>en-US</dc:language>
  <cp:lastModifiedBy>Djo</cp:lastModifiedBy>
  <dcterms:modified xsi:type="dcterms:W3CDTF">2011-11-17T07:01:45Z</dcterms:modified>
  <cp:revision>12</cp:revision>
  <dc:subject/>
  <dc:title>Слайд 1</dc:title>
</cp:coreProperties>
</file>