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C27-1F11-4373-965E-155AEC1D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320-418A-4B5F-9AF6-EB902730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04D-DA20-4B8B-B6D3-AED54D0A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C41-FDA0-4807-9E8D-602D0A21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F229-A837-48B4-A2BF-7A8A00FD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7C72-6430-43B1-826A-1B7FCECA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E359-DD55-4048-A992-082D7E50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CA0F-BF58-4A5D-826F-D852FA8D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6CB1-B27D-48B9-91E1-FFA04B71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736F-61B3-4BDF-9A9B-9F33694B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0F0A-9E5A-4DA6-8033-AD27B147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DCF-F9D0-47BB-BAE9-4A0339ED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00BD-CEFE-4C01-B71B-F1E2F143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FE49-21FB-4891-A75F-EEE33C33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5FA6-158F-4761-ABA2-DE9C8F76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7176-6021-4BA0-B3E4-95536402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8918-48B0-449E-81CE-BEA8A4E1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FF8-08C9-4874-9F5C-2B5C5FD9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2B9-9D96-45FF-AAC8-26C1E8AC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007-A6A0-4225-8F5C-201A2D72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610-96D9-4D6E-99DB-F42D1C6F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B94-E511-44B4-BBDE-D4EDEB71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18B-9326-4292-9BC9-08A1D0C7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D70-4E51-4BB9-A898-5F1AB877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3292-7FEF-48C9-91F8-800355FBE6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7557-E4BB-423F-8954-92FBF875B4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5" descr=""/>
          <p:cNvPicPr/>
          <p:nvPr/>
        </p:nvPicPr>
        <p:blipFill>
          <a:blip r:embed="rId2"/>
          <a:stretch/>
        </p:blipFill>
        <p:spPr>
          <a:xfrm>
            <a:off x="-55440" y="103320"/>
            <a:ext cx="9205920" cy="410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85840" y="142920"/>
            <a:ext cx="85406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merican Retro"/>
              </a:rPr>
              <a:t>Москва́</a:t>
            </a:r>
            <a:r>
              <a:rPr b="0" lang="ru-RU" sz="2800" spc="-1" strike="noStrike">
                <a:solidFill>
                  <a:srgbClr val="ffffff"/>
                </a:solidFill>
                <a:latin typeface="American Retro"/>
              </a:rPr>
              <a:t> — столица Российской Федерации, город федерального значения, административный центр Центрального федерального округа и центр Московской области, в состав которой не входит. Крупнейший по численности населения город России и Европы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merican Retro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merican Retro"/>
              </a:rPr>
              <a:t> Входит в десятку крупнейших городов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Рисунок 3" descr="image8.jpg"/>
          <p:cNvPicPr/>
          <p:nvPr/>
        </p:nvPicPr>
        <p:blipFill>
          <a:blip r:embed="rId1"/>
          <a:stretch/>
        </p:blipFill>
        <p:spPr>
          <a:xfrm>
            <a:off x="1143000" y="3643200"/>
            <a:ext cx="2413080" cy="28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7" name="Рисунок 4" descr="127.jpg"/>
          <p:cNvPicPr/>
          <p:nvPr/>
        </p:nvPicPr>
        <p:blipFill>
          <a:blip r:embed="rId2"/>
          <a:stretch/>
        </p:blipFill>
        <p:spPr>
          <a:xfrm>
            <a:off x="4214880" y="3643200"/>
            <a:ext cx="4119480" cy="279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Прямоугольник 1" descr=""/>
          <p:cNvPicPr/>
          <p:nvPr/>
        </p:nvPicPr>
        <p:blipFill>
          <a:blip r:embed="rId1"/>
          <a:stretch/>
        </p:blipFill>
        <p:spPr>
          <a:xfrm>
            <a:off x="-208080" y="-208080"/>
            <a:ext cx="4999320" cy="18050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28760" y="1500120"/>
            <a:ext cx="82864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merican Retro"/>
              </a:rPr>
              <a:t>Название города связано с именем реки Москвы, которая носила это имя задолго до появления посе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merican Retro"/>
              </a:rPr>
              <a:t>Возраст Москвы точно не известен. Самые древние археологические находки на территории Москвы относятся к каменному веку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merican Retro"/>
              </a:rPr>
              <a:t>в 1156 г. Юрий Долгорукий, судя по сообщению Тверской летописи, заложил здесь город: построил новую, более обширную деревянно-земляную креп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Рисунок 3" descr="moscou8.jpg"/>
          <p:cNvPicPr/>
          <p:nvPr/>
        </p:nvPicPr>
        <p:blipFill>
          <a:blip r:embed="rId2"/>
          <a:stretch/>
        </p:blipFill>
        <p:spPr>
          <a:xfrm>
            <a:off x="3786120" y="4000680"/>
            <a:ext cx="4343400" cy="26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-122400" y="36360"/>
            <a:ext cx="8955360" cy="16164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3" descr="400px-0_4707b_6549aa91_spasskaya.jpg"/>
          <p:cNvPicPr/>
          <p:nvPr/>
        </p:nvPicPr>
        <p:blipFill>
          <a:blip r:embed="rId2"/>
          <a:stretch/>
        </p:blipFill>
        <p:spPr>
          <a:xfrm>
            <a:off x="571680" y="1571760"/>
            <a:ext cx="2357280" cy="353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3" name="Прямоугольник 4"/>
          <p:cNvSpPr/>
          <p:nvPr/>
        </p:nvSpPr>
        <p:spPr>
          <a:xfrm>
            <a:off x="428760" y="5214960"/>
            <a:ext cx="264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merican Retro"/>
              </a:rPr>
              <a:t>Спасская башня</a:t>
            </a:r>
            <a:r>
              <a:rPr b="0" lang="ru-RU" sz="1800" spc="-1" strike="noStrike">
                <a:solidFill>
                  <a:srgbClr val="ffffff"/>
                </a:solidFill>
                <a:latin typeface="American Retro"/>
              </a:rPr>
              <a:t> (ранее — Фроловская башня) — одна из 20 башен Московского Кремля, выходящая на Красную площад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Рисунок 5" descr="300px-Kremlingrand.jpg"/>
          <p:cNvPicPr/>
          <p:nvPr/>
        </p:nvPicPr>
        <p:blipFill>
          <a:blip r:embed="rId3"/>
          <a:stretch/>
        </p:blipFill>
        <p:spPr>
          <a:xfrm>
            <a:off x="3357720" y="1571760"/>
            <a:ext cx="2654280" cy="353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5" name="Прямоугольник 6"/>
          <p:cNvSpPr/>
          <p:nvPr/>
        </p:nvSpPr>
        <p:spPr>
          <a:xfrm>
            <a:off x="3357720" y="5226120"/>
            <a:ext cx="2643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Большой Кремлёвский дворец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один из дворцов Московского Кремля. Построен в 1838—1849 год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Рисунок 7" descr="220px-Tsar_kolokol_Foto_Sherer.jpg"/>
          <p:cNvPicPr/>
          <p:nvPr/>
        </p:nvPicPr>
        <p:blipFill>
          <a:blip r:embed="rId4"/>
          <a:stretch/>
        </p:blipFill>
        <p:spPr>
          <a:xfrm>
            <a:off x="6429240" y="1571760"/>
            <a:ext cx="2362320" cy="352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7" name="Прямоугольник 8"/>
          <p:cNvSpPr/>
          <p:nvPr/>
        </p:nvSpPr>
        <p:spPr>
          <a:xfrm>
            <a:off x="6357960" y="5429160"/>
            <a:ext cx="257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Царь-колокол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— памятник русского литейного искусства XVIII 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3" descr="m01-1.jpg"/>
          <p:cNvPicPr/>
          <p:nvPr/>
        </p:nvPicPr>
        <p:blipFill>
          <a:blip r:embed="rId1"/>
          <a:stretch/>
        </p:blipFill>
        <p:spPr>
          <a:xfrm>
            <a:off x="500040" y="500040"/>
            <a:ext cx="2892600" cy="38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9" name="Прямоугольник 4"/>
          <p:cNvSpPr/>
          <p:nvPr/>
        </p:nvSpPr>
        <p:spPr>
          <a:xfrm>
            <a:off x="500040" y="4611600"/>
            <a:ext cx="2928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Собор Василия Блаженного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православный храм, расположенный на Красной площади Китай-города в Москве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Рисунок 5" descr="300px-Lenins_Mausoleum.jpg"/>
          <p:cNvPicPr/>
          <p:nvPr/>
        </p:nvPicPr>
        <p:blipFill>
          <a:blip r:embed="rId2"/>
          <a:stretch/>
        </p:blipFill>
        <p:spPr>
          <a:xfrm>
            <a:off x="3714840" y="500040"/>
            <a:ext cx="3452760" cy="258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1" name="Прямоугольник 6"/>
          <p:cNvSpPr/>
          <p:nvPr/>
        </p:nvSpPr>
        <p:spPr>
          <a:xfrm>
            <a:off x="7358040" y="500040"/>
            <a:ext cx="164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Мавзолей В. И. Ленина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памятник-усыпальница на Красной площади у Кремлёвской стены в Моск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Прямоугольник 7"/>
          <p:cNvSpPr/>
          <p:nvPr/>
        </p:nvSpPr>
        <p:spPr>
          <a:xfrm>
            <a:off x="7143840" y="4000680"/>
            <a:ext cx="200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Государственная Третьяковская галерея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 — художественный музей в Москве, основанный в 1856 году купцом Павлом Третьяков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Рисунок 8" descr="800px-The_State_Tretyakov_Gallery.jpg"/>
          <p:cNvPicPr/>
          <p:nvPr/>
        </p:nvPicPr>
        <p:blipFill>
          <a:blip r:embed="rId3"/>
          <a:stretch/>
        </p:blipFill>
        <p:spPr>
          <a:xfrm>
            <a:off x="3714840" y="4000680"/>
            <a:ext cx="345420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3" descr="50_big.jpg"/>
          <p:cNvPicPr/>
          <p:nvPr/>
        </p:nvPicPr>
        <p:blipFill>
          <a:blip r:embed="rId1"/>
          <a:stretch/>
        </p:blipFill>
        <p:spPr>
          <a:xfrm>
            <a:off x="357120" y="357120"/>
            <a:ext cx="3357720" cy="244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5" name="Прямоугольник 4"/>
          <p:cNvSpPr/>
          <p:nvPr/>
        </p:nvSpPr>
        <p:spPr>
          <a:xfrm>
            <a:off x="285840" y="3000240"/>
            <a:ext cx="214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Монумент Победы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обелиск на площади Победителей в Парке Победы на Поклонной Го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Рисунок 5" descr="800px-Loubianka_square_memorial.jpg"/>
          <p:cNvPicPr/>
          <p:nvPr/>
        </p:nvPicPr>
        <p:blipFill>
          <a:blip r:embed="rId2"/>
          <a:stretch/>
        </p:blipFill>
        <p:spPr>
          <a:xfrm>
            <a:off x="5324400" y="357120"/>
            <a:ext cx="3544920" cy="235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7" name="Прямоугольник 6"/>
          <p:cNvSpPr/>
          <p:nvPr/>
        </p:nvSpPr>
        <p:spPr>
          <a:xfrm>
            <a:off x="5000760" y="2857680"/>
            <a:ext cx="4143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merican Retro"/>
              </a:rPr>
              <a:t>Соловецкий камень</a:t>
            </a:r>
            <a:r>
              <a:rPr b="0" lang="ru-RU" sz="1800" spc="-1" strike="noStrike">
                <a:solidFill>
                  <a:srgbClr val="ffffff"/>
                </a:solidFill>
                <a:latin typeface="American Retro"/>
              </a:rPr>
              <a:t> — Памятник жертвам политических репрессий в СССР, находящийся в Москве, на Лубянской 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площа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Рисунок 7" descr="Triumphal_Gates_on_the_Poklonnaya_Hill.JPG"/>
          <p:cNvPicPr/>
          <p:nvPr/>
        </p:nvPicPr>
        <p:blipFill>
          <a:blip r:embed="rId3"/>
          <a:stretch/>
        </p:blipFill>
        <p:spPr>
          <a:xfrm>
            <a:off x="2714760" y="3786120"/>
            <a:ext cx="329544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9" name="Прямоугольник 8"/>
          <p:cNvSpPr/>
          <p:nvPr/>
        </p:nvSpPr>
        <p:spPr>
          <a:xfrm>
            <a:off x="6143760" y="4143240"/>
            <a:ext cx="221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merican Retro"/>
              </a:rPr>
              <a:t>Московские Триумфальные ворота </a:t>
            </a:r>
            <a:r>
              <a:rPr b="0" lang="ru-RU" sz="2000" spc="-1" strike="noStrike">
                <a:solidFill>
                  <a:srgbClr val="ffffff"/>
                </a:solidFill>
                <a:latin typeface="American Retro"/>
              </a:rPr>
              <a:t> — сооружены в 1829—1834 годах  в честь победы русского народа в Отечественной войне 1812 года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4:27:30Z</dcterms:created>
  <dc:creator>Калаш</dc:creator>
  <dc:description/>
  <dc:language>en-US</dc:language>
  <cp:lastModifiedBy>Djo</cp:lastModifiedBy>
  <dcterms:modified xsi:type="dcterms:W3CDTF">2011-11-17T07:01:45Z</dcterms:modified>
  <cp:revision>12</cp:revision>
  <dc:subject/>
  <dc:title>Слайд 1</dc:title>
</cp:coreProperties>
</file>