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08A-130D-4794-A4A4-6F1355AF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7BD-E575-49E0-A700-AFF2067E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3E2-94ED-4130-AB52-37B3DA6F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969-F0FC-484D-96DB-7B5DC3D6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B49-E27A-48F6-B079-0C5E84B0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A93-4AE4-4B7A-AEDA-7508159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C725-6CDE-4E98-806B-7AF0683C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1B93-E063-44B2-A718-4DFEBDD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0174-41FC-4AE9-8295-B7AF2A4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35B2-201F-43A3-8378-2537C69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AED7-E66B-490F-9F78-2244F21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6CA-5E64-4ACB-80A4-0D512FE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4997-C315-4035-A93F-7949E15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75AD-5803-411A-A1CF-C3FEB08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9FCC-99C5-4171-930E-5E20F471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2DC6-B7A8-4B20-84DC-BC483086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CB5D-DB1B-4B01-A6B9-8A3B48D8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9A9-7771-45BC-BA42-0F03FC53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FD7-E41F-4E3D-A905-F4956F2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567-7025-4FA3-91EA-01318E67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CE9-0D7E-47F0-AAA7-2E82CE69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A16-D325-40D5-A7A3-3F05372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248-1B9E-43E8-BCE3-0671347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F82-7FCB-43EA-980A-F424953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0D94-59EB-4F0B-8963-52D5C84008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E98-9994-4CE9-9A72-ABE64C2C2A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5" descr=""/>
          <p:cNvPicPr/>
          <p:nvPr/>
        </p:nvPicPr>
        <p:blipFill>
          <a:blip r:embed="rId2"/>
          <a:stretch/>
        </p:blipFill>
        <p:spPr>
          <a:xfrm>
            <a:off x="-55440" y="103320"/>
            <a:ext cx="9205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85840" y="142920"/>
            <a:ext cx="85406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merican Retro"/>
              </a:rPr>
              <a:t>Москва́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 — столица Российской Федерации, город федерального значения, административный центр Центрального федерального округа и центр Московской области, в состав которой не входит. Крупнейший по численности населения город России и Европы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merican Retro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 Входит в десятку крупнейших городов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3" descr="image8.jpg"/>
          <p:cNvPicPr/>
          <p:nvPr/>
        </p:nvPicPr>
        <p:blipFill>
          <a:blip r:embed="rId1"/>
          <a:stretch/>
        </p:blipFill>
        <p:spPr>
          <a:xfrm>
            <a:off x="1143000" y="3643200"/>
            <a:ext cx="2413080" cy="28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7" name="Рисунок 4" descr="127.jpg"/>
          <p:cNvPicPr/>
          <p:nvPr/>
        </p:nvPicPr>
        <p:blipFill>
          <a:blip r:embed="rId2"/>
          <a:stretch/>
        </p:blipFill>
        <p:spPr>
          <a:xfrm>
            <a:off x="4214880" y="3643200"/>
            <a:ext cx="411948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1" descr=""/>
          <p:cNvPicPr/>
          <p:nvPr/>
        </p:nvPicPr>
        <p:blipFill>
          <a:blip r:embed="rId1"/>
          <a:stretch/>
        </p:blipFill>
        <p:spPr>
          <a:xfrm>
            <a:off x="-208080" y="-208080"/>
            <a:ext cx="4999320" cy="1805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28760" y="1500120"/>
            <a:ext cx="8286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Название города связано с именем реки Москвы, которая носила это имя задолго до появления пос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озраст Москвы точно не известен. Самые древние археологические находки на территории Москвы относятся к каменному веку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 1156 г. Юрий Долгорукий, судя по сообщению Тверской летописи, заложил здесь город: построил новую, более обширную деревянно-земляную креп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Рисунок 3" descr="moscou8.jpg"/>
          <p:cNvPicPr/>
          <p:nvPr/>
        </p:nvPicPr>
        <p:blipFill>
          <a:blip r:embed="rId2"/>
          <a:stretch/>
        </p:blipFill>
        <p:spPr>
          <a:xfrm>
            <a:off x="3786120" y="4000680"/>
            <a:ext cx="434340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-122400" y="36360"/>
            <a:ext cx="8955360" cy="1616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" descr="400px-0_4707b_6549aa91_spasskaya.jpg"/>
          <p:cNvPicPr/>
          <p:nvPr/>
        </p:nvPicPr>
        <p:blipFill>
          <a:blip r:embed="rId2"/>
          <a:stretch/>
        </p:blipFill>
        <p:spPr>
          <a:xfrm>
            <a:off x="571680" y="1571760"/>
            <a:ext cx="2357280" cy="35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3" name="Прямоугольник 4"/>
          <p:cNvSpPr/>
          <p:nvPr/>
        </p:nvSpPr>
        <p:spPr>
          <a:xfrm>
            <a:off x="428760" y="521496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пас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(ранее — Фроловская башня) — одна из 20 башен Московского Кремля, выходящая на Красную площад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Рисунок 5" descr="300px-Kremlingrand.jpg"/>
          <p:cNvPicPr/>
          <p:nvPr/>
        </p:nvPicPr>
        <p:blipFill>
          <a:blip r:embed="rId3"/>
          <a:stretch/>
        </p:blipFill>
        <p:spPr>
          <a:xfrm>
            <a:off x="3357720" y="1571760"/>
            <a:ext cx="2654280" cy="35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5" name="Прямоугольник 6"/>
          <p:cNvSpPr/>
          <p:nvPr/>
        </p:nvSpPr>
        <p:spPr>
          <a:xfrm>
            <a:off x="3357720" y="5226120"/>
            <a:ext cx="264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Большой Кремлёвский дворец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дин из дворцов Московского Кремля. Построен в 1838—1849 го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Рисунок 7" descr="220px-Tsar_kolokol_Foto_Sherer.jpg"/>
          <p:cNvPicPr/>
          <p:nvPr/>
        </p:nvPicPr>
        <p:blipFill>
          <a:blip r:embed="rId4"/>
          <a:stretch/>
        </p:blipFill>
        <p:spPr>
          <a:xfrm>
            <a:off x="6429240" y="1571760"/>
            <a:ext cx="2362320" cy="35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7" name="Прямоугольник 8"/>
          <p:cNvSpPr/>
          <p:nvPr/>
        </p:nvSpPr>
        <p:spPr>
          <a:xfrm>
            <a:off x="6357960" y="5429160"/>
            <a:ext cx="257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Царь-колокол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— памятник русского литейного искусства XVIII 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3" descr="m01-1.jpg"/>
          <p:cNvPicPr/>
          <p:nvPr/>
        </p:nvPicPr>
        <p:blipFill>
          <a:blip r:embed="rId1"/>
          <a:stretch/>
        </p:blipFill>
        <p:spPr>
          <a:xfrm>
            <a:off x="500040" y="500040"/>
            <a:ext cx="28926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9" name="Прямоугольник 4"/>
          <p:cNvSpPr/>
          <p:nvPr/>
        </p:nvSpPr>
        <p:spPr>
          <a:xfrm>
            <a:off x="500040" y="4611600"/>
            <a:ext cx="292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Собор Василия Блаженного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равославный храм, расположенный на Красной площади Китай-города в Москве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Рисунок 5" descr="300px-Lenins_Mausoleum.jpg"/>
          <p:cNvPicPr/>
          <p:nvPr/>
        </p:nvPicPr>
        <p:blipFill>
          <a:blip r:embed="rId2"/>
          <a:stretch/>
        </p:blipFill>
        <p:spPr>
          <a:xfrm>
            <a:off x="3714840" y="500040"/>
            <a:ext cx="345276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1" name="Прямоугольник 6"/>
          <p:cNvSpPr/>
          <p:nvPr/>
        </p:nvSpPr>
        <p:spPr>
          <a:xfrm>
            <a:off x="7358040" y="500040"/>
            <a:ext cx="164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авзолей В. И. Ленина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амятник-усыпальница на Красной площади у Кремлёвской стены в Моск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7143840" y="4000680"/>
            <a:ext cx="200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Государственная Третьяковская галерея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 — художественный музей в Москве, основанный в 1856 году купцом Павлом Третьяков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Рисунок 8" descr="800px-The_State_Tretyakov_Gallery.jpg"/>
          <p:cNvPicPr/>
          <p:nvPr/>
        </p:nvPicPr>
        <p:blipFill>
          <a:blip r:embed="rId3"/>
          <a:stretch/>
        </p:blipFill>
        <p:spPr>
          <a:xfrm>
            <a:off x="3714840" y="4000680"/>
            <a:ext cx="345420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50_big.jpg"/>
          <p:cNvPicPr/>
          <p:nvPr/>
        </p:nvPicPr>
        <p:blipFill>
          <a:blip r:embed="rId1"/>
          <a:stretch/>
        </p:blipFill>
        <p:spPr>
          <a:xfrm>
            <a:off x="357120" y="357120"/>
            <a:ext cx="3357720" cy="244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5" name="Прямоугольник 4"/>
          <p:cNvSpPr/>
          <p:nvPr/>
        </p:nvSpPr>
        <p:spPr>
          <a:xfrm>
            <a:off x="285840" y="3000240"/>
            <a:ext cx="214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нумент Победы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белиск на площади Победителей в Парке Победы на Поклонной Г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Рисунок 5" descr="800px-Loubianka_square_memorial.jpg"/>
          <p:cNvPicPr/>
          <p:nvPr/>
        </p:nvPicPr>
        <p:blipFill>
          <a:blip r:embed="rId2"/>
          <a:stretch/>
        </p:blipFill>
        <p:spPr>
          <a:xfrm>
            <a:off x="5324400" y="357120"/>
            <a:ext cx="354492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7" name="Прямоугольник 6"/>
          <p:cNvSpPr/>
          <p:nvPr/>
        </p:nvSpPr>
        <p:spPr>
          <a:xfrm>
            <a:off x="5000760" y="2857680"/>
            <a:ext cx="4143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оловецкий камень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— Памятник жертвам политических репрессий в СССР, находящийся в Москве, на Лубянской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площа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Рисунок 7" descr="Triumphal_Gates_on_the_Poklonnaya_Hill.JPG"/>
          <p:cNvPicPr/>
          <p:nvPr/>
        </p:nvPicPr>
        <p:blipFill>
          <a:blip r:embed="rId3"/>
          <a:stretch/>
        </p:blipFill>
        <p:spPr>
          <a:xfrm>
            <a:off x="2714760" y="3786120"/>
            <a:ext cx="329544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9" name="Прямоугольник 8"/>
          <p:cNvSpPr/>
          <p:nvPr/>
        </p:nvSpPr>
        <p:spPr>
          <a:xfrm>
            <a:off x="6143760" y="4143240"/>
            <a:ext cx="221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сковские Триумфальные ворота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сооружены в 1829—1834 годах  в честь победы русского народа в Отечественной войне 1812 года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4:27:30Z</dcterms:created>
  <dc:creator>Калаш</dc:creator>
  <dc:description/>
  <dc:language>en-US</dc:language>
  <cp:lastModifiedBy>Djo</cp:lastModifiedBy>
  <dcterms:modified xsi:type="dcterms:W3CDTF">2011-11-17T07:01:45Z</dcterms:modified>
  <cp:revision>12</cp:revision>
  <dc:subject/>
  <dc:title>Слайд 1</dc:title>
</cp:coreProperties>
</file>