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305-0CF4-4FAE-81DF-660749C9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8E1-0281-4EBB-AB3E-D66742D2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44E-6876-47A0-B849-1D893F5B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829-0E7C-481D-B3D9-3B94A851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0ECD-060C-4116-9EB0-5DD23032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C1D-24D3-4667-8822-812B29EC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C41B-28FC-49CA-BD37-BA5AD73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4C1F-C1F0-428F-833B-58FB901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7F11-120D-4D7E-B9F0-32C8C8C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025-D83B-427C-9E20-F7ABE8CA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98B-82A4-4AEE-9AE1-001FA63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637-8D78-4BC6-98FC-D391A2A3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F4D-5E47-49D6-B4A5-FC45771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E11A-FFA9-48B9-9F5F-90ACF9F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A108-B821-49EE-A761-79F2AC1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B847-D9C0-4281-800E-7AC4ED5D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6B02-2EE9-409B-821A-9CA9C734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CA3-BC46-4BD9-BC23-3B08CC33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27C-57B3-42A7-85D9-18F23247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37D-8199-42EF-A257-9C6A1196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CED-9D71-4E47-8322-167DF1F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EB0-C30D-4066-A727-59E9C9F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008-720C-4E10-9C3D-B493D8A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04D-9782-417A-A959-7ED6929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145-9089-4A29-935F-120C66AA14A1}" type="datetime3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A6F-A1B7-4AA5-882F-3F17CD19D62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DA23-A6EA-4F09-A378-AFEE71CE0DB8}" type="datetime3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0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F0E-6C20-45A0-9F6F-B57580FB102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D3BA-CE39-480A-B1E6-399DFF1D146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5" name="Picture 4" descr="бакт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1116000" y="1989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 бактерий в природе и жизни человек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6C7D-2D92-44D0-995E-F9ECD684F82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Йогу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о́гу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исломолочный продукт, который производится из цельного молока путем его сквашивания специальными культурами — Lactobacillus bulgaricus (болгарская палочка) и Streptococcus thermophilus (термофильный стрептококком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Picture 8" descr="Йогурт"/>
          <p:cNvPicPr/>
          <p:nvPr/>
        </p:nvPicPr>
        <p:blipFill>
          <a:blip r:embed="rId1"/>
          <a:stretch/>
        </p:blipFill>
        <p:spPr>
          <a:xfrm>
            <a:off x="468360" y="2349360"/>
            <a:ext cx="424332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87B-19E8-451F-98CB-088EF4C1890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яжен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я́ж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исломолочный напиток, получаемый из коровьего топлёного молока совместным молочнокислым и спиртовым брожением. Заквашивание производится термофильными молочнокислыми стрептококками и чистыми культурами болгарской палочки, сквашивается в течение 3—6 часов. Имеет желтовато-буроватый оттенок и традиционный кисломолочный вкус. Фактически является одной из разновидностей йогурта без вкусовых добавок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Picture 8" descr="Ряженка"/>
          <p:cNvPicPr/>
          <p:nvPr/>
        </p:nvPicPr>
        <p:blipFill>
          <a:blip r:embed="rId1"/>
          <a:stretch/>
        </p:blipFill>
        <p:spPr>
          <a:xfrm>
            <a:off x="4859280" y="1052640"/>
            <a:ext cx="34020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090-8D66-4C41-8981-629E13AF9B6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аренец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аренец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опленое молоко, приготавливаемое медленным вытапливанием (выпариванием) молока в глиняных крынках в русской печи так, чтобы оно убавилось минимум на треть своего объема и приобрело красноватый оттенок. Для этого молоко ставят в печь после хлебов на несколько часов, в течение которых оно «усыхает», но не кипит. Затем топленое молоко заправляется (заквашивается) сметаной (из расчета 200 г на литр) и выдерживается в закрытом виде 3—4 часа в теплом помещении.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" name="Picture 8" descr="Варенец"/>
          <p:cNvPicPr/>
          <p:nvPr/>
        </p:nvPicPr>
        <p:blipFill>
          <a:blip r:embed="rId1"/>
          <a:stretch/>
        </p:blipFill>
        <p:spPr>
          <a:xfrm>
            <a:off x="900000" y="1557360"/>
            <a:ext cx="31449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FA57-B9BA-450D-B62E-A24526B18EE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йма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Каймак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-  густые, толстые, как блины, уваренные пенки, приготавливаемые из жирного топленого молока. Молоко для каймака кипятят на слабом огне в плоской посуде и по мере уплотнения пенок снимают их и наслаивают одну на другую, давая затем возможность в течение суток-двух слегка закиснуть. Каймак обладает также и особой микрофлорой, создающейся в нем в результате кислого брожения, что превращает его не только в приятный, вкусный, питательный, но и в полезный продукт, особенно для тех, кто трудно переносит обычные жир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Picture 6" descr="каймак"/>
          <p:cNvPicPr/>
          <p:nvPr/>
        </p:nvPicPr>
        <p:blipFill>
          <a:blip r:embed="rId1"/>
          <a:stretch/>
        </p:blipFill>
        <p:spPr>
          <a:xfrm>
            <a:off x="4643280" y="2565360"/>
            <a:ext cx="400392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1BE-120C-4A1C-B8AA-A9330EC214E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умы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мы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исломолочный напиток беловатого цвета из кобыльего молока, полученный в результате молочнокислого и спиртового брожения при помощи болгарской и ацидофильной молочнокислых палочек и дрожже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Picture 8" descr="Кумыс"/>
          <p:cNvPicPr/>
          <p:nvPr/>
        </p:nvPicPr>
        <p:blipFill>
          <a:blip r:embed="rId1"/>
          <a:stretch/>
        </p:blipFill>
        <p:spPr>
          <a:xfrm>
            <a:off x="5003640" y="1413000"/>
            <a:ext cx="2913120" cy="43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5823-59E2-45C5-BF54-43FFFA219F2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Молочнокислые бактерии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Участвуют в заквашивании капусты и солении огурцов и помидор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71760" cy="286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Красные круглые томаты"/>
          <p:cNvPicPr/>
          <p:nvPr/>
        </p:nvPicPr>
        <p:blipFill>
          <a:blip r:embed="rId2"/>
          <a:stretch/>
        </p:blipFill>
        <p:spPr>
          <a:xfrm>
            <a:off x="1476360" y="3357720"/>
            <a:ext cx="345132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160D-0095-4605-B8E9-2B8BF28A31A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остокваш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тся при молочнокислом брожении моло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Picture 4" descr="Простокваша"/>
          <p:cNvPicPr/>
          <p:nvPr/>
        </p:nvPicPr>
        <p:blipFill>
          <a:blip r:embed="rId1"/>
          <a:stretch/>
        </p:blipFill>
        <p:spPr>
          <a:xfrm>
            <a:off x="105084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0D2E-F15A-4DF8-BDF9-AD731BB7D41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ыр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ыр «Рокфор» получается в результате жизнедеятельности молочнокислых бактерий и особых грибк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Picture 6" descr="Сыр рокфор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11DA-E7CC-44BD-B953-84610757D2C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4. Болезнетворн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ызывают такие болезни, как тиф, дизентерия, холера, бруцеллёз, туберкулёз, ангину, сап, сибирскую язву, столбняк, чум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B25D-06EF-4CBD-B48C-1463E1DE051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Болезнетворн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09880" cy="2871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2771640" y="5465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тафилококк золотисты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Picture 12" descr="Стафилококк"/>
          <p:cNvPicPr/>
          <p:nvPr/>
        </p:nvPicPr>
        <p:blipFill>
          <a:blip r:embed="rId2"/>
          <a:stretch/>
        </p:blipFill>
        <p:spPr>
          <a:xfrm>
            <a:off x="4500720" y="2637000"/>
            <a:ext cx="4206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E68-9883-48AF-9609-ABF4E3B8748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лассификация бактери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бактерии разложения и гние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почвенные бактери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молочнокислые бактери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болезнетворные бактери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06AE-704B-496D-8150-D29984069FB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Стрептококк и стрептококковая инфекц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58" name="Picture 6" descr="Стрептококковая инфекция"/>
          <p:cNvPicPr/>
          <p:nvPr/>
        </p:nvPicPr>
        <p:blipFill>
          <a:blip r:embed="rId1"/>
          <a:stretch/>
        </p:blipFill>
        <p:spPr>
          <a:xfrm>
            <a:off x="250920" y="2349360"/>
            <a:ext cx="4187880" cy="312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Стрептококк"/>
          <p:cNvPicPr/>
          <p:nvPr/>
        </p:nvPicPr>
        <p:blipFill>
          <a:blip r:embed="rId2"/>
          <a:stretch/>
        </p:blipFill>
        <p:spPr>
          <a:xfrm>
            <a:off x="4500720" y="2349360"/>
            <a:ext cx="43495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945A-77A7-4F14-A6E7-09D1793827A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олерный вибрио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02280" cy="45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AE5-5C18-4E9A-8833-A5C7A75AE24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Борьба с болезнетворными бактериями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Меры предупреждения болезней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закрывать рот при кашле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кипятить носовые платки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осуществлять врачебный контроль над источниками воды и продуктами пита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дезинфицировать помещени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делать предупредительные прививки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9DDB-01E1-45D5-802A-4904CE0B4DD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1. Бактерии разложения и гниен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чве содержится огромное число бактерий – сотни миллионов в 1г. В бедных тундровых почвах или песчаных почвах пустыни их насчитывается, в слабоподзолистых – до миллиарда, а в богатом органическим веществом чернозёме – до 2 миллиардов и выше. Это составляет около 35 сухой массы почв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актерии принимают участие в  выветривании горных пород и минералов. Так, железобактерии сформировали крупные отложения железных руд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8015-99FB-4AE2-A11B-3CC06282865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2. Азотфиксирующие (почвенные) бактерии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е поставляет бактериям необходимые им для роста и развития углеводы и минеральные соли, а взамен получает азот, который клубеньковые бактерии способны фиксировать.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162-7F24-4EC9-A7C9-A0BE2529EDD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3. Молочнокислые бактери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DBBD-59DF-4B60-9682-3257C625589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исломолочные продукт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айран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ацидофилин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кефир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йогурт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ряженк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варенец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 кайма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простокваш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кумыс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EC3C-5E5C-4FEC-8927-6107D0869C1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йра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новидность кисломолочного напитка на основе катыка или разновидность кефира у тюркских и кавказских народов (в разных языках точный смысл названия и технология приготовления немного отличаются, но общим является то, что это молочный продукт, получаемый при помощи молочно-кислых бактерий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Picture 6" descr="Айран"/>
          <p:cNvPicPr/>
          <p:nvPr/>
        </p:nvPicPr>
        <p:blipFill>
          <a:blip r:embed="rId1"/>
          <a:stretch/>
        </p:blipFill>
        <p:spPr>
          <a:xfrm>
            <a:off x="4716360" y="2421000"/>
            <a:ext cx="3625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4F5-4131-4BD3-B3CF-9F61095B120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цидофили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иетический продукт - молоко, заквашенное особыми (ацидофильными) бактериям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ырабатывается из молока, сквашенного заквасками чистых культур, одна из которых – ацидофильная палочка. В 1910 году русский ученый Гартье Э.Э. доказал, что ацидофильную палочку можно с успехом применять с лечебными профилактическими целями в борьбе с желудочно-кишечными заболеваниями, и что эта бактерия очищает кишечник от гнилостных и некоторых болезнетворных микробов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Picture 8" descr="Ацидофилин"/>
          <p:cNvPicPr/>
          <p:nvPr/>
        </p:nvPicPr>
        <p:blipFill>
          <a:blip r:embed="rId1"/>
          <a:stretch/>
        </p:blipFill>
        <p:spPr>
          <a:xfrm>
            <a:off x="1162080" y="19810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F70D-4D08-4975-AD44-3AD6EDD2089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ефир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ефи́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кисломолочный напиток, получаемый из цельного или обезжиреного коровьего молока путем кисломолочного и спиртового брожения с применением кефирных «грибков» — симбиоза нескольких видов микроорганизмов: молочнокислых стрептококков и палочек, уксуснокислых бактерий и дрожжей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8" descr="Кефир"/>
          <p:cNvPicPr/>
          <p:nvPr/>
        </p:nvPicPr>
        <p:blipFill>
          <a:blip r:embed="rId1"/>
          <a:stretch/>
        </p:blipFill>
        <p:spPr>
          <a:xfrm>
            <a:off x="4643280" y="1052640"/>
            <a:ext cx="3613320" cy="481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50:00Z</dcterms:created>
  <dc:creator>user</dc:creator>
  <dc:description/>
  <dc:language>en-US</dc:language>
  <cp:lastModifiedBy>Admin</cp:lastModifiedBy>
  <dcterms:modified xsi:type="dcterms:W3CDTF">2010-12-27T16:52:23Z</dcterms:modified>
  <cp:revision>11</cp:revision>
  <dc:subject/>
  <dc:title>Значение бактерий  в природе и жизни человека</dc:title>
</cp:coreProperties>
</file>