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C80-5A18-480D-887D-D671C32A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2F9-D297-4D7D-B0AE-485A7C0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0B6-A6F5-4E73-B8F0-E3432FC7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853-6330-481F-AD25-064470F4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845D-1E53-4CF8-B0D3-A86C2552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4000-5D61-4C50-94CD-28206D0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ED5A-D69F-478C-A399-1EB50BC0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E37B-C767-49EF-9EAA-30490E5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614D-3F25-4CD7-83CB-14ED0A64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B54-7B9C-4BC8-894B-C76ED54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14BD-BA39-4FB1-B19D-EAB2DD77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832-6AC3-4F7D-B47B-9EEE8009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CC8-79B3-45EA-B3D3-6DAEC36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638D-18EE-4187-BB95-7BB4752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7189-A0FA-45CA-9CAC-2E9A3592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9968-EDEC-4D07-9EEE-1FA27770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7A4B-F705-423A-8EA4-5175768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502-4D0A-4377-A0A8-2E11ECB6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859-C6D2-4BF2-B2A4-9798EA4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624-B208-4B40-A692-FB54083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BAC-F5F1-4D80-850A-587D833F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6E9-364A-4C35-8CC7-9E20C679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2B9-3E43-4270-8BA7-92B5BDB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7C1-6A13-4EC6-A98C-57CBCDF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39A-0D1D-46D8-B80B-61CF45750CF2}" type="datetime3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FA17-5E1B-4127-970C-50CC1A06E32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86B-84E1-4A59-AD2C-17A5AF06C87B}" type="datetime3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1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060E-7303-4098-B423-CEBBF24881D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1139-4CD5-457E-859A-F0C3D85757A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5" name="Picture 4" descr="бакт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1116000" y="1989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 бактерий в природе и жизни человек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992-906A-4EDE-B7A7-D7B6B1A7F7B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Йогу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о́гу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исломолочный продукт, который производится из цельного молока путем его сквашивания специальными культурами — Lactobacillus bulgaricus (болгарская палочка) и Streptococcus thermophilus (термофильный стрептококком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Picture 8" descr="Йогурт"/>
          <p:cNvPicPr/>
          <p:nvPr/>
        </p:nvPicPr>
        <p:blipFill>
          <a:blip r:embed="rId1"/>
          <a:stretch/>
        </p:blipFill>
        <p:spPr>
          <a:xfrm>
            <a:off x="468360" y="2349360"/>
            <a:ext cx="424332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8DE-8407-4C34-810A-EBFCE7E6820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яжен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я́ж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исломолочный напиток, получаемый из коровьего топлёного молока совместным молочнокислым и спиртовым брожением. Заквашивание производится термофильными молочнокислыми стрептококками и чистыми культурами болгарской палочки, сквашивается в течение 3—6 часов. Имеет желтовато-буроватый оттенок и традиционный кисломолочный вкус. Фактически является одной из разновидностей йогурта без вкусовых добавок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Picture 8" descr="Ряженка"/>
          <p:cNvPicPr/>
          <p:nvPr/>
        </p:nvPicPr>
        <p:blipFill>
          <a:blip r:embed="rId1"/>
          <a:stretch/>
        </p:blipFill>
        <p:spPr>
          <a:xfrm>
            <a:off x="4859280" y="1052640"/>
            <a:ext cx="34020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0CD-08AA-47F8-8EB6-CB356F5B3F3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аренец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аренец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опленое молоко, приготавливаемое медленным вытапливанием (выпариванием) молока в глиняных крынках в русской печи так, чтобы оно убавилось минимум на треть своего объема и приобрело красноватый оттенок. Для этого молоко ставят в печь после хлебов на несколько часов, в течение которых оно «усыхает», но не кипит. Затем топленое молоко заправляется (заквашивается) сметаной (из расчета 200 г на литр) и выдерживается в закрытом виде 3—4 часа в теплом помещении.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" name="Picture 8" descr="Варенец"/>
          <p:cNvPicPr/>
          <p:nvPr/>
        </p:nvPicPr>
        <p:blipFill>
          <a:blip r:embed="rId1"/>
          <a:stretch/>
        </p:blipFill>
        <p:spPr>
          <a:xfrm>
            <a:off x="900000" y="1557360"/>
            <a:ext cx="31449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FD2F-B50D-4A26-BDC9-DF37E392CF1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йма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Каймак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-  густые, толстые, как блины, уваренные пенки, приготавливаемые из жирного топленого молока. Молоко для каймака кипятят на слабом огне в плоской посуде и по мере уплотнения пенок снимают их и наслаивают одну на другую, давая затем возможность в течение суток-двух слегка закиснуть. Каймак обладает также и особой микрофлорой, создающейся в нем в результате кислого брожения, что превращает его не только в приятный, вкусный, питательный, но и в полезный продукт, особенно для тех, кто трудно переносит обычные жир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Picture 6" descr="каймак"/>
          <p:cNvPicPr/>
          <p:nvPr/>
        </p:nvPicPr>
        <p:blipFill>
          <a:blip r:embed="rId1"/>
          <a:stretch/>
        </p:blipFill>
        <p:spPr>
          <a:xfrm>
            <a:off x="4643280" y="2565360"/>
            <a:ext cx="400392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7BB-2CBC-4A41-9811-678C5AE395F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умы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мы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исломолочный напиток беловатого цвета из кобыльего молока, полученный в результате молочнокислого и спиртового брожения при помощи болгарской и ацидофильной молочнокислых палочек и дрожже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Picture 8" descr="Кумыс"/>
          <p:cNvPicPr/>
          <p:nvPr/>
        </p:nvPicPr>
        <p:blipFill>
          <a:blip r:embed="rId1"/>
          <a:stretch/>
        </p:blipFill>
        <p:spPr>
          <a:xfrm>
            <a:off x="5003640" y="1413000"/>
            <a:ext cx="2913120" cy="43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2C1-2287-4718-AEAE-85C2BA443C8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Молочнокислые бактерии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Участвуют в заквашивании капусты и солении огурцов и помидор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71760" cy="286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Красные круглые томаты"/>
          <p:cNvPicPr/>
          <p:nvPr/>
        </p:nvPicPr>
        <p:blipFill>
          <a:blip r:embed="rId2"/>
          <a:stretch/>
        </p:blipFill>
        <p:spPr>
          <a:xfrm>
            <a:off x="1476360" y="3357720"/>
            <a:ext cx="345132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88D-82A6-4F27-8646-8C6006D8962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остокваш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тся при молочнокислом брожении моло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Picture 4" descr="Простокваша"/>
          <p:cNvPicPr/>
          <p:nvPr/>
        </p:nvPicPr>
        <p:blipFill>
          <a:blip r:embed="rId1"/>
          <a:stretch/>
        </p:blipFill>
        <p:spPr>
          <a:xfrm>
            <a:off x="105084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45B4-5F79-4D23-8EA1-138CE4286E0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ыр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ыр «Рокфор» получается в результате жизнедеятельности молочнокислых бактерий и особых грибк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Picture 6" descr="Сыр рокфор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6D39-DE0A-4033-BC0F-A96BDB43509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4. Болезнетворн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ызывают такие болезни, как тиф, дизентерия, холера, бруцеллёз, туберкулёз, ангину, сап, сибирскую язву, столбняк, чум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968F-CABD-4916-B07D-2BBC712B2A6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Болезнетворн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09880" cy="2871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2771640" y="5465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тафилококк золотисты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Picture 12" descr="Стафилококк"/>
          <p:cNvPicPr/>
          <p:nvPr/>
        </p:nvPicPr>
        <p:blipFill>
          <a:blip r:embed="rId2"/>
          <a:stretch/>
        </p:blipFill>
        <p:spPr>
          <a:xfrm>
            <a:off x="4500720" y="2637000"/>
            <a:ext cx="4206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A95-4A75-405A-A931-BDAB126D681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лассификация бактери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бактерии разложения и гние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почвенные бактери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молочнокислые бактери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болезнетворные бактери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9081-D191-4C9E-B18C-F7CE08DB629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Стрептококк и стрептококковая инфекц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8" name="Picture 6" descr="Стрептококковая инфекция"/>
          <p:cNvPicPr/>
          <p:nvPr/>
        </p:nvPicPr>
        <p:blipFill>
          <a:blip r:embed="rId1"/>
          <a:stretch/>
        </p:blipFill>
        <p:spPr>
          <a:xfrm>
            <a:off x="250920" y="2349360"/>
            <a:ext cx="4187880" cy="312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Стрептококк"/>
          <p:cNvPicPr/>
          <p:nvPr/>
        </p:nvPicPr>
        <p:blipFill>
          <a:blip r:embed="rId2"/>
          <a:stretch/>
        </p:blipFill>
        <p:spPr>
          <a:xfrm>
            <a:off x="4500720" y="2349360"/>
            <a:ext cx="43495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8A02-68ED-485F-B55D-B1D206AC8A7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олерный вибрио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02280" cy="45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98C0-4216-404C-9288-15CAE3ED432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Борьба с болезнетворными бактериями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Меры предупреждения болезней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закрывать рот при кашле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кипятить носовые платк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осуществлять врачебный контроль над источниками воды и продуктами пита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дезинфицировать помеще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делать предупредительные прививк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DA3D-CAE4-40B9-A85B-689E8855E5C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1. Бактерии разложения и гниен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чве содержится огромное число бактерий – сотни миллионов в 1г. В бедных тундровых почвах или песчаных почвах пустыни их насчитывается, в слабоподзолистых – до миллиарда, а в богатом органическим веществом чернозёме – до 2 миллиардов и выше. Это составляет около 35 сухой массы почв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актерии принимают участие в  выветривании горных пород и минералов. Так, железобактерии сформировали крупные отложения железных руд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A1AE-B8AA-49F4-8B3E-04E45EFB19F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2. Азотфиксирующие (почвенные) бактерии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е поставляет бактериям необходимые им для роста и развития углеводы и минеральные соли, а взамен получает азот, который клубеньковые бактерии способны фиксировать.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8AA4-C38D-4B81-9516-1AF2759F2F2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3. Молочнокисл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A42-BB04-4825-B119-FEC963FD436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исломолочные продукт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айран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ацидофилин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кефир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йогурт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ряженк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варенец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кайма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простокваш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кумыс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EE8A-7CF1-44C9-8BF2-014A51DD71F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йра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новидность кисломолочного напитка на основе катыка или разновидность кефира у тюркских и кавказских народов (в разных языках точный смысл названия и технология приготовления немного отличаются, но общим является то, что это молочный продукт, получаемый при помощи молочно-кислых бактерий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Picture 6" descr="Айран"/>
          <p:cNvPicPr/>
          <p:nvPr/>
        </p:nvPicPr>
        <p:blipFill>
          <a:blip r:embed="rId1"/>
          <a:stretch/>
        </p:blipFill>
        <p:spPr>
          <a:xfrm>
            <a:off x="4716360" y="2421000"/>
            <a:ext cx="3625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CEF-3178-4A6C-A10C-DCB74E52F0C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цидофили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иетический продукт - молоко, заквашенное особыми (ацидофильными) бактериям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ырабатывается из молока, сквашенного заквасками чистых культур, одна из которых – ацидофильная палочка. В 1910 году русский ученый Гартье Э.Э. доказал, что ацидофильную палочку можно с успехом применять с лечебными профилактическими целями в борьбе с желудочно-кишечными заболеваниями, и что эта бактерия очищает кишечник от гнилостных и некоторых болезнетворных микробов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Picture 8" descr="Ацидофилин"/>
          <p:cNvPicPr/>
          <p:nvPr/>
        </p:nvPicPr>
        <p:blipFill>
          <a:blip r:embed="rId1"/>
          <a:stretch/>
        </p:blipFill>
        <p:spPr>
          <a:xfrm>
            <a:off x="1162080" y="19810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77DC-B68F-42A7-ABBA-C3B0241809C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ефир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ефи́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исломолочный напиток, получаемый из цельного или обезжиреного коровьего молока путем кисломолочного и спиртового брожения с применением кефирных «грибков» — симбиоза нескольких видов микроорганизмов: молочнокислых стрептококков и палочек, уксуснокислых бактерий и дрожжей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8" descr="Кефир"/>
          <p:cNvPicPr/>
          <p:nvPr/>
        </p:nvPicPr>
        <p:blipFill>
          <a:blip r:embed="rId1"/>
          <a:stretch/>
        </p:blipFill>
        <p:spPr>
          <a:xfrm>
            <a:off x="4643280" y="1052640"/>
            <a:ext cx="3613320" cy="481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50:00Z</dcterms:created>
  <dc:creator>user</dc:creator>
  <dc:description/>
  <dc:language>en-US</dc:language>
  <cp:lastModifiedBy>Admin</cp:lastModifiedBy>
  <dcterms:modified xsi:type="dcterms:W3CDTF">2010-12-27T16:52:23Z</dcterms:modified>
  <cp:revision>11</cp:revision>
  <dc:subject/>
  <dc:title>Значение бактерий  в природе и жизни человека</dc:title>
</cp:coreProperties>
</file>