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DAD-E68A-4C9A-8DDA-97F0C88F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6A1-6714-4710-9088-D537AF0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7AB-6C70-4189-B1A9-522B4923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DCA-78EE-4CF8-B730-22E3FA7A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F22E-41FC-423B-9AF1-81FAD6D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F990-07D5-40D5-A7C9-1B4B328F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9AAE-2995-49EB-AE95-C8566C9A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1056-42CB-41B1-9D58-908E62A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8414-1E32-4349-9F06-0436C92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738C-08C3-44E3-9A3A-CF591F8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260-04EC-4FF3-8340-F0F97A1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480-EF5C-4889-9126-05599474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934-545E-48DA-92B5-C676179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81D-DF46-4945-BC95-64CB253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7418-4D38-4ED7-9AD8-EFBE1BEA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FE5-FDE7-472B-9868-6DD94170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A2D9-F2D3-4FB0-A1E0-CE706D7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F6D-2FDA-45F5-9A1D-29451F2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03C-6CC3-4837-8221-FD882E9D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EFB-CB0E-42C8-BF8F-8835E4B4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8F7-23E7-43E6-8079-0BF2724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91A-BE4B-434A-8A62-1CD992C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ADB-A2B9-49A4-B349-120B1D5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789-C925-43DE-8105-71B1E54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D9C2-C8E2-4AD8-BBDE-503095DEA6E2}" type="datetime3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2D9-F124-4637-98A8-04E4C2F285B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BF0-90C7-4E4A-B16F-2B7A2516E8D5}" type="datetime3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A54-20D1-48D9-A2A4-0F1EE11A6A8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A64-A969-4089-BE69-A44EABCBFE9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5" name="Picture 4" descr="бакт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1116000" y="1989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 бактерий в природе и жизни человек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EB7-A33C-4558-8BDE-AD164ACC14B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Йогу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о́гу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исломолочный продукт, который производится из цельного молока путем его сквашивания специальными культурами — Lactobacillus bulgaricus (болгарская палочка) и Streptococcus thermophilus (термофильный стрептококком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Picture 8" descr="Йогурт"/>
          <p:cNvPicPr/>
          <p:nvPr/>
        </p:nvPicPr>
        <p:blipFill>
          <a:blip r:embed="rId1"/>
          <a:stretch/>
        </p:blipFill>
        <p:spPr>
          <a:xfrm>
            <a:off x="468360" y="2349360"/>
            <a:ext cx="424332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2C2F-D52E-4142-8224-A37F081BF93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яжен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я́ж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исломолочный напиток, получаемый из коровьего топлёного молока совместным молочнокислым и спиртовым брожением. Заквашивание производится термофильными молочнокислыми стрептококками и чистыми культурами болгарской палочки, сквашивается в течение 3—6 часов. Имеет желтовато-буроватый оттенок и традиционный кисломолочный вкус. Фактически является одной из разновидностей йогурта без вкусовых добавок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Picture 8" descr="Ряженка"/>
          <p:cNvPicPr/>
          <p:nvPr/>
        </p:nvPicPr>
        <p:blipFill>
          <a:blip r:embed="rId1"/>
          <a:stretch/>
        </p:blipFill>
        <p:spPr>
          <a:xfrm>
            <a:off x="4859280" y="1052640"/>
            <a:ext cx="34020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DD3E-2035-44FF-8366-44B2A934D44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аренец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аренец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опленое молоко, приготавливаемое медленным вытапливанием (выпариванием) молока в глиняных крынках в русской печи так, чтобы оно убавилось минимум на треть своего объема и приобрело красноватый оттенок. Для этого молоко ставят в печь после хлебов на несколько часов, в течение которых оно «усыхает», но не кипит. Затем топленое молоко заправляется (заквашивается) сметаной (из расчета 200 г на литр) и выдерживается в закрытом виде 3—4 часа в теплом помещении.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" name="Picture 8" descr="Варенец"/>
          <p:cNvPicPr/>
          <p:nvPr/>
        </p:nvPicPr>
        <p:blipFill>
          <a:blip r:embed="rId1"/>
          <a:stretch/>
        </p:blipFill>
        <p:spPr>
          <a:xfrm>
            <a:off x="900000" y="1557360"/>
            <a:ext cx="31449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3585-7954-44AB-9A64-C3F59C13542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йма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Каймак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-  густые, толстые, как блины, уваренные пенки, приготавливаемые из жирного топленого молока. Молоко для каймака кипятят на слабом огне в плоской посуде и по мере уплотнения пенок снимают их и наслаивают одну на другую, давая затем возможность в течение суток-двух слегка закиснуть. Каймак обладает также и особой микрофлорой, создающейся в нем в результате кислого брожения, что превращает его не только в приятный, вкусный, питательный, но и в полезный продукт, особенно для тех, кто трудно переносит обычные жир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Picture 6" descr="каймак"/>
          <p:cNvPicPr/>
          <p:nvPr/>
        </p:nvPicPr>
        <p:blipFill>
          <a:blip r:embed="rId1"/>
          <a:stretch/>
        </p:blipFill>
        <p:spPr>
          <a:xfrm>
            <a:off x="4643280" y="2565360"/>
            <a:ext cx="400392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A72-4593-4A1C-9572-A7FF034887D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умы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мы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исломолочный напиток беловатого цвета из кобыльего молока, полученный в результате молочнокислого и спиртового брожения при помощи болгарской и ацидофильной молочнокислых палочек и дрожже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Picture 8" descr="Кумыс"/>
          <p:cNvPicPr/>
          <p:nvPr/>
        </p:nvPicPr>
        <p:blipFill>
          <a:blip r:embed="rId1"/>
          <a:stretch/>
        </p:blipFill>
        <p:spPr>
          <a:xfrm>
            <a:off x="5003640" y="1413000"/>
            <a:ext cx="2913120" cy="43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F0E2-22B9-4A70-ACC6-F8370773AFE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Молочнокислые бактерии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Участвуют в заквашивании капусты и солении огурцов и помидор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71760" cy="286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Красные круглые томаты"/>
          <p:cNvPicPr/>
          <p:nvPr/>
        </p:nvPicPr>
        <p:blipFill>
          <a:blip r:embed="rId2"/>
          <a:stretch/>
        </p:blipFill>
        <p:spPr>
          <a:xfrm>
            <a:off x="1476360" y="3357720"/>
            <a:ext cx="345132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1E50-8EDF-4CDD-98CD-5F5223BC80A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остокваш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тся при молочнокислом брожении моло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Picture 4" descr="Простокваша"/>
          <p:cNvPicPr/>
          <p:nvPr/>
        </p:nvPicPr>
        <p:blipFill>
          <a:blip r:embed="rId1"/>
          <a:stretch/>
        </p:blipFill>
        <p:spPr>
          <a:xfrm>
            <a:off x="105084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A55-E11A-47A8-813A-1349C22C87C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ыр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ыр «Рокфор» получается в результате жизнедеятельности молочнокислых бактерий и особых грибк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Picture 6" descr="Сыр рокфор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4953-CDCD-4E8A-B894-1BF7FFED6C3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4. Болезнетворн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ызывают такие болезни, как тиф, дизентерия, холера, бруцеллёз, туберкулёз, ангину, сап, сибирскую язву, столбняк, чум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4E83-0E3F-4858-B337-0DD54083C52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Болезнетворн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09880" cy="2871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2771640" y="5465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тафилококк золотисты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Picture 12" descr="Стафилококк"/>
          <p:cNvPicPr/>
          <p:nvPr/>
        </p:nvPicPr>
        <p:blipFill>
          <a:blip r:embed="rId2"/>
          <a:stretch/>
        </p:blipFill>
        <p:spPr>
          <a:xfrm>
            <a:off x="4500720" y="2637000"/>
            <a:ext cx="4206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047C-9B5D-4899-B77F-0328F449D10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лассификация бактери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бактерии разложения и гние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почвенные бактери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молочнокислые бактери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болезнетворные бактери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FB47-4BDA-4B97-B0D4-62F0F745046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Стрептококк и стрептококковая инфекц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8" name="Picture 6" descr="Стрептококковая инфекция"/>
          <p:cNvPicPr/>
          <p:nvPr/>
        </p:nvPicPr>
        <p:blipFill>
          <a:blip r:embed="rId1"/>
          <a:stretch/>
        </p:blipFill>
        <p:spPr>
          <a:xfrm>
            <a:off x="250920" y="2349360"/>
            <a:ext cx="4187880" cy="312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Стрептококк"/>
          <p:cNvPicPr/>
          <p:nvPr/>
        </p:nvPicPr>
        <p:blipFill>
          <a:blip r:embed="rId2"/>
          <a:stretch/>
        </p:blipFill>
        <p:spPr>
          <a:xfrm>
            <a:off x="4500720" y="2349360"/>
            <a:ext cx="43495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226-4B51-46AB-A9FE-61D9B18090C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олерный вибрио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02280" cy="45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8D60-A179-413C-B320-A378E6A485B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Борьба с болезнетворными бактериями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Меры предупреждения болезней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закрывать рот при кашле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кипятить носовые платк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осуществлять врачебный контроль над источниками воды и продуктами пита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дезинфицировать помеще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делать предупредительные прививк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701-DC93-4D3F-B009-AA31063EACD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1. Бактерии разложения и гниен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чве содержится огромное число бактерий – сотни миллионов в 1г. В бедных тундровых почвах или песчаных почвах пустыни их насчитывается, в слабоподзолистых – до миллиарда, а в богатом органическим веществом чернозёме – до 2 миллиардов и выше. Это составляет около 35 сухой массы почв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актерии принимают участие в  выветривании горных пород и минералов. Так, железобактерии сформировали крупные отложения железных руд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4EAB-84E0-411C-930E-FB159193C2B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2. Азотфиксирующие (почвенные) бактерии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е поставляет бактериям необходимые им для роста и развития углеводы и минеральные соли, а взамен получает азот, который клубеньковые бактерии способны фиксировать.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562C-4B55-41CF-866D-C215521B4C1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3. Молочнокисл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1F0-F699-4991-9CF3-D98875AC36D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исломолочные продукт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айран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ацидофилин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кефир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йогурт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ряженк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варенец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кайма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простокваш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кумыс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23C-AC5B-4525-8854-FC803649EFA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йра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новидность кисломолочного напитка на основе катыка или разновидность кефира у тюркских и кавказских народов (в разных языках точный смысл названия и технология приготовления немного отличаются, но общим является то, что это молочный продукт, получаемый при помощи молочно-кислых бактерий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Picture 6" descr="Айран"/>
          <p:cNvPicPr/>
          <p:nvPr/>
        </p:nvPicPr>
        <p:blipFill>
          <a:blip r:embed="rId1"/>
          <a:stretch/>
        </p:blipFill>
        <p:spPr>
          <a:xfrm>
            <a:off x="4716360" y="2421000"/>
            <a:ext cx="3625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8DE-DF38-4A42-AB43-51251ECA223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цидофили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иетический продукт - молоко, заквашенное особыми (ацидофильными) бактериям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ырабатывается из молока, сквашенного заквасками чистых культур, одна из которых – ацидофильная палочка. В 1910 году русский ученый Гартье Э.Э. доказал, что ацидофильную палочку можно с успехом применять с лечебными профилактическими целями в борьбе с желудочно-кишечными заболеваниями, и что эта бактерия очищает кишечник от гнилостных и некоторых болезнетворных микробов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Picture 8" descr="Ацидофилин"/>
          <p:cNvPicPr/>
          <p:nvPr/>
        </p:nvPicPr>
        <p:blipFill>
          <a:blip r:embed="rId1"/>
          <a:stretch/>
        </p:blipFill>
        <p:spPr>
          <a:xfrm>
            <a:off x="1162080" y="19810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8B3C-A493-4643-990F-6707470496C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ефир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ефи́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исломолочный напиток, получаемый из цельного или обезжиреного коровьего молока путем кисломолочного и спиртового брожения с применением кефирных «грибков» — симбиоза нескольких видов микроорганизмов: молочнокислых стрептококков и палочек, уксуснокислых бактерий и дрожжей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8" descr="Кефир"/>
          <p:cNvPicPr/>
          <p:nvPr/>
        </p:nvPicPr>
        <p:blipFill>
          <a:blip r:embed="rId1"/>
          <a:stretch/>
        </p:blipFill>
        <p:spPr>
          <a:xfrm>
            <a:off x="4643280" y="1052640"/>
            <a:ext cx="3613320" cy="481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50:00Z</dcterms:created>
  <dc:creator>user</dc:creator>
  <dc:description/>
  <dc:language>en-US</dc:language>
  <cp:lastModifiedBy>Admin</cp:lastModifiedBy>
  <dcterms:modified xsi:type="dcterms:W3CDTF">2010-12-27T16:52:23Z</dcterms:modified>
  <cp:revision>11</cp:revision>
  <dc:subject/>
  <dc:title>Значение бактерий  в природе и жизни человека</dc:title>
</cp:coreProperties>
</file>