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298-CB09-49FE-9492-2CA1C20E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FFA-CEC0-4A37-911A-71EF71B9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D5D-5FC2-4AE9-A3D9-7231E189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A77-DBC1-4C72-B053-A4E89537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F5F-E16F-4200-9C68-A9E48692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1AC-816B-47F5-B988-BD03A115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8BE-BABD-4256-B022-D8CBACD4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60E-9449-425D-A74D-2ECD3699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8BD-A3FE-42BA-8B8B-0DEF286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DD1-306C-4914-AFE3-B8C49F73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1A2-D157-4778-83A9-86E1EE9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A25-F301-4FCF-8751-AB22282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3C2-7EEE-46A6-862D-3C4071782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iga.satel.com.ua/uploads/posts/2009-09/thumbs/1253815442_gogol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sheto.ru/speaking/news/gogol.jp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day.ru/data/818/505/1234/05_&#1040;.&#1057;.&#1055;&#1091;&#1096;&#1082;&#1080;&#1085;._&#1055;&#1086;&#1088;&#1090;&#1088;&#1077;&#1090;%20&#1088;&#1072;&#1073;&#1086;&#1090;&#1099;%20&#1042;.&#1040;.&#1058;&#1088;&#1086;&#1087;&#1080;&#1085;&#1080;&#1085;&#1072;._1827.jp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image005.mylivepage.ru/chunk5/332876/339/&#1055;&#1086;&#1088;&#1090;&#1088;&#1077;&#1090;%20&#1040;&#1085;&#1090;&#1086;&#1085;&#1072;%20&#1055;&#1072;&#1074;&#1083;&#1086;&#1074;&#1080;&#1095;&#1072;%20&#1063;&#1077;&#1093;&#1086;&#1074;&#1072;.jpg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152360" y="182520"/>
            <a:ext cx="7248600" cy="322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а 13 из 2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857760"/>
            <a:ext cx="179388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714920" y="41432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бота Дроновой И.А.,учителя русского языка и литературы Лицея№554 Приморского р-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нкт-Петербур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523800" y="30240"/>
            <a:ext cx="8497800" cy="111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85880" y="1357200"/>
            <a:ext cx="771516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произведения о любви без любовной ли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ая традиция: называть сына именем отца, если у отца жизнь сложилась хорош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видеть в каждом Божье творен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«маленького человека» традиционная в русской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милосердия вечная: возлюби ближнего как самого себ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66600"/>
            <a:ext cx="8083800" cy="1212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rowing-az.clan.su/_fr/6/6305876.jpg"/>
          <p:cNvPicPr/>
          <p:nvPr/>
        </p:nvPicPr>
        <p:blipFill>
          <a:blip r:embed="rId2"/>
          <a:stretch/>
        </p:blipFill>
        <p:spPr>
          <a:xfrm>
            <a:off x="133200" y="4051440"/>
            <a:ext cx="2438640" cy="237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Картинка 31 из 255"/>
          <p:cNvPicPr/>
          <p:nvPr/>
        </p:nvPicPr>
        <p:blipFill>
          <a:blip r:embed="rId3"/>
          <a:stretch/>
        </p:blipFill>
        <p:spPr>
          <a:xfrm>
            <a:off x="6572160" y="4214880"/>
            <a:ext cx="235764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928800" y="1000080"/>
            <a:ext cx="75009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сьменно ответить на один из вопросов по выбо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чем это произвед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ем смысл цитаты А.П.Чехо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А.Башмачкин – несчастный или посмеш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Картинка 4 из 255"/>
          <p:cNvPicPr/>
          <p:nvPr/>
        </p:nvPicPr>
        <p:blipFill>
          <a:blip r:embed="rId1"/>
          <a:stretch/>
        </p:blipFill>
        <p:spPr>
          <a:xfrm>
            <a:off x="0" y="4857840"/>
            <a:ext cx="2071800" cy="20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10 из 255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3"/>
          <a:stretch/>
        </p:blipFill>
        <p:spPr>
          <a:xfrm>
            <a:off x="585720" y="1285920"/>
            <a:ext cx="77835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9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600"/>
                            </p:stCondLst>
                            <p:childTnLst>
                              <p:par>
                                <p:cTn id="19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артинка 10 из 2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00" y="414360"/>
            <a:ext cx="3017880" cy="4078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3"/>
          <a:stretch/>
        </p:blipFill>
        <p:spPr>
          <a:xfrm>
            <a:off x="2852640" y="66600"/>
            <a:ext cx="629784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214880" y="121428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1809 - 185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7"/>
          <p:cNvGrpSpPr/>
          <p:nvPr/>
        </p:nvGrpSpPr>
        <p:grpSpPr>
          <a:xfrm>
            <a:off x="2500200" y="5072040"/>
            <a:ext cx="6643800" cy="1214640"/>
            <a:chOff x="2500200" y="5072040"/>
            <a:chExt cx="6643800" cy="1214640"/>
          </a:xfrm>
        </p:grpSpPr>
        <p:grpSp>
          <p:nvGrpSpPr>
            <p:cNvPr id="48" name="Прямоугольник с двумя вырезанными противолежащими углами 12"/>
            <p:cNvGrpSpPr/>
            <p:nvPr/>
          </p:nvGrpSpPr>
          <p:grpSpPr>
            <a:xfrm>
              <a:off x="2500200" y="5072040"/>
              <a:ext cx="6488640" cy="1214640"/>
              <a:chOff x="2500200" y="5072040"/>
              <a:chExt cx="6488640" cy="1214640"/>
            </a:xfrm>
          </p:grpSpPr>
          <p:pic>
            <p:nvPicPr>
              <p:cNvPr id="49" name="Прямоугольник с двумя вырезанными противолежащими углами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0200" y="5072040"/>
                <a:ext cx="64886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924280" y="5429160"/>
                <a:ext cx="564192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TextBox 11"/>
            <p:cNvSpPr/>
            <p:nvPr/>
          </p:nvSpPr>
          <p:spPr>
            <a:xfrm>
              <a:off x="3047040" y="5473440"/>
              <a:ext cx="60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Нельзя узнать писателя, не зная его жизн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7"/>
          <p:cNvGrpSpPr/>
          <p:nvPr/>
        </p:nvGrpSpPr>
        <p:grpSpPr>
          <a:xfrm>
            <a:off x="500040" y="0"/>
            <a:ext cx="8215200" cy="4714920"/>
            <a:chOff x="500040" y="0"/>
            <a:chExt cx="8215200" cy="4714920"/>
          </a:xfrm>
        </p:grpSpPr>
        <p:grpSp>
          <p:nvGrpSpPr>
            <p:cNvPr id="53" name="Группа 4"/>
            <p:cNvGrpSpPr/>
            <p:nvPr/>
          </p:nvGrpSpPr>
          <p:grpSpPr>
            <a:xfrm>
              <a:off x="624600" y="0"/>
              <a:ext cx="7970040" cy="4714920"/>
              <a:chOff x="624600" y="0"/>
              <a:chExt cx="7970040" cy="4714920"/>
            </a:xfrm>
          </p:grpSpPr>
          <p:grpSp>
            <p:nvGrpSpPr>
              <p:cNvPr id="54" name="Блок-схема: перфолента 3"/>
              <p:cNvGrpSpPr/>
              <p:nvPr/>
            </p:nvGrpSpPr>
            <p:grpSpPr>
              <a:xfrm>
                <a:off x="624600" y="181800"/>
                <a:ext cx="7970040" cy="4533120"/>
                <a:chOff x="624600" y="181800"/>
                <a:chExt cx="7970040" cy="4533120"/>
              </a:xfrm>
            </p:grpSpPr>
            <p:pic>
              <p:nvPicPr>
                <p:cNvPr id="55" name="Блок-схема: перфолента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600" y="181800"/>
                  <a:ext cx="7970040" cy="453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" name=""/>
                <p:cNvSpPr/>
                <p:nvPr/>
              </p:nvSpPr>
              <p:spPr>
                <a:xfrm>
                  <a:off x="652680" y="1107720"/>
                  <a:ext cx="7917840" cy="26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" name="Прямоугольник 1"/>
              <p:cNvSpPr/>
              <p:nvPr/>
            </p:nvSpPr>
            <p:spPr>
              <a:xfrm>
                <a:off x="1843920" y="0"/>
                <a:ext cx="5036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500040" y="829080"/>
              <a:ext cx="8215200" cy="276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Картинка 13 из 2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224160"/>
            <a:ext cx="1962000" cy="599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svetigora.files.wordpress.com/2009/11/dostojevski.jpg"/>
          <p:cNvPicPr/>
          <p:nvPr/>
        </p:nvPicPr>
        <p:blipFill>
          <a:blip r:embed="rId3"/>
          <a:stretch/>
        </p:blipFill>
        <p:spPr>
          <a:xfrm>
            <a:off x="3127320" y="3230640"/>
            <a:ext cx="2955960" cy="446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артинка 7 из 72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65840" y="3090960"/>
            <a:ext cx="21099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10"/>
          <p:cNvGrpSpPr/>
          <p:nvPr/>
        </p:nvGrpSpPr>
        <p:grpSpPr>
          <a:xfrm>
            <a:off x="285840" y="214200"/>
            <a:ext cx="8858160" cy="2259000"/>
            <a:chOff x="285840" y="214200"/>
            <a:chExt cx="8858160" cy="2259000"/>
          </a:xfrm>
        </p:grpSpPr>
        <p:sp>
          <p:nvSpPr>
            <p:cNvPr id="63" name="Круглая лента лицом вверх 9"/>
            <p:cNvSpPr/>
            <p:nvPr/>
          </p:nvSpPr>
          <p:spPr>
            <a:xfrm>
              <a:off x="285840" y="256680"/>
              <a:ext cx="8858160" cy="2216520"/>
            </a:xfrm>
            <a:custGeom>
              <a:avLst/>
              <a:gdLst>
                <a:gd name="textAreaLeft" fmla="*/ 2214360 w 8858160"/>
                <a:gd name="textAreaRight" fmla="*/ 6643800 w 8858160"/>
                <a:gd name="textAreaTop" fmla="*/ 65520 h 2216520"/>
                <a:gd name="textAreaBottom" fmla="*/ 1998360 h 22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7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67"/>
                  </a:lnTo>
                  <a:arcTo wR="21600" hR="20153" stAng="-4471878" swAng="976834"/>
                  <a:lnTo>
                    <a:pt x="18900" y="10634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9631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0634"/>
                  </a:lnTo>
                  <a:close/>
                </a:path>
                <a:path fill="none" w="21600" h="21600">
                  <a:moveTo>
                    <a:pt x="8100" y="19631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9631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67"/>
                  </a:moveTo>
                  <a:lnTo>
                    <a:pt x="5400" y="20113"/>
                  </a:lnTo>
                </a:path>
                <a:path fill="none" w="21600" h="21600">
                  <a:moveTo>
                    <a:pt x="16200" y="67"/>
                  </a:moveTo>
                  <a:lnTo>
                    <a:pt x="16200" y="20113"/>
                  </a:lnTo>
                </a:path>
              </a:pathLst>
            </a:cu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853560" y="214200"/>
              <a:ext cx="7583400" cy="209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6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15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155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11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11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85840" y="785880"/>
            <a:ext cx="850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до, чтобы за дверью каждого довольного, счастливого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оял кто-нибудь с молоточком и постоянно напоминал бы стук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о есть несчастны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.П.Чехов. «Крыжовн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14680" y="3857760"/>
            <a:ext cx="7429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642600" y="1500120"/>
            <a:ext cx="78462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ать о главном герое. Как ему было выбрано им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т героя. Как живет этот челове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во отношение к нему сослуживце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е сравнение использует Гоголь, чтобы показать унизи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ожения этого челове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festival.1september.ru/files/articles/50/5018/501812/img1.jpg"/>
          <p:cNvPicPr/>
          <p:nvPr/>
        </p:nvPicPr>
        <p:blipFill>
          <a:blip r:embed="rId1"/>
          <a:stretch/>
        </p:blipFill>
        <p:spPr>
          <a:xfrm>
            <a:off x="115920" y="195120"/>
            <a:ext cx="284004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373200" y="642960"/>
            <a:ext cx="549612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 образом показана обезлич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акия Акакиевича? Подчеркнута типичн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акий – смиренный, незлобливый, не делаю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щий зла, невин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чувства у вас вызывает герой? Когда 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еялись, а когда сочувствовали 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каково авторское отношение к геро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img2"/>
          <p:cNvPicPr/>
          <p:nvPr/>
        </p:nvPicPr>
        <p:blipFill>
          <a:blip r:embed="rId1"/>
          <a:stretch/>
        </p:blipFill>
        <p:spPr>
          <a:xfrm>
            <a:off x="214200" y="214200"/>
            <a:ext cx="2643480" cy="392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Box 3"/>
          <p:cNvSpPr/>
          <p:nvPr/>
        </p:nvSpPr>
        <p:spPr>
          <a:xfrm>
            <a:off x="2928960" y="0"/>
            <a:ext cx="5929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вление шинели приоткрывает душевный 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о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Гоголь так подробно рассказывает о при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етении шин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меняется герой, когда впервые надевает шинел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кульминация пове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происходит с Акакием Акакиевичем пос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икто не помог ему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жи шин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Картинка 34 из 255"/>
          <p:cNvPicPr/>
          <p:nvPr/>
        </p:nvPicPr>
        <p:blipFill>
          <a:blip r:embed="rId1"/>
          <a:stretch/>
        </p:blipFill>
        <p:spPr>
          <a:xfrm>
            <a:off x="214200" y="214200"/>
            <a:ext cx="2214720" cy="3857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TextBox 5"/>
          <p:cNvSpPr/>
          <p:nvPr/>
        </p:nvSpPr>
        <p:spPr>
          <a:xfrm>
            <a:off x="2571840" y="428760"/>
            <a:ext cx="628632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 вы увидели значительное лиц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у него нет даже имени, только средний род-лиц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читаем финал повести. Почему именно так она заканчивает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3:58:20Z</dcterms:created>
  <dc:creator>student</dc:creator>
  <dc:description/>
  <dc:language>en-US</dc:language>
  <cp:lastModifiedBy>1</cp:lastModifiedBy>
  <dcterms:modified xsi:type="dcterms:W3CDTF">2011-11-07T15:45:43Z</dcterms:modified>
  <cp:revision>53</cp:revision>
  <dc:subject/>
  <dc:title>Слайд 1</dc:title>
</cp:coreProperties>
</file>