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7.jpeg" ContentType="image/jpeg"/>
  <Override PartName="/ppt/media/image3.gif" ContentType="image/gif"/>
  <Override PartName="/ppt/media/image6.wmf" ContentType="image/x-wmf"/>
  <Override PartName="/ppt/media/image4.jpeg" ContentType="image/jpeg"/>
  <Override PartName="/ppt/media/image5.jpeg" ContentType="image/jpeg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F547-046A-45BE-913C-31E0A57EB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7E0F-AF1A-4703-B7D0-E521F1724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9A99-73DD-48A4-8FA2-512CB4922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3A97-3BE4-42F9-82DC-160985790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F59F-8884-46C1-9091-6F4F252CD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06A3-EAE6-4D0E-83A3-EE6FCD28C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6BC0-F386-4856-8F3D-37C7A5718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2C94-A0D8-494F-AE4E-0F565491E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C1C2-241F-452A-8B37-61561F7D3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7C13-2655-4229-A216-9FC829A5E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40E4-F95F-44F1-B6DE-FCA83F0CA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5631-5FB2-4E20-A97C-F10EEA09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C7A6F-5F6A-40AC-BC1E-5B05C02C66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16000" y="1628640"/>
            <a:ext cx="712800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рок здоровья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33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«Береги зрение»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33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79280" y="1628640"/>
            <a:ext cx="8785440" cy="2952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79640" y="1628640"/>
            <a:ext cx="0" cy="29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708360" y="1628640"/>
            <a:ext cx="0" cy="29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435640" y="1628640"/>
            <a:ext cx="0" cy="29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6000" y="1628640"/>
            <a:ext cx="0" cy="29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3068640"/>
            <a:ext cx="1439640" cy="10810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24000" y="3068640"/>
            <a:ext cx="1440000" cy="10810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51280" y="3068640"/>
            <a:ext cx="1440000" cy="10810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80000" y="3068640"/>
            <a:ext cx="1079640" cy="10810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667640" y="3068640"/>
            <a:ext cx="936720" cy="10810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124000" y="2205000"/>
            <a:ext cx="1440000" cy="8636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51280" y="2205000"/>
            <a:ext cx="1440000" cy="8636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2205000"/>
            <a:ext cx="1079640" cy="8636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667640" y="2276640"/>
            <a:ext cx="936720" cy="7920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3284640"/>
            <a:ext cx="360360" cy="504720"/>
          </a:xfrm>
          <a:prstGeom prst="rect">
            <a:avLst/>
          </a:prstGeom>
          <a:solidFill>
            <a:srgbClr val="bbe0e3"/>
          </a:solidFill>
          <a:ln w="22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16360" y="3284640"/>
            <a:ext cx="360360" cy="504720"/>
          </a:xfrm>
          <a:prstGeom prst="rect">
            <a:avLst/>
          </a:prstGeom>
          <a:solidFill>
            <a:srgbClr val="bbe0e3"/>
          </a:solidFill>
          <a:ln w="22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651640" y="3284640"/>
            <a:ext cx="360360" cy="504720"/>
          </a:xfrm>
          <a:prstGeom prst="rect">
            <a:avLst/>
          </a:prstGeom>
          <a:solidFill>
            <a:srgbClr val="bbe0e3"/>
          </a:solidFill>
          <a:ln w="22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56360" y="3284640"/>
            <a:ext cx="360360" cy="504720"/>
          </a:xfrm>
          <a:prstGeom prst="rect">
            <a:avLst/>
          </a:prstGeom>
          <a:solidFill>
            <a:srgbClr val="bbe0e3"/>
          </a:solidFill>
          <a:ln w="22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740720" y="3284640"/>
            <a:ext cx="360360" cy="504720"/>
          </a:xfrm>
          <a:prstGeom prst="rect">
            <a:avLst/>
          </a:prstGeom>
          <a:solidFill>
            <a:srgbClr val="bbe0e3"/>
          </a:solidFill>
          <a:ln w="22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172360" y="3284640"/>
            <a:ext cx="360360" cy="504720"/>
          </a:xfrm>
          <a:prstGeom prst="rect">
            <a:avLst/>
          </a:prstGeom>
          <a:solidFill>
            <a:srgbClr val="bbe0e3"/>
          </a:solidFill>
          <a:ln w="22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95640" y="3429000"/>
            <a:ext cx="360360" cy="0"/>
          </a:xfrm>
          <a:prstGeom prst="line">
            <a:avLst/>
          </a:prstGeom>
          <a:ln w="19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40360" y="3429000"/>
            <a:ext cx="0" cy="360360"/>
          </a:xfrm>
          <a:prstGeom prst="line">
            <a:avLst/>
          </a:prstGeom>
          <a:ln w="22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716360" y="3429000"/>
            <a:ext cx="360360" cy="0"/>
          </a:xfrm>
          <a:prstGeom prst="line">
            <a:avLst/>
          </a:prstGeom>
          <a:ln w="22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859280" y="3429000"/>
            <a:ext cx="0" cy="360360"/>
          </a:xfrm>
          <a:prstGeom prst="line">
            <a:avLst/>
          </a:prstGeom>
          <a:ln w="22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659640" y="3068640"/>
            <a:ext cx="360360" cy="10810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604360" y="3068640"/>
            <a:ext cx="360360" cy="10810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093080" y="3357720"/>
            <a:ext cx="631800" cy="8632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796000" y="3429000"/>
            <a:ext cx="0" cy="360360"/>
          </a:xfrm>
          <a:prstGeom prst="line">
            <a:avLst/>
          </a:prstGeom>
          <a:ln w="22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651640" y="3429000"/>
            <a:ext cx="360360" cy="0"/>
          </a:xfrm>
          <a:prstGeom prst="line">
            <a:avLst/>
          </a:prstGeom>
          <a:ln w="22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00720" y="3429000"/>
            <a:ext cx="0" cy="360360"/>
          </a:xfrm>
          <a:prstGeom prst="line">
            <a:avLst/>
          </a:prstGeom>
          <a:ln w="22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56360" y="3429000"/>
            <a:ext cx="360360" cy="0"/>
          </a:xfrm>
          <a:prstGeom prst="line">
            <a:avLst/>
          </a:prstGeom>
          <a:ln w="22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740720" y="3429000"/>
            <a:ext cx="360360" cy="0"/>
          </a:xfrm>
          <a:prstGeom prst="line">
            <a:avLst/>
          </a:prstGeom>
          <a:ln w="22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885080" y="3429000"/>
            <a:ext cx="0" cy="360360"/>
          </a:xfrm>
          <a:prstGeom prst="line">
            <a:avLst/>
          </a:prstGeom>
          <a:ln w="22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172360" y="3429000"/>
            <a:ext cx="360360" cy="0"/>
          </a:xfrm>
          <a:prstGeom prst="line">
            <a:avLst/>
          </a:prstGeom>
          <a:ln w="22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317080" y="3429000"/>
            <a:ext cx="0" cy="360360"/>
          </a:xfrm>
          <a:prstGeom prst="line">
            <a:avLst/>
          </a:prstGeom>
          <a:ln w="22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675640" y="3500280"/>
            <a:ext cx="730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317080" y="1989000"/>
            <a:ext cx="0" cy="576360"/>
          </a:xfrm>
          <a:prstGeom prst="line">
            <a:avLst/>
          </a:prstGeom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532720" y="1989000"/>
            <a:ext cx="0" cy="863640"/>
          </a:xfrm>
          <a:prstGeom prst="line">
            <a:avLst/>
          </a:prstGeom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317080" y="1989000"/>
            <a:ext cx="215640" cy="0"/>
          </a:xfrm>
          <a:prstGeom prst="line">
            <a:avLst/>
          </a:prstGeom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388360" y="1484280"/>
            <a:ext cx="515880" cy="527040"/>
          </a:xfrm>
          <a:custGeom>
            <a:avLst/>
            <a:gdLst/>
            <a:ahLst/>
            <a:rect l="l" t="t" r="r" b="b"/>
            <a:pathLst>
              <a:path w="325" h="332">
                <a:moveTo>
                  <a:pt x="54" y="332"/>
                </a:moveTo>
                <a:cubicBezTo>
                  <a:pt x="20" y="320"/>
                  <a:pt x="19" y="292"/>
                  <a:pt x="0" y="264"/>
                </a:cubicBezTo>
                <a:cubicBezTo>
                  <a:pt x="5" y="251"/>
                  <a:pt x="6" y="236"/>
                  <a:pt x="14" y="224"/>
                </a:cubicBezTo>
                <a:cubicBezTo>
                  <a:pt x="30" y="199"/>
                  <a:pt x="84" y="195"/>
                  <a:pt x="109" y="190"/>
                </a:cubicBezTo>
                <a:cubicBezTo>
                  <a:pt x="127" y="192"/>
                  <a:pt x="153" y="181"/>
                  <a:pt x="163" y="196"/>
                </a:cubicBezTo>
                <a:cubicBezTo>
                  <a:pt x="201" y="255"/>
                  <a:pt x="163" y="261"/>
                  <a:pt x="136" y="271"/>
                </a:cubicBezTo>
                <a:cubicBezTo>
                  <a:pt x="98" y="263"/>
                  <a:pt x="93" y="260"/>
                  <a:pt x="82" y="224"/>
                </a:cubicBezTo>
                <a:cubicBezTo>
                  <a:pt x="88" y="192"/>
                  <a:pt x="83" y="173"/>
                  <a:pt x="115" y="163"/>
                </a:cubicBezTo>
                <a:cubicBezTo>
                  <a:pt x="138" y="165"/>
                  <a:pt x="164" y="157"/>
                  <a:pt x="183" y="169"/>
                </a:cubicBezTo>
                <a:cubicBezTo>
                  <a:pt x="193" y="175"/>
                  <a:pt x="185" y="196"/>
                  <a:pt x="176" y="203"/>
                </a:cubicBezTo>
                <a:cubicBezTo>
                  <a:pt x="170" y="208"/>
                  <a:pt x="163" y="194"/>
                  <a:pt x="156" y="190"/>
                </a:cubicBezTo>
                <a:cubicBezTo>
                  <a:pt x="141" y="144"/>
                  <a:pt x="159" y="119"/>
                  <a:pt x="203" y="108"/>
                </a:cubicBezTo>
                <a:cubicBezTo>
                  <a:pt x="240" y="85"/>
                  <a:pt x="281" y="91"/>
                  <a:pt x="305" y="129"/>
                </a:cubicBezTo>
                <a:cubicBezTo>
                  <a:pt x="290" y="171"/>
                  <a:pt x="274" y="162"/>
                  <a:pt x="231" y="156"/>
                </a:cubicBezTo>
                <a:cubicBezTo>
                  <a:pt x="226" y="149"/>
                  <a:pt x="221" y="143"/>
                  <a:pt x="217" y="135"/>
                </a:cubicBezTo>
                <a:cubicBezTo>
                  <a:pt x="211" y="122"/>
                  <a:pt x="203" y="95"/>
                  <a:pt x="203" y="95"/>
                </a:cubicBezTo>
                <a:cubicBezTo>
                  <a:pt x="209" y="67"/>
                  <a:pt x="213" y="39"/>
                  <a:pt x="244" y="27"/>
                </a:cubicBezTo>
                <a:cubicBezTo>
                  <a:pt x="257" y="22"/>
                  <a:pt x="311" y="16"/>
                  <a:pt x="325" y="0"/>
                </a:cubicBez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68360" y="3789360"/>
            <a:ext cx="84247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Употребляйте в пищу  продукты, в которых содержится много витамина 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(Морковь, лук зеленый, молочные продукты, рябину, сливы, абрико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 rot="20656200">
            <a:off x="1403280" y="1628280"/>
            <a:ext cx="1522440" cy="1871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 rot="20021400">
            <a:off x="2626920" y="188640"/>
            <a:ext cx="952560" cy="18954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 rot="19648800">
            <a:off x="3924360" y="404280"/>
            <a:ext cx="1789200" cy="15685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 rot="21185400">
            <a:off x="6516360" y="475920"/>
            <a:ext cx="2016000" cy="19270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 rot="21076200">
            <a:off x="3924000" y="1773000"/>
            <a:ext cx="1905120" cy="20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8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имнастика для глаз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Сидя, крепко зажмурить глаза и считать медленно до 7. Затем открыть глаза на такое же время (8 раз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Быстро моргать 20-30 секун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Стоя, смотреть перед собой 2-3 с.. Затем переместить взгляд на указательный палец правой руки, который находится на расстоянии 25-30 см (8 раз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33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Стоя. Вытянуть руку вперед. Смотреть на конец пальца вытянутой руки. Медленно приближать палец, не сводя с него глаз. (8 раз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Отвести руку  в правую сторону, медленно передвигать палец полусогнутой руки справа на лево, при неподвижной голове следить глазами за пальц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99"/>
                </a:solidFill>
                <a:latin typeface="Arial"/>
              </a:rPr>
              <a:t>Затем в другую сторо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26920" y="2060640"/>
            <a:ext cx="764892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584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о время письма свет должен</a:t>
            </a:r>
            <a:endParaRPr b="1" lang="en-US" sz="4000" spc="1" strike="noStrike">
              <a:ln w="15840">
                <a:solidFill>
                  <a:srgbClr val="ffcc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584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адать с левой стороны.</a:t>
            </a:r>
            <a:endParaRPr b="1" lang="en-US" sz="4000" spc="1" strike="noStrike">
              <a:ln w="15840">
                <a:solidFill>
                  <a:srgbClr val="ffcc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116000" y="1341360"/>
            <a:ext cx="716436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Расстояние от парты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до глаз 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во время чтения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и письма должно быть 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равно высоте локтя,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при этом глаза 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должны быть 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на уровне 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большого пальца руки.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Через каждые 15-20 минут письма, чтения, надо делать небольшой перерыв, чтобы дать глазам отды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1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Arial"/>
              </a:rPr>
              <a:t>Нельзя читать лежа! И нельзя читать в движущемся транспорт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8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Надо соблюдать правила безопасности при обращении с острыми инструмент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А) не размахивайте вилкой во время е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Б) ножницы передавайте в сомкнутом виде, кольцами впере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В) при работе с иглой, острие иглы прикрывайте указательным пальц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2400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Arial"/>
              </a:rPr>
              <a:t>А если соринка попала в глаз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901"/>
              </a:spcBef>
              <a:buClr>
                <a:srgbClr val="cc00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Arial"/>
              </a:rPr>
              <a:t>Вымыть руки мылом и вод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901"/>
              </a:spcBef>
              <a:buClr>
                <a:srgbClr val="cc00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Arial"/>
              </a:rPr>
              <a:t>Чистым носовым платком вести от края глаза к переносице, выметывая соринк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А если поранили глаз, наложить чистую повязку и обратиться к врач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826920" y="2060640"/>
            <a:ext cx="77774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"Сам далеко, а круглые, </a:t>
            </a:r>
            <a:endParaRPr b="1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черные уже добежали."</a:t>
            </a:r>
            <a:endParaRPr b="1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843280" y="549360"/>
            <a:ext cx="2562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Загадка №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33"/>
                </a:solidFill>
                <a:latin typeface="Arial"/>
              </a:rPr>
              <a:t>Нельзя долго смотреть телевизо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Не стесняйтесь носить очки, если их вам прописал врач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516720" y="2924280"/>
            <a:ext cx="1717560" cy="2089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187280" y="2781360"/>
            <a:ext cx="1443240" cy="2087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flipH="1">
            <a:off x="2268360" y="3213000"/>
            <a:ext cx="48247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987640" y="6165720"/>
            <a:ext cx="3240000" cy="23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Человек и глаз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843280" y="549360"/>
            <a:ext cx="2562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Загадка №2</a:t>
            </a:r>
            <a:endParaRPr b="1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39640" y="2565360"/>
            <a:ext cx="8064720" cy="138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ffcc"/>
                  </a:solidFill>
                  <a:miter/>
                </a:ln>
                <a:solidFill>
                  <a:srgbClr val="003300"/>
                </a:solidFill>
                <a:latin typeface="Arial"/>
              </a:rPr>
              <a:t>Брат с братом через дорогу живут,</a:t>
            </a:r>
            <a:endParaRPr b="1" lang="en-US" sz="1800" spc="1" strike="noStrike">
              <a:ln w="9360">
                <a:solidFill>
                  <a:srgbClr val="ccffcc"/>
                </a:solidFill>
                <a:miter/>
              </a:ln>
              <a:solidFill>
                <a:srgbClr val="00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ffcc"/>
                  </a:solidFill>
                  <a:miter/>
                </a:ln>
                <a:solidFill>
                  <a:srgbClr val="003300"/>
                </a:solidFill>
                <a:latin typeface="Arial"/>
              </a:rPr>
              <a:t>а один другого не видит</a:t>
            </a:r>
            <a:endParaRPr b="1" lang="en-US" sz="1800" spc="1" strike="noStrike">
              <a:ln w="9360">
                <a:solidFill>
                  <a:srgbClr val="ccffcc"/>
                </a:solidFill>
                <a:miter/>
              </a:ln>
              <a:solidFill>
                <a:srgbClr val="0033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411280" y="907920"/>
            <a:ext cx="4907160" cy="3679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3924360" y="5229360"/>
            <a:ext cx="1511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Глаз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258920" y="2349360"/>
            <a:ext cx="70581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ffcc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"БЕРЕГИ ЗРЕНИЕ!"</a:t>
            </a:r>
            <a:endParaRPr b="1" lang="en-US" sz="1800" spc="1" strike="noStrike">
              <a:ln w="9360">
                <a:solidFill>
                  <a:srgbClr val="ccffcc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484360" y="692280"/>
            <a:ext cx="4248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Тема урока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Для чего нужны глаз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ак природа позаботилась о глазах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ак сохранить хорошее зрени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95280" y="2276640"/>
            <a:ext cx="8497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вой глаз лучше родного брата.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692360" y="0"/>
            <a:ext cx="54417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308720" y="5229360"/>
            <a:ext cx="16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рхитекторы: Барма, Постн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2T08:19:12Z</dcterms:created>
  <dc:creator>Рабочий ПК</dc:creator>
  <dc:description/>
  <dc:language>en-US</dc:language>
  <cp:lastModifiedBy>Рабочий ПК</cp:lastModifiedBy>
  <dcterms:modified xsi:type="dcterms:W3CDTF">2008-11-12T11:14:09Z</dcterms:modified>
  <cp:revision>3</cp:revision>
  <dc:subject/>
  <dc:title>Урок здоровья  «Береги зрение»</dc:title>
</cp:coreProperties>
</file>