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gif" ContentType="image/gif"/>
  <Override PartName="/ppt/media/image14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0A4A-5C90-433D-81A4-B18A8B0ED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C1EC-45DA-4618-BBBA-97846EC71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6D99-8D26-4DF9-89DC-7CCE408BB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7D9B-A9F2-4001-A94C-1FE848068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B3C7-D3EB-4A7B-8D5C-70D9933E9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96A8-1007-44D3-92DA-F832C09AB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E197-E10D-44DB-BD54-F40B895B1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FE40-B991-44B1-9D48-F62536D40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F5F6-0734-489A-AC0F-C4ED20CBF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2A7D-388A-4AE6-88BC-B65E8F29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E962-9D06-43B6-9DB1-C41D481F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2EAC-5625-4F89-83AE-23F9B3E9D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EC152-43A8-4047-A3F2-C04A9EF5CD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&#1090;&#1077;&#1089;&#1090; &#1090;&#1082;&#1072;&#1085;&#1080;.swf" TargetMode="Externa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-drofa.ru/materials/bio6/0124-tkani-rastenij-tkan.html-" TargetMode="External"/><Relationship Id="rId2" Type="http://schemas.openxmlformats.org/officeDocument/2006/relationships/hyperlink" Target="http://cor.edu.27.ru/catalog/rubr/0000019f-a000-4ddd-c5d5-380046b1d850/28467/?&amp;subject=83-" TargetMode="External"/><Relationship Id="rId3" Type="http://schemas.openxmlformats.org/officeDocument/2006/relationships/hyperlink" Target="http://cor.edu.27.ru/catalog/rubr/0000019f-a000-4ddd-c5d5-380046b1d850/28467/?&amp;subject=83-" TargetMode="External"/><Relationship Id="rId4" Type="http://schemas.openxmlformats.org/officeDocument/2006/relationships/hyperlink" Target="http://cor.edu.27.ru/dlrstore/6c804ce9-065f-465e-93f1-5a65dd0f6c08/%5BBI6RA_3-02%5D_%5BTR_06%5D.swf-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&#1090;&#1082;&#1072;&#1085;&#1080; &#1088;&#1072;&#1089;&#1090;&#1077;&#1085;&#1080;&#1081;.swf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Arial"/>
              </a:rPr>
              <a:t>Ткани раст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63640" y="3068640"/>
            <a:ext cx="51832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Урок биологии 6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211640" y="4508640"/>
            <a:ext cx="457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готовлен учителем биологии, химии МОУ СОШ д.Городище Немского района Кировской области Кассихиной Татьяной Александров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Покровные тка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наружные ткани растения, защищающ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его органы от высыхания, действ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высоких и низких температур, механически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повреждений и других неблагоприят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воздействий окружающей среды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4000" y="3716280"/>
            <a:ext cx="2663640" cy="21589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24000" y="6237360"/>
            <a:ext cx="1944360" cy="3988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Кожица  лу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877080" y="3645000"/>
            <a:ext cx="1714320" cy="23032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588000" y="6165720"/>
            <a:ext cx="2232000" cy="3988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Кожица ли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3276720" y="3573360"/>
            <a:ext cx="3343320" cy="22957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419640" y="6165720"/>
            <a:ext cx="2160360" cy="3988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Пробка ко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Механическая тка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опорная ткань, придающая прочно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растительному организм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84720" y="4243320"/>
            <a:ext cx="4319640" cy="22813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39640" y="2492280"/>
            <a:ext cx="3311640" cy="26161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39640" y="5877000"/>
            <a:ext cx="3311640" cy="70380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Древесинные и лубяные волок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Проводящие тка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это ткани растений, служащие дл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перемещения по растению питательн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веществ и продуктов жизнедеятельн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растения, растворенных в воде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39640" y="3645000"/>
            <a:ext cx="3240360" cy="24289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84360" y="6237360"/>
            <a:ext cx="3024000" cy="3988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Сосуды  древесины</a:t>
            </a: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659640" y="3068640"/>
            <a:ext cx="2208240" cy="29242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435640" y="6165720"/>
            <a:ext cx="3492360" cy="3988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Ситовидные трубки кор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Основная тка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cc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это ткань, составляющая основную масс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различных органов растения. Основная ткан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выполняет различные функции: осуществля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фотосинтез, служит для отложения запас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веществ, осуществляет всасывание воды.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68360" y="3500280"/>
            <a:ext cx="3948120" cy="24418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50920" y="6165720"/>
            <a:ext cx="4464000" cy="3988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Фотосинтезирующая ткань листа</a:t>
            </a: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219640" y="3500280"/>
            <a:ext cx="3313080" cy="23720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292720" y="6165720"/>
            <a:ext cx="3384720" cy="3988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Зона  всасывания корн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Arial"/>
              </a:rPr>
              <a:t>Поперечный срез листа- </a:t>
            </a:r>
            <a:br>
              <a:rPr sz="4000"/>
            </a:br>
            <a:r>
              <a:rPr b="0" lang="en-US" sz="4000" spc="-1" strike="noStrike">
                <a:solidFill>
                  <a:srgbClr val="993300"/>
                </a:solidFill>
                <a:latin typeface="Arial"/>
              </a:rPr>
              <a:t>синтез ткан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547640" y="2349360"/>
            <a:ext cx="5472360" cy="31356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771640" y="2060640"/>
            <a:ext cx="73080" cy="79200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26920" y="1413000"/>
            <a:ext cx="2592720" cy="70380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Верхняя кожица – покровная тка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363640" y="2276640"/>
            <a:ext cx="1225800" cy="86508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148360" y="1628640"/>
            <a:ext cx="3671640" cy="70380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Основная фотосинтезирующая тка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4427280" y="3789000"/>
            <a:ext cx="2808360" cy="86508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88000" y="4797360"/>
            <a:ext cx="2016360" cy="161856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Проводящие ткани – сосуды и ситовидные труб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4356000" y="4868640"/>
            <a:ext cx="720720" cy="1081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03640" y="6165720"/>
            <a:ext cx="25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35280" y="5877000"/>
            <a:ext cx="2521080" cy="67320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Волокна</a:t>
            </a:r>
            <a:r>
              <a:rPr b="1" lang="en-US" sz="1800" spc="-1" strike="noStrike">
                <a:solidFill>
                  <a:srgbClr val="cc6600"/>
                </a:solidFill>
                <a:latin typeface="Arial"/>
              </a:rPr>
              <a:t> -механическая тка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1763640" y="4508640"/>
            <a:ext cx="649440" cy="107928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8360" y="5589720"/>
            <a:ext cx="2374920" cy="70380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6600"/>
                </a:solidFill>
                <a:latin typeface="Arial"/>
              </a:rPr>
              <a:t>Нижняя кожица-покровная тка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76360" y="1915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508800" y="3068640"/>
            <a:ext cx="2635200" cy="35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000" y="2923920"/>
            <a:ext cx="662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Молодцы!</a:t>
            </a:r>
            <a:br>
              <a:rPr sz="4400"/>
            </a:b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Хорошо потрудились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186520" y="1268280"/>
            <a:ext cx="3957480" cy="55897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3544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Arial"/>
              </a:rPr>
              <a:t>Источники информац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00"/>
                </a:solidFill>
                <a:latin typeface="Arial"/>
              </a:rPr>
              <a:t>Биология. Живой организм. 6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cc6600"/>
                </a:solidFill>
                <a:latin typeface="Arial"/>
              </a:rPr>
              <a:t>Учебник-навигатор. Автор: Сонин Н. И.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-drofa.ru/materials/bio6/0124-tkani-rastenij-tkan.html-</a:t>
            </a:r>
            <a:r>
              <a:rPr b="1" lang="ru-RU" sz="2800" spc="-1" strike="noStrike">
                <a:solidFill>
                  <a:srgbClr val="cc6600"/>
                </a:solidFill>
                <a:latin typeface="Arial"/>
              </a:rPr>
              <a:t> текст, рисун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cor.edu.27.ru/catalog/rubr/0000019f-a000-4ddd-c5d5-380046b1d850/28467/?&amp;subject=83-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c6600"/>
                </a:solidFill>
                <a:latin typeface="Arial"/>
              </a:rPr>
              <a:t>виде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cor.edu.27.ru/dlrstore/6c804ce9-065f-465e-93f1-5a65dd0f6c08/%5BBI6RA_3-02%5D_%5BTR_06%5D.swf-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c6600"/>
                </a:solidFill>
                <a:latin typeface="Arial"/>
              </a:rPr>
              <a:t>интерактивный тренаж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Arial"/>
              </a:rPr>
              <a:t>Подумай и ответ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1). Как называют содержимое вакуолей клеток растени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а) клеточный сок;        б) матрикс;            в) цитоплазма;         г) ядерный с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Arial"/>
              </a:rPr>
              <a:t>Подумай и ответ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2. Есть ли пластиды в клетках чешуи лу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а) да;                          б) н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Arial"/>
              </a:rPr>
              <a:t>Подумай и ответ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3. Цитоплазма в клетк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а) медленно движется;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б) движется только при нагревании;        в) не всегда движ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Arial"/>
              </a:rPr>
              <a:t>Подумай и ответ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4. Каждая живая клет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а) питается, дышит и растёт в течение всей своей жизни;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б) питается, дышит, а растёт до зрелого состоя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в) питается и раст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Arial"/>
              </a:rPr>
              <a:t>Подумай и ответ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5. Хромосомы находятся 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а.) Цитоплаз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б) Яд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в) Вакуол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г) Хлороплас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Ткань-</a:t>
            </a: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161316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- группа клеток, сходных по строению и выполняемым функциям, соединённых межклеточным веществом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979640" y="3357720"/>
            <a:ext cx="504720" cy="10080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40360" y="3357720"/>
            <a:ext cx="432000" cy="10080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4653000"/>
            <a:ext cx="1655640" cy="58140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Клетк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32360" y="4724280"/>
            <a:ext cx="3168720" cy="106884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Межклеточное вещ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796000" y="1844640"/>
            <a:ext cx="2879640" cy="115272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0920" y="1916280"/>
            <a:ext cx="3132000" cy="115236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404640"/>
            <a:ext cx="3456000" cy="122400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1640" y="5229360"/>
            <a:ext cx="2952720" cy="12952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373720"/>
            <a:ext cx="2735280" cy="107964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00000" y="220500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Покров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836640"/>
            <a:ext cx="24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Механическ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220500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Проводящ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87280" y="5661000"/>
            <a:ext cx="17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Основ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651640" y="566100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Образователь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411280" y="2852640"/>
            <a:ext cx="3889440" cy="1871640"/>
          </a:xfrm>
          <a:prstGeom prst="ellipse">
            <a:avLst/>
          </a:prstGeom>
          <a:solidFill>
            <a:srgbClr val="ffcc99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56000" y="3284280"/>
            <a:ext cx="34574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Виды </a:t>
            </a:r>
            <a:br>
              <a:rPr sz="3200"/>
            </a:b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тканей раст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Образовательная тка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группа одинаковых по строению клеток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интенсивно делящихся, сохраняющи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физиологическую активность на протяжен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всей жизни и обеспечивающих непрерывн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нарастание массы раст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79280" y="3602160"/>
            <a:ext cx="2592360" cy="20732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059280" y="3860640"/>
            <a:ext cx="2952720" cy="19814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300720" y="3832200"/>
            <a:ext cx="2664000" cy="21304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50920" y="5734080"/>
            <a:ext cx="2520720" cy="70380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Конус нарастания верхушки побег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03640" y="6093000"/>
            <a:ext cx="2520720" cy="3988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Зона роста корн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04000" y="6093000"/>
            <a:ext cx="1224000" cy="3988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Камбий</a:t>
            </a: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1T04:15:43Z</dcterms:created>
  <dc:creator>Миша</dc:creator>
  <dc:description/>
  <dc:language>en-US</dc:language>
  <cp:lastModifiedBy>Admin</cp:lastModifiedBy>
  <dcterms:modified xsi:type="dcterms:W3CDTF">2011-10-22T10:45:30Z</dcterms:modified>
  <cp:revision>13</cp:revision>
  <dc:subject/>
  <dc:title>Ткани растений</dc:title>
</cp:coreProperties>
</file>