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2C8-44C9-461A-8486-9AD388F2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8D2-6F02-4417-A162-2451177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418-DCBB-4029-98AC-EBAF285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7A2-DFBE-418B-88A6-BF4A353C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78C-6BB6-47AD-93A2-CC19F6E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130-D9E9-4B6F-827F-4A870E03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60A-2652-4882-A689-A59C8A2B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994-207E-4B1C-8D43-3D8A9AE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892-89E1-423C-A242-859988E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A13-ED44-442D-A3DD-B26F2B2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265-C115-41DD-806E-D109350A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51F-1883-4782-86EE-FFEDE7E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E628-FE16-4180-B2A8-05512E51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&#1090;&#1077;&#1089;&#1090; &#1090;&#1082;&#1072;&#1085;&#1080;.sw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-drofa.ru/materials/bio6/0124-tkani-rastenij-tkan.html-" TargetMode="External"/><Relationship Id="rId2" Type="http://schemas.openxmlformats.org/officeDocument/2006/relationships/hyperlink" Target="http://cor.edu.27.ru/catalog/rubr/0000019f-a000-4ddd-c5d5-380046b1d850/28467/?&amp;subject=83-" TargetMode="External"/><Relationship Id="rId3" Type="http://schemas.openxmlformats.org/officeDocument/2006/relationships/hyperlink" Target="http://cor.edu.27.ru/catalog/rubr/0000019f-a000-4ddd-c5d5-380046b1d850/28467/?&amp;subject=83-" TargetMode="External"/><Relationship Id="rId4" Type="http://schemas.openxmlformats.org/officeDocument/2006/relationships/hyperlink" Target="http://cor.edu.27.ru/dlrstore/6c804ce9-065f-465e-93f1-5a65dd0f6c08/%5BBI6RA_3-02%5D_%5BTR_06%5D.swf-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1090;&#1082;&#1072;&#1085;&#1080; &#1088;&#1072;&#1089;&#1090;&#1077;&#1085;&#1080;&#1081;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Тка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5183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Урок биолог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508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лен учителем биологии, химии МОУ СОШ д.Городище Немского района Кировской области Кассихиной Татьяной Александр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кровны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наружные ткани растения, защищ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его органы от высыхания, 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ысоких и низких температур, механ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повреждений и других неблагоприя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оздействий окружающей среды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6237360"/>
            <a:ext cx="1944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 л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14320" cy="230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0" y="6165720"/>
            <a:ext cx="2232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76720" y="3573360"/>
            <a:ext cx="3343320" cy="229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6165720"/>
            <a:ext cx="2160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бка к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Механическ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опорная ткань, придающая про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ительному организ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84720" y="4243320"/>
            <a:ext cx="4319640" cy="2281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311640" cy="261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5877000"/>
            <a:ext cx="3311640" cy="7038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Древесинные и лубяные 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это ткани растений, служащие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перемещения по растению пит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веществ и продуктов жизне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ения, растворенных в вод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24036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6237360"/>
            <a:ext cx="30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осуды  древесины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20824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35640" y="6165720"/>
            <a:ext cx="3492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итовидные трубки к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сн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это ткань, составляющая основную мас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зличных органов растения. Основная тк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ыполняет различные функции: осущест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отосинтез, служит для отложения запас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еществ, осуществляет всасывание воды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948120" cy="24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6165720"/>
            <a:ext cx="446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Фотосинтезирующая ткань листа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313080" cy="237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6165720"/>
            <a:ext cx="3384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 всасывания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Поперечный срез листа- 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синтез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472360" cy="3135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2060640"/>
            <a:ext cx="73080" cy="79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413000"/>
            <a:ext cx="2592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ерхняя кожица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63640" y="2276640"/>
            <a:ext cx="122580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628640"/>
            <a:ext cx="367164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Основная фотосинтезирующ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427280" y="3789000"/>
            <a:ext cx="280836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4797360"/>
            <a:ext cx="2016360" cy="1618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водящие ткани – сосуды и ситовидные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356000" y="4868640"/>
            <a:ext cx="72072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6165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77000"/>
            <a:ext cx="2521080" cy="673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олокна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-механическ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763640" y="4508640"/>
            <a:ext cx="649440" cy="107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589720"/>
            <a:ext cx="23749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Нижняя кожица-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08800" y="3068640"/>
            <a:ext cx="26352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Молодцы!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Хорошо потрудили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6520" y="1268280"/>
            <a:ext cx="3957480" cy="558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44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Биология. Живой организм.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Учебник-навигатор. Автор: Сонин Н. И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-drofa.ru/materials/bio6/0124-tkani-rastenij-tkan.html-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текст, 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cor.edu.27.ru/catalog/rubr/0000019f-a000-4ddd-c5d5-380046b1d850/28467/?&amp;subject=83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иде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or.edu.27.ru/dlrstore/6c804ce9-065f-465e-93f1-5a65dd0f6c08/%5BBI6RA_3-02%5D_%5BTR_06%5D.swf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интерактивны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1). Как называют содержимое вакуолей клеток раст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клеточный сок;        б) матрикс;            в) цитоплазма;         г) ядерный 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2. Есть ли пластиды в клетках чешуи лу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да;                          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3. Цитоплазма в клет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медленно движется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движется только при нагревании;        в) не всегда движ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4. Каждая живая клет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питается, дышит и растёт в течение всей своей жизни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питается, дышит, а растёт до зрелого состоя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питается и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5. Хромосомы находя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.) Цито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Яд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Ваку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г) Хлоропла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кань-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- группа клеток, сходных по строению и выполняемым функциям, соединённых межклеточным веществом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9640" y="3357720"/>
            <a:ext cx="50472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357720"/>
            <a:ext cx="43200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653000"/>
            <a:ext cx="1655640" cy="581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л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4724280"/>
            <a:ext cx="3168720" cy="1068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Межклеточн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6000" y="1844640"/>
            <a:ext cx="2879640" cy="11527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16280"/>
            <a:ext cx="3132000" cy="11523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04640"/>
            <a:ext cx="3456000" cy="1224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5229360"/>
            <a:ext cx="2952720" cy="1295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373720"/>
            <a:ext cx="2735280" cy="10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220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окр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83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ехан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2205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в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5661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сн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566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852640"/>
            <a:ext cx="3889440" cy="187164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3284280"/>
            <a:ext cx="345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Виды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тканей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бразователь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группа одинаковых по строению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тенсивно делящихся, сохран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изиологическую активность на протя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сей жизни и обеспечивающих непрерыв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растание массы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360216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295272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83220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5734080"/>
            <a:ext cx="2520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нус нарастания верхушки поб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6093000"/>
            <a:ext cx="2520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роста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6093000"/>
            <a:ext cx="12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амбий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4:15:43Z</dcterms:created>
  <dc:creator>Миша</dc:creator>
  <dc:description/>
  <dc:language>en-US</dc:language>
  <cp:lastModifiedBy>Admin</cp:lastModifiedBy>
  <dcterms:modified xsi:type="dcterms:W3CDTF">2011-10-22T10:45:30Z</dcterms:modified>
  <cp:revision>13</cp:revision>
  <dc:subject/>
  <dc:title>Ткани растений</dc:title>
</cp:coreProperties>
</file>