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A13F-9540-42BA-BAB2-9172D9718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6240-482C-4EED-9C98-093A3A795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9F3-BA92-4161-ADA3-2B12FC18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5DD-E24D-4176-B0E3-D1B9B51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03D-415B-4923-BA0C-AC782F0A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81A-6136-47D4-903D-DE569A7B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4B5-0D73-44D6-B383-6A03D3CD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F45-0751-4C0C-8DA1-569D85F2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78C-BAB5-47D6-AD30-559D65E7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5C5-FA17-4DCD-A0F0-6FF8E2B0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32F-26DE-40B2-8D2D-31FB148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C04-A22C-4040-AFA7-D784BA9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EA2-98C5-4B02-985A-B5D76BB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5BF-0484-4F4C-9E6E-CC22C93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76B1-655A-4DCA-B132-BFB65B5F2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9800" y="285840"/>
            <a:ext cx="64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ая викторин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ворчеству А.П. Чехо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– 6 класс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ту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chehov-photo-7.jpg"/>
          <p:cNvPicPr/>
          <p:nvPr/>
        </p:nvPicPr>
        <p:blipFill>
          <a:blip r:embed="rId1"/>
          <a:stretch/>
        </p:blipFill>
        <p:spPr>
          <a:xfrm>
            <a:off x="255600" y="2346480"/>
            <a:ext cx="32068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чные труды замышлял написать студент медицинского факультета Московского университета А.Чехов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и всём многообразии заглавий ранних чеховских рассказов иногда автор демонстративно отказывается от тематического заголовка. Как назывались рассказы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го из своих учителей в университете Чехов ставил в медицине наравне с Львом Толстым в литератур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Чеховские герои «хочут свою образованность показать» и приписывают одним писателям произведения и высказывания других: «Даже Шекспир сказал: «Блажен, кто смолоду был молод» («Аптекарша»), «Нравится вам Тургенев?. А вы читали его «Обломов»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?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» («В ландо») Назовите настоящих автор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смешные названия придумывал Чехов своим юмористическим рассказам – то в виде антитезы, то двойные заглавия с союзом «или»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 снисходительно-пренебрежительно называл автор свою юмористическую «продукцию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каких рассказах герои изъясняются та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а) «Чхать никому и нигде не возбраняется. Чхают и мужики, и полицмейстеры, и иногда даже тайные советники. Все чхают»; б) «Я покажу вам, как собак распускать!... Как оштрафую его, мерзавца, так он узнает у меня, что значит собака и прочий бродячий скот!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) «А Москва город большой. Дома всё господские и лошадей много , а овец нету и собаки не злые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исал ли Чехов детективы или «уголовные» рассказы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ем сравнивается герой рассказа «Мелюзга» чиновник Невыразимов, дежуривший в пасхальную ночь и наблюдавший за таким же узником, как и о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чему В.Шкловский считает рассказ «Ванька» «самым горьким в мире рождественским рассказом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ерите номер в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1066680"/>
            <a:ext cx="85471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 какой целью путешествуют по степи герои одноимённой повести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 ком думает 9-летний Егорушка: «До своей смерти она была жива и носила с базара мягкие бублики, посыпанные маком, теперь же она спит, спит»</a:t>
            </a:r>
            <a:r>
              <a:rPr b="0" lang="ru-RU" sz="5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смысл вкладывает писатель в название сборника «Пёстрые рассказы»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е науки изучал Чехов, готовясь к поездке на Сахалин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«Я стоял и думал: какая полная, умная и смелая жизнь осветит со временем эти берега!» О какой реке идёт речь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дному своему сборнику произведений писатель дал заглавие, представляющее обобщённую характеристику его героев. Какое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им путём возвращался Чехов с Сахалина</a:t>
            </a:r>
            <a:r>
              <a:rPr b="0" lang="ru-RU" sz="43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Героям какого произведения посвящены данные изображения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8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C:\Users\екатерина пальгина\Pictures\0_14af7_2e41bc6c_XL.jpg"/>
          <p:cNvPicPr/>
          <p:nvPr/>
        </p:nvPicPr>
        <p:blipFill>
          <a:blip r:embed="rId1"/>
          <a:stretch/>
        </p:blipFill>
        <p:spPr>
          <a:xfrm>
            <a:off x="214200" y="1143000"/>
            <a:ext cx="3581640" cy="26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8" descr="C:\Users\екатерина пальгина\Pictures\0_e886_8c50ae00_XL.jpg"/>
          <p:cNvPicPr/>
          <p:nvPr/>
        </p:nvPicPr>
        <p:blipFill>
          <a:blip r:embed="rId2"/>
          <a:stretch/>
        </p:blipFill>
        <p:spPr>
          <a:xfrm>
            <a:off x="5643720" y="1143000"/>
            <a:ext cx="288108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9" descr="C:\Users\екатерина пальгина\Pictures\0f543393ee0f.jpg"/>
          <p:cNvPicPr/>
          <p:nvPr/>
        </p:nvPicPr>
        <p:blipFill>
          <a:blip r:embed="rId3"/>
          <a:stretch/>
        </p:blipFill>
        <p:spPr>
          <a:xfrm>
            <a:off x="2143080" y="3714840"/>
            <a:ext cx="46483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му рассказу Чехова соответствуют  следующие иллюстрации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E:\Чехов(памятники, иллюстрации)\Кукрыниксы Дама с собачкой.3.jpg"/>
          <p:cNvPicPr/>
          <p:nvPr/>
        </p:nvPicPr>
        <p:blipFill>
          <a:blip r:embed="rId1"/>
          <a:stretch/>
        </p:blipFill>
        <p:spPr>
          <a:xfrm>
            <a:off x="3429000" y="1357200"/>
            <a:ext cx="3448080" cy="21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3" descr="E:\Чехов(памятники, иллюстрации)\Кукрыниксы Дама с собачкой.4.jpg"/>
          <p:cNvPicPr/>
          <p:nvPr/>
        </p:nvPicPr>
        <p:blipFill>
          <a:blip r:embed="rId2"/>
          <a:stretch/>
        </p:blipFill>
        <p:spPr>
          <a:xfrm>
            <a:off x="285840" y="1071720"/>
            <a:ext cx="2252520" cy="32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4" descr="E:\Чехов(памятники, иллюстрации)\Кукрыниксы Дама с собачкой.jpg"/>
          <p:cNvPicPr/>
          <p:nvPr/>
        </p:nvPicPr>
        <p:blipFill>
          <a:blip r:embed="rId3"/>
          <a:stretch/>
        </p:blipFill>
        <p:spPr>
          <a:xfrm>
            <a:off x="142920" y="4500720"/>
            <a:ext cx="4029120" cy="219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Picture 5" descr="E:\Чехов(памятники, иллюстрации)\Кукрыниксы Дама с собачкой2.jpg"/>
          <p:cNvPicPr/>
          <p:nvPr/>
        </p:nvPicPr>
        <p:blipFill>
          <a:blip r:embed="rId4"/>
          <a:stretch/>
        </p:blipFill>
        <p:spPr>
          <a:xfrm>
            <a:off x="4643280" y="3929040"/>
            <a:ext cx="42562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Что побудило семью Чеховых уехать из Таганрога в Москву и кто из них дольше остальных оставался в родном городе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й медицинский довод в пользу решения вопроса о самозванстве Лжедмитрия нашёл студент Чехов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 словам А.П.Чехова, он перепробовал в литературе все жанры кроме …. и … . Каких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бщеизвестно выражение «синий чулок», а у Чехова есть рассказ, в заглавии которого чулок имеет другой цвет. Какой и в чём смысл этого иносказания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то первый назвал Чехова «Чехонте»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аковы ранние опыты Чехова в драматическом род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ассказ «Мои жёны» написан в форме письма Синей Бороды, в котором он разъясняет, за что отравил своих жён – за мотовство, за учёность, за глупость и невежество. Сколько жён отравил Синяя Бород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7:27:55Z</dcterms:created>
  <dc:creator>екатерина пальгина</dc:creator>
  <dc:description/>
  <dc:language>en-US</dc:language>
  <cp:lastModifiedBy>екатерина пальгина</cp:lastModifiedBy>
  <dcterms:modified xsi:type="dcterms:W3CDTF">2011-05-23T19:39:12Z</dcterms:modified>
  <cp:revision>32</cp:revision>
  <dc:subject/>
  <dc:title>Литературная игра  по творчеству А.П. Чехова</dc:title>
</cp:coreProperties>
</file>