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E6F9-8C84-4CB0-B371-0BF26883C7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7482-FD84-4BD0-9AA1-789AC89B60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6BE-4391-4BD0-B3E8-9C647D6E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A42-1BF9-4AF7-9BBE-EF2E4EF3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283-FEA7-4865-AACF-1617B6CC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F73-DA3B-4748-B8E5-DAB6C6B9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32-3A78-4E2C-B673-B288578F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0D7-1E32-4593-B72D-F6A7596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EEE-6A74-47C7-9D65-C85DDFC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815-1181-4AB4-9409-5B9B7EBE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1AB-8770-4E34-96F7-4EE32B03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FEC-60F9-434F-84A9-D9E2094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59D-013F-44EB-8E66-2405440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8D9-E0D3-4AF5-A0A1-644A51E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512-4A5D-4A19-991B-EA405933C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9800" y="285840"/>
            <a:ext cx="64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ая викторин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ворчеству А.П. Чехо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– 6 класс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chehov-photo-7.jpg"/>
          <p:cNvPicPr/>
          <p:nvPr/>
        </p:nvPicPr>
        <p:blipFill>
          <a:blip r:embed="rId1"/>
          <a:stretch/>
        </p:blipFill>
        <p:spPr>
          <a:xfrm>
            <a:off x="255600" y="2346480"/>
            <a:ext cx="32068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чные труды замышлял написать студент медицинского факультета Московского университета А.Чехов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и всём многообразии заглавий ранних чеховских рассказов иногда автор демонстративно отказывается от тематического заголовка. Как назывались рассказы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го из своих учителей в университете Чехов ставил в медицине наравне с Львом Толстым в литератур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Чеховские герои «хочут свою образованность показать» и приписывают одним писателям произведения и высказывания других: «Даже Шекспир сказал: «Блажен, кто смолоду был молод» («Аптекарша»), «Нравится вам Тургенев?. А вы читали его «Обломов»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?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» («В ландо») Назовите настоящих авто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смешные названия придумывал Чехов своим юмористическим рассказам – то в виде антитезы, то двойные заглавия с союзом «или»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 снисходительно-пренебрежительно называл автор свою юмористическую «продукцию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каких рассказах герои изъясняются та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«Чхать никому и нигде не возбраняется. Чхают и мужики, и полицмейстеры, и иногда даже тайные советники. Все чхают»; б) «Я покажу вам, как собак распускать!... Как оштрафую его, мерзавца, так он узнает у меня, что значит собака и прочий бродячий скот!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«А Москва город большой. Дома всё господские и лошадей много , а овец нету и собаки не злы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исал ли Чехов детективы или «уголовные» рассказы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ем сравнивается герой рассказа «Мелюзга» чиновник Невыразимов, дежуривший в пасхальную ночь и наблюдавший за таким же узником, как и о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чему В.Шкловский считает рассказ «Ванька» «самым горьким в мире рождественским рассказом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ерите номер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1066680"/>
            <a:ext cx="85471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акой целью путешествуют по степи герои одноимённой повести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 ком думает 9-летний Егорушка: «До своей смерти она была жива и носила с базара мягкие бублики, посыпанные маком, теперь же она спит, спит»</a:t>
            </a:r>
            <a:r>
              <a:rPr b="0" lang="ru-RU" sz="5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смысл вкладывает писатель в название сборника «Пёстрые рассказы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ки изучал Чехов, готовясь к поездке на Сахали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Я стоял и думал: какая полная, умная и смелая жизнь осветит со временем эти берега!» О какой реке идёт речь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дному своему сборнику произведений писатель дал заглавие, представляющее обобщённую характеристику его героев. Какое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м путём возвращался Чехов с Сахалина</a:t>
            </a:r>
            <a:r>
              <a:rPr b="0" lang="ru-RU" sz="43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Героям какого произведения посвящены данные изображения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8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Users\екатерина пальгина\Pictures\0_14af7_2e41bc6c_XL.jpg"/>
          <p:cNvPicPr/>
          <p:nvPr/>
        </p:nvPicPr>
        <p:blipFill>
          <a:blip r:embed="rId1"/>
          <a:stretch/>
        </p:blipFill>
        <p:spPr>
          <a:xfrm>
            <a:off x="214200" y="1143000"/>
            <a:ext cx="3581640" cy="26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екатерина пальгина\Pictures\0_e886_8c50ae00_XL.jpg"/>
          <p:cNvPicPr/>
          <p:nvPr/>
        </p:nvPicPr>
        <p:blipFill>
          <a:blip r:embed="rId2"/>
          <a:stretch/>
        </p:blipFill>
        <p:spPr>
          <a:xfrm>
            <a:off x="5643720" y="1143000"/>
            <a:ext cx="2881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екатерина пальгина\Pictures\0f543393ee0f.jpg"/>
          <p:cNvPicPr/>
          <p:nvPr/>
        </p:nvPicPr>
        <p:blipFill>
          <a:blip r:embed="rId3"/>
          <a:stretch/>
        </p:blipFill>
        <p:spPr>
          <a:xfrm>
            <a:off x="2143080" y="3714840"/>
            <a:ext cx="46483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му рассказу Чехова соответствуют  следующие иллюстрации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Чехов(памятники, иллюстрации)\Кукрыниксы Дама с собачкой.3.jpg"/>
          <p:cNvPicPr/>
          <p:nvPr/>
        </p:nvPicPr>
        <p:blipFill>
          <a:blip r:embed="rId1"/>
          <a:stretch/>
        </p:blipFill>
        <p:spPr>
          <a:xfrm>
            <a:off x="3429000" y="1357200"/>
            <a:ext cx="3448080" cy="21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E:\Чехов(памятники, иллюстрации)\Кукрыниксы Дама с собачкой.4.jpg"/>
          <p:cNvPicPr/>
          <p:nvPr/>
        </p:nvPicPr>
        <p:blipFill>
          <a:blip r:embed="rId2"/>
          <a:stretch/>
        </p:blipFill>
        <p:spPr>
          <a:xfrm>
            <a:off x="285840" y="1071720"/>
            <a:ext cx="2252520" cy="32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Чехов(памятники, иллюстрации)\Кукрыниксы Дама с собачкой.jpg"/>
          <p:cNvPicPr/>
          <p:nvPr/>
        </p:nvPicPr>
        <p:blipFill>
          <a:blip r:embed="rId3"/>
          <a:stretch/>
        </p:blipFill>
        <p:spPr>
          <a:xfrm>
            <a:off x="142920" y="4500720"/>
            <a:ext cx="4029120" cy="21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5" descr="E:\Чехов(памятники, иллюстрации)\Кукрыниксы Дама с собачкой2.jpg"/>
          <p:cNvPicPr/>
          <p:nvPr/>
        </p:nvPicPr>
        <p:blipFill>
          <a:blip r:embed="rId4"/>
          <a:stretch/>
        </p:blipFill>
        <p:spPr>
          <a:xfrm>
            <a:off x="4643280" y="3929040"/>
            <a:ext cx="42562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 побудило семью Чеховых уехать из Таганрога в Москву и кто из них дольше остальных оставался в родном городе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медицинский довод в пользу решения вопроса о самозванстве Лжедмитрия нашёл студент Чехов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 словам А.П.Чехова, он перепробовал в литературе все жанры кроме …. и … . Каких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щеизвестно выражение «синий чулок», а у Чехова есть рассказ, в заглавии которого чулок имеет другой цвет. Какой и в чём смысл этого иносказания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то первый назвал Чехова «Чехонте»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вы ранние опыты Чехова в драматическом род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ассказ «Мои жёны» написан в форме письма Синей Бороды, в котором он разъясняет, за что отравил своих жён – за мотовство, за учёность, за глупость и невежество. Сколько жён отравил Синяя Бород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7:27:55Z</dcterms:created>
  <dc:creator>екатерина пальгина</dc:creator>
  <dc:description/>
  <dc:language>en-US</dc:language>
  <cp:lastModifiedBy>екатерина пальгина</cp:lastModifiedBy>
  <dcterms:modified xsi:type="dcterms:W3CDTF">2011-05-23T19:39:12Z</dcterms:modified>
  <cp:revision>32</cp:revision>
  <dc:subject/>
  <dc:title>Литературная игра  по творчеству А.П. Чехова</dc:title>
</cp:coreProperties>
</file>