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1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9.png" ContentType="image/png"/>
  <Override PartName="/ppt/media/image43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7D03-191F-4181-A4F0-593D9FEE2D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642B-8E27-4EDE-AC9D-80A255DC8953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8924-8812-4D21-BFE2-FE190E7F3401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3AED-86E2-47A0-9748-DE14C0D2E8E2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6B0-BB63-4BB3-BCDC-2D7CA7109F37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9BB8-FBDD-4713-9BAC-963D09DC1C68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A0A-5D5B-4D99-BF14-A05869BC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B0C-96D4-44AC-86E5-CCEF279D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250-4996-455A-819D-52FDD551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BBF-C5A3-4A49-8AE3-9F28FDFB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5404-0EA0-4553-85C6-85FA2D35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B3FD-9095-4310-AAC0-686C4B86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FB30-D45A-4977-83FE-FE860DA9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62D9-110E-4A67-B1F7-5D31CC15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4B1C-2049-45BC-B794-29C4F01D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F6AC-C268-4BD5-BD8D-08A98EAD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9F3D-1C28-4CE6-B127-EED1DB40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018-10F7-43B5-9658-7F5ACFC8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302F-D1F1-4428-B350-C85FBA43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5DC1-98B3-4314-953A-5FC8345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8BF4-9C9C-4057-9634-3E7F330E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7877-0996-402A-9581-13F16CD3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1F0F-1CE7-4416-8E47-0F30D38F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1A3F-9534-441E-9AA9-B0839EE0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11D9-2BE1-4AC9-837A-CB70E61F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CD2C5-7357-4ABE-9F06-D14C7A17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DA1F1-9332-46E0-A8F3-4FF3EF16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345A-D769-4EE5-972E-46B0A606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D78-021C-4DA9-AA4B-E3B60B0F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BD89-13AB-4278-A627-D83E1CC4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3921-8864-4E32-88A9-9419383A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53F6-0668-4737-BA2B-0E3D9E3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CE110-6CC5-465E-98FE-B9B568C9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79D8-1CDB-43EC-92C0-DE1802F0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CFBE-0472-4EA5-9F00-F94317D3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30F3-AAEE-4DE8-8F2C-60E8C823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4C30-A379-4B07-AA41-AE4A75B4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A13F6-A7B7-43BD-B541-D3EBA712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FDAE0-0AFE-41BD-95DA-D28B5C46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F1C-52E9-4FA3-A644-1431460E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5F49-5D02-48C2-BEDB-78F65618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5A75-2EB8-4D02-AA2B-B07619C7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5CFE-B3B0-4FE8-8972-EEAD80BE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F4C7B-808F-475A-B110-B67B133D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71288-77E5-4B9B-8AC7-5A9CDFA4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559A-F81E-44DD-8CBC-AC4A85D0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294CC-9C9F-4F8E-900C-A7BA5059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F7DF-4463-472F-82B2-8E163C1D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C273D-0B04-466A-A5E4-1F2220D0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C4765-D937-4C61-AF90-BFABC1BC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EF2-73C0-4A97-A7E0-D26F7300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B1B2F-B5BA-4748-933E-26DA6FEE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4064B-24AE-4E5C-9FAD-C3DE4CCF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80AF8-E3D5-4644-AF9E-2FEB356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3400F-4EE9-4426-A3AE-D6F40B1C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C0100-7ABC-4184-8DED-3BC251A1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354A2-015C-46C8-AA78-8C56F5D2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5BDC6-3814-433D-9CBA-01DF3E31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389D-9EDF-4802-B1DC-DDEB07C6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AECAF-566F-4EC7-9E9E-C21E7942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CE1FF-A770-47B9-B1F0-C7E47AC8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802-7CD0-4EA2-89D7-53C3B81A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04B24-37FF-4F4A-A457-344ED900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E8BEA-D382-4FD0-A600-A2E1F600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1261E-EBE8-45EB-9159-5AABFBF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AFB3-6520-4CE9-8DD1-736847C6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63182-B24E-43E6-B741-84BE210A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13238-CDA9-47AE-AE2E-83D0D0F7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0C5FB-9CC4-4656-80BB-72DDD58B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91298-C346-4708-B9EC-E57D94F1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5E4F1-0420-40F3-A951-C91C8411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8CECA-5C8D-4960-B226-3A70F659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F4B-7182-4FA2-8D07-8C74AA91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E76E6-C4F1-4069-B331-BCF9991A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8854A-0486-4EC0-B226-92E43F61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6305C-65D4-4A1A-8CFF-FA2F05B4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CE5-20A0-4E14-A99B-D94177F0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C2B-46B2-422B-9863-3E48006B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2C9D-E3BB-4E96-9CBA-D8533EA25A20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2534-A4C3-4A0B-B1FD-62BD392252C7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7E41-CDCB-446C-A64D-3E4E8395F6FF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3B91-8ECA-48BC-A314-D8067E053938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04F2-00AC-452C-8823-F86DBF1B0E01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132C-77EE-47F2-A9D6-BF40E54349DE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12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33354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5"/>
          <p:cNvSpPr/>
          <p:nvPr/>
        </p:nvSpPr>
        <p:spPr>
          <a:xfrm>
            <a:off x="0" y="857160"/>
            <a:ext cx="914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191124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pic>
        <p:nvPicPr>
          <p:cNvPr id="264" name="Прямоугольник 9" descr=""/>
          <p:cNvPicPr/>
          <p:nvPr/>
        </p:nvPicPr>
        <p:blipFill>
          <a:blip r:embed="rId3"/>
          <a:stretch/>
        </p:blipFill>
        <p:spPr>
          <a:xfrm>
            <a:off x="-6480" y="255600"/>
            <a:ext cx="9156960" cy="276228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10" descr=""/>
          <p:cNvPicPr/>
          <p:nvPr/>
        </p:nvPicPr>
        <p:blipFill>
          <a:blip r:embed="rId4"/>
          <a:stretch/>
        </p:blipFill>
        <p:spPr>
          <a:xfrm>
            <a:off x="-6480" y="4711680"/>
            <a:ext cx="9588600" cy="17557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220066_217898.jpg"/>
          <p:cNvPicPr/>
          <p:nvPr/>
        </p:nvPicPr>
        <p:blipFill>
          <a:blip r:embed="rId5"/>
          <a:stretch/>
        </p:blipFill>
        <p:spPr>
          <a:xfrm>
            <a:off x="428760" y="314316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IMG_0002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2000520"/>
          </a:xfrm>
          <a:prstGeom prst="rect">
            <a:avLst/>
          </a:prstGeom>
          <a:ln w="0">
            <a:noFill/>
          </a:ln>
        </p:spPr>
      </p:pic>
      <p:pic>
        <p:nvPicPr>
          <p:cNvPr id="354" name="Rectangle 1" descr=""/>
          <p:cNvPicPr/>
          <p:nvPr/>
        </p:nvPicPr>
        <p:blipFill>
          <a:blip r:embed="rId3"/>
          <a:stretch/>
        </p:blipFill>
        <p:spPr>
          <a:xfrm>
            <a:off x="-96840" y="-42840"/>
            <a:ext cx="9247320" cy="878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143000" y="4214880"/>
                <a:ext cx="2463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6000840" y="4286160"/>
                <a:ext cx="857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7" name="Rectangle 4" descr=""/>
          <p:cNvPicPr/>
          <p:nvPr/>
        </p:nvPicPr>
        <p:blipFill>
          <a:blip r:embed="rId4"/>
          <a:stretch/>
        </p:blipFill>
        <p:spPr>
          <a:xfrm>
            <a:off x="-96840" y="2889360"/>
            <a:ext cx="9301320" cy="1523880"/>
          </a:xfrm>
          <a:prstGeom prst="rect">
            <a:avLst/>
          </a:prstGeom>
          <a:ln w="0">
            <a:noFill/>
          </a:ln>
        </p:spPr>
      </p:pic>
      <p:pic>
        <p:nvPicPr>
          <p:cNvPr id="358" name="Rectangle 5" descr=""/>
          <p:cNvPicPr/>
          <p:nvPr/>
        </p:nvPicPr>
        <p:blipFill>
          <a:blip r:embed="rId5"/>
          <a:stretch/>
        </p:blipFill>
        <p:spPr>
          <a:xfrm>
            <a:off x="3139920" y="4316400"/>
            <a:ext cx="308484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6"/>
          <p:cNvSpPr/>
          <p:nvPr/>
        </p:nvSpPr>
        <p:spPr>
          <a:xfrm>
            <a:off x="0" y="1238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Прямоугольник 1" descr=""/>
          <p:cNvPicPr/>
          <p:nvPr/>
        </p:nvPicPr>
        <p:blipFill>
          <a:blip r:embed="rId2"/>
          <a:stretch/>
        </p:blipFill>
        <p:spPr>
          <a:xfrm>
            <a:off x="2041560" y="-171360"/>
            <a:ext cx="5011560" cy="1933560"/>
          </a:xfrm>
          <a:prstGeom prst="rect">
            <a:avLst/>
          </a:prstGeom>
          <a:ln w="0">
            <a:noFill/>
          </a:ln>
        </p:spPr>
      </p:pic>
      <p:pic>
        <p:nvPicPr>
          <p:cNvPr id="361" name="Прямоугольник 4" descr=""/>
          <p:cNvPicPr/>
          <p:nvPr/>
        </p:nvPicPr>
        <p:blipFill>
          <a:blip r:embed="rId3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3" descr=""/>
          <p:cNvPicPr/>
          <p:nvPr/>
        </p:nvPicPr>
        <p:blipFill>
          <a:blip r:embed="rId4"/>
          <a:stretch/>
        </p:blipFill>
        <p:spPr>
          <a:xfrm>
            <a:off x="-96840" y="811080"/>
            <a:ext cx="9264600" cy="199260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urlpreview.gif"/>
          <p:cNvPicPr/>
          <p:nvPr/>
        </p:nvPicPr>
        <p:blipFill>
          <a:blip r:embed="rId5"/>
          <a:stretch/>
        </p:blipFill>
        <p:spPr>
          <a:xfrm>
            <a:off x="5429160" y="2857680"/>
            <a:ext cx="2797200" cy="2152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695160"/>
            <a:ext cx="9156960" cy="2548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graphicFrame>
        <p:nvGraphicFramePr>
          <p:cNvPr id="367" name="Object 3"/>
          <p:cNvGraphicFramePr/>
          <p:nvPr/>
        </p:nvGraphicFramePr>
        <p:xfrm>
          <a:off x="8496360" y="5575320"/>
          <a:ext cx="6092640" cy="403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5575320"/>
                    <a:ext cx="609264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0920" y="3357720"/>
            <a:ext cx="72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-6480" y="1484280"/>
            <a:ext cx="9315720" cy="3660840"/>
            <a:chOff x="-6480" y="1484280"/>
            <a:chExt cx="9315720" cy="3660840"/>
          </a:xfrm>
        </p:grpSpPr>
        <p:grpSp>
          <p:nvGrpSpPr>
            <p:cNvPr id="269" name=""/>
            <p:cNvGrpSpPr/>
            <p:nvPr/>
          </p:nvGrpSpPr>
          <p:grpSpPr>
            <a:xfrm>
              <a:off x="-6480" y="1484280"/>
              <a:ext cx="9315720" cy="3660840"/>
              <a:chOff x="-6480" y="1484280"/>
              <a:chExt cx="9315720" cy="3660840"/>
            </a:xfrm>
          </p:grpSpPr>
          <p:pic>
            <p:nvPicPr>
              <p:cNvPr id="270" name="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-6480" y="3565440"/>
                <a:ext cx="9156960" cy="15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Прямоугольник 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484280"/>
                <a:ext cx="9309240" cy="215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"/>
            <p:cNvSpPr/>
            <p:nvPr/>
          </p:nvSpPr>
          <p:spPr>
            <a:xfrm>
              <a:off x="179280" y="3213000"/>
              <a:ext cx="741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Arial"/>
                </a:rPr>
                <a:t>3. Установить связь между музыкальными и математическими соотношениями.</a:t>
              </a:r>
              <a:endParaRPr b="0" lang="en-US" sz="2400" spc="-1" strike="noStrike">
                <a:solidFill>
                  <a:srgbClr val="d5f4ff"/>
                </a:solidFill>
                <a:latin typeface="Arial"/>
              </a:endParaRPr>
            </a:p>
          </p:txBody>
        </p:sp>
      </p:grpSp>
    </p:spTree>
  </p:cSld>
  <p:transition spd="slow">
    <p:wheel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Прямоугольник 2" descr=""/>
          <p:cNvPicPr/>
          <p:nvPr/>
        </p:nvPicPr>
        <p:blipFill>
          <a:blip r:embed="rId2"/>
          <a:stretch/>
        </p:blipFill>
        <p:spPr>
          <a:xfrm>
            <a:off x="2066760" y="920880"/>
            <a:ext cx="7083720" cy="968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3"/>
          <a:stretch/>
        </p:blipFill>
        <p:spPr>
          <a:xfrm>
            <a:off x="285840" y="714240"/>
            <a:ext cx="3460680" cy="473076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4" descr=""/>
          <p:cNvPicPr/>
          <p:nvPr/>
        </p:nvPicPr>
        <p:blipFill>
          <a:blip r:embed="rId4"/>
          <a:stretch/>
        </p:blipFill>
        <p:spPr>
          <a:xfrm>
            <a:off x="2597040" y="-317520"/>
            <a:ext cx="3846600" cy="11034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5" descr=""/>
          <p:cNvPicPr/>
          <p:nvPr/>
        </p:nvPicPr>
        <p:blipFill>
          <a:blip r:embed="rId5"/>
          <a:stretch/>
        </p:blipFill>
        <p:spPr>
          <a:xfrm>
            <a:off x="3687840" y="738360"/>
            <a:ext cx="5462640" cy="162072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6"/>
          <p:cNvSpPr/>
          <p:nvPr/>
        </p:nvSpPr>
        <p:spPr>
          <a:xfrm>
            <a:off x="16956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279" name="Rectangle 1" descr=""/>
          <p:cNvPicPr/>
          <p:nvPr/>
        </p:nvPicPr>
        <p:blipFill>
          <a:blip r:embed="rId3"/>
          <a:stretch/>
        </p:blipFill>
        <p:spPr>
          <a:xfrm>
            <a:off x="1133640" y="-171360"/>
            <a:ext cx="6742080" cy="109836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" descr=""/>
          <p:cNvPicPr/>
          <p:nvPr/>
        </p:nvPicPr>
        <p:blipFill>
          <a:blip r:embed="rId4"/>
          <a:stretch/>
        </p:blipFill>
        <p:spPr>
          <a:xfrm>
            <a:off x="-96840" y="895320"/>
            <a:ext cx="9337680" cy="23479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preview.jpeg"/>
          <p:cNvPicPr/>
          <p:nvPr/>
        </p:nvPicPr>
        <p:blipFill>
          <a:blip r:embed="rId5"/>
          <a:stretch/>
        </p:blipFill>
        <p:spPr>
          <a:xfrm>
            <a:off x="5357880" y="3643200"/>
            <a:ext cx="2860560" cy="2395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1" descr=""/>
          <p:cNvPicPr/>
          <p:nvPr/>
        </p:nvPicPr>
        <p:blipFill>
          <a:blip r:embed="rId3"/>
          <a:stretch/>
        </p:blipFill>
        <p:spPr>
          <a:xfrm>
            <a:off x="-96840" y="828720"/>
            <a:ext cx="9337680" cy="382248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6" descr=""/>
          <p:cNvPicPr/>
          <p:nvPr/>
        </p:nvPicPr>
        <p:blipFill>
          <a:blip r:embed="rId4"/>
          <a:stretch/>
        </p:blipFill>
        <p:spPr>
          <a:xfrm>
            <a:off x="-6480" y="-171360"/>
            <a:ext cx="9071280" cy="1098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1" descr=""/>
          <p:cNvPicPr/>
          <p:nvPr/>
        </p:nvPicPr>
        <p:blipFill>
          <a:blip r:embed="rId2"/>
          <a:stretch/>
        </p:blipFill>
        <p:spPr>
          <a:xfrm>
            <a:off x="1390680" y="-171360"/>
            <a:ext cx="5729400" cy="109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0" y="8478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87" name="Rectangle 10" descr=""/>
          <p:cNvPicPr/>
          <p:nvPr/>
        </p:nvPicPr>
        <p:blipFill>
          <a:blip r:embed="rId3"/>
          <a:stretch/>
        </p:blipFill>
        <p:spPr>
          <a:xfrm>
            <a:off x="-96840" y="890640"/>
            <a:ext cx="9247320" cy="11509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2"/>
          <p:cNvSpPr/>
          <p:nvPr/>
        </p:nvSpPr>
        <p:spPr>
          <a:xfrm>
            <a:off x="0" y="107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700360" y="2133720"/>
            <a:ext cx="19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0" y="2889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5f4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1214280" y="5532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5f4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26920" y="1989000"/>
            <a:ext cx="5329080" cy="3239280"/>
            <a:chOff x="826920" y="1989000"/>
            <a:chExt cx="5329080" cy="3239280"/>
          </a:xfrm>
        </p:grpSpPr>
        <p:grpSp>
          <p:nvGrpSpPr>
            <p:cNvPr id="295" name="Группа 27"/>
            <p:cNvGrpSpPr/>
            <p:nvPr/>
          </p:nvGrpSpPr>
          <p:grpSpPr>
            <a:xfrm>
              <a:off x="4380840" y="3948120"/>
              <a:ext cx="1109160" cy="1131480"/>
              <a:chOff x="4380840" y="3948120"/>
              <a:chExt cx="1109160" cy="1131480"/>
            </a:xfrm>
          </p:grpSpPr>
          <mc:AlternateContent>
            <mc:Choice xmlns:a14="http://schemas.microsoft.com/office/drawing/2010/main" Requires="a14">
              <p:sp>
                <p:nvSpPr>
                  <p:cNvPr id="296" name="Object 23"/>
                  <p:cNvSpPr txBox="1"/>
                  <p:nvPr/>
                </p:nvSpPr>
                <p:spPr>
                  <a:xfrm>
                    <a:off x="4380840" y="3948120"/>
                    <a:ext cx="513720" cy="11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Object 24"/>
                  <p:cNvSpPr txBox="1"/>
                  <p:nvPr/>
                </p:nvSpPr>
                <p:spPr>
                  <a:xfrm>
                    <a:off x="4935600" y="4276800"/>
                    <a:ext cx="554400" cy="49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98" name=""/>
            <p:cNvGrpSpPr/>
            <p:nvPr/>
          </p:nvGrpSpPr>
          <p:grpSpPr>
            <a:xfrm>
              <a:off x="826920" y="1989000"/>
              <a:ext cx="5034600" cy="3239280"/>
              <a:chOff x="826920" y="1989000"/>
              <a:chExt cx="5034600" cy="3239280"/>
            </a:xfrm>
          </p:grpSpPr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4305600" y="1989000"/>
                    <a:ext cx="1051920" cy="158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00" name=""/>
              <p:cNvGrpSpPr/>
              <p:nvPr/>
            </p:nvGrpSpPr>
            <p:grpSpPr>
              <a:xfrm>
                <a:off x="826920" y="2063880"/>
                <a:ext cx="2293560" cy="3164400"/>
                <a:chOff x="826920" y="2063880"/>
                <a:chExt cx="2293560" cy="3164400"/>
              </a:xfrm>
            </p:grpSpPr>
            <p:grpSp>
              <p:nvGrpSpPr>
                <p:cNvPr id="301" name="Группа 25"/>
                <p:cNvGrpSpPr/>
                <p:nvPr/>
              </p:nvGrpSpPr>
              <p:grpSpPr>
                <a:xfrm>
                  <a:off x="901800" y="3872880"/>
                  <a:ext cx="1109520" cy="1355400"/>
                  <a:chOff x="901800" y="3872880"/>
                  <a:chExt cx="1109520" cy="135540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302" name="Object 3"/>
                      <p:cNvSpPr txBox="1"/>
                      <p:nvPr/>
                    </p:nvSpPr>
                    <p:spPr>
                      <a:xfrm>
                        <a:off x="901800" y="3872880"/>
                        <a:ext cx="554760" cy="1355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3" name="Object 20"/>
                      <p:cNvSpPr txBox="1"/>
                      <p:nvPr/>
                    </p:nvSpPr>
                    <p:spPr>
                      <a:xfrm>
                        <a:off x="1456560" y="4401720"/>
                        <a:ext cx="554760" cy="396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=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304" name="Группа 33"/>
                <p:cNvGrpSpPr/>
                <p:nvPr/>
              </p:nvGrpSpPr>
              <p:grpSpPr>
                <a:xfrm>
                  <a:off x="2159640" y="4023720"/>
                  <a:ext cx="486000" cy="752760"/>
                  <a:chOff x="2159640" y="4023720"/>
                  <a:chExt cx="486000" cy="752760"/>
                </a:xfrm>
              </p:grpSpPr>
              <p:sp>
                <p:nvSpPr>
                  <p:cNvPr id="305" name="Oval 2"/>
                  <p:cNvSpPr/>
                  <p:nvPr/>
                </p:nvSpPr>
                <p:spPr>
                  <a:xfrm>
                    <a:off x="2159640" y="4494240"/>
                    <a:ext cx="480960" cy="28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d5f4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Прямая соединительная линия 32"/>
                  <p:cNvSpPr/>
                  <p:nvPr/>
                </p:nvSpPr>
                <p:spPr>
                  <a:xfrm flipV="1">
                    <a:off x="2640600" y="4023720"/>
                    <a:ext cx="5040" cy="613080"/>
                  </a:xfrm>
                  <a:prstGeom prst="line">
                    <a:avLst/>
                  </a:prstGeom>
                  <a:ln w="9360">
                    <a:solidFill>
                      <a:srgbClr val="00557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d5f4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826920" y="2063880"/>
                  <a:ext cx="2293560" cy="1424880"/>
                  <a:chOff x="826920" y="2063880"/>
                  <a:chExt cx="2293560" cy="1424880"/>
                </a:xfrm>
              </p:grpSpPr>
              <p:grpSp>
                <p:nvGrpSpPr>
                  <p:cNvPr id="308" name="Группа 22"/>
                  <p:cNvGrpSpPr/>
                  <p:nvPr/>
                </p:nvGrpSpPr>
                <p:grpSpPr>
                  <a:xfrm>
                    <a:off x="826920" y="2063880"/>
                    <a:ext cx="1595160" cy="1424880"/>
                    <a:chOff x="826920" y="2063880"/>
                    <a:chExt cx="1595160" cy="1424880"/>
                  </a:xfrm>
                </p:grpSpPr>
                <mc:AlternateContent>
                  <mc:Choice xmlns:a14="http://schemas.microsoft.com/office/drawing/2010/main" Requires="a14">
                    <p:sp>
                      <p:nvSpPr>
                        <p:cNvPr id="309" name="Object 7"/>
                        <p:cNvSpPr txBox="1"/>
                        <p:nvPr/>
                      </p:nvSpPr>
                      <p:spPr>
                        <a:xfrm>
                          <a:off x="826920" y="2063880"/>
                          <a:ext cx="746280" cy="1424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10" name="Object 19"/>
                        <p:cNvSpPr txBox="1"/>
                        <p:nvPr/>
                      </p:nvSpPr>
                      <p:spPr>
                        <a:xfrm>
                          <a:off x="1607400" y="2538720"/>
                          <a:ext cx="814680" cy="4748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=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sp>
                <p:nvSpPr>
                  <p:cNvPr id="311" name=""/>
                  <p:cNvSpPr/>
                  <p:nvPr/>
                </p:nvSpPr>
                <p:spPr>
                  <a:xfrm>
                    <a:off x="2233080" y="2214720"/>
                    <a:ext cx="887400" cy="11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200" spc="-1" strike="noStrike">
                        <a:solidFill>
                          <a:srgbClr val="000000"/>
                        </a:solidFill>
                        <a:latin typeface="Arial"/>
                      </a:rPr>
                      <a:t>♪</a:t>
                    </a:r>
                    <a:endParaRPr b="0" lang="en-US" sz="7200" spc="-1" strike="noStrike">
                      <a:solidFill>
                        <a:srgbClr val="d5f4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5416560" y="2515320"/>
                <a:ext cx="444960" cy="752760"/>
                <a:chOff x="5416560" y="2515320"/>
                <a:chExt cx="444960" cy="7527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416560" y="2967480"/>
                  <a:ext cx="444960" cy="300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d5f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5f4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5859720" y="2515320"/>
                  <a:ext cx="0" cy="60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5f4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"/>
            <p:cNvSpPr/>
            <p:nvPr/>
          </p:nvSpPr>
          <p:spPr>
            <a:xfrm>
              <a:off x="5639040" y="4400280"/>
              <a:ext cx="516960" cy="376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5f4ff"/>
                </a:solidFill>
                <a:latin typeface="Arial"/>
              </a:endParaRPr>
            </a:p>
          </p:txBody>
        </p:sp>
      </p:grpSp>
    </p:spTree>
  </p:cSld>
  <p:transition spd="slow">
    <p:wheel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Рисунок 0" descr="IMG.jpg1.jpg"/>
          <p:cNvPicPr/>
          <p:nvPr/>
        </p:nvPicPr>
        <p:blipFill>
          <a:blip r:embed="rId2"/>
          <a:stretch/>
        </p:blipFill>
        <p:spPr>
          <a:xfrm>
            <a:off x="0" y="23572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7"/>
          <p:cNvSpPr/>
          <p:nvPr/>
        </p:nvSpPr>
        <p:spPr>
          <a:xfrm>
            <a:off x="0" y="78588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pic>
        <p:nvPicPr>
          <p:cNvPr id="318" name="Прямоугольник 8" descr=""/>
          <p:cNvPicPr/>
          <p:nvPr/>
        </p:nvPicPr>
        <p:blipFill>
          <a:blip r:embed="rId3"/>
          <a:stretch/>
        </p:blipFill>
        <p:spPr>
          <a:xfrm>
            <a:off x="-6480" y="4565520"/>
            <a:ext cx="9156960" cy="1768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2143080" y="5072040"/>
                <a:ext cx="3286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2" name="Прямоугольник 15" descr=""/>
          <p:cNvPicPr/>
          <p:nvPr/>
        </p:nvPicPr>
        <p:blipFill>
          <a:blip r:embed="rId4"/>
          <a:stretch/>
        </p:blipFill>
        <p:spPr>
          <a:xfrm>
            <a:off x="1884240" y="-171360"/>
            <a:ext cx="5778720" cy="109836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11" descr=""/>
          <p:cNvPicPr/>
          <p:nvPr/>
        </p:nvPicPr>
        <p:blipFill>
          <a:blip r:embed="rId5"/>
          <a:stretch/>
        </p:blipFill>
        <p:spPr>
          <a:xfrm>
            <a:off x="-96840" y="669960"/>
            <a:ext cx="9301320" cy="162252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2" descr=""/>
          <p:cNvPicPr/>
          <p:nvPr/>
        </p:nvPicPr>
        <p:blipFill>
          <a:blip r:embed="rId6"/>
          <a:stretch/>
        </p:blipFill>
        <p:spPr>
          <a:xfrm>
            <a:off x="-96840" y="4595760"/>
            <a:ext cx="9247320" cy="51264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13" descr=""/>
          <p:cNvPicPr/>
          <p:nvPr/>
        </p:nvPicPr>
        <p:blipFill>
          <a:blip r:embed="rId7"/>
          <a:stretch/>
        </p:blipFill>
        <p:spPr>
          <a:xfrm>
            <a:off x="-96840" y="5614920"/>
            <a:ext cx="9259920" cy="1249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вавав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235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7" name="Object 11"/>
              <p:cNvSpPr txBox="1"/>
              <p:nvPr/>
            </p:nvSpPr>
            <p:spPr>
              <a:xfrm>
                <a:off x="1714680" y="4000680"/>
                <a:ext cx="13507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0"/>
              <p:cNvSpPr txBox="1"/>
              <p:nvPr/>
            </p:nvSpPr>
            <p:spPr>
              <a:xfrm>
                <a:off x="1714680" y="4714920"/>
                <a:ext cx="1357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0" name="Прямоугольник 28"/>
          <p:cNvSpPr/>
          <p:nvPr/>
        </p:nvSpPr>
        <p:spPr>
          <a:xfrm>
            <a:off x="1911240" y="296712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pic>
        <p:nvPicPr>
          <p:cNvPr id="331" name="Прямоугольник 29" descr=""/>
          <p:cNvPicPr/>
          <p:nvPr/>
        </p:nvPicPr>
        <p:blipFill>
          <a:blip r:embed="rId3"/>
          <a:stretch/>
        </p:blipFill>
        <p:spPr>
          <a:xfrm>
            <a:off x="3328920" y="4809960"/>
            <a:ext cx="2230560" cy="51768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34" descr=""/>
          <p:cNvPicPr/>
          <p:nvPr/>
        </p:nvPicPr>
        <p:blipFill>
          <a:blip r:embed="rId4"/>
          <a:stretch/>
        </p:blipFill>
        <p:spPr>
          <a:xfrm>
            <a:off x="3328920" y="4095720"/>
            <a:ext cx="2340000" cy="51264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оугольник 35" descr=""/>
          <p:cNvPicPr/>
          <p:nvPr/>
        </p:nvPicPr>
        <p:blipFill>
          <a:blip r:embed="rId5"/>
          <a:stretch/>
        </p:blipFill>
        <p:spPr>
          <a:xfrm>
            <a:off x="2475000" y="5595840"/>
            <a:ext cx="2189160" cy="5191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-357120" y="5143680"/>
            <a:ext cx="785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0964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39" name="Прямоугольник 20" descr=""/>
          <p:cNvPicPr/>
          <p:nvPr/>
        </p:nvPicPr>
        <p:blipFill>
          <a:blip r:embed="rId6"/>
          <a:stretch/>
        </p:blipFill>
        <p:spPr>
          <a:xfrm>
            <a:off x="-96840" y="-42840"/>
            <a:ext cx="9290160" cy="11286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21"/>
          <p:cNvSpPr/>
          <p:nvPr/>
        </p:nvSpPr>
        <p:spPr>
          <a:xfrm>
            <a:off x="0" y="32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  <a:ea typeface="Times New Roman"/>
              </a:rPr>
              <a:t>Размер произведения четыре четверти. Возьмём первые три такта.</a:t>
            </a:r>
            <a:endParaRPr b="0" lang="en-US" sz="2400" spc="-1" strike="noStrike">
              <a:solidFill>
                <a:srgbClr val="d5f4ff"/>
              </a:solidFill>
              <a:latin typeface="Arial"/>
            </a:endParaRPr>
          </a:p>
        </p:txBody>
      </p:sp>
      <p:grpSp>
        <p:nvGrpSpPr>
          <p:cNvPr id="341" name="Группа 25"/>
          <p:cNvGrpSpPr/>
          <p:nvPr/>
        </p:nvGrpSpPr>
        <p:grpSpPr>
          <a:xfrm>
            <a:off x="1643040" y="5429160"/>
            <a:ext cx="571680" cy="787320"/>
            <a:chOff x="1643040" y="5429160"/>
            <a:chExt cx="571680" cy="787320"/>
          </a:xfrm>
        </p:grpSpPr>
        <mc:AlternateContent>
          <mc:Choice xmlns:a14="http://schemas.microsoft.com/office/drawing/2010/main" Requires="a14">
            <p:sp>
              <p:nvSpPr>
                <p:cNvPr id="342" name="Object 26"/>
                <p:cNvSpPr txBox="1"/>
                <p:nvPr/>
              </p:nvSpPr>
              <p:spPr>
                <a:xfrm>
                  <a:off x="1643040" y="5429160"/>
                  <a:ext cx="30744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Object 38"/>
                <p:cNvSpPr txBox="1"/>
                <p:nvPr/>
              </p:nvSpPr>
              <p:spPr>
                <a:xfrm>
                  <a:off x="2000520" y="5785920"/>
                  <a:ext cx="214200" cy="17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Rectangle 4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1"/>
              <p:cNvSpPr txBox="1"/>
              <p:nvPr/>
            </p:nvSpPr>
            <p:spPr>
              <a:xfrm>
                <a:off x="3000240" y="3976560"/>
                <a:ext cx="357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2"/>
              <p:cNvSpPr txBox="1"/>
              <p:nvPr/>
            </p:nvSpPr>
            <p:spPr>
              <a:xfrm>
                <a:off x="2214720" y="5500800"/>
                <a:ext cx="3571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3"/>
              <p:cNvSpPr txBox="1"/>
              <p:nvPr/>
            </p:nvSpPr>
            <p:spPr>
              <a:xfrm>
                <a:off x="3000240" y="4714920"/>
                <a:ext cx="3574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IMG_0001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6" descr=""/>
          <p:cNvPicPr/>
          <p:nvPr/>
        </p:nvPicPr>
        <p:blipFill>
          <a:blip r:embed="rId3"/>
          <a:stretch/>
        </p:blipFill>
        <p:spPr>
          <a:xfrm>
            <a:off x="-96840" y="-42840"/>
            <a:ext cx="9247320" cy="1249200"/>
          </a:xfrm>
          <a:prstGeom prst="rect">
            <a:avLst/>
          </a:prstGeom>
          <a:ln w="0">
            <a:noFill/>
          </a:ln>
        </p:spPr>
      </p:pic>
      <p:pic>
        <p:nvPicPr>
          <p:cNvPr id="350" name="Rectangle 2" descr=""/>
          <p:cNvPicPr/>
          <p:nvPr/>
        </p:nvPicPr>
        <p:blipFill>
          <a:blip r:embed="rId4"/>
          <a:stretch/>
        </p:blipFill>
        <p:spPr>
          <a:xfrm>
            <a:off x="-96840" y="3316320"/>
            <a:ext cx="7961400" cy="152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Object 1"/>
              <p:cNvSpPr txBox="1"/>
              <p:nvPr/>
            </p:nvSpPr>
            <p:spPr>
              <a:xfrm>
                <a:off x="2298600" y="4500720"/>
                <a:ext cx="2292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2" name="Rectangle 3" descr=""/>
          <p:cNvPicPr/>
          <p:nvPr/>
        </p:nvPicPr>
        <p:blipFill>
          <a:blip r:embed="rId5"/>
          <a:stretch/>
        </p:blipFill>
        <p:spPr>
          <a:xfrm>
            <a:off x="4138560" y="4602240"/>
            <a:ext cx="3299040" cy="506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7:15:47Z</dcterms:created>
  <dc:creator>Admin</dc:creator>
  <dc:description/>
  <dc:language>en-US</dc:language>
  <cp:lastModifiedBy>Formoza</cp:lastModifiedBy>
  <dcterms:modified xsi:type="dcterms:W3CDTF">2010-03-19T08:41:46Z</dcterms:modified>
  <cp:revision>44</cp:revision>
  <dc:subject/>
  <dc:title>Слайд 1</dc:title>
</cp:coreProperties>
</file>