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1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9.png" ContentType="image/png"/>
  <Override PartName="/ppt/media/image43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E304-A202-44FA-9E33-3BACD5F22C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B140-C858-46AD-B604-B55906A1BC2D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6C67-7309-49E7-9221-39327C2A3F0A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6C3D-6600-4259-9D75-DBA9AAA95BEB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5F68-E65F-4BE2-943B-33934AC3F859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BF34-0928-4A11-A921-05ED462825FA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02E-5784-46A6-8F22-4FC95C44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0EC-DE79-4301-996E-60E1F197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726-ED72-4EAC-A2CC-EC8540C0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731-18B2-4FE1-B4BD-46368403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2944-7CCA-460A-914E-27E447C1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56AD-CEDA-4068-827F-65D549FF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1D3A-DAE7-449D-8A09-9078689A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2E83-1F81-40B1-A628-0A2A3FB7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AFB3-E851-48F0-BE93-666837C0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3F27-D82F-4C05-B8F3-32F79ACE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25DB-9878-4F58-93D5-C1F65A40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C1C-0FEE-4382-9D0C-BF8C716B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2B96-527F-46BD-ACF7-148837AB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0D66-CFFC-4A8D-8FA4-4B76E02B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6D91-D873-4874-9765-AB2D44D9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8B91-AFC5-4FE4-BEE4-B04F4457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7EF0-DB06-4AC0-AE66-4FF5DF66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FFA2-B545-4815-976B-FC524A93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06CB-102B-42D5-ACE6-CB8FADF4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BE494-52A2-4A1C-9539-8B75CECB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7AC2-45FE-4709-B2FA-1EE044D3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16A7A-930D-4E88-863B-C67E47A9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791-C9BA-4729-978C-76E7B1A8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8BCD-268B-43C4-A4DC-0A208F48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B87C-C642-4978-A468-0CFCC031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DCCB-A4DE-4307-BC64-3C7A183A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D9909-1131-4737-9474-F4AA03F3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BF9B6-FB9E-45E9-A18B-A8DF798F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BEDF-136A-4FBA-84A3-47133462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AA47-94DE-4810-A543-0E89E00E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5B1C-4EF5-46FF-A73B-5EC52583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24A8D-6E0B-4169-89C6-E60DE91E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F6A9D-00A1-43E1-90E5-C7C6AB31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ED4-A865-48A0-9754-4718E1A6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0C658-1409-4798-BBF9-D260D74D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0C82-C5BA-4A5F-A53E-A1F6F0C5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1CDF-E177-4996-8DF0-9902B65F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A39F-EF13-4ABA-8369-0C46342E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4D5C6-7170-4B9C-9491-625AC983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11B6-7B55-4D6A-AEAC-41445A29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E3049-DF7B-4903-8A0F-E4945102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BECC4-5E87-47A8-88AA-E5EB9243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B7140-4202-444D-926A-DFBFA15E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E718F-7946-4391-9E8F-BCB12DAF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E45-7637-4FFA-BEB3-4477E617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92575-1F5F-46D0-9454-58609FC4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A0525-3F2E-47FC-BE33-A484DB22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1CB61-3A23-4AEC-9E4C-AA0FC020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65CB8-E188-449A-8324-1BB8FACE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E33B-1521-4116-BE5F-3D52D73E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909DF-18E9-412B-B8B7-8F283A4C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B2212-8408-4E67-A540-C9B19CCA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71800-367A-40C1-A121-0A7AF5F2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341E-3051-4D11-9555-BF0A77F4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5C14-5729-475B-A956-12872AE8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FA9-AAAD-4892-9E35-45CD51F7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D7ECC-4260-4FBB-9D08-D7E3AA0E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ADBF0-BD55-4FD5-BE88-41920E61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351A3-9C5F-4723-A441-88C18163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C1D55-F2B9-4CA3-AD7A-AE9FAB90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B15CD-FABA-4A40-B1E4-8B5A3417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682B8-CD8D-4478-B2E2-63015623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AD783-C644-4A78-A3D0-F591109A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16A9A-F5E7-4D17-903A-1C4175C4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DD2A-3450-42DE-8DC8-39AF8FC8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72BF0-AF5D-48AF-AF5C-9C1B9628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ABC-8179-400C-BF87-1283D3D6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0FED5-0492-4C5A-8E4B-F658DFA1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B63AD-6249-4698-A8D9-3D753A9C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24937-2DB0-4FBD-9CC1-54AEBC80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218-B9A4-491E-918B-2BFD052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953-49B9-44A8-98BD-8F62B0C8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4A1C-1EAE-414F-BC66-304EDB595632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1194-C692-4462-9D8D-C77E708A70E8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D080-57F7-42EC-BA82-0AC1C4D97235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0DD7-F9E0-412B-BEAA-F9447A695BC4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39AE-3C25-402D-9988-E6C8774DABCE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7017-BCF9-4D65-BAEA-5DD31C50F0B4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12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33354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5"/>
          <p:cNvSpPr/>
          <p:nvPr/>
        </p:nvSpPr>
        <p:spPr>
          <a:xfrm>
            <a:off x="0" y="857160"/>
            <a:ext cx="914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63" name="Прямоугольник 8"/>
          <p:cNvSpPr/>
          <p:nvPr/>
        </p:nvSpPr>
        <p:spPr>
          <a:xfrm>
            <a:off x="191124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pic>
        <p:nvPicPr>
          <p:cNvPr id="264" name="Прямоугольник 9" descr=""/>
          <p:cNvPicPr/>
          <p:nvPr/>
        </p:nvPicPr>
        <p:blipFill>
          <a:blip r:embed="rId3"/>
          <a:stretch/>
        </p:blipFill>
        <p:spPr>
          <a:xfrm>
            <a:off x="-6480" y="255600"/>
            <a:ext cx="9156960" cy="276228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10" descr=""/>
          <p:cNvPicPr/>
          <p:nvPr/>
        </p:nvPicPr>
        <p:blipFill>
          <a:blip r:embed="rId4"/>
          <a:stretch/>
        </p:blipFill>
        <p:spPr>
          <a:xfrm>
            <a:off x="-6480" y="4711680"/>
            <a:ext cx="9588600" cy="17557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220066_217898.jpg"/>
          <p:cNvPicPr/>
          <p:nvPr/>
        </p:nvPicPr>
        <p:blipFill>
          <a:blip r:embed="rId5"/>
          <a:stretch/>
        </p:blipFill>
        <p:spPr>
          <a:xfrm>
            <a:off x="428760" y="314316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IMG_0002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2000520"/>
          </a:xfrm>
          <a:prstGeom prst="rect">
            <a:avLst/>
          </a:prstGeom>
          <a:ln w="0">
            <a:noFill/>
          </a:ln>
        </p:spPr>
      </p:pic>
      <p:pic>
        <p:nvPicPr>
          <p:cNvPr id="354" name="Rectangle 1" descr=""/>
          <p:cNvPicPr/>
          <p:nvPr/>
        </p:nvPicPr>
        <p:blipFill>
          <a:blip r:embed="rId3"/>
          <a:stretch/>
        </p:blipFill>
        <p:spPr>
          <a:xfrm>
            <a:off x="-96840" y="-42840"/>
            <a:ext cx="9247320" cy="878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143000" y="4214880"/>
                <a:ext cx="2463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6000840" y="4286160"/>
                <a:ext cx="857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7" name="Rectangle 4" descr=""/>
          <p:cNvPicPr/>
          <p:nvPr/>
        </p:nvPicPr>
        <p:blipFill>
          <a:blip r:embed="rId4"/>
          <a:stretch/>
        </p:blipFill>
        <p:spPr>
          <a:xfrm>
            <a:off x="-96840" y="2889360"/>
            <a:ext cx="9301320" cy="1523880"/>
          </a:xfrm>
          <a:prstGeom prst="rect">
            <a:avLst/>
          </a:prstGeom>
          <a:ln w="0">
            <a:noFill/>
          </a:ln>
        </p:spPr>
      </p:pic>
      <p:pic>
        <p:nvPicPr>
          <p:cNvPr id="358" name="Rectangle 5" descr=""/>
          <p:cNvPicPr/>
          <p:nvPr/>
        </p:nvPicPr>
        <p:blipFill>
          <a:blip r:embed="rId5"/>
          <a:stretch/>
        </p:blipFill>
        <p:spPr>
          <a:xfrm>
            <a:off x="3139920" y="4316400"/>
            <a:ext cx="3084840" cy="5112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6"/>
          <p:cNvSpPr/>
          <p:nvPr/>
        </p:nvSpPr>
        <p:spPr>
          <a:xfrm>
            <a:off x="0" y="1238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Прямоугольник 1" descr=""/>
          <p:cNvPicPr/>
          <p:nvPr/>
        </p:nvPicPr>
        <p:blipFill>
          <a:blip r:embed="rId2"/>
          <a:stretch/>
        </p:blipFill>
        <p:spPr>
          <a:xfrm>
            <a:off x="2041560" y="-171360"/>
            <a:ext cx="5011560" cy="1933560"/>
          </a:xfrm>
          <a:prstGeom prst="rect">
            <a:avLst/>
          </a:prstGeom>
          <a:ln w="0">
            <a:noFill/>
          </a:ln>
        </p:spPr>
      </p:pic>
      <p:pic>
        <p:nvPicPr>
          <p:cNvPr id="361" name="Прямоугольник 4" descr=""/>
          <p:cNvPicPr/>
          <p:nvPr/>
        </p:nvPicPr>
        <p:blipFill>
          <a:blip r:embed="rId3"/>
          <a:stretch/>
        </p:blipFill>
        <p:spPr>
          <a:xfrm>
            <a:off x="-6480" y="920880"/>
            <a:ext cx="9156960" cy="47448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3" descr=""/>
          <p:cNvPicPr/>
          <p:nvPr/>
        </p:nvPicPr>
        <p:blipFill>
          <a:blip r:embed="rId4"/>
          <a:stretch/>
        </p:blipFill>
        <p:spPr>
          <a:xfrm>
            <a:off x="-96840" y="811080"/>
            <a:ext cx="9264600" cy="199260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urlpreview.gif"/>
          <p:cNvPicPr/>
          <p:nvPr/>
        </p:nvPicPr>
        <p:blipFill>
          <a:blip r:embed="rId5"/>
          <a:stretch/>
        </p:blipFill>
        <p:spPr>
          <a:xfrm>
            <a:off x="5429160" y="2857680"/>
            <a:ext cx="2797200" cy="2152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47448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695160"/>
            <a:ext cx="9156960" cy="2548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graphicFrame>
        <p:nvGraphicFramePr>
          <p:cNvPr id="367" name="Object 3"/>
          <p:cNvGraphicFramePr/>
          <p:nvPr/>
        </p:nvGraphicFramePr>
        <p:xfrm>
          <a:off x="8496360" y="5575320"/>
          <a:ext cx="6092640" cy="403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5575320"/>
                    <a:ext cx="609264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0920" y="3357720"/>
            <a:ext cx="72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-6480" y="1484280"/>
            <a:ext cx="9315720" cy="3660840"/>
            <a:chOff x="-6480" y="1484280"/>
            <a:chExt cx="9315720" cy="3660840"/>
          </a:xfrm>
        </p:grpSpPr>
        <p:grpSp>
          <p:nvGrpSpPr>
            <p:cNvPr id="269" name=""/>
            <p:cNvGrpSpPr/>
            <p:nvPr/>
          </p:nvGrpSpPr>
          <p:grpSpPr>
            <a:xfrm>
              <a:off x="-6480" y="1484280"/>
              <a:ext cx="9315720" cy="3660840"/>
              <a:chOff x="-6480" y="1484280"/>
              <a:chExt cx="9315720" cy="3660840"/>
            </a:xfrm>
          </p:grpSpPr>
          <p:pic>
            <p:nvPicPr>
              <p:cNvPr id="270" name="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-6480" y="3565440"/>
                <a:ext cx="9156960" cy="15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Прямоугольник 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484280"/>
                <a:ext cx="9309240" cy="215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"/>
            <p:cNvSpPr/>
            <p:nvPr/>
          </p:nvSpPr>
          <p:spPr>
            <a:xfrm>
              <a:off x="179280" y="3213000"/>
              <a:ext cx="741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Arial"/>
                </a:rPr>
                <a:t>3. Установить связь между музыкальными и математическими соотношениями.</a:t>
              </a:r>
              <a:endParaRPr b="0" lang="en-US" sz="2400" spc="-1" strike="noStrike">
                <a:solidFill>
                  <a:srgbClr val="d5f4ff"/>
                </a:solidFill>
                <a:latin typeface="Arial"/>
              </a:endParaRPr>
            </a:p>
          </p:txBody>
        </p:sp>
      </p:grpSp>
    </p:spTree>
  </p:cSld>
  <p:transition spd="slow">
    <p:wheel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Прямоугольник 2" descr=""/>
          <p:cNvPicPr/>
          <p:nvPr/>
        </p:nvPicPr>
        <p:blipFill>
          <a:blip r:embed="rId2"/>
          <a:stretch/>
        </p:blipFill>
        <p:spPr>
          <a:xfrm>
            <a:off x="2066760" y="920880"/>
            <a:ext cx="7083720" cy="968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3"/>
          <a:stretch/>
        </p:blipFill>
        <p:spPr>
          <a:xfrm>
            <a:off x="285840" y="714240"/>
            <a:ext cx="3460680" cy="473076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4" descr=""/>
          <p:cNvPicPr/>
          <p:nvPr/>
        </p:nvPicPr>
        <p:blipFill>
          <a:blip r:embed="rId4"/>
          <a:stretch/>
        </p:blipFill>
        <p:spPr>
          <a:xfrm>
            <a:off x="2597040" y="-317520"/>
            <a:ext cx="3846600" cy="11034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5" descr=""/>
          <p:cNvPicPr/>
          <p:nvPr/>
        </p:nvPicPr>
        <p:blipFill>
          <a:blip r:embed="rId5"/>
          <a:stretch/>
        </p:blipFill>
        <p:spPr>
          <a:xfrm>
            <a:off x="3687840" y="738360"/>
            <a:ext cx="5462640" cy="162072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6"/>
          <p:cNvSpPr/>
          <p:nvPr/>
        </p:nvSpPr>
        <p:spPr>
          <a:xfrm>
            <a:off x="16956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474480"/>
          </a:xfrm>
          <a:prstGeom prst="rect">
            <a:avLst/>
          </a:prstGeom>
          <a:ln w="0">
            <a:noFill/>
          </a:ln>
        </p:spPr>
      </p:pic>
      <p:pic>
        <p:nvPicPr>
          <p:cNvPr id="279" name="Rectangle 1" descr=""/>
          <p:cNvPicPr/>
          <p:nvPr/>
        </p:nvPicPr>
        <p:blipFill>
          <a:blip r:embed="rId3"/>
          <a:stretch/>
        </p:blipFill>
        <p:spPr>
          <a:xfrm>
            <a:off x="1133640" y="-171360"/>
            <a:ext cx="6742080" cy="109836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2" descr=""/>
          <p:cNvPicPr/>
          <p:nvPr/>
        </p:nvPicPr>
        <p:blipFill>
          <a:blip r:embed="rId4"/>
          <a:stretch/>
        </p:blipFill>
        <p:spPr>
          <a:xfrm>
            <a:off x="-96840" y="895320"/>
            <a:ext cx="9337680" cy="23479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preview.jpeg"/>
          <p:cNvPicPr/>
          <p:nvPr/>
        </p:nvPicPr>
        <p:blipFill>
          <a:blip r:embed="rId5"/>
          <a:stretch/>
        </p:blipFill>
        <p:spPr>
          <a:xfrm>
            <a:off x="5357880" y="3643200"/>
            <a:ext cx="2860560" cy="2395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47448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1" descr=""/>
          <p:cNvPicPr/>
          <p:nvPr/>
        </p:nvPicPr>
        <p:blipFill>
          <a:blip r:embed="rId3"/>
          <a:stretch/>
        </p:blipFill>
        <p:spPr>
          <a:xfrm>
            <a:off x="-96840" y="828720"/>
            <a:ext cx="9337680" cy="382248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6" descr=""/>
          <p:cNvPicPr/>
          <p:nvPr/>
        </p:nvPicPr>
        <p:blipFill>
          <a:blip r:embed="rId4"/>
          <a:stretch/>
        </p:blipFill>
        <p:spPr>
          <a:xfrm>
            <a:off x="-6480" y="-171360"/>
            <a:ext cx="9071280" cy="1098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1" descr=""/>
          <p:cNvPicPr/>
          <p:nvPr/>
        </p:nvPicPr>
        <p:blipFill>
          <a:blip r:embed="rId2"/>
          <a:stretch/>
        </p:blipFill>
        <p:spPr>
          <a:xfrm>
            <a:off x="1390680" y="-171360"/>
            <a:ext cx="5729400" cy="109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0" y="8478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87" name="Rectangle 10" descr=""/>
          <p:cNvPicPr/>
          <p:nvPr/>
        </p:nvPicPr>
        <p:blipFill>
          <a:blip r:embed="rId3"/>
          <a:stretch/>
        </p:blipFill>
        <p:spPr>
          <a:xfrm>
            <a:off x="-96840" y="890640"/>
            <a:ext cx="9247320" cy="11509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2"/>
          <p:cNvSpPr/>
          <p:nvPr/>
        </p:nvSpPr>
        <p:spPr>
          <a:xfrm>
            <a:off x="0" y="107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700360" y="2133720"/>
            <a:ext cx="19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0" y="2889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5f4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d5f4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1214280" y="5532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5f4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d5f4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26920" y="1989000"/>
            <a:ext cx="5329080" cy="3239280"/>
            <a:chOff x="826920" y="1989000"/>
            <a:chExt cx="5329080" cy="3239280"/>
          </a:xfrm>
        </p:grpSpPr>
        <p:grpSp>
          <p:nvGrpSpPr>
            <p:cNvPr id="295" name="Группа 27"/>
            <p:cNvGrpSpPr/>
            <p:nvPr/>
          </p:nvGrpSpPr>
          <p:grpSpPr>
            <a:xfrm>
              <a:off x="4380840" y="3948120"/>
              <a:ext cx="1109160" cy="1131480"/>
              <a:chOff x="4380840" y="3948120"/>
              <a:chExt cx="1109160" cy="1131480"/>
            </a:xfrm>
          </p:grpSpPr>
          <mc:AlternateContent>
            <mc:Choice xmlns:a14="http://schemas.microsoft.com/office/drawing/2010/main" Requires="a14">
              <p:sp>
                <p:nvSpPr>
                  <p:cNvPr id="296" name="Object 23"/>
                  <p:cNvSpPr txBox="1"/>
                  <p:nvPr/>
                </p:nvSpPr>
                <p:spPr>
                  <a:xfrm>
                    <a:off x="4380840" y="3948120"/>
                    <a:ext cx="513720" cy="113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Object 24"/>
                  <p:cNvSpPr txBox="1"/>
                  <p:nvPr/>
                </p:nvSpPr>
                <p:spPr>
                  <a:xfrm>
                    <a:off x="4935600" y="4276800"/>
                    <a:ext cx="554400" cy="49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98" name=""/>
            <p:cNvGrpSpPr/>
            <p:nvPr/>
          </p:nvGrpSpPr>
          <p:grpSpPr>
            <a:xfrm>
              <a:off x="826920" y="1989000"/>
              <a:ext cx="5034600" cy="3239280"/>
              <a:chOff x="826920" y="1989000"/>
              <a:chExt cx="5034600" cy="3239280"/>
            </a:xfrm>
          </p:grpSpPr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4305600" y="1989000"/>
                    <a:ext cx="1051920" cy="158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00" name=""/>
              <p:cNvGrpSpPr/>
              <p:nvPr/>
            </p:nvGrpSpPr>
            <p:grpSpPr>
              <a:xfrm>
                <a:off x="826920" y="2063880"/>
                <a:ext cx="2293560" cy="3164400"/>
                <a:chOff x="826920" y="2063880"/>
                <a:chExt cx="2293560" cy="3164400"/>
              </a:xfrm>
            </p:grpSpPr>
            <p:grpSp>
              <p:nvGrpSpPr>
                <p:cNvPr id="301" name="Группа 25"/>
                <p:cNvGrpSpPr/>
                <p:nvPr/>
              </p:nvGrpSpPr>
              <p:grpSpPr>
                <a:xfrm>
                  <a:off x="901800" y="3872880"/>
                  <a:ext cx="1109520" cy="1355400"/>
                  <a:chOff x="901800" y="3872880"/>
                  <a:chExt cx="1109520" cy="135540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302" name="Object 3"/>
                      <p:cNvSpPr txBox="1"/>
                      <p:nvPr/>
                    </p:nvSpPr>
                    <p:spPr>
                      <a:xfrm>
                        <a:off x="901800" y="3872880"/>
                        <a:ext cx="554760" cy="13554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3" name="Object 20"/>
                      <p:cNvSpPr txBox="1"/>
                      <p:nvPr/>
                    </p:nvSpPr>
                    <p:spPr>
                      <a:xfrm>
                        <a:off x="1456560" y="4401720"/>
                        <a:ext cx="554760" cy="396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=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304" name="Группа 33"/>
                <p:cNvGrpSpPr/>
                <p:nvPr/>
              </p:nvGrpSpPr>
              <p:grpSpPr>
                <a:xfrm>
                  <a:off x="2159640" y="4023720"/>
                  <a:ext cx="486000" cy="752760"/>
                  <a:chOff x="2159640" y="4023720"/>
                  <a:chExt cx="486000" cy="752760"/>
                </a:xfrm>
              </p:grpSpPr>
              <p:sp>
                <p:nvSpPr>
                  <p:cNvPr id="305" name="Oval 2"/>
                  <p:cNvSpPr/>
                  <p:nvPr/>
                </p:nvSpPr>
                <p:spPr>
                  <a:xfrm>
                    <a:off x="2159640" y="4494240"/>
                    <a:ext cx="480960" cy="28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d5f4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Прямая соединительная линия 32"/>
                  <p:cNvSpPr/>
                  <p:nvPr/>
                </p:nvSpPr>
                <p:spPr>
                  <a:xfrm flipV="1">
                    <a:off x="2640600" y="4023720"/>
                    <a:ext cx="5040" cy="613080"/>
                  </a:xfrm>
                  <a:prstGeom prst="line">
                    <a:avLst/>
                  </a:prstGeom>
                  <a:ln w="9360">
                    <a:solidFill>
                      <a:srgbClr val="00557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d5f4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826920" y="2063880"/>
                  <a:ext cx="2293560" cy="1424880"/>
                  <a:chOff x="826920" y="2063880"/>
                  <a:chExt cx="2293560" cy="1424880"/>
                </a:xfrm>
              </p:grpSpPr>
              <p:grpSp>
                <p:nvGrpSpPr>
                  <p:cNvPr id="308" name="Группа 22"/>
                  <p:cNvGrpSpPr/>
                  <p:nvPr/>
                </p:nvGrpSpPr>
                <p:grpSpPr>
                  <a:xfrm>
                    <a:off x="826920" y="2063880"/>
                    <a:ext cx="1595160" cy="1424880"/>
                    <a:chOff x="826920" y="2063880"/>
                    <a:chExt cx="1595160" cy="1424880"/>
                  </a:xfrm>
                </p:grpSpPr>
                <mc:AlternateContent>
                  <mc:Choice xmlns:a14="http://schemas.microsoft.com/office/drawing/2010/main" Requires="a14">
                    <p:sp>
                      <p:nvSpPr>
                        <p:cNvPr id="309" name="Object 7"/>
                        <p:cNvSpPr txBox="1"/>
                        <p:nvPr/>
                      </p:nvSpPr>
                      <p:spPr>
                        <a:xfrm>
                          <a:off x="826920" y="2063880"/>
                          <a:ext cx="746280" cy="1424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310" name="Object 19"/>
                        <p:cNvSpPr txBox="1"/>
                        <p:nvPr/>
                      </p:nvSpPr>
                      <p:spPr>
                        <a:xfrm>
                          <a:off x="1607400" y="2538720"/>
                          <a:ext cx="814680" cy="4748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=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sp>
                <p:nvSpPr>
                  <p:cNvPr id="311" name=""/>
                  <p:cNvSpPr/>
                  <p:nvPr/>
                </p:nvSpPr>
                <p:spPr>
                  <a:xfrm>
                    <a:off x="2233080" y="2214720"/>
                    <a:ext cx="887400" cy="11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200" spc="-1" strike="noStrike">
                        <a:solidFill>
                          <a:srgbClr val="000000"/>
                        </a:solidFill>
                        <a:latin typeface="Arial"/>
                      </a:rPr>
                      <a:t>♪</a:t>
                    </a:r>
                    <a:endParaRPr b="0" lang="en-US" sz="7200" spc="-1" strike="noStrike">
                      <a:solidFill>
                        <a:srgbClr val="d5f4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2" name=""/>
              <p:cNvGrpSpPr/>
              <p:nvPr/>
            </p:nvGrpSpPr>
            <p:grpSpPr>
              <a:xfrm>
                <a:off x="5416560" y="2515320"/>
                <a:ext cx="444960" cy="752760"/>
                <a:chOff x="5416560" y="2515320"/>
                <a:chExt cx="444960" cy="7527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416560" y="2967480"/>
                  <a:ext cx="444960" cy="300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d5f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5f4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5859720" y="2515320"/>
                  <a:ext cx="0" cy="60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5f4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"/>
            <p:cNvSpPr/>
            <p:nvPr/>
          </p:nvSpPr>
          <p:spPr>
            <a:xfrm>
              <a:off x="5639040" y="4400280"/>
              <a:ext cx="516960" cy="376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5f4ff"/>
                </a:solidFill>
                <a:latin typeface="Arial"/>
              </a:endParaRPr>
            </a:p>
          </p:txBody>
        </p:sp>
      </p:grpSp>
    </p:spTree>
  </p:cSld>
  <p:transition spd="slow">
    <p:wheel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Рисунок 0" descr="IMG.jpg1.jpg"/>
          <p:cNvPicPr/>
          <p:nvPr/>
        </p:nvPicPr>
        <p:blipFill>
          <a:blip r:embed="rId2"/>
          <a:stretch/>
        </p:blipFill>
        <p:spPr>
          <a:xfrm>
            <a:off x="0" y="23572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7"/>
          <p:cNvSpPr/>
          <p:nvPr/>
        </p:nvSpPr>
        <p:spPr>
          <a:xfrm>
            <a:off x="0" y="78588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pic>
        <p:nvPicPr>
          <p:cNvPr id="318" name="Прямоугольник 8" descr=""/>
          <p:cNvPicPr/>
          <p:nvPr/>
        </p:nvPicPr>
        <p:blipFill>
          <a:blip r:embed="rId3"/>
          <a:stretch/>
        </p:blipFill>
        <p:spPr>
          <a:xfrm>
            <a:off x="-6480" y="4565520"/>
            <a:ext cx="9156960" cy="1768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2143080" y="5072040"/>
                <a:ext cx="3286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2" name="Прямоугольник 15" descr=""/>
          <p:cNvPicPr/>
          <p:nvPr/>
        </p:nvPicPr>
        <p:blipFill>
          <a:blip r:embed="rId4"/>
          <a:stretch/>
        </p:blipFill>
        <p:spPr>
          <a:xfrm>
            <a:off x="1884240" y="-171360"/>
            <a:ext cx="5778720" cy="109836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11" descr=""/>
          <p:cNvPicPr/>
          <p:nvPr/>
        </p:nvPicPr>
        <p:blipFill>
          <a:blip r:embed="rId5"/>
          <a:stretch/>
        </p:blipFill>
        <p:spPr>
          <a:xfrm>
            <a:off x="-96840" y="669960"/>
            <a:ext cx="9301320" cy="162252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2" descr=""/>
          <p:cNvPicPr/>
          <p:nvPr/>
        </p:nvPicPr>
        <p:blipFill>
          <a:blip r:embed="rId6"/>
          <a:stretch/>
        </p:blipFill>
        <p:spPr>
          <a:xfrm>
            <a:off x="-96840" y="4595760"/>
            <a:ext cx="9247320" cy="51264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13" descr=""/>
          <p:cNvPicPr/>
          <p:nvPr/>
        </p:nvPicPr>
        <p:blipFill>
          <a:blip r:embed="rId7"/>
          <a:stretch/>
        </p:blipFill>
        <p:spPr>
          <a:xfrm>
            <a:off x="-96840" y="5614920"/>
            <a:ext cx="9259920" cy="12495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вавав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235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7" name="Object 11"/>
              <p:cNvSpPr txBox="1"/>
              <p:nvPr/>
            </p:nvSpPr>
            <p:spPr>
              <a:xfrm>
                <a:off x="1714680" y="4000680"/>
                <a:ext cx="13507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0"/>
              <p:cNvSpPr txBox="1"/>
              <p:nvPr/>
            </p:nvSpPr>
            <p:spPr>
              <a:xfrm>
                <a:off x="1714680" y="4714920"/>
                <a:ext cx="1357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0" name="Прямоугольник 28"/>
          <p:cNvSpPr/>
          <p:nvPr/>
        </p:nvSpPr>
        <p:spPr>
          <a:xfrm>
            <a:off x="1911240" y="296712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pic>
        <p:nvPicPr>
          <p:cNvPr id="331" name="Прямоугольник 29" descr=""/>
          <p:cNvPicPr/>
          <p:nvPr/>
        </p:nvPicPr>
        <p:blipFill>
          <a:blip r:embed="rId3"/>
          <a:stretch/>
        </p:blipFill>
        <p:spPr>
          <a:xfrm>
            <a:off x="3328920" y="4809960"/>
            <a:ext cx="2230560" cy="51768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34" descr=""/>
          <p:cNvPicPr/>
          <p:nvPr/>
        </p:nvPicPr>
        <p:blipFill>
          <a:blip r:embed="rId4"/>
          <a:stretch/>
        </p:blipFill>
        <p:spPr>
          <a:xfrm>
            <a:off x="3328920" y="4095720"/>
            <a:ext cx="2340000" cy="51264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оугольник 35" descr=""/>
          <p:cNvPicPr/>
          <p:nvPr/>
        </p:nvPicPr>
        <p:blipFill>
          <a:blip r:embed="rId5"/>
          <a:stretch/>
        </p:blipFill>
        <p:spPr>
          <a:xfrm>
            <a:off x="2475000" y="5595840"/>
            <a:ext cx="2189160" cy="5191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7" name="Rectangle 31"/>
          <p:cNvSpPr/>
          <p:nvPr/>
        </p:nvSpPr>
        <p:spPr>
          <a:xfrm>
            <a:off x="-357120" y="5143680"/>
            <a:ext cx="785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0964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39" name="Прямоугольник 20" descr=""/>
          <p:cNvPicPr/>
          <p:nvPr/>
        </p:nvPicPr>
        <p:blipFill>
          <a:blip r:embed="rId6"/>
          <a:stretch/>
        </p:blipFill>
        <p:spPr>
          <a:xfrm>
            <a:off x="-96840" y="-42840"/>
            <a:ext cx="9290160" cy="11286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21"/>
          <p:cNvSpPr/>
          <p:nvPr/>
        </p:nvSpPr>
        <p:spPr>
          <a:xfrm>
            <a:off x="0" y="32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  <a:ea typeface="Times New Roman"/>
              </a:rPr>
              <a:t>Размер произведения четыре четверти. Возьмём первые три такта.</a:t>
            </a:r>
            <a:endParaRPr b="0" lang="en-US" sz="2400" spc="-1" strike="noStrike">
              <a:solidFill>
                <a:srgbClr val="d5f4ff"/>
              </a:solidFill>
              <a:latin typeface="Arial"/>
            </a:endParaRPr>
          </a:p>
        </p:txBody>
      </p:sp>
      <p:grpSp>
        <p:nvGrpSpPr>
          <p:cNvPr id="341" name="Группа 25"/>
          <p:cNvGrpSpPr/>
          <p:nvPr/>
        </p:nvGrpSpPr>
        <p:grpSpPr>
          <a:xfrm>
            <a:off x="1643040" y="5429160"/>
            <a:ext cx="571680" cy="787320"/>
            <a:chOff x="1643040" y="5429160"/>
            <a:chExt cx="571680" cy="787320"/>
          </a:xfrm>
        </p:grpSpPr>
        <mc:AlternateContent>
          <mc:Choice xmlns:a14="http://schemas.microsoft.com/office/drawing/2010/main" Requires="a14">
            <p:sp>
              <p:nvSpPr>
                <p:cNvPr id="342" name="Object 26"/>
                <p:cNvSpPr txBox="1"/>
                <p:nvPr/>
              </p:nvSpPr>
              <p:spPr>
                <a:xfrm>
                  <a:off x="1643040" y="5429160"/>
                  <a:ext cx="30744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Object 38"/>
                <p:cNvSpPr txBox="1"/>
                <p:nvPr/>
              </p:nvSpPr>
              <p:spPr>
                <a:xfrm>
                  <a:off x="2000520" y="5785920"/>
                  <a:ext cx="214200" cy="17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Rectangle 4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41"/>
              <p:cNvSpPr txBox="1"/>
              <p:nvPr/>
            </p:nvSpPr>
            <p:spPr>
              <a:xfrm>
                <a:off x="3000240" y="3976560"/>
                <a:ext cx="357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2"/>
              <p:cNvSpPr txBox="1"/>
              <p:nvPr/>
            </p:nvSpPr>
            <p:spPr>
              <a:xfrm>
                <a:off x="2214720" y="5500800"/>
                <a:ext cx="3571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3"/>
              <p:cNvSpPr txBox="1"/>
              <p:nvPr/>
            </p:nvSpPr>
            <p:spPr>
              <a:xfrm>
                <a:off x="3000240" y="4714920"/>
                <a:ext cx="3574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IMG_0001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6" descr=""/>
          <p:cNvPicPr/>
          <p:nvPr/>
        </p:nvPicPr>
        <p:blipFill>
          <a:blip r:embed="rId3"/>
          <a:stretch/>
        </p:blipFill>
        <p:spPr>
          <a:xfrm>
            <a:off x="-96840" y="-42840"/>
            <a:ext cx="9247320" cy="1249200"/>
          </a:xfrm>
          <a:prstGeom prst="rect">
            <a:avLst/>
          </a:prstGeom>
          <a:ln w="0">
            <a:noFill/>
          </a:ln>
        </p:spPr>
      </p:pic>
      <p:pic>
        <p:nvPicPr>
          <p:cNvPr id="350" name="Rectangle 2" descr=""/>
          <p:cNvPicPr/>
          <p:nvPr/>
        </p:nvPicPr>
        <p:blipFill>
          <a:blip r:embed="rId4"/>
          <a:stretch/>
        </p:blipFill>
        <p:spPr>
          <a:xfrm>
            <a:off x="-96840" y="3316320"/>
            <a:ext cx="7961400" cy="152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Object 1"/>
              <p:cNvSpPr txBox="1"/>
              <p:nvPr/>
            </p:nvSpPr>
            <p:spPr>
              <a:xfrm>
                <a:off x="2298600" y="4500720"/>
                <a:ext cx="2292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2" name="Rectangle 3" descr=""/>
          <p:cNvPicPr/>
          <p:nvPr/>
        </p:nvPicPr>
        <p:blipFill>
          <a:blip r:embed="rId5"/>
          <a:stretch/>
        </p:blipFill>
        <p:spPr>
          <a:xfrm>
            <a:off x="4138560" y="4602240"/>
            <a:ext cx="3299040" cy="506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7:15:47Z</dcterms:created>
  <dc:creator>Admin</dc:creator>
  <dc:description/>
  <dc:language>en-US</dc:language>
  <cp:lastModifiedBy>Formoza</cp:lastModifiedBy>
  <dcterms:modified xsi:type="dcterms:W3CDTF">2010-03-19T08:41:46Z</dcterms:modified>
  <cp:revision>44</cp:revision>
  <dc:subject/>
  <dc:title>Слайд 1</dc:title>
</cp:coreProperties>
</file>