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1.png" ContentType="image/png"/>
  <Override PartName="/ppt/media/image12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9.png" ContentType="image/png"/>
  <Override PartName="/ppt/media/image43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F111-88E6-41CC-9840-D554206B6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4DE9-1EFE-4BA0-A150-995B89407B05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EC47-B714-4E47-9466-95BCD96497D6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297-31CC-4B74-B967-4B9EAC3C9291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0923-6F87-4568-963D-C0DA85609FC3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4FFE-9764-45BE-B580-197BA5E3A2CF}" type="slidenum">
              <a:rPr b="0" lang="ru-RU" sz="1200" spc="-1" strike="noStrike">
                <a:solidFill>
                  <a:srgbClr val="d5f4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D3E-EE47-40EC-AF20-46588930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BFF-CD66-4DC0-AAFD-72E20C1D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955-65FC-4A5A-A3CC-930FAEB7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263-8709-41F4-A67A-DE56000D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6B9F-E582-4179-8F01-D6D02C97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8D1C-7390-4540-B1EB-64DD1AB0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6EE3-AC79-42BA-A170-CF1ED85E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2E93-9439-4E83-AA06-33578CF9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86B-19C0-4241-B5CD-786F96EB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D836-85C1-4BCD-9A73-ABD8911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059B-E42F-4E72-B4A2-1B1FD56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900-D463-4106-A0CC-9E95ED0B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B9C5-7398-47A4-9781-E00C008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D0A6-B49E-4567-A10E-B217AE1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BABA-F088-408C-9DB8-51C6143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D65-4C2E-497F-938D-444E1388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877F-05D7-4976-B17D-B89DECBB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C4F2-4166-4867-B643-FAC9CF3C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A4D8D-AECD-4AFB-B517-B6F7C5A5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3513-5156-4957-8F52-53B10D63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654A-BD6A-4B53-A32B-67360C2B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06B0-4854-4569-8935-A5FF836B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04F-5EE9-4198-A29D-2204E17E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8698-AF52-48F0-8D6F-060935D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2BEA-EDBF-4C8A-93D2-CD7C2563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C07A-16BF-43BE-B054-DE29D9C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EBBC-1787-42A0-BBEB-77AF74C5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4898-F5AC-4035-BBB6-F18FE4F1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2CD0-4F44-426E-9232-90256AF2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5E26-E45A-4FF2-AFCC-D7F74AFB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F95A-42D6-421B-A505-C14F0AEB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CAE5-CEC6-4CF9-92F0-400688C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DAD46-EC73-4AF2-8F36-B227531E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E9E-FAB1-4866-ACBF-1C6C826C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A638-56A2-4545-AA81-D954494B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3F5E-B6D5-4126-B8D2-ABD42D6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F25B-71C4-4BEB-A78A-457430AE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C8E2-5B3A-4677-8B60-173368E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DCE9-AF55-424D-8EBA-1346D190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582C7-A835-4823-9CFA-FC5A292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DCC9-9480-44FF-8B25-84C6F061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2AAE-FE43-4D6C-BAFA-563C0E23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026A-8279-47C4-ABE2-25BC8DD4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F35E-4A0C-4FD9-852D-7963990D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1E2-AFAB-4948-AFB8-134190E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BC74-18BE-41B5-8AA8-64F1E63D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625E-EE2A-4B9B-9D59-D676B422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5BC3-0684-4657-BD83-2F724867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5030-9107-4684-95EB-8366C70A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971A-813E-41FC-90D6-60A0852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B4D8A-F9D4-43BB-8A4F-0365D88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C29A-1957-4E46-B67D-9CD26F2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E86C-453D-4A18-9B42-B36CDDD4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684D-E15E-473E-B272-8D63583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30952-174A-4934-8C35-2AEA4D3F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D2C-DCD6-4FD8-BA24-9986A0FD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FCFB-7E52-4C4A-925E-73908261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19B3C-A65F-477E-9A7E-F5CAC5A5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15C31-6F52-4A14-AA0B-C352C61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B9A81-AF18-4E28-BCCC-CB71F793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42E54-EEA0-4F3A-B0C8-6C5B0EF4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609F-FF12-4857-81D5-B1C63441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05F6-1BA4-4B70-B0D8-6FE7BA8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93C6-6F68-45F7-990D-F2E4148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FB053-BF2D-4EAD-A9D1-6603A0D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10579-90B7-4DB3-AD79-0F83E68D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EE0-D115-428D-AE9C-E16A63A2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D6A72-5971-4791-AEE8-F2AF98D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77BFB-8ED1-4251-8729-82D12B51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1F921-597D-4C1A-970E-B2E5AB2C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650-6015-474A-934B-1203A9F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744-BA5C-4BBB-AFE2-BE5BAF31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880-A540-4534-9B24-904A5FF5F283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BF1-669E-4176-A61A-E661701D52A5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4D2-01A5-4741-9C2A-DF82F8FD1A64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19FD-E903-48C0-BEC0-3FC359C85482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ED79-C6AE-46E6-9D3D-0A509F93CC3F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f4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d5f4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5675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5675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d5f4f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d5f4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f4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3C94-00C9-490D-A881-51502064FC72}" type="slidenum">
              <a:rPr b="0" lang="en-US" sz="10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33354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0" y="857160"/>
            <a:ext cx="914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191124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264" name="Прямоугольник 9" descr=""/>
          <p:cNvPicPr/>
          <p:nvPr/>
        </p:nvPicPr>
        <p:blipFill>
          <a:blip r:embed="rId3"/>
          <a:stretch/>
        </p:blipFill>
        <p:spPr>
          <a:xfrm>
            <a:off x="-6480" y="255600"/>
            <a:ext cx="9156960" cy="276228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10" descr=""/>
          <p:cNvPicPr/>
          <p:nvPr/>
        </p:nvPicPr>
        <p:blipFill>
          <a:blip r:embed="rId4"/>
          <a:stretch/>
        </p:blipFill>
        <p:spPr>
          <a:xfrm>
            <a:off x="-6480" y="4711680"/>
            <a:ext cx="9588600" cy="1755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220066_217898.jpg"/>
          <p:cNvPicPr/>
          <p:nvPr/>
        </p:nvPicPr>
        <p:blipFill>
          <a:blip r:embed="rId5"/>
          <a:stretch/>
        </p:blipFill>
        <p:spPr>
          <a:xfrm>
            <a:off x="428760" y="3143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IMG_0002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200052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1" descr=""/>
          <p:cNvPicPr/>
          <p:nvPr/>
        </p:nvPicPr>
        <p:blipFill>
          <a:blip r:embed="rId3"/>
          <a:stretch/>
        </p:blipFill>
        <p:spPr>
          <a:xfrm>
            <a:off x="-96840" y="-42840"/>
            <a:ext cx="9247320" cy="87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143000" y="4214880"/>
                <a:ext cx="2463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000840" y="4286160"/>
                <a:ext cx="857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7" name="Rectangle 4" descr=""/>
          <p:cNvPicPr/>
          <p:nvPr/>
        </p:nvPicPr>
        <p:blipFill>
          <a:blip r:embed="rId4"/>
          <a:stretch/>
        </p:blipFill>
        <p:spPr>
          <a:xfrm>
            <a:off x="-96840" y="2889360"/>
            <a:ext cx="9301320" cy="152388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5" descr=""/>
          <p:cNvPicPr/>
          <p:nvPr/>
        </p:nvPicPr>
        <p:blipFill>
          <a:blip r:embed="rId5"/>
          <a:stretch/>
        </p:blipFill>
        <p:spPr>
          <a:xfrm>
            <a:off x="3139920" y="4316400"/>
            <a:ext cx="308484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0" y="1238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1" descr=""/>
          <p:cNvPicPr/>
          <p:nvPr/>
        </p:nvPicPr>
        <p:blipFill>
          <a:blip r:embed="rId2"/>
          <a:stretch/>
        </p:blipFill>
        <p:spPr>
          <a:xfrm>
            <a:off x="2041560" y="-171360"/>
            <a:ext cx="5011560" cy="1933560"/>
          </a:xfrm>
          <a:prstGeom prst="rect">
            <a:avLst/>
          </a:prstGeom>
          <a:ln w="0">
            <a:noFill/>
          </a:ln>
        </p:spPr>
      </p:pic>
      <p:pic>
        <p:nvPicPr>
          <p:cNvPr id="361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362" name="Прямоугольник 3" descr=""/>
          <p:cNvPicPr/>
          <p:nvPr/>
        </p:nvPicPr>
        <p:blipFill>
          <a:blip r:embed="rId4"/>
          <a:stretch/>
        </p:blipFill>
        <p:spPr>
          <a:xfrm>
            <a:off x="-96840" y="811080"/>
            <a:ext cx="9264600" cy="19926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urlpreview.gif"/>
          <p:cNvPicPr/>
          <p:nvPr/>
        </p:nvPicPr>
        <p:blipFill>
          <a:blip r:embed="rId5"/>
          <a:stretch/>
        </p:blipFill>
        <p:spPr>
          <a:xfrm>
            <a:off x="5429160" y="2857680"/>
            <a:ext cx="279720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695160"/>
            <a:ext cx="9156960" cy="2548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8496360" y="5575320"/>
          <a:ext cx="6092640" cy="403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5575320"/>
                    <a:ext cx="6092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335772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6480" y="1484280"/>
            <a:ext cx="9315720" cy="3660840"/>
            <a:chOff x="-6480" y="1484280"/>
            <a:chExt cx="9315720" cy="3660840"/>
          </a:xfrm>
        </p:grpSpPr>
        <p:grpSp>
          <p:nvGrpSpPr>
            <p:cNvPr id="269" name=""/>
            <p:cNvGrpSpPr/>
            <p:nvPr/>
          </p:nvGrpSpPr>
          <p:grpSpPr>
            <a:xfrm>
              <a:off x="-6480" y="1484280"/>
              <a:ext cx="9315720" cy="3660840"/>
              <a:chOff x="-6480" y="1484280"/>
              <a:chExt cx="9315720" cy="3660840"/>
            </a:xfrm>
          </p:grpSpPr>
          <p:pic>
            <p:nvPicPr>
              <p:cNvPr id="270" name="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3565440"/>
                <a:ext cx="9156960" cy="15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484280"/>
                <a:ext cx="9309240" cy="215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"/>
            <p:cNvSpPr/>
            <p:nvPr/>
          </p:nvSpPr>
          <p:spPr>
            <a:xfrm>
              <a:off x="179280" y="3213000"/>
              <a:ext cx="741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Arial"/>
                </a:rPr>
                <a:t>3. Установить связь между музыкальными и математическими соотношениями.</a:t>
              </a:r>
              <a:endParaRPr b="0" lang="en-US" sz="2400" spc="-1" strike="noStrike">
                <a:solidFill>
                  <a:srgbClr val="d5f4ff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2" descr=""/>
          <p:cNvPicPr/>
          <p:nvPr/>
        </p:nvPicPr>
        <p:blipFill>
          <a:blip r:embed="rId2"/>
          <a:stretch/>
        </p:blipFill>
        <p:spPr>
          <a:xfrm>
            <a:off x="2066760" y="920880"/>
            <a:ext cx="7083720" cy="968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285840" y="714240"/>
            <a:ext cx="3460680" cy="473076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4" descr=""/>
          <p:cNvPicPr/>
          <p:nvPr/>
        </p:nvPicPr>
        <p:blipFill>
          <a:blip r:embed="rId4"/>
          <a:stretch/>
        </p:blipFill>
        <p:spPr>
          <a:xfrm>
            <a:off x="2597040" y="-317520"/>
            <a:ext cx="3846600" cy="11034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5" descr=""/>
          <p:cNvPicPr/>
          <p:nvPr/>
        </p:nvPicPr>
        <p:blipFill>
          <a:blip r:embed="rId5"/>
          <a:stretch/>
        </p:blipFill>
        <p:spPr>
          <a:xfrm>
            <a:off x="3687840" y="738360"/>
            <a:ext cx="5462640" cy="16207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6"/>
          <p:cNvSpPr/>
          <p:nvPr/>
        </p:nvSpPr>
        <p:spPr>
          <a:xfrm>
            <a:off x="16956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279" name="Rectangle 1" descr=""/>
          <p:cNvPicPr/>
          <p:nvPr/>
        </p:nvPicPr>
        <p:blipFill>
          <a:blip r:embed="rId3"/>
          <a:stretch/>
        </p:blipFill>
        <p:spPr>
          <a:xfrm>
            <a:off x="1133640" y="-171360"/>
            <a:ext cx="6742080" cy="109836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2" descr=""/>
          <p:cNvPicPr/>
          <p:nvPr/>
        </p:nvPicPr>
        <p:blipFill>
          <a:blip r:embed="rId4"/>
          <a:stretch/>
        </p:blipFill>
        <p:spPr>
          <a:xfrm>
            <a:off x="-96840" y="895320"/>
            <a:ext cx="9337680" cy="23479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preview.jpeg"/>
          <p:cNvPicPr/>
          <p:nvPr/>
        </p:nvPicPr>
        <p:blipFill>
          <a:blip r:embed="rId5"/>
          <a:stretch/>
        </p:blipFill>
        <p:spPr>
          <a:xfrm>
            <a:off x="5357880" y="3643200"/>
            <a:ext cx="2860560" cy="2395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4" descr=""/>
          <p:cNvPicPr/>
          <p:nvPr/>
        </p:nvPicPr>
        <p:blipFill>
          <a:blip r:embed="rId2"/>
          <a:stretch/>
        </p:blipFill>
        <p:spPr>
          <a:xfrm>
            <a:off x="-6480" y="920880"/>
            <a:ext cx="9156960" cy="47448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1" descr=""/>
          <p:cNvPicPr/>
          <p:nvPr/>
        </p:nvPicPr>
        <p:blipFill>
          <a:blip r:embed="rId3"/>
          <a:stretch/>
        </p:blipFill>
        <p:spPr>
          <a:xfrm>
            <a:off x="-96840" y="828720"/>
            <a:ext cx="9337680" cy="382248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-171360"/>
            <a:ext cx="907128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1" descr=""/>
          <p:cNvPicPr/>
          <p:nvPr/>
        </p:nvPicPr>
        <p:blipFill>
          <a:blip r:embed="rId2"/>
          <a:stretch/>
        </p:blipFill>
        <p:spPr>
          <a:xfrm>
            <a:off x="1390680" y="-171360"/>
            <a:ext cx="5729400" cy="109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6" name="Object 8"/>
              <p:cNvSpPr txBox="1"/>
              <p:nvPr/>
            </p:nvSpPr>
            <p:spPr>
              <a:xfrm>
                <a:off x="0" y="8478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7" name="Rectangle 10" descr=""/>
          <p:cNvPicPr/>
          <p:nvPr/>
        </p:nvPicPr>
        <p:blipFill>
          <a:blip r:embed="rId3"/>
          <a:stretch/>
        </p:blipFill>
        <p:spPr>
          <a:xfrm>
            <a:off x="-96840" y="890640"/>
            <a:ext cx="924732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2"/>
          <p:cNvSpPr/>
          <p:nvPr/>
        </p:nvSpPr>
        <p:spPr>
          <a:xfrm>
            <a:off x="0" y="107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700360" y="2133720"/>
            <a:ext cx="19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0" y="2889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f4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1214280" y="55324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5f4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213372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26920" y="1989000"/>
            <a:ext cx="5329080" cy="3239280"/>
            <a:chOff x="826920" y="1989000"/>
            <a:chExt cx="5329080" cy="3239280"/>
          </a:xfrm>
        </p:grpSpPr>
        <p:grpSp>
          <p:nvGrpSpPr>
            <p:cNvPr id="295" name="Группа 27"/>
            <p:cNvGrpSpPr/>
            <p:nvPr/>
          </p:nvGrpSpPr>
          <p:grpSpPr>
            <a:xfrm>
              <a:off x="4380840" y="3948120"/>
              <a:ext cx="1109160" cy="1131480"/>
              <a:chOff x="4380840" y="3948120"/>
              <a:chExt cx="1109160" cy="1131480"/>
            </a:xfrm>
          </p:grpSpPr>
          <mc:AlternateContent>
            <mc:Choice xmlns:a14="http://schemas.microsoft.com/office/drawing/2010/main" Requires="a14">
              <p:sp>
                <p:nvSpPr>
                  <p:cNvPr id="296" name="Object 23"/>
                  <p:cNvSpPr txBox="1"/>
                  <p:nvPr/>
                </p:nvSpPr>
                <p:spPr>
                  <a:xfrm>
                    <a:off x="4380840" y="3948120"/>
                    <a:ext cx="513720" cy="113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Object 24"/>
                  <p:cNvSpPr txBox="1"/>
                  <p:nvPr/>
                </p:nvSpPr>
                <p:spPr>
                  <a:xfrm>
                    <a:off x="4935600" y="4276800"/>
                    <a:ext cx="554400" cy="49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98" name=""/>
            <p:cNvGrpSpPr/>
            <p:nvPr/>
          </p:nvGrpSpPr>
          <p:grpSpPr>
            <a:xfrm>
              <a:off x="826920" y="1989000"/>
              <a:ext cx="5034600" cy="3239280"/>
              <a:chOff x="826920" y="1989000"/>
              <a:chExt cx="5034600" cy="3239280"/>
            </a:xfrm>
          </p:grpSpPr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4305600" y="1989000"/>
                    <a:ext cx="1051920" cy="1581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00" name=""/>
              <p:cNvGrpSpPr/>
              <p:nvPr/>
            </p:nvGrpSpPr>
            <p:grpSpPr>
              <a:xfrm>
                <a:off x="826920" y="2063880"/>
                <a:ext cx="2293560" cy="3164400"/>
                <a:chOff x="826920" y="2063880"/>
                <a:chExt cx="2293560" cy="3164400"/>
              </a:xfrm>
            </p:grpSpPr>
            <p:grpSp>
              <p:nvGrpSpPr>
                <p:cNvPr id="301" name="Группа 25"/>
                <p:cNvGrpSpPr/>
                <p:nvPr/>
              </p:nvGrpSpPr>
              <p:grpSpPr>
                <a:xfrm>
                  <a:off x="901800" y="3872880"/>
                  <a:ext cx="1109520" cy="1355400"/>
                  <a:chOff x="901800" y="3872880"/>
                  <a:chExt cx="1109520" cy="135540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302" name="Object 3"/>
                      <p:cNvSpPr txBox="1"/>
                      <p:nvPr/>
                    </p:nvSpPr>
                    <p:spPr>
                      <a:xfrm>
                        <a:off x="901800" y="3872880"/>
                        <a:ext cx="554760" cy="1355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303" name="Object 20"/>
                      <p:cNvSpPr txBox="1"/>
                      <p:nvPr/>
                    </p:nvSpPr>
                    <p:spPr>
                      <a:xfrm>
                        <a:off x="1456560" y="4401720"/>
                        <a:ext cx="554760" cy="396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=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304" name="Группа 33"/>
                <p:cNvGrpSpPr/>
                <p:nvPr/>
              </p:nvGrpSpPr>
              <p:grpSpPr>
                <a:xfrm>
                  <a:off x="2159640" y="4023720"/>
                  <a:ext cx="486000" cy="752760"/>
                  <a:chOff x="2159640" y="4023720"/>
                  <a:chExt cx="486000" cy="752760"/>
                </a:xfrm>
              </p:grpSpPr>
              <p:sp>
                <p:nvSpPr>
                  <p:cNvPr id="305" name="Oval 2"/>
                  <p:cNvSpPr/>
                  <p:nvPr/>
                </p:nvSpPr>
                <p:spPr>
                  <a:xfrm>
                    <a:off x="2159640" y="4494240"/>
                    <a:ext cx="480960" cy="28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Прямая соединительная линия 32"/>
                  <p:cNvSpPr/>
                  <p:nvPr/>
                </p:nvSpPr>
                <p:spPr>
                  <a:xfrm flipV="1">
                    <a:off x="2640600" y="4023720"/>
                    <a:ext cx="5040" cy="613080"/>
                  </a:xfrm>
                  <a:prstGeom prst="line">
                    <a:avLst/>
                  </a:prstGeom>
                  <a:ln w="9360">
                    <a:solidFill>
                      <a:srgbClr val="00557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826920" y="2063880"/>
                  <a:ext cx="2293560" cy="1424880"/>
                  <a:chOff x="826920" y="2063880"/>
                  <a:chExt cx="2293560" cy="1424880"/>
                </a:xfrm>
              </p:grpSpPr>
              <p:grpSp>
                <p:nvGrpSpPr>
                  <p:cNvPr id="308" name="Группа 22"/>
                  <p:cNvGrpSpPr/>
                  <p:nvPr/>
                </p:nvGrpSpPr>
                <p:grpSpPr>
                  <a:xfrm>
                    <a:off x="826920" y="2063880"/>
                    <a:ext cx="1595160" cy="1424880"/>
                    <a:chOff x="826920" y="2063880"/>
                    <a:chExt cx="1595160" cy="1424880"/>
                  </a:xfrm>
                </p:grpSpPr>
                <mc:AlternateContent>
                  <mc:Choice xmlns:a14="http://schemas.microsoft.com/office/drawing/2010/main" Requires="a14">
                    <p:sp>
                      <p:nvSpPr>
                        <p:cNvPr id="309" name="Object 7"/>
                        <p:cNvSpPr txBox="1"/>
                        <p:nvPr/>
                      </p:nvSpPr>
                      <p:spPr>
                        <a:xfrm>
                          <a:off x="826920" y="2063880"/>
                          <a:ext cx="746280" cy="142488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310" name="Object 19"/>
                        <p:cNvSpPr txBox="1"/>
                        <p:nvPr/>
                      </p:nvSpPr>
                      <p:spPr>
                        <a:xfrm>
                          <a:off x="1607400" y="2538720"/>
                          <a:ext cx="814680" cy="4748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=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2233080" y="2214720"/>
                    <a:ext cx="887400" cy="119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7200" spc="-1" strike="noStrike">
                        <a:solidFill>
                          <a:srgbClr val="000000"/>
                        </a:solidFill>
                        <a:latin typeface="Arial"/>
                      </a:rPr>
                      <a:t>♪</a:t>
                    </a:r>
                    <a:endParaRPr b="0" lang="en-US" sz="7200" spc="-1" strike="noStrike">
                      <a:solidFill>
                        <a:srgbClr val="d5f4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5416560" y="2515320"/>
                <a:ext cx="444960" cy="752760"/>
                <a:chOff x="5416560" y="2515320"/>
                <a:chExt cx="444960" cy="7527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416560" y="2967480"/>
                  <a:ext cx="444960" cy="30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d5f4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5f4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859720" y="2515320"/>
                  <a:ext cx="0" cy="60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5f4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"/>
            <p:cNvSpPr/>
            <p:nvPr/>
          </p:nvSpPr>
          <p:spPr>
            <a:xfrm>
              <a:off x="5639040" y="4400280"/>
              <a:ext cx="516960" cy="37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5f4ff"/>
                </a:solidFill>
                <a:latin typeface="Arial"/>
              </a:endParaRPr>
            </a:p>
          </p:txBody>
        </p:sp>
      </p:grpSp>
    </p:spTree>
  </p:cSld>
  <p:transition spd="slow">
    <p:wheel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0" descr="IMG.jpg1.jpg"/>
          <p:cNvPicPr/>
          <p:nvPr/>
        </p:nvPicPr>
        <p:blipFill>
          <a:blip r:embed="rId2"/>
          <a:stretch/>
        </p:blipFill>
        <p:spPr>
          <a:xfrm>
            <a:off x="0" y="23572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7"/>
          <p:cNvSpPr/>
          <p:nvPr/>
        </p:nvSpPr>
        <p:spPr>
          <a:xfrm>
            <a:off x="0" y="7858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318" name="Прямоугольник 8" descr=""/>
          <p:cNvPicPr/>
          <p:nvPr/>
        </p:nvPicPr>
        <p:blipFill>
          <a:blip r:embed="rId3"/>
          <a:stretch/>
        </p:blipFill>
        <p:spPr>
          <a:xfrm>
            <a:off x="-6480" y="4565520"/>
            <a:ext cx="9156960" cy="176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2143080" y="5072040"/>
                <a:ext cx="3286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2" name="Прямоугольник 15" descr=""/>
          <p:cNvPicPr/>
          <p:nvPr/>
        </p:nvPicPr>
        <p:blipFill>
          <a:blip r:embed="rId4"/>
          <a:stretch/>
        </p:blipFill>
        <p:spPr>
          <a:xfrm>
            <a:off x="1884240" y="-171360"/>
            <a:ext cx="5778720" cy="109836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11" descr=""/>
          <p:cNvPicPr/>
          <p:nvPr/>
        </p:nvPicPr>
        <p:blipFill>
          <a:blip r:embed="rId5"/>
          <a:stretch/>
        </p:blipFill>
        <p:spPr>
          <a:xfrm>
            <a:off x="-96840" y="669960"/>
            <a:ext cx="9301320" cy="162252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2" descr=""/>
          <p:cNvPicPr/>
          <p:nvPr/>
        </p:nvPicPr>
        <p:blipFill>
          <a:blip r:embed="rId6"/>
          <a:stretch/>
        </p:blipFill>
        <p:spPr>
          <a:xfrm>
            <a:off x="-96840" y="4595760"/>
            <a:ext cx="9247320" cy="51264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13" descr=""/>
          <p:cNvPicPr/>
          <p:nvPr/>
        </p:nvPicPr>
        <p:blipFill>
          <a:blip r:embed="rId7"/>
          <a:stretch/>
        </p:blipFill>
        <p:spPr>
          <a:xfrm>
            <a:off x="-96840" y="5614920"/>
            <a:ext cx="9259920" cy="12495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вавав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235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7" name="Object 11"/>
              <p:cNvSpPr txBox="1"/>
              <p:nvPr/>
            </p:nvSpPr>
            <p:spPr>
              <a:xfrm>
                <a:off x="1714680" y="4000680"/>
                <a:ext cx="1350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10"/>
              <p:cNvSpPr txBox="1"/>
              <p:nvPr/>
            </p:nvSpPr>
            <p:spPr>
              <a:xfrm>
                <a:off x="1714680" y="4714920"/>
                <a:ext cx="1357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0" name="Прямоугольник 28"/>
          <p:cNvSpPr/>
          <p:nvPr/>
        </p:nvSpPr>
        <p:spPr>
          <a:xfrm>
            <a:off x="1911240" y="296712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pic>
        <p:nvPicPr>
          <p:cNvPr id="331" name="Прямоугольник 29" descr=""/>
          <p:cNvPicPr/>
          <p:nvPr/>
        </p:nvPicPr>
        <p:blipFill>
          <a:blip r:embed="rId3"/>
          <a:stretch/>
        </p:blipFill>
        <p:spPr>
          <a:xfrm>
            <a:off x="3328920" y="4809960"/>
            <a:ext cx="2230560" cy="5176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34" descr=""/>
          <p:cNvPicPr/>
          <p:nvPr/>
        </p:nvPicPr>
        <p:blipFill>
          <a:blip r:embed="rId4"/>
          <a:stretch/>
        </p:blipFill>
        <p:spPr>
          <a:xfrm>
            <a:off x="3328920" y="4095720"/>
            <a:ext cx="2340000" cy="51264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35" descr=""/>
          <p:cNvPicPr/>
          <p:nvPr/>
        </p:nvPicPr>
        <p:blipFill>
          <a:blip r:embed="rId5"/>
          <a:stretch/>
        </p:blipFill>
        <p:spPr>
          <a:xfrm>
            <a:off x="2475000" y="5595840"/>
            <a:ext cx="2189160" cy="5191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-357120" y="5143680"/>
            <a:ext cx="785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39" name="Прямоугольник 20" descr=""/>
          <p:cNvPicPr/>
          <p:nvPr/>
        </p:nvPicPr>
        <p:blipFill>
          <a:blip r:embed="rId6"/>
          <a:stretch/>
        </p:blipFill>
        <p:spPr>
          <a:xfrm>
            <a:off x="-96840" y="-42840"/>
            <a:ext cx="9290160" cy="11286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1"/>
          <p:cNvSpPr/>
          <p:nvPr/>
        </p:nvSpPr>
        <p:spPr>
          <a:xfrm>
            <a:off x="0" y="32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  <a:ea typeface="Times New Roman"/>
              </a:rPr>
              <a:t>Размер произведения четыре четверти. Возьмём первые три такта.</a:t>
            </a:r>
            <a:endParaRPr b="0" lang="en-US" sz="2400" spc="-1" strike="noStrike">
              <a:solidFill>
                <a:srgbClr val="d5f4ff"/>
              </a:solidFill>
              <a:latin typeface="Arial"/>
            </a:endParaRPr>
          </a:p>
        </p:txBody>
      </p:sp>
      <p:grpSp>
        <p:nvGrpSpPr>
          <p:cNvPr id="341" name="Группа 25"/>
          <p:cNvGrpSpPr/>
          <p:nvPr/>
        </p:nvGrpSpPr>
        <p:grpSpPr>
          <a:xfrm>
            <a:off x="1643040" y="5429160"/>
            <a:ext cx="571680" cy="787320"/>
            <a:chOff x="1643040" y="5429160"/>
            <a:chExt cx="571680" cy="787320"/>
          </a:xfrm>
        </p:grpSpPr>
        <mc:AlternateContent>
          <mc:Choice xmlns:a14="http://schemas.microsoft.com/office/drawing/2010/main" Requires="a14">
            <p:sp>
              <p:nvSpPr>
                <p:cNvPr id="342" name="Object 26"/>
                <p:cNvSpPr txBox="1"/>
                <p:nvPr/>
              </p:nvSpPr>
              <p:spPr>
                <a:xfrm>
                  <a:off x="1643040" y="5429160"/>
                  <a:ext cx="3074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3" name="Object 38"/>
                <p:cNvSpPr txBox="1"/>
                <p:nvPr/>
              </p:nvSpPr>
              <p:spPr>
                <a:xfrm>
                  <a:off x="2000520" y="5785920"/>
                  <a:ext cx="214200" cy="17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Rectangle 4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5f4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1"/>
              <p:cNvSpPr txBox="1"/>
              <p:nvPr/>
            </p:nvSpPr>
            <p:spPr>
              <a:xfrm>
                <a:off x="3000240" y="3976560"/>
                <a:ext cx="357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2"/>
              <p:cNvSpPr txBox="1"/>
              <p:nvPr/>
            </p:nvSpPr>
            <p:spPr>
              <a:xfrm>
                <a:off x="2214720" y="5500800"/>
                <a:ext cx="3571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3"/>
              <p:cNvSpPr txBox="1"/>
              <p:nvPr/>
            </p:nvSpPr>
            <p:spPr>
              <a:xfrm>
                <a:off x="3000240" y="4714920"/>
                <a:ext cx="3574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IMG_0001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207180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6" descr=""/>
          <p:cNvPicPr/>
          <p:nvPr/>
        </p:nvPicPr>
        <p:blipFill>
          <a:blip r:embed="rId3"/>
          <a:stretch/>
        </p:blipFill>
        <p:spPr>
          <a:xfrm>
            <a:off x="-96840" y="-42840"/>
            <a:ext cx="9247320" cy="124920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2" descr=""/>
          <p:cNvPicPr/>
          <p:nvPr/>
        </p:nvPicPr>
        <p:blipFill>
          <a:blip r:embed="rId4"/>
          <a:stretch/>
        </p:blipFill>
        <p:spPr>
          <a:xfrm>
            <a:off x="-96840" y="3316320"/>
            <a:ext cx="79614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Object 1"/>
              <p:cNvSpPr txBox="1"/>
              <p:nvPr/>
            </p:nvSpPr>
            <p:spPr>
              <a:xfrm>
                <a:off x="2298600" y="4500720"/>
                <a:ext cx="2292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или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2" name="Rectangle 3" descr=""/>
          <p:cNvPicPr/>
          <p:nvPr/>
        </p:nvPicPr>
        <p:blipFill>
          <a:blip r:embed="rId5"/>
          <a:stretch/>
        </p:blipFill>
        <p:spPr>
          <a:xfrm>
            <a:off x="4138560" y="4602240"/>
            <a:ext cx="3299040" cy="506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15:47Z</dcterms:created>
  <dc:creator>Admin</dc:creator>
  <dc:description/>
  <dc:language>en-US</dc:language>
  <cp:lastModifiedBy>Formoza</cp:lastModifiedBy>
  <dcterms:modified xsi:type="dcterms:W3CDTF">2010-03-19T08:41:46Z</dcterms:modified>
  <cp:revision>44</cp:revision>
  <dc:subject/>
  <dc:title>Слайд 1</dc:title>
</cp:coreProperties>
</file>