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5B4-42BE-4F2C-8E41-FBE16138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42B-DDDD-4A99-828A-AEBD2D8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A83-A1C0-497B-8392-F52AB432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C87-5AF5-4C1B-9BFD-3FD4048B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FD27-D35E-4D3F-AFCF-61037559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CF33-63FB-442C-9761-82228CC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1090-DFB9-4203-95D7-361167D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1CCD-10BD-4959-8B3A-8A4AC61A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A38C-7D56-497A-8AD9-C759C8E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653-511A-4912-B0C7-B571EC59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4391-0DC5-4B87-8C62-426708A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DCE-67E0-4DC2-B1C4-F556901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BB26-1FF6-4C0D-92C6-65121E7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E12-E7FD-49CB-B843-64585B6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2350-56A3-4521-9EAB-D5CE725E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25E-0994-48E0-B861-E4E0E441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F07-1D4C-4884-8CD5-68AA980A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CC4-F5BB-41C3-8E2C-0B096CA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603-0AD0-4F5B-826B-CAEDF63F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587-6C20-4753-A7EC-D376188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EAA-6FA7-4E5E-AA55-D3615546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5F9-D461-4274-B845-355496E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350-8264-47DC-9CEB-2BA56BD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9D5-D0BA-457F-8ED7-5BAE777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F5C7-1EC3-42F7-A504-1EB61DA2D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DE3-6740-4A23-9D7B-B5BCF118CA9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9900"/>
                </a:solidFill>
                <a:latin typeface="Arial"/>
              </a:rPr>
              <a:t>Учебный проек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Станционный смотритель», или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История блудной дочери?…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итель русского языка и литерату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КОУ Добрятинская СОШ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уфарева Людмила Федоровн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2" descr="C:\Users\User\Desktop\1260446249_15.jpg"/>
          <p:cNvPicPr/>
          <p:nvPr/>
        </p:nvPicPr>
        <p:blipFill>
          <a:blip r:embed="rId1"/>
          <a:stretch/>
        </p:blipFill>
        <p:spPr>
          <a:xfrm>
            <a:off x="3571920" y="264312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360" y="213840"/>
            <a:ext cx="749160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Желаем всем творческих успехов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2" descr="857352361.jpg"/>
          <p:cNvPicPr/>
          <p:nvPr/>
        </p:nvPicPr>
        <p:blipFill>
          <a:blip r:embed="rId1"/>
          <a:stretch/>
        </p:blipFill>
        <p:spPr>
          <a:xfrm>
            <a:off x="2157480" y="1695600"/>
            <a:ext cx="5290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00"/>
                </a:solidFill>
                <a:latin typeface="Arial"/>
              </a:rPr>
              <a:t>Использованные источ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52400" y="15714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Дуня на могиле отц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6-tub-ru.yandex.net/i?id=552539470-51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Девушка с закрытыми глазами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4-tub-ru.yandex.net/i?id=434196580-51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Заповеди Моисея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5-tub-ru.yandex.net/i?id=452435368-04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Книг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3-tub-ru.yandex.net/i?id=29791504-24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Возвращение блудного сын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5-tub-ru.yandex.net/i?id=334797252-17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-357480"/>
            <a:ext cx="7667640" cy="24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Знаете ли вы, что такое грех и как мы расплачиваемся за содеянно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C:\Users\User\Desktop\89198325_4854181_1361.jpg"/>
          <p:cNvPicPr/>
          <p:nvPr/>
        </p:nvPicPr>
        <p:blipFill>
          <a:blip r:embed="rId1"/>
          <a:stretch/>
        </p:blipFill>
        <p:spPr>
          <a:xfrm>
            <a:off x="1714680" y="2143080"/>
            <a:ext cx="6929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ую заповедь нарушила героиня повести А.С.Пушкина «Станционный смотритель»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5" descr="C:\Users\User\Desktop\Moses.jpeg"/>
          <p:cNvPicPr/>
          <p:nvPr/>
        </p:nvPicPr>
        <p:blipFill>
          <a:blip r:embed="rId1"/>
          <a:stretch/>
        </p:blipFill>
        <p:spPr>
          <a:xfrm>
            <a:off x="4643280" y="24289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ак история Дуни связана с библейской притчей о блудном сыне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Picture 3" descr="C:\Users\User\Desktop\6595a8fe5277.jpg"/>
          <p:cNvPicPr/>
          <p:nvPr/>
        </p:nvPicPr>
        <p:blipFill>
          <a:blip r:embed="rId1"/>
          <a:stretch/>
        </p:blipFill>
        <p:spPr>
          <a:xfrm>
            <a:off x="3571920" y="271476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ыл ли ошибкой побег Дуни из отцовского дома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Picture 2" descr="C:\Users\User\Desktop\2019773-259d0b9b2e071e84.jpg"/>
          <p:cNvPicPr/>
          <p:nvPr/>
        </p:nvPicPr>
        <p:blipFill>
          <a:blip r:embed="rId1"/>
          <a:stretch/>
        </p:blipFill>
        <p:spPr>
          <a:xfrm>
            <a:off x="2714760" y="3143160"/>
            <a:ext cx="5000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2" descr=""/>
          <p:cNvPicPr/>
          <p:nvPr/>
        </p:nvPicPr>
        <p:blipFill>
          <a:blip r:embed="rId1"/>
          <a:stretch/>
        </p:blipFill>
        <p:spPr>
          <a:xfrm>
            <a:off x="3571920" y="1500120"/>
            <a:ext cx="3259080" cy="4984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Arial"/>
              </a:rPr>
              <a:t>Тогда приходите на проект «Станционный смотритель, или История блудной доче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3492360" y="1484280"/>
            <a:ext cx="3311640" cy="5047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Рабочие групп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1785960" y="250020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бвинител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5867280" y="3286080"/>
            <a:ext cx="2592360" cy="25002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щитник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1" name="AutoShape 18"/>
          <p:cNvCxnSpPr>
            <a:stCxn id="178" idx="4"/>
            <a:endCxn id="179" idx="0"/>
          </p:cNvCxnSpPr>
          <p:nvPr/>
        </p:nvCxnSpPr>
        <p:spPr>
          <a:xfrm flipH="1">
            <a:off x="2963520" y="1989000"/>
            <a:ext cx="2185200" cy="5119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182" name="Line 19"/>
          <p:cNvSpPr/>
          <p:nvPr/>
        </p:nvSpPr>
        <p:spPr>
          <a:xfrm>
            <a:off x="5148360" y="1989000"/>
            <a:ext cx="1995480" cy="12970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ОБВИНИТЕЛИ      ЗАЩИТ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99760" y="856800"/>
            <a:ext cx="366876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текст повести А.С. Пушкина «Станционный смотритель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вечают на вопрос: «Какова цена ошибки Дуни»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библейскую притчу о блудном сы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21160" y="856800"/>
            <a:ext cx="367056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текст повести А.С. Пушкина «Станционный смотритель» и другие литературные произвед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библейскую притчу о блудном сы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вечают на вопрос: «Имела ли Дуня право на ошибку?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Результаты деятельности гру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63640" y="134136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бвинител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134136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щитник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763640" y="1844640"/>
            <a:ext cx="25923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ставляют обвинительную реч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шут эсс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отовят презентацию «Цена ошибки в мировом изобразительном искусстве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867280" y="1916280"/>
            <a:ext cx="2592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ставляют защищающую реч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шут эсс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отовят презентацию «Тема раскаяния в мировом изобразительном искусстве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285480"/>
            <a:ext cx="74916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a600"/>
                </a:solidFill>
                <a:latin typeface="Arial"/>
              </a:rPr>
              <a:t>Результат совместно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2" descr="jpg.jpeg"/>
          <p:cNvPicPr/>
          <p:nvPr/>
        </p:nvPicPr>
        <p:blipFill>
          <a:blip r:embed="rId1"/>
          <a:stretch/>
        </p:blipFill>
        <p:spPr>
          <a:xfrm>
            <a:off x="2352600" y="1494000"/>
            <a:ext cx="5724720" cy="494316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3206880" y="2743200"/>
            <a:ext cx="41576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5:08:57Z</dcterms:created>
  <dc:creator>UserNT</dc:creator>
  <dc:description/>
  <dc:language>en-US</dc:language>
  <cp:lastModifiedBy>User</cp:lastModifiedBy>
  <dcterms:modified xsi:type="dcterms:W3CDTF">2013-11-23T17:55:01Z</dcterms:modified>
  <cp:revision>34</cp:revision>
  <dc:subject/>
  <dc:title>Слайд 1</dc:title>
</cp:coreProperties>
</file>