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FFD-2B26-4392-ABE7-CDF0D422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9D9-A9EF-4CA1-BD7A-583A0FE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BEA-44A7-4A7D-915A-5026B500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B0D-C706-4B15-9313-9BCA2DF1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1887-34B9-415D-8E25-C87E2BBB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CA1-E87F-4EAE-8E29-14E6AA7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1210-E6AE-4F32-84E1-B9172FEC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79D-458E-42DD-9C1D-94C28C4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EFF8-9B2B-4E67-85A2-24C0921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01ED-2000-4CD3-A537-24971476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9DEB-07E9-4E12-A525-D214CE2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61E-1BAF-4DF7-A260-23DD8A4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0E1-AC35-4322-80B5-EBE0EDC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B8FA-6809-4038-BD73-74D9D29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B019-E1F7-4A87-96A9-182595B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67E-19C0-4BE9-9AD9-1E6E7C5B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7537-434F-4CC1-92F7-53302091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D25-A766-4A4D-9AC8-1B4FB1E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EBE-5FB3-4E54-BD7B-2BB3BED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5C4-13B5-4BBD-8F21-8562765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F63-5EFC-4DEA-A48B-3FA243A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1CE-2F56-42E4-932A-4347701B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0F5-0B6F-4627-B32D-7A10A709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565-FE22-44A8-8798-D4EACEF9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7583-4C09-40D3-A9CE-D3F7C253F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7BE0-2F97-4785-A011-2B1D3780E45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9900"/>
                </a:solidFill>
                <a:latin typeface="Arial"/>
              </a:rPr>
              <a:t>Учебный проек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Станционный смотритель», или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История блудной дочери?…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итель русского языка и литерату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КОУ Добрятинская СОШ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уфарева Людмила Федоровн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2" descr="C:\Users\User\Desktop\1260446249_15.jpg"/>
          <p:cNvPicPr/>
          <p:nvPr/>
        </p:nvPicPr>
        <p:blipFill>
          <a:blip r:embed="rId1"/>
          <a:stretch/>
        </p:blipFill>
        <p:spPr>
          <a:xfrm>
            <a:off x="3571920" y="264312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360" y="213840"/>
            <a:ext cx="749160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Желаем всем творческих успехов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2" descr="857352361.jpg"/>
          <p:cNvPicPr/>
          <p:nvPr/>
        </p:nvPicPr>
        <p:blipFill>
          <a:blip r:embed="rId1"/>
          <a:stretch/>
        </p:blipFill>
        <p:spPr>
          <a:xfrm>
            <a:off x="2157480" y="1695600"/>
            <a:ext cx="5290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00"/>
                </a:solidFill>
                <a:latin typeface="Arial"/>
              </a:rPr>
              <a:t>Использованные источ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52400" y="15714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Дуня на могиле отц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6-tub-ru.yandex.net/i?id=552539470-51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Девушка с закрытыми глазами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4-tub-ru.yandex.net/i?id=434196580-51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Заповеди Моисея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5-tub-ru.yandex.net/i?id=452435368-04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Книг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3-tub-ru.yandex.net/i?id=29791504-24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Возвращение блудного сын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5-tub-ru.yandex.net/i?id=334797252-17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-357480"/>
            <a:ext cx="7667640" cy="24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Знаете ли вы, что такое грех и как мы расплачиваемся за содеянно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C:\Users\User\Desktop\89198325_4854181_1361.jpg"/>
          <p:cNvPicPr/>
          <p:nvPr/>
        </p:nvPicPr>
        <p:blipFill>
          <a:blip r:embed="rId1"/>
          <a:stretch/>
        </p:blipFill>
        <p:spPr>
          <a:xfrm>
            <a:off x="1714680" y="2143080"/>
            <a:ext cx="6929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ую заповедь нарушила героиня повести А.С.Пушкина «Станционный смотритель»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5" descr="C:\Users\User\Desktop\Moses.jpeg"/>
          <p:cNvPicPr/>
          <p:nvPr/>
        </p:nvPicPr>
        <p:blipFill>
          <a:blip r:embed="rId1"/>
          <a:stretch/>
        </p:blipFill>
        <p:spPr>
          <a:xfrm>
            <a:off x="4643280" y="24289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ак история Дуни связана с библейской притчей о блудном сыне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Picture 3" descr="C:\Users\User\Desktop\6595a8fe5277.jpg"/>
          <p:cNvPicPr/>
          <p:nvPr/>
        </p:nvPicPr>
        <p:blipFill>
          <a:blip r:embed="rId1"/>
          <a:stretch/>
        </p:blipFill>
        <p:spPr>
          <a:xfrm>
            <a:off x="3571920" y="271476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ыл ли ошибкой побег Дуни из отцовского дома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Picture 2" descr="C:\Users\User\Desktop\2019773-259d0b9b2e071e84.jpg"/>
          <p:cNvPicPr/>
          <p:nvPr/>
        </p:nvPicPr>
        <p:blipFill>
          <a:blip r:embed="rId1"/>
          <a:stretch/>
        </p:blipFill>
        <p:spPr>
          <a:xfrm>
            <a:off x="2714760" y="3143160"/>
            <a:ext cx="5000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2" descr=""/>
          <p:cNvPicPr/>
          <p:nvPr/>
        </p:nvPicPr>
        <p:blipFill>
          <a:blip r:embed="rId1"/>
          <a:stretch/>
        </p:blipFill>
        <p:spPr>
          <a:xfrm>
            <a:off x="3571920" y="1500120"/>
            <a:ext cx="3259080" cy="4984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Arial"/>
              </a:rPr>
              <a:t>Тогда приходите на проект «Станционный смотритель, или История блудной доче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3492360" y="1484280"/>
            <a:ext cx="3311640" cy="5047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Рабочие групп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1785960" y="250020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бвинител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5867280" y="3286080"/>
            <a:ext cx="2592360" cy="25002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щитник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1" name="AutoShape 18"/>
          <p:cNvCxnSpPr>
            <a:stCxn id="178" idx="4"/>
            <a:endCxn id="179" idx="0"/>
          </p:cNvCxnSpPr>
          <p:nvPr/>
        </p:nvCxnSpPr>
        <p:spPr>
          <a:xfrm flipH="1">
            <a:off x="2963520" y="1989000"/>
            <a:ext cx="2185200" cy="5119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182" name="Line 19"/>
          <p:cNvSpPr/>
          <p:nvPr/>
        </p:nvSpPr>
        <p:spPr>
          <a:xfrm>
            <a:off x="5148360" y="1989000"/>
            <a:ext cx="1995480" cy="12970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ОБВИНИТЕЛИ      ЗАЩИТ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99760" y="856800"/>
            <a:ext cx="366876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текст повести А.С. Пушкина «Станционный смотритель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вечают на вопрос: «Какова цена ошибки Дуни»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библейскую притчу о блудном сы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21160" y="856800"/>
            <a:ext cx="367056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текст повести А.С. Пушкина «Станционный смотритель» и другие литературные произвед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библейскую притчу о блудном сы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вечают на вопрос: «Имела ли Дуня право на ошибку?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Результаты деятельности гру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63640" y="134136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бвинител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134136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щитник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763640" y="1844640"/>
            <a:ext cx="25923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ставляют обвинительную реч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шут эсс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отовят презентацию «Цена ошибки в мировом изобразительном искусстве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867280" y="1916280"/>
            <a:ext cx="2592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ставляют защищающую реч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шут эсс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отовят презентацию «Тема раскаяния в мировом изобразительном искусстве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285480"/>
            <a:ext cx="74916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a600"/>
                </a:solidFill>
                <a:latin typeface="Arial"/>
              </a:rPr>
              <a:t>Результат совместно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2" descr="jpg.jpeg"/>
          <p:cNvPicPr/>
          <p:nvPr/>
        </p:nvPicPr>
        <p:blipFill>
          <a:blip r:embed="rId1"/>
          <a:stretch/>
        </p:blipFill>
        <p:spPr>
          <a:xfrm>
            <a:off x="2352600" y="1494000"/>
            <a:ext cx="5724720" cy="494316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3206880" y="2743200"/>
            <a:ext cx="41576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5:08:57Z</dcterms:created>
  <dc:creator>UserNT</dc:creator>
  <dc:description/>
  <dc:language>en-US</dc:language>
  <cp:lastModifiedBy>User</cp:lastModifiedBy>
  <dcterms:modified xsi:type="dcterms:W3CDTF">2013-11-23T17:55:01Z</dcterms:modified>
  <cp:revision>34</cp:revision>
  <dc:subject/>
  <dc:title>Слайд 1</dc:title>
</cp:coreProperties>
</file>