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308-4FA8-46DD-9A7D-14C3FE86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B26-037D-48E4-A230-CAC8618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3D8-8BF6-4A3D-B7D4-B4604BE3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D2D-85A8-4C90-99CB-6BA257B9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AD9-A27A-4AB4-A9CA-0989CCDC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2F57-FF5E-44A3-932C-FEDA8B0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973D-B208-4464-BB58-FCAC361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89B3-8637-433C-ADA4-B4B5010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DC2-D8DC-49E8-9F01-71DE0C2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864-8AE6-45C1-8282-8613CC9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0A3C-00BF-4456-AD51-01695FF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C4C-6300-49CA-B113-07FCE1E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D9E-5165-436D-BE54-E443588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DA21-217E-4C7E-B852-BC45B8B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8409-4FE4-466C-AA59-AA980CA0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B6E-A84C-4DAC-A869-C7D30D21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2C4A-681A-4799-8194-F7FDFC8B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CDC-C794-4B25-94A3-19F0890C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DE9-19F0-4408-96E6-2B7422D1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465-CBDC-465B-A338-ED9D95CD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29E-8EC2-4CAC-AC4C-BF380D8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5FE-CDCF-4BDA-A11B-45FEE62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F0B-C98E-4760-AAF7-89ED5933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ED1-8392-4654-9F68-2B65111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0AF0-9BBF-48E3-8C83-C0444BD6FC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B80-36D9-44AC-8AA1-202EF51C096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9900"/>
                </a:solidFill>
                <a:latin typeface="Arial"/>
              </a:rPr>
              <a:t>Учебный проек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Станционный смотритель», или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История блудной дочери?…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читель русского языка и литерату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КОУ Добрятинская СОШ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уфарева Людмила Федоровн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2" descr="C:\Users\User\Desktop\1260446249_15.jpg"/>
          <p:cNvPicPr/>
          <p:nvPr/>
        </p:nvPicPr>
        <p:blipFill>
          <a:blip r:embed="rId1"/>
          <a:stretch/>
        </p:blipFill>
        <p:spPr>
          <a:xfrm>
            <a:off x="3571920" y="264312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360" y="213840"/>
            <a:ext cx="749160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Желаем всем творческих успехов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2" descr="857352361.jpg"/>
          <p:cNvPicPr/>
          <p:nvPr/>
        </p:nvPicPr>
        <p:blipFill>
          <a:blip r:embed="rId1"/>
          <a:stretch/>
        </p:blipFill>
        <p:spPr>
          <a:xfrm>
            <a:off x="2157480" y="1695600"/>
            <a:ext cx="5290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00"/>
                </a:solidFill>
                <a:latin typeface="Arial"/>
              </a:rPr>
              <a:t>Использованные источ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52400" y="15714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уня на могиле отц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6-tub-ru.yandex.net/i?id=55253947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Девушка с закрытыми глазами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4-tub-ru.yandex.net/i?id=434196580-51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Заповеди Моисея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452435368-0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Книг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3-tub-ru.yandex.net/i?id=29791504-24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ртинка «Возвращение блудного сына»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ttp://im5-tub-ru.yandex.net/i?id=334797252-17-72&amp;n=2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-357480"/>
            <a:ext cx="7667640" cy="24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Знаете ли вы, что такое грех и как мы расплачиваемся за содеянно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C:\Users\User\Desktop\89198325_4854181_1361.jpg"/>
          <p:cNvPicPr/>
          <p:nvPr/>
        </p:nvPicPr>
        <p:blipFill>
          <a:blip r:embed="rId1"/>
          <a:stretch/>
        </p:blipFill>
        <p:spPr>
          <a:xfrm>
            <a:off x="1714680" y="2143080"/>
            <a:ext cx="6929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ую заповедь нарушила героиня повести А.С.Пушкина «Станционный смотритель»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5" descr="C:\Users\User\Desktop\Moses.jpeg"/>
          <p:cNvPicPr/>
          <p:nvPr/>
        </p:nvPicPr>
        <p:blipFill>
          <a:blip r:embed="rId1"/>
          <a:stretch/>
        </p:blipFill>
        <p:spPr>
          <a:xfrm>
            <a:off x="4643280" y="242892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ак история Дуни связана с библейской притчей о блудном сыне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Picture 3" descr="C:\Users\User\Desktop\6595a8fe5277.jpg"/>
          <p:cNvPicPr/>
          <p:nvPr/>
        </p:nvPicPr>
        <p:blipFill>
          <a:blip r:embed="rId1"/>
          <a:stretch/>
        </p:blipFill>
        <p:spPr>
          <a:xfrm>
            <a:off x="3571920" y="27147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Вы хотите узна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ыл ли ошибкой побег Дуни из отцовского дома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2" descr="C:\Users\User\Desktop\2019773-259d0b9b2e071e84.jpg"/>
          <p:cNvPicPr/>
          <p:nvPr/>
        </p:nvPicPr>
        <p:blipFill>
          <a:blip r:embed="rId1"/>
          <a:stretch/>
        </p:blipFill>
        <p:spPr>
          <a:xfrm>
            <a:off x="2714760" y="3143160"/>
            <a:ext cx="5000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2" descr=""/>
          <p:cNvPicPr/>
          <p:nvPr/>
        </p:nvPicPr>
        <p:blipFill>
          <a:blip r:embed="rId1"/>
          <a:stretch/>
        </p:blipFill>
        <p:spPr>
          <a:xfrm>
            <a:off x="3571920" y="1500120"/>
            <a:ext cx="3259080" cy="4984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Тогда приходите на проект «Станционный смотритель, или История блудной доч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3492360" y="1484280"/>
            <a:ext cx="3311640" cy="5047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Рабочие групп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1785960" y="250020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5867280" y="3286080"/>
            <a:ext cx="2592360" cy="25002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1" name="AutoShape 18"/>
          <p:cNvCxnSpPr>
            <a:stCxn id="178" idx="4"/>
            <a:endCxn id="179" idx="0"/>
          </p:cNvCxnSpPr>
          <p:nvPr/>
        </p:nvCxnSpPr>
        <p:spPr>
          <a:xfrm flipH="1">
            <a:off x="2963520" y="1989000"/>
            <a:ext cx="2185200" cy="5119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182" name="Line 19"/>
          <p:cNvSpPr/>
          <p:nvPr/>
        </p:nvSpPr>
        <p:spPr>
          <a:xfrm>
            <a:off x="5148360" y="1989000"/>
            <a:ext cx="1995480" cy="1297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ОБВИНИТЕЛИ      ЗАЩИТ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99760" y="856800"/>
            <a:ext cx="36687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Какова цена ошибки Дуни»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21160" y="856800"/>
            <a:ext cx="367056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текст повести А.С. Пушкина «Станционный смотритель» и другие литературные произвед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сследуют библейскую притчу о блудном сы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вечают на вопрос: «Имела ли Дуня право на ошибку?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Результаты деятельности гру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6364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бвинител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134136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ащитник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763640" y="1844640"/>
            <a:ext cx="25923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обвинительн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Цена ошибки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867280" y="1916280"/>
            <a:ext cx="2592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ставляют защищающую речь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ишут эсс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отовят презентацию «Тема раскаяния в мировом изобразительном искусстве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285480"/>
            <a:ext cx="74916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a600"/>
                </a:solidFill>
                <a:latin typeface="Arial"/>
              </a:rPr>
              <a:t>Результат совместно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2" descr="jpg.jpeg"/>
          <p:cNvPicPr/>
          <p:nvPr/>
        </p:nvPicPr>
        <p:blipFill>
          <a:blip r:embed="rId1"/>
          <a:stretch/>
        </p:blipFill>
        <p:spPr>
          <a:xfrm>
            <a:off x="2352600" y="1494000"/>
            <a:ext cx="5724720" cy="494316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3206880" y="2743200"/>
            <a:ext cx="41576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5:08:57Z</dcterms:created>
  <dc:creator>UserNT</dc:creator>
  <dc:description/>
  <dc:language>en-US</dc:language>
  <cp:lastModifiedBy>User</cp:lastModifiedBy>
  <dcterms:modified xsi:type="dcterms:W3CDTF">2013-11-23T17:55:01Z</dcterms:modified>
  <cp:revision>34</cp:revision>
  <dc:subject/>
  <dc:title>Слайд 1</dc:title>
</cp:coreProperties>
</file>