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hammer.wav" ContentType="audio/x-wav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coin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8F2-A762-463C-816D-DE08063C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4D5-1C9D-421E-8367-72B3332B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17D6F-BBF7-4926-A119-4AF46A93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4B484-7FC5-4839-8F36-7A5C8A86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942FA-21A0-40EA-A710-E9DB307E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3D3C5-2FD5-43BB-B3FC-74E64158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80F96-0F3D-4C34-B5E3-9166BA6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500F5-1F27-4ABE-BAE1-F35C503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638E0-EDCD-4187-A44A-25515307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332AE-DA4B-4C07-8303-EF74A918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635B8-9C8D-4114-B864-151FF2CA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FEA4F-E17E-43C6-B93E-5C647891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3C33-B9DE-4186-AD97-EA61F13C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6479E-0C86-4A85-A1F4-DDDFAAE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2CDE7-874D-4AFC-AA47-3AB9F947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0E38C-CDA4-4ABD-B234-0E389BD4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69E0A-E90B-480B-B034-E3B94208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64AE8-EF3F-408A-B4A3-C6F5BF5E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E03A3-C272-421A-A836-95632F0A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CF235-0D4F-4ACC-A169-35E0D21B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335DB-D1BB-4267-AB25-7E469D99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4CD52-1752-41C4-9A28-2AC78B24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C475E-4BDD-4B22-B886-11BBAC9E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584-7A5D-4164-A185-333D8406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6C7C9-501D-4074-A8FE-A8B38A74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EA773-E714-41FF-87B5-A2F74059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111B9-1307-4C34-BF63-13FF30F0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F2839-7637-4A10-AC51-991DB40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451CB-CC8D-42EF-B467-9BB7F3D1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BB439-0149-4D9D-A128-4D872684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837B4-5F7F-4BAB-9381-7DEF59C3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8889D-C52E-4386-9BFD-ABFD878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7347D-9C6F-47DD-88A9-45A41F28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F3BDA-C3EB-4508-8F5F-B9735868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3473-E80B-4C16-B568-A43DDEB6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4EB33-23DC-4FEE-A8B0-34FE407D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21FB6-480F-4F37-8D7D-C25344F7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3398A-D8F5-4F75-BCD7-7773305A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4BDCE-BFC4-4CD1-A79A-A2006568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8E148-2EFB-4A52-970D-260BC3DD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23EE6-456F-4067-8661-E989B0B4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631BE-502A-4F02-B27C-2D01A5AE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E182E-4214-4D42-86DD-E1E6D3E0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63985-081B-4A2F-BDDD-342FEF70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FC51D-F34D-419B-8AF9-133F8BA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9381-27AC-4350-B23E-20A3CF3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05EFD-78C7-4023-AB14-4C1F5053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9EC87-47BF-4553-B127-17A7191B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10F75-EB68-4188-B872-0B51A912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67E87-8395-40BA-888A-780EED91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3A227-3CAB-40C7-9ADA-49CD3CB8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78B424-879C-4FFB-A517-E321C5FC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EDDC98-B76F-48E4-919B-54131930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256803-1A0A-455D-8FB3-7825C052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A51A42-1D81-4656-B9FF-CCE285F0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E07115-F299-4F67-8051-53BD7696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15DE-7568-4552-A514-4DAD0415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E50330-FB65-4C7B-900B-3D7D67B3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8337CE-5779-4BC9-AAAB-5C981A1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D70E8B-8486-4D2C-873B-8F4C38D5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EC97DE-8CFD-49B7-AA72-F7635BD4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15FD54-E8A8-49F1-BF18-F1E3ED91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F6929F-46C4-4A8D-B21A-5FDB5DA9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EA8EBE-5441-42A0-A5DE-3C6EF252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9DF3A-B5AF-47C3-BAFA-A078D0C9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E5B107-23B7-48C5-B179-0737C7AA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5B0DB-9010-4AC1-AD51-46269221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7A69-B7E2-4C9B-B1FC-6AD7C20E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9B7C1-EDFC-47DF-BC2D-5149C12E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2535A-E72E-482A-AF08-1A2E7AD2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43C8E-82F9-4F43-BE4C-CE554E6F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6C74D-29BC-44D2-BFAE-B76FE401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C0E32-56DB-461F-8447-CABFCB25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06A78-C661-4BBE-8A5A-35DBD4FA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FDC73-0325-4F21-A186-E075F3F3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AF296-2D1A-4BC2-A40B-A4C34AC5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32B17-4D82-468C-9C3A-D11E6059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3B4A-994E-4AD8-8AFB-D18F0C7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AAEF-70D9-4B52-A1D2-14FADC34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D0C1-52CF-41A1-AAAA-627B1790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2A3-519D-4E81-8069-5FE19E3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A3B8-21DD-4625-8F15-6265B01D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FA5E-14A7-489E-9723-4291B481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F765-ADF2-4529-8755-871E7C50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EFF8-C473-4DDC-B3C2-B5B137E2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002E-BB8A-46A0-90E0-E8AB9333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0814-2528-427B-B9F1-AE7DABD0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BBED5-D289-4824-9601-9485A1B1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6B39-BFE3-47B9-873A-5EDC1250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F127-960F-4575-A339-1F1EAD9B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66BA-449A-41F1-82C1-5F501331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DDA-F4E6-4D6C-A44F-57894715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468A-7B72-4B96-8103-11F651AB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22E0-25A4-485A-B364-CA2873A1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B9A0-DA7C-46E6-BE6D-870AEA1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3A73-7508-41C2-A3EF-6C903A50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70A8-AFAA-49F3-A06E-52CE60BE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2226-AD24-4A32-A3F5-8968BE0F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21D1-6F71-434A-B95B-0B678C47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AAE52-C83E-4F0F-B911-9E0DF883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6341C-8626-48C1-8B4A-FC0ADE8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97E23-2A78-4834-92E5-A9B61608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A5C-8A5B-4A75-9F0E-B3C3A72E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46A1C-27A9-4409-B238-0E8A0F7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D44A2-5410-4568-88AD-06FF1EF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32949-8A9D-4E49-9EBD-3619711F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E30CA-B1F9-4F24-B4FD-39338EB2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6CF59-878F-43AA-B3C2-D107529B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B2E68-E4DF-4713-A802-D654F86C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1BA4BA-23F3-4161-858F-20D6FD0D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AF024-7ACF-4CEA-AF81-BB727CD7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31807-7822-478A-9361-295BFD26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8561-8CD7-4409-BB97-9FBA2104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AA5-4A21-45C3-BB1B-05ECDB3F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2A1FF-B93C-4A80-BAA4-4AB5F19F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6BD0-06E4-4FDE-84C3-F0326F8D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BA6ED-F459-4E44-9214-8DFDC710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AEC5A-F778-4B6C-A6F8-C4201623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CBE75-A5F9-40CB-9C86-C14CF0A8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92709-60EC-40D3-B6CD-D9786976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1D56-D680-424B-BAC3-AD911FD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3AD82-AE9E-4625-9F59-356C5F4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9FA5-1EBE-4316-87C1-DBEBF156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9689-D3AA-481C-AD32-BF624677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B81-CD10-4EA0-99AD-5A26016D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65D5-E603-4581-AF77-C8857BAC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CB101-04B4-4914-90FA-43A3DAD4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6C65-8E3C-4C71-933D-8035CF0A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734EB-E86E-4A4C-A992-9A3904E2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5DBD-0F0C-43F6-B414-FC63BB0C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614AC-439C-4FE2-A052-09D8DF95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8191F-8245-4FA3-BF5E-A232511E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D4809-B06B-4134-BAC7-19D8B56C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B8ED-DAE6-4ADD-BD3E-EBF80363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001C4-0D76-49F7-8DC8-FF0AD21B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FE1-7A68-44C4-9F39-71F6BEE9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5CE39-3D35-466B-A92C-A48F3257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1E0C5-09B5-4B5F-B83D-2C6B912E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7993F-8EB8-4FF4-9FA1-5ECF522B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9387-F30B-4F34-BC38-13F95DFE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36919-3B7C-40D7-A34E-E6BDB50A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5DD7-B481-4C5C-B040-A25DFC58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A429E-F80B-4B60-A463-2E34BF60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24DA3-EE35-46D0-BE6E-12B6A533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FDA7D-B9FC-4155-8447-246B2B2E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5A70D-4BA2-46F5-A430-54C2599F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47C-9F34-443F-8567-BFCC237F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60859-2220-4B96-BFAB-523B614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DA4EF-0A36-4C65-9119-DC955620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48120-931B-41A9-87BD-364663A8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3BB9-6A35-4768-9C1E-D1DCBA34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AF52-EDCA-40B0-A4DD-4A3DF990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38D66-B131-4E4F-94AB-41F7250C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767A0-17FC-4627-A918-1BF5E118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6DD12-2F6A-402B-9590-5AD4003B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88F5F-7E8C-47D0-BC6A-9ADD2514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CF1AF-2663-4F35-992D-AF506E90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443-BBBA-46B7-9DD1-29EECFA9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0EC9C-CD07-46D6-912B-66F5EA8C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14F5C-E8B5-4DC1-B7F0-B8870AE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FA56A-83AA-42D9-A235-C868B4CF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0BDB4-11D9-49BD-81EF-C968380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FB7B5-62E5-4CC8-A5B7-2626C650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35D08-1A50-4D0C-8A37-26885DA8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761C9-01D1-4113-A447-47BC3072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37FB7-C8B8-4BB9-B106-BEEE618B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E1A8F-954A-4692-A0B1-BDA4110B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1B096-6057-4BE8-B6E9-AEEFF7A7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7D60-CC2D-4A93-8070-F28D679D7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545E-CD2B-48D3-BAC9-4FF905B66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EBC5-9376-4381-880F-262F5211A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5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6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8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7270-8B88-4E1E-87F8-02030EBB4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5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A437-80DD-4296-8DBA-3F2A5FB4EE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80CA-FA2A-4A79-9661-6DF55A2E6C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7501-5DCD-4D16-AE12-DA8479F5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F4DF-CE60-4537-AD2E-A58E7752DB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8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E6DC-72DD-4107-BA32-4C231CF0F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3C3B-0244-471A-81D1-2AE64B9AE4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24FD-F3AE-43ED-B5D2-DD7F8DD433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5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2902-42D6-46B7-BAB2-03A5A8711A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1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96B8-3EEA-4C7D-948F-5B0FD98791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4B38-74C7-4022-8F22-62F49BE5E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оединения кост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1187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к-презентация по би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3313080" cy="290484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297000" cy="3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5742" fill="hold"/>
                                        <p:tgtEl>
                                          <p:spTgt spid="8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059280" y="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076720" y="2565360"/>
            <a:ext cx="352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– надкост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– компактн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– суставная сум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– синовиальная обол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– гиалиновый хря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– полость, содержащая суставную жидк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– губчат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179280" y="-27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подвижного суста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170240" cy="31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9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059280" y="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76720" y="2565360"/>
            <a:ext cx="352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– надкост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– компактн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– суставная сум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– синовиальная обол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– гиалиновый хря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– полость, содержащая суставную жидк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– губчат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79280" y="-27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подвижного суста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4170240" cy="312732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3348000" y="292428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70836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203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0836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42920" y="3213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84360" y="450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55640" y="40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7056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771280" y="3213000"/>
            <a:ext cx="100836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187280" y="3789360"/>
            <a:ext cx="1008360" cy="71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2700000" y="2997360"/>
            <a:ext cx="57636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971640" y="4221000"/>
            <a:ext cx="100800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971640" y="4581000"/>
            <a:ext cx="108108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59280" y="4221000"/>
            <a:ext cx="79200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187280" y="3357720"/>
            <a:ext cx="79236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9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84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. Ф. Лесгафт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 выдающийся российский учёный, физиолог и теоретик спорта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3708360" y="2924280"/>
            <a:ext cx="46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Костная система человеческого организма устроена таким образом, что при наибольшей лёгкости она представляет наибольшую крепость  и всего лучше в состоянии противодействовать влиянию толчка и сотрясен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108000" y="2565360"/>
            <a:ext cx="29462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9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язи с тремя основными функциями скелета в нём наблюдается три типа соединения костей: неподвижное, полуподвижное и подвиж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 соединения костей зависит от их фун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ри движении суставы щёлкают – значит, не хватает суставной жид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е на до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параграф 12 до ко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торить особенности  строения мышечных тканей по параграфу 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рческое задание: подготовить сообщения, рисунки по темам «Нарушение осанки», «Профилактика плоскостопия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к итоговому уроку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3492000" y="3789000"/>
            <a:ext cx="302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Соединение костей бывает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подвиж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полуподвижное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движное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скользящ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8000" y="177336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Самый большой объём движения в суставе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локтево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плечево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тазобедренно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фалангах паль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948360" y="191628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32000" y="1844640"/>
            <a:ext cx="32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В состав кости входят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органические веществ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органические и минеральные веществ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минеральные ве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588000" y="3789360"/>
            <a:ext cx="23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. Кость растёт в ширину за счёт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надкостницы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хрящ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костного мозг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клеток губчатого ве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50920" y="3789360"/>
            <a:ext cx="34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. Костный мозг выполняет следующие функции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красный – кроветворения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жёлтый – запас питательных веществ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красный – запас питательных веществ и кроветворения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жёлтый – укрепляет к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79280" y="189000"/>
            <a:ext cx="75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В кости имеется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полость + надкостниц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губчатое вещество + полость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губчатое вещество + полость + надкостниц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основное и губчатое вещество + полость + надкостница + хря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264360" y="1844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Кости бывают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трубчатые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плоские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трубчатые и плоские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длинные и коротк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7020000" y="333360"/>
            <a:ext cx="96192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700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9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30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6083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55640" y="1700280"/>
            <a:ext cx="2448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б, 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в, 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а, 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а, б, 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427640" y="2924280"/>
            <a:ext cx="4392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5» - всё верно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4» - верно 5-6 вопросов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3» - 4 вопрос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2» - 3 и меньше вопро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356000" y="227664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итерии оцен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067280" y="29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067280" y="3500280"/>
            <a:ext cx="360360" cy="36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067280" y="4149720"/>
            <a:ext cx="360360" cy="358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7280" y="486900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500"/>
                            </p:stCondLst>
                            <p:childTnLst>
                              <p:par>
                                <p:cTn id="3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500"/>
                            </p:stCondLst>
                            <p:childTnLst>
                              <p:par>
                                <p:cTn id="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блемный вопрос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6264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Спарте детей, у которых голова была больше, чем «отверстие в рай», сбрасывали с крепостной стены. Можно ли было спасти ребёнка, изменив ему размер голов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2881080" cy="216036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hammer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8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а урок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Выяснить, как соединяются между собой кости в скелете и в чём проявляется взаимосвязь строения и функции этих соеди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4427640" y="39337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5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5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771280" y="1125360"/>
            <a:ext cx="57452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лан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276360" y="2781360"/>
            <a:ext cx="5483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ипы соединения кос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роение суста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нообразие сустав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243972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800"/>
                            </p:stCondLst>
                            <p:childTnLst>
                              <p:par>
                                <p:cTn id="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600"/>
                            </p:stCondLst>
                            <p:childTnLst>
                              <p:par>
                                <p:cTn id="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4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Типы соединения костей скеле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рерывное (неподвиж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прерывное (полуподвиж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рывное (подвижное) - суст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епрерывное соединение костей скеле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растание костей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например, срастание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азовых костей в единую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ость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Швы – многочисленные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ыступы одной кости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ходят в углубления другой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например, соединение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остей череп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2320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лупрерывное соединение костей скелета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ости соединяются друг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 другом хрящевыми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дисками, внутри которых находится полость. Так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единены между собой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позвонки и кости таз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7236000" y="981000"/>
            <a:ext cx="88884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ерывное соединение костей скелета - суста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уются между суставными поверхностями костей.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состав сустава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ходят суставные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верхности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суставная капсула,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уставная полость и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уставная жидк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6434280" y="2276640"/>
            <a:ext cx="11649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устав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дноосные – в этих суставах возможно движение только в одной плоскости (сгибание и разгибание). Например, голеностопный суста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вуосные – кроме движения в одной плоскости возможны движения в плоскости, перпендикулярной первой. Например, лучезапястный суста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рёхосные – кроме сгибания-разгибания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ведения – приведения, возможно также вращение. Например, плечевой и тазобедренный сустав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1:35:21Z</dcterms:created>
  <dc:creator>User</dc:creator>
  <dc:description/>
  <dc:language>en-US</dc:language>
  <cp:lastModifiedBy>User</cp:lastModifiedBy>
  <dcterms:modified xsi:type="dcterms:W3CDTF">2006-11-05T22:42:07Z</dcterms:modified>
  <cp:revision>9</cp:revision>
  <dc:subject/>
  <dc:title>Соединения костей</dc:title>
</cp:coreProperties>
</file>