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hammer.wav" ContentType="audio/x-wav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coin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08C7-CA6B-4FBD-8B1C-7C35E138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7F38-4BEF-4E76-9DC4-A34D6836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45A24-4B78-46BC-ABFB-C2BD97B5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7EF98-B449-40EB-8578-BBC5C482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8B759-765E-4A20-B8BE-21A963F0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40080-AD93-4FAA-A1E2-1FD739D0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22B44-A72E-4C6B-B0A9-C47DAD16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52489-2BB8-4238-9DE2-821E32D0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C20B7-A780-4677-B9FF-349C32BB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B504A-8129-454F-8E42-B730AACD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F8022-7087-45CD-8532-082BAD9B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033B5-E62C-401D-80C7-77E0AF4A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909-BD12-47E4-A384-D34D1C58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55BB9-3DB4-41D6-8D71-5143633A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E5E23-9D0E-41BB-B159-917B5F26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1A0FD-EEC9-4518-9895-2F6335AF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A79BE-BB23-4CEC-ABAD-05775586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79071-D6F0-44A7-9813-6942CD26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656B0-31F9-4FAA-86DA-4F92F2FB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06014-B1DB-4B7B-B7CA-D97ACB63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CC9A1-BB07-4733-AC8E-EECF2E68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FAFB6-6112-4843-B2C1-3B7727F9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5AF1C-ACDC-4967-BD4D-1AD21AE1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D78-AAF0-44DB-883B-1291558A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343B6-BC83-43D0-8D6B-08ECAED4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155C1-08C4-44A1-BCF4-32E974D4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D944F-A18B-4202-8776-A2F68F69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595D4-221D-41CD-87CC-C7EEA8DF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4A161-FD4D-451F-A64A-92351EFA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92CD1-7FC8-4EBD-B022-B1AC69AD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C9CF3-BAAB-4161-9127-0B68C3CD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E059C-1F3B-4F79-8FE8-53FD4467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90C86-D326-4BD4-8FBE-BE4605A8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720E4-47BB-420A-AF44-229ACAB4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E4C3-119F-4981-9EB2-2657098B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54C3F-0207-4237-A165-DEA7AB16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8B1CF-B447-4FE7-AFF3-79BD23C9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A05BF-DF8D-495F-BCF6-84F15181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BFEF7-6624-4EBB-9162-05D49CD1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6AA4F-AD99-4850-83CE-CD038091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9B493-9215-4BC7-B132-13C58E0F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8C8C7-111F-49A5-84BB-BFEE3FAC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51A1B-00E8-4674-931C-06C9D67A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EB4B0-0F9E-4432-BC1A-02A49D9C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9CCEA-1B31-4681-9009-142B849E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9739-BA94-4458-BD59-A2756880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164E2-448D-4A2A-AF7C-2E96042E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DD4A6-E263-4B55-B431-18BC271B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58BDE-F522-4F9C-AB90-1174DED7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4D980-ACD4-4252-9E67-62C8C48D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5E6B4-DA8C-41F6-87AD-689FC4C2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A1990E-A129-4C92-B3E4-F9AEE6B2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93D9BD-3DC1-44B8-AB7E-CA3E71AF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16CE0D-C604-44FA-8114-DF25B59A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7C703D-E5CE-48F5-8C19-3E2913E6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C9B49D-7464-4AC0-ABCB-4FB76E28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9F83-F17C-4C0D-9785-F810BE47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B88EAC-8907-4436-9F8A-B7B2C90E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6D55C2-417C-4CDA-9056-191630D9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FECE55-BAB0-4D8F-BA64-785C06AE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2724B6-BDD0-4ADC-B476-F8C1C613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5BD7B4-2ADE-495C-9DF7-F07DF363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31BD50-966C-4F76-A691-79E479CC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D16E91-F3A1-4AF1-A468-CFA5D37E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852472-3966-4CDC-A708-56FE1DCF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2F4A81-B2C9-4164-A602-2ED842EC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356BAB-BD2B-45EC-BE03-FDC27F42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99BE-DC7E-46BE-800B-4A4E21C1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DBEB2-D93F-48FB-88B3-6E68CD31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1BAEF7-8F57-4054-A91B-29B045E9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C4B063-29C0-4DE4-AB1F-6CF277AE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B9D19F-5928-43FC-B2FD-8A37978F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B54CD3-FDEA-41A3-8688-4B5E4070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17608B-236A-437C-A090-85F4FD54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BFF53-BCE0-4828-B86B-D0DD9CFA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FE4DCE-50DA-492A-82A8-F6E13DA6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D264D7-BEAC-4162-B8BD-B83410F7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C872-82F2-4537-9E05-9D4FC774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C107-1A41-4FEE-AA56-5EE72AA2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FC01-A597-4054-A083-AB2AEC23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72F2-0C60-4746-BC03-A590C830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1068-8E7D-4D8D-9B07-5FB0AB60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8244-CD48-43A7-8E40-2546C386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CAA6-583B-40F5-AC08-A854A881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3A44-33D1-45DF-A125-74CE1DE5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2014-EDD0-43BE-8715-78CBBFCA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772A7-D214-4BDF-91FB-34A67359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D4A2C-10C4-44A1-9D1D-F247B340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08BD5-3D2F-469C-A315-5EF53122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C7575-0224-413F-ADAE-79D59FB2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34524-C2FF-46D3-8BE7-C44D0180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09B-9BA2-4F57-A032-E99DE4EE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8814E-BCA4-44F1-A973-D947B79B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503DA-B992-4B33-B5DB-D8A8D5BB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B771D-C494-401E-8ECB-79314A1D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C4526-9A4E-4154-B70E-3318590E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65240-F362-49FF-B73E-FE99EE5F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AE031-3F24-43D1-A1C9-4A311082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68A58-7557-4876-88B3-8B63C5DE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C927E5-D9DF-4CF1-9209-1F16E20D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970562-F457-4DB6-8BA7-F5DE6861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1459B0-BE21-469A-A706-AD74DDD5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7976-CEF8-4A66-8956-92591C8A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051273-622E-4759-AA12-44348CD8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2BFF02-A765-4917-9F48-83291B75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DB91BE-6E3F-4FCA-A074-5BB41839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A06588-B3A9-49DD-A6EA-CE117657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0C11C-FBCC-40A4-BBA6-802FE355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3D1775-E156-4E3F-9211-04DB9E58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A3C9CB-DB80-486E-A762-396BD56F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8D432B-B1E2-4249-A9B7-19E4D85E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B6635-E26A-40A1-9E0A-D1400BAE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E30C9-474D-49B0-8EE5-5B6BE2CA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7E81-0770-4897-A52C-CEECDB8D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FBC2E-927B-46B2-BD2F-6A8C804B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E183E-5E85-4593-8428-E2DA3F25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68E4B-AEFF-4C73-AFFC-35762D7F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64CA0-BAC4-44F3-9F32-9184B7AD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FC10A-DB26-4848-98A7-CDED071E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40A36-27E5-43DD-9435-7BBC979D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EA9D0-4B9A-418A-AEBA-39AFF32A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B85FB-096D-496B-AD82-8AE782E2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4BA3C-E5C9-4710-A4D7-D46BF259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8FB4D-E307-42A3-B8B8-4E4E4042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E2FB-C716-4B7B-A337-6277F10F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B8D96-06AE-423F-994C-4034BC84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AA1BC-9988-4F97-8348-1503F24F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F1A39-0E08-4943-A8C6-41421479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CF59E-D6EF-4E12-AEBA-AF20E499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6539D-F358-4127-89F7-CEE19CEF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66CE3-8BAE-41BC-A6D1-0A6460AE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BE24B-42F5-4999-AEAC-3A228CB8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D7D53-43B4-47D4-B008-9E098479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FD52B-4974-4966-B933-FE24F146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44A6B-1369-4930-B049-34CB0C27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DE9-46B0-4458-A87D-64F45035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D2DCC-37EC-430F-B6CC-CF22FA72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D2D22-6B12-4F2E-A683-BFFD0537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98D6F-50C1-4386-AC1E-6E9D2876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F076F-EB1F-4BD6-BA6B-42545AA8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D935F-DF23-4C52-B0C1-90241E96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0402D-7F5E-4CBB-8F52-D242395E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55D07-3BDD-45A9-A0F1-8BD0FB18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5E135-DD17-407B-BCBB-B3E14CA3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2361C-4996-46FA-9186-14C2B67B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49B8D-BA0F-4A83-A342-120754A8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AB3A-64C6-4159-9DE2-85E8F1DC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A324A-CB38-41FF-A0F1-76699E93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863F5-9B7E-405D-9403-C6E28798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7B30E-4F18-42FF-8AE7-5F16ADD5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347E7-BAFB-4164-BC8B-6783ECE0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CFC97-224A-4AEA-AF92-9FA0185A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5986E-4C14-4DC0-A1B3-BE326208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87514-F0ED-444E-88D4-70B144C6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8A835-C52E-44F2-BED2-418A87FB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0379A-ACFC-48CA-BCA2-909AD83F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AA404-2B51-42C8-B79C-AFB45274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411B-53EF-42FD-AE24-EC01CA52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349D5-3175-48AE-AA0B-EF360E43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C192A-7FD7-4513-BE5E-45DD53E5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D0698-79BB-4CA4-8C77-B3B0BBF2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ABEEF-3E99-4F39-8350-408477AD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A9EFA-6C02-45B5-A903-69F65841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A7396-F54F-4D22-909A-508778B7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083EB-D240-47D5-9C2C-F4387AA3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DE544-B23D-4EEE-9D53-C5BC80EB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ECF0E-ADB8-4BE6-8E79-B3201551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90DB1-F49E-4BD3-87B7-DE0300C4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2560-89EE-4EB2-B8E3-C6BC68549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A2DA-B6F0-4C9F-9433-ED175CEBF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4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5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8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0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DC5A-C1F1-4FFF-AF5E-182B6902F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5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5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6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8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0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07CE-2E00-4A68-93A9-AC9AD70EE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5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A6B6-358F-4EFB-B6D9-F54FF70947D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2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C5A9-98BC-4DA6-A52F-644F674A610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F86A-CC2E-46EF-BA54-98EC6E22B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2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2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5AA5-487F-4503-840A-2BDD0108FB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8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39C5-EF35-4871-AB64-F6D5616437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4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D345-5214-4085-9822-F33AEEF033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9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D238-5EEF-40FB-B637-026E938E97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5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41FF-1EBC-458E-A0AD-2004E7FB948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1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A0FB-FEF2-4BD4-B0E1-70FE858E25C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7168-1BEC-4A5B-80F1-7F20A4553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Соединения косте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1187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рок-презентация по би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2987640" y="1413000"/>
            <a:ext cx="3313080" cy="290484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297000" cy="3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75742" fill="hold"/>
                                        <p:tgtEl>
                                          <p:spTgt spid="8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3059280" y="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076720" y="2565360"/>
            <a:ext cx="352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– надкостн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– компактное ве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– суставная сум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– синовиальная обол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– гиалиновый хря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– полость, содержащая суставную жидк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– губчатое ве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179280" y="-27000"/>
            <a:ext cx="61246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оение подвижного сустав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4170240" cy="312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7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/>
                                        <p:tgtEl>
                                          <p:spTgt spid="9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3059280" y="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76720" y="2565360"/>
            <a:ext cx="352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– надкостн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– компактное ве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– суставная сум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– синовиальная обол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– гиалиновый хря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– полость, содержащая суставную жидк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– губчатое ве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179280" y="-27000"/>
            <a:ext cx="61246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оение подвижного сустав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4170240" cy="312732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3348000" y="292428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708360" y="299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20364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708360" y="42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42920" y="3213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84360" y="4508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55640" y="400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7056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2771280" y="3213000"/>
            <a:ext cx="1008360" cy="71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187280" y="3789360"/>
            <a:ext cx="1008360" cy="71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2700000" y="2997360"/>
            <a:ext cx="576360" cy="72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971640" y="4221000"/>
            <a:ext cx="1008000" cy="21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971640" y="4581000"/>
            <a:ext cx="1081080" cy="71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59280" y="4221000"/>
            <a:ext cx="79200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187280" y="3357720"/>
            <a:ext cx="792360" cy="36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7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770" fill="hold"/>
                                        <p:tgtEl>
                                          <p:spTgt spid="9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8487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. Ф. Лесгафт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( выдающийся российский учёный, физиолог и теоретик спорта)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3708360" y="2924280"/>
            <a:ext cx="46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Костная система человеческого организма устроена таким образом, что при наибольшей лёгкости она представляет наибольшую крепость  и всего лучше в состоянии противодействовать влиянию толчка и сотрясени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>
            <a:off x="108000" y="2565360"/>
            <a:ext cx="294624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9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вязи с тремя основными функциями скелета в нём наблюдается три типа соединения костей: неподвижное, полуподвижное и подвижн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особ соединения костей зависит от их функ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при движении суставы щёлкают – значит, не хватает суставной жидк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ние на дом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ить параграф 12 до кон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торить особенности  строения мышечных тканей по параграфу 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ворческое задание: подготовить сообщения, рисунки по темам «Нарушение осанки», «Профилактика плоскостопия»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к итоговому уроку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2000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/>
          </p:nvPr>
        </p:nvSpPr>
        <p:spPr>
          <a:xfrm>
            <a:off x="3492000" y="3789000"/>
            <a:ext cx="3025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Соединение костей бывает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подвижно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полуподвижное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подвижное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) скользящ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8000" y="1773360"/>
            <a:ext cx="33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Самый большой объём движения в суставе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локтевом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) плечевом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) тазобедренном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) фалангах пальц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948360" y="191628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32000" y="1844640"/>
            <a:ext cx="32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В состав кости входят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органические веществ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) органические и минеральные веществ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) минеральные вещ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588000" y="3789360"/>
            <a:ext cx="23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. Кость растёт в ширину за счёт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надкостницы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) хрящ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) костного мозг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) клеток губчатого вещ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50920" y="3789360"/>
            <a:ext cx="345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. Костный мозг выполняет следующие функции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красный – кроветворения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) жёлтый – запас питательных веществ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) красный – запас питательных веществ и кроветворения;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) жёлтый – укрепляет к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79280" y="189000"/>
            <a:ext cx="75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В кости имеется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полость + надкостниц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) губчатое вещество + полость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) губчатое вещество + полость + надкостниц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) основное и губчатое вещество + полость + надкостница + хрящ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264360" y="184464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Кости бывают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трубчатые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) плоские;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) трубчатые и плоские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) длинные и коротк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7020000" y="333360"/>
            <a:ext cx="96192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Те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700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1" fill="hold"/>
                                        <p:tgtEl>
                                          <p:spTgt spid="9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3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000"/>
                            </p:stCondLst>
                            <p:childTnLst>
                              <p:par>
                                <p:cTn id="3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3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300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3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460836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себ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55640" y="1700280"/>
            <a:ext cx="2448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б, 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б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в, г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а, б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а, б, 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427640" y="2924280"/>
            <a:ext cx="43923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ценка «5» - всё верно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ценка «4» - верно 5-6 вопросов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ценка «3» - 4 вопроса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ценка «2» - 3 и меньше вопро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356000" y="227664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итерии оцен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067280" y="29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067280" y="3500280"/>
            <a:ext cx="360360" cy="36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067280" y="4149720"/>
            <a:ext cx="360360" cy="358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067280" y="4869000"/>
            <a:ext cx="360360" cy="358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8500"/>
                            </p:stCondLst>
                            <p:childTnLst>
                              <p:par>
                                <p:cTn id="3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9500"/>
                            </p:stCondLst>
                            <p:childTnLst>
                              <p:par>
                                <p:cTn id="3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облемный вопрос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6264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Спарте детей, у которых голова была больше, чем «отверстие в рай», сбрасывали с крепостной стены. Можно ли было спасти ребёнка, изменив ему размер головы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1"/>
          <a:stretch/>
        </p:blipFill>
        <p:spPr>
          <a:xfrm>
            <a:off x="5651640" y="4365720"/>
            <a:ext cx="2881080" cy="216036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3" name="hammer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8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дача урока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Выяснить, как соединяются между собой кости в скелете и в чём проявляется взаимосвязь строения и функции этих соедин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4427640" y="393372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50"/>
                            </p:stCondLst>
                            <p:childTnLst>
                              <p:par>
                                <p:cTn id="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5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771280" y="1125360"/>
            <a:ext cx="574524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лан уро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276360" y="2781360"/>
            <a:ext cx="54831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ипы соединения кост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троение суста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нообразие сустав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2439720" cy="32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800"/>
                            </p:stCondLst>
                            <p:childTnLst>
                              <p:par>
                                <p:cTn id="7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2600"/>
                            </p:stCondLst>
                            <p:childTnLst>
                              <p:par>
                                <p:cTn id="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4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Типы соединения костей скеле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прерывное (неподвижно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прерывное (полуподвижно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рывное (подвижное) - суста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Непрерывное соединение костей скелет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растание костей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например, срастание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тазовых костей в единую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кость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Швы – многочисленные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ыступы одной кости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ходят в углубления другой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например, соединение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костей черепа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"/>
          <a:stretch/>
        </p:blipFill>
        <p:spPr>
          <a:xfrm>
            <a:off x="6300720" y="400536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2"/>
          <a:stretch/>
        </p:blipFill>
        <p:spPr>
          <a:xfrm>
            <a:off x="6227640" y="1557360"/>
            <a:ext cx="223200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олупрерывное соединение костей скелета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ости соединяются друг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 другом хрящевыми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дисками, внутри которых находится полость. Так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оединены между собой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позвонки и кости таз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7236000" y="981000"/>
            <a:ext cx="88884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рерывное соединение костей скелета - суста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разуются между суставными поверхностями костей.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 состав сустава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ходят суставные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верхности,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суставная капсула,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уставная полость и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уставная жидк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6434280" y="2276640"/>
            <a:ext cx="116496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уставы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дноосные – в этих суставах возможно движение только в одной плоскости (сгибание и разгибание). Например, голеностопный суста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Двуосные – кроме движения в одной плоскости возможны движения в плоскости, перпендикулярной первой. Например, лучезапястный суста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рёхосные – кроме сгибания-разгибания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тведения – приведения, возможно также вращение. Например, плечевой и тазобедренный сустав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1:35:21Z</dcterms:created>
  <dc:creator>User</dc:creator>
  <dc:description/>
  <dc:language>en-US</dc:language>
  <cp:lastModifiedBy>User</cp:lastModifiedBy>
  <dcterms:modified xsi:type="dcterms:W3CDTF">2006-11-05T22:42:07Z</dcterms:modified>
  <cp:revision>9</cp:revision>
  <dc:subject/>
  <dc:title>Соединения костей</dc:title>
</cp:coreProperties>
</file>