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hammer.wav" ContentType="audio/x-wav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coin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E3A7-3E47-4A98-BD74-373ED607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4AA-C0A1-4F90-81C8-0D7C49C5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EAB60-F486-4AA6-B238-2C7DCCC3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96D4F-987E-4049-B6E0-E73E6EF6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FFF0B-744A-438D-8D05-0E9D28DB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972A6-1F7A-4E7C-9ED1-01D8F513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EF617-A5A5-4780-A5FD-0CAB6EFF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0673F-03CA-4D93-BE25-CC293E6E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2074C-5E76-4476-A4C3-71472C44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6C8A4-9023-42BC-AE18-E53A027A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44FFA-A944-4124-8AE2-B3509A1C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6FB7C-925D-47BD-AFA3-3528CF4E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614-7869-4CE6-B590-3FFFB2EC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1DB74-C613-4A4F-8687-74205A6F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B4DDD-8958-4862-BE28-B4F5021B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0B0FC-B128-465F-BE68-C5DC89AD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81D00-EC11-4140-A433-A4FA4F36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A1900-0522-47B5-8A95-A093C72F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2053C-69C7-436D-9BEE-C15FF769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65DEA-6BFD-4AA2-AEDB-539E69DA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A4253-9DD0-4731-9BD1-092771E3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0B1CE-DBF2-4C29-BA11-7C30D4C1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E24D4-8BB0-4A96-A0CB-BE515668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FF8-64FE-40FF-BC2F-F1744958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79A20-A417-431E-B2D6-05C0E791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F0451-E3EE-4DE6-B104-09B3EE99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8C74C-CF6A-496E-A1EA-234ACEF6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34F98-3865-4FA1-A020-0D52BFEA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8CE0C-B92A-4D6C-8F55-1E4FEDA5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D3FED-EA7D-48D2-B5F8-ED394F00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EB2F7-3041-49DA-AC24-71DCF337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E6D5A-03E2-47B0-BFA9-735FDDB0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A692E-C94D-49FE-893D-691D4D8D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E0233-C64F-4BCC-840B-566F10AD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4B6E-3BE1-464E-A5FD-FB23A081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698C1-1797-4155-B9C2-7013F998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BDCEC-7946-4402-8C6D-D621ED77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FE184-09E0-4CCB-A40B-E3A28A34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70164-66F1-4299-B025-EEC80CF3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C1E4E-1E1C-49BE-B01F-B55911CF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1897F-CCC5-4538-80FC-ABCF571E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0757E-B635-4332-A24B-DA22771C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634DE-7F38-42D6-A64A-9D8A1567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04A66-C0EC-4AB3-9F16-6B282E9C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D897E-7551-41B7-ABF5-0B81E562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C487-7A04-4FCF-AB49-174D5A7E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9BE4D-9D21-44E1-BDED-F4BCFE3B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D0DDE-BA3B-4990-BED0-34546A2D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E9930-88FF-4429-A7A7-EB780777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C371C-B9CF-4246-91BD-0B36D43E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F7B53-1797-415B-8C3A-5342E26C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69AE63-BF52-4314-9F38-A1020D41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89971E-C91E-4C2A-A44E-15086A79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C366EA-20B9-4B5C-89E7-6BA61581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88A30F-B2D9-4708-92E1-1325722C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5B015E-C12F-4B2F-ABF3-295D0647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7F64-F493-40E7-81AE-EB70DFC6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A62719-9A49-4782-A7F4-F09C19B2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4A5D8D-13AD-4E5C-AA93-D3342DB8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41EE61-A32F-48A2-9DBF-807573FC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358D3B-999B-4667-9A7B-A3B8ADA5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3FEC3E-9661-4D1D-BFC3-259F9DE3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400C99-C2EE-4EF4-AB26-D243BE85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C6EE78-7DCB-4FC5-8D8C-6A709CB4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0565D6-22C8-44AD-9B2A-608A4872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FC775-D427-4CFE-B09A-E5AD6C27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C4BF18-CE02-46E4-BAF7-FD688254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FC8F-2C76-48BA-99E8-0ECA9286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20838E-5502-4607-86F8-8FD56F56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CACB6-02DB-4769-9992-00E68D68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35A76C-1DB7-43F8-BA25-C5C144AF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E9DE54-4258-4625-9B87-ADF95164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DA91F9-D885-43FF-B3F3-4F593BED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73F1B0-3AEB-481B-8285-578F437A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233198-8EEB-4A90-8F1E-C8944914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48BBB-3110-4BA8-BABF-019D503D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197428-D119-409E-AB04-28899E1A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305F-5C9A-46AD-A71E-F0F6C36D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98B6-2405-429A-AF40-315DB365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0BEB-D821-48C6-9165-93794059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1A4F-3777-4BBF-8CE9-4B8161BB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A4FC-B0A8-40F0-A8AC-4E49E91F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7563-7606-481C-8662-0326779F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E6A1-DB05-46B9-A9CD-EE8F309F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A36C-86AA-4353-8380-ED7CA455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F502-36AC-4F60-9D9B-A1DD179E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9DCAF-3E42-49C3-9BB1-455334B2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A2DA4-9BD3-40A8-A164-3B9EC29E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026E7-E7B8-450E-B287-3AAF2364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63DEC-C074-4E3F-BB56-26ABAF25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33F7E-E3B7-4849-B222-FDA6CE2E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40F-5585-40D8-9BDE-B82151E6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45F48-09AA-4B85-9C57-240A5DF2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9496F-FBF7-4065-A213-A9CBB817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540B6-72AC-478E-A086-FE389388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2F8E2-BB6E-4D7A-91F4-C5FBF9A2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C609C-4010-4E3E-BA27-401ABB00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D4C3B-A5D4-4D9A-BC48-081B9C73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850CD-54CA-4542-BFC9-3251C734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9D9C2C-AA37-41CF-A649-C7322575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1879AD-CE57-47F8-A094-1A89D9E0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F07294-0516-4B87-BC43-EAC41F26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B76-11C0-41C4-866B-99758F40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695AAC-A9E6-4411-97ED-8BDA5CE5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5F235E-51D8-402C-838B-D5D60909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48196F-0FA1-4E0A-B8EE-56B68A38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10FCC8-5EBB-44D4-B434-F95B7114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E330B-6FA2-4520-8B8E-E338E6C8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65D488-F335-44F0-AD8D-0E15C14E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C9E71F-B0B9-4BD2-B1C0-2122E53D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980982-CF79-4CFF-9D83-F98DD3D8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16C7DC-C547-4352-8AA3-866C8368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09699-A8AB-49AB-A412-D0F0C3C5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B1F-2466-435E-822B-00804983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1026B-08F8-4AD7-83F0-EDD92C50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467F8-6F89-47C8-B1CE-AFC9CEC7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CA61E-CF01-47A2-8BFE-6EA714E6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D3F4F-E778-40D8-91FB-AB9E1421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98EC3-CD79-413B-94B6-42B0B991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2AA4F-E0B8-4077-AA64-486BBECE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0F669-7695-48AF-A7AA-B812A61A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11759-DCB9-43F5-AF5B-ABACFED5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5E2DC-D533-41A3-B800-462268B2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F51C0-A539-4E73-9BA8-FEDBDEC9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EA2B-45BD-47E9-86A1-D879E0B9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17623-4571-4557-9533-4EF81337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DF1E4-1A71-4B45-9E2B-57B0A3E5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3C062-7744-4D10-81F9-46986359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AB2A4-7CD1-44B9-9600-19E8A7A4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884E6-687C-4A0A-8208-42836C89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9564C-A7A8-4D0B-851A-B5371A91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BBED3-914F-435A-B4C7-5E62A6B0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4DF49-71B7-42CE-A755-5DB07700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E0075-FDF4-434A-AFBC-4C4B2FE7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8820E-F685-4496-AC4C-E8B95C39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487-29F8-4659-B064-15CD40B8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33A0B-2EE1-4DD2-BF9E-E93D5342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CEC1F-ED11-46F5-94B6-7BD619A6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2670B-75DB-4038-92E1-07E6F66A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25D73-563F-4AF0-B5C3-66A57492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490BC-31E0-42E1-859E-A0755C05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66AC7-CA4A-4FB9-A6A0-BD090ACD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8BEE0-4D26-4206-900A-53C604F2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0F108-FDA0-48C2-B021-335AF528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56057-2A85-474F-BE02-817395FA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F5F5B-E7F9-463F-9C1B-BD75D0BE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C6B-90E2-44AC-A53F-CEE1CE05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6951D-FDD1-43D1-A799-7A77A660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F6BAA-2DBF-4F8C-8F4C-283B6E16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4C320-608A-41A8-811D-AA3EC497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CEE22-2A7B-40D8-B998-E32379DB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F41EA-1244-4266-A976-C0D062F3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B4B48-0703-49E0-84E0-9747EF09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66BD0-CE17-429E-913B-2B1C190B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48B4F-F220-4D79-B776-921D7C6F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96977-51DA-411B-8B3E-61759652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87AFA-5B35-48DD-AEAE-05B45430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4F04-FE98-4236-8485-B8C8A725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4EB44-E23C-435D-8FB1-3739CD80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A8A70-BB83-4B3C-A4B7-5E94DC02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5C23A-B4A1-4E91-94AE-78FA4B77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230FE-8878-4FA1-818B-5A513F7D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AC137-262E-4607-8CE3-4345E437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010FB-FD9D-4854-AFA1-935C5FD6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76A49-DDB6-464E-8A17-D2078FDF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3BC25-DFA5-4A7F-A5D6-49A494A8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0531A-05E1-417D-956E-10A93B83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3F3BF-DA13-4176-806A-86CBB2B7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DF1F-F7F5-4875-A8F3-4D65F8F1A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9799-84B4-46EB-9BC6-D82990B7A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4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5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8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0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9FED-B0D0-4200-AC57-710D12E05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5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5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6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8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0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BCB7-0C98-4A69-8792-9AE420FA8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5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1ED5-0EDC-4D50-AD40-927E06351C9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2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F141-5BC5-4440-8036-AB57BE321B3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33C2-9654-4C29-8F07-9A085C6FC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2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2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4F69-4D1D-40EA-8E97-E7A8E6C72C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8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3039-D8E9-44E2-9349-3D353444A0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4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838C-088A-4850-A78E-706AFE9FFB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9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E470-BC9B-40C3-98EC-CE6C551C2A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5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DEAF-709A-4C2B-9233-1A7CA087FEF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1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10AC-5AEC-4BCE-B948-E9C04E1C729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53E9-3C63-4129-9AD6-67A12A268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Соединения косте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1187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рок-презентация по би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2987640" y="1413000"/>
            <a:ext cx="3313080" cy="290484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297000" cy="3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75742" fill="hold"/>
                                        <p:tgtEl>
                                          <p:spTgt spid="8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3059280" y="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076720" y="2565360"/>
            <a:ext cx="352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– надкостн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– компактное ве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– суставная сум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– синовиальная обол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– гиалиновый хря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– полость, содержащая суставную жидк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– губчатое ве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179280" y="-27000"/>
            <a:ext cx="61246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оение подвижного сустав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4170240" cy="312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7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/>
                                        <p:tgtEl>
                                          <p:spTgt spid="9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3059280" y="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76720" y="2565360"/>
            <a:ext cx="352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– надкостн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– компактное ве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– суставная сум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– синовиальная обол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– гиалиновый хря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– полость, содержащая суставную жидк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– губчатое ве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179280" y="-27000"/>
            <a:ext cx="61246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оение подвижного сустав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4170240" cy="312732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3348000" y="292428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708360" y="299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20364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708360" y="42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42920" y="3213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84360" y="4508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55640" y="400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7056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2771280" y="3213000"/>
            <a:ext cx="1008360" cy="71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187280" y="3789360"/>
            <a:ext cx="1008360" cy="71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2700000" y="2997360"/>
            <a:ext cx="576360" cy="72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971640" y="4221000"/>
            <a:ext cx="1008000" cy="21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971640" y="4581000"/>
            <a:ext cx="1081080" cy="71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59280" y="4221000"/>
            <a:ext cx="79200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187280" y="3357720"/>
            <a:ext cx="792360" cy="36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7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770" fill="hold"/>
                                        <p:tgtEl>
                                          <p:spTgt spid="9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8487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. Ф. Лесгафт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( выдающийся российский учёный, физиолог и теоретик спорта)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3708360" y="2924280"/>
            <a:ext cx="46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Костная система человеческого организма устроена таким образом, что при наибольшей лёгкости она представляет наибольшую крепость  и всего лучше в состоянии противодействовать влиянию толчка и сотрясени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>
            <a:off x="108000" y="2565360"/>
            <a:ext cx="294624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9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вязи с тремя основными функциями скелета в нём наблюдается три типа соединения костей: неподвижное, полуподвижное и подвижн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особ соединения костей зависит от их функ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при движении суставы щёлкают – значит, не хватает суставной жидк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ние на дом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ить параграф 12 до кон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торить особенности  строения мышечных тканей по параграфу 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ворческое задание: подготовить сообщения, рисунки по темам «Нарушение осанки», «Профилактика плоскостопия»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к итоговому уроку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2000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/>
          </p:nvPr>
        </p:nvSpPr>
        <p:spPr>
          <a:xfrm>
            <a:off x="3492000" y="3789000"/>
            <a:ext cx="3025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Соединение костей бывает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подвижно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полуподвижное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подвижное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) скользящ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8000" y="1773360"/>
            <a:ext cx="33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Самый большой объём движения в суставе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локтевом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) плечевом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) тазобедренном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) фалангах пальц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948360" y="191628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32000" y="1844640"/>
            <a:ext cx="32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В состав кости входят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органические веществ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) органические и минеральные веществ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) минеральные вещ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588000" y="3789360"/>
            <a:ext cx="23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. Кость растёт в ширину за счёт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надкостницы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) хрящ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) костного мозг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) клеток губчатого вещ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50920" y="3789360"/>
            <a:ext cx="345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. Костный мозг выполняет следующие функции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красный – кроветворения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) жёлтый – запас питательных веществ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) красный – запас питательных веществ и кроветворения;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) жёлтый – укрепляет к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79280" y="189000"/>
            <a:ext cx="75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В кости имеется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полость + надкостниц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) губчатое вещество + полость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) губчатое вещество + полость + надкостниц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) основное и губчатое вещество + полость + надкостница + хрящ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264360" y="184464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Кости бывают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) трубчатые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) плоские;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) трубчатые и плоские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) длинные и коротк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7020000" y="333360"/>
            <a:ext cx="96192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Те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700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1" fill="hold"/>
                                        <p:tgtEl>
                                          <p:spTgt spid="9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3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000"/>
                            </p:stCondLst>
                            <p:childTnLst>
                              <p:par>
                                <p:cTn id="3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3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300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3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460836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себ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55640" y="1700280"/>
            <a:ext cx="2448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б, 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б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в, г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а, б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а, б, 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427640" y="2924280"/>
            <a:ext cx="43923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ценка «5» - всё верно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ценка «4» - верно 5-6 вопросов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ценка «3» - 4 вопроса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ценка «2» - 3 и меньше вопро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356000" y="227664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итерии оцен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067280" y="29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067280" y="3500280"/>
            <a:ext cx="360360" cy="36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067280" y="4149720"/>
            <a:ext cx="360360" cy="358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067280" y="4869000"/>
            <a:ext cx="360360" cy="358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8500"/>
                            </p:stCondLst>
                            <p:childTnLst>
                              <p:par>
                                <p:cTn id="3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9500"/>
                            </p:stCondLst>
                            <p:childTnLst>
                              <p:par>
                                <p:cTn id="3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облемный вопрос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6264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Спарте детей, у которых голова была больше, чем «отверстие в рай», сбрасывали с крепостной стены. Можно ли было спасти ребёнка, изменив ему размер головы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1"/>
          <a:stretch/>
        </p:blipFill>
        <p:spPr>
          <a:xfrm>
            <a:off x="5651640" y="4365720"/>
            <a:ext cx="2881080" cy="216036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3" name="hammer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8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дача урока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Выяснить, как соединяются между собой кости в скелете и в чём проявляется взаимосвязь строения и функции этих соедин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4427640" y="393372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50"/>
                            </p:stCondLst>
                            <p:childTnLst>
                              <p:par>
                                <p:cTn id="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5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771280" y="1125360"/>
            <a:ext cx="574524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лан уро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276360" y="2781360"/>
            <a:ext cx="54831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ипы соединения кост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троение суста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нообразие сустав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2439720" cy="32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800"/>
                            </p:stCondLst>
                            <p:childTnLst>
                              <p:par>
                                <p:cTn id="7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2600"/>
                            </p:stCondLst>
                            <p:childTnLst>
                              <p:par>
                                <p:cTn id="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4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Типы соединения костей скеле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прерывное (неподвижно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прерывное (полуподвижно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рывное (подвижное) - суста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Непрерывное соединение костей скелет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растание костей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например, срастание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тазовых костей в единую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кость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Швы – многочисленные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ыступы одной кости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ходят в углубления другой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например, соединение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костей черепа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"/>
          <a:stretch/>
        </p:blipFill>
        <p:spPr>
          <a:xfrm>
            <a:off x="6300720" y="400536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2"/>
          <a:stretch/>
        </p:blipFill>
        <p:spPr>
          <a:xfrm>
            <a:off x="6227640" y="1557360"/>
            <a:ext cx="223200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олупрерывное соединение костей скелета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ости соединяются друг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 другом хрящевыми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дисками, внутри которых находится полость. Так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оединены между собой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позвонки и кости таз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7236000" y="981000"/>
            <a:ext cx="88884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рерывное соединение костей скелета - суста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разуются между суставными поверхностями костей.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 состав сустава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ходят суставные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верхности,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суставная капсула,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уставная полость и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уставная жидк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6434280" y="2276640"/>
            <a:ext cx="116496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уставы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дноосные – в этих суставах возможно движение только в одной плоскости (сгибание и разгибание). Например, голеностопный суста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Двуосные – кроме движения в одной плоскости возможны движения в плоскости, перпендикулярной первой. Например, лучезапястный суста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рёхосные – кроме сгибания-разгибания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тведения – приведения, возможно также вращение. Например, плечевой и тазобедренный сустав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1:35:21Z</dcterms:created>
  <dc:creator>User</dc:creator>
  <dc:description/>
  <dc:language>en-US</dc:language>
  <cp:lastModifiedBy>User</cp:lastModifiedBy>
  <dcterms:modified xsi:type="dcterms:W3CDTF">2006-11-05T22:42:07Z</dcterms:modified>
  <cp:revision>9</cp:revision>
  <dc:subject/>
  <dc:title>Соединения костей</dc:title>
</cp:coreProperties>
</file>