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20.jpeg" ContentType="image/jpeg"/>
  <Override PartName="/ppt/media/image2.wmf" ContentType="image/x-wmf"/>
  <Override PartName="/ppt/media/image25.jpeg" ContentType="image/jpeg"/>
  <Override PartName="/ppt/media/image24.jpeg" ContentType="image/jpeg"/>
  <Override PartName="/ppt/media/image83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17.jpeg" ContentType="image/jpeg"/>
  <Override PartName="/ppt/media/image13.jpeg" ContentType="image/jpeg"/>
  <Override PartName="/ppt/media/image40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4F6-5366-458C-8CD1-D4DFEB8A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0D8-4193-4DB3-8DD3-458EF495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5772F-737A-4566-B2D4-0EF6D591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82905-3A01-40C8-B5BC-CC6A2FB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08C65-4718-4FD1-8C82-E6C2084E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7E458-3C38-4761-9908-513449F1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F7BAF-76EC-4474-AFE2-442A45B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4A463-477D-4A90-890E-142E9AD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40507-F9F0-4FD6-B1BC-F3411146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7AA37-E287-46FF-8859-37D8BBB5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8EC8F-91A5-4F77-A39C-A6320FB1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CD6FE-3566-43D0-998A-94DBB08C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EE4-990C-4000-BDA7-E78DBD2B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A1329-D4D5-40F8-931A-7DED8504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3F33E-454C-4EF6-B989-40C7EA4C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4DAF0-0E8D-4688-9655-D83F651C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34FCC-7475-49FB-A6CA-0139C39C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55B4A-91A5-466A-97D5-8D909515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0A906-FC4E-4E2A-BDE5-B9BBE39D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A632C-3779-4565-BA21-E0E3577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6E5D4-EEA3-4561-B4C8-E48A85E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8367F-560C-4DFC-B2A8-27759AAF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7DF00-B1AB-4A1C-8B94-4A9C2A1F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1FE-ABFB-4115-8A09-F8CFA9DF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0BDC7-FC5C-42BF-B7E8-598D6D4B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618F78-0027-4264-A77B-F699A05F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1359F7-7215-489C-82A6-B6408D22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D5A257-9B97-447F-8C87-032AE77B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C79C02-3D6D-43FD-AFDF-05CF53A3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6F84C1-567D-44AA-90F5-048EE56F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36293A-B838-4334-BBBF-B6A8CC4D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B79F32-D9A5-4C41-8CCE-1FDD16D6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1AF416-28D7-4FAC-A6F8-00CF2CCF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868018-96EB-4D90-94A1-D337031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1355-3954-46D7-9A9F-211CF44B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FA3B2B-F70D-4459-84E0-C04BE041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FBF502-FCE6-464B-A39E-FB9922EA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ED848F-6C0C-4A8B-9A24-064CCE31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CB76D-F703-44A6-BFBE-8F803A82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4668A-BF3B-4A0E-9E92-5248BA1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36900-F0E8-4219-B867-3418CAE7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7A5AA-C7EA-4937-9D69-A5250284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2F933-2D73-4282-AF0F-2EAA766A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B3D88-EDDD-4392-B44E-6763BF40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C186E-048A-44CA-9C9D-63F38C4C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409C-B3AA-4208-8E8B-B317174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C6CAD-41E2-4EB3-8C5B-44285659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58FB6-490D-4BF2-90C6-C414DA15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EF1D7-5007-4607-927D-19FEF71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A8CE4-626D-472C-B88E-AA12AC9E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C4E95-1651-47C8-AE51-48D46631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78B42-51C9-4C89-A0C8-84442261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D5CC8-405C-413A-B7D7-283B6C8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4AA24-2EE9-40DE-9BFF-65C17AB5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4FF24-F797-4E03-96E4-4EB8ADCE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4A64D-6E24-4A33-A7ED-DDF98534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9803-D810-42B8-B9A4-AAFFF1E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CDDF3-6E8D-4832-A0B0-0B641039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C504F-5731-4C65-8E9E-2806ED3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E7F62-3C43-473B-A400-DDD3A705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FBE81-6458-4336-9EBB-0C2C8E2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EF8D9-DC19-4D3F-BB7E-BD1542F7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64E6B-8ED2-4996-8760-A6054BE0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B824A-7EA0-44AE-ACF6-E7C2A877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47BF6-AC4C-422A-B188-324494F9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B8CD4-9B4F-4FE4-90C3-C937152A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4A7DB-BD89-4703-A7FA-7AC1E23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D725-8798-4668-B7B5-D774141A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7110B-CE4D-4FCE-9522-9DF733A4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507D5-597A-4312-B154-3D46FA8E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47D83-0CEF-400C-A002-543BEAC6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85429-1B58-431D-AF67-E26B24C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F68E3-1392-47FE-90DD-ACA9C67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575B1-CE95-47DB-9124-F0C20A68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E6EE8-8099-409E-9442-FFE9BE4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1058F-229B-4D77-9E9C-D45EE2F2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41611-A9CC-495A-92ED-9965B654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CB8EE8-1E81-477F-8C29-BE3C9D46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808A-EF15-4496-B5E3-F92976DF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412448-35A0-4605-8BAD-BB71843F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0A2FA0-80F6-4D47-9095-BEE7B2C0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CDEFF3-3B38-4A45-A37E-2D16A5A3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50CD26-26C5-4EE1-B33F-3BE733C0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D43F84-56A4-4304-A619-3A02088B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E62B57-4787-4769-BEA3-2DAE381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519EEC-925A-4561-8DC7-5CC84762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AA39A0-7E63-44AA-99DC-5C342B4C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315413-AF53-4B75-AFCB-15C6DAD7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DD51F8-0CA2-458D-8039-125AF809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92E-D524-42A6-B15D-0E25ABFF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45C2D0-15B3-4E65-AE31-B1676866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C6100-FD84-4F0B-AB5E-6F0BDA3C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5AF8E-2727-4C7D-A26E-173E6ECB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6617C-6210-42DB-8EC1-7858E551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F5362-B133-4042-99FE-62FF8C0B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E9EC3-8C24-4980-8703-DF281BCD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DD5EE-4AF0-48DE-AD95-E76FC716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C3FB2-81AB-4815-82EE-C92FF6D5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81342-B95F-4E20-A2E7-95E97A18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A12D6-99C1-4FD1-ABD3-430FF83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BDC2-EC2E-4EF9-BEF8-D6F16C86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B23C8-F83C-4EBA-9183-74637B9F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CE4A5-1775-4196-BBC6-6EB6C3E9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C8E76-237A-44E6-BB0F-59183462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69CD7-71FA-45F2-8334-63978F7A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B632C-36EA-4858-BA20-9B7F6EB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EB52E-D47C-4906-AAD8-0A6D134D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DCA61-1CC4-438D-9950-FDBAE56C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74169B-F74F-4A21-A996-0C84285E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048C8-67C2-4A5D-BBB7-DFD1B0A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7CE4C-5FF2-4E69-A547-2BAA474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E7E-2E1B-4373-815C-7A0E573D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758-C57F-407A-A557-7321B11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91237-743E-4C4D-8654-04BEBDD4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4B928-9329-4FCA-8AA2-8D2A2CC3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94D56-B292-4E9B-A750-E30B321F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803C3-FE16-4130-90F8-4ED4325B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7F897-6026-421E-BA96-C777D787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D4304-A17B-46E8-9075-4781BA08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4BCEF-F682-4D94-B571-9775C66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B00A0-71CD-41E1-A81F-8C1AE0D5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80F43-34B3-44D9-AB57-87219226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6F443-5677-45A8-87BA-0A4EB52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CA2C-3471-4024-B3AE-488E7A5D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C4228-60D2-47CC-BF28-3C40FFD7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FBD7A-D8A6-41F3-B631-57571EEA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90FE7-4780-4E7A-B104-2DC6AF43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5BF363-1871-454A-B91B-A0607386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646B3-4EA0-4414-B861-63AA758B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5FB7E-B630-483D-B738-FD06C2EC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B441F-DB30-483E-9963-406B0377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E526-5209-4DE7-8E87-56CAC43C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27C2-0700-45F5-ACB1-C84563B2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BB61-5CA1-42D2-927A-565AE598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CC3F-2116-47B3-B900-20FAEE6F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4426-5773-40E4-8DC5-1982C4F9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CEDB-540D-4051-A0DA-B0A315E9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54EC-B1CD-445B-8C0F-CCAC4D60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D586-4B43-4D66-9B6A-CE1560D5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0E3-8FCD-471A-BC66-55E7C1F6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4BCC-A9FC-4714-8417-3CF17B55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1C01-92B2-47E9-B38D-A36EA1D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2104-6FD9-4D57-9F05-2C045DB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21E2-9D43-4C0E-B62A-B5DAB92A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F568-EDC8-4BC4-9A57-E217389F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D19D-E7CD-4F84-8B83-C5CBEB39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63C2-A87B-400F-B89F-DA11BA19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76F20-0E22-46E0-8AF1-F6668CB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EA820-0946-41DF-A190-F367394E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3965B-8F8A-447C-9519-41065BD2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6D7-65AB-48B6-9333-4989F7E0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316A4-C05B-4AF5-946F-BC34855C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98E9F-195C-4F3C-B89D-2958455B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416C5-AA49-4C00-B946-B60A58B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06018-C00F-43B9-AA62-18A0B32E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928B0-4D3C-448A-A297-9EEF7B17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3AC7B-788F-44F8-9641-31E1F280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AEDFA-4A12-4001-9CFE-1E0508ED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550E8-234B-441F-B46A-EDDE8E8D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5B3DA-CDE1-43CB-AD25-FAACE11D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98644-2582-46ED-A0A7-7C807031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77D-DFF5-4FB3-9C88-D2624B19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0C2A4-0FE3-4617-AFEA-87389F7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7662D-4644-4539-9090-D5A44A9F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E089B-AC02-4464-9C6F-E0F0210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963DA-DFD4-46BE-B974-182F147C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9AFFD-2232-4E68-BE0B-FD6E7600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CB1EE-CCB2-42DD-A8E8-DDA960D3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7B182-DCEB-4E19-BF0C-1DC71F2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C3859-42F3-48E2-B1A9-BDBBB058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1B33B-85C5-468B-99A6-12769D08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733EB-10C0-4F9E-AF54-56656A02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F96-02E3-479A-A49A-8C973C77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B0A9B-5FE4-4D5A-A0DF-BA772AD3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B3CDC-3620-4C66-8E71-E8C55D41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67163-3B24-41FC-A031-CFDCC7C9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2164D-E7AB-4A45-B917-F502A026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27066-B0E5-4AF7-9F9E-BBB92BA3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30F4A-B197-4B9C-B6F9-77AD8C2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BCB95-FBFA-4819-95E7-A3E9020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4DB0-5661-422B-BC1F-4EA991C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EA61-1F4D-4F09-BF21-02A4A53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EFE9-C4C0-4DA2-B716-3CC3AAF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6A3-3B75-4F0A-BF00-CFCF3A20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DD406-5B80-4DD2-A652-802A1175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07BC-A7C3-4EEB-8FBA-39815D7C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3B62-7EC7-4719-802C-C19DCBFA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C0D8B-BFA0-4F46-9C41-9ABB7107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EF6F1-E3AD-4FCD-8EDA-81BA690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81A7C-4064-4B11-B6A2-07FD3789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38CB-D429-4C0D-A1DC-360543A5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BA045-C020-451A-8A3F-6928F263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E1DD-715D-4977-B700-E6E8C726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2A75-CC08-4892-BAAC-78E0A2C2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F66-59B4-440D-B74A-F04E56C6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2179-E7C3-45E9-B526-D3A53F3D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022F8-98B6-419B-A988-404932F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C30F9-5C78-49C4-A367-6E0E9F6B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4AF0-9D07-42D5-A921-B90D68C2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733F-D661-4032-9BA9-64CFD6E6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A9701-11B3-4EA8-A61F-FA2A0E72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F11B4-A437-4043-88D3-FC8E6F0E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5D639-45C9-45B0-8357-B138FBB1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AD063-5C60-48EA-BE59-085E2591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12C62-186A-43D2-9F24-2EE1D8C3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AE7-B39C-4896-9952-C0D1D1E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4BD4-7B14-4B1A-88CC-3FE6807D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12662-8BA7-4048-9A9F-A52057A9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FBD2-5027-41A0-9FEF-28A69A6D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F0D88-E015-429B-B14B-665618DD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311F-879A-48D9-8A05-A033F3D6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E850-FA7B-4983-B8BA-26A5906F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8135-37C6-4BB0-97AA-DAF89889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09245-8707-477D-893A-30D29D30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C2D5A-CF56-4274-B816-A2F5964D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C19D2-1A95-48BA-93C2-2969BFCB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05.xml"/><Relationship Id="rId35" Type="http://schemas.openxmlformats.org/officeDocument/2006/relationships/slideLayout" Target="../slideLayouts/slideLayout206.xml"/><Relationship Id="rId36" Type="http://schemas.openxmlformats.org/officeDocument/2006/relationships/slideLayout" Target="../slideLayouts/slideLayout207.xml"/><Relationship Id="rId37" Type="http://schemas.openxmlformats.org/officeDocument/2006/relationships/slideLayout" Target="../slideLayouts/slideLayout208.xml"/><Relationship Id="rId38" Type="http://schemas.openxmlformats.org/officeDocument/2006/relationships/slideLayout" Target="../slideLayouts/slideLayout209.xml"/><Relationship Id="rId39" Type="http://schemas.openxmlformats.org/officeDocument/2006/relationships/slideLayout" Target="../slideLayouts/slideLayout210.xml"/><Relationship Id="rId40" Type="http://schemas.openxmlformats.org/officeDocument/2006/relationships/slideLayout" Target="../slideLayouts/slideLayout211.xml"/><Relationship Id="rId41" Type="http://schemas.openxmlformats.org/officeDocument/2006/relationships/slideLayout" Target="../slideLayouts/slideLayout212.xml"/><Relationship Id="rId42" Type="http://schemas.openxmlformats.org/officeDocument/2006/relationships/slideLayout" Target="../slideLayouts/slideLayout213.xml"/><Relationship Id="rId43" Type="http://schemas.openxmlformats.org/officeDocument/2006/relationships/slideLayout" Target="../slideLayouts/slideLayout214.xml"/><Relationship Id="rId44" Type="http://schemas.openxmlformats.org/officeDocument/2006/relationships/slideLayout" Target="../slideLayouts/slideLayout215.xml"/><Relationship Id="rId4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C211-58CB-49A4-881F-4109DEC3C3F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74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1512-5B66-432E-B04D-BB43B01156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9D0-1495-48EE-A22A-4C36147AF3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B46F-EDB0-47C1-9BCC-8248386E1B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0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B670-0002-4BE5-9E7C-6C17FBDECB7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7944-DA5C-428C-AA7F-4C70DA35C0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21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25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2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3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ED12-F6E5-447D-8307-E6BDE195EA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D517-1072-4B78-92E9-7C25DBAD934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7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4A59-82A9-45BF-ADC6-E05E69697B7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125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3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254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255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256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257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9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6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7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7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B399-9F8A-4626-8141-3DC6324384E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4"/>
    <p:sldLayoutId id="2147483871" r:id="rId35"/>
    <p:sldLayoutId id="2147483872" r:id="rId36"/>
    <p:sldLayoutId id="2147483873" r:id="rId37"/>
    <p:sldLayoutId id="2147483874" r:id="rId38"/>
    <p:sldLayoutId id="2147483875" r:id="rId39"/>
    <p:sldLayoutId id="2147483876" r:id="rId40"/>
    <p:sldLayoutId id="2147483877" r:id="rId41"/>
    <p:sldLayoutId id="2147483878" r:id="rId42"/>
    <p:sldLayoutId id="2147483879" r:id="rId43"/>
    <p:sldLayoutId id="2147483880" r:id="rId44"/>
    <p:sldLayoutId id="2147483881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EB0D-53E6-4E85-AB20-5CA3C8DD7F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6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2114-F1D3-46B8-8F36-2889A428A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DAA0-A2F8-49B7-9F35-D17079E91AB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CFC4-C980-49B0-93AF-FAF371C75F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9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53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5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07A0-513A-46AE-8147-E989DAAE04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2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8044-53BD-49B8-9957-4F226DCAE7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ED9-39D4-4DA8-8B0A-074621CB97E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8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8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0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4E3-3138-40BB-84E1-23B20045CB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2.jpeg"/><Relationship Id="rId9" Type="http://schemas.openxmlformats.org/officeDocument/2006/relationships/image" Target="../media/image72.jpeg"/><Relationship Id="rId10" Type="http://schemas.openxmlformats.org/officeDocument/2006/relationships/image" Target="../media/image72.jpeg"/><Relationship Id="rId11" Type="http://schemas.openxmlformats.org/officeDocument/2006/relationships/image" Target="../media/image72.jpeg"/><Relationship Id="rId12" Type="http://schemas.openxmlformats.org/officeDocument/2006/relationships/image" Target="../media/image75.jpeg"/><Relationship Id="rId13" Type="http://schemas.openxmlformats.org/officeDocument/2006/relationships/image" Target="../media/image76.jpeg"/><Relationship Id="rId1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33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26a74"/>
                </a:solidFill>
                <a:latin typeface="Tahoma"/>
              </a:rPr>
              <a:t>Симметрия растений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5dd0"/>
                </a:solidFill>
                <a:latin typeface="Tahoma"/>
              </a:rPr>
              <a:t>Работа ученицы 10 класса О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5dd0"/>
                </a:solidFill>
                <a:latin typeface="Tahoma"/>
              </a:rPr>
              <a:t>Ежовой Инны учитель Прокопенко Г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7" name="Picture 4" descr="i[14]"/>
          <p:cNvPicPr/>
          <p:nvPr/>
        </p:nvPicPr>
        <p:blipFill>
          <a:blip r:embed="rId1"/>
          <a:stretch/>
        </p:blipFill>
        <p:spPr>
          <a:xfrm>
            <a:off x="0" y="3789360"/>
            <a:ext cx="2355840" cy="30686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5" descr="CAEZ89UZ"/>
          <p:cNvPicPr/>
          <p:nvPr/>
        </p:nvPicPr>
        <p:blipFill>
          <a:blip r:embed="rId2"/>
          <a:stretch/>
        </p:blipFill>
        <p:spPr>
          <a:xfrm>
            <a:off x="6732720" y="0"/>
            <a:ext cx="2206440" cy="165564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7" descr="CA4Y0KFR"/>
          <p:cNvPicPr/>
          <p:nvPr/>
        </p:nvPicPr>
        <p:blipFill>
          <a:blip r:embed="rId3"/>
          <a:stretch/>
        </p:blipFill>
        <p:spPr>
          <a:xfrm>
            <a:off x="6516720" y="5373720"/>
            <a:ext cx="2158920" cy="142560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8" descr="CAIRGDIZ"/>
          <p:cNvPicPr/>
          <p:nvPr/>
        </p:nvPicPr>
        <p:blipFill>
          <a:blip r:embed="rId4"/>
          <a:stretch/>
        </p:blipFill>
        <p:spPr>
          <a:xfrm>
            <a:off x="0" y="0"/>
            <a:ext cx="2090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Симметрия конус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Симметрия конуса видна  на примере фактически любого дерева. Дерево при помощи корневой системы поглощает влагу и питательные вещества из почвы, то есть снизу а, остальные жизненно важные функции выполняются кроной, то есть сверху.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9" name="Picture 4" descr="CAA4LBRA"/>
          <p:cNvPicPr/>
          <p:nvPr/>
        </p:nvPicPr>
        <p:blipFill>
          <a:blip r:embed="rId1"/>
          <a:stretch/>
        </p:blipFill>
        <p:spPr>
          <a:xfrm>
            <a:off x="0" y="4724280"/>
            <a:ext cx="1365120" cy="213372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5" descr="CAWXPAO6"/>
          <p:cNvPicPr/>
          <p:nvPr/>
        </p:nvPicPr>
        <p:blipFill>
          <a:blip r:embed="rId2"/>
          <a:stretch/>
        </p:blipFill>
        <p:spPr>
          <a:xfrm>
            <a:off x="7524720" y="34290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6" descr="CAQVSP6R"/>
          <p:cNvPicPr/>
          <p:nvPr/>
        </p:nvPicPr>
        <p:blipFill>
          <a:blip r:embed="rId3"/>
          <a:stretch/>
        </p:blipFill>
        <p:spPr>
          <a:xfrm>
            <a:off x="2195640" y="4292640"/>
            <a:ext cx="3240000" cy="236520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7" descr="i[80]"/>
          <p:cNvPicPr/>
          <p:nvPr/>
        </p:nvPicPr>
        <p:blipFill>
          <a:blip r:embed="rId4"/>
          <a:stretch/>
        </p:blipFill>
        <p:spPr>
          <a:xfrm>
            <a:off x="7451640" y="189000"/>
            <a:ext cx="1692360" cy="12650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8" descr="i[76]"/>
          <p:cNvPicPr/>
          <p:nvPr/>
        </p:nvPicPr>
        <p:blipFill>
          <a:blip r:embed="rId5"/>
          <a:stretch/>
        </p:blipFill>
        <p:spPr>
          <a:xfrm>
            <a:off x="5940360" y="4941720"/>
            <a:ext cx="2376720" cy="172908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9" descr="CATWRAVP"/>
          <p:cNvPicPr/>
          <p:nvPr/>
        </p:nvPicPr>
        <p:blipFill>
          <a:blip r:embed="rId6"/>
          <a:stretch/>
        </p:blipFill>
        <p:spPr>
          <a:xfrm>
            <a:off x="179280" y="189000"/>
            <a:ext cx="1752840" cy="1320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6a74"/>
                </a:solidFill>
                <a:latin typeface="Arial"/>
              </a:rPr>
              <a:t>Наследственность- это тоже симметрия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5dd0"/>
                </a:solidFill>
                <a:latin typeface="Arial"/>
              </a:rPr>
              <a:t>Человек передает свои наследственные признаки из поколения в поколение. Также растения переходя от одного поколения к другому, наблюдается сохранение определенных свойств. Так из семечка вырастает новый подсолнух(подсолнечник) с таким же огромным соцветием- корзинкой, также исправно поворачивается к Солнцу. Это тоже есть симметрия, ее обычно называют наследственностью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7" name="Picture 4" descr="CA8B2BAK"/>
          <p:cNvPicPr/>
          <p:nvPr/>
        </p:nvPicPr>
        <p:blipFill>
          <a:blip r:embed="rId1"/>
          <a:stretch/>
        </p:blipFill>
        <p:spPr>
          <a:xfrm>
            <a:off x="5003640" y="4165560"/>
            <a:ext cx="3600720" cy="269244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5" descr="CASTQX4V"/>
          <p:cNvPicPr/>
          <p:nvPr/>
        </p:nvPicPr>
        <p:blipFill>
          <a:blip r:embed="rId2"/>
          <a:stretch/>
        </p:blipFill>
        <p:spPr>
          <a:xfrm>
            <a:off x="324000" y="5373720"/>
            <a:ext cx="1944360" cy="146520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6" descr="CAZP1QYF"/>
          <p:cNvPicPr/>
          <p:nvPr/>
        </p:nvPicPr>
        <p:blipFill>
          <a:blip r:embed="rId3"/>
          <a:stretch/>
        </p:blipFill>
        <p:spPr>
          <a:xfrm>
            <a:off x="2627280" y="4365720"/>
            <a:ext cx="158292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Лучевая  симметр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500"/>
                </a:solidFill>
                <a:latin typeface="Tahoma"/>
              </a:rPr>
              <a:t>Присмотритесь внимательно и вы увидите, что лепестки каждого тела расходятся во все стороны, как лучи от источника света .В математике- это симметрия относительно точки, в биологии –лучевая симметр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2" name="Picture 7" descr="i[45]"/>
          <p:cNvPicPr/>
          <p:nvPr/>
        </p:nvPicPr>
        <p:blipFill>
          <a:blip r:embed="rId1"/>
          <a:stretch/>
        </p:blipFill>
        <p:spPr>
          <a:xfrm>
            <a:off x="0" y="0"/>
            <a:ext cx="2050920" cy="153360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8" descr="i[57]"/>
          <p:cNvPicPr/>
          <p:nvPr/>
        </p:nvPicPr>
        <p:blipFill>
          <a:blip r:embed="rId2"/>
          <a:stretch/>
        </p:blipFill>
        <p:spPr>
          <a:xfrm>
            <a:off x="6227640" y="2997360"/>
            <a:ext cx="2232000" cy="166824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i[87]"/>
          <p:cNvPicPr/>
          <p:nvPr/>
        </p:nvPicPr>
        <p:blipFill>
          <a:blip r:embed="rId3"/>
          <a:stretch/>
        </p:blipFill>
        <p:spPr>
          <a:xfrm>
            <a:off x="468360" y="501336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1" descr="CA274LQ3"/>
          <p:cNvPicPr/>
          <p:nvPr/>
        </p:nvPicPr>
        <p:blipFill>
          <a:blip r:embed="rId4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2" descr="CA274LQ3"/>
          <p:cNvPicPr/>
          <p:nvPr/>
        </p:nvPicPr>
        <p:blipFill>
          <a:blip r:embed="rId5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14" descr="CA557B7R"/>
          <p:cNvPicPr/>
          <p:nvPr/>
        </p:nvPicPr>
        <p:blipFill>
          <a:blip r:embed="rId6"/>
          <a:stretch/>
        </p:blipFill>
        <p:spPr>
          <a:xfrm>
            <a:off x="3419640" y="476100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5" descr="CAH0B6B1"/>
          <p:cNvPicPr/>
          <p:nvPr/>
        </p:nvPicPr>
        <p:blipFill>
          <a:blip r:embed="rId7"/>
          <a:stretch/>
        </p:blipFill>
        <p:spPr>
          <a:xfrm>
            <a:off x="250920" y="2924280"/>
            <a:ext cx="2305080" cy="170640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16" descr="CA274LQ3"/>
          <p:cNvPicPr/>
          <p:nvPr/>
        </p:nvPicPr>
        <p:blipFill>
          <a:blip r:embed="rId8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7" descr="CA274LQ3"/>
          <p:cNvPicPr/>
          <p:nvPr/>
        </p:nvPicPr>
        <p:blipFill>
          <a:blip r:embed="rId9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8" descr="CA274LQ3"/>
          <p:cNvPicPr/>
          <p:nvPr/>
        </p:nvPicPr>
        <p:blipFill>
          <a:blip r:embed="rId10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9" descr="CA274LQ3"/>
          <p:cNvPicPr/>
          <p:nvPr/>
        </p:nvPicPr>
        <p:blipFill>
          <a:blip r:embed="rId11"/>
          <a:stretch/>
        </p:blipFill>
        <p:spPr>
          <a:xfrm>
            <a:off x="4560840" y="3417840"/>
            <a:ext cx="22320" cy="2232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20" descr="i[97]"/>
          <p:cNvPicPr/>
          <p:nvPr/>
        </p:nvPicPr>
        <p:blipFill>
          <a:blip r:embed="rId12"/>
          <a:stretch/>
        </p:blipFill>
        <p:spPr>
          <a:xfrm>
            <a:off x="3492360" y="3068640"/>
            <a:ext cx="1970280" cy="147780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21" descr="i[95]"/>
          <p:cNvPicPr/>
          <p:nvPr/>
        </p:nvPicPr>
        <p:blipFill>
          <a:blip r:embed="rId13"/>
          <a:stretch/>
        </p:blipFill>
        <p:spPr>
          <a:xfrm>
            <a:off x="6372360" y="4941720"/>
            <a:ext cx="2232000" cy="15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10920" y="1369800"/>
            <a:ext cx="7040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ывод: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60721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52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52280" indent="-152280" algn="ctr">
              <a:lnSpc>
                <a:spcPct val="80000"/>
              </a:lnSpc>
              <a:spcBef>
                <a:spcPts val="499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Симметрия проникла в растительный мир стала там полновластной хозяйко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152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2.В растительном мире встречается билатеральная (зеркальная), лучевая, поворотная, симметрия конуса., осевая, центральная, наследственная симметрия, винтовая симметр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152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47" name="Picture 13" descr="i[45]"/>
          <p:cNvPicPr/>
          <p:nvPr/>
        </p:nvPicPr>
        <p:blipFill>
          <a:blip r:embed="rId1"/>
          <a:stretch/>
        </p:blipFill>
        <p:spPr>
          <a:xfrm>
            <a:off x="324000" y="4894200"/>
            <a:ext cx="2376360" cy="177804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5" descr="i?id=7903008&amp;tov=5"/>
          <p:cNvPicPr/>
          <p:nvPr/>
        </p:nvPicPr>
        <p:blipFill>
          <a:blip r:embed="rId2"/>
          <a:stretch/>
        </p:blipFill>
        <p:spPr>
          <a:xfrm>
            <a:off x="324000" y="18900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7" descr="i?id=2295027&amp;tov=7"/>
          <p:cNvPicPr/>
          <p:nvPr/>
        </p:nvPicPr>
        <p:blipFill>
          <a:blip r:embed="rId3"/>
          <a:stretch/>
        </p:blipFill>
        <p:spPr>
          <a:xfrm>
            <a:off x="6335640" y="18900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8" descr="CAM309YV"/>
          <p:cNvPicPr/>
          <p:nvPr/>
        </p:nvPicPr>
        <p:blipFill>
          <a:blip r:embed="rId4"/>
          <a:stretch/>
        </p:blipFill>
        <p:spPr>
          <a:xfrm>
            <a:off x="7020000" y="4869000"/>
            <a:ext cx="1744560" cy="198900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9" descr="CANJL0YP"/>
          <p:cNvPicPr/>
          <p:nvPr/>
        </p:nvPicPr>
        <p:blipFill>
          <a:blip r:embed="rId5"/>
          <a:stretch/>
        </p:blipFill>
        <p:spPr>
          <a:xfrm>
            <a:off x="3635280" y="260280"/>
            <a:ext cx="24242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пользованная литература:                                  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. Тарасов «Этот удивительно симметричный мир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Jndex.r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ртинки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crosoft Off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 Гарднер «Этот правый, левый мир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4" name="Rectangle -10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9600" tIns="-46440" bIns="-154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5" name="Picture 4" descr="i[87]"/>
          <p:cNvPicPr/>
          <p:nvPr/>
        </p:nvPicPr>
        <p:blipFill>
          <a:blip r:embed="rId1"/>
          <a:stretch/>
        </p:blipFill>
        <p:spPr>
          <a:xfrm>
            <a:off x="3851280" y="486900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6" descr="i?id=2869955&amp;tov=4"/>
          <p:cNvPicPr/>
          <p:nvPr/>
        </p:nvPicPr>
        <p:blipFill>
          <a:blip r:embed="rId2"/>
          <a:stretch/>
        </p:blipFill>
        <p:spPr>
          <a:xfrm>
            <a:off x="324000" y="4724280"/>
            <a:ext cx="3024000" cy="17352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8" descr="i?id=8344409&amp;tov=2"/>
          <p:cNvPicPr/>
          <p:nvPr/>
        </p:nvPicPr>
        <p:blipFill>
          <a:blip r:embed="rId3"/>
          <a:stretch/>
        </p:blipFill>
        <p:spPr>
          <a:xfrm>
            <a:off x="7308720" y="2133720"/>
            <a:ext cx="1519200" cy="11350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0" descr="i?id=24474187&amp;tov=5"/>
          <p:cNvPicPr/>
          <p:nvPr/>
        </p:nvPicPr>
        <p:blipFill>
          <a:blip r:embed="rId4"/>
          <a:stretch/>
        </p:blipFill>
        <p:spPr>
          <a:xfrm>
            <a:off x="6300720" y="4653000"/>
            <a:ext cx="2592360" cy="17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  </a:t>
            </a:r>
            <a:br>
              <a:rPr sz="5400"/>
            </a:b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ru-RU" sz="5400" spc="-1" strike="noStrike">
                <a:solidFill>
                  <a:srgbClr val="ff33cc"/>
                </a:solidFill>
                <a:latin typeface="Arial Black"/>
              </a:rPr>
              <a:t>Цель моего исследования:</a:t>
            </a:r>
            <a:br>
              <a:rPr sz="60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1.Показать,что мир растений зародился благодаря симмет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2.Выяснить понятие  билатер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26a74"/>
                </a:solidFill>
                <a:latin typeface="Arial"/>
              </a:rPr>
              <a:t>симмет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3" name="Picture 4" descr="i[75]"/>
          <p:cNvPicPr/>
          <p:nvPr/>
        </p:nvPicPr>
        <p:blipFill>
          <a:blip r:embed="rId1"/>
          <a:stretch/>
        </p:blipFill>
        <p:spPr>
          <a:xfrm>
            <a:off x="6012000" y="3645000"/>
            <a:ext cx="2709720" cy="173340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6" descr="i?id=20889257&amp;tov=7"/>
          <p:cNvPicPr/>
          <p:nvPr/>
        </p:nvPicPr>
        <p:blipFill>
          <a:blip r:embed="rId2"/>
          <a:stretch/>
        </p:blipFill>
        <p:spPr>
          <a:xfrm>
            <a:off x="324000" y="4581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11" descr="CAM2QRMD"/>
          <p:cNvPicPr/>
          <p:nvPr/>
        </p:nvPicPr>
        <p:blipFill>
          <a:blip r:embed="rId3"/>
          <a:stretch/>
        </p:blipFill>
        <p:spPr>
          <a:xfrm>
            <a:off x="3564000" y="486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12" descr="CAEN016R"/>
          <p:cNvPicPr/>
          <p:nvPr/>
        </p:nvPicPr>
        <p:blipFill>
          <a:blip r:embed="rId4"/>
          <a:stretch/>
        </p:blipFill>
        <p:spPr>
          <a:xfrm>
            <a:off x="6948360" y="333360"/>
            <a:ext cx="1871640" cy="18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Для ответа на данный вопрос мне необходимо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a74"/>
                </a:solidFill>
                <a:latin typeface="Arial"/>
              </a:rPr>
              <a:t>Изучить понятие симметрия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a74"/>
                </a:solidFill>
                <a:latin typeface="Arial"/>
              </a:rPr>
              <a:t>Понять почему симметрия пронизывает мир рас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9" name="Picture 4" descr="i[80]"/>
          <p:cNvPicPr/>
          <p:nvPr/>
        </p:nvPicPr>
        <p:blipFill>
          <a:blip r:embed="rId1"/>
          <a:stretch/>
        </p:blipFill>
        <p:spPr>
          <a:xfrm>
            <a:off x="6588000" y="3429000"/>
            <a:ext cx="2556000" cy="190980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5" descr="CAEZ89UZ"/>
          <p:cNvPicPr/>
          <p:nvPr/>
        </p:nvPicPr>
        <p:blipFill>
          <a:blip r:embed="rId2"/>
          <a:stretch/>
        </p:blipFill>
        <p:spPr>
          <a:xfrm>
            <a:off x="250920" y="3573360"/>
            <a:ext cx="2089080" cy="156708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8" descr="CA4NY7QA"/>
          <p:cNvPicPr/>
          <p:nvPr/>
        </p:nvPicPr>
        <p:blipFill>
          <a:blip r:embed="rId3"/>
          <a:stretch/>
        </p:blipFill>
        <p:spPr>
          <a:xfrm>
            <a:off x="3419640" y="2637000"/>
            <a:ext cx="1465200" cy="143496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9" descr="i[36]"/>
          <p:cNvPicPr/>
          <p:nvPr/>
        </p:nvPicPr>
        <p:blipFill>
          <a:blip r:embed="rId4"/>
          <a:stretch/>
        </p:blipFill>
        <p:spPr>
          <a:xfrm>
            <a:off x="3564000" y="4869000"/>
            <a:ext cx="1942920" cy="1709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7960"/>
                </a:solidFill>
                <a:latin typeface="Tahoma"/>
              </a:rPr>
              <a:t>Жизнь зародилась в симметрических форма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4000" y="2344320"/>
            <a:ext cx="793404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«На Земле жизнь зародилась в сферически симметричных формах ,а потом стала развиваться по двум главным линиям: образовался мир растений ,обладающих симметрией конуса ,и мир животных с билатеральной симметрие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М. Гардне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5" name="Picture 4" descr="i[93]"/>
          <p:cNvPicPr/>
          <p:nvPr/>
        </p:nvPicPr>
        <p:blipFill>
          <a:blip r:embed="rId1"/>
          <a:stretch/>
        </p:blipFill>
        <p:spPr>
          <a:xfrm>
            <a:off x="179280" y="5397480"/>
            <a:ext cx="1947960" cy="146052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5" descr="i[24]"/>
          <p:cNvPicPr/>
          <p:nvPr/>
        </p:nvPicPr>
        <p:blipFill>
          <a:blip r:embed="rId2"/>
          <a:stretch/>
        </p:blipFill>
        <p:spPr>
          <a:xfrm>
            <a:off x="7524720" y="1628640"/>
            <a:ext cx="1211400" cy="90828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6" descr="i[86]"/>
          <p:cNvPicPr/>
          <p:nvPr/>
        </p:nvPicPr>
        <p:blipFill>
          <a:blip r:embed="rId3"/>
          <a:stretch/>
        </p:blipFill>
        <p:spPr>
          <a:xfrm>
            <a:off x="7873920" y="407664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8" descr="CAWXPAO6"/>
          <p:cNvPicPr/>
          <p:nvPr/>
        </p:nvPicPr>
        <p:blipFill>
          <a:blip r:embed="rId4"/>
          <a:stretch/>
        </p:blipFill>
        <p:spPr>
          <a:xfrm>
            <a:off x="0" y="1341360"/>
            <a:ext cx="1187280" cy="118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Билатеральная симмет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336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fa9b7"/>
                </a:solidFill>
                <a:latin typeface="Tahoma"/>
              </a:rPr>
              <a:t>Билатеральная симметрия -зеркальная. Термин  «зеркальная» используется в геометрии и физики, а «билатеральная»- в би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1" name="Picture 4" descr="CA6RKTMB"/>
          <p:cNvPicPr/>
          <p:nvPr/>
        </p:nvPicPr>
        <p:blipFill>
          <a:blip r:embed="rId1"/>
          <a:stretch/>
        </p:blipFill>
        <p:spPr>
          <a:xfrm>
            <a:off x="0" y="5661000"/>
            <a:ext cx="2484360" cy="92088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7" descr="i?id=20171773&amp;tov=8"/>
          <p:cNvPicPr/>
          <p:nvPr/>
        </p:nvPicPr>
        <p:blipFill>
          <a:blip r:embed="rId2"/>
          <a:stretch/>
        </p:blipFill>
        <p:spPr>
          <a:xfrm>
            <a:off x="0" y="256536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9" descr="i?id=13296857&amp;tov=2"/>
          <p:cNvPicPr/>
          <p:nvPr/>
        </p:nvPicPr>
        <p:blipFill>
          <a:blip r:embed="rId3"/>
          <a:stretch/>
        </p:blipFill>
        <p:spPr>
          <a:xfrm>
            <a:off x="1547640" y="4005360"/>
            <a:ext cx="1873440" cy="14000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11" descr="i?id=8550692&amp;tov=8"/>
          <p:cNvPicPr/>
          <p:nvPr/>
        </p:nvPicPr>
        <p:blipFill>
          <a:blip r:embed="rId4"/>
          <a:stretch/>
        </p:blipFill>
        <p:spPr>
          <a:xfrm>
            <a:off x="6804000" y="249228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3" descr="i?id=21323321&amp;tov=4"/>
          <p:cNvPicPr/>
          <p:nvPr/>
        </p:nvPicPr>
        <p:blipFill>
          <a:blip r:embed="rId5"/>
          <a:stretch/>
        </p:blipFill>
        <p:spPr>
          <a:xfrm>
            <a:off x="5796000" y="4005360"/>
            <a:ext cx="1238040" cy="165564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15" descr="i?id=24795249&amp;tov=2"/>
          <p:cNvPicPr/>
          <p:nvPr/>
        </p:nvPicPr>
        <p:blipFill>
          <a:blip r:embed="rId6"/>
          <a:stretch/>
        </p:blipFill>
        <p:spPr>
          <a:xfrm>
            <a:off x="7380360" y="494172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1377" name="Picture 18" descr="i[60]"/>
          <p:cNvPicPr/>
          <p:nvPr/>
        </p:nvPicPr>
        <p:blipFill>
          <a:blip r:embed="rId7"/>
          <a:stretch/>
        </p:blipFill>
        <p:spPr>
          <a:xfrm>
            <a:off x="1763640" y="2565360"/>
            <a:ext cx="1657440" cy="1243080"/>
          </a:xfrm>
          <a:prstGeom prst="rect">
            <a:avLst/>
          </a:prstGeom>
          <a:ln w="0">
            <a:noFill/>
          </a:ln>
        </p:spPr>
      </p:pic>
      <p:pic>
        <p:nvPicPr>
          <p:cNvPr id="1378" name="Picture 19" descr="i[65]"/>
          <p:cNvPicPr/>
          <p:nvPr/>
        </p:nvPicPr>
        <p:blipFill>
          <a:blip r:embed="rId8"/>
          <a:stretch/>
        </p:blipFill>
        <p:spPr>
          <a:xfrm>
            <a:off x="3564000" y="5157720"/>
            <a:ext cx="2160360" cy="144792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21" descr="NA00864_[1]"/>
          <p:cNvPicPr/>
          <p:nvPr/>
        </p:nvPicPr>
        <p:blipFill>
          <a:blip r:embed="rId9"/>
          <a:stretch/>
        </p:blipFill>
        <p:spPr>
          <a:xfrm>
            <a:off x="4067280" y="2565360"/>
            <a:ext cx="2087280" cy="18050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22" descr="CAS1KVC1"/>
          <p:cNvPicPr/>
          <p:nvPr/>
        </p:nvPicPr>
        <p:blipFill>
          <a:blip r:embed="rId10"/>
          <a:stretch/>
        </p:blipFill>
        <p:spPr>
          <a:xfrm>
            <a:off x="0" y="3789360"/>
            <a:ext cx="1098720" cy="16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5dd0"/>
                </a:solidFill>
                <a:latin typeface="Tahoma"/>
              </a:rPr>
              <a:t>Поворотная симметрия</a:t>
            </a:r>
            <a:r>
              <a:rPr b="1" lang="ru-RU" sz="4400" spc="-1" strike="noStrike">
                <a:solidFill>
                  <a:srgbClr val="9383b3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ля цветов характерна поворотная симмет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воротной симметрией обладают: веточка боярышника, цветок зверобоя, веточка акации, лапчатка гусина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3" name="Picture 5" descr="CAMZC92F"/>
          <p:cNvPicPr/>
          <p:nvPr/>
        </p:nvPicPr>
        <p:blipFill>
          <a:blip r:embed="rId1"/>
          <a:stretch/>
        </p:blipFill>
        <p:spPr>
          <a:xfrm>
            <a:off x="6227640" y="472428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6" descr="CA2JSHUZ"/>
          <p:cNvPicPr/>
          <p:nvPr/>
        </p:nvPicPr>
        <p:blipFill>
          <a:blip r:embed="rId2"/>
          <a:stretch/>
        </p:blipFill>
        <p:spPr>
          <a:xfrm>
            <a:off x="7956720" y="333360"/>
            <a:ext cx="1187280" cy="109224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7" descr="CA6Z4VVG"/>
          <p:cNvPicPr/>
          <p:nvPr/>
        </p:nvPicPr>
        <p:blipFill>
          <a:blip r:embed="rId3"/>
          <a:stretch/>
        </p:blipFill>
        <p:spPr>
          <a:xfrm>
            <a:off x="356400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8" descr="i[36]"/>
          <p:cNvPicPr/>
          <p:nvPr/>
        </p:nvPicPr>
        <p:blipFill>
          <a:blip r:embed="rId4"/>
          <a:stretch/>
        </p:blipFill>
        <p:spPr>
          <a:xfrm>
            <a:off x="468360" y="4724280"/>
            <a:ext cx="2663640" cy="174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 Box 4"/>
          <p:cNvSpPr/>
          <p:nvPr/>
        </p:nvSpPr>
        <p:spPr>
          <a:xfrm>
            <a:off x="468360" y="476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о поворотная симметрия цветов сочетается с зеркальной симметр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8" name="Picture 5" descr="CA2JSHUZ"/>
          <p:cNvPicPr/>
          <p:nvPr/>
        </p:nvPicPr>
        <p:blipFill>
          <a:blip r:embed="rId1"/>
          <a:stretch/>
        </p:blipFill>
        <p:spPr>
          <a:xfrm>
            <a:off x="324000" y="1773360"/>
            <a:ext cx="2447640" cy="2252520"/>
          </a:xfrm>
          <a:prstGeom prst="rect">
            <a:avLst/>
          </a:prstGeom>
          <a:ln w="0">
            <a:noFill/>
          </a:ln>
        </p:spPr>
      </p:pic>
      <p:sp>
        <p:nvSpPr>
          <p:cNvPr id="1389" name="Text Box 7"/>
          <p:cNvSpPr/>
          <p:nvPr/>
        </p:nvSpPr>
        <p:spPr>
          <a:xfrm>
            <a:off x="3059280" y="1844640"/>
            <a:ext cx="468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очка акации имеет зеркальную и поворотную симметрию. Веточка боярышника обладает скользящей осью симметрии. Гусиная лапчатка имеет поворотную симметрию и зеркаль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0" name="Picture 8" descr="i[42]"/>
          <p:cNvPicPr/>
          <p:nvPr/>
        </p:nvPicPr>
        <p:blipFill>
          <a:blip r:embed="rId2"/>
          <a:stretch/>
        </p:blipFill>
        <p:spPr>
          <a:xfrm>
            <a:off x="250920" y="4292640"/>
            <a:ext cx="2663640" cy="199080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9" descr="i[33]"/>
          <p:cNvPicPr/>
          <p:nvPr/>
        </p:nvPicPr>
        <p:blipFill>
          <a:blip r:embed="rId3"/>
          <a:stretch/>
        </p:blipFill>
        <p:spPr>
          <a:xfrm>
            <a:off x="7380360" y="170028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10" descr="CA3UCF7X"/>
          <p:cNvPicPr/>
          <p:nvPr/>
        </p:nvPicPr>
        <p:blipFill>
          <a:blip r:embed="rId4"/>
          <a:stretch/>
        </p:blipFill>
        <p:spPr>
          <a:xfrm>
            <a:off x="4211640" y="4941720"/>
            <a:ext cx="2305080" cy="17337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1" descr="CAY7YXRJ"/>
          <p:cNvPicPr/>
          <p:nvPr/>
        </p:nvPicPr>
        <p:blipFill>
          <a:blip r:embed="rId5"/>
          <a:stretch/>
        </p:blipFill>
        <p:spPr>
          <a:xfrm>
            <a:off x="7236000" y="4869000"/>
            <a:ext cx="161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4"/>
          <p:cNvSpPr/>
          <p:nvPr/>
        </p:nvSpPr>
        <p:spPr>
          <a:xfrm>
            <a:off x="250920" y="476280"/>
            <a:ext cx="446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смотревшись к растениям можно обнаружить многочисленные проявления винтовой симметрии в расположении листьев на стебле, веток на стволе, в строении шишек. Ярко выраженными винтами являются вьющие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5" name="Picture 5" descr="CA0FDJQI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270828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6" descr="CA2DS7SF"/>
          <p:cNvPicPr/>
          <p:nvPr/>
        </p:nvPicPr>
        <p:blipFill>
          <a:blip r:embed="rId2"/>
          <a:stretch/>
        </p:blipFill>
        <p:spPr>
          <a:xfrm>
            <a:off x="4932360" y="0"/>
            <a:ext cx="1986120" cy="263700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7" descr="i[48]"/>
          <p:cNvPicPr/>
          <p:nvPr/>
        </p:nvPicPr>
        <p:blipFill>
          <a:blip r:embed="rId3"/>
          <a:stretch/>
        </p:blipFill>
        <p:spPr>
          <a:xfrm>
            <a:off x="0" y="4581360"/>
            <a:ext cx="1517760" cy="227664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8" descr="CAK7K303"/>
          <p:cNvPicPr/>
          <p:nvPr/>
        </p:nvPicPr>
        <p:blipFill>
          <a:blip r:embed="rId4"/>
          <a:stretch/>
        </p:blipFill>
        <p:spPr>
          <a:xfrm>
            <a:off x="3348000" y="4724280"/>
            <a:ext cx="1549440" cy="2133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9" descr="CA0XABSL"/>
          <p:cNvPicPr/>
          <p:nvPr/>
        </p:nvPicPr>
        <p:blipFill>
          <a:blip r:embed="rId5"/>
          <a:stretch/>
        </p:blipFill>
        <p:spPr>
          <a:xfrm>
            <a:off x="7164360" y="292428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0" descr="CA8HYFSH"/>
          <p:cNvPicPr/>
          <p:nvPr/>
        </p:nvPicPr>
        <p:blipFill>
          <a:blip r:embed="rId6"/>
          <a:stretch/>
        </p:blipFill>
        <p:spPr>
          <a:xfrm>
            <a:off x="5435640" y="3573360"/>
            <a:ext cx="1414440" cy="295272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11" descr="CAII5YZH"/>
          <p:cNvPicPr/>
          <p:nvPr/>
        </p:nvPicPr>
        <p:blipFill>
          <a:blip r:embed="rId7"/>
          <a:stretch/>
        </p:blipFill>
        <p:spPr>
          <a:xfrm>
            <a:off x="3635280" y="0"/>
            <a:ext cx="1104840" cy="198900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12" descr="CASD2N8D"/>
          <p:cNvPicPr/>
          <p:nvPr/>
        </p:nvPicPr>
        <p:blipFill>
          <a:blip r:embed="rId8"/>
          <a:stretch/>
        </p:blipFill>
        <p:spPr>
          <a:xfrm>
            <a:off x="7380360" y="5013360"/>
            <a:ext cx="1379520" cy="184464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13" descr="i[82]"/>
          <p:cNvPicPr/>
          <p:nvPr/>
        </p:nvPicPr>
        <p:blipFill>
          <a:blip r:embed="rId9"/>
          <a:stretch/>
        </p:blipFill>
        <p:spPr>
          <a:xfrm>
            <a:off x="1692360" y="4941720"/>
            <a:ext cx="1466640" cy="151308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14" descr="CAODC3MJ"/>
          <p:cNvPicPr/>
          <p:nvPr/>
        </p:nvPicPr>
        <p:blipFill>
          <a:blip r:embed="rId10"/>
          <a:stretch/>
        </p:blipFill>
        <p:spPr>
          <a:xfrm>
            <a:off x="3708360" y="3429000"/>
            <a:ext cx="15843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cd071"/>
                </a:solidFill>
                <a:latin typeface="Tahoma"/>
              </a:rPr>
              <a:t>Поворотная симметрия 5-го поряд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В мире цветов встречаются поворотные оси симметрии разных порядков .Наиболее распространенная поворотная симметрия 5-го поряд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«Пятерная ось является своеобразным   инструментом борьбы за существование, страховкой против окаменения, против кристаллизации, первым шагом которой была»поимка» решеткой»(Н. В. Бел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5dd0"/>
                </a:solidFill>
                <a:latin typeface="Tahoma"/>
              </a:rPr>
              <a:t>Поворотная симметрия 5-го порядка встречается :у колокольчика, луговой герани, незабудки, зверобоя, вишни, груши, рябины, боярышника, шипов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7" name="Picture 4" descr="CAJAT4H7"/>
          <p:cNvPicPr/>
          <p:nvPr/>
        </p:nvPicPr>
        <p:blipFill>
          <a:blip r:embed="rId1"/>
          <a:stretch/>
        </p:blipFill>
        <p:spPr>
          <a:xfrm>
            <a:off x="5867280" y="458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5" descr="CAEEMKBT"/>
          <p:cNvPicPr/>
          <p:nvPr/>
        </p:nvPicPr>
        <p:blipFill>
          <a:blip r:embed="rId2"/>
          <a:stretch/>
        </p:blipFill>
        <p:spPr>
          <a:xfrm>
            <a:off x="7164360" y="5516640"/>
            <a:ext cx="1630440" cy="120636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CA272JOX"/>
          <p:cNvPicPr/>
          <p:nvPr/>
        </p:nvPicPr>
        <p:blipFill>
          <a:blip r:embed="rId3"/>
          <a:stretch/>
        </p:blipFill>
        <p:spPr>
          <a:xfrm>
            <a:off x="0" y="836640"/>
            <a:ext cx="1042920" cy="78264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CA4TEZK5"/>
          <p:cNvPicPr/>
          <p:nvPr/>
        </p:nvPicPr>
        <p:blipFill>
          <a:blip r:embed="rId4"/>
          <a:stretch/>
        </p:blipFill>
        <p:spPr>
          <a:xfrm>
            <a:off x="4500720" y="5613480"/>
            <a:ext cx="1269720" cy="12445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8" descr="CA8AKPKP"/>
          <p:cNvPicPr/>
          <p:nvPr/>
        </p:nvPicPr>
        <p:blipFill>
          <a:blip r:embed="rId5"/>
          <a:stretch/>
        </p:blipFill>
        <p:spPr>
          <a:xfrm>
            <a:off x="2771640" y="4581360"/>
            <a:ext cx="1513080" cy="113040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9" descr="CA65S5GX"/>
          <p:cNvPicPr/>
          <p:nvPr/>
        </p:nvPicPr>
        <p:blipFill>
          <a:blip r:embed="rId6"/>
          <a:stretch/>
        </p:blipFill>
        <p:spPr>
          <a:xfrm>
            <a:off x="8344080" y="2924280"/>
            <a:ext cx="799920" cy="95256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10" descr="CAMZC92F"/>
          <p:cNvPicPr/>
          <p:nvPr/>
        </p:nvPicPr>
        <p:blipFill>
          <a:blip r:embed="rId7"/>
          <a:stretch/>
        </p:blipFill>
        <p:spPr>
          <a:xfrm>
            <a:off x="7667640" y="443700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11" descr="CAHA7V5Y"/>
          <p:cNvPicPr/>
          <p:nvPr/>
        </p:nvPicPr>
        <p:blipFill>
          <a:blip r:embed="rId8"/>
          <a:stretch/>
        </p:blipFill>
        <p:spPr>
          <a:xfrm>
            <a:off x="7885080" y="83664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12" descr="CAJZH3EJ"/>
          <p:cNvPicPr/>
          <p:nvPr/>
        </p:nvPicPr>
        <p:blipFill>
          <a:blip r:embed="rId9"/>
          <a:stretch/>
        </p:blipFill>
        <p:spPr>
          <a:xfrm>
            <a:off x="1692360" y="590544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13" descr="CAG50J7H"/>
          <p:cNvPicPr/>
          <p:nvPr/>
        </p:nvPicPr>
        <p:blipFill>
          <a:blip r:embed="rId10"/>
          <a:stretch/>
        </p:blipFill>
        <p:spPr>
          <a:xfrm>
            <a:off x="0" y="4724280"/>
            <a:ext cx="16192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7:55:30Z</dcterms:created>
  <dc:creator>A7</dc:creator>
  <dc:description/>
  <dc:language>en-US</dc:language>
  <cp:lastModifiedBy>User</cp:lastModifiedBy>
  <dcterms:modified xsi:type="dcterms:W3CDTF">2010-03-16T08:55:41Z</dcterms:modified>
  <cp:revision>16</cp:revision>
  <dc:subject/>
  <dc:title>Симметрия растений.        </dc:title>
</cp:coreProperties>
</file>