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11.jpeg" ContentType="image/jpeg"/>
  <Override PartName="/ppt/media/image28.jpeg" ContentType="image/jpeg"/>
  <Override PartName="/ppt/media/image9.jpeg" ContentType="image/jpeg"/>
  <Override PartName="/ppt/media/image20.jpeg" ContentType="image/jpeg"/>
  <Override PartName="/ppt/media/image2.wmf" ContentType="image/x-wmf"/>
  <Override PartName="/ppt/media/image25.jpeg" ContentType="image/jpeg"/>
  <Override PartName="/ppt/media/image24.jpeg" ContentType="image/jpeg"/>
  <Override PartName="/ppt/media/image83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17.jpeg" ContentType="image/jpeg"/>
  <Override PartName="/ppt/media/image13.jpeg" ContentType="image/jpeg"/>
  <Override PartName="/ppt/media/image40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166-28FA-4C25-8523-B8DFBA0D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893-F9C6-44D3-B0FF-15387BC5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9ABBA-4134-4AE4-8B83-29840C50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5096C-AF99-40F3-BEC4-5B9859E6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92122-B4ED-49E1-AEF0-AD78643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31BAE-DE69-4BAF-A262-EA1B474D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F9A2E-AB81-4C4B-BB0F-5FCCDA2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844CE-53D6-4954-8296-5A2669D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B33C8-89C3-430B-B48F-94EAF15D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052D2-E5AB-4B54-8D9A-0143A0D1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04049-40C4-4E54-8E22-6C3D6E23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A635C-FE5F-49F6-9D7A-40F0AAEF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BAA-DCB3-4BFE-9531-B7D89C0D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3BEDF-E244-48E7-B363-2AF94654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6FB4B-2D48-4AAD-BFA6-6DA1182E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DE84E-4E6C-401E-BAEB-FBDE7DB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95B89-D1E5-462A-9A7C-BD632313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BB1AA-7D04-4EF5-9CD8-B87DD05B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4C3D0-4557-4654-BEA4-015662E2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43A34-C5F2-4DB7-9F80-BAAA7764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1B039-4278-4251-8CD3-0DA35F0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1B3FA-C565-4F7E-B9FD-1989E1BD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1D574-8A21-435B-8A8D-C1D5E7BA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BF0-C8ED-4F99-86B5-7A877023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A6E82-61F1-4E4F-9146-526E19BC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5DFAE3-A182-4D8B-90D7-4BAD10ED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E879C4-F3A6-40CB-9BCC-CBD37DEB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235FD3-C09F-43B6-B438-149187E3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7215B9-F82A-4CAC-AE2A-8AAE6337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2BB0A4-E1DB-4D48-BE44-E703CCBB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E5AAF3-C7A9-4656-BBB6-7BBC612C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8D18E6-AF26-4FBE-B62D-136453E0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682DE5-79CC-4678-803B-1B3E8B4C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5FC5E2-6B4D-4118-94CD-E11198E2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C85D-B14F-4576-A414-BDBBA729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A41E0F-EB04-4A8A-80B8-E9766E9D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CBBC58-51E7-4CCC-8543-BF9CC7A0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522928-28E1-4F2A-81B2-82D23E88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0D5CB-C951-4CF6-9C82-B23257D6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04987-359A-4B4C-8E7A-BE7ADE12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72F02-76C8-4C6F-9354-690E2A36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C838A-764A-48BC-A0C5-6C7AEF64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F0359-6E0D-4F21-B331-D1F7C030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C64D9-3C9E-4893-AD65-D63812B5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57DDD-BB94-46FE-AF8A-12BEF746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E97B-65D2-46D3-A998-A25A3889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A702C-9F5B-4660-81BB-7A5EE119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218D0-18AF-4E42-A3AF-2D7FF86D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B3784-C29C-4F7B-8A91-9C6F6777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4FCFB-1EC8-4B8C-B812-C206F762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B5D90-2FF5-4F99-8AF6-8F0EC128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390AF-0DA9-4AA3-885B-668FB772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58940-CC35-4BDA-BA21-9E02D31D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94CEA-5994-4A6D-9AD8-A3FE1013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1A13A-9534-432E-8480-41440FC7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94E64-8A42-450F-A04D-A46C7771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C773-1D99-40E0-8F3A-4D887DAE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40A01-7BFF-4F98-ACEA-6606F77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70ADE-6AFF-42CD-8F5E-084B8103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5EA9E-AD01-408A-9F43-F9267EEF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23704-5304-44AD-92EC-B42519C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8D206-CD8F-4D47-B26C-EB373E5F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40116-3CD1-4FFC-A80C-8E94BF0E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F9CA6-5E75-4C4C-8B87-B153E669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8CA9F-675E-4F46-BBD9-40E054AE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BB7C3-377B-45DC-A474-FC4A3E53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E287E-288D-486D-9791-0D70FE00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6A4C-7177-4236-BE53-1C30A0DC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E4DD6-8452-47EF-B873-7D8FB4EE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7EBC8-FAF0-4E1A-98D1-BB6DA3D6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BA05E-5F6F-49E9-942E-2DB1EC98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5FD2B-2884-4CBB-9B7B-64B1473E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4B057-9DF5-4CFC-AAF3-400441A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6FCB8-CD0F-4909-A5E2-7CEAD2D9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6D5CE-3D40-4F97-B3DB-5B398646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AC09B-5957-499A-8684-6A65BB4A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33D39-9430-4D29-B05E-9D297A88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0DAEB6-F71D-4BB3-B1D3-25550DB6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94F5-412D-4D95-A29B-CC91FBF8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F29ED5-10BB-4FD7-B2C4-874A0477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29E31B-8B66-4BBB-90C1-E14BE5E6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83AF18-05AA-4F47-A378-017ADC5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419AB6-D5C7-4155-B9A7-DDEB2EF6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BB4E6C-4C1A-4FB6-8613-0724DB2B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E001B7-6EBB-4923-A470-4C326D01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86FDF9-5060-499A-9613-6EB75E8E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FC0E0F-512F-42F3-85A7-444C58A9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799B24-596E-483C-9B79-92B9C89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6C05A0-3DD6-4668-8493-CF01B994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1AD-22D1-4539-B59D-AB07F2FF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84B55A-822D-43B8-A0E1-53922D6E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48C2E-F781-47E9-A2C2-755062B6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C9899-1287-4C42-805A-7D628BE1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A64B1-5843-4232-8038-F2B10A57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29A07-064D-42B9-B00F-A6D37598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E641D-07E3-4729-8506-57DD0B0F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E3D81-E7DF-4E23-9853-0B11AFA2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12FEF-7E20-48FF-9A56-D4D76825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51642-8BA5-4A03-B7BA-3AFCAE26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BDC39-4376-46FA-9130-72875E19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F3AC-6149-4491-8C74-BBC61F03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9C63E-7920-4ACF-B177-28A59795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2F6EC-4605-4417-91FE-3F7FD35B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7CB52-6D46-4FBA-8DAD-99F75874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69995-53BF-4911-9262-05DBFF54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A2E4B-9D0F-4AA9-8109-65C6179D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AE384-E804-410C-B8CA-CF109402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C93CD-FE0B-4846-B429-7BC8FDBD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49B0F-5939-40B5-91DD-5C57AC69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7293E-FFA2-4DB5-BFCD-CAE3202E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6BE32-6A86-4604-8F87-F0D1EF0D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9AA-3693-4A60-9C4F-C6CE102B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E3A4-D4BD-45D1-9A58-E7C0965D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2BCAD-9BD0-48D2-B759-7F9DA4C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43C713-1D36-4823-816B-AB1F2D8C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63BEF-E276-4FF4-9711-9380E081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5A850-0EEE-4593-B233-50DA45C0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A1B97-4FB4-4202-99FF-CD890289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19E3E-645C-485F-BF1F-3364EF1C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141603-E1D3-4BC3-8241-1B9C13AC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69663-4350-443C-8AFC-725F7297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0F1AE-615F-45AF-943C-29FD62BB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79081-FC50-45E9-89A2-32468286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D16C-50E0-4F4F-A2BB-200890A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B1DFE3-9946-4D05-8E08-34E17E18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E7FC5-EBBA-48A4-8762-5CA89E1C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A3BE3-19DF-4BCC-A47B-0854D66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10926-3541-4ED6-8787-A12FA4B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04B99-40D0-4311-BE59-9899A5F9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A3BF7-78AC-4FDE-A792-810CEEC8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1E7CA-7820-4F45-B368-6405721B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3EBA-70FD-4926-8404-2829808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7067-15C1-44DC-8348-55523A62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E97E-CF03-435E-BD29-844CBA5B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D9D9-DF1E-4910-ACB2-0673AC93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D826-A437-4FAF-BA76-F1364DA3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7A23-277D-4DC6-8128-2BBD77D4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AAEC-5FFB-4CC3-831A-1D2EF6B9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D72D1-D92E-4F51-A8BA-0166BAA1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B66-0035-4F34-93D9-EEB55378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4638-CFA2-42C8-8509-EAE375A0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AE94-3687-4E76-9C66-DBDDC80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20F7-E329-4B5E-9D1F-719F008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B8C5-4A2C-43CE-86DB-2462FC8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72E7-E07D-4EF2-9988-F0A5EB24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507A-3C18-4A81-B508-272E099A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23F1-E218-4B36-B750-0A15C1AF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49951-A268-4E65-9330-24F2484A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C28D8-566A-4540-A1D5-DDC6AAA7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AED46-A75B-44AC-9D6C-5D4A91C3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CE3-AA65-4C28-B6FE-1457672D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7EC07-535B-4A13-BBF9-5A839D67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DFF52-4EA5-46CE-8E16-03E24F56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661DB-E543-464A-B384-4CB8C3DF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BF9234-3031-4CE6-974C-F0455F30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24244-8581-486C-B9FC-4209FBF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91E2D-BA5E-4505-9874-C756A077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220FA-108D-4CE1-8815-29CEA753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2E092-FCA5-4146-A512-5865379D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F6DB9-20DD-4371-BDD5-09B85E86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DD78C-FFA1-48EB-BDB5-76B80FAC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0EA-4BDF-4704-A046-D5F59E74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5132D-264C-4955-A90C-BCB7A7E1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A57E1-8F09-4F3F-9DD6-B3E73350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2EB81-3B4C-4F0D-9CC7-951AF933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C7968-C597-4C93-A751-A874C14F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3135D-59FD-422E-8A7E-0E9921D9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8F581-65DC-4725-B4FD-05488DE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9381E-B2F6-4841-8D89-BB828622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8E1F3-3FB8-4AEF-9535-042CF20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736B9-F9B5-4C8A-AB1F-2CAA7D22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62193-F3CA-4ABF-9627-9E0B075D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8C6-7B82-4819-9FB1-50AAD0A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8159B-5ADD-46E5-A330-8F1D57EC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DBC0-798B-4AEA-A999-6A9FA1A3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31A0-F2C4-4C7E-B0DE-A9D9F742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D465B-3514-4C2A-8028-877CC9C9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451E2-159F-411D-9664-699CC4D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5D5D-D7C0-4290-A989-99D764D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B47C8-2231-466E-AA50-BA9C8EAD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44ADE-49CC-4B43-828D-CC833BF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9CEEF-1B6D-41FB-ACD3-BF73C69B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E157-FF28-4D07-88A7-86F0416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3CE-3535-427A-BC91-E75D3BE1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3914A-F996-4715-8341-B798A434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7AF24-F3A6-4620-9060-C2ADEE9D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A4FA2-737C-4889-8BE0-80F032F3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77BC-81F6-447F-8DEE-7C70F4BD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53251-B5FF-4E07-9B76-3F04D075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E366-56CF-4D8B-88FD-8534ABFA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EB16-F9C9-4A1C-BEED-AE465CA7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7982B-088F-49EE-97B2-7C47960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70F9A-2BE9-4A75-9F34-DF673A97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9A5F0-A068-46E0-9572-8FF8A0D1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8E1-BC13-47D2-9147-8872D4C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C7F22-4179-4F4A-9140-B6FC50B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64C7B-03DF-4F8F-90B7-D1916A41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B92C-7CF5-4799-9E31-03BEA0BB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0DE3B-11F4-477F-969A-29838A93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6F4CF-24A4-45F1-B129-EAE861EE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D801-5CD0-4720-A3B4-01447916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6EEE2-9C74-4C5A-A382-211FADBF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F72EF-5EC4-4D0F-9634-92C26D7C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F8C9-9C54-4614-8AFB-7C571AE5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D3CE7-1CE2-4BD7-A389-5EEC6FA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B4B-1CC4-44FB-8381-DF06C2F3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70460-6C1E-4E4B-9A8E-0319A5E9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5ECE2-85D7-433C-B8C6-6A02D99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4D6DA-BBDF-494E-A03D-C6C6022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FECA1-E629-49B3-B6F8-CC31D660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1E6A8-133D-4525-A915-EF856476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372F2-52E1-4158-89A0-8A40B0C8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E1CAA-B281-41E8-A209-99144CF5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0C610-A97A-4631-B180-79BD0C3D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83D9C-054E-4129-B859-80F56C62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FD804-43C3-4286-A3F4-BE0B74F7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05.xml"/><Relationship Id="rId35" Type="http://schemas.openxmlformats.org/officeDocument/2006/relationships/slideLayout" Target="../slideLayouts/slideLayout206.xml"/><Relationship Id="rId36" Type="http://schemas.openxmlformats.org/officeDocument/2006/relationships/slideLayout" Target="../slideLayouts/slideLayout207.xml"/><Relationship Id="rId37" Type="http://schemas.openxmlformats.org/officeDocument/2006/relationships/slideLayout" Target="../slideLayouts/slideLayout208.xml"/><Relationship Id="rId38" Type="http://schemas.openxmlformats.org/officeDocument/2006/relationships/slideLayout" Target="../slideLayouts/slideLayout209.xml"/><Relationship Id="rId39" Type="http://schemas.openxmlformats.org/officeDocument/2006/relationships/slideLayout" Target="../slideLayouts/slideLayout210.xml"/><Relationship Id="rId40" Type="http://schemas.openxmlformats.org/officeDocument/2006/relationships/slideLayout" Target="../slideLayouts/slideLayout211.xml"/><Relationship Id="rId41" Type="http://schemas.openxmlformats.org/officeDocument/2006/relationships/slideLayout" Target="../slideLayouts/slideLayout212.xml"/><Relationship Id="rId42" Type="http://schemas.openxmlformats.org/officeDocument/2006/relationships/slideLayout" Target="../slideLayouts/slideLayout213.xml"/><Relationship Id="rId43" Type="http://schemas.openxmlformats.org/officeDocument/2006/relationships/slideLayout" Target="../slideLayouts/slideLayout214.xml"/><Relationship Id="rId44" Type="http://schemas.openxmlformats.org/officeDocument/2006/relationships/slideLayout" Target="../slideLayouts/slideLayout215.xml"/><Relationship Id="rId4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A75-1452-497F-A053-C71310CA1B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74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1F3-57DD-4F9B-AB6E-52777D63D4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8AAB-EAF5-474F-92C6-4885335C09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BF0C-C527-491B-8EE9-A790DBD478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0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521B-5B5D-45D5-B7BA-855E8C85B9F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28C1-3C4B-4EC2-B840-29915CA45C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21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25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2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3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27B3-F779-40D0-AFC7-A8C0445D14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8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DC33-5020-4A3F-B7AC-294302BA670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7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962B-3059-4497-938A-5524F730377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125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3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254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255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256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257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9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6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7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7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3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D2D9-D2E7-4278-8291-641F3B4F480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4"/>
    <p:sldLayoutId id="2147483871" r:id="rId35"/>
    <p:sldLayoutId id="2147483872" r:id="rId36"/>
    <p:sldLayoutId id="2147483873" r:id="rId37"/>
    <p:sldLayoutId id="2147483874" r:id="rId38"/>
    <p:sldLayoutId id="2147483875" r:id="rId39"/>
    <p:sldLayoutId id="2147483876" r:id="rId40"/>
    <p:sldLayoutId id="2147483877" r:id="rId41"/>
    <p:sldLayoutId id="2147483878" r:id="rId42"/>
    <p:sldLayoutId id="2147483879" r:id="rId43"/>
    <p:sldLayoutId id="2147483880" r:id="rId44"/>
    <p:sldLayoutId id="2147483881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A0E2-A30A-4454-B8B3-0B4A524AFC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C962-CB21-456B-BC88-8CCB1DA56E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F28A-9AEB-4D7F-B0DC-B21F3F89B36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CF24-6B85-4C88-8140-65F2F4E156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9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53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2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AA07-4D85-446B-A48F-5C4736C015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25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EBB8-9044-425B-958C-0D60FEC30D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61C6-CD93-4B6F-A027-55D5E02CC9E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8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8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0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FF61-AE29-46C8-A9E9-15857BC3E3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2.jpeg"/><Relationship Id="rId9" Type="http://schemas.openxmlformats.org/officeDocument/2006/relationships/image" Target="../media/image72.jpeg"/><Relationship Id="rId10" Type="http://schemas.openxmlformats.org/officeDocument/2006/relationships/image" Target="../media/image72.jpeg"/><Relationship Id="rId11" Type="http://schemas.openxmlformats.org/officeDocument/2006/relationships/image" Target="../media/image72.jpeg"/><Relationship Id="rId12" Type="http://schemas.openxmlformats.org/officeDocument/2006/relationships/image" Target="../media/image75.jpeg"/><Relationship Id="rId13" Type="http://schemas.openxmlformats.org/officeDocument/2006/relationships/image" Target="../media/image76.jpeg"/><Relationship Id="rId1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33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26a74"/>
                </a:solidFill>
                <a:latin typeface="Tahoma"/>
              </a:rPr>
              <a:t>Симметрия растений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5dd0"/>
                </a:solidFill>
                <a:latin typeface="Tahoma"/>
              </a:rPr>
              <a:t>Работа ученицы 10 класса О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5dd0"/>
                </a:solidFill>
                <a:latin typeface="Tahoma"/>
              </a:rPr>
              <a:t>Ежовой Инны учитель Прокопенко Г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7" name="Picture 4" descr="i[14]"/>
          <p:cNvPicPr/>
          <p:nvPr/>
        </p:nvPicPr>
        <p:blipFill>
          <a:blip r:embed="rId1"/>
          <a:stretch/>
        </p:blipFill>
        <p:spPr>
          <a:xfrm>
            <a:off x="0" y="3789360"/>
            <a:ext cx="2355840" cy="306864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5" descr="CAEZ89UZ"/>
          <p:cNvPicPr/>
          <p:nvPr/>
        </p:nvPicPr>
        <p:blipFill>
          <a:blip r:embed="rId2"/>
          <a:stretch/>
        </p:blipFill>
        <p:spPr>
          <a:xfrm>
            <a:off x="6732720" y="0"/>
            <a:ext cx="2206440" cy="165564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7" descr="CA4Y0KFR"/>
          <p:cNvPicPr/>
          <p:nvPr/>
        </p:nvPicPr>
        <p:blipFill>
          <a:blip r:embed="rId3"/>
          <a:stretch/>
        </p:blipFill>
        <p:spPr>
          <a:xfrm>
            <a:off x="6516720" y="5373720"/>
            <a:ext cx="2158920" cy="142560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8" descr="CAIRGDIZ"/>
          <p:cNvPicPr/>
          <p:nvPr/>
        </p:nvPicPr>
        <p:blipFill>
          <a:blip r:embed="rId4"/>
          <a:stretch/>
        </p:blipFill>
        <p:spPr>
          <a:xfrm>
            <a:off x="0" y="0"/>
            <a:ext cx="2090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Симметрия конус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Симметрия конуса видна  на примере фактически любого дерева. Дерево при помощи корневой системы поглощает влагу и питательные вещества из почвы, то есть снизу а, остальные жизненно важные функции выполняются кроной, то есть сверху.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9" name="Picture 4" descr="CAA4LBRA"/>
          <p:cNvPicPr/>
          <p:nvPr/>
        </p:nvPicPr>
        <p:blipFill>
          <a:blip r:embed="rId1"/>
          <a:stretch/>
        </p:blipFill>
        <p:spPr>
          <a:xfrm>
            <a:off x="0" y="4724280"/>
            <a:ext cx="1365120" cy="213372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5" descr="CAWXPAO6"/>
          <p:cNvPicPr/>
          <p:nvPr/>
        </p:nvPicPr>
        <p:blipFill>
          <a:blip r:embed="rId2"/>
          <a:stretch/>
        </p:blipFill>
        <p:spPr>
          <a:xfrm>
            <a:off x="7524720" y="342900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6" descr="CAQVSP6R"/>
          <p:cNvPicPr/>
          <p:nvPr/>
        </p:nvPicPr>
        <p:blipFill>
          <a:blip r:embed="rId3"/>
          <a:stretch/>
        </p:blipFill>
        <p:spPr>
          <a:xfrm>
            <a:off x="2195640" y="4292640"/>
            <a:ext cx="3240000" cy="236520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7" descr="i[80]"/>
          <p:cNvPicPr/>
          <p:nvPr/>
        </p:nvPicPr>
        <p:blipFill>
          <a:blip r:embed="rId4"/>
          <a:stretch/>
        </p:blipFill>
        <p:spPr>
          <a:xfrm>
            <a:off x="7451640" y="189000"/>
            <a:ext cx="1692360" cy="12650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8" descr="i[76]"/>
          <p:cNvPicPr/>
          <p:nvPr/>
        </p:nvPicPr>
        <p:blipFill>
          <a:blip r:embed="rId5"/>
          <a:stretch/>
        </p:blipFill>
        <p:spPr>
          <a:xfrm>
            <a:off x="5940360" y="4941720"/>
            <a:ext cx="2376720" cy="172908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9" descr="CATWRAVP"/>
          <p:cNvPicPr/>
          <p:nvPr/>
        </p:nvPicPr>
        <p:blipFill>
          <a:blip r:embed="rId6"/>
          <a:stretch/>
        </p:blipFill>
        <p:spPr>
          <a:xfrm>
            <a:off x="179280" y="189000"/>
            <a:ext cx="1752840" cy="1320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6a74"/>
                </a:solidFill>
                <a:latin typeface="Arial"/>
              </a:rPr>
              <a:t>Наследственность- это тоже симметрия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5dd0"/>
                </a:solidFill>
                <a:latin typeface="Arial"/>
              </a:rPr>
              <a:t>Человек передает свои наследственные признаки из поколения в поколение. Также растения переходя от одного поколения к другому, наблюдается сохранение определенных свойств. Так из семечка вырастает новый подсолнух(подсолнечник) с таким же огромным соцветием- корзинкой, также исправно поворачивается к Солнцу. Это тоже есть симметрия, ее обычно называют наследственностью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7" name="Picture 4" descr="CA8B2BAK"/>
          <p:cNvPicPr/>
          <p:nvPr/>
        </p:nvPicPr>
        <p:blipFill>
          <a:blip r:embed="rId1"/>
          <a:stretch/>
        </p:blipFill>
        <p:spPr>
          <a:xfrm>
            <a:off x="5003640" y="4165560"/>
            <a:ext cx="3600720" cy="269244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5" descr="CASTQX4V"/>
          <p:cNvPicPr/>
          <p:nvPr/>
        </p:nvPicPr>
        <p:blipFill>
          <a:blip r:embed="rId2"/>
          <a:stretch/>
        </p:blipFill>
        <p:spPr>
          <a:xfrm>
            <a:off x="324000" y="5373720"/>
            <a:ext cx="1944360" cy="146520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6" descr="CAZP1QYF"/>
          <p:cNvPicPr/>
          <p:nvPr/>
        </p:nvPicPr>
        <p:blipFill>
          <a:blip r:embed="rId3"/>
          <a:stretch/>
        </p:blipFill>
        <p:spPr>
          <a:xfrm>
            <a:off x="2627280" y="4365720"/>
            <a:ext cx="158292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Лучевая  симметр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500"/>
                </a:solidFill>
                <a:latin typeface="Tahoma"/>
              </a:rPr>
              <a:t>Присмотритесь внимательно и вы увидите, что лепестки каждого тела расходятся во все стороны, как лучи от источника света .В математике- это симметрия относительно точки, в биологии –лучевая симметр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2" name="Picture 7" descr="i[45]"/>
          <p:cNvPicPr/>
          <p:nvPr/>
        </p:nvPicPr>
        <p:blipFill>
          <a:blip r:embed="rId1"/>
          <a:stretch/>
        </p:blipFill>
        <p:spPr>
          <a:xfrm>
            <a:off x="0" y="0"/>
            <a:ext cx="2050920" cy="153360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8" descr="i[57]"/>
          <p:cNvPicPr/>
          <p:nvPr/>
        </p:nvPicPr>
        <p:blipFill>
          <a:blip r:embed="rId2"/>
          <a:stretch/>
        </p:blipFill>
        <p:spPr>
          <a:xfrm>
            <a:off x="6227640" y="2997360"/>
            <a:ext cx="2232000" cy="166824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0" descr="i[87]"/>
          <p:cNvPicPr/>
          <p:nvPr/>
        </p:nvPicPr>
        <p:blipFill>
          <a:blip r:embed="rId3"/>
          <a:stretch/>
        </p:blipFill>
        <p:spPr>
          <a:xfrm>
            <a:off x="468360" y="501336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1" descr="CA274LQ3"/>
          <p:cNvPicPr/>
          <p:nvPr/>
        </p:nvPicPr>
        <p:blipFill>
          <a:blip r:embed="rId4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2" descr="CA274LQ3"/>
          <p:cNvPicPr/>
          <p:nvPr/>
        </p:nvPicPr>
        <p:blipFill>
          <a:blip r:embed="rId5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14" descr="CA557B7R"/>
          <p:cNvPicPr/>
          <p:nvPr/>
        </p:nvPicPr>
        <p:blipFill>
          <a:blip r:embed="rId6"/>
          <a:stretch/>
        </p:blipFill>
        <p:spPr>
          <a:xfrm>
            <a:off x="3419640" y="476100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5" descr="CAH0B6B1"/>
          <p:cNvPicPr/>
          <p:nvPr/>
        </p:nvPicPr>
        <p:blipFill>
          <a:blip r:embed="rId7"/>
          <a:stretch/>
        </p:blipFill>
        <p:spPr>
          <a:xfrm>
            <a:off x="250920" y="2924280"/>
            <a:ext cx="2305080" cy="170640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16" descr="CA274LQ3"/>
          <p:cNvPicPr/>
          <p:nvPr/>
        </p:nvPicPr>
        <p:blipFill>
          <a:blip r:embed="rId8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17" descr="CA274LQ3"/>
          <p:cNvPicPr/>
          <p:nvPr/>
        </p:nvPicPr>
        <p:blipFill>
          <a:blip r:embed="rId9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8" descr="CA274LQ3"/>
          <p:cNvPicPr/>
          <p:nvPr/>
        </p:nvPicPr>
        <p:blipFill>
          <a:blip r:embed="rId10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19" descr="CA274LQ3"/>
          <p:cNvPicPr/>
          <p:nvPr/>
        </p:nvPicPr>
        <p:blipFill>
          <a:blip r:embed="rId11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20" descr="i[97]"/>
          <p:cNvPicPr/>
          <p:nvPr/>
        </p:nvPicPr>
        <p:blipFill>
          <a:blip r:embed="rId12"/>
          <a:stretch/>
        </p:blipFill>
        <p:spPr>
          <a:xfrm>
            <a:off x="3492360" y="3068640"/>
            <a:ext cx="1970280" cy="147780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21" descr="i[95]"/>
          <p:cNvPicPr/>
          <p:nvPr/>
        </p:nvPicPr>
        <p:blipFill>
          <a:blip r:embed="rId13"/>
          <a:stretch/>
        </p:blipFill>
        <p:spPr>
          <a:xfrm>
            <a:off x="6372360" y="4941720"/>
            <a:ext cx="2232000" cy="15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10920" y="1369800"/>
            <a:ext cx="7040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Вывод: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60721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52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52280" indent="-152280" algn="ctr">
              <a:lnSpc>
                <a:spcPct val="80000"/>
              </a:lnSpc>
              <a:spcBef>
                <a:spcPts val="499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Симметрия проникла в растительный мир стала там полновластной хозяйко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152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2.В растительном мире встречается билатеральная (зеркальная), лучевая, поворотная, симметрия конуса., осевая, центральная, наследственная симметрия, винтовая симметр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152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47" name="Picture 13" descr="i[45]"/>
          <p:cNvPicPr/>
          <p:nvPr/>
        </p:nvPicPr>
        <p:blipFill>
          <a:blip r:embed="rId1"/>
          <a:stretch/>
        </p:blipFill>
        <p:spPr>
          <a:xfrm>
            <a:off x="324000" y="4894200"/>
            <a:ext cx="2376360" cy="177804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5" descr="i?id=7903008&amp;tov=5"/>
          <p:cNvPicPr/>
          <p:nvPr/>
        </p:nvPicPr>
        <p:blipFill>
          <a:blip r:embed="rId2"/>
          <a:stretch/>
        </p:blipFill>
        <p:spPr>
          <a:xfrm>
            <a:off x="324000" y="18900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7" descr="i?id=2295027&amp;tov=7"/>
          <p:cNvPicPr/>
          <p:nvPr/>
        </p:nvPicPr>
        <p:blipFill>
          <a:blip r:embed="rId3"/>
          <a:stretch/>
        </p:blipFill>
        <p:spPr>
          <a:xfrm>
            <a:off x="6335640" y="18900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8" descr="CAM309YV"/>
          <p:cNvPicPr/>
          <p:nvPr/>
        </p:nvPicPr>
        <p:blipFill>
          <a:blip r:embed="rId4"/>
          <a:stretch/>
        </p:blipFill>
        <p:spPr>
          <a:xfrm>
            <a:off x="7020000" y="4869000"/>
            <a:ext cx="1744560" cy="198900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9" descr="CANJL0YP"/>
          <p:cNvPicPr/>
          <p:nvPr/>
        </p:nvPicPr>
        <p:blipFill>
          <a:blip r:embed="rId5"/>
          <a:stretch/>
        </p:blipFill>
        <p:spPr>
          <a:xfrm>
            <a:off x="3635280" y="260280"/>
            <a:ext cx="24242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пользованная литература:                                  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. Тарасов «Этот удивительно симметричный мир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Jndex.r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ртинки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crosoft Off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 Гарднер «Этот правый, левый мир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4" name="Rectangle -10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9600" tIns="-46440" bIns="-154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5" name="Picture 4" descr="i[87]"/>
          <p:cNvPicPr/>
          <p:nvPr/>
        </p:nvPicPr>
        <p:blipFill>
          <a:blip r:embed="rId1"/>
          <a:stretch/>
        </p:blipFill>
        <p:spPr>
          <a:xfrm>
            <a:off x="3851280" y="486900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6" descr="i?id=2869955&amp;tov=4"/>
          <p:cNvPicPr/>
          <p:nvPr/>
        </p:nvPicPr>
        <p:blipFill>
          <a:blip r:embed="rId2"/>
          <a:stretch/>
        </p:blipFill>
        <p:spPr>
          <a:xfrm>
            <a:off x="324000" y="4724280"/>
            <a:ext cx="3024000" cy="173520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8" descr="i?id=8344409&amp;tov=2"/>
          <p:cNvPicPr/>
          <p:nvPr/>
        </p:nvPicPr>
        <p:blipFill>
          <a:blip r:embed="rId3"/>
          <a:stretch/>
        </p:blipFill>
        <p:spPr>
          <a:xfrm>
            <a:off x="7308720" y="2133720"/>
            <a:ext cx="1519200" cy="11350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0" descr="i?id=24474187&amp;tov=5"/>
          <p:cNvPicPr/>
          <p:nvPr/>
        </p:nvPicPr>
        <p:blipFill>
          <a:blip r:embed="rId4"/>
          <a:stretch/>
        </p:blipFill>
        <p:spPr>
          <a:xfrm>
            <a:off x="6300720" y="4653000"/>
            <a:ext cx="2592360" cy="17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Arial Black"/>
              </a:rPr>
              <a:t>  </a:t>
            </a:r>
            <a:br>
              <a:rPr sz="5400"/>
            </a:br>
            <a:r>
              <a:rPr b="0" lang="ru-RU" sz="54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ru-RU" sz="5400" spc="-1" strike="noStrike">
                <a:solidFill>
                  <a:srgbClr val="ff33cc"/>
                </a:solidFill>
                <a:latin typeface="Arial Black"/>
              </a:rPr>
              <a:t>Цель моего исследования:</a:t>
            </a:r>
            <a:br>
              <a:rPr sz="60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1.Показать,что мир растений зародился благодаря симмет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2.Выяснить понятие  билатер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симметр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3" name="Picture 4" descr="i[75]"/>
          <p:cNvPicPr/>
          <p:nvPr/>
        </p:nvPicPr>
        <p:blipFill>
          <a:blip r:embed="rId1"/>
          <a:stretch/>
        </p:blipFill>
        <p:spPr>
          <a:xfrm>
            <a:off x="6012000" y="3645000"/>
            <a:ext cx="2709720" cy="173340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6" descr="i?id=20889257&amp;tov=7"/>
          <p:cNvPicPr/>
          <p:nvPr/>
        </p:nvPicPr>
        <p:blipFill>
          <a:blip r:embed="rId2"/>
          <a:stretch/>
        </p:blipFill>
        <p:spPr>
          <a:xfrm>
            <a:off x="324000" y="4581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11" descr="CAM2QRMD"/>
          <p:cNvPicPr/>
          <p:nvPr/>
        </p:nvPicPr>
        <p:blipFill>
          <a:blip r:embed="rId3"/>
          <a:stretch/>
        </p:blipFill>
        <p:spPr>
          <a:xfrm>
            <a:off x="3564000" y="486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12" descr="CAEN016R"/>
          <p:cNvPicPr/>
          <p:nvPr/>
        </p:nvPicPr>
        <p:blipFill>
          <a:blip r:embed="rId4"/>
          <a:stretch/>
        </p:blipFill>
        <p:spPr>
          <a:xfrm>
            <a:off x="6948360" y="333360"/>
            <a:ext cx="1871640" cy="18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Для ответа на данный вопрос мне необходимо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a74"/>
                </a:solidFill>
                <a:latin typeface="Arial"/>
              </a:rPr>
              <a:t>Изучить понятие симметрия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a74"/>
                </a:solidFill>
                <a:latin typeface="Arial"/>
              </a:rPr>
              <a:t>Понять почему симметрия пронизывает мир рас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9" name="Picture 4" descr="i[80]"/>
          <p:cNvPicPr/>
          <p:nvPr/>
        </p:nvPicPr>
        <p:blipFill>
          <a:blip r:embed="rId1"/>
          <a:stretch/>
        </p:blipFill>
        <p:spPr>
          <a:xfrm>
            <a:off x="6588000" y="3429000"/>
            <a:ext cx="2556000" cy="190980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5" descr="CAEZ89UZ"/>
          <p:cNvPicPr/>
          <p:nvPr/>
        </p:nvPicPr>
        <p:blipFill>
          <a:blip r:embed="rId2"/>
          <a:stretch/>
        </p:blipFill>
        <p:spPr>
          <a:xfrm>
            <a:off x="250920" y="3573360"/>
            <a:ext cx="2089080" cy="156708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8" descr="CA4NY7QA"/>
          <p:cNvPicPr/>
          <p:nvPr/>
        </p:nvPicPr>
        <p:blipFill>
          <a:blip r:embed="rId3"/>
          <a:stretch/>
        </p:blipFill>
        <p:spPr>
          <a:xfrm>
            <a:off x="3419640" y="2637000"/>
            <a:ext cx="1465200" cy="143496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9" descr="i[36]"/>
          <p:cNvPicPr/>
          <p:nvPr/>
        </p:nvPicPr>
        <p:blipFill>
          <a:blip r:embed="rId4"/>
          <a:stretch/>
        </p:blipFill>
        <p:spPr>
          <a:xfrm>
            <a:off x="3564000" y="4869000"/>
            <a:ext cx="1942920" cy="1709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7960"/>
                </a:solidFill>
                <a:latin typeface="Tahoma"/>
              </a:rPr>
              <a:t>Жизнь зародилась в симметрических форма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4000" y="2344320"/>
            <a:ext cx="793404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«На Земле жизнь зародилась в сферически симметричных формах ,а потом стала развиваться по двум главным линиям: образовался мир растений ,обладающих симметрией конуса ,и мир животных с билатеральной симметрие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М. Гардне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5" name="Picture 4" descr="i[93]"/>
          <p:cNvPicPr/>
          <p:nvPr/>
        </p:nvPicPr>
        <p:blipFill>
          <a:blip r:embed="rId1"/>
          <a:stretch/>
        </p:blipFill>
        <p:spPr>
          <a:xfrm>
            <a:off x="179280" y="5397480"/>
            <a:ext cx="1947960" cy="146052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5" descr="i[24]"/>
          <p:cNvPicPr/>
          <p:nvPr/>
        </p:nvPicPr>
        <p:blipFill>
          <a:blip r:embed="rId2"/>
          <a:stretch/>
        </p:blipFill>
        <p:spPr>
          <a:xfrm>
            <a:off x="7524720" y="1628640"/>
            <a:ext cx="1211400" cy="90828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6" descr="i[86]"/>
          <p:cNvPicPr/>
          <p:nvPr/>
        </p:nvPicPr>
        <p:blipFill>
          <a:blip r:embed="rId3"/>
          <a:stretch/>
        </p:blipFill>
        <p:spPr>
          <a:xfrm>
            <a:off x="7873920" y="407664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8" descr="CAWXPAO6"/>
          <p:cNvPicPr/>
          <p:nvPr/>
        </p:nvPicPr>
        <p:blipFill>
          <a:blip r:embed="rId4"/>
          <a:stretch/>
        </p:blipFill>
        <p:spPr>
          <a:xfrm>
            <a:off x="0" y="1341360"/>
            <a:ext cx="1187280" cy="118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Билатеральная симмет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0336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fa9b7"/>
                </a:solidFill>
                <a:latin typeface="Tahoma"/>
              </a:rPr>
              <a:t>Билатеральная симметрия -зеркальная. Термин  «зеркальная» используется в геометрии и физики, а «билатеральная»- в би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1" name="Picture 4" descr="CA6RKTMB"/>
          <p:cNvPicPr/>
          <p:nvPr/>
        </p:nvPicPr>
        <p:blipFill>
          <a:blip r:embed="rId1"/>
          <a:stretch/>
        </p:blipFill>
        <p:spPr>
          <a:xfrm>
            <a:off x="0" y="5661000"/>
            <a:ext cx="2484360" cy="92088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7" descr="i?id=20171773&amp;tov=8"/>
          <p:cNvPicPr/>
          <p:nvPr/>
        </p:nvPicPr>
        <p:blipFill>
          <a:blip r:embed="rId2"/>
          <a:stretch/>
        </p:blipFill>
        <p:spPr>
          <a:xfrm>
            <a:off x="0" y="256536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9" descr="i?id=13296857&amp;tov=2"/>
          <p:cNvPicPr/>
          <p:nvPr/>
        </p:nvPicPr>
        <p:blipFill>
          <a:blip r:embed="rId3"/>
          <a:stretch/>
        </p:blipFill>
        <p:spPr>
          <a:xfrm>
            <a:off x="1547640" y="4005360"/>
            <a:ext cx="1873440" cy="14000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11" descr="i?id=8550692&amp;tov=8"/>
          <p:cNvPicPr/>
          <p:nvPr/>
        </p:nvPicPr>
        <p:blipFill>
          <a:blip r:embed="rId4"/>
          <a:stretch/>
        </p:blipFill>
        <p:spPr>
          <a:xfrm>
            <a:off x="6804000" y="249228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13" descr="i?id=21323321&amp;tov=4"/>
          <p:cNvPicPr/>
          <p:nvPr/>
        </p:nvPicPr>
        <p:blipFill>
          <a:blip r:embed="rId5"/>
          <a:stretch/>
        </p:blipFill>
        <p:spPr>
          <a:xfrm>
            <a:off x="5796000" y="4005360"/>
            <a:ext cx="1238040" cy="165564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15" descr="i?id=24795249&amp;tov=2"/>
          <p:cNvPicPr/>
          <p:nvPr/>
        </p:nvPicPr>
        <p:blipFill>
          <a:blip r:embed="rId6"/>
          <a:stretch/>
        </p:blipFill>
        <p:spPr>
          <a:xfrm>
            <a:off x="7380360" y="494172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1377" name="Picture 18" descr="i[60]"/>
          <p:cNvPicPr/>
          <p:nvPr/>
        </p:nvPicPr>
        <p:blipFill>
          <a:blip r:embed="rId7"/>
          <a:stretch/>
        </p:blipFill>
        <p:spPr>
          <a:xfrm>
            <a:off x="1763640" y="2565360"/>
            <a:ext cx="1657440" cy="1243080"/>
          </a:xfrm>
          <a:prstGeom prst="rect">
            <a:avLst/>
          </a:prstGeom>
          <a:ln w="0">
            <a:noFill/>
          </a:ln>
        </p:spPr>
      </p:pic>
      <p:pic>
        <p:nvPicPr>
          <p:cNvPr id="1378" name="Picture 19" descr="i[65]"/>
          <p:cNvPicPr/>
          <p:nvPr/>
        </p:nvPicPr>
        <p:blipFill>
          <a:blip r:embed="rId8"/>
          <a:stretch/>
        </p:blipFill>
        <p:spPr>
          <a:xfrm>
            <a:off x="3564000" y="5157720"/>
            <a:ext cx="2160360" cy="144792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21" descr="NA00864_[1]"/>
          <p:cNvPicPr/>
          <p:nvPr/>
        </p:nvPicPr>
        <p:blipFill>
          <a:blip r:embed="rId9"/>
          <a:stretch/>
        </p:blipFill>
        <p:spPr>
          <a:xfrm>
            <a:off x="4067280" y="2565360"/>
            <a:ext cx="2087280" cy="18050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22" descr="CAS1KVC1"/>
          <p:cNvPicPr/>
          <p:nvPr/>
        </p:nvPicPr>
        <p:blipFill>
          <a:blip r:embed="rId10"/>
          <a:stretch/>
        </p:blipFill>
        <p:spPr>
          <a:xfrm>
            <a:off x="0" y="3789360"/>
            <a:ext cx="1098720" cy="16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5dd0"/>
                </a:solidFill>
                <a:latin typeface="Tahoma"/>
              </a:rPr>
              <a:t>Поворотная симметрия</a:t>
            </a:r>
            <a:r>
              <a:rPr b="1" lang="ru-RU" sz="4400" spc="-1" strike="noStrike">
                <a:solidFill>
                  <a:srgbClr val="9383b3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ля цветов характерна поворотная симмет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воротной симметрией обладают: веточка боярышника, цветок зверобоя, веточка акации, лапчатка гусина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3" name="Picture 5" descr="CAMZC92F"/>
          <p:cNvPicPr/>
          <p:nvPr/>
        </p:nvPicPr>
        <p:blipFill>
          <a:blip r:embed="rId1"/>
          <a:stretch/>
        </p:blipFill>
        <p:spPr>
          <a:xfrm>
            <a:off x="6227640" y="472428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6" descr="CA2JSHUZ"/>
          <p:cNvPicPr/>
          <p:nvPr/>
        </p:nvPicPr>
        <p:blipFill>
          <a:blip r:embed="rId2"/>
          <a:stretch/>
        </p:blipFill>
        <p:spPr>
          <a:xfrm>
            <a:off x="7956720" y="333360"/>
            <a:ext cx="1187280" cy="109224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7" descr="CA6Z4VVG"/>
          <p:cNvPicPr/>
          <p:nvPr/>
        </p:nvPicPr>
        <p:blipFill>
          <a:blip r:embed="rId3"/>
          <a:stretch/>
        </p:blipFill>
        <p:spPr>
          <a:xfrm>
            <a:off x="356400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8" descr="i[36]"/>
          <p:cNvPicPr/>
          <p:nvPr/>
        </p:nvPicPr>
        <p:blipFill>
          <a:blip r:embed="rId4"/>
          <a:stretch/>
        </p:blipFill>
        <p:spPr>
          <a:xfrm>
            <a:off x="468360" y="4724280"/>
            <a:ext cx="2663640" cy="174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 Box 4"/>
          <p:cNvSpPr/>
          <p:nvPr/>
        </p:nvSpPr>
        <p:spPr>
          <a:xfrm>
            <a:off x="468360" y="476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о поворотная симметрия цветов сочетается с зеркальной симметр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8" name="Picture 5" descr="CA2JSHUZ"/>
          <p:cNvPicPr/>
          <p:nvPr/>
        </p:nvPicPr>
        <p:blipFill>
          <a:blip r:embed="rId1"/>
          <a:stretch/>
        </p:blipFill>
        <p:spPr>
          <a:xfrm>
            <a:off x="324000" y="1773360"/>
            <a:ext cx="2447640" cy="2252520"/>
          </a:xfrm>
          <a:prstGeom prst="rect">
            <a:avLst/>
          </a:prstGeom>
          <a:ln w="0">
            <a:noFill/>
          </a:ln>
        </p:spPr>
      </p:pic>
      <p:sp>
        <p:nvSpPr>
          <p:cNvPr id="1389" name="Text Box 7"/>
          <p:cNvSpPr/>
          <p:nvPr/>
        </p:nvSpPr>
        <p:spPr>
          <a:xfrm>
            <a:off x="3059280" y="1844640"/>
            <a:ext cx="468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очка акации имеет зеркальную и поворотную симметрию. Веточка боярышника обладает скользящей осью симметрии. Гусиная лапчатка имеет поворотную симметрию и зеркаль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0" name="Picture 8" descr="i[42]"/>
          <p:cNvPicPr/>
          <p:nvPr/>
        </p:nvPicPr>
        <p:blipFill>
          <a:blip r:embed="rId2"/>
          <a:stretch/>
        </p:blipFill>
        <p:spPr>
          <a:xfrm>
            <a:off x="250920" y="4292640"/>
            <a:ext cx="2663640" cy="199080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9" descr="i[33]"/>
          <p:cNvPicPr/>
          <p:nvPr/>
        </p:nvPicPr>
        <p:blipFill>
          <a:blip r:embed="rId3"/>
          <a:stretch/>
        </p:blipFill>
        <p:spPr>
          <a:xfrm>
            <a:off x="7380360" y="170028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10" descr="CA3UCF7X"/>
          <p:cNvPicPr/>
          <p:nvPr/>
        </p:nvPicPr>
        <p:blipFill>
          <a:blip r:embed="rId4"/>
          <a:stretch/>
        </p:blipFill>
        <p:spPr>
          <a:xfrm>
            <a:off x="4211640" y="4941720"/>
            <a:ext cx="2305080" cy="173376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1" descr="CAY7YXRJ"/>
          <p:cNvPicPr/>
          <p:nvPr/>
        </p:nvPicPr>
        <p:blipFill>
          <a:blip r:embed="rId5"/>
          <a:stretch/>
        </p:blipFill>
        <p:spPr>
          <a:xfrm>
            <a:off x="7236000" y="4869000"/>
            <a:ext cx="161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4"/>
          <p:cNvSpPr/>
          <p:nvPr/>
        </p:nvSpPr>
        <p:spPr>
          <a:xfrm>
            <a:off x="250920" y="476280"/>
            <a:ext cx="446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смотревшись к растениям можно обнаружить многочисленные проявления винтовой симметрии в расположении листьев на стебле, веток на стволе, в строении шишек. Ярко выраженными винтами являются вьющие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5" name="Picture 5" descr="CA0FDJQI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270828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6" descr="CA2DS7SF"/>
          <p:cNvPicPr/>
          <p:nvPr/>
        </p:nvPicPr>
        <p:blipFill>
          <a:blip r:embed="rId2"/>
          <a:stretch/>
        </p:blipFill>
        <p:spPr>
          <a:xfrm>
            <a:off x="4932360" y="0"/>
            <a:ext cx="1986120" cy="263700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7" descr="i[48]"/>
          <p:cNvPicPr/>
          <p:nvPr/>
        </p:nvPicPr>
        <p:blipFill>
          <a:blip r:embed="rId3"/>
          <a:stretch/>
        </p:blipFill>
        <p:spPr>
          <a:xfrm>
            <a:off x="0" y="4581360"/>
            <a:ext cx="1517760" cy="227664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8" descr="CAK7K303"/>
          <p:cNvPicPr/>
          <p:nvPr/>
        </p:nvPicPr>
        <p:blipFill>
          <a:blip r:embed="rId4"/>
          <a:stretch/>
        </p:blipFill>
        <p:spPr>
          <a:xfrm>
            <a:off x="3348000" y="4724280"/>
            <a:ext cx="1549440" cy="21337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9" descr="CA0XABSL"/>
          <p:cNvPicPr/>
          <p:nvPr/>
        </p:nvPicPr>
        <p:blipFill>
          <a:blip r:embed="rId5"/>
          <a:stretch/>
        </p:blipFill>
        <p:spPr>
          <a:xfrm>
            <a:off x="7164360" y="292428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0" descr="CA8HYFSH"/>
          <p:cNvPicPr/>
          <p:nvPr/>
        </p:nvPicPr>
        <p:blipFill>
          <a:blip r:embed="rId6"/>
          <a:stretch/>
        </p:blipFill>
        <p:spPr>
          <a:xfrm>
            <a:off x="5435640" y="3573360"/>
            <a:ext cx="1414440" cy="295272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11" descr="CAII5YZH"/>
          <p:cNvPicPr/>
          <p:nvPr/>
        </p:nvPicPr>
        <p:blipFill>
          <a:blip r:embed="rId7"/>
          <a:stretch/>
        </p:blipFill>
        <p:spPr>
          <a:xfrm>
            <a:off x="3635280" y="0"/>
            <a:ext cx="1104840" cy="198900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12" descr="CASD2N8D"/>
          <p:cNvPicPr/>
          <p:nvPr/>
        </p:nvPicPr>
        <p:blipFill>
          <a:blip r:embed="rId8"/>
          <a:stretch/>
        </p:blipFill>
        <p:spPr>
          <a:xfrm>
            <a:off x="7380360" y="5013360"/>
            <a:ext cx="1379520" cy="184464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13" descr="i[82]"/>
          <p:cNvPicPr/>
          <p:nvPr/>
        </p:nvPicPr>
        <p:blipFill>
          <a:blip r:embed="rId9"/>
          <a:stretch/>
        </p:blipFill>
        <p:spPr>
          <a:xfrm>
            <a:off x="1692360" y="4941720"/>
            <a:ext cx="1466640" cy="151308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14" descr="CAODC3MJ"/>
          <p:cNvPicPr/>
          <p:nvPr/>
        </p:nvPicPr>
        <p:blipFill>
          <a:blip r:embed="rId10"/>
          <a:stretch/>
        </p:blipFill>
        <p:spPr>
          <a:xfrm>
            <a:off x="3708360" y="3429000"/>
            <a:ext cx="15843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cd071"/>
                </a:solidFill>
                <a:latin typeface="Tahoma"/>
              </a:rPr>
              <a:t>Поворотная симметрия 5-го порядк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5dd0"/>
                </a:solidFill>
                <a:latin typeface="Tahoma"/>
              </a:rPr>
              <a:t>В мире цветов встречаются поворотные оси симметрии разных порядков .Наиболее распространенная поворотная симметрия 5-го поряд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5dd0"/>
                </a:solidFill>
                <a:latin typeface="Tahoma"/>
              </a:rPr>
              <a:t>«Пятерная ось является своеобразным   инструментом борьбы за существование, страховкой против окаменения, против кристаллизации, первым шагом которой была»поимка» решеткой»(Н. В. Бел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5dd0"/>
                </a:solidFill>
                <a:latin typeface="Tahoma"/>
              </a:rPr>
              <a:t>Поворотная симметрия 5-го порядка встречается :у колокольчика, луговой герани, незабудки, зверобоя, вишни, груши, рябины, боярышника, шипов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7" name="Picture 4" descr="CAJAT4H7"/>
          <p:cNvPicPr/>
          <p:nvPr/>
        </p:nvPicPr>
        <p:blipFill>
          <a:blip r:embed="rId1"/>
          <a:stretch/>
        </p:blipFill>
        <p:spPr>
          <a:xfrm>
            <a:off x="5867280" y="458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5" descr="CAEEMKBT"/>
          <p:cNvPicPr/>
          <p:nvPr/>
        </p:nvPicPr>
        <p:blipFill>
          <a:blip r:embed="rId2"/>
          <a:stretch/>
        </p:blipFill>
        <p:spPr>
          <a:xfrm>
            <a:off x="7164360" y="5516640"/>
            <a:ext cx="1630440" cy="120636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CA272JOX"/>
          <p:cNvPicPr/>
          <p:nvPr/>
        </p:nvPicPr>
        <p:blipFill>
          <a:blip r:embed="rId3"/>
          <a:stretch/>
        </p:blipFill>
        <p:spPr>
          <a:xfrm>
            <a:off x="0" y="836640"/>
            <a:ext cx="1042920" cy="78264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CA4TEZK5"/>
          <p:cNvPicPr/>
          <p:nvPr/>
        </p:nvPicPr>
        <p:blipFill>
          <a:blip r:embed="rId4"/>
          <a:stretch/>
        </p:blipFill>
        <p:spPr>
          <a:xfrm>
            <a:off x="4500720" y="5613480"/>
            <a:ext cx="1269720" cy="12445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8" descr="CA8AKPKP"/>
          <p:cNvPicPr/>
          <p:nvPr/>
        </p:nvPicPr>
        <p:blipFill>
          <a:blip r:embed="rId5"/>
          <a:stretch/>
        </p:blipFill>
        <p:spPr>
          <a:xfrm>
            <a:off x="2771640" y="4581360"/>
            <a:ext cx="1513080" cy="113040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9" descr="CA65S5GX"/>
          <p:cNvPicPr/>
          <p:nvPr/>
        </p:nvPicPr>
        <p:blipFill>
          <a:blip r:embed="rId6"/>
          <a:stretch/>
        </p:blipFill>
        <p:spPr>
          <a:xfrm>
            <a:off x="8344080" y="2924280"/>
            <a:ext cx="799920" cy="95256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10" descr="CAMZC92F"/>
          <p:cNvPicPr/>
          <p:nvPr/>
        </p:nvPicPr>
        <p:blipFill>
          <a:blip r:embed="rId7"/>
          <a:stretch/>
        </p:blipFill>
        <p:spPr>
          <a:xfrm>
            <a:off x="7667640" y="443700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11" descr="CAHA7V5Y"/>
          <p:cNvPicPr/>
          <p:nvPr/>
        </p:nvPicPr>
        <p:blipFill>
          <a:blip r:embed="rId8"/>
          <a:stretch/>
        </p:blipFill>
        <p:spPr>
          <a:xfrm>
            <a:off x="7885080" y="83664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12" descr="CAJZH3EJ"/>
          <p:cNvPicPr/>
          <p:nvPr/>
        </p:nvPicPr>
        <p:blipFill>
          <a:blip r:embed="rId9"/>
          <a:stretch/>
        </p:blipFill>
        <p:spPr>
          <a:xfrm>
            <a:off x="1692360" y="590544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13" descr="CAG50J7H"/>
          <p:cNvPicPr/>
          <p:nvPr/>
        </p:nvPicPr>
        <p:blipFill>
          <a:blip r:embed="rId10"/>
          <a:stretch/>
        </p:blipFill>
        <p:spPr>
          <a:xfrm>
            <a:off x="0" y="4724280"/>
            <a:ext cx="16192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7:55:30Z</dcterms:created>
  <dc:creator>A7</dc:creator>
  <dc:description/>
  <dc:language>en-US</dc:language>
  <cp:lastModifiedBy>User</cp:lastModifiedBy>
  <dcterms:modified xsi:type="dcterms:W3CDTF">2010-03-16T08:55:41Z</dcterms:modified>
  <cp:revision>16</cp:revision>
  <dc:subject/>
  <dc:title>Симметрия растений.        </dc:title>
</cp:coreProperties>
</file>