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20.jpeg" ContentType="image/jpeg"/>
  <Override PartName="/ppt/media/image2.wmf" ContentType="image/x-wmf"/>
  <Override PartName="/ppt/media/image25.jpeg" ContentType="image/jpeg"/>
  <Override PartName="/ppt/media/image24.jpeg" ContentType="image/jpeg"/>
  <Override PartName="/ppt/media/image83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17.jpeg" ContentType="image/jpeg"/>
  <Override PartName="/ppt/media/image13.jpeg" ContentType="image/jpeg"/>
  <Override PartName="/ppt/media/image40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120-06D9-473A-B59A-6E9FA4DC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37C-8434-432A-A31F-59C989FC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29E8D-368F-47E7-9A31-FC6ABA1B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8240A-8FF2-4C7B-AE41-C98F7827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363A6-DF99-4329-9A58-41D8EC8B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65E40-5900-4F16-8CD6-541AE7E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F16AD-F277-42EF-929A-64F95CA4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F094F-BC9A-4E2B-B69C-B0A4942A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366DA-D719-4EC0-9BD9-9F6C792F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CCA75-11A0-4852-8AC5-04524013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EC988-E639-4B40-95A1-31F06C9D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9771B-B5A8-4555-8FFD-038FC77D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5EB-1FA4-4738-B416-26B02B54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EE99C-DC1F-40FD-A1E6-2BA081C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07A48-188D-46F5-8CB7-0F1D9BC0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E22CE-E849-42DF-9AD3-243B16A8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AAB33-2215-4FBB-8608-4950AC7F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E747A-3023-4DF8-9EA7-8F42A833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6383D-3E73-4594-8331-A3CEF31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993EF-14A4-47A8-A6AC-ED828D4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8CF33-57CA-4DED-BA54-94F6929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D2A31-E12B-49C9-A876-BC0BDA6F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FC3E8-E21F-471A-8E1F-0154FB97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D34-C891-4AD4-B99D-FD380CFB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6B1F5-5C2A-4673-9FD2-49A75934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5E0B39-28B7-469F-8A5A-72502FA8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2F4ACF-07C3-4138-A9B7-B8242EE9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8B329A-55A9-4F8C-9B0A-BA96D16B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70A1E5-72A7-4B54-AEBD-4CDEC351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BCD134-C1D2-4128-9BF6-52A2CEA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29A305-3CFE-4C71-B942-658CB72F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227737-22D6-44B1-B736-91D95471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E9122E-AF8F-461B-824C-2C67CAB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91999E-38A2-4B16-B62F-1AF992D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A107-3188-4A11-AAA9-8FA226AB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72B59A-7DB0-46CB-85D1-571794DB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00D2E2-F2C5-45BC-AF53-358E9450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A8AEDC-A753-4787-B94A-4A2EBD32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73726-7507-4840-87FA-CAD588A2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170CC-1616-4917-8888-16F0B6F5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547A4-6501-4268-BD12-CB03E163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75F7F-C14A-46DF-91D4-496967E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87B5A-CDA7-42BF-BDCC-72B24E27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512F8-6A1A-416E-8DA0-D1E056BA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33358-93F6-44EC-B612-EC734DC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A6E4-8645-4F33-A05E-26A07054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CE7A3-15AA-4F5C-A8DE-81C7C15F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5F86F-7A5C-43C0-AE43-CA95CF3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0C076-06EB-4C9A-80A1-0983FFE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94C32-67FE-4676-9F57-D5129ECF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6C474-8126-4C84-9B03-E4C5DFDC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E7261-D56C-42EE-935E-8A4046A2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8A533-F0D5-4245-8C34-3409BC22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7F93A-B7D5-49BC-B3D4-B0B1719D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F23F2-172F-4560-80B1-40D4BA29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4E792-6234-4EB7-BD68-62D7E3D5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B65D-5F30-42BC-A798-2679E548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F46EB-67B9-4FC9-8D83-4A69B21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BD12F-6511-4883-8C52-DBB1B760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09A33-0C37-410B-96AA-96148307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4395F-2BBC-4233-A8F5-667F966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CA97A-1E58-47C1-9FCD-3DC5A143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4FFE1-8F05-4A3A-8CD4-3783D736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58BFE-CCB5-4D45-838B-6938BFB8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DD452-5A70-426B-9168-889EBAD4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C30D5-F9D7-4A8B-A018-9C5B702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150E1-E1B8-4A7D-A12A-8C720B0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A7A4-D091-4DDA-96FF-0D42C33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53511-E757-4165-9AD7-90C04CF0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31E81-D092-4DA1-8F26-A775E4D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08809-FBA0-4200-BF6E-30CFAC57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BA6B5-1D0F-4186-AD3C-3B1FE1F6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2BD8B-D552-439B-95DC-6B58BFC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E5EFD-BBCD-4202-AFFE-604D8B6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22AC0-9D19-438B-84AD-761D3509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B0113-E41C-4FED-9D79-D698B8D3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9BF6B-1A99-4CD5-B120-18994046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8C9C2C-4C45-4DB2-9958-C960B56F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2AF4-FD6F-4DBE-A009-9E43E5CB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2AA191-026B-4E29-9FE6-2C60F1F0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83C0F1-7700-40D0-AAF4-C93BE987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6D605F-72A3-45E7-B5C0-62720FF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C13108-C809-4271-A139-F327B3B2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C8BE74-AD7D-4797-ADBB-2DCB825F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A55E02-33FF-4223-9306-EC2D1E0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51B17E-8854-42FB-BF5C-5B9676A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9E1D7D-41C5-4981-8A9A-65D487F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DC3793-510E-4A93-8578-792F784F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74199D-8C6B-4761-B7B0-DA2BC607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402-F3DF-43D6-B994-B39A4615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2E511A-336C-469C-B1A7-F6239D25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54388-95A5-41DB-A609-D71D6656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513B3-4414-4E2C-9B4F-34F4259D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F0B64-AD88-4DE2-9F3E-34C0BE7F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8FEDE-4148-4C3B-9A05-3492A710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06D7A-ED05-4C3E-92B4-D5078DD3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C7325-D583-4A15-88BC-956370D9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09E35-F19F-4E90-9CEA-60CABCC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0ED17-A46B-4C7B-80EC-1A5BE67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3235E-5C47-4B0E-A4EA-9D0E639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76C4-DF1B-42D8-9B51-7417A27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284EE-DBF6-42C8-BFFC-85D9037C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BB462-445F-4077-BA8D-E04B5253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9F623-D05B-4DF3-AE31-B24FE58F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96F63-D4CF-4927-A63D-8E491EEC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5DDEB-95B4-499A-B9CA-477CEB41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2B858-190F-4982-8BE5-2E74FEBF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143E9-F087-403A-87EF-F6A60C11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825CF-5AE5-4D3D-A327-490ACC70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89F2D-3E89-41D4-98BF-24D5FD45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125A7-649A-4675-A31A-0015FC8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6C8-B605-4EB1-AF84-9D163DA5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8EA2-B0BA-4EF2-9441-2103E43E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33A9D-561C-40A9-A83D-134448D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AFBF7-3B80-44B0-BEA5-9B816F9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570B4-CF40-47EB-BB26-F6A04F6E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A739F-0B95-4FC2-928C-42B19DFA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BB8FE-36A0-4264-B3DF-AB7D0095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24E08-308A-4280-8C3E-9F0D1964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0531F-99D2-4C59-BBCA-2203EC46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B3DED-8C68-4282-9D88-4F1D9325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B3089-5058-434B-8726-105603B3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1583FA-FAF3-49B0-B3B4-5C10FB9A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6150-7236-4FB1-80D1-83D360D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5C7F8-986F-492E-8050-F0AA3ECE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C1CC8-3728-44B9-9B7D-0631FAE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62D96-AEAB-4261-8309-60306F62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81436-9BCF-4E98-9BFC-9EB6F0A7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8326F-C17A-45D0-B1CE-3F29000B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2D1BC-6172-4791-AFC6-434A2672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6FED1-08DA-4FC4-84AE-C411A984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3120-565A-4479-B066-1AC65F45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2110-4D19-4973-B1DB-6119890A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06E0-34A0-443A-BA6D-2AFE2E1E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A988-0540-474F-A0A7-CC1DA9B6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576E-9B62-4BE1-B138-B280FF6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4155-BEDB-44B0-A63A-1DA6484A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1118-E278-4158-9187-97F496B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0B8C-1ACF-43A6-A858-D67EE4D1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459-7425-472B-A183-6E89271A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C6CF-E69B-4FED-8CE0-B2F98CED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22B7-19E8-4869-806E-4D3B9A6E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C9CC6-7069-41CB-82B0-0C89585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8134-8459-452A-955D-56F4F9C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B97B-19FD-411A-B0E6-87406E9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9F5A-64F7-4AB8-884C-CA4A8176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65A3-2AC3-4490-99FD-5969FB69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E72E0-2D50-4A69-9171-9915ABEB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85C93-B8B4-4ACD-A855-B61300C8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BA9A3-2606-4286-BA38-998151F6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014-DC2F-4006-892C-24DC4733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439F7-8F6D-426F-A543-576F0A2E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0F10C-DCFC-4A19-8DA5-4FEECCE0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4BFB0-444F-439D-AF46-7B21393F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EEED3-D55D-4FEC-93AF-039F5A9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4CE66-04C2-46BC-ADB1-664F3E6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70496-961B-4DA1-8ED2-DB28AED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A6CC8-587F-4C0C-97C3-AEC329A1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0F64E-BD4A-43D0-890E-F4F6CECD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508D4-FED1-42EB-81DE-560F4020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1679A-BAAE-4FD2-927C-E4F54658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414-2CE0-4300-82CA-98D7A71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DC8F6-41D8-420A-962D-E9F5B39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1D066-D85E-44A9-BFBC-8CFDBC2A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BDDF5-6ABB-45BD-9F83-4FBB1641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A1AB4-6572-4C93-AD00-182E1903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221F4-97BA-478D-B3E5-CC27D56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A0115-8975-4431-A2A6-29358784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057A9-23C9-40DE-BA29-16223F0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BBD93-F291-48B1-A93D-3FA7076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C411A-7604-4821-B0CA-C318C373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8FFC0-677B-44DA-803A-483E4ACB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E08-06FB-4F9A-A99D-10DC92BC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FFE27-315A-44A7-BF6F-35958785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DA3C-C494-4063-AD93-C4DAC385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E9FF4-6FF4-4591-A468-04BC2E90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32DA-8E6C-4536-B482-541FBDEA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8C31-8626-49E8-84DD-81685C70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BAD35-4A75-4194-AA61-E5242C14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9F87A-E121-429B-8CB3-B4805041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32E0-7736-4E89-BA14-4BD79720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6B940-C86D-4284-BAEC-43FB463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90098-883F-4248-80F8-568E655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453-8CB4-4777-BC67-D2B0F737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EF654-E084-4DAB-9CD3-B4D11769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88E62-6370-485B-9979-FF1BEC5A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C5E05-A066-4A39-8F8C-4A3985B4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17A9D-145D-43B5-83D8-877A4FE0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81F5-4B94-4574-90A9-2E15005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C6A11-5082-473F-8C98-693D2328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9D5D-1147-4294-A58C-86DEFDB9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B540F-0B31-4289-BDBC-00C14784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A35D-3182-4461-B17D-E60DD228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B18A-4D7B-4CD2-8568-EAD5B19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EEA-82F9-401D-8D9D-0E57C576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816DD-443D-4E27-8B27-E8D72F5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0739-DDD9-45AC-AA12-1E1332D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4C028-921E-4BB1-9C38-3BBDFD48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A8E2-6901-4936-AF72-739F2814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B62FB-9B67-41CD-8BE5-73984EC8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3EF0B-DE15-4032-83DA-40A02C79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7EF43-CCD0-4908-B245-9291D746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798F-5019-4DC4-A021-4DD78AD8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B0B5-B030-4BE5-A143-96FEA7A4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B296-F641-432C-8B97-74FD811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74D-6DE9-4E05-9A54-989AAEF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E3771-532E-484A-997E-81166B90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43045-E2BC-4AFC-9318-143B3A6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66D41-7B46-4439-97F5-B3DDF85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3A70A-B2B3-42A4-8FF7-42223F83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C73C8-98D3-45CE-9A35-9B37D288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32C82-0587-487E-AA01-C7662649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7018-D628-4764-A38A-2F23E5A0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7E77A-029F-4647-9D1F-6AB60F28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6D349-4EF3-4EFC-9272-71A7C37E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F074C-C382-4C51-86D0-6B70E53C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05.xml"/><Relationship Id="rId35" Type="http://schemas.openxmlformats.org/officeDocument/2006/relationships/slideLayout" Target="../slideLayouts/slideLayout206.xml"/><Relationship Id="rId36" Type="http://schemas.openxmlformats.org/officeDocument/2006/relationships/slideLayout" Target="../slideLayouts/slideLayout207.xml"/><Relationship Id="rId37" Type="http://schemas.openxmlformats.org/officeDocument/2006/relationships/slideLayout" Target="../slideLayouts/slideLayout208.xml"/><Relationship Id="rId38" Type="http://schemas.openxmlformats.org/officeDocument/2006/relationships/slideLayout" Target="../slideLayouts/slideLayout209.xml"/><Relationship Id="rId39" Type="http://schemas.openxmlformats.org/officeDocument/2006/relationships/slideLayout" Target="../slideLayouts/slideLayout210.xml"/><Relationship Id="rId40" Type="http://schemas.openxmlformats.org/officeDocument/2006/relationships/slideLayout" Target="../slideLayouts/slideLayout211.xml"/><Relationship Id="rId41" Type="http://schemas.openxmlformats.org/officeDocument/2006/relationships/slideLayout" Target="../slideLayouts/slideLayout212.xml"/><Relationship Id="rId42" Type="http://schemas.openxmlformats.org/officeDocument/2006/relationships/slideLayout" Target="../slideLayouts/slideLayout213.xml"/><Relationship Id="rId43" Type="http://schemas.openxmlformats.org/officeDocument/2006/relationships/slideLayout" Target="../slideLayouts/slideLayout214.xml"/><Relationship Id="rId44" Type="http://schemas.openxmlformats.org/officeDocument/2006/relationships/slideLayout" Target="../slideLayouts/slideLayout215.xml"/><Relationship Id="rId4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1110-02B5-4169-ABDB-03010E83BF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74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5F0-6E29-45A8-B4EF-02B5834388D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842-3678-4881-B9FB-3C7EDA3DD6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ADF9-3120-407F-8129-135F341C09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0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CE0-24B8-455C-9861-CF437A65D58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0C9-8A4C-4510-8333-00BFA0A3D0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21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25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2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3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4C00-B11D-41A2-AECA-BE77D71E53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CC25-7DEC-4607-9F8E-C0833EFE5CA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7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1E19-06FE-41F0-B4DE-1273F5D44E8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125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3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254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255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256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257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9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6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7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7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5FD-B408-4396-A552-8A74B93B875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4"/>
    <p:sldLayoutId id="2147483871" r:id="rId35"/>
    <p:sldLayoutId id="2147483872" r:id="rId36"/>
    <p:sldLayoutId id="2147483873" r:id="rId37"/>
    <p:sldLayoutId id="2147483874" r:id="rId38"/>
    <p:sldLayoutId id="2147483875" r:id="rId39"/>
    <p:sldLayoutId id="2147483876" r:id="rId40"/>
    <p:sldLayoutId id="2147483877" r:id="rId41"/>
    <p:sldLayoutId id="2147483878" r:id="rId42"/>
    <p:sldLayoutId id="2147483879" r:id="rId43"/>
    <p:sldLayoutId id="2147483880" r:id="rId44"/>
    <p:sldLayoutId id="2147483881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69AD-76FF-492B-AEF4-9329F11CF0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8A4D-D4E7-4DCD-ACCC-D5697124C7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B857-FD9A-4866-8685-0566F6737A5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DE1A-50F0-4B96-A197-D6BCC19B3D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9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53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DCF-08CE-445E-A115-B8EA128C04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2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52FC-F344-446F-B296-8879F4DB1B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D6A6-9FCF-44A1-B298-5CBA6521C18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8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8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0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1959-BE07-43C0-87DC-49E8C93BCF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2.jpeg"/><Relationship Id="rId9" Type="http://schemas.openxmlformats.org/officeDocument/2006/relationships/image" Target="../media/image72.jpeg"/><Relationship Id="rId10" Type="http://schemas.openxmlformats.org/officeDocument/2006/relationships/image" Target="../media/image72.jpeg"/><Relationship Id="rId11" Type="http://schemas.openxmlformats.org/officeDocument/2006/relationships/image" Target="../media/image72.jpeg"/><Relationship Id="rId12" Type="http://schemas.openxmlformats.org/officeDocument/2006/relationships/image" Target="../media/image75.jpeg"/><Relationship Id="rId13" Type="http://schemas.openxmlformats.org/officeDocument/2006/relationships/image" Target="../media/image76.jpeg"/><Relationship Id="rId1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33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26a74"/>
                </a:solidFill>
                <a:latin typeface="Tahoma"/>
              </a:rPr>
              <a:t>Симметрия растений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5dd0"/>
                </a:solidFill>
                <a:latin typeface="Tahoma"/>
              </a:rPr>
              <a:t>Работа ученицы 10 класса О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5dd0"/>
                </a:solidFill>
                <a:latin typeface="Tahoma"/>
              </a:rPr>
              <a:t>Ежовой Инны учитель Прокопенко Г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7" name="Picture 4" descr="i[14]"/>
          <p:cNvPicPr/>
          <p:nvPr/>
        </p:nvPicPr>
        <p:blipFill>
          <a:blip r:embed="rId1"/>
          <a:stretch/>
        </p:blipFill>
        <p:spPr>
          <a:xfrm>
            <a:off x="0" y="3789360"/>
            <a:ext cx="2355840" cy="30686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5" descr="CAEZ89UZ"/>
          <p:cNvPicPr/>
          <p:nvPr/>
        </p:nvPicPr>
        <p:blipFill>
          <a:blip r:embed="rId2"/>
          <a:stretch/>
        </p:blipFill>
        <p:spPr>
          <a:xfrm>
            <a:off x="6732720" y="0"/>
            <a:ext cx="2206440" cy="165564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7" descr="CA4Y0KFR"/>
          <p:cNvPicPr/>
          <p:nvPr/>
        </p:nvPicPr>
        <p:blipFill>
          <a:blip r:embed="rId3"/>
          <a:stretch/>
        </p:blipFill>
        <p:spPr>
          <a:xfrm>
            <a:off x="6516720" y="5373720"/>
            <a:ext cx="2158920" cy="142560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8" descr="CAIRGDIZ"/>
          <p:cNvPicPr/>
          <p:nvPr/>
        </p:nvPicPr>
        <p:blipFill>
          <a:blip r:embed="rId4"/>
          <a:stretch/>
        </p:blipFill>
        <p:spPr>
          <a:xfrm>
            <a:off x="0" y="0"/>
            <a:ext cx="2090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Симметрия конус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Симметрия конуса видна  на примере фактически любого дерева. Дерево при помощи корневой системы поглощает влагу и питательные вещества из почвы, то есть снизу а, остальные жизненно важные функции выполняются кроной, то есть сверху.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9" name="Picture 4" descr="CAA4LBRA"/>
          <p:cNvPicPr/>
          <p:nvPr/>
        </p:nvPicPr>
        <p:blipFill>
          <a:blip r:embed="rId1"/>
          <a:stretch/>
        </p:blipFill>
        <p:spPr>
          <a:xfrm>
            <a:off x="0" y="4724280"/>
            <a:ext cx="1365120" cy="213372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5" descr="CAWXPAO6"/>
          <p:cNvPicPr/>
          <p:nvPr/>
        </p:nvPicPr>
        <p:blipFill>
          <a:blip r:embed="rId2"/>
          <a:stretch/>
        </p:blipFill>
        <p:spPr>
          <a:xfrm>
            <a:off x="7524720" y="34290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6" descr="CAQVSP6R"/>
          <p:cNvPicPr/>
          <p:nvPr/>
        </p:nvPicPr>
        <p:blipFill>
          <a:blip r:embed="rId3"/>
          <a:stretch/>
        </p:blipFill>
        <p:spPr>
          <a:xfrm>
            <a:off x="2195640" y="4292640"/>
            <a:ext cx="3240000" cy="236520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7" descr="i[80]"/>
          <p:cNvPicPr/>
          <p:nvPr/>
        </p:nvPicPr>
        <p:blipFill>
          <a:blip r:embed="rId4"/>
          <a:stretch/>
        </p:blipFill>
        <p:spPr>
          <a:xfrm>
            <a:off x="7451640" y="189000"/>
            <a:ext cx="1692360" cy="12650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8" descr="i[76]"/>
          <p:cNvPicPr/>
          <p:nvPr/>
        </p:nvPicPr>
        <p:blipFill>
          <a:blip r:embed="rId5"/>
          <a:stretch/>
        </p:blipFill>
        <p:spPr>
          <a:xfrm>
            <a:off x="5940360" y="4941720"/>
            <a:ext cx="2376720" cy="172908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9" descr="CATWRAVP"/>
          <p:cNvPicPr/>
          <p:nvPr/>
        </p:nvPicPr>
        <p:blipFill>
          <a:blip r:embed="rId6"/>
          <a:stretch/>
        </p:blipFill>
        <p:spPr>
          <a:xfrm>
            <a:off x="179280" y="189000"/>
            <a:ext cx="1752840" cy="1320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6a74"/>
                </a:solidFill>
                <a:latin typeface="Arial"/>
              </a:rPr>
              <a:t>Наследственность- это тоже симметрия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5dd0"/>
                </a:solidFill>
                <a:latin typeface="Arial"/>
              </a:rPr>
              <a:t>Человек передает свои наследственные признаки из поколения в поколение. Также растения переходя от одного поколения к другому, наблюдается сохранение определенных свойств. Так из семечка вырастает новый подсолнух(подсолнечник) с таким же огромным соцветием- корзинкой, также исправно поворачивается к Солнцу. Это тоже есть симметрия, ее обычно называют наследственностью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7" name="Picture 4" descr="CA8B2BAK"/>
          <p:cNvPicPr/>
          <p:nvPr/>
        </p:nvPicPr>
        <p:blipFill>
          <a:blip r:embed="rId1"/>
          <a:stretch/>
        </p:blipFill>
        <p:spPr>
          <a:xfrm>
            <a:off x="5003640" y="4165560"/>
            <a:ext cx="3600720" cy="269244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5" descr="CASTQX4V"/>
          <p:cNvPicPr/>
          <p:nvPr/>
        </p:nvPicPr>
        <p:blipFill>
          <a:blip r:embed="rId2"/>
          <a:stretch/>
        </p:blipFill>
        <p:spPr>
          <a:xfrm>
            <a:off x="324000" y="5373720"/>
            <a:ext cx="1944360" cy="146520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6" descr="CAZP1QYF"/>
          <p:cNvPicPr/>
          <p:nvPr/>
        </p:nvPicPr>
        <p:blipFill>
          <a:blip r:embed="rId3"/>
          <a:stretch/>
        </p:blipFill>
        <p:spPr>
          <a:xfrm>
            <a:off x="2627280" y="4365720"/>
            <a:ext cx="158292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Лучевая  симметр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500"/>
                </a:solidFill>
                <a:latin typeface="Tahoma"/>
              </a:rPr>
              <a:t>Присмотритесь внимательно и вы увидите, что лепестки каждого тела расходятся во все стороны, как лучи от источника света .В математике- это симметрия относительно точки, в биологии –лучевая симметр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2" name="Picture 7" descr="i[45]"/>
          <p:cNvPicPr/>
          <p:nvPr/>
        </p:nvPicPr>
        <p:blipFill>
          <a:blip r:embed="rId1"/>
          <a:stretch/>
        </p:blipFill>
        <p:spPr>
          <a:xfrm>
            <a:off x="0" y="0"/>
            <a:ext cx="2050920" cy="153360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8" descr="i[57]"/>
          <p:cNvPicPr/>
          <p:nvPr/>
        </p:nvPicPr>
        <p:blipFill>
          <a:blip r:embed="rId2"/>
          <a:stretch/>
        </p:blipFill>
        <p:spPr>
          <a:xfrm>
            <a:off x="6227640" y="2997360"/>
            <a:ext cx="2232000" cy="166824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i[87]"/>
          <p:cNvPicPr/>
          <p:nvPr/>
        </p:nvPicPr>
        <p:blipFill>
          <a:blip r:embed="rId3"/>
          <a:stretch/>
        </p:blipFill>
        <p:spPr>
          <a:xfrm>
            <a:off x="468360" y="501336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1" descr="CA274LQ3"/>
          <p:cNvPicPr/>
          <p:nvPr/>
        </p:nvPicPr>
        <p:blipFill>
          <a:blip r:embed="rId4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2" descr="CA274LQ3"/>
          <p:cNvPicPr/>
          <p:nvPr/>
        </p:nvPicPr>
        <p:blipFill>
          <a:blip r:embed="rId5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14" descr="CA557B7R"/>
          <p:cNvPicPr/>
          <p:nvPr/>
        </p:nvPicPr>
        <p:blipFill>
          <a:blip r:embed="rId6"/>
          <a:stretch/>
        </p:blipFill>
        <p:spPr>
          <a:xfrm>
            <a:off x="3419640" y="476100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5" descr="CAH0B6B1"/>
          <p:cNvPicPr/>
          <p:nvPr/>
        </p:nvPicPr>
        <p:blipFill>
          <a:blip r:embed="rId7"/>
          <a:stretch/>
        </p:blipFill>
        <p:spPr>
          <a:xfrm>
            <a:off x="250920" y="2924280"/>
            <a:ext cx="2305080" cy="170640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16" descr="CA274LQ3"/>
          <p:cNvPicPr/>
          <p:nvPr/>
        </p:nvPicPr>
        <p:blipFill>
          <a:blip r:embed="rId8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7" descr="CA274LQ3"/>
          <p:cNvPicPr/>
          <p:nvPr/>
        </p:nvPicPr>
        <p:blipFill>
          <a:blip r:embed="rId9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8" descr="CA274LQ3"/>
          <p:cNvPicPr/>
          <p:nvPr/>
        </p:nvPicPr>
        <p:blipFill>
          <a:blip r:embed="rId10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9" descr="CA274LQ3"/>
          <p:cNvPicPr/>
          <p:nvPr/>
        </p:nvPicPr>
        <p:blipFill>
          <a:blip r:embed="rId11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20" descr="i[97]"/>
          <p:cNvPicPr/>
          <p:nvPr/>
        </p:nvPicPr>
        <p:blipFill>
          <a:blip r:embed="rId12"/>
          <a:stretch/>
        </p:blipFill>
        <p:spPr>
          <a:xfrm>
            <a:off x="3492360" y="3068640"/>
            <a:ext cx="1970280" cy="147780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21" descr="i[95]"/>
          <p:cNvPicPr/>
          <p:nvPr/>
        </p:nvPicPr>
        <p:blipFill>
          <a:blip r:embed="rId13"/>
          <a:stretch/>
        </p:blipFill>
        <p:spPr>
          <a:xfrm>
            <a:off x="6372360" y="4941720"/>
            <a:ext cx="2232000" cy="15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10920" y="1369800"/>
            <a:ext cx="7040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ывод: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60721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52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52280" indent="-152280" algn="ctr">
              <a:lnSpc>
                <a:spcPct val="80000"/>
              </a:lnSpc>
              <a:spcBef>
                <a:spcPts val="499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Симметрия проникла в растительный мир стала там полновластной хозяйко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152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2.В растительном мире встречается билатеральная (зеркальная), лучевая, поворотная, симметрия конуса., осевая, центральная, наследственная симметрия, винтовая симметр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152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47" name="Picture 13" descr="i[45]"/>
          <p:cNvPicPr/>
          <p:nvPr/>
        </p:nvPicPr>
        <p:blipFill>
          <a:blip r:embed="rId1"/>
          <a:stretch/>
        </p:blipFill>
        <p:spPr>
          <a:xfrm>
            <a:off x="324000" y="4894200"/>
            <a:ext cx="2376360" cy="177804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5" descr="i?id=7903008&amp;tov=5"/>
          <p:cNvPicPr/>
          <p:nvPr/>
        </p:nvPicPr>
        <p:blipFill>
          <a:blip r:embed="rId2"/>
          <a:stretch/>
        </p:blipFill>
        <p:spPr>
          <a:xfrm>
            <a:off x="324000" y="18900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7" descr="i?id=2295027&amp;tov=7"/>
          <p:cNvPicPr/>
          <p:nvPr/>
        </p:nvPicPr>
        <p:blipFill>
          <a:blip r:embed="rId3"/>
          <a:stretch/>
        </p:blipFill>
        <p:spPr>
          <a:xfrm>
            <a:off x="6335640" y="18900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8" descr="CAM309YV"/>
          <p:cNvPicPr/>
          <p:nvPr/>
        </p:nvPicPr>
        <p:blipFill>
          <a:blip r:embed="rId4"/>
          <a:stretch/>
        </p:blipFill>
        <p:spPr>
          <a:xfrm>
            <a:off x="7020000" y="4869000"/>
            <a:ext cx="1744560" cy="198900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9" descr="CANJL0YP"/>
          <p:cNvPicPr/>
          <p:nvPr/>
        </p:nvPicPr>
        <p:blipFill>
          <a:blip r:embed="rId5"/>
          <a:stretch/>
        </p:blipFill>
        <p:spPr>
          <a:xfrm>
            <a:off x="3635280" y="260280"/>
            <a:ext cx="24242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пользованная литература:                                  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. Тарасов «Этот удивительно симметричный мир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Jndex.r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ртинки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crosoft Off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 Гарднер «Этот правый, левый мир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4" name="Rectangle -10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9600" tIns="-46440" bIns="-154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5" name="Picture 4" descr="i[87]"/>
          <p:cNvPicPr/>
          <p:nvPr/>
        </p:nvPicPr>
        <p:blipFill>
          <a:blip r:embed="rId1"/>
          <a:stretch/>
        </p:blipFill>
        <p:spPr>
          <a:xfrm>
            <a:off x="3851280" y="486900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6" descr="i?id=2869955&amp;tov=4"/>
          <p:cNvPicPr/>
          <p:nvPr/>
        </p:nvPicPr>
        <p:blipFill>
          <a:blip r:embed="rId2"/>
          <a:stretch/>
        </p:blipFill>
        <p:spPr>
          <a:xfrm>
            <a:off x="324000" y="4724280"/>
            <a:ext cx="3024000" cy="17352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8" descr="i?id=8344409&amp;tov=2"/>
          <p:cNvPicPr/>
          <p:nvPr/>
        </p:nvPicPr>
        <p:blipFill>
          <a:blip r:embed="rId3"/>
          <a:stretch/>
        </p:blipFill>
        <p:spPr>
          <a:xfrm>
            <a:off x="7308720" y="2133720"/>
            <a:ext cx="1519200" cy="11350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0" descr="i?id=24474187&amp;tov=5"/>
          <p:cNvPicPr/>
          <p:nvPr/>
        </p:nvPicPr>
        <p:blipFill>
          <a:blip r:embed="rId4"/>
          <a:stretch/>
        </p:blipFill>
        <p:spPr>
          <a:xfrm>
            <a:off x="6300720" y="4653000"/>
            <a:ext cx="2592360" cy="17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  </a:t>
            </a:r>
            <a:br>
              <a:rPr sz="5400"/>
            </a:b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Цель моего исследования:</a:t>
            </a:r>
            <a:br>
              <a:rPr sz="60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1.Показать,что мир растений зародился благодаря симмет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2.Выяснить понятие  билатер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симмет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3" name="Picture 4" descr="i[75]"/>
          <p:cNvPicPr/>
          <p:nvPr/>
        </p:nvPicPr>
        <p:blipFill>
          <a:blip r:embed="rId1"/>
          <a:stretch/>
        </p:blipFill>
        <p:spPr>
          <a:xfrm>
            <a:off x="6012000" y="3645000"/>
            <a:ext cx="2709720" cy="173340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6" descr="i?id=20889257&amp;tov=7"/>
          <p:cNvPicPr/>
          <p:nvPr/>
        </p:nvPicPr>
        <p:blipFill>
          <a:blip r:embed="rId2"/>
          <a:stretch/>
        </p:blipFill>
        <p:spPr>
          <a:xfrm>
            <a:off x="324000" y="4581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11" descr="CAM2QRMD"/>
          <p:cNvPicPr/>
          <p:nvPr/>
        </p:nvPicPr>
        <p:blipFill>
          <a:blip r:embed="rId3"/>
          <a:stretch/>
        </p:blipFill>
        <p:spPr>
          <a:xfrm>
            <a:off x="3564000" y="486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12" descr="CAEN016R"/>
          <p:cNvPicPr/>
          <p:nvPr/>
        </p:nvPicPr>
        <p:blipFill>
          <a:blip r:embed="rId4"/>
          <a:stretch/>
        </p:blipFill>
        <p:spPr>
          <a:xfrm>
            <a:off x="6948360" y="333360"/>
            <a:ext cx="1871640" cy="18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Для ответа на данный вопрос мне необходимо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a74"/>
                </a:solidFill>
                <a:latin typeface="Arial"/>
              </a:rPr>
              <a:t>Изучить понятие симметрия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a74"/>
                </a:solidFill>
                <a:latin typeface="Arial"/>
              </a:rPr>
              <a:t>Понять почему симметрия пронизывает мир рас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9" name="Picture 4" descr="i[80]"/>
          <p:cNvPicPr/>
          <p:nvPr/>
        </p:nvPicPr>
        <p:blipFill>
          <a:blip r:embed="rId1"/>
          <a:stretch/>
        </p:blipFill>
        <p:spPr>
          <a:xfrm>
            <a:off x="6588000" y="3429000"/>
            <a:ext cx="2556000" cy="190980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5" descr="CAEZ89UZ"/>
          <p:cNvPicPr/>
          <p:nvPr/>
        </p:nvPicPr>
        <p:blipFill>
          <a:blip r:embed="rId2"/>
          <a:stretch/>
        </p:blipFill>
        <p:spPr>
          <a:xfrm>
            <a:off x="250920" y="3573360"/>
            <a:ext cx="2089080" cy="156708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8" descr="CA4NY7QA"/>
          <p:cNvPicPr/>
          <p:nvPr/>
        </p:nvPicPr>
        <p:blipFill>
          <a:blip r:embed="rId3"/>
          <a:stretch/>
        </p:blipFill>
        <p:spPr>
          <a:xfrm>
            <a:off x="3419640" y="2637000"/>
            <a:ext cx="1465200" cy="143496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9" descr="i[36]"/>
          <p:cNvPicPr/>
          <p:nvPr/>
        </p:nvPicPr>
        <p:blipFill>
          <a:blip r:embed="rId4"/>
          <a:stretch/>
        </p:blipFill>
        <p:spPr>
          <a:xfrm>
            <a:off x="3564000" y="4869000"/>
            <a:ext cx="1942920" cy="1709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7960"/>
                </a:solidFill>
                <a:latin typeface="Tahoma"/>
              </a:rPr>
              <a:t>Жизнь зародилась в симметрических форма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4000" y="2344320"/>
            <a:ext cx="793404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«На Земле жизнь зародилась в сферически симметричных формах ,а потом стала развиваться по двум главным линиям: образовался мир растений ,обладающих симметрией конуса ,и мир животных с билатеральной симметрие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М. Гардне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5" name="Picture 4" descr="i[93]"/>
          <p:cNvPicPr/>
          <p:nvPr/>
        </p:nvPicPr>
        <p:blipFill>
          <a:blip r:embed="rId1"/>
          <a:stretch/>
        </p:blipFill>
        <p:spPr>
          <a:xfrm>
            <a:off x="179280" y="5397480"/>
            <a:ext cx="1947960" cy="146052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5" descr="i[24]"/>
          <p:cNvPicPr/>
          <p:nvPr/>
        </p:nvPicPr>
        <p:blipFill>
          <a:blip r:embed="rId2"/>
          <a:stretch/>
        </p:blipFill>
        <p:spPr>
          <a:xfrm>
            <a:off x="7524720" y="1628640"/>
            <a:ext cx="1211400" cy="90828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6" descr="i[86]"/>
          <p:cNvPicPr/>
          <p:nvPr/>
        </p:nvPicPr>
        <p:blipFill>
          <a:blip r:embed="rId3"/>
          <a:stretch/>
        </p:blipFill>
        <p:spPr>
          <a:xfrm>
            <a:off x="7873920" y="407664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8" descr="CAWXPAO6"/>
          <p:cNvPicPr/>
          <p:nvPr/>
        </p:nvPicPr>
        <p:blipFill>
          <a:blip r:embed="rId4"/>
          <a:stretch/>
        </p:blipFill>
        <p:spPr>
          <a:xfrm>
            <a:off x="0" y="1341360"/>
            <a:ext cx="1187280" cy="118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Билатеральная симмет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336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fa9b7"/>
                </a:solidFill>
                <a:latin typeface="Tahoma"/>
              </a:rPr>
              <a:t>Билатеральная симметрия -зеркальная. Термин  «зеркальная» используется в геометрии и физики, а «билатеральная»- в би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1" name="Picture 4" descr="CA6RKTMB"/>
          <p:cNvPicPr/>
          <p:nvPr/>
        </p:nvPicPr>
        <p:blipFill>
          <a:blip r:embed="rId1"/>
          <a:stretch/>
        </p:blipFill>
        <p:spPr>
          <a:xfrm>
            <a:off x="0" y="5661000"/>
            <a:ext cx="2484360" cy="92088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7" descr="i?id=20171773&amp;tov=8"/>
          <p:cNvPicPr/>
          <p:nvPr/>
        </p:nvPicPr>
        <p:blipFill>
          <a:blip r:embed="rId2"/>
          <a:stretch/>
        </p:blipFill>
        <p:spPr>
          <a:xfrm>
            <a:off x="0" y="256536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9" descr="i?id=13296857&amp;tov=2"/>
          <p:cNvPicPr/>
          <p:nvPr/>
        </p:nvPicPr>
        <p:blipFill>
          <a:blip r:embed="rId3"/>
          <a:stretch/>
        </p:blipFill>
        <p:spPr>
          <a:xfrm>
            <a:off x="1547640" y="4005360"/>
            <a:ext cx="1873440" cy="14000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11" descr="i?id=8550692&amp;tov=8"/>
          <p:cNvPicPr/>
          <p:nvPr/>
        </p:nvPicPr>
        <p:blipFill>
          <a:blip r:embed="rId4"/>
          <a:stretch/>
        </p:blipFill>
        <p:spPr>
          <a:xfrm>
            <a:off x="6804000" y="249228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3" descr="i?id=21323321&amp;tov=4"/>
          <p:cNvPicPr/>
          <p:nvPr/>
        </p:nvPicPr>
        <p:blipFill>
          <a:blip r:embed="rId5"/>
          <a:stretch/>
        </p:blipFill>
        <p:spPr>
          <a:xfrm>
            <a:off x="5796000" y="4005360"/>
            <a:ext cx="1238040" cy="165564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15" descr="i?id=24795249&amp;tov=2"/>
          <p:cNvPicPr/>
          <p:nvPr/>
        </p:nvPicPr>
        <p:blipFill>
          <a:blip r:embed="rId6"/>
          <a:stretch/>
        </p:blipFill>
        <p:spPr>
          <a:xfrm>
            <a:off x="7380360" y="494172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1377" name="Picture 18" descr="i[60]"/>
          <p:cNvPicPr/>
          <p:nvPr/>
        </p:nvPicPr>
        <p:blipFill>
          <a:blip r:embed="rId7"/>
          <a:stretch/>
        </p:blipFill>
        <p:spPr>
          <a:xfrm>
            <a:off x="1763640" y="2565360"/>
            <a:ext cx="1657440" cy="1243080"/>
          </a:xfrm>
          <a:prstGeom prst="rect">
            <a:avLst/>
          </a:prstGeom>
          <a:ln w="0">
            <a:noFill/>
          </a:ln>
        </p:spPr>
      </p:pic>
      <p:pic>
        <p:nvPicPr>
          <p:cNvPr id="1378" name="Picture 19" descr="i[65]"/>
          <p:cNvPicPr/>
          <p:nvPr/>
        </p:nvPicPr>
        <p:blipFill>
          <a:blip r:embed="rId8"/>
          <a:stretch/>
        </p:blipFill>
        <p:spPr>
          <a:xfrm>
            <a:off x="3564000" y="5157720"/>
            <a:ext cx="2160360" cy="144792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21" descr="NA00864_[1]"/>
          <p:cNvPicPr/>
          <p:nvPr/>
        </p:nvPicPr>
        <p:blipFill>
          <a:blip r:embed="rId9"/>
          <a:stretch/>
        </p:blipFill>
        <p:spPr>
          <a:xfrm>
            <a:off x="4067280" y="2565360"/>
            <a:ext cx="2087280" cy="18050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22" descr="CAS1KVC1"/>
          <p:cNvPicPr/>
          <p:nvPr/>
        </p:nvPicPr>
        <p:blipFill>
          <a:blip r:embed="rId10"/>
          <a:stretch/>
        </p:blipFill>
        <p:spPr>
          <a:xfrm>
            <a:off x="0" y="3789360"/>
            <a:ext cx="1098720" cy="16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5dd0"/>
                </a:solidFill>
                <a:latin typeface="Tahoma"/>
              </a:rPr>
              <a:t>Поворотная симметрия</a:t>
            </a:r>
            <a:r>
              <a:rPr b="1" lang="ru-RU" sz="4400" spc="-1" strike="noStrike">
                <a:solidFill>
                  <a:srgbClr val="9383b3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ля цветов характерна поворотная симмет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воротной симметрией обладают: веточка боярышника, цветок зверобоя, веточка акации, лапчатка гусина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3" name="Picture 5" descr="CAMZC92F"/>
          <p:cNvPicPr/>
          <p:nvPr/>
        </p:nvPicPr>
        <p:blipFill>
          <a:blip r:embed="rId1"/>
          <a:stretch/>
        </p:blipFill>
        <p:spPr>
          <a:xfrm>
            <a:off x="6227640" y="472428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6" descr="CA2JSHUZ"/>
          <p:cNvPicPr/>
          <p:nvPr/>
        </p:nvPicPr>
        <p:blipFill>
          <a:blip r:embed="rId2"/>
          <a:stretch/>
        </p:blipFill>
        <p:spPr>
          <a:xfrm>
            <a:off x="7956720" y="333360"/>
            <a:ext cx="1187280" cy="109224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7" descr="CA6Z4VVG"/>
          <p:cNvPicPr/>
          <p:nvPr/>
        </p:nvPicPr>
        <p:blipFill>
          <a:blip r:embed="rId3"/>
          <a:stretch/>
        </p:blipFill>
        <p:spPr>
          <a:xfrm>
            <a:off x="356400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8" descr="i[36]"/>
          <p:cNvPicPr/>
          <p:nvPr/>
        </p:nvPicPr>
        <p:blipFill>
          <a:blip r:embed="rId4"/>
          <a:stretch/>
        </p:blipFill>
        <p:spPr>
          <a:xfrm>
            <a:off x="468360" y="4724280"/>
            <a:ext cx="2663640" cy="174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 Box 4"/>
          <p:cNvSpPr/>
          <p:nvPr/>
        </p:nvSpPr>
        <p:spPr>
          <a:xfrm>
            <a:off x="468360" y="476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о поворотная симметрия цветов сочетается с зеркальной симметр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8" name="Picture 5" descr="CA2JSHUZ"/>
          <p:cNvPicPr/>
          <p:nvPr/>
        </p:nvPicPr>
        <p:blipFill>
          <a:blip r:embed="rId1"/>
          <a:stretch/>
        </p:blipFill>
        <p:spPr>
          <a:xfrm>
            <a:off x="324000" y="1773360"/>
            <a:ext cx="2447640" cy="2252520"/>
          </a:xfrm>
          <a:prstGeom prst="rect">
            <a:avLst/>
          </a:prstGeom>
          <a:ln w="0">
            <a:noFill/>
          </a:ln>
        </p:spPr>
      </p:pic>
      <p:sp>
        <p:nvSpPr>
          <p:cNvPr id="1389" name="Text Box 7"/>
          <p:cNvSpPr/>
          <p:nvPr/>
        </p:nvSpPr>
        <p:spPr>
          <a:xfrm>
            <a:off x="3059280" y="1844640"/>
            <a:ext cx="46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очка акации имеет зеркальную и поворотную симметрию. Веточка боярышника обладает скользящей осью симметрии. Гусиная лапчатка имеет поворотную симметрию и зеркаль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0" name="Picture 8" descr="i[42]"/>
          <p:cNvPicPr/>
          <p:nvPr/>
        </p:nvPicPr>
        <p:blipFill>
          <a:blip r:embed="rId2"/>
          <a:stretch/>
        </p:blipFill>
        <p:spPr>
          <a:xfrm>
            <a:off x="250920" y="4292640"/>
            <a:ext cx="2663640" cy="199080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9" descr="i[33]"/>
          <p:cNvPicPr/>
          <p:nvPr/>
        </p:nvPicPr>
        <p:blipFill>
          <a:blip r:embed="rId3"/>
          <a:stretch/>
        </p:blipFill>
        <p:spPr>
          <a:xfrm>
            <a:off x="7380360" y="170028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10" descr="CA3UCF7X"/>
          <p:cNvPicPr/>
          <p:nvPr/>
        </p:nvPicPr>
        <p:blipFill>
          <a:blip r:embed="rId4"/>
          <a:stretch/>
        </p:blipFill>
        <p:spPr>
          <a:xfrm>
            <a:off x="4211640" y="4941720"/>
            <a:ext cx="2305080" cy="17337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1" descr="CAY7YXRJ"/>
          <p:cNvPicPr/>
          <p:nvPr/>
        </p:nvPicPr>
        <p:blipFill>
          <a:blip r:embed="rId5"/>
          <a:stretch/>
        </p:blipFill>
        <p:spPr>
          <a:xfrm>
            <a:off x="7236000" y="4869000"/>
            <a:ext cx="161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4"/>
          <p:cNvSpPr/>
          <p:nvPr/>
        </p:nvSpPr>
        <p:spPr>
          <a:xfrm>
            <a:off x="250920" y="476280"/>
            <a:ext cx="446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смотревшись к растениям можно обнаружить многочисленные проявления винтовой симметрии в расположении листьев на стебле, веток на стволе, в строении шишек. Ярко выраженными винтами являются вьющие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5" name="Picture 5" descr="CA0FDJQI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270828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6" descr="CA2DS7SF"/>
          <p:cNvPicPr/>
          <p:nvPr/>
        </p:nvPicPr>
        <p:blipFill>
          <a:blip r:embed="rId2"/>
          <a:stretch/>
        </p:blipFill>
        <p:spPr>
          <a:xfrm>
            <a:off x="4932360" y="0"/>
            <a:ext cx="1986120" cy="263700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7" descr="i[48]"/>
          <p:cNvPicPr/>
          <p:nvPr/>
        </p:nvPicPr>
        <p:blipFill>
          <a:blip r:embed="rId3"/>
          <a:stretch/>
        </p:blipFill>
        <p:spPr>
          <a:xfrm>
            <a:off x="0" y="4581360"/>
            <a:ext cx="1517760" cy="227664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8" descr="CAK7K303"/>
          <p:cNvPicPr/>
          <p:nvPr/>
        </p:nvPicPr>
        <p:blipFill>
          <a:blip r:embed="rId4"/>
          <a:stretch/>
        </p:blipFill>
        <p:spPr>
          <a:xfrm>
            <a:off x="3348000" y="4724280"/>
            <a:ext cx="1549440" cy="2133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9" descr="CA0XABSL"/>
          <p:cNvPicPr/>
          <p:nvPr/>
        </p:nvPicPr>
        <p:blipFill>
          <a:blip r:embed="rId5"/>
          <a:stretch/>
        </p:blipFill>
        <p:spPr>
          <a:xfrm>
            <a:off x="7164360" y="292428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0" descr="CA8HYFSH"/>
          <p:cNvPicPr/>
          <p:nvPr/>
        </p:nvPicPr>
        <p:blipFill>
          <a:blip r:embed="rId6"/>
          <a:stretch/>
        </p:blipFill>
        <p:spPr>
          <a:xfrm>
            <a:off x="5435640" y="3573360"/>
            <a:ext cx="1414440" cy="295272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11" descr="CAII5YZH"/>
          <p:cNvPicPr/>
          <p:nvPr/>
        </p:nvPicPr>
        <p:blipFill>
          <a:blip r:embed="rId7"/>
          <a:stretch/>
        </p:blipFill>
        <p:spPr>
          <a:xfrm>
            <a:off x="3635280" y="0"/>
            <a:ext cx="1104840" cy="198900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12" descr="CASD2N8D"/>
          <p:cNvPicPr/>
          <p:nvPr/>
        </p:nvPicPr>
        <p:blipFill>
          <a:blip r:embed="rId8"/>
          <a:stretch/>
        </p:blipFill>
        <p:spPr>
          <a:xfrm>
            <a:off x="7380360" y="5013360"/>
            <a:ext cx="1379520" cy="184464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13" descr="i[82]"/>
          <p:cNvPicPr/>
          <p:nvPr/>
        </p:nvPicPr>
        <p:blipFill>
          <a:blip r:embed="rId9"/>
          <a:stretch/>
        </p:blipFill>
        <p:spPr>
          <a:xfrm>
            <a:off x="1692360" y="4941720"/>
            <a:ext cx="1466640" cy="151308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14" descr="CAODC3MJ"/>
          <p:cNvPicPr/>
          <p:nvPr/>
        </p:nvPicPr>
        <p:blipFill>
          <a:blip r:embed="rId10"/>
          <a:stretch/>
        </p:blipFill>
        <p:spPr>
          <a:xfrm>
            <a:off x="3708360" y="3429000"/>
            <a:ext cx="15843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cd071"/>
                </a:solidFill>
                <a:latin typeface="Tahoma"/>
              </a:rPr>
              <a:t>Поворотная симметрия 5-го поряд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В мире цветов встречаются поворотные оси симметрии разных порядков .Наиболее распространенная поворотная симметрия 5-го поряд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«Пятерная ось является своеобразным   инструментом борьбы за существование, страховкой против окаменения, против кристаллизации, первым шагом которой была»поимка» решеткой»(Н. В. Бел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Поворотная симметрия 5-го порядка встречается :у колокольчика, луговой герани, незабудки, зверобоя, вишни, груши, рябины, боярышника, шипов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7" name="Picture 4" descr="CAJAT4H7"/>
          <p:cNvPicPr/>
          <p:nvPr/>
        </p:nvPicPr>
        <p:blipFill>
          <a:blip r:embed="rId1"/>
          <a:stretch/>
        </p:blipFill>
        <p:spPr>
          <a:xfrm>
            <a:off x="5867280" y="458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5" descr="CAEEMKBT"/>
          <p:cNvPicPr/>
          <p:nvPr/>
        </p:nvPicPr>
        <p:blipFill>
          <a:blip r:embed="rId2"/>
          <a:stretch/>
        </p:blipFill>
        <p:spPr>
          <a:xfrm>
            <a:off x="7164360" y="5516640"/>
            <a:ext cx="1630440" cy="120636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CA272JOX"/>
          <p:cNvPicPr/>
          <p:nvPr/>
        </p:nvPicPr>
        <p:blipFill>
          <a:blip r:embed="rId3"/>
          <a:stretch/>
        </p:blipFill>
        <p:spPr>
          <a:xfrm>
            <a:off x="0" y="836640"/>
            <a:ext cx="1042920" cy="78264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CA4TEZK5"/>
          <p:cNvPicPr/>
          <p:nvPr/>
        </p:nvPicPr>
        <p:blipFill>
          <a:blip r:embed="rId4"/>
          <a:stretch/>
        </p:blipFill>
        <p:spPr>
          <a:xfrm>
            <a:off x="4500720" y="5613480"/>
            <a:ext cx="1269720" cy="12445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8" descr="CA8AKPKP"/>
          <p:cNvPicPr/>
          <p:nvPr/>
        </p:nvPicPr>
        <p:blipFill>
          <a:blip r:embed="rId5"/>
          <a:stretch/>
        </p:blipFill>
        <p:spPr>
          <a:xfrm>
            <a:off x="2771640" y="4581360"/>
            <a:ext cx="1513080" cy="113040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9" descr="CA65S5GX"/>
          <p:cNvPicPr/>
          <p:nvPr/>
        </p:nvPicPr>
        <p:blipFill>
          <a:blip r:embed="rId6"/>
          <a:stretch/>
        </p:blipFill>
        <p:spPr>
          <a:xfrm>
            <a:off x="8344080" y="2924280"/>
            <a:ext cx="799920" cy="95256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10" descr="CAMZC92F"/>
          <p:cNvPicPr/>
          <p:nvPr/>
        </p:nvPicPr>
        <p:blipFill>
          <a:blip r:embed="rId7"/>
          <a:stretch/>
        </p:blipFill>
        <p:spPr>
          <a:xfrm>
            <a:off x="7667640" y="443700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11" descr="CAHA7V5Y"/>
          <p:cNvPicPr/>
          <p:nvPr/>
        </p:nvPicPr>
        <p:blipFill>
          <a:blip r:embed="rId8"/>
          <a:stretch/>
        </p:blipFill>
        <p:spPr>
          <a:xfrm>
            <a:off x="7885080" y="83664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12" descr="CAJZH3EJ"/>
          <p:cNvPicPr/>
          <p:nvPr/>
        </p:nvPicPr>
        <p:blipFill>
          <a:blip r:embed="rId9"/>
          <a:stretch/>
        </p:blipFill>
        <p:spPr>
          <a:xfrm>
            <a:off x="1692360" y="590544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13" descr="CAG50J7H"/>
          <p:cNvPicPr/>
          <p:nvPr/>
        </p:nvPicPr>
        <p:blipFill>
          <a:blip r:embed="rId10"/>
          <a:stretch/>
        </p:blipFill>
        <p:spPr>
          <a:xfrm>
            <a:off x="0" y="4724280"/>
            <a:ext cx="16192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7:55:30Z</dcterms:created>
  <dc:creator>A7</dc:creator>
  <dc:description/>
  <dc:language>en-US</dc:language>
  <cp:lastModifiedBy>User</cp:lastModifiedBy>
  <dcterms:modified xsi:type="dcterms:W3CDTF">2010-03-16T08:55:41Z</dcterms:modified>
  <cp:revision>16</cp:revision>
  <dc:subject/>
  <dc:title>Симметрия растений.        </dc:title>
</cp:coreProperties>
</file>