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5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7.jpeg" ContentType="image/jpeg"/>
  <Override PartName="/ppt/media/image3.png" ContentType="image/pn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7.jpeg" ContentType="image/jpeg"/>
  <Override PartName="/ppt/media/image4.png" ContentType="image/png"/>
  <Override PartName="/ppt/media/image12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9.jpeg" ContentType="image/jpeg"/>
  <Override PartName="/ppt/media/image11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40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625B-B4E6-49C2-A616-30EB224CC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96B0-2EFF-431D-8D82-4EA4F3195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BB89-0E42-47D1-8259-C4282D472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3C17-92F1-4FCC-A0CE-C67B22556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09111-C075-4F7D-9053-647315F04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84E33-6716-492F-8B6B-41ACDA835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59F93-B352-4BBD-B3C1-849F23914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D9D26-83EB-4CFF-B8B2-10EC96B0C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80CCD-B1E5-497A-A844-33D52ACA2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7A902-B483-4A92-92DE-31E8C1203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B76C5-C655-41B6-BD18-8F0A65C33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7463-56AE-4B68-B851-DCC1FCB19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AD434-238D-4428-8F86-1434A8F2B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254A0-8D3A-4F8E-913A-AE675D25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E5BD2-8A8D-4062-BCC7-A40D18265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1DC82-9264-410F-8A58-32ACAA712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D1015-C69E-4006-9664-EC11B5069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E22C7-D806-4BFD-9D7B-F46A80F52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9E58E-2C9D-4FB4-AB3C-3E134B8FD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62363-455F-44BE-AC39-F733A852B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23AD7-6283-4777-A97D-592ED695F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F55F2-273B-4C2B-835D-F0501365A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F6D7-2A69-4358-8EB5-1A877E9DD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58FCF-E0AF-478F-9BD6-E5BA45ECE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6489D-81A3-4359-9622-DE5ABEAC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8924C-E3CE-495C-A20A-8B9E979DF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44720-B799-4B57-B444-8A788894C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E604D-2DF6-4EF3-BF12-1F0D2E030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A5595-E3BC-449B-8916-AF2296B46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53872-22AE-460B-8B6D-320F6E3E6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D9A0-4F10-4E97-B86E-E69DE0854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7225-F475-4954-9091-145916B1B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6A10-3A08-4379-8054-834E2273D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B67B-C3B7-42B4-9EE5-69FE4C01E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F861-A70B-4489-AB5C-59FE2F61F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CB54-0C5F-4888-B1A9-4FBB6B9A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A2660-494A-401F-A5A7-36F136E98A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2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0EFD8-3F11-4435-99DA-10326E188CA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92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C9E72-E3C2-4DB6-B961-56E256E024E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4.jpeg"/><Relationship Id="rId3" Type="http://schemas.openxmlformats.org/officeDocument/2006/relationships/hyperlink" Target="http://stat17.privet.ru/lr/0a0f0117f6e2d5ce2bdc1fb8bc26b971" TargetMode="External"/><Relationship Id="rId4" Type="http://schemas.openxmlformats.org/officeDocument/2006/relationships/image" Target="../media/image35.jpeg"/><Relationship Id="rId5" Type="http://schemas.openxmlformats.org/officeDocument/2006/relationships/hyperlink" Target="http://s44.radikal.ru/i106/0903/88/051a63f71f6b.jpg" TargetMode="External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hyperlink" Target="http://www.aworld.ru/users/photos/388p.jpg" TargetMode="External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ru.wikipedia.org/wiki/1883" TargetMode="External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99"/>
                </a:solidFill>
                <a:latin typeface="Arial"/>
              </a:rPr>
              <a:t>ОН  ОТКРЫЛ  НАМ  ДВЕ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99"/>
                </a:solidFill>
                <a:latin typeface="Arial"/>
              </a:rPr>
              <a:t>В  ЧУДЕСНЫЙ  МИР  ПРИР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3529080" cy="35290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975120" y="928800"/>
            <a:ext cx="4917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72600" y="4211640"/>
            <a:ext cx="7695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cc00"/>
                </a:solidFill>
                <a:latin typeface="Arial"/>
              </a:rPr>
              <a:t>ОН  ОТКРЫЛ  НАМ ДВЕ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cc00"/>
                </a:solidFill>
                <a:latin typeface="Arial"/>
              </a:rPr>
              <a:t>В  ЗАГАДОЧНЫЙ  М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cc00"/>
                </a:solidFill>
                <a:latin typeface="Arial"/>
              </a:rPr>
              <a:t>ПРИР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cc00"/>
                </a:solidFill>
                <a:latin typeface="Arial"/>
              </a:rPr>
              <a:t>К  юбилею  Эрнста  Сетона - Томпс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860436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3628800" cy="41925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1116000" y="3597120"/>
            <a:ext cx="4896000" cy="32608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4211640" y="620640"/>
            <a:ext cx="464328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539640" y="836640"/>
            <a:ext cx="5040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есколько книг посвятил быту и фольклору индейцев и эскимосов. Темы индейского быта и жизни на природе, среди диких животных, соединились в увлекательной и познавательной автобиографической книге «Маленькие дикари»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Э. Сетон – Томпсон, путешественник, художник, охотник.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исателя всегда отличала целеустремленность и большая работоспособность. Он писал книги и рисовал к ним иллюстрации, его картины пользовались успехом на художественных выставках, а еще он находил время для чтения лекций (их он прочитал более 3 тысяч) и написания статей для периодических и научных изданий, а также создания научных трудов по зоологии. Правительство Канады учредило для него персональную должность «государственного натуралиста», а Соединенные Штаты наградили золотой медалью «Элиот», которая присуждается за выдающиеся научные труды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803920" y="1905120"/>
            <a:ext cx="21556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Книги  Э. Сетона - Томсона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1931760" cy="30243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2050920" y="2852640"/>
            <a:ext cx="1905120" cy="32292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2843280" y="170028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4211640" y="2637000"/>
            <a:ext cx="2143080" cy="32130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6738840" y="1268280"/>
            <a:ext cx="2082960" cy="32403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6"/>
          <a:stretch/>
        </p:blipFill>
        <p:spPr>
          <a:xfrm>
            <a:off x="6516720" y="3838680"/>
            <a:ext cx="190512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539640" y="4724280"/>
            <a:ext cx="5688000" cy="1739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99"/>
                </a:solidFill>
                <a:latin typeface="Arial"/>
              </a:rPr>
              <a:t>Иллюстрации  к  произведениям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99"/>
                </a:solidFill>
                <a:latin typeface="Arial"/>
              </a:rPr>
              <a:t>Э. Сетона -Томс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«Мустанг – иноходец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3600360" cy="29923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4643280" y="1484280"/>
            <a:ext cx="4248360" cy="31845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411280" y="4273560"/>
            <a:ext cx="3456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УЛЛ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837720" y="1904760"/>
            <a:ext cx="8007480" cy="41907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427640" y="1125360"/>
            <a:ext cx="4424400" cy="33102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Картинка 93 из 61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71640" y="3645000"/>
            <a:ext cx="4032000" cy="32130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Картинка 4 из 61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79280" y="1557360"/>
            <a:ext cx="432144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«Лобо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468360" y="59500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340240" y="1249200"/>
            <a:ext cx="3552840" cy="27925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0" y="1341360"/>
            <a:ext cx="5003640" cy="30434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 rot="610800">
            <a:off x="1979640" y="3644640"/>
            <a:ext cx="2224080" cy="30240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5"/>
          <a:stretch/>
        </p:blipFill>
        <p:spPr>
          <a:xfrm>
            <a:off x="5076720" y="4076640"/>
            <a:ext cx="3460680" cy="2595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6"/>
          <a:stretch/>
        </p:blipFill>
        <p:spPr>
          <a:xfrm>
            <a:off x="468360" y="5950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59031" fill="hold"/>
                                        <p:tgtEl>
                                          <p:spTgt spid="1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259047" fill="hold"/>
                                        <p:tgtEl>
                                          <p:spTgt spid="2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«Домино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4392360" cy="33685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Картинка 92 из 26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356000" y="3660840"/>
            <a:ext cx="4788000" cy="31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«Жизнь  серого  медведя»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3743280" cy="26398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4788000" y="1679400"/>
            <a:ext cx="3954240" cy="491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Эрнст  Сетон - Томпсон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Родился  14. 08. 1860 года   в  Англ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  1866 году  семья  эмигрировала  в  Канад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916520" y="1904760"/>
            <a:ext cx="3929040" cy="41907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932360" y="1700280"/>
            <a:ext cx="3987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«Виннипегский  волк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 rot="717000">
            <a:off x="2124000" y="1773360"/>
            <a:ext cx="3265560" cy="25160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5435640" y="1268280"/>
            <a:ext cx="3541680" cy="33130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4067280" y="4287960"/>
            <a:ext cx="3494160" cy="257004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179280" y="2708280"/>
            <a:ext cx="410544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Услышав волка вой в ночи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адумайся над содержаньем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Быть может, песня о любви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ли печаль, тоска, страданье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н долго жил среди людей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н ненавидел одолженья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нал он нежность и любовь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 ревность, боль и униженье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н думал, что прошла любовь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ставил в этом деле точку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 превратился в одиночку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н понял, что такое страх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н понял, что такое счастье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Боится, что остался прах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а и в душе опять ненастье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н ненавидит сам себя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н будет жить, страдать, бороться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н не забудет ничего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н не поставит в жизни точки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ичто не может быть сильней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ем сердце волка-одиночки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«Крег – кутернейский  баран»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3887640" cy="27986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3780000" y="2951280"/>
            <a:ext cx="5076720" cy="39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50560" y="1904760"/>
            <a:ext cx="4105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одном из интервью, говоря о своем творчестве, Эрнст  Сетон - Томпсон сказал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«Своими произведениями я не только хотел открыть людям глаза на тех, кто живет рядом с ними в лугах и под пологом леса, но и остановить, по возможности, бессмысленное и бесцельное истребление диких животных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500720" y="1855800"/>
            <a:ext cx="4643280" cy="50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рирода  Канад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4319640" cy="34560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057560" y="3048120"/>
            <a:ext cx="50864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614840" cy="34606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5076720" y="1484280"/>
            <a:ext cx="381024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244440"/>
            <a:ext cx="5003640" cy="3753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995640" y="2708280"/>
            <a:ext cx="5148360" cy="41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1874  В США 14-летний мальчик Эрнст Сетон-Томпсон собирает «племя идейцев»,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761080" cy="49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50920" y="333360"/>
            <a:ext cx="5184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1879 г. Эрнест окончил Торонтский колледж искус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ое литературное произведение Сетона-Томпсона, «Жизнь лугового тетерева», было опубликовано в </a:t>
            </a:r>
            <a:r>
              <a:rPr b="0" lang="ru-RU" sz="20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188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г. Известность в США и Канаде писателю принесли сборники «Дикие животные, как я их знаю» (1898), «Жизнь тех, на кого охотятся» (1901), а также 8-томный труд «Жизнь диких зверей» (1925—1927). Иллюстрации к своим рассказам и повестям Сетон весьма искусно рисовал сам — его рисунки отличаются точностью и выразительность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Животные  Канад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4103640" cy="27334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148360" y="1413000"/>
            <a:ext cx="3744720" cy="24937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3203640" y="3701880"/>
            <a:ext cx="4464000" cy="31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19640" cy="40165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261040" y="1268280"/>
            <a:ext cx="3882960" cy="55897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84360" y="4724280"/>
            <a:ext cx="4103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будучи поклонником городской жизни, Сетон подолгу жил в лесах и прериях. Написал около 40 книг, главным образом о животных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3T07:25:27Z</dcterms:created>
  <dc:creator>Ученик</dc:creator>
  <dc:description/>
  <dc:language>en-US</dc:language>
  <cp:lastModifiedBy>Янкина Ольга Васильевна</cp:lastModifiedBy>
  <dcterms:modified xsi:type="dcterms:W3CDTF">2010-10-11T05:29:37Z</dcterms:modified>
  <cp:revision>10</cp:revision>
  <dc:subject/>
  <dc:title>Слайд 1</dc:title>
</cp:coreProperties>
</file>