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B02-BE44-4885-82FE-027ACB9D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877-6523-4F21-AAA7-13F462BB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0A1-8B9A-4A46-98D1-08126CFC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1CB-5C7E-4EE4-B83C-23D94B7B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5795-C798-427F-8021-487868E1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822-DEF8-4ECF-A66F-04D2CA52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7FB1-C309-4B61-B595-5189D76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DEE4-A33E-4347-88CE-6AAB98E6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B4B0-1A69-4F5D-BBB0-26993837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9C0F-76A0-4A8D-813A-E6374D07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279-D262-4154-93F7-FDC4E86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704-7FDD-4A86-BF51-849225D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2A81-3120-475F-B053-67B89C2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3637-4CE0-48A4-A841-08C8328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6CA-F65C-4F3D-9E38-BE98F241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045-3CDA-4A44-AA8B-D8A571AF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A354-618A-4E3B-99AF-7DB035D9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FDD7-FDD7-4E1E-80B9-E6C4288E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19BD-7E4C-454C-A196-436EAA7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FF00-0410-4B7D-8390-F8920F5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4CA1-EE46-47F7-AA3C-8AF3831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3638-046F-492A-AD71-8E00A75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21B-DADB-4ABE-A72B-77C7025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7F96-5116-4899-A83C-1AA3DA43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5180-B204-4E42-818E-C68253F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C2ED-3396-42C0-A513-19A3182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CC62-523E-4AE8-9B3F-59A5D75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07CF-DC9F-43FD-BCCB-77D438D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5C61-A531-4781-880F-6328DFFE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A649-D3ED-4397-BB5A-08318971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4AD-7140-4148-8571-85BEBFD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0E4-8F3E-43E9-98A9-6C752B3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0E0-E47E-4C72-80A2-7ED91DB6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03B-4964-4C3F-8679-6014A6F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2D0-42DD-4CCB-8A43-C79CB25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F48-20E8-4830-9049-4748867A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16E-7C38-4120-AC20-A51F369C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02CB-8F36-4E50-9F03-60FE072BF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07F-6901-409C-AF32-49EA52BBC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hyperlink" Target="http://stat17.privet.ru/lr/0a0f0117f6e2d5ce2bdc1fb8bc26b971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s44.radikal.ru/i106/0903/88/051a63f71f6b.jpg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aworld.ru/users/photos/388p.jpg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u.wikipedia.org/wiki/1883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ОН  ОТКРЫЛ  НАМ 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В  ЧУДЕСНЫЙ  МИР 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75120" y="928800"/>
            <a:ext cx="491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600" y="4211640"/>
            <a:ext cx="769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Н  ОТКРЫЛ  НАМ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В  ЗАГАДОЧНЫЙ 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  юбилею  Эрнста  Сетона - Томпс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628800" cy="4192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16000" y="3597120"/>
            <a:ext cx="4896000" cy="3260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211640" y="620640"/>
            <a:ext cx="464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83664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сколько книг посвятил быту и фольклору индейцев и эскимосов. Темы индейского быта и жизни на природе, среди диких животных, соединились в увлекательной и познавательной автобиографической книге «Маленькие дикари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Э. Сетон – Томпсон, путешественник, художник, охотни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исателя всегда отличала целеустремленность и большая работоспособность. Он писал книги и рисовал к ним иллюстрации, его картины пользовались успехом на художественных выставках, а еще он находил время для чтения лекций (их он прочитал более 3 тысяч) и написания статей для периодических и научных изданий, а также создания научных трудов по зоологии. Правительство Канады учредило для него персональную должность «государственного натуралиста», а Соединенные Штаты наградили золотой медалью «Элиот», которая присуждается за выдающиеся научные труд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03920" y="1905120"/>
            <a:ext cx="215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ниги  Э. Сетона - Томсон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931760" cy="302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1905120" cy="322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211640" y="263700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738840" y="1268280"/>
            <a:ext cx="2082960" cy="324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516720" y="3838680"/>
            <a:ext cx="1905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9640" y="4724280"/>
            <a:ext cx="568800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Иллюстрации  к  произведения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Э. Сетона -Том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Мустанг – иноходе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992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248360" cy="318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411280" y="4273560"/>
            <a:ext cx="3456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УЛ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125360"/>
            <a:ext cx="4424400" cy="3310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Картинка 93 из 6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3645000"/>
            <a:ext cx="4032000" cy="321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4 из 6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557360"/>
            <a:ext cx="4321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Лоб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40240" y="1249200"/>
            <a:ext cx="3552840" cy="2792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003640" cy="3043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 rot="610800">
            <a:off x="1979640" y="364464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076720" y="4076640"/>
            <a:ext cx="3460680" cy="2595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90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904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Домин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92360" cy="3368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92 из 2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60840"/>
            <a:ext cx="47880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Жизнь  серого  медведя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788000" y="1679400"/>
            <a:ext cx="395424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рнст  Сетон - Томпс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дился  14. 08. 1860 года   в  Англ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 1866 году  семья  эмигрировала  в  Кана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987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Виннипегский  вол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717000">
            <a:off x="2124000" y="1773360"/>
            <a:ext cx="3265560" cy="2516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541680" cy="33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067280" y="4287960"/>
            <a:ext cx="3494160" cy="2570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2708280"/>
            <a:ext cx="41054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слышав волка вой в ночи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умайся над содержанье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ть может, песня о любви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ли печаль, тоска, страдан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долго жил среди людей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навидел одолжень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л он нежность и любовь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ревность, боль и унижен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думал, что прошла любовь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тавил в этом деле точку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превратился в одиночку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понял, что такое страх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понял, что такое счастье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ится, что остался прах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 и в душе опять ненаст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навидит сам себ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будет жить, страдать, боротьс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забудет ничего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оставит в жизни точк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что не может быть сильней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м сердце волка-одиночк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Крег – кутернейский  баран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7640" cy="279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80000" y="2951280"/>
            <a:ext cx="5076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10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дном из интервью, говоря о своем творчестве, Эрнст  Сетон - Томпсон сказа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Своими произведениями я не только хотел открыть людям глаза на тех, кто живет рядом с ними в лугах и под пологом леса, но и остановить, по возможности, бессмысленное и бесцельное истребление диких животных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00720" y="1855800"/>
            <a:ext cx="4643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рода  Кана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57560" y="3048120"/>
            <a:ext cx="508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14840" cy="3460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8102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95640" y="2708280"/>
            <a:ext cx="51483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1874  В США 14-летний мальчик Эрнст Сетон-Томпсон собирает «племя идейцев»,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7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33336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79 г. Эрнест окончил Торонтский колледж искус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литературное произведение Сетона-Томпсона, «Жизнь лугового тетерева», было опубликовано в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188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г. Известность в США и Канаде писателю принесли сборники «Дикие животные, как я их знаю» (1898), «Жизнь тех, на кого охотятся» (1901), а также 8-томный труд «Жизнь диких зверей» (1925—1927). Иллюстрации к своим рассказам и повестям Сетон весьма искусно рисовал сам — его рисунки отличаются точностью и вырази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е  Кана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03640" cy="2733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44720" cy="2493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03640" y="3701880"/>
            <a:ext cx="4464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01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61040" y="1268280"/>
            <a:ext cx="3882960" cy="5589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472428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удучи поклонником городской жизни, Сетон подолгу жил в лесах и прериях. Написал около 40 книг, главным образом о живот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7:25:27Z</dcterms:created>
  <dc:creator>Ученик</dc:creator>
  <dc:description/>
  <dc:language>en-US</dc:language>
  <cp:lastModifiedBy>Янкина Ольга Васильевна</cp:lastModifiedBy>
  <dcterms:modified xsi:type="dcterms:W3CDTF">2010-10-11T05:29:37Z</dcterms:modified>
  <cp:revision>10</cp:revision>
  <dc:subject/>
  <dc:title>Слайд 1</dc:title>
</cp:coreProperties>
</file>