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8877-55DE-4CB2-B59C-7C5A8FEB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D5F-FE2E-471C-BCCD-B070A861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5D8-58B9-4A41-81AD-1E7C8BB5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EAD-B1CC-4EF4-811A-7158A4F0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8F08-7397-4FB8-A8A7-18EECA5F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F89E-F1A3-4BB8-9548-D55119D9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F600-1D96-4C1F-BC89-A1CDD080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35EE-3593-4D0D-8C89-C0FD940B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6D9E-ACE3-46F4-8702-FE4D6EF0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DFC6-401C-4191-872F-681B5EFB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C4EB-C988-4211-9545-7BB60694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925-E3A3-41A2-BF70-5255B114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BE39-AE79-4918-AED0-B3A901A5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8A87-6BDB-4BC8-9215-D3669074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6D82-5034-4C5F-854E-3612B0AF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C84B-2ABF-49E9-93BA-06F23A02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B2FB-2A8A-40FC-A001-8F45EEF5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96FCE-528A-48F9-9436-F0DBAFB6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18A44-1C09-4EFA-9FEE-6046A612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35863-957E-4FC6-A4F9-4F7270B4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7A2BE-2A93-49E9-9849-6CFB76E3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641D8-8FA4-43DE-AC2E-9228C11D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25E-3516-4209-9638-8F6BA446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C78E8-55A0-4466-9679-4C4AFC80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B700A-936B-404D-A0A7-80FA2A41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B8783-3D11-4E8C-A5FD-BF1B03B4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BCBF6-A7E4-43BE-BFB0-79F7B57E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2DD0-16CC-4C54-90D8-8BF0EEC0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568C8-D11D-4B6E-A2D1-66CC4511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08DCC-DE0D-41A8-8D82-E75D83B9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D3A-9547-4329-A31C-443D919F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8FE4-9372-4015-8CBA-E1D5A66E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C16-A676-4FB1-80FF-3A4A2569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5FA-490A-4324-A94E-A6F69D49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CE0-758F-456D-B96E-98D33FD8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AE9-F76B-4FCA-B238-6354F8B5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ACAB-4690-463B-A67A-1D6B04D69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3899-2AB1-4A9C-8DB6-33B1E1CCA3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14CC-A04D-4DFB-8773-C2EB756B48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jpeg"/><Relationship Id="rId3" Type="http://schemas.openxmlformats.org/officeDocument/2006/relationships/hyperlink" Target="http://stat17.privet.ru/lr/0a0f0117f6e2d5ce2bdc1fb8bc26b971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s44.radikal.ru/i106/0903/88/051a63f71f6b.jpg" TargetMode="External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aworld.ru/users/photos/388p.jpg" TargetMode="Externa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ru.wikipedia.org/wiki/1883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ОН  ОТКРЫЛ  НАМ  Д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В  ЧУДЕСНЫЙ  МИР 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75120" y="928800"/>
            <a:ext cx="491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2600" y="4211640"/>
            <a:ext cx="769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ОН  ОТКРЫЛ  НАМ Д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В  ЗАГАДОЧНЫЙ 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К  юбилею  Эрнста  Сетона - Томпс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3628800" cy="4192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116000" y="3597120"/>
            <a:ext cx="4896000" cy="3260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211640" y="620640"/>
            <a:ext cx="4643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39640" y="836640"/>
            <a:ext cx="504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сколько книг посвятил быту и фольклору индейцев и эскимосов. Темы индейского быта и жизни на природе, среди диких животных, соединились в увлекательной и познавательной автобиографической книге «Маленькие дикари»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Э. Сетон – Томпсон, путешественник, художник, охотник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исателя всегда отличала целеустремленность и большая работоспособность. Он писал книги и рисовал к ним иллюстрации, его картины пользовались успехом на художественных выставках, а еще он находил время для чтения лекций (их он прочитал более 3 тысяч) и написания статей для периодических и научных изданий, а также создания научных трудов по зоологии. Правительство Канады учредило для него персональную должность «государственного натуралиста», а Соединенные Штаты наградили золотой медалью «Элиот», которая присуждается за выдающиеся научные труд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803920" y="1905120"/>
            <a:ext cx="2155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ниги  Э. Сетона - Томсон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1931760" cy="3024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050920" y="2852640"/>
            <a:ext cx="1905120" cy="3229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843280" y="17002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211640" y="2637000"/>
            <a:ext cx="2143080" cy="3213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6738840" y="1268280"/>
            <a:ext cx="2082960" cy="3240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6516720" y="3838680"/>
            <a:ext cx="1905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39640" y="4724280"/>
            <a:ext cx="5688000" cy="1739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Иллюстрации  к  произведениям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Э. Сетона -Томс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Мустанг – иноходец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600360" cy="2992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248360" cy="3184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411280" y="4273560"/>
            <a:ext cx="3456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УЛЛ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427640" y="1125360"/>
            <a:ext cx="4424400" cy="3310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Картинка 93 из 6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3645000"/>
            <a:ext cx="4032000" cy="3213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Картинка 4 из 61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1557360"/>
            <a:ext cx="43214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Лобо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340240" y="1249200"/>
            <a:ext cx="3552840" cy="2792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5003640" cy="3043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 rot="610800">
            <a:off x="1979640" y="3644640"/>
            <a:ext cx="2224080" cy="3024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5076720" y="4076640"/>
            <a:ext cx="3460680" cy="2595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903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9047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Домино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392360" cy="3368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Картинка 92 из 2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3660840"/>
            <a:ext cx="47880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«Жизнь  серого  медведя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743280" cy="26398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788000" y="1679400"/>
            <a:ext cx="395424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Эрнст  Сетон - Томпсо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одился  14. 08. 1860 года   в  Англ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 1866 году  семья  эмигрировала  в  Кана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916520" y="1904760"/>
            <a:ext cx="3929040" cy="4190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987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Виннипегский  волк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 rot="717000">
            <a:off x="2124000" y="1773360"/>
            <a:ext cx="3265560" cy="2516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435640" y="1268280"/>
            <a:ext cx="3541680" cy="3313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067280" y="4287960"/>
            <a:ext cx="3494160" cy="25700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9280" y="2708280"/>
            <a:ext cx="410544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слышав волка вой в ночи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думайся над содержаньем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ыть может, песня о любви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ли печаль, тоска, страданье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долго жил среди людей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ненавидел одолженья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нал он нежность и любовь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ревность, боль и униженье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думал, что прошла любовь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тавил в этом деле точку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превратился в одиночку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понял, что такое страх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понял, что такое счастье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оится, что остался прах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 и в душе опять ненастье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ненавидит сам себя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будет жить, страдать, бороться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не забудет ничего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не поставит в жизни точки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ичто не может быть сильней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ем сердце волка-одиночки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«Крег – кутернейский  баран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887640" cy="2798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780000" y="2951280"/>
            <a:ext cx="507672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4105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одном из интервью, говоря о своем творчестве, Эрнст  Сетон - Томпсон сказа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Своими произведениями я не только хотел открыть людям глаза на тех, кто живет рядом с ними в лугах и под пологом леса, но и остановить, по возможности, бессмысленное и бесцельное истребление диких животных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00720" y="1855800"/>
            <a:ext cx="46432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ирода  Кана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319640" cy="3456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057560" y="3048120"/>
            <a:ext cx="5086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614840" cy="3460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76720" y="1484280"/>
            <a:ext cx="38102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24444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95640" y="2708280"/>
            <a:ext cx="514836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1874  В США 14-летний мальчик Эрнст Сетон-Томпсон собирает «племя идейцев»,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7610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50920" y="333360"/>
            <a:ext cx="518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79 г. Эрнест окончил Торонтский колледж искус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литературное произведение Сетона-Томпсона, «Жизнь лугового тетерева», было опубликовано в 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188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г. Известность в США и Канаде писателю принесли сборники «Дикие животные, как я их знаю» (1898), «Жизнь тех, на кого охотятся» (1901), а также 8-томный труд «Жизнь диких зверей» (1925—1927). Иллюстрации к своим рассказам и повестям Сетон весьма искусно рисовал сам — его рисунки отличаются точностью и выразитель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Животные  Кана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103640" cy="2733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744720" cy="2493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203640" y="3701880"/>
            <a:ext cx="446400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4016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61040" y="1268280"/>
            <a:ext cx="3882960" cy="5589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4360" y="4724280"/>
            <a:ext cx="410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будучи поклонником городской жизни, Сетон подолгу жил в лесах и прериях. Написал около 40 книг, главным образом о животны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07:25:27Z</dcterms:created>
  <dc:creator>Ученик</dc:creator>
  <dc:description/>
  <dc:language>en-US</dc:language>
  <cp:lastModifiedBy>Янкина Ольга Васильевна</cp:lastModifiedBy>
  <dcterms:modified xsi:type="dcterms:W3CDTF">2010-10-11T05:29:37Z</dcterms:modified>
  <cp:revision>10</cp:revision>
  <dc:subject/>
  <dc:title>Слайд 1</dc:title>
</cp:coreProperties>
</file>