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B43-4708-41A2-B39E-3323E308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190-C155-4AC9-9092-48707D2F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9DD-D733-43E2-872E-19B1D37B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2C91-E2A6-4579-9D34-3E41882E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3DD4-9957-4A0C-AC39-7857081F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0AC5-B98F-43D8-BDB9-EF3B6A9E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4739-AEAF-4C06-80FA-06A305E2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7715-EA19-439D-B92A-A8C28FDE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EDEF-2F02-47B1-9B6E-F402E6D7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781D-261C-4AE8-A00B-15A4447B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DDF0-E4F4-4BAF-B01E-2193681A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BD9-EB7E-4CDC-8872-C38D4C74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3765-52BD-4379-AD8A-790E3626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5E96-759D-46F3-B416-AE4D7E77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FEA2-685A-4B8A-95AB-DCD8BD4B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DC41-9323-439D-B7FE-89536E4C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56DF-EE04-43F7-A4B6-71FCC5A4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76D-58D8-4222-A11D-B7EA94F1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2F8-C46B-4B70-8BF9-4A1DCFF8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A96-F0FA-4D01-908B-14522BC5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85B-671D-4E5F-83DD-31C73569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8D47-0BAC-47F4-B540-51718D75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066-6613-4A45-A0E3-1FC58F7A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09A-9C4D-4C50-BF1F-007AACFD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49F4-8BE4-4D2D-8700-47264536E2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415A-6EF8-4522-BC36-C6EE4BA79C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5600" y="1300320"/>
            <a:ext cx="66294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«Серебряный век в русской культуре».</a:t>
            </a:r>
            <a:br>
              <a:rPr sz="44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Занятие 1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240" y="3357360"/>
            <a:ext cx="65134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вторский элективный курс для предпрофильного  обучения в 9 клас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Разработала:   Данилова Е.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читель высшей категор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ОУ «СОШ№19»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96360" cy="5019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16000" y="602136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рожцы пишут письмо турецкому султ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5950080"/>
            <a:ext cx="5843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И.Е. Репин « Бурлаки на Волге»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6200" y="476280"/>
            <a:ext cx="83185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4968720" cy="6264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8360" y="5661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789360"/>
            <a:ext cx="31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АСИЛИЙ ГРИГОРЬЕВИЧ</a:t>
            </a: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П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93080" cy="554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28360" y="6092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.Г. Перов « В последний пу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5577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623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топл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307800"/>
            <a:ext cx="8209080" cy="5569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47640" y="6308640"/>
            <a:ext cx="44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ний кабак у заст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572000" cy="6264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3788640"/>
            <a:ext cx="31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н Васильевич  Сур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489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137400" y="58046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Боярыня Мороз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80000" y="189000"/>
            <a:ext cx="4568760" cy="6264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71640" y="494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ереход Сув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Альп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084320"/>
            <a:ext cx="8713800" cy="465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34880" y="609228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зятие снежного город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1. Занятие.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«Эстетика «серебряного века».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ценности мировоззрения людей России на рубеже ве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: 1. Уточнить  политическую основу собы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Определить новые направления в искус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Понять сложность синтеза искус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ать понятие «декаданс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6000" y="5013360"/>
            <a:ext cx="16556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5111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917800" y="594936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окорение Сиби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72720" cy="5275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72360" y="623664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Утро стрелецкой ка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рань веко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динство искусства «серебряного века в парадоксальном сочетании старого и нового, уходящего («декаданса»- с французского) и нарождающегося- это была гармония противополож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поха отличалась редким накалом страстей, чувствований, верований, иллюз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иколай Андреевич Бердяе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боте «Русская идея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В начале века велась трудная, часто мучительная борьба людей ренессанса притив суженности сознания тридиционной  интеллигенции - борьба во имя свободы творчества,- борьба во имя свободы творчества и во имя дух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этом фоне рождались художественные на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Солнце наивного реализма закатилось»- вынес свой приговор А.Б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 конце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XIX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век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явили о себе новые напра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изм, акмеизм («акма»-наивысши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классицизм, футуризм, кубо-футуриз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тракционизм, примитивизм, новое направление в церковной музыке, русский поэтический романт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ировоззрение нового ве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844640"/>
            <a:ext cx="769608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ажен, кто посетил се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его минуты роковы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о призвали все благ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собеседника на пи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их высоких зрелищ зрител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.И.Тютч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тафора  «серебряный век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 в кругах русских писателей- эмигрантов, считавших себя наследниками богатейшей русской культуры рубеж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IX – X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ов и назвавших эту эпоху «русским ренессансо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ы,  музыканты, зодчие, хореографы этой «роковой эпохи» не были зрителями. Они были творцами искусства, поражающего напряжённостью предчувствий надвигающейся катастроф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ндрей Белый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 ты, огненная стих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езумствуй, сжига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оссия, Россия, Росс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ессия грядуще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48360" y="2060640"/>
            <a:ext cx="1997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ячеслав Ивано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Они творили не искусство, взятое само по се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о шире – Современную душ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ормирование этого шло ещё с «Золотого века» русск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литера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А.С. Пушкин, И.С. Тургене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.В. Гоголь, Ф.М. Достоевский -  блестящие творцы критического ре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узык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радиции «Могучей кучки»- с её метрами: Н.А. Римским – Корсаковым, М.А. Балакиревым,  А.П. Бороди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живописи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Товарищество передвижных выставок»  под нача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.Н. Крамского, В.И. Суриков, И.Е. Репин, В.А. Серов и 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Картины И.Е. Репина                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2458800" cy="2737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26920" y="4581360"/>
            <a:ext cx="1876680" cy="2087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2228760" cy="266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635280" y="1125360"/>
            <a:ext cx="2481480" cy="2762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372360" y="3500280"/>
            <a:ext cx="238428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492360" y="4221000"/>
            <a:ext cx="242424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932360" y="1773360"/>
            <a:ext cx="37432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цена убийства Иваном Грозным своего сына — настоящая «картина-триллер», говоря современным языком, — производит шоковое воздействие на публику, ассоциируясь с революционным и контрреволюционным насилием 1880-х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816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37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000" y="602064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.Е. Репин «Крестный ход в Курской губер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5:58:43Z</dcterms:created>
  <dc:creator>Макс</dc:creator>
  <dc:description/>
  <dc:language>en-US</dc:language>
  <cp:lastModifiedBy>Людмила Николаевна</cp:lastModifiedBy>
  <dcterms:modified xsi:type="dcterms:W3CDTF">2011-01-31T10:11:24Z</dcterms:modified>
  <cp:revision>12</cp:revision>
  <dc:subject/>
  <dc:title>«Серебряный век в русской культуре»</dc:title>
</cp:coreProperties>
</file>