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D29-99F7-440B-8E9D-A899BD9D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56C-5452-495D-B90A-E37DAD5E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4D8-449D-4D46-BD1E-60470F48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FF2-8945-4450-AB7F-200FEB8A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9F4-1339-4AC4-A120-1A068CC7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E2CD-3AE8-494C-83EE-B87BE40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25B9-3836-4B54-8FD9-930DAE01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4461-E2FF-40F9-8CE2-901566C7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AF44-976D-4AD1-8F57-5E54E601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9389-8F73-44E0-A1F5-A882452B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6794-7963-4D43-94F9-847CAA84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A2B-41BF-46CF-99CC-D4864A38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EC24-0832-44AD-91DA-56EFD782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1881-39A6-4F0C-882C-E4AF0194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42D8-6696-4875-B664-620D59DE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F214-9DA5-4F42-AD8E-435DE700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5DC-C2F0-4F25-B6D3-7EEBECB2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80B-34E8-4D43-8D55-1F90F59A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20B-4AAA-45C7-BC7D-6AFBCBB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86F-78A9-45E0-8AA9-E123A2B2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665-50E3-4DA7-BADB-043D56F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026-5553-432C-97A7-36D39C2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417-A7CC-4361-B92A-EBC34EF6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676-EB48-4CD3-967B-3DF05D3F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E414-6837-48B7-AA00-2BC91D491B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30AB-10C6-465D-A265-A8D816115A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5600" y="1300320"/>
            <a:ext cx="66294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«Серебряный век в русской культуре».</a:t>
            </a:r>
            <a:br>
              <a:rPr sz="44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Занятие 1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240" y="3357360"/>
            <a:ext cx="65134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вторский элективный курс для предпрофильного  обучения в 9 клас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зработала:   Данилова Е.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читель высшей категор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У «СОШ№19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6360" cy="5019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16000" y="60213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рожцы пишут письмо турецкому сул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5950080"/>
            <a:ext cx="5843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И.Е. Репин « Бурлаки на Волге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6200" y="476280"/>
            <a:ext cx="83185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4968720" cy="626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566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789360"/>
            <a:ext cx="31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АСИЛИЙ ГРИГОРЬЕВИЧ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554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28360" y="6092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Г. Перов « В последний пу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5577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623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топл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307800"/>
            <a:ext cx="8209080" cy="5569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47640" y="630864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ний кабак у заст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572000" cy="6264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3788640"/>
            <a:ext cx="31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н Васильевич  Сур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489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37400" y="58046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оярыня Мороз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4568760" cy="626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494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ереход Сув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Аль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084320"/>
            <a:ext cx="8713800" cy="465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4880" y="609228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зятие снежного город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. Занятие.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«Эстетика «серебряного века»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ценности мировоззрения людей России на рубеже ве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: 1. Уточнить  политическую основу собы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пределить новые направления в искус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онять сложность синтеза искус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ать понятие «декаданс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6000" y="5013360"/>
            <a:ext cx="16556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11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917800" y="594936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окорение Сиби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72720" cy="5275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72360" y="623664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Утро стрелецкой ка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рань век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динство искусства «серебряного века в парадоксальном сочетании старого и нового, уходящего («декаданса»- с французского) и нарождающегося- это была гармония противополож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поха отличалась редким накалом страстей, чувствований, верований, иллюз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иколай Андреевич Бердяе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боте «Русская иде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В начале века велась трудная, часто мучительная борьба людей ренессанса притив суженности сознания тридиционной  интеллигенции - борьба во имя свободы творчества,- борьба во имя свободы творчества и во имя дух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этом фоне рождались художественные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Солнце наивного реализма закатилось»- вынес свой приговор А.Б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 конце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XIX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ве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явили о себе новые на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изм, акмеизм («акма»-наивысши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классицизм, футуризм, кубо-футур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тракционизм, примитивизм, новое направление в церковной музыке, русский поэтический романт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ировоззрение нового ве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44640"/>
            <a:ext cx="76960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ажен, кто посетил се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го минуты роков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призвали все бла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собеседника на п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их высоких зрелищ зрител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.И.Тютч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тафора  «серебряный ве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 в кругах русских писателей- эмигрантов, считавших себя наследниками богатейшей русской культуры рубеж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IX – X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ов и назвавших эту эпоху «русским ренессанс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ы,  музыканты, зодчие, хореографы этой «роковой эпохи» не были зрителями. Они были творцами искусства, поражающего напряжённостью предчувствий надвигающейся катастроф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ндрей Белый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 ты, огненная стих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зумствуй, сжиг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ссия, Россия, Росс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ессия грядуще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48360" y="2060640"/>
            <a:ext cx="1997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ячеслав Иван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Они творили не искусство, взятое само по се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 шире – Современную душ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ормирование этого шло ещё с «Золотого века» русск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литера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.С. Пушкин, И.С. Тургене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.В. Гоголь, Ф.М. Достоевский -  блестящие творцы критического ре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узык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радиции «Могучей кучки»- с её метрами: Н.А. Римским – Корсаковым, М.А. Балакиревым,  А.П. Бород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живопис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Товарищество передвижных выставок»  под нача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.Н. Крамского, В.И. Суриков, И.Е. Репин, В.А. Серов и 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ртины И.Е. Репина                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2458800" cy="2737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6920" y="4581360"/>
            <a:ext cx="1876680" cy="208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228760" cy="266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35280" y="1125360"/>
            <a:ext cx="2481480" cy="276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372360" y="3500280"/>
            <a:ext cx="238428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492360" y="4221000"/>
            <a:ext cx="24242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932360" y="1773360"/>
            <a:ext cx="37432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цена убийства Иваном Грозным своего сына — настоящая «картина-триллер», говоря современным языком, — производит шоковое воздействие на публику, ассоциируясь с революционным и контрреволюционным насилием 188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816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37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000" y="602064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Е. Репин «Крестный ход в Курской губер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5:58:43Z</dcterms:created>
  <dc:creator>Макс</dc:creator>
  <dc:description/>
  <dc:language>en-US</dc:language>
  <cp:lastModifiedBy>Людмила Николаевна</cp:lastModifiedBy>
  <dcterms:modified xsi:type="dcterms:W3CDTF">2011-01-31T10:11:24Z</dcterms:modified>
  <cp:revision>12</cp:revision>
  <dc:subject/>
  <dc:title>«Серебряный век в русской культуре»</dc:title>
</cp:coreProperties>
</file>