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603-D4D0-4C1A-916A-A974AC9F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B47-3C8C-4C52-A2ED-A8745D19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87B-6062-4E38-BE03-6D76D5D5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A37-70A0-40FF-8CCD-CD038DFA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4FF-79F9-4D75-8752-CE387B43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126D-AFB2-4860-BBF2-55CC03F4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20EE-0DFD-45B2-B2C8-A68BBEDB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E7D2-ED35-4350-B03E-A372221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5CC9-87D3-4264-B603-84638E4E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4EBF-7833-4871-BCDD-CF497EB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209F-F26B-419A-8CEE-ECA0C09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41D-7DD0-4070-B16E-1B51BD83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8D86-AAC0-4431-9E4A-0AF9044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9ED8-4DFB-4BA0-A2AA-1F8BF60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75B-C893-4FD9-B143-C4DA7177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47D0-FDD9-4F64-AB75-40AD2203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7165-2826-4D3C-9E98-29D5F0F1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8F3-6A16-4F43-99AC-32B31CDE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ED2-C779-40EB-A455-AC63F8AB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836-259D-4A64-B5CD-684CB930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D3C-6D94-4477-84D8-6E2A44F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5AD-74A8-4B24-AC07-26E357E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EB9-1729-4515-ACD7-7B0509F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CDE-AFB7-4ED3-92CF-0B46C049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AD4-A406-4C58-A0D0-B7BB8DB873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C2B1-0C87-4328-9FA7-D188E47FCC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5600" y="1300320"/>
            <a:ext cx="6629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Серебряный век в русской культуре».</a:t>
            </a:r>
            <a:br>
              <a:rPr sz="44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3357360"/>
            <a:ext cx="6513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вторский элективный курс для предпрофильного  обучения в 9 кла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работала:   Данилова Е.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читель высшей категор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У «СОШ№19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6360" cy="5019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60213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рожцы пишут письмо турецкому сул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5950080"/>
            <a:ext cx="5843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И.Е. Репин « Бурлаки на Волге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6200" y="476280"/>
            <a:ext cx="83185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496872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566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789360"/>
            <a:ext cx="31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АСИЛИЙ ГРИГОРЬЕВИЧ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54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28360" y="6092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Г. Перов « В последний пу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5577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623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опл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307800"/>
            <a:ext cx="8209080" cy="5569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47640" y="630864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ий кабак у заст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572000" cy="6264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378864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н Васильевич  Су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489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37400" y="5804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оярыня Мороз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4568760" cy="626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494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ереход Сув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Аль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084320"/>
            <a:ext cx="8713800" cy="465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4880" y="60922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зятие снежного город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. Занятие.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Эстетика «серебряного века»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ценности мировоззрения людей России на рубеже в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 1. Уточнить  политическую основу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ить новые направления в искус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онять сложность синтеза искус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ать понятие «декаданс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16556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17800" y="594936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корение Сиби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72720" cy="527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72360" y="623664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Утро стрелецкой ка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рань век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динство искусства «серебряного века в парадоксальном сочетании старого и нового, уходящего («декаданса»- с французского) и нарождающегося- это была гармония противополож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поха отличалась редким накалом страстей, чувствований, верований, иллюз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иколай Андреевич Бердяе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боте «Русская иде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В начале века велась трудная, часто мучительная борьба людей ренессанса притив суженности сознания тридиционной  интеллигенции - борьба во имя свободы творчества,- борьба во имя свободы творчества и во имя дух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этом фоне рождались художественные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олнце наивного реализма закатилось»- вынес свой приговор А.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конце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XIX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ве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или о себе новые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зм, акмеизм («акма»-наивысш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классицизм, футуризм, кубо-футу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ционизм, примитивизм, новое направление в церковной музыке, русский поэтический романт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ровоззрение нового ве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жен, кто посетил се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го минуты роко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призвали все бла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обеседника на п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их высоких зрелищ зрител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.И.Тютч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тафора  «серебряный ве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 в кругах русских писателей- эмигрантов, считавших себя наследниками богатейшей русской культуры рубеж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IX – X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ов и назвавших эту эпоху «русским ренессанс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ы,  музыканты, зодчие, хореографы этой «роковой эпохи» не были зрителями. Они были творцами искусства, поражающего напряжённостью предчувствий надвигающейся катастроф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ндрей Белый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 ты, огненная стих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умствуй, сжиг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ссия, Россия, Росс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ссия грядуще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997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ячеслав Иван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ни творили не искусство, взятое само по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 шире – Современную душ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е этого шло ещё с «Золотого века» рус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.С. Пушкин, И.С. Турген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.В. Гоголь, Ф.М. Достоевский -  блестящие творцы критического ре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узык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радиции «Могучей кучки»- с её метрами: Н.А. Римским – Корсаковым, М.А. Балакиревым,  А.П. Бород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живопис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Товарищество передвижных выставок»  под нача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Н. Крамского, В.И. Суриков, И.Е. Репин, В.А. Серов и 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ртины И.Е. Репина               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458800" cy="2737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1876680" cy="208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228760" cy="26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35280" y="1125360"/>
            <a:ext cx="2481480" cy="276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372360" y="3500280"/>
            <a:ext cx="238428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24242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32360" y="1773360"/>
            <a:ext cx="37432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цена убийства Иваном Грозным своего сына — настоящая «картина-триллер», говоря современным языком, — производит шоковое воздействие на публику, ассоциируясь с революционным и контрреволюционным насилием 188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816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37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000" y="602064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Е. Репин «Крестный ход в Курской губер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5:58:43Z</dcterms:created>
  <dc:creator>Макс</dc:creator>
  <dc:description/>
  <dc:language>en-US</dc:language>
  <cp:lastModifiedBy>Людмила Николаевна</cp:lastModifiedBy>
  <dcterms:modified xsi:type="dcterms:W3CDTF">2011-01-31T10:11:24Z</dcterms:modified>
  <cp:revision>12</cp:revision>
  <dc:subject/>
  <dc:title>«Серебряный век в русской культуре»</dc:title>
</cp:coreProperties>
</file>