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4BB-ABF9-417B-B949-21A3431F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B6E-2805-480F-AE7B-8AC91CBA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AE8-A0D3-4E7B-90FE-52F10C99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840-EDD8-41E9-8EBD-4AD75D10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5AA-49E2-4745-92E4-7D048D33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29F8-7856-48DB-8C26-3B31B5E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0344-B3C9-4628-8641-1A384572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091D-549C-497F-9C7B-584DCD8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1D04-F0CA-4309-B32D-1D7378DA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B83C-7835-4632-8D1E-F0066A35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EDA9-8E37-4589-A4EE-4F800D4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093-F63B-4858-9D89-0368DA1D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8143-38CB-49C9-9134-225A536D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6A2F-DA87-4E01-B08B-3AB38A3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8BFA-BD9A-4474-B665-B022570B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3517-8990-400D-A26F-00BED9C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6650-5552-49B3-87BC-AA58D357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153-8825-4F78-96FF-215B38EA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826-7066-4964-BD4A-81C57A0C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CBC-4CE6-4382-AE76-7CB230E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8E3-6AE4-4185-B913-F11E7756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2A8-74AD-4AED-B6A4-B9C29855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88F-7C27-4883-9B90-8B21E949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032-2A7F-4D66-9527-13D406AA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404A-655A-46F7-A63F-2CDF81F490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35C8-CFEF-4523-BA90-1F3C70F1D4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 по курсу геометр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Урок - 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Углы равностороннего треугольника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Стороны треугольника 3 см и 5 см. Каким числом может быть выражена третья сторон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3 конкурс</a:t>
            </a:r>
            <a:br>
              <a:rPr sz="4000"/>
            </a:b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«Угадай слово, дай определение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828800"/>
          <a:ext cx="8610480" cy="3505320"/>
        </p:xfrm>
        <a:graphic>
          <a:graphicData uri="http://schemas.openxmlformats.org/drawingml/2006/table">
            <a:tbl>
              <a:tblPr/>
              <a:tblGrid>
                <a:gridCol w="993600"/>
                <a:gridCol w="633600"/>
                <a:gridCol w="658800"/>
                <a:gridCol w="685800"/>
                <a:gridCol w="685800"/>
                <a:gridCol w="685800"/>
                <a:gridCol w="685800"/>
                <a:gridCol w="762120"/>
                <a:gridCol w="761760"/>
                <a:gridCol w="838440"/>
                <a:gridCol w="609480"/>
                <a:gridCol w="60948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4 конкурс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Аукцион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азыгрывается отличный циркуль и замечательный карандаш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латить верными фактами, связанными с понятием </a:t>
            </a:r>
            <a:r>
              <a:rPr b="1" i="1" lang="en-US" sz="3200" spc="-1" strike="noStrike">
                <a:solidFill>
                  <a:srgbClr val="ffb800"/>
                </a:solidFill>
                <a:latin typeface="Comic Sans MS"/>
              </a:rPr>
              <a:t>«треугольник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 верный факт – 2 бал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следний факт – 4 балла, и участник, его назвавший, получает приз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5 конкур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абота по карточк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ерно решенная карточка – 10 бал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6 конкурс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Придумай задачу и похвастайся ею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учшая задача «получает 20 баллов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914640" cy="4038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914400" y="990720"/>
            <a:ext cx="647712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551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Этот урок – игра, где учитель играет против всего класса: верный ответ – балл команде, неверный ответ – балл учителю. Цель игры – убедить всех гостей в том, что мы знаем, и неплохо знаем, геометр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Медиана треугольника очень нравится всем нам, потому, что его сторону она делит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попол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Как периметр фигуры каждый сможет получить? Надо стороны фигуры взять и вместе все…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сложи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Люди мы очень нормальные, способны мы и умны, знаем, что углы вертикальные обязательно будут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Если в треугольнике угол есть прямой, то треугольник этот вовсе не простой. Он красивый, строгий, стройный, звать его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прямоуго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Один из углов равнобедренного треугольника равен 140°. А остальные 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28600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25780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1218960" y="2285640"/>
            <a:ext cx="205740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7510800">
            <a:off x="1092240" y="2596680"/>
            <a:ext cx="60948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3" y="286"/>
                </a:moveTo>
                <a:arcTo wR="10800" hR="10800" stAng="-6192294" swAng="6272459"/>
                <a:lnTo>
                  <a:pt x="10800" y="10800"/>
                </a:lnTo>
                <a:close/>
              </a:path>
              <a:path fill="none" w="21600" h="21600">
                <a:moveTo>
                  <a:pt x="8333" y="286"/>
                </a:moveTo>
                <a:arcTo wR="10800" hR="10800" stAng="-6192294" swAng="6272459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Один из углов прямоугольного треугольника равен 40°. А остальные 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066320" y="365760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3124080"/>
            <a:ext cx="312408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90720" y="5334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7673000">
            <a:off x="1780200" y="3311280"/>
            <a:ext cx="6091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9" y="1202"/>
                </a:moveTo>
                <a:arcTo wR="10800" hR="10800" stAng="-7037073" swAng="5572382"/>
                <a:lnTo>
                  <a:pt x="10800" y="10800"/>
                </a:lnTo>
                <a:close/>
              </a:path>
              <a:path fill="none" w="21600" h="21600">
                <a:moveTo>
                  <a:pt x="5849" y="1202"/>
                </a:moveTo>
                <a:arcTo wR="10800" hR="10800" stAng="-7037073" swAng="5572382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2819520"/>
            <a:ext cx="144792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У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глы прямоугольного равнобедренного треугольника </a:t>
            </a:r>
            <a:r>
              <a:rPr b="1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Вид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360" y="297180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191120" y="2971800"/>
            <a:ext cx="175248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90720" y="5334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352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ǁ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66880" y="2971800"/>
            <a:ext cx="152424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48909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18:12:41Z</dcterms:created>
  <dc:creator>1</dc:creator>
  <dc:description/>
  <dc:language>en-US</dc:language>
  <cp:lastModifiedBy>1</cp:lastModifiedBy>
  <dcterms:modified xsi:type="dcterms:W3CDTF">2011-06-25T19:21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