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FBD9-463D-4222-B8C2-82EBAA761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399D-61D9-427E-A41F-081F9472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A746-56F5-4A06-B12A-0CE8DD16A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C9FD-D3B8-4BC7-A337-9EF0FE55C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A102-16AF-4DBA-A89A-D25FE1FD1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E16A-75A6-476C-97AE-F3F1D0C2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1F47-2FAC-441F-B7D2-E0064D39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C2B7-5503-4D56-BE28-F8148694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EC4C-39B3-4D10-B985-79C989A9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E5BA-A39F-4CA8-B403-9021C630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60EB-7DE0-4DDF-AA6F-F604B307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69F9-0FBF-45FF-ACAD-269AD7CF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3E6F-D7B4-4ECC-9DC4-6A33A9F5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4C75-5704-4FC2-8C48-E3F0D869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CD8F-D3C8-45B1-9155-E333EB35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86B7-D9A5-4B25-AC43-55118FB05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9515-5017-4077-B080-9A25C3147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1DED-891F-4062-BD23-444D5350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AF14-E3F7-46B7-BB52-C9A09451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A321-4694-461B-A666-1F784631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78AB-138C-43D2-9F65-D816706F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5A9D-1A3E-4F19-95F7-9849205A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44FE-59E2-47D8-84D9-94E722DF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FA71-E4DF-4EE3-8E4C-6DB3E994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9F54-134A-4029-A0FA-4C70E34679C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47F2-73CA-4725-B04A-2A326EF9DE6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Решение задач по курсу геометрии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Урок - иг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2 конкурс - размин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83818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1) </a:t>
            </a:r>
            <a:r>
              <a:rPr b="0" lang="ru-RU" sz="3200" spc="-1" strike="noStrike">
                <a:solidFill>
                  <a:srgbClr val="00b200"/>
                </a:solidFill>
                <a:latin typeface="Gulim"/>
              </a:rPr>
              <a:t>Углы равностороннего треугольника</a:t>
            </a:r>
            <a:r>
              <a:rPr b="0" lang="en-US" sz="3200" spc="-1" strike="noStrike">
                <a:solidFill>
                  <a:srgbClr val="00b200"/>
                </a:solidFill>
                <a:latin typeface="Gulim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2)</a:t>
            </a: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 Стороны треугольника 3 см и 5 см. Каким числом может быть выражена третья сторона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3 конкурс</a:t>
            </a:r>
            <a:br>
              <a:rPr sz="4000"/>
            </a:br>
            <a:r>
              <a:rPr b="1" lang="en-US" sz="4000" spc="-1" strike="noStrike">
                <a:solidFill>
                  <a:srgbClr val="00b200"/>
                </a:solidFill>
                <a:latin typeface="Comic Sans MS"/>
              </a:rPr>
              <a:t>«Угадай слово, дай определение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0" y="1828800"/>
          <a:ext cx="8610480" cy="3505320"/>
        </p:xfrm>
        <a:graphic>
          <a:graphicData uri="http://schemas.openxmlformats.org/drawingml/2006/table">
            <a:tbl>
              <a:tblPr/>
              <a:tblGrid>
                <a:gridCol w="993600"/>
                <a:gridCol w="633600"/>
                <a:gridCol w="658800"/>
                <a:gridCol w="685800"/>
                <a:gridCol w="685800"/>
                <a:gridCol w="685800"/>
                <a:gridCol w="685800"/>
                <a:gridCol w="762120"/>
                <a:gridCol w="761760"/>
                <a:gridCol w="838440"/>
                <a:gridCol w="609480"/>
                <a:gridCol w="609480"/>
              </a:tblGrid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 коман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 коман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3 коман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4 коман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0" y="446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4 конкурс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«Аукцион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Разыгрывается отличный циркуль и замечательный карандаш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Платить верными фактами, связанными с понятием </a:t>
            </a:r>
            <a:r>
              <a:rPr b="1" i="1" lang="en-US" sz="3200" spc="-1" strike="noStrike">
                <a:solidFill>
                  <a:srgbClr val="ffb800"/>
                </a:solidFill>
                <a:latin typeface="Comic Sans MS"/>
              </a:rPr>
              <a:t>«треугольник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1 верный факт – 2 балл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Последний факт – 4 балла, и участник, его назвавший, получает приз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5 конкурс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Работа по карточка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Верно решенная карточка – 10 балл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6870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6 конкурс</a:t>
            </a:r>
            <a:br>
              <a:rPr sz="4000"/>
            </a:b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«Придумай задачу и похвастайся ею»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Лучшая задача «получает 20 баллов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-4748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048120" y="2819520"/>
            <a:ext cx="3914640" cy="40384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914400" y="990720"/>
            <a:ext cx="6477120" cy="21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-55152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380880"/>
            <a:ext cx="6934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Этот урок – игра, где учитель играет против всего класса: верный ответ – балл команде, неверный ответ – балл учителю. Цель игры – убедить всех гостей в том, что мы знаем, и неплохо знаем, геометрию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1 конкурс.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Закончи стихотвор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Медиана треугольника очень нравится всем нам, потому, что его сторону она делит…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800"/>
                </a:solidFill>
                <a:latin typeface="Comic Sans MS"/>
              </a:rPr>
              <a:t>попола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1 конкурс.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Закончи стихотвор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Как периметр фигуры каждый сможет получить? Надо стороны фигуры взять и вместе все…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800"/>
                </a:solidFill>
                <a:latin typeface="Comic Sans MS"/>
              </a:rPr>
              <a:t>сложи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1 конкурс.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Закончи стихотвор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Люди мы очень нормальные, способны мы и умны, знаем, что углы вертикальные обязательно будут…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800"/>
                </a:solidFill>
                <a:latin typeface="Comic Sans MS"/>
              </a:rPr>
              <a:t>равн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1 конкурс.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Закончи стихотвор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Если в треугольнике угол есть прямой, то треугольник этот вовсе не простой. Он красивый, строгий, стройный, звать его…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800"/>
                </a:solidFill>
                <a:latin typeface="Comic Sans MS"/>
              </a:rPr>
              <a:t>прямоугольн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2 конкурс - размин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83818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1) </a:t>
            </a:r>
            <a:r>
              <a:rPr b="0" lang="ru-RU" sz="3200" spc="-1" strike="noStrike">
                <a:solidFill>
                  <a:srgbClr val="00b200"/>
                </a:solidFill>
                <a:latin typeface="Gulim"/>
              </a:rPr>
              <a:t>Один из углов равнобедренного треугольника равен 140°. А остальные </a:t>
            </a:r>
            <a:r>
              <a:rPr b="0" lang="en-US" sz="3200" spc="-1" strike="noStrike">
                <a:solidFill>
                  <a:srgbClr val="00b200"/>
                </a:solidFill>
                <a:latin typeface="Gulim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2286000"/>
            <a:ext cx="0" cy="297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5257800"/>
            <a:ext cx="2057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1218960" y="2285640"/>
            <a:ext cx="2057400" cy="297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0" y="3352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5257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7510800">
            <a:off x="1092240" y="2596680"/>
            <a:ext cx="609480" cy="60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33" y="286"/>
                </a:moveTo>
                <a:arcTo wR="10800" hR="10800" stAng="-6192294" swAng="6272459"/>
                <a:lnTo>
                  <a:pt x="10800" y="10800"/>
                </a:lnTo>
                <a:close/>
              </a:path>
              <a:path fill="none" w="21600" h="21600">
                <a:moveTo>
                  <a:pt x="8333" y="286"/>
                </a:moveTo>
                <a:arcTo wR="10800" hR="10800" stAng="-6192294" swAng="6272459"/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3200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2 конкурс - размин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83818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1) </a:t>
            </a:r>
            <a:r>
              <a:rPr b="0" lang="ru-RU" sz="3200" spc="-1" strike="noStrike">
                <a:solidFill>
                  <a:srgbClr val="00b200"/>
                </a:solidFill>
                <a:latin typeface="Gulim"/>
              </a:rPr>
              <a:t>Один из углов прямоугольного треугольника равен 40°. А остальные </a:t>
            </a:r>
            <a:r>
              <a:rPr b="0" lang="en-US" sz="3200" spc="-1" strike="noStrike">
                <a:solidFill>
                  <a:srgbClr val="00b200"/>
                </a:solidFill>
                <a:latin typeface="Gulim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1066320" y="365760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191120" y="3124080"/>
            <a:ext cx="3124080" cy="289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990720" y="5334120"/>
            <a:ext cx="6781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3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81480" y="4952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5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7673000">
            <a:off x="1780200" y="3311280"/>
            <a:ext cx="609120" cy="59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849" y="1202"/>
                </a:moveTo>
                <a:arcTo wR="10800" hR="10800" stAng="-7037073" swAng="5572382"/>
                <a:lnTo>
                  <a:pt x="10800" y="10800"/>
                </a:lnTo>
                <a:close/>
              </a:path>
              <a:path fill="none" w="21600" h="21600">
                <a:moveTo>
                  <a:pt x="5849" y="1202"/>
                </a:moveTo>
                <a:arcTo wR="10800" hR="10800" stAng="-7037073" swAng="5572382"/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28800" y="2819520"/>
            <a:ext cx="1447920" cy="335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43200" y="4952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2 конкурс - размин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83818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1) У</a:t>
            </a:r>
            <a:r>
              <a:rPr b="0" lang="ru-RU" sz="3200" spc="-1" strike="noStrike">
                <a:solidFill>
                  <a:srgbClr val="00b200"/>
                </a:solidFill>
                <a:latin typeface="Gulim"/>
              </a:rPr>
              <a:t>глы прямоугольного равнобедренного треугольника </a:t>
            </a:r>
            <a:r>
              <a:rPr b="1" lang="en-US" sz="3200" spc="-1" strike="noStrike">
                <a:solidFill>
                  <a:srgbClr val="00b200"/>
                </a:solidFill>
                <a:latin typeface="Gulim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2) </a:t>
            </a: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Вид треугольн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360" y="297180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4191120" y="2971800"/>
            <a:ext cx="1752480" cy="2362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990720" y="5334120"/>
            <a:ext cx="6781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3352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ǁ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43400" y="289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086600" y="2514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666880" y="2971800"/>
            <a:ext cx="1524240" cy="2362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4952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162920" y="489096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9T18:12:41Z</dcterms:created>
  <dc:creator>1</dc:creator>
  <dc:description/>
  <dc:language>en-US</dc:language>
  <cp:lastModifiedBy>1</cp:lastModifiedBy>
  <dcterms:modified xsi:type="dcterms:W3CDTF">2011-06-25T19:21:13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