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A9C-C22D-48F9-AAE9-3A7F65E4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712-373E-408B-ACB5-28BD0E51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5DC-55F1-47EF-BF67-4018DE1C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3DE-1307-437F-90BB-D759ED8C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E741-9521-4B80-833B-CC522806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3FE-7422-453A-95D4-B250003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9D89-471C-4E0A-8C5B-BAEE5FC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4A3-87E1-4FDA-9421-C88AFF0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2726-1878-401D-9555-32785AB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32FD-373D-4363-801F-EB8178C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7358-58A7-4DAE-8767-7CEC0A25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C4D-0AB0-476A-97E2-CB63F08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CCA7-120C-46CF-92E8-DA64A67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5C14-EEB3-4A27-978D-E021261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BC1A-D0BC-4577-A3F0-0D0B889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1B0D-377B-46E6-BF4D-EE5AA506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CDA7-958D-4971-AB5A-CDF15857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D00-7AF6-401E-85C0-D063BF9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C57-46B8-4B7C-A7A4-E0FD5CF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4EA-5801-493D-981F-56E11220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EC6-8D7F-4386-AE82-99F50F7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BBE-5328-4191-B92E-286D1C1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B63-9EFC-49AD-856B-F2FB896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83F-0D96-42E7-9534-1357C0A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6D84-AB3E-4107-8581-B97D442623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B428-905B-4BE5-AD87-DC4E1E1FF6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 по курсу геометр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Урок -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Углы равностороннего треугольника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Стороны треугольника 3 см и 5 см. Каким числом может быть выражена третья сторон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 конкурс</a:t>
            </a:r>
            <a:br>
              <a:rPr sz="4000"/>
            </a:b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«Угадай слово, дай определение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828800"/>
          <a:ext cx="8610480" cy="3505320"/>
        </p:xfrm>
        <a:graphic>
          <a:graphicData uri="http://schemas.openxmlformats.org/drawingml/2006/table">
            <a:tbl>
              <a:tblPr/>
              <a:tblGrid>
                <a:gridCol w="993600"/>
                <a:gridCol w="633600"/>
                <a:gridCol w="658800"/>
                <a:gridCol w="685800"/>
                <a:gridCol w="685800"/>
                <a:gridCol w="685800"/>
                <a:gridCol w="685800"/>
                <a:gridCol w="762120"/>
                <a:gridCol w="761760"/>
                <a:gridCol w="838440"/>
                <a:gridCol w="609480"/>
                <a:gridCol w="60948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 конкурс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Аукцион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зыгрывается отличный циркуль и замечательный каранд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латить верными фактами, связанными с понятием </a:t>
            </a:r>
            <a:r>
              <a:rPr b="1" i="1" lang="en-US" sz="3200" spc="-1" strike="noStrike">
                <a:solidFill>
                  <a:srgbClr val="ffb800"/>
                </a:solidFill>
                <a:latin typeface="Comic Sans MS"/>
              </a:rPr>
              <a:t>«треугольник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 верный факт – 2 бал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следний факт – 4 балла, и участник, его назвавший, получает при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5 конкур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бота по карточк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ерно решенная карточка – 10 бал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 конкурс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Придумай задачу и похвастайся ею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учшая задача «получает 20 баллов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914640" cy="4038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14400" y="990720"/>
            <a:ext cx="64771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Этот урок – игра, где учитель играет против всего класса: верный ответ – балл команде, неверный ответ – балл учителю. Цель игры – убедить всех гостей в том, что мы знаем, и неплохо знаем, геометр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Медиана треугольника очень нравится всем нам, потому, что его сторону она дели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Как периметр фигуры каждый сможет получить? Надо стороны фигуры взять и вместе все…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слож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Люди мы очень нормальные, способны мы и умны, знаем, что углы вертикальные обязательно буду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Если в треугольнике угол есть прямой, то треугольник этот вовсе не простой. Он красивый, строгий, стройный, звать его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рямоуго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равнобедренного треугольника равен 1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28600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2578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218960" y="2285640"/>
            <a:ext cx="205740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7510800">
            <a:off x="1092240" y="2596680"/>
            <a:ext cx="60948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3" y="286"/>
                </a:moveTo>
                <a:arcTo wR="10800" hR="10800" stAng="-6192294" swAng="6272459"/>
                <a:lnTo>
                  <a:pt x="10800" y="10800"/>
                </a:lnTo>
                <a:close/>
              </a:path>
              <a:path fill="none" w="21600" h="21600">
                <a:moveTo>
                  <a:pt x="8333" y="286"/>
                </a:moveTo>
                <a:arcTo wR="10800" hR="10800" stAng="-6192294" swAng="6272459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прямоугольного треугольника равен 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066320" y="36576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124080"/>
            <a:ext cx="312408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7673000">
            <a:off x="1780200" y="3311280"/>
            <a:ext cx="6091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9" y="1202"/>
                </a:moveTo>
                <a:arcTo wR="10800" hR="10800" stAng="-7037073" swAng="5572382"/>
                <a:lnTo>
                  <a:pt x="10800" y="10800"/>
                </a:lnTo>
                <a:close/>
              </a:path>
              <a:path fill="none" w="21600" h="21600">
                <a:moveTo>
                  <a:pt x="5849" y="1202"/>
                </a:moveTo>
                <a:arcTo wR="10800" hR="10800" stAng="-7037073" swAng="5572382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819520"/>
            <a:ext cx="144792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У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глы прямоугольного равнобедренного треугольника </a:t>
            </a:r>
            <a:r>
              <a:rPr b="1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Вид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360" y="29718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191120" y="2971800"/>
            <a:ext cx="175248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352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ǁ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2971800"/>
            <a:ext cx="152424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8909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8:12:41Z</dcterms:created>
  <dc:creator>1</dc:creator>
  <dc:description/>
  <dc:language>en-US</dc:language>
  <cp:lastModifiedBy>1</cp:lastModifiedBy>
  <dcterms:modified xsi:type="dcterms:W3CDTF">2011-06-25T19:21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