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EE1F-23A5-4D32-8AC4-7B90593A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C46-D81B-4129-A028-8F64EBB9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E07F-C90E-49DB-8B91-19BF66CD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77A7-0825-4B9B-AFAD-F229BC0F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9B79-43C8-42C6-82F8-D225A5C3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1BC-FF93-49FC-B649-DCF018EB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84E9-D02E-47FF-9D5E-C255724E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D3C8-73B6-4C3E-8442-7A151CF3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13CC-5431-4F9E-BA6D-4FE72939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0D38-7A08-415C-B90A-5E114F06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1C3-84ED-46C0-9B4B-5F46E9D6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5D90-18A9-4844-A4B6-B5D4A165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133B-6780-4529-9AD1-E0469B222DD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"/>
          <p:cNvGrpSpPr/>
          <p:nvPr/>
        </p:nvGrpSpPr>
        <p:grpSpPr>
          <a:xfrm>
            <a:off x="900000" y="0"/>
            <a:ext cx="8244000" cy="6480000"/>
            <a:chOff x="900000" y="0"/>
            <a:chExt cx="8244000" cy="6480000"/>
          </a:xfrm>
        </p:grpSpPr>
        <p:pic>
          <p:nvPicPr>
            <p:cNvPr id="42" name="Picture 5" descr="permkrai"/>
            <p:cNvPicPr/>
            <p:nvPr/>
          </p:nvPicPr>
          <p:blipFill>
            <a:blip r:embed="rId1"/>
            <a:stretch/>
          </p:blipFill>
          <p:spPr>
            <a:xfrm>
              <a:off x="900000" y="0"/>
              <a:ext cx="8244000" cy="64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6" descr="MCj03962260000[1]"/>
            <p:cNvPicPr/>
            <p:nvPr/>
          </p:nvPicPr>
          <p:blipFill>
            <a:blip r:embed="rId2"/>
            <a:stretch/>
          </p:blipFill>
          <p:spPr>
            <a:xfrm>
              <a:off x="5130720" y="3755880"/>
              <a:ext cx="2196720" cy="238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Rectangle 7"/>
          <p:cNvSpPr/>
          <p:nvPr/>
        </p:nvSpPr>
        <p:spPr>
          <a:xfrm>
            <a:off x="316080" y="466560"/>
            <a:ext cx="7424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Программа </a:t>
            </a:r>
            <a:br>
              <a:rPr sz="4400"/>
            </a:b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«Разговор о правильном питании»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468360" y="2492280"/>
            <a:ext cx="4932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 МАОУ «Гимназия №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г. Пер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611280" y="4437000"/>
            <a:ext cx="3960720" cy="1882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я разработана на основе презентации Захаровой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ы Анатольев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ультанта отдела проектов Министерства образования Пермского кр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ределение ответственностей в реализации Програм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чителя биологии и естествознани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ючение в тематические планирования во всех классах уроки с использованием Рабочих тетрадей и других составляющих УМК данной Програм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ие исследований по тематикам Программ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1640" y="13568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ителя ОБ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4720" y="1928880"/>
            <a:ext cx="40417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ие  бесед с учащимися о правилах безопасности при работе на кухне и во время принятия пищ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воение способов оказания первой доврачебной помощи при травмах и угрозах на кухне и во время принятия пищ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ределение ответственностей в реализации Програм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чителя физической культу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ие бесед с учащимися о вариантах меню и рационе питания во время физических нагрузок, до них и после с целью формирования здорового тел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комство с методиками формирования здорового т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едагоги дополнительного образова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отка сценариев и проведение мероприятий в рамках реализации Программ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едение рефлексии по итогам проведенных мероприят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оставление наглядной информации для оформление просветительских информационных стендов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ники программ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Разговор о правильном питании»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Пермский кра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Object 3"/>
          <p:cNvGraphicFramePr/>
          <p:nvPr/>
        </p:nvGraphicFramePr>
        <p:xfrm>
          <a:off x="857160" y="1500120"/>
          <a:ext cx="7643880" cy="50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500120"/>
                    <a:ext cx="764388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частники программ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Разговор о правильном питании»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Гимназия №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2286000" y="2152800"/>
          <a:ext cx="4680000" cy="32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152800"/>
                    <a:ext cx="4680000" cy="32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Критерии оценки результативности Программ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42640"/>
            <a:ext cx="40384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81bd"/>
                </a:solidFill>
                <a:latin typeface="Calibri"/>
              </a:rPr>
              <a:t>Информированность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оличество охваченных детей рамками Программ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лучение представления о правильном пита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сокая культура поведения за столом (во время обеда в школьной столовой, в гостях, дома и пр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071360"/>
            <a:ext cx="449568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81bd"/>
                </a:solidFill>
                <a:latin typeface="Calibri"/>
              </a:rPr>
              <a:t>Проявление активност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амостоятельность выполнения обязанностей по дежурству по столов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веденческая реакция во время принятия пищи и во время приготовления пищи в домашних услов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64a2"/>
                </a:solidFill>
                <a:latin typeface="Calibri"/>
              </a:rPr>
              <a:t>Изменение организации питания в семье и активности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Calibri"/>
              </a:rPr>
              <a:t>Обогащение знаний родителей  рациональном питан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Calibri"/>
              </a:rPr>
              <a:t>Изменение организации режима питания до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Calibri"/>
              </a:rPr>
              <a:t>Выбор полезных продуктов питания в семь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Calibri"/>
              </a:rPr>
              <a:t>Владение способами формирования положительного отношения  к приёму пищи и культуре пита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Calibri"/>
              </a:rPr>
              <a:t>Заинтересованность программой «Разговор о правильном питании» в семь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Calibri"/>
              </a:rPr>
              <a:t>Активность родителей в совместных мероприят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257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9"/>
          <p:cNvSpPr/>
          <p:nvPr/>
        </p:nvSpPr>
        <p:spPr>
          <a:xfrm>
            <a:off x="1674720" y="1332000"/>
            <a:ext cx="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5"/>
          <p:cNvSpPr/>
          <p:nvPr/>
        </p:nvSpPr>
        <p:spPr>
          <a:xfrm>
            <a:off x="1000080" y="-184320"/>
            <a:ext cx="7056360" cy="366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25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 Narrow"/>
              </a:rPr>
              <a:t>Мониторинг изучения мнения значимости Программы </a:t>
            </a:r>
            <a:br>
              <a:rPr sz="4000"/>
            </a:br>
            <a:r>
              <a:rPr b="1" lang="ru-RU" sz="4000" spc="-1" strike="noStrike">
                <a:solidFill>
                  <a:srgbClr val="c0504d"/>
                </a:solidFill>
                <a:latin typeface="Arial Narrow"/>
              </a:rPr>
              <a:t>«Разговор о правильном питани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Считаете ли Вы, что в результате  проведения занятий можно сформировать  представление об основах правильного пита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611280" y="1628640"/>
          <a:ext cx="807552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80755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6"/>
          <p:cNvSpPr/>
          <p:nvPr/>
        </p:nvSpPr>
        <p:spPr>
          <a:xfrm>
            <a:off x="539640" y="6093000"/>
            <a:ext cx="82090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кетирование родителей 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642960"/>
            <a:ext cx="7532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66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Считаете ли Вы, что в результате  проведения занятий можно сформировать  навыки правильного питан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0" y="2071800"/>
            <a:ext cx="8748720" cy="43815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3"/>
          <p:cNvSpPr/>
          <p:nvPr/>
        </p:nvSpPr>
        <p:spPr>
          <a:xfrm>
            <a:off x="539640" y="6093000"/>
            <a:ext cx="82090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кетирование родителей 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395280" y="1844640"/>
          <a:ext cx="8353440" cy="42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35344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357120" y="333360"/>
            <a:ext cx="85359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Arial"/>
              </a:rPr>
              <a:t>Ваше отношение к программе в це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39640" y="6093000"/>
            <a:ext cx="82090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кетирование родителей 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грамм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Разговор о правильном питани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Скругленный прямоугольник 3"/>
          <p:cNvSpPr/>
          <p:nvPr/>
        </p:nvSpPr>
        <p:spPr>
          <a:xfrm>
            <a:off x="1214280" y="1643040"/>
            <a:ext cx="7143840" cy="3429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ограмма разработана более 10 лет назад специалистами Института возрастной физиологии Российской Академии образования под руководством Безруких М.М., директора этого Института, академика РАО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настоящее время Программа доработана  рекомендована Ученым советом от 07.02.2011. для внедрения в работу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0" y="20667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0" y="1916280"/>
          <a:ext cx="9144000" cy="49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16280"/>
                    <a:ext cx="914400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6"/>
          <p:cNvSpPr/>
          <p:nvPr/>
        </p:nvSpPr>
        <p:spPr>
          <a:xfrm>
            <a:off x="755640" y="907920"/>
            <a:ext cx="6769080" cy="2074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частие родителей в совместной здоровьесберегающей деятельности с деть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296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64a2"/>
                </a:solidFill>
                <a:latin typeface="Calibri"/>
              </a:rPr>
              <a:t>Основные мероприятия Про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2011 – 2012 учебный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Сентябр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57120" y="1571760"/>
          <a:ext cx="8329680" cy="5332320"/>
        </p:xfrm>
        <a:graphic>
          <a:graphicData uri="http://schemas.openxmlformats.org/drawingml/2006/table">
            <a:tbl>
              <a:tblPr/>
              <a:tblGrid>
                <a:gridCol w="936720"/>
                <a:gridCol w="3243240"/>
                <a:gridCol w="2074680"/>
                <a:gridCol w="2075040"/>
              </a:tblGrid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на лучшее блюдо в походных услов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тарева Н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бедители получают зачет на Слете «Школа безопасност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47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7.0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дание приказа об организации системного и комплексного включения в реализацию Программы «Разговор  о правильном питан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икова Т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приказом ознакомлены все сотрудники гимназ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4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ка презентации  о реализации Программы в гимназии №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икова Т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ставление презентации на информационном совещании и Управляющем сов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нтябр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4775040"/>
        </p:xfrm>
        <a:graphic>
          <a:graphicData uri="http://schemas.openxmlformats.org/drawingml/2006/table">
            <a:tbl>
              <a:tblPr/>
              <a:tblGrid>
                <a:gridCol w="900000"/>
                <a:gridCol w="32148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.0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верждение учебно-тематических планов учителей ОБЖ, биологии, естествознания, физической культуры с включением тематик и УМК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туева Е.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нятие решения Методического со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еч. меся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аз Рабочих тетрадей и других составляющих УМК Программы по 3 модул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гун О.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полнение библиотечного фонда гимназ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Октябр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57120" y="1600200"/>
          <a:ext cx="8329680" cy="5029200"/>
        </p:xfrm>
        <a:graphic>
          <a:graphicData uri="http://schemas.openxmlformats.org/drawingml/2006/table">
            <a:tbl>
              <a:tblPr/>
              <a:tblGrid>
                <a:gridCol w="1000080"/>
                <a:gridCol w="32148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0.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мониторинга среди родителей по актуальности реализации данной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щек С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ы обработаны и добавлены в презентацию о Программе и на сайте гимназ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8.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тем для исследований по тематикам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ова В.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тельские темы включены в реестр НП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19.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треча с представителями РАН – авторами Программы о системе сотрудничества в рамках Программы (в рамках Национального Конгресс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икова Т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ение гимназии в экспериментальную работу по данной Програм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Ноябр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900000"/>
                <a:gridCol w="3214800"/>
                <a:gridCol w="2057400"/>
                <a:gridCol w="2057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графи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ход медиков гимназии на родительские собрания по ведению просветительской работы в рамках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иславская Т.А., Дюшко Г.П., Кравченко Т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и проинформированы о рациональном питании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0.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готовление просветительского информационного стенда о качественном пита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ванова О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чественно оформленный стенд с интересной информацией о здоровой е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9.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треча с соавторами Программы ООО «Нестле» (пермское представительство)  о заключении договора сотрудничества по реализации совместных меропри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икова Т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гласован совместный план проведения мероприятий в рамках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кабр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28760" y="1600200"/>
          <a:ext cx="8258040" cy="4664160"/>
        </p:xfrm>
        <a:graphic>
          <a:graphicData uri="http://schemas.openxmlformats.org/drawingml/2006/table">
            <a:tbl>
              <a:tblPr/>
              <a:tblGrid>
                <a:gridCol w="928440"/>
                <a:gridCol w="3214800"/>
                <a:gridCol w="1571760"/>
                <a:gridCol w="25430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еч. ме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на лучший проект по оформлению школьной стол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ванова О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 проекты от классов представляются и общим голосованием выбирается лучший 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.1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ниторинг удовлетворения качеством питания в школьной стол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щек С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и мониторинга обработаны, представлены Управляющему совету и подготовлены управленческие решения по улучшению качества питания в школьной стол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нвар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285920"/>
          <a:ext cx="8400960" cy="4114800"/>
        </p:xfrm>
        <a:graphic>
          <a:graphicData uri="http://schemas.openxmlformats.org/drawingml/2006/table">
            <a:tbl>
              <a:tblPr/>
              <a:tblGrid>
                <a:gridCol w="919080"/>
                <a:gridCol w="3281400"/>
                <a:gridCol w="1575000"/>
                <a:gridCol w="2625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5.0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на лучшее меню в преддверии эпидемии гриппа и ОР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иславская Т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учшее  меню и рекомендации врача размещены на сайте гимназии, победители получают при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30.0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и проведение конкурса на самый культурный класс в школьной стол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ерлядьев С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аны критерии культурного поведения в школьной столовой. Информация размещается на сайте и информационном стен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Февра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229600" cy="3840120"/>
        </p:xfrm>
        <a:graphic>
          <a:graphicData uri="http://schemas.openxmlformats.org/drawingml/2006/table">
            <a:tbl>
              <a:tblPr/>
              <a:tblGrid>
                <a:gridCol w="900000"/>
                <a:gridCol w="3214800"/>
                <a:gridCol w="2057400"/>
                <a:gridCol w="2057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.0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семейных фотографий «Моя семья за столо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нический парламент гимназ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учшие работы  будут представлены на школьной выстав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7.0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сочинений «Званый ужин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я русского языка и литера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учшие работы будут отмечены и изданы в школьном литературном альманах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Март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229600" cy="2651040"/>
        </p:xfrm>
        <a:graphic>
          <a:graphicData uri="http://schemas.openxmlformats.org/drawingml/2006/table">
            <a:tbl>
              <a:tblPr/>
              <a:tblGrid>
                <a:gridCol w="900000"/>
                <a:gridCol w="3214800"/>
                <a:gridCol w="2057400"/>
                <a:gridCol w="2057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1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.0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творческих работ в различных жанрах и техниках на тему «Здоровое питани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ванова О.В., Маслов С.М., Стерлядьев С.А., Госс Л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учшие работы отмечены и представлены в гимназии и за её пределами (в СМИ, магазинах и т.д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Основания для реал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57200"/>
            <a:ext cx="403848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f81bd"/>
                </a:solidFill>
                <a:latin typeface="Calibri"/>
              </a:rPr>
              <a:t>Федеральный и краевой уровен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Письмо Минобрнауки № 06-368 от 01.03.2011. «О реализации проекта по совершенствованию организации питания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Участие Пермского края в данной Программе на уровне Р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357200"/>
            <a:ext cx="403848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f81bd"/>
                </a:solidFill>
                <a:latin typeface="Calibri"/>
              </a:rPr>
              <a:t>Уровень Гимназии №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Приказ директора об участии в экспериментальном проекте на уровне гимназии  по совершенствованию организации пит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84360" y="404640"/>
            <a:ext cx="77752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Апр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8229600" cy="3200400"/>
        </p:xfrm>
        <a:graphic>
          <a:graphicData uri="http://schemas.openxmlformats.org/drawingml/2006/table">
            <a:tbl>
              <a:tblPr/>
              <a:tblGrid>
                <a:gridCol w="900000"/>
                <a:gridCol w="32148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5.0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сметной документации по проведению ремонтных работ в гимназии во время летней кампании с учетом всех инновационных и творческих работ учащихся, представленных в различных конкурсах в рамках Программ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лов С.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тетически и информационно оформленный интерьер гимназ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Ма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600200"/>
          <a:ext cx="8229600" cy="7326360"/>
        </p:xfrm>
        <a:graphic>
          <a:graphicData uri="http://schemas.openxmlformats.org/drawingml/2006/table">
            <a:tbl>
              <a:tblPr/>
              <a:tblGrid>
                <a:gridCol w="900000"/>
                <a:gridCol w="32148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3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ведение итогов первого системного года работы гимназии с 1 по 11 класс по Программе «Разговор  о правильном питан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икова Т.В., Богун  О.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 подробный анализ реализации Программы, выявлены проблемы и преимущества работы в рамках данной Программы. Освоен новый формат работы с бизнес-сообществом по совместной рабо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новные результаты реализации Програм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822960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- Просветительская деятельность среди участников образовательного процесса, </a:t>
            </a:r>
            <a:br>
              <a:rPr sz="3500"/>
            </a:b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     - Реализация существующих образовательных программ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5785920"/>
            <a:ext cx="403848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5500800"/>
            <a:ext cx="403848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84360" y="404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оритетное направление модернизации школьного 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1" descr=""/>
          <p:cNvPicPr/>
          <p:nvPr/>
        </p:nvPicPr>
        <p:blipFill>
          <a:blip r:embed="rId1"/>
          <a:stretch/>
        </p:blipFill>
        <p:spPr>
          <a:xfrm>
            <a:off x="-353880" y="249120"/>
            <a:ext cx="4949640" cy="2360880"/>
          </a:xfrm>
          <a:prstGeom prst="rect">
            <a:avLst/>
          </a:prstGeom>
          <a:ln w="0">
            <a:noFill/>
          </a:ln>
        </p:spPr>
      </p:pic>
      <p:sp>
        <p:nvSpPr>
          <p:cNvPr id="61" name="Стрелка вправо 2"/>
          <p:cNvSpPr/>
          <p:nvPr/>
        </p:nvSpPr>
        <p:spPr>
          <a:xfrm>
            <a:off x="1143000" y="3071880"/>
            <a:ext cx="1143000" cy="34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право 3"/>
          <p:cNvSpPr/>
          <p:nvPr/>
        </p:nvSpPr>
        <p:spPr>
          <a:xfrm>
            <a:off x="1214280" y="4500720"/>
            <a:ext cx="1143000" cy="34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право 4"/>
          <p:cNvSpPr/>
          <p:nvPr/>
        </p:nvSpPr>
        <p:spPr>
          <a:xfrm>
            <a:off x="1357200" y="6000840"/>
            <a:ext cx="1143000" cy="34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3000240" y="2786040"/>
            <a:ext cx="542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ая тетрадь для шк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3000240" y="4214880"/>
            <a:ext cx="585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ческое пособие для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3071880" y="5572080"/>
            <a:ext cx="564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ческое пособие для род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207180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В РЕАЛИЗАЦИЮ ПРОГРАММЫ ВКЛЮЧЕНЫ СЛЕДУЮЩИЕ СОТРУДНИКИ ГИМНАЗИИ: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- ЗАМЕСТИТЕЛЬ ДИРЕКТОРА ПО ВР;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- КЛАССНЫЕ РУКОВОДИТЕЛИ;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- ОТВЕТСТВЕННЫЙ ЗА ПИТАНИЕ;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- ВРАЧИ ГИМНАЗИИ;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- УЧИТЕЛЯ БИОЛОГИИ, ЕСТЕСТВОЗНАНИЯ;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- УЧИТЕЛЯ ОБЖ;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- УЧИТЕЛЯ ФИЗИЧЕСКОЙ КУЛЬТУРЫ;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- ПДО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4240" y="4996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66"/>
                </a:solidFill>
                <a:latin typeface="Calibri"/>
              </a:rPr>
              <a:t>Данная Программа – вариант комплексной системной работы по формированию культуры здорового и безопасного образа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ределение ответственностей в реализации Програм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99972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аместитель директора по В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571760"/>
            <a:ext cx="4040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уществление общего руководства реализации Программы «Разговор о правильном питании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дение аппаратных, информационных, тематических совещаний с педагогами по данной Программ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гласование плана работы гимназии в части реализации данной Программ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аз УМК по 3 модуля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мещение информации о реализации Программы на сайте Электронных журналов и дневников, а также на сайте гимназ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1640" y="1071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ветственный за пит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4720" y="1643040"/>
            <a:ext cx="4041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оставление отчетов по реализации Программы на различных уровн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ие мониторинга уровня  удовлетворенности качеством предоставления услуг по питан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ределение ответственностей в реализации Програм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403992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ассные руководит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856880"/>
            <a:ext cx="40402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ежедневного питания уча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классных коллективов на участие в мероприятиях Про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глашение врачей на беседы с учащимися и родителями на родительские собрания по тематикам Программы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8720" y="1142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рачи гимназ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4720" y="1714320"/>
            <a:ext cx="40417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едение  экспертизы разработанных мероприятий в рамках Программ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едение просветительских бесед с учащимися и родителями по организации здорового пит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полнение всех функциональных обязанностей по организации питания в гимназ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07:06:23Z</dcterms:created>
  <dc:creator>Zaharova</dc:creator>
  <dc:description/>
  <dc:language>en-US</dc:language>
  <cp:lastModifiedBy>ZooM</cp:lastModifiedBy>
  <dcterms:modified xsi:type="dcterms:W3CDTF">2013-12-03T20:45:37Z</dcterms:modified>
  <cp:revision>92</cp:revision>
  <dc:subject/>
  <dc:title>Слайд 1</dc:title>
</cp:coreProperties>
</file>