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AF8-37A3-40D1-AE6C-6AFBA265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996-79FA-42B1-B4F4-E05FA56D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603-6FD7-46F6-94A9-2146166E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7B3-1AD3-41E6-926C-EE4D7130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7FE-5AB9-43CE-BEC9-C6CDB8C2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BC7-5DAC-4646-8D56-0692D12E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796-FBAB-4648-9551-D5A2D022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268-3C87-45E7-959B-D7F6D09F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105-6855-4D28-8CF6-404B6434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42C-9315-4CCA-BB43-473614BE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7A5-3E43-47B4-850A-1636BFFB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8ED-5F0E-44E7-B24A-2CEB1DF4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8D8B-D1F5-4EFB-9148-0EA7E3ACB96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900000" y="0"/>
            <a:ext cx="8244000" cy="6480000"/>
            <a:chOff x="900000" y="0"/>
            <a:chExt cx="8244000" cy="6480000"/>
          </a:xfrm>
        </p:grpSpPr>
        <p:pic>
          <p:nvPicPr>
            <p:cNvPr id="42" name="Picture 5" descr="permkrai"/>
            <p:cNvPicPr/>
            <p:nvPr/>
          </p:nvPicPr>
          <p:blipFill>
            <a:blip r:embed="rId1"/>
            <a:stretch/>
          </p:blipFill>
          <p:spPr>
            <a:xfrm>
              <a:off x="900000" y="0"/>
              <a:ext cx="8244000" cy="64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6" descr="MCj03962260000[1]"/>
            <p:cNvPicPr/>
            <p:nvPr/>
          </p:nvPicPr>
          <p:blipFill>
            <a:blip r:embed="rId2"/>
            <a:stretch/>
          </p:blipFill>
          <p:spPr>
            <a:xfrm>
              <a:off x="5130720" y="3755880"/>
              <a:ext cx="2196720" cy="238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7"/>
          <p:cNvSpPr/>
          <p:nvPr/>
        </p:nvSpPr>
        <p:spPr>
          <a:xfrm>
            <a:off x="316080" y="466560"/>
            <a:ext cx="7424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рограмма 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«Разговор о правильном питании»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468360" y="2492280"/>
            <a:ext cx="4932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 МАОУ «Гимназия №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г. Пер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611280" y="4437000"/>
            <a:ext cx="3960720" cy="1882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разработана на основе презентации Захарово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ы Анатольев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анта отдела проектов Министерства образования Пермского кр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еделение ответственностей в реализации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чителя биологии и естествознани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ение в тематические планирования во всех классах уроки с использованием Рабочих тетрадей и других составляющих УМК данной Програм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исследований по тематикам Програм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1640" y="13568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я ОБ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4720" y="1928880"/>
            <a:ext cx="4041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 бесед с учащимися о правилах безопасности при работе на кухне и во время принятия пищ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воение способов оказания первой доврачебной помощи при травмах и угрозах на кухне и во время принятия пищ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еделение ответственностей в реализации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чителя физической куль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бесед с учащимися о вариантах меню и рационе питания во время физических нагрузок, до них и после с целью формирования здорового те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 с методиками формирования здорового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сценариев и проведение мероприятий в рамках реализации Программ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рефлексии по итогам проведенных мероприят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оставление наглядной информации для оформление просветительских информационных стендов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ники программ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Разговор о правильном питании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ермский кра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857160" y="1500120"/>
          <a:ext cx="764388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500120"/>
                    <a:ext cx="764388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астники программ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Разговор о правильном питании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Гимназия №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2286000" y="2152800"/>
          <a:ext cx="4680000" cy="32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152800"/>
                    <a:ext cx="468000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Критерии оценки результативности Программ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426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Calibri"/>
              </a:rPr>
              <a:t>Информированност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личество охваченных детей рамками Программ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лучение представления о правильном пит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сокая культура поведения за столом (во время обеда в школьной столовой, в гостях, дома и пр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071360"/>
            <a:ext cx="449568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Calibri"/>
              </a:rPr>
              <a:t>Проявление активност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амостоятельность выполнения обязанностей по дежурству по столов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веденческая реакция во время принятия пищи и во время приготовления пищи в домашних услов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64a2"/>
                </a:solidFill>
                <a:latin typeface="Calibri"/>
              </a:rPr>
              <a:t>Изменение организации питания в семье и активности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Обогащение знаний родителей  рациональном питан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Изменение организации режима питания до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Выбор полезных продуктов питания в семь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Владение способами формирования положительного отношения  к приёму пищи и культуре пита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Заинтересованность программой «Разговор о правильном питании» в семь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Активность родителей в совместных мероприят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257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9"/>
          <p:cNvSpPr/>
          <p:nvPr/>
        </p:nvSpPr>
        <p:spPr>
          <a:xfrm>
            <a:off x="1674720" y="133200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5"/>
          <p:cNvSpPr/>
          <p:nvPr/>
        </p:nvSpPr>
        <p:spPr>
          <a:xfrm>
            <a:off x="1000080" y="-184320"/>
            <a:ext cx="7056360" cy="366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 Narrow"/>
              </a:rPr>
              <a:t>Мониторинг изучения мнения значимости Программы </a:t>
            </a:r>
            <a:br>
              <a:rPr sz="4000"/>
            </a:br>
            <a:r>
              <a:rPr b="1" lang="ru-RU" sz="4000" spc="-1" strike="noStrike">
                <a:solidFill>
                  <a:srgbClr val="c0504d"/>
                </a:solidFill>
                <a:latin typeface="Arial Narrow"/>
              </a:rPr>
              <a:t>«Разговор о правильном питан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Считаете ли Вы, что в результате  проведения занятий можно сформировать  представление об основах правильного пита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611280" y="1628640"/>
          <a:ext cx="807552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075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6"/>
          <p:cNvSpPr/>
          <p:nvPr/>
        </p:nvSpPr>
        <p:spPr>
          <a:xfrm>
            <a:off x="539640" y="6093000"/>
            <a:ext cx="8209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етирование родителей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7532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66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Считаете ли Вы, что в результате  проведения занятий можно сформировать  навыки правильного питан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0" y="2071800"/>
            <a:ext cx="8748720" cy="4381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3"/>
          <p:cNvSpPr/>
          <p:nvPr/>
        </p:nvSpPr>
        <p:spPr>
          <a:xfrm>
            <a:off x="539640" y="6093000"/>
            <a:ext cx="8209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етирование родителей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395280" y="1844640"/>
          <a:ext cx="835344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35344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357120" y="333360"/>
            <a:ext cx="85359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Ваше отношение к программе в ц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39640" y="6093000"/>
            <a:ext cx="8209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етирование родителей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грамм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Разговор о правильном питан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кругленный прямоугольник 3"/>
          <p:cNvSpPr/>
          <p:nvPr/>
        </p:nvSpPr>
        <p:spPr>
          <a:xfrm>
            <a:off x="1214280" y="1643040"/>
            <a:ext cx="7143840" cy="3429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грамма разработана более 10 лет назад специалистами Института возрастной физиологии Российской Академии образования под руководством Безруких М.М., директора этого Института, академика РА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настоящее время Программа доработана  рекомендована Ученым советом от 07.02.2011. для внедрения в работу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0" y="1916280"/>
          <a:ext cx="914400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6"/>
          <p:cNvSpPr/>
          <p:nvPr/>
        </p:nvSpPr>
        <p:spPr>
          <a:xfrm>
            <a:off x="755640" y="907920"/>
            <a:ext cx="6769080" cy="2074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частие родителей в совместной здоровьесберегающей деятельности с деть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64a2"/>
                </a:solidFill>
                <a:latin typeface="Calibri"/>
              </a:rPr>
              <a:t>Основные мероприятия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2011 – 2012 учебн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Сентябр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57120" y="1571760"/>
          <a:ext cx="8329680" cy="5332320"/>
        </p:xfrm>
        <a:graphic>
          <a:graphicData uri="http://schemas.openxmlformats.org/drawingml/2006/table">
            <a:tbl>
              <a:tblPr/>
              <a:tblGrid>
                <a:gridCol w="936720"/>
                <a:gridCol w="3243240"/>
                <a:gridCol w="2074680"/>
                <a:gridCol w="207504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на лучшее блюдо в походных услов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тарева Н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бедители получают зачет на Слете «Школа безопасност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7.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дание приказа об организации системного и комплексного включения в реализацию Программы «Разговор  о правильном питан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кова Т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приказом ознакомлены все сотрудники гимназ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4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презентации  о реализации Программы в гимназии №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кова Т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ление презентации на информационном совещании и Управляющем сов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нтяб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77504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.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верждение учебно-тематических планов учителей ОБЖ, биологии, естествознания, физической культуры с включением тематик и УМК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туева Е.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ие решения Методического со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еч. меся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аз Рабочих тетрадей и других составляющих УМК Программы по 3 модул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гун О.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полнение библиотечного фонда гимна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Октяб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57120" y="1600200"/>
          <a:ext cx="8329680" cy="5029200"/>
        </p:xfrm>
        <a:graphic>
          <a:graphicData uri="http://schemas.openxmlformats.org/drawingml/2006/table">
            <a:tbl>
              <a:tblPr/>
              <a:tblGrid>
                <a:gridCol w="1000080"/>
                <a:gridCol w="32148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0.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мониторинга среди родителей по актуальности реализации данной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щек С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ы обработаны и добавлены в презентацию о Программе и на сайте гимна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8.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тем для исследований по тематикам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ва В.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тельские темы включены в реестр НП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19.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треча с представителями РАН – авторами Программы о системе сотрудничества в рамках Программы (в рамках Национального Конгресс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кова Т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ение гимназии в экспериментальную работу по данной Програм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Нояб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граф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ход медиков гимназии на родительские собрания по ведению просветительской работы в рамках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славская Т.А., Дюшко Г.П., Кравченко Т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и проинформированы о рациональном питании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0.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готовление просветительского информационного стенда о качественном пит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а О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енно оформленный стенд с интересной информацией о здоровой 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9.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треча с соавторами Программы ООО «Нестле» (пермское представительство)  о заключении договора сотрудничества по реализации совместных меро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кова Т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ован совместный план проведения мероприятий в рамках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28760" y="1600200"/>
          <a:ext cx="8258040" cy="4664160"/>
        </p:xfrm>
        <a:graphic>
          <a:graphicData uri="http://schemas.openxmlformats.org/drawingml/2006/table">
            <a:tbl>
              <a:tblPr/>
              <a:tblGrid>
                <a:gridCol w="928440"/>
                <a:gridCol w="3214800"/>
                <a:gridCol w="1571760"/>
                <a:gridCol w="25430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еч. ме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на лучший проект по оформлению школьной стол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а О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проекты от классов представляются и общим голосованием выбирается лучши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.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иторинг удовлетворения качеством питания в школьной стол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щек С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мониторинга обработаны, представлены Управляющему совету и подготовлены управленческие решения по улучшению качества питания в школьной стол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нва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285920"/>
          <a:ext cx="8400960" cy="4114800"/>
        </p:xfrm>
        <a:graphic>
          <a:graphicData uri="http://schemas.openxmlformats.org/drawingml/2006/table">
            <a:tbl>
              <a:tblPr/>
              <a:tblGrid>
                <a:gridCol w="919080"/>
                <a:gridCol w="3281400"/>
                <a:gridCol w="1575000"/>
                <a:gridCol w="2625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5.0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на лучшее меню в преддверии эпидемии гриппа и ОР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славская Т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ее  меню и рекомендации врача размещены на сайте гимназии, победители получают при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30.0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и проведение конкурса на самый культурный класс в школьной стол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ерлядьев С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ны критерии культурного поведения в школьной столовой. Информация размещается на сайте и информационном стен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Февра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.0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семейных фотографий «Моя семья за столо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ческий парламент гимна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ие работы  будут представлены на школьной выстав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7.0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сочинений «Званый ужин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я русского языка и литера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ие работы будут отмечены и изданы в школьном литературном альманах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Мар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265104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1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.0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творческих работ в различных жанрах и техниках на тему «Здоровое питани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а О.В., Маслов С.М., Стерлядьев С.А., Госс Л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ие работы отмечены и представлены в гимназии и за её пределами (в СМИ, магазинах и т.д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Основания для ре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57200"/>
            <a:ext cx="40384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f81bd"/>
                </a:solidFill>
                <a:latin typeface="Calibri"/>
              </a:rPr>
              <a:t>Федеральный и краевой уров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исьмо Минобрнауки № 06-368 от 01.03.2011. «О реализации проекта по совершенствованию организации питания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Участие Пермского края в данной Программе на уровне Р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357200"/>
            <a:ext cx="40384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f81bd"/>
                </a:solidFill>
                <a:latin typeface="Calibri"/>
              </a:rPr>
              <a:t>Уровень Гимназии №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риказ директора об участии в экспериментальном проекте на уровне гимназии  по совершенствованию организации п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84360" y="404640"/>
            <a:ext cx="77752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Апр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320040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5.0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сметной документации по проведению ремонтных работ в гимназии во время летней кампании с учетом всех инновационных и творческих работ учащихся, представленных в различных конкурсах в рамках Програм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лов С.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тетически и информационно оформленный интерьер гимна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Ма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732636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ведение итогов первого системного года работы гимназии с 1 по 11 класс по Программе «Разговор  о правильном питан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кова Т.В., Богун  О.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 подробный анализ реализации Программы, выявлены проблемы и преимущества работы в рамках данной Программы. Освоен новый формат работы с бизнес-сообществом по совместной рабо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результаты реализации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- Просветительская деятельность среди участников образовательного процесса, </a:t>
            </a: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     - Реализация существующих образовательных программ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5785920"/>
            <a:ext cx="403848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5500800"/>
            <a:ext cx="403848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84360" y="404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оритетное направление модернизации школьного 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-353880" y="249120"/>
            <a:ext cx="4949640" cy="236088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право 2"/>
          <p:cNvSpPr/>
          <p:nvPr/>
        </p:nvSpPr>
        <p:spPr>
          <a:xfrm>
            <a:off x="1143000" y="3071880"/>
            <a:ext cx="1143000" cy="34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3"/>
          <p:cNvSpPr/>
          <p:nvPr/>
        </p:nvSpPr>
        <p:spPr>
          <a:xfrm>
            <a:off x="1214280" y="4500720"/>
            <a:ext cx="1143000" cy="34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4"/>
          <p:cNvSpPr/>
          <p:nvPr/>
        </p:nvSpPr>
        <p:spPr>
          <a:xfrm>
            <a:off x="1357200" y="6000840"/>
            <a:ext cx="1143000" cy="34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000240" y="2786040"/>
            <a:ext cx="54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тетрадь для шк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3000240" y="4214880"/>
            <a:ext cx="58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ое пособие для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071880" y="5572080"/>
            <a:ext cx="56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ое пособие для род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207180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 РЕАЛИЗАЦИЮ ПРОГРАММЫ ВКЛЮЧЕНЫ СЛЕДУЮЩИЕ СОТРУДНИКИ ГИМНАЗИИ: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ЗАМЕСТИТЕЛЬ ДИРЕКТОРА ПО ВР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КЛАССНЫЕ РУКОВОДИТЕЛИ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ОТВЕТСТВЕННЫЙ ЗА ПИТАНИЕ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ВРАЧИ ГИМНАЗИИ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УЧИТЕЛЯ БИОЛОГИИ, ЕСТЕСТВОЗНАНИЯ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УЧИТЕЛЯ ОБЖ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УЧИТЕЛЯ ФИЗИЧЕСКОЙ КУЛЬТУРЫ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ПДО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4240" y="4996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Calibri"/>
              </a:rPr>
              <a:t>Данная Программа – вариант комплексной системной работы по формированию культуры здорового и безопасного образа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еделение ответственностей в реализации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9997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меститель директора по В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571760"/>
            <a:ext cx="4040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ение общего руководства реализации Программы «Разговор о правильном питани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аппаратных, информационных, тематических совещаний с педагогами по данной Программ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ование плана работы гимназии в части реализации данной Програм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аз УМК по 3 модул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мещение информации о реализации Программы на сайте Электронных журналов и дневников, а также на сайте гимназ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1640" y="1071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ветственный за пит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4720" y="1643040"/>
            <a:ext cx="4041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тчетов по реализации Программы на различных уровн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мониторинга уровня  удовлетворенности качеством предоставления услуг по пита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еделение ответственностей в реализации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403992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ассные руководит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856880"/>
            <a:ext cx="4040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ежедневного питания уча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классных коллективов на участие в мероприятиях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глашение врачей на беседы с учащимися и родителями на родительские собрания по тематикам Программы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8720" y="1142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ачи гимназ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4720" y="1714320"/>
            <a:ext cx="4041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 экспертизы разработанных мероприятий в рамках Программ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просветительских бесед с учащимися и родителями по организации здорового п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полнение всех функциональных обязанностей по организации питания в гимназ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7:06:23Z</dcterms:created>
  <dc:creator>Zaharova</dc:creator>
  <dc:description/>
  <dc:language>en-US</dc:language>
  <cp:lastModifiedBy>ZooM</cp:lastModifiedBy>
  <dcterms:modified xsi:type="dcterms:W3CDTF">2013-12-03T20:45:37Z</dcterms:modified>
  <cp:revision>92</cp:revision>
  <dc:subject/>
  <dc:title>Слайд 1</dc:title>
</cp:coreProperties>
</file>