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11B-3446-4303-83E9-26E6803E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2CF-FCE1-439C-B9FF-FED80D2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060-C795-4CBF-9F1D-A01E8A42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BA9-C43C-40C9-98F4-16F9618B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8CE-B259-4196-B429-26C59D3B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A26-9E3C-4635-B41E-C053D772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7EF-2985-46E8-92ED-D49A2288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B55-28EB-45D5-8901-A0D3C65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DDA-9F49-4B9F-9F0D-7418DDF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8ED-AFEF-4021-8CB9-91D7A8E4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E03-F94C-43ED-8F0F-DADB0CC6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CA0-908A-4198-AA05-9C90E559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3E4A-CBE7-4747-B655-C4C69DDBB88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900000" y="0"/>
            <a:ext cx="8244000" cy="6480000"/>
            <a:chOff x="900000" y="0"/>
            <a:chExt cx="8244000" cy="6480000"/>
          </a:xfrm>
        </p:grpSpPr>
        <p:pic>
          <p:nvPicPr>
            <p:cNvPr id="42" name="Picture 5" descr="permkrai"/>
            <p:cNvPicPr/>
            <p:nvPr/>
          </p:nvPicPr>
          <p:blipFill>
            <a:blip r:embed="rId1"/>
            <a:stretch/>
          </p:blipFill>
          <p:spPr>
            <a:xfrm>
              <a:off x="900000" y="0"/>
              <a:ext cx="8244000" cy="64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6" descr="MCj03962260000[1]"/>
            <p:cNvPicPr/>
            <p:nvPr/>
          </p:nvPicPr>
          <p:blipFill>
            <a:blip r:embed="rId2"/>
            <a:stretch/>
          </p:blipFill>
          <p:spPr>
            <a:xfrm>
              <a:off x="5130720" y="3755880"/>
              <a:ext cx="2196720" cy="23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7"/>
          <p:cNvSpPr/>
          <p:nvPr/>
        </p:nvSpPr>
        <p:spPr>
          <a:xfrm>
            <a:off x="316080" y="466560"/>
            <a:ext cx="7424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рограмма 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«Разговор о правильном питании»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68360" y="2492280"/>
            <a:ext cx="493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 МАОУ «Гимназия №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11280" y="4437000"/>
            <a:ext cx="3960720" cy="1882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разработана на основе презентации Захарово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ы Анатольев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нта отдела проектов Министерства образования Пермского к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ителя биологии и естествозна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тематические планирования во всех классах уроки с использованием Рабочих тетрадей и других составляющих УМК данной Програм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исследований по тематикам 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1640" y="1356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я ОБ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4720" y="1928880"/>
            <a:ext cx="4041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 бесед с учащимися о правилах безопасности при работе на кухне и во время принятия пищ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воение способов оказания первой доврачебной помощи при травмах и угрозах на кухне и во время принятия пи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ителя физической куль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бесед с учащимися о вариантах меню и рационе питания во время физических нагрузок, до них и после с целью формирования здорового те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с методиками формирования здорового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ценариев и проведение мероприятий в рамках реализации Програм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рефлексии по итогам проведенных мероприят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оставление наглядной информации для оформление просветительских информационных стендов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и программ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ермский кра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857160" y="1500120"/>
          <a:ext cx="76438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500120"/>
                    <a:ext cx="76438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астники программ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Гимназия №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2286000" y="2152800"/>
          <a:ext cx="4680000" cy="32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52800"/>
                    <a:ext cx="468000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ритерии оценки результативности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</a:rPr>
              <a:t>Информированнос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личество охваченных детей рамками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лучение представления о правильном п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сокая культура поведения за столом (во время обеда в школьной столовой, в гостях, дома и п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071360"/>
            <a:ext cx="449568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</a:rPr>
              <a:t>Проявление активност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остоятельность выполнения обязанностей по дежурству по столов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веденческая реакция во время принятия пищи и во время приготовления пищи в домашних услов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64a2"/>
                </a:solidFill>
                <a:latin typeface="Calibri"/>
              </a:rPr>
              <a:t>Изменение организации питания в семье и активност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Обогащение знаний родителей  рациональном питан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Изменение организации режима питания до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Выбор полезных продуктов питания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Владение способами формирования положительного отношения  к приёму пищи и культуре пит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Заинтересованность программой «Разговор о правильном питании»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Активность родителей в совместных мероприят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257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9"/>
          <p:cNvSpPr/>
          <p:nvPr/>
        </p:nvSpPr>
        <p:spPr>
          <a:xfrm>
            <a:off x="1674720" y="133200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1000080" y="-184320"/>
            <a:ext cx="7056360" cy="36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 Narrow"/>
              </a:rPr>
              <a:t>Мониторинг изучения мнения значимости Программы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 Narrow"/>
              </a:rPr>
              <a:t>«Разговор о правильном пит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читаете ли Вы, что в результате  проведения занятий можно сформировать  представление об основах правильного пит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611280" y="1628640"/>
          <a:ext cx="80755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075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6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7532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66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читаете ли Вы, что в результате  проведения занятий можно сформировать  навыки правильного питан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0" y="2071800"/>
            <a:ext cx="8748720" cy="4381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3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95280" y="1844640"/>
          <a:ext cx="835344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35344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357120" y="333360"/>
            <a:ext cx="8535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Ваше отношение к программе в ц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3"/>
          <p:cNvSpPr/>
          <p:nvPr/>
        </p:nvSpPr>
        <p:spPr>
          <a:xfrm>
            <a:off x="1214280" y="1643040"/>
            <a:ext cx="7143840" cy="3429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грамма разработана более 10 лет назад специалистами Института возрастной физиологии Российской Академии образования под руководством Безруких М.М., директора этого Института, академика РА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настоящее время Программа доработана  рекомендована Ученым советом от 07.02.2011. для внедрения в работу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0" y="191628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755640" y="907920"/>
            <a:ext cx="6769080" cy="2074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частие родителей в совместной здоровьесберегающей деятельности с деть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64a2"/>
                </a:solidFill>
                <a:latin typeface="Calibri"/>
              </a:rPr>
              <a:t>Основные мероприятия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2011 – 2012 учебн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Сентябр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7120" y="1571760"/>
          <a:ext cx="8329680" cy="5332320"/>
        </p:xfrm>
        <a:graphic>
          <a:graphicData uri="http://schemas.openxmlformats.org/drawingml/2006/table">
            <a:tbl>
              <a:tblPr/>
              <a:tblGrid>
                <a:gridCol w="936720"/>
                <a:gridCol w="3243240"/>
                <a:gridCol w="2074680"/>
                <a:gridCol w="207504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ее блюдо в походных услов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арева Н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едители получают зачет на Слете «Школа безопасно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7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дание приказа об организации системного и комплексного включения в реализацию Программы «Разговор  о правильном питан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риказом ознакомлены все сотрудники гимназ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4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презентации  о реализации Программы в гимназии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е презентации на информационном совещании и Управляющем сов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77504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ие учебно-тематических планов учителей ОБЖ, биологии, естествознания, физической культуры с включением тематик и УМК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туева Е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решения Методического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.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з Рабочих тетрадей и других составляющих УМК Программы по 3 модул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ун О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полнение библиотечного фонда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кт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57120" y="1600200"/>
          <a:ext cx="8329680" cy="5029200"/>
        </p:xfrm>
        <a:graphic>
          <a:graphicData uri="http://schemas.openxmlformats.org/drawingml/2006/table">
            <a:tbl>
              <a:tblPr/>
              <a:tblGrid>
                <a:gridCol w="100008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мониторинга среди родителей по актуальности реализации данно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к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обработаны и добавлены в презентацию о Программе и на сайте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8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тем для исследований по тематикам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ва В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тельские темы включены в реестр Н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19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реча с представителями РАН – авторами Программы о системе сотрудничества в рамках Программы (в рамках Национального Конгрес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ение гимназии в экспериментальную работу по данной Програм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Но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ход медиков гимназии на родительские собрания по ведению просветительской работы в рамках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славская Т.А., Дюшко Г.П., Кравченко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 проинформированы о рациональном питани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просветительского информационного стенда о качественном пит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енно оформленный стенд с интересной информацией о здоровой 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9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реча с соавторами Программы ООО «Нестле» (пермское представительство)  о заключении договора сотрудничества по реализации совместн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 совместный план проведения мероприятий в рамках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28760" y="1600200"/>
          <a:ext cx="8258040" cy="4664160"/>
        </p:xfrm>
        <a:graphic>
          <a:graphicData uri="http://schemas.openxmlformats.org/drawingml/2006/table">
            <a:tbl>
              <a:tblPr/>
              <a:tblGrid>
                <a:gridCol w="928440"/>
                <a:gridCol w="3214800"/>
                <a:gridCol w="1571760"/>
                <a:gridCol w="25430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. ме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ий проект по оформлению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проекты от классов представляются и общим голосованием выбирается лучши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иторинг удовлетворения качеством питания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к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мониторинга обработаны, представлены Управляющему совету и подготовлены управленческие решения по улучшению качества питания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н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285920"/>
          <a:ext cx="8400960" cy="4114800"/>
        </p:xfrm>
        <a:graphic>
          <a:graphicData uri="http://schemas.openxmlformats.org/drawingml/2006/table">
            <a:tbl>
              <a:tblPr/>
              <a:tblGrid>
                <a:gridCol w="919080"/>
                <a:gridCol w="3281400"/>
                <a:gridCol w="1575000"/>
                <a:gridCol w="262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5.0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ее меню в преддверии эпидемии гриппа и О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славская Т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е  меню и рекомендации врача размещены на сайте гимназии, победители получают пр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30.0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и проведение конкурса на самый культурный класс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рлядьев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ны критерии культурного поведения в школьной столовой. Информация размещается на сайте и информационном стен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Февра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семейных фотографий «Моя семья за стол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ческий парламент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 будут представлены на школьной выстав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7.0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сочинений «Званый ужи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я русского языка и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будут отмечены и изданы в школьном литературном альманах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Мар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265104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творческих работ в различных жанрах и техниках на тему «Здоровое пита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, Маслов С.М., Стерлядьев С.А., Госс Л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отмечены и представлены в гимназии и за её пределами (в СМИ, магазинах 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Основания для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57200"/>
            <a:ext cx="4038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81bd"/>
                </a:solidFill>
                <a:latin typeface="Calibri"/>
              </a:rPr>
              <a:t>Федеральный и краевой уров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исьмо Минобрнауки № 06-368 от 01.03.2011. «О реализации проекта по совершенствованию организации питания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частие Пермского края в данной Программе на уровне Р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357200"/>
            <a:ext cx="4038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81bd"/>
                </a:solidFill>
                <a:latin typeface="Calibri"/>
              </a:rPr>
              <a:t>Уровень Гимназии №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иказ директора об участии в экспериментальном проекте на уровне гимназии  по совершенствованию организации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84360" y="404640"/>
            <a:ext cx="77752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Ап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5.0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сметной документации по проведению ремонтных работ в гимназии во время летней кампании с учетом всех инновационных и творческих работ учащихся, представленных в различных конкурсах в рамках Програм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в С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тетически и информационно оформленный интерьер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732636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едение итогов первого системного года работы гимназии с 1 по 11 класс по Программе «Разговор  о правильном питан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, Богун  О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 подробный анализ реализации Программы, выявлены проблемы и преимущества работы в рамках данной Программы. Освоен новый формат работы с бизнес-сообществом по совместной раб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результаты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- Просветительская деятельность среди участников образовательного процесса, 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   - Реализация существующих образовательных программ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785920"/>
            <a:ext cx="403848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5500800"/>
            <a:ext cx="403848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84360" y="404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ритетное направление модернизации школьного 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353880" y="249120"/>
            <a:ext cx="4949640" cy="236088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2"/>
          <p:cNvSpPr/>
          <p:nvPr/>
        </p:nvSpPr>
        <p:spPr>
          <a:xfrm>
            <a:off x="1143000" y="307188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"/>
          <p:cNvSpPr/>
          <p:nvPr/>
        </p:nvSpPr>
        <p:spPr>
          <a:xfrm>
            <a:off x="1214280" y="450072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4"/>
          <p:cNvSpPr/>
          <p:nvPr/>
        </p:nvSpPr>
        <p:spPr>
          <a:xfrm>
            <a:off x="1357200" y="600084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000240" y="278604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тетрадь для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00240" y="421488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ое пособие дл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071880" y="557208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ое пособие для р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07180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РЕАЛИЗАЦИЮ ПРОГРАММЫ ВКЛЮЧЕНЫ СЛЕДУЮЩИЕ СОТРУДНИКИ ГИМНАЗИИ: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ЗАМЕСТИТЕЛЬ ДИРЕКТОРА ПО ВР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КЛАССНЫЕ РУКОВОДИТЕЛИ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ОТВЕТСТВЕННЫЙ ЗА ПИТАНИЕ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ВРАЧИ ГИМНАЗИИ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БИОЛОГИИ, ЕСТЕСТВОЗНАНИЯ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ОБЖ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ФИЗИЧЕСКОЙ КУЛЬТУРЫ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ПДО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424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Calibri"/>
              </a:rPr>
              <a:t>Данная Программа – вариант комплексной системной работы по формированию культуры здорового и безопасного образа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9997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меститель директора по В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71760"/>
            <a:ext cx="4040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общего руководства реализации Программы «Разговор о правильном питани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аппаратных, информационных, тематических совещаний с педагогами по данной Програм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ование плана работы гимназии в части реализации данной Програм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аз УМК по 3 модул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ие информации о реализации Программы на сайте Электронных журналов и дневников, а также на сайте гимназ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1640" y="1071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ветственный за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4720" y="164304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тчетов по реализации Программы на различных уровн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мониторинга уровня  удовлетворенности качеством предоставления услуг по пита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40399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е руковод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856880"/>
            <a:ext cx="4040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ежедневного питания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классных коллективов на участие в мероприятиях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глашение врачей на беседы с учащимися и родителями на родительские собрания по тематикам Программ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8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ачи гимна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1714320"/>
            <a:ext cx="4041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 экспертизы разработанных мероприятий в рамках Програм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просветительских бесед с учащимися и родителями по организации здорового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олнение всех функциональных обязанностей по организации питания в гимназ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7:06:23Z</dcterms:created>
  <dc:creator>Zaharova</dc:creator>
  <dc:description/>
  <dc:language>en-US</dc:language>
  <cp:lastModifiedBy>ZooM</cp:lastModifiedBy>
  <dcterms:modified xsi:type="dcterms:W3CDTF">2013-12-03T20:45:37Z</dcterms:modified>
  <cp:revision>92</cp:revision>
  <dc:subject/>
  <dc:title>Слайд 1</dc:title>
</cp:coreProperties>
</file>