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B9B2-B897-41DD-BF07-04F6C40E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AB9E-036C-4EC7-8A7A-F4EDE3A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6729-7C28-4561-A4F7-CEB46F34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0E5E-9D6F-46E4-864E-2FCEE4D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003B-5921-4FBB-80C3-0FEC7873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81C0-FD1B-42C5-BA06-E227A54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53EB-F38A-4309-87A5-DBED010E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3397-D4D1-4193-AA60-22BB0331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D88-84F9-4C25-BD36-49238445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612-CF00-464C-BF1A-7483FFF1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2B7D-A058-4EB4-BBC2-E20130D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FD9E-DDF0-4591-98D9-82A250CE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CAF0-46A8-41C7-99A5-84A4B24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17A-E3AD-4A94-8B1E-C22044B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CFDF-1C6F-4009-BF2F-D215BBF1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FEFB-2D14-4561-869D-F5D01173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7023-2AA1-442A-B128-B9D01BF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5860-8DBD-4D79-AD42-66981365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DAC2-53F0-40A6-B03C-6A7763E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EEF3-2E69-44CA-A900-41954935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0F85-5E94-4891-BCE4-05020696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3C34-C82E-47E5-9D2E-49E5211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1638-7EBA-40B5-9E74-4A659465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D9E5-6195-4EA6-954B-729F5529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43BB-1A59-4594-A9CC-C118296C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3A3D-F38C-4A2D-B78F-8DD1442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6B0D-545C-4016-8E3F-C6EC12C8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1436-F010-400D-9823-81D111D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70B1-4DCF-4EA0-A5C0-C6AAF0FB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4C5A-0DB2-4F42-A0A5-C7E6E36C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1CC5-AFA1-4909-9758-469E23E4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CF0A9-8794-48D4-B812-6D71F86B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CFE2-AD98-4094-AF40-4572C18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6BD3-B97E-48B9-9F2A-1A6A82A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3C0E3-D643-4281-8428-E7BA5B4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345C-249A-4D35-9285-E0F28804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3588-D580-4967-9C39-FBEF3DB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3217-FBEB-41A4-BF50-94A83E3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8785-9552-48FC-9B59-E0FE9B4F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9E38-04FB-46C7-8CE1-961B76E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6F2B-E56E-412D-B767-F1E91A4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DA7E-239F-4292-9256-5BA7E938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3193-13D8-4A4B-B4AC-46726A3E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2A02-36A0-446B-BED8-35585109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6B82-2664-4D1E-A0A2-50016E89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CCA2-8856-465F-8A7B-9AF63B8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5B64-894D-4549-940F-D2D4B1D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FB21-346D-48D2-A092-2CB0F3C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A25C-A807-432F-9CA0-F059CD04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9B538-3546-44C9-BEE2-B97029F3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C9D09-65DE-4AF5-8C46-3DC7CE5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C70F-F179-43A1-999B-FADA8DE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4D1C-40A0-4686-A860-6072080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D08F5-D530-4AC7-AE5C-01D3915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513D9-4B48-4AE1-9776-851C5D0F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4C42-ECEC-4F12-9EC7-B8BFAC6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ACB9-51D2-4F0E-AB44-D0226F3A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24E0B-60D2-49BD-A2CC-D6CA10D2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3532B-8066-411C-B78B-F1CD20E3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A2EB-D2C1-47B3-AC89-507AEAE1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B772A-2512-4509-BD29-35D538C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D7C0-FC87-4294-B5D8-BA717026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58CA-A9A6-4628-9807-3918BA67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274DA-571C-428A-B82B-B1ABF31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AFA4-409D-412D-8849-438454B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F98C-7470-4362-91FC-9C873A8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30EC-750D-4374-B60B-8B541EF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B81B-01E9-46F4-AEB5-AFFE9DF2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6C1B3-6331-44CE-A329-7290FA29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0CB65-AAB1-4ED0-A2A7-E0B88D49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1FA6-0FF1-4223-A2FF-350279BA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425D-FDEB-4644-A920-B751250B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F3856-24ED-4971-8D52-27749AF5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13C9-78CA-49B9-9A3E-2C90A1D4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FEBA-B3EE-4807-A065-BCCBC899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DB912-62C5-4082-B6DA-AC7E4F9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E5EF1-455C-4A41-A5FC-557A76B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CAE0-19C0-41E4-8521-2CB21A1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BE75-147B-4C9C-B4CE-33785A0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F603-6D99-4EA1-8C1A-C789DE6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4DA9F-C0A8-49F1-A824-36CBE6DE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C267D-7A88-49B8-9E17-2AED8352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30FD-EF90-445F-A419-699203E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4EE06-F470-4598-B2AB-3A65C5BF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763B8-33D2-42AC-9237-A676CB09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CFD4-6987-4788-AA5B-CF966A52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92A87-2494-4424-A3BA-81A2223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06FB6-658B-42AC-A473-A9500FE7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BA5C-4FBF-483B-885B-814FCD1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EAF42-C05A-4932-8592-D4540E38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78A53-86C6-44A2-9FB6-B68DD23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6D5C-BA39-4158-84AF-95B48F3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8938-B157-4E1E-A00D-75C5649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68DE-36C6-42E9-BD47-2A25C73E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1555-35D1-4082-AFEC-BF53453C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5FFCD-3725-410C-8773-F6FC81E4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52B-F149-4A45-BBBD-2A947BE264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181A-5C72-462E-9A47-1EB7B3A26E6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0D87-6A51-4130-BDCC-EFF436C9901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1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323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26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327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29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330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32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333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334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335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37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338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0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341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3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344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347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8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9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50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1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53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4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5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56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58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359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1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362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4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365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67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368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369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0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1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372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373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374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5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6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377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8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9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380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1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383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4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386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7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8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389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0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392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3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4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395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97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398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9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0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401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2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3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404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5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06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407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408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9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0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323e7a"/>
                </a:gs>
                <a:gs pos="100000">
                  <a:srgbClr val="4d74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CC5-ED66-49B5-9DE2-1FAF2E6A685B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3DDF-8365-44E7-A77A-27824D76B1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80F8-CBB8-464D-AD04-323D689D249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9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2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60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0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6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08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609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0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1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612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3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4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615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9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0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621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2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4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6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627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8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9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630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1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2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633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4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5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636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7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8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639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0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1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642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3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4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645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6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7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648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9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0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651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3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654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5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6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65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8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9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660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1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2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63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6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69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71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2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3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74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77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0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83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86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89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1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92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3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4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95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7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98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9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0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701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2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06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707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708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9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0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1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2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3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1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1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1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C64-E658-4305-85A5-6458F18DF58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773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774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4d74a7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1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782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3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84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785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87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788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789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790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1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2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793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4" name="Freeform 24"/>
                        <p:cNvSpPr/>
                        <p:nvPr/>
                      </p:nvSpPr>
                      <p:spPr>
                        <a:xfrm>
                          <a:off x="173448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5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796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7" name="Freeform 27"/>
                        <p:cNvSpPr/>
                        <p:nvPr/>
                      </p:nvSpPr>
                      <p:spPr>
                        <a:xfrm>
                          <a:off x="23994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8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799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0" name="Freeform 30"/>
                        <p:cNvSpPr/>
                        <p:nvPr/>
                      </p:nvSpPr>
                      <p:spPr>
                        <a:xfrm>
                          <a:off x="30636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1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802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3" name="Freeform 33"/>
                        <p:cNvSpPr/>
                        <p:nvPr/>
                      </p:nvSpPr>
                      <p:spPr>
                        <a:xfrm>
                          <a:off x="37274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4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805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6" name="Freeform 36"/>
                        <p:cNvSpPr/>
                        <p:nvPr/>
                      </p:nvSpPr>
                      <p:spPr>
                        <a:xfrm>
                          <a:off x="439056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7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808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9" name="Freeform 39"/>
                        <p:cNvSpPr/>
                        <p:nvPr/>
                      </p:nvSpPr>
                      <p:spPr>
                        <a:xfrm>
                          <a:off x="50554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0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811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2" name="Freeform 42"/>
                      <p:cNvSpPr/>
                      <p:nvPr/>
                    </p:nvSpPr>
                    <p:spPr>
                      <a:xfrm>
                        <a:off x="5719680" y="3810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3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814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5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6" name="Group 46"/>
                    <p:cNvGrpSpPr/>
                    <p:nvPr/>
                  </p:nvGrpSpPr>
                  <p:grpSpPr>
                    <a:xfrm>
                      <a:off x="6719760" y="3810240"/>
                      <a:ext cx="663480" cy="177840"/>
                      <a:chOff x="6719760" y="3810240"/>
                      <a:chExt cx="663480" cy="177840"/>
                    </a:xfrm>
                  </p:grpSpPr>
                  <p:sp>
                    <p:nvSpPr>
                      <p:cNvPr id="817" name="Freeform 47"/>
                      <p:cNvSpPr/>
                      <p:nvPr/>
                    </p:nvSpPr>
                    <p:spPr>
                      <a:xfrm>
                        <a:off x="6719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8" name="Freeform 48"/>
                      <p:cNvSpPr/>
                      <p:nvPr/>
                    </p:nvSpPr>
                    <p:spPr>
                      <a:xfrm>
                        <a:off x="704880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9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820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21" name="Freeform 51"/>
                      <p:cNvSpPr/>
                      <p:nvPr/>
                    </p:nvSpPr>
                    <p:spPr>
                      <a:xfrm>
                        <a:off x="77119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22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23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824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5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26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827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828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829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0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1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832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3" name="Freeform 63"/>
                        <p:cNvSpPr/>
                        <p:nvPr/>
                      </p:nvSpPr>
                      <p:spPr>
                        <a:xfrm>
                          <a:off x="171864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4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835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6" name="Freeform 66"/>
                        <p:cNvSpPr/>
                        <p:nvPr/>
                      </p:nvSpPr>
                      <p:spPr>
                        <a:xfrm>
                          <a:off x="23835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7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838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9" name="Freeform 69"/>
                        <p:cNvSpPr/>
                        <p:nvPr/>
                      </p:nvSpPr>
                      <p:spPr>
                        <a:xfrm>
                          <a:off x="30477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0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841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2" name="Freeform 72"/>
                        <p:cNvSpPr/>
                        <p:nvPr/>
                      </p:nvSpPr>
                      <p:spPr>
                        <a:xfrm>
                          <a:off x="37116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3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844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5" name="Freeform 75"/>
                        <p:cNvSpPr/>
                        <p:nvPr/>
                      </p:nvSpPr>
                      <p:spPr>
                        <a:xfrm>
                          <a:off x="437472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6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847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8" name="Freeform 78"/>
                        <p:cNvSpPr/>
                        <p:nvPr/>
                      </p:nvSpPr>
                      <p:spPr>
                        <a:xfrm>
                          <a:off x="50396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9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850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1" name="Freeform 81"/>
                      <p:cNvSpPr/>
                      <p:nvPr/>
                    </p:nvSpPr>
                    <p:spPr>
                      <a:xfrm>
                        <a:off x="5703840" y="38084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2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853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4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5" name="Group 85"/>
                    <p:cNvGrpSpPr/>
                    <p:nvPr/>
                  </p:nvGrpSpPr>
                  <p:grpSpPr>
                    <a:xfrm>
                      <a:off x="6703920" y="3808440"/>
                      <a:ext cx="663480" cy="177840"/>
                      <a:chOff x="6703920" y="3808440"/>
                      <a:chExt cx="663480" cy="177840"/>
                    </a:xfrm>
                  </p:grpSpPr>
                  <p:sp>
                    <p:nvSpPr>
                      <p:cNvPr id="856" name="Freeform 86"/>
                      <p:cNvSpPr/>
                      <p:nvPr/>
                    </p:nvSpPr>
                    <p:spPr>
                      <a:xfrm>
                        <a:off x="6703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7" name="Freeform 87"/>
                      <p:cNvSpPr/>
                      <p:nvPr/>
                    </p:nvSpPr>
                    <p:spPr>
                      <a:xfrm>
                        <a:off x="703296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8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859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0" name="Freeform 90"/>
                      <p:cNvSpPr/>
                      <p:nvPr/>
                    </p:nvSpPr>
                    <p:spPr>
                      <a:xfrm>
                        <a:off x="76960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61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62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863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4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65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7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9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870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3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874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6AA2-79BE-4BF6-A2B7-1BE00926A29C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Monotype Corsiva"/>
              </a:rPr>
              <a:t>Семинар-практику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Расстояние между скрещивающимися прямы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2484360" y="4221000"/>
            <a:ext cx="66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Зубарева Т.В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учитель матема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Темниковской СОШ №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Freeform 46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ие следствия можно сформулировать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4" name="Group 7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45" name="Text Box 8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6" name="Text Box 9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7" name="Text Box 10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Text Box 11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9" name="Group 12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50" name="Text Box 13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4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Text Box 15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6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54" name="Text Box 17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Text Box 19"/>
          <p:cNvSpPr/>
          <p:nvPr/>
        </p:nvSpPr>
        <p:spPr>
          <a:xfrm>
            <a:off x="0" y="170028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резок с концами на двух скрещивающихся прямых одновременно перпендикулярный им  и есть расстояние между этими прям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Text Box 23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Text Box 27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Freeform 33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Line 34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Line 35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Line 42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Line 43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Line 44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Line 45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Text Box 47"/>
          <p:cNvSpPr/>
          <p:nvPr/>
        </p:nvSpPr>
        <p:spPr>
          <a:xfrm>
            <a:off x="108000" y="4005360"/>
            <a:ext cx="36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Этот отрезок равен расстоянию от одной из скрещивающихся прямых до параллельной ей плоскости в которой лежит другая прям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Line 51"/>
          <p:cNvSpPr/>
          <p:nvPr/>
        </p:nvSpPr>
        <p:spPr>
          <a:xfrm>
            <a:off x="3780000" y="314172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52"/>
          <p:cNvSpPr/>
          <p:nvPr/>
        </p:nvSpPr>
        <p:spPr>
          <a:xfrm>
            <a:off x="5076720" y="479736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3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3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3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3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3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3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3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ор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2" name="Group 6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73" name="Text Box 7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Text Box 8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Text Box 9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Text Box 10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7" name="Group 11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78" name="Text Box 12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Text Box 13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Text Box 14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Text Box 15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2" name="Text Box 16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0" y="2060640"/>
            <a:ext cx="41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иагональ куба перпендикулярна каждой диагонали грани куба, скрещивающейся с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0" y="3860640"/>
            <a:ext cx="3780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казательство: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отсюд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любой прямой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Line 32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Freeform 36"/>
          <p:cNvSpPr/>
          <p:nvPr/>
        </p:nvSpPr>
        <p:spPr>
          <a:xfrm>
            <a:off x="5076720" y="1844640"/>
            <a:ext cx="2159280" cy="4248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1360" h="2676">
                <a:moveTo>
                  <a:pt x="0" y="1860"/>
                </a:moveTo>
                <a:lnTo>
                  <a:pt x="0" y="0"/>
                </a:lnTo>
                <a:lnTo>
                  <a:pt x="1360" y="817"/>
                </a:lnTo>
                <a:lnTo>
                  <a:pt x="1360" y="2676"/>
                </a:lnTo>
                <a:lnTo>
                  <a:pt x="0" y="186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40"/>
          <p:cNvSpPr/>
          <p:nvPr/>
        </p:nvSpPr>
        <p:spPr>
          <a:xfrm>
            <a:off x="3780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Line 41"/>
          <p:cNvSpPr/>
          <p:nvPr/>
        </p:nvSpPr>
        <p:spPr>
          <a:xfrm>
            <a:off x="7236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Line 42"/>
          <p:cNvSpPr/>
          <p:nvPr/>
        </p:nvSpPr>
        <p:spPr>
          <a:xfrm flipV="1">
            <a:off x="5076720" y="1844640"/>
            <a:ext cx="3456000" cy="2952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Line 31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3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3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3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3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3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3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6"/>
          <p:cNvSpPr/>
          <p:nvPr/>
        </p:nvSpPr>
        <p:spPr>
          <a:xfrm>
            <a:off x="5076720" y="1844640"/>
            <a:ext cx="2159280" cy="4248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1360" h="2676">
                <a:moveTo>
                  <a:pt x="0" y="0"/>
                </a:moveTo>
                <a:lnTo>
                  <a:pt x="0" y="1860"/>
                </a:lnTo>
                <a:lnTo>
                  <a:pt x="1360" y="2676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ствие теоремы. За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5" name="Group 5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96" name="Text Box 6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Text Box 7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8" name="Text Box 8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9" name="Text Box 9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0" name="Group 1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101" name="Text Box 1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2" name="Text Box 1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3" name="Text Box 1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5" name="Text Box 15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21"/>
          <p:cNvSpPr/>
          <p:nvPr/>
        </p:nvSpPr>
        <p:spPr>
          <a:xfrm flipH="1">
            <a:off x="6156000" y="4653000"/>
            <a:ext cx="36036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51672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23"/>
          <p:cNvSpPr/>
          <p:nvPr/>
        </p:nvSpPr>
        <p:spPr>
          <a:xfrm>
            <a:off x="-36360" y="4869000"/>
            <a:ext cx="435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им треугольни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их подобия следует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/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24"/>
          <p:cNvSpPr/>
          <p:nvPr/>
        </p:nvSpPr>
        <p:spPr>
          <a:xfrm>
            <a:off x="34920" y="6021360"/>
            <a:ext cx="43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=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a/√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-36360" y="1557360"/>
            <a:ext cx="42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 скрещивающимися диагональю куба и диагональю его гра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7"/>
          <p:cNvSpPr/>
          <p:nvPr/>
        </p:nvSpPr>
        <p:spPr>
          <a:xfrm>
            <a:off x="34920" y="3068640"/>
            <a:ext cx="460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ерпендикулярен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будет перпендикулярен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- расстояние межд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Line 19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18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3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3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3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Freeform 14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Freeform 9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11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Comic Sans MS"/>
              </a:rPr>
              <a:t>Обобщение.Три типовых случая определения расстояния между скрещивающимися прямым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Line 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Line 5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Line 10"/>
          <p:cNvSpPr/>
          <p:nvPr/>
        </p:nvSpPr>
        <p:spPr>
          <a:xfrm>
            <a:off x="651672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Line 13"/>
          <p:cNvSpPr/>
          <p:nvPr/>
        </p:nvSpPr>
        <p:spPr>
          <a:xfrm>
            <a:off x="4932360" y="3213000"/>
            <a:ext cx="0" cy="237672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Line 15"/>
          <p:cNvSpPr/>
          <p:nvPr/>
        </p:nvSpPr>
        <p:spPr>
          <a:xfrm>
            <a:off x="7740720" y="3141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Line 16"/>
          <p:cNvSpPr/>
          <p:nvPr/>
        </p:nvSpPr>
        <p:spPr>
          <a:xfrm>
            <a:off x="399564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Line 19"/>
          <p:cNvSpPr/>
          <p:nvPr/>
        </p:nvSpPr>
        <p:spPr>
          <a:xfrm>
            <a:off x="4643280" y="270828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Line 20"/>
          <p:cNvSpPr/>
          <p:nvPr/>
        </p:nvSpPr>
        <p:spPr>
          <a:xfrm>
            <a:off x="7020000" y="3357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Rectangle 21"/>
          <p:cNvSpPr/>
          <p:nvPr/>
        </p:nvSpPr>
        <p:spPr>
          <a:xfrm>
            <a:off x="0" y="1989000"/>
            <a:ext cx="4894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Общий перпендикуляр к обеим прямым (единственный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Rectangle 22"/>
          <p:cNvSpPr/>
          <p:nvPr/>
        </p:nvSpPr>
        <p:spPr>
          <a:xfrm>
            <a:off x="0" y="2781360"/>
            <a:ext cx="52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ff"/>
                </a:solidFill>
                <a:latin typeface="Comic Sans MS"/>
              </a:rPr>
              <a:t>Перпендикуляр от одной из прямых до параллельной плоскости, в которой расположена другая прямая, конец которого не обязательно лежит на прямо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Rectangle 23"/>
          <p:cNvSpPr/>
          <p:nvPr/>
        </p:nvSpPr>
        <p:spPr>
          <a:xfrm>
            <a:off x="108000" y="4869000"/>
            <a:ext cx="5184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omic Sans MS"/>
              </a:rPr>
              <a:t>Перпендикуляр между параллельными плоскостями в которых лежат скрещивающиеся прямые, концы которого не обязательно лежат на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30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3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3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3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3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3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Freeform 2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Freeform 3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001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облема: Как найти плоскость с одной прямой, параллельную другой скрещивающейся прямой 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Line 6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Line 8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Rectangle 15"/>
          <p:cNvSpPr/>
          <p:nvPr/>
        </p:nvSpPr>
        <p:spPr>
          <a:xfrm>
            <a:off x="0" y="1773360"/>
            <a:ext cx="392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остаточно провести через одну из скрещивающихся прямых прямую линию, параллельную другой скрещивающе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Line 18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Freeform 20"/>
          <p:cNvSpPr/>
          <p:nvPr/>
        </p:nvSpPr>
        <p:spPr>
          <a:xfrm>
            <a:off x="5378400" y="3084480"/>
            <a:ext cx="706320" cy="2360520"/>
          </a:xfrm>
          <a:custGeom>
            <a:avLst/>
            <a:gdLst>
              <a:gd name="textAreaLeft" fmla="*/ 0 w 706320"/>
              <a:gd name="textAreaRight" fmla="*/ 706320 w 7063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445" h="1487">
                <a:moveTo>
                  <a:pt x="0" y="0"/>
                </a:moveTo>
                <a:lnTo>
                  <a:pt x="445" y="1487"/>
                </a:ln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Rectangle 21"/>
          <p:cNvSpPr/>
          <p:nvPr/>
        </p:nvSpPr>
        <p:spPr>
          <a:xfrm>
            <a:off x="34920" y="4581360"/>
            <a:ext cx="46083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тим, что отрезок соединяющий точки пересечения пар параллельных прямых не равен расстоянию между скрещивающимися прямыми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3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3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3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3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3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3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3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3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3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3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Line 24"/>
          <p:cNvSpPr/>
          <p:nvPr/>
        </p:nvSpPr>
        <p:spPr>
          <a:xfrm>
            <a:off x="6588000" y="3860640"/>
            <a:ext cx="0" cy="1008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Типовые задач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Rectangle 9"/>
          <p:cNvSpPr/>
          <p:nvPr/>
        </p:nvSpPr>
        <p:spPr>
          <a:xfrm>
            <a:off x="34920" y="1341360"/>
            <a:ext cx="4897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Чаще других возникают задачи с перпендикулярными скрещивающимися пря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К этому типу относится уже рассмотренная задача о расстоянии между диагональю куба и скрещивающейся диагональю его гр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-36360" y="4508640"/>
            <a:ext cx="4608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тандартный прием решения этих задач заключается в проведении плоскости, в которой лежит одна прямая, перпендикулярно другой скрещивающейся прям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Line 14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Oval 18"/>
          <p:cNvSpPr/>
          <p:nvPr/>
        </p:nvSpPr>
        <p:spPr>
          <a:xfrm>
            <a:off x="4427640" y="3429000"/>
            <a:ext cx="4319640" cy="1440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Line 20"/>
          <p:cNvSpPr/>
          <p:nvPr/>
        </p:nvSpPr>
        <p:spPr>
          <a:xfrm>
            <a:off x="6588000" y="333360"/>
            <a:ext cx="0" cy="35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Line 21"/>
          <p:cNvSpPr/>
          <p:nvPr/>
        </p:nvSpPr>
        <p:spPr>
          <a:xfrm flipV="1">
            <a:off x="4932360" y="3860640"/>
            <a:ext cx="3600360" cy="72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Line 22"/>
          <p:cNvSpPr/>
          <p:nvPr/>
        </p:nvSpPr>
        <p:spPr>
          <a:xfrm>
            <a:off x="6588000" y="3860640"/>
            <a:ext cx="505080" cy="28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3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3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3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3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38"/>
          <p:cNvSpPr/>
          <p:nvPr/>
        </p:nvSpPr>
        <p:spPr>
          <a:xfrm>
            <a:off x="7524720" y="1844640"/>
            <a:ext cx="1295280" cy="432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816" h="2722">
                <a:moveTo>
                  <a:pt x="0" y="817"/>
                </a:moveTo>
                <a:lnTo>
                  <a:pt x="816" y="0"/>
                </a:lnTo>
                <a:lnTo>
                  <a:pt x="816" y="1905"/>
                </a:lnTo>
                <a:lnTo>
                  <a:pt x="0" y="2722"/>
                </a:lnTo>
                <a:lnTo>
                  <a:pt x="0" y="817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34920" y="1341360"/>
            <a:ext cx="475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0" y="3213000"/>
            <a:ext cx="460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ь гран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ребру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 с коэффициентом подобия 1/2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=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/2=a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√5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8" name="Group 25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59" name="Text Box 26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0" name="Text Box 27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Text Box 28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29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3" name="Group 30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64" name="Text Box 31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5" name="Text Box 32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6" name="Text Box 33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34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8" name="Line 35"/>
          <p:cNvSpPr/>
          <p:nvPr/>
        </p:nvSpPr>
        <p:spPr>
          <a:xfrm>
            <a:off x="4140360" y="6165720"/>
            <a:ext cx="3384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Line 36"/>
          <p:cNvSpPr/>
          <p:nvPr/>
        </p:nvSpPr>
        <p:spPr>
          <a:xfrm>
            <a:off x="7524720" y="3141720"/>
            <a:ext cx="792360" cy="223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Freeform 37"/>
          <p:cNvSpPr/>
          <p:nvPr/>
        </p:nvSpPr>
        <p:spPr>
          <a:xfrm>
            <a:off x="7524720" y="4964040"/>
            <a:ext cx="662040" cy="1203480"/>
          </a:xfrm>
          <a:custGeom>
            <a:avLst/>
            <a:gdLst>
              <a:gd name="textAreaLeft" fmla="*/ 0 w 662040"/>
              <a:gd name="textAreaRight" fmla="*/ 662400 w 66204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417" h="758">
                <a:moveTo>
                  <a:pt x="0" y="758"/>
                </a:moveTo>
                <a:lnTo>
                  <a:pt x="4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Text Box 39"/>
          <p:cNvSpPr/>
          <p:nvPr/>
        </p:nvSpPr>
        <p:spPr>
          <a:xfrm>
            <a:off x="8388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44"/>
          <p:cNvSpPr/>
          <p:nvPr/>
        </p:nvSpPr>
        <p:spPr>
          <a:xfrm>
            <a:off x="774072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3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3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3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3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30"/>
          <p:cNvSpPr/>
          <p:nvPr/>
        </p:nvSpPr>
        <p:spPr>
          <a:xfrm>
            <a:off x="4140360" y="1844640"/>
            <a:ext cx="4679640" cy="432108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2948" h="2722">
                <a:moveTo>
                  <a:pt x="0" y="2722"/>
                </a:moveTo>
                <a:lnTo>
                  <a:pt x="0" y="817"/>
                </a:lnTo>
                <a:lnTo>
                  <a:pt x="2948" y="0"/>
                </a:lnTo>
                <a:lnTo>
                  <a:pt x="2948" y="1905"/>
                </a:lnTo>
                <a:lnTo>
                  <a:pt x="0" y="2722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-108000" y="1268280"/>
            <a:ext cx="56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O, O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–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центры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, соответств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4920" y="3357720"/>
            <a:ext cx="49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ьная плоск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прямой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=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M/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=a/3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(по теореме Пифагор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=3/2√2, OM=1/2√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9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80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1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2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3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4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85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Line 19"/>
          <p:cNvSpPr/>
          <p:nvPr/>
        </p:nvSpPr>
        <p:spPr>
          <a:xfrm>
            <a:off x="5435640" y="1844640"/>
            <a:ext cx="208908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Freeform 20"/>
          <p:cNvSpPr/>
          <p:nvPr/>
        </p:nvSpPr>
        <p:spPr>
          <a:xfrm>
            <a:off x="5651640" y="5300640"/>
            <a:ext cx="822240" cy="228600"/>
          </a:xfrm>
          <a:custGeom>
            <a:avLst/>
            <a:gdLst>
              <a:gd name="textAreaLeft" fmla="*/ 0 w 822240"/>
              <a:gd name="textAreaRight" fmla="*/ 822600 w 822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03" h="173">
                <a:moveTo>
                  <a:pt x="503" y="1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21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Text Box 22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Line 23"/>
          <p:cNvSpPr/>
          <p:nvPr/>
        </p:nvSpPr>
        <p:spPr>
          <a:xfrm flipV="1">
            <a:off x="4140360" y="1844280"/>
            <a:ext cx="467964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24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Line 25"/>
          <p:cNvSpPr/>
          <p:nvPr/>
        </p:nvSpPr>
        <p:spPr>
          <a:xfrm>
            <a:off x="5435640" y="4869000"/>
            <a:ext cx="208908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26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Line 27"/>
          <p:cNvSpPr/>
          <p:nvPr/>
        </p:nvSpPr>
        <p:spPr>
          <a:xfrm flipV="1">
            <a:off x="4140360" y="4869000"/>
            <a:ext cx="4679640" cy="12967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Line 28"/>
          <p:cNvSpPr/>
          <p:nvPr/>
        </p:nvSpPr>
        <p:spPr>
          <a:xfrm flipH="1">
            <a:off x="5508360" y="2492280"/>
            <a:ext cx="934920" cy="3313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Line 29"/>
          <p:cNvSpPr/>
          <p:nvPr/>
        </p:nvSpPr>
        <p:spPr>
          <a:xfrm>
            <a:off x="6443640" y="2492280"/>
            <a:ext cx="0" cy="302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3000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3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3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3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3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3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3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3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3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3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Freeform 34"/>
          <p:cNvSpPr/>
          <p:nvPr/>
        </p:nvSpPr>
        <p:spPr>
          <a:xfrm>
            <a:off x="5435640" y="1844640"/>
            <a:ext cx="2089080" cy="4321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1316" h="2722">
                <a:moveTo>
                  <a:pt x="0" y="1905"/>
                </a:moveTo>
                <a:lnTo>
                  <a:pt x="0" y="0"/>
                </a:lnTo>
                <a:lnTo>
                  <a:pt x="1316" y="817"/>
                </a:lnTo>
                <a:lnTo>
                  <a:pt x="1316" y="2722"/>
                </a:lnTo>
                <a:lnTo>
                  <a:pt x="0" y="1905"/>
                </a:lnTo>
                <a:close/>
              </a:path>
            </a:pathLst>
          </a:cu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Freeform 32"/>
          <p:cNvSpPr/>
          <p:nvPr/>
        </p:nvSpPr>
        <p:spPr>
          <a:xfrm>
            <a:off x="4140360" y="1844640"/>
            <a:ext cx="4679640" cy="302436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948" h="1905">
                <a:moveTo>
                  <a:pt x="0" y="817"/>
                </a:moveTo>
                <a:lnTo>
                  <a:pt x="2948" y="0"/>
                </a:lnTo>
                <a:lnTo>
                  <a:pt x="816" y="1905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1268280"/>
            <a:ext cx="504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скрещивающимися диагоналя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B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межных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Rectangle 6"/>
          <p:cNvSpPr/>
          <p:nvPr/>
        </p:nvSpPr>
        <p:spPr>
          <a:xfrm>
            <a:off x="0" y="3789360"/>
            <a:ext cx="507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, 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7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08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2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13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17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Text Box 23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Line 24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Text Box 25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27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Freeform 33"/>
          <p:cNvSpPr/>
          <p:nvPr/>
        </p:nvSpPr>
        <p:spPr>
          <a:xfrm>
            <a:off x="4140360" y="3141720"/>
            <a:ext cx="4679640" cy="302400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948" h="1905">
                <a:moveTo>
                  <a:pt x="0" y="1905"/>
                </a:moveTo>
                <a:lnTo>
                  <a:pt x="2132" y="0"/>
                </a:lnTo>
                <a:lnTo>
                  <a:pt x="2948" y="1088"/>
                </a:lnTo>
                <a:lnTo>
                  <a:pt x="0" y="190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Line 35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Line 36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Text Box 38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Text Box 39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Rectangle 41"/>
          <p:cNvSpPr/>
          <p:nvPr/>
        </p:nvSpPr>
        <p:spPr>
          <a:xfrm>
            <a:off x="-36360" y="5300640"/>
            <a:ext cx="464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и треугольников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параллельны и перпендикулярны плоскост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Line 42"/>
          <p:cNvSpPr/>
          <p:nvPr/>
        </p:nvSpPr>
        <p:spPr>
          <a:xfrm>
            <a:off x="5435640" y="1844640"/>
            <a:ext cx="2089080" cy="4321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Freeform 37"/>
          <p:cNvSpPr/>
          <p:nvPr/>
        </p:nvSpPr>
        <p:spPr>
          <a:xfrm>
            <a:off x="6110280" y="3251160"/>
            <a:ext cx="682560" cy="1422360"/>
          </a:xfrm>
          <a:custGeom>
            <a:avLst/>
            <a:gdLst>
              <a:gd name="textAreaLeft" fmla="*/ 0 w 682560"/>
              <a:gd name="textAreaRight" fmla="*/ 682920 w 6825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30" h="896">
                <a:moveTo>
                  <a:pt x="0" y="0"/>
                </a:moveTo>
                <a:lnTo>
                  <a:pt x="430" y="8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Line 45"/>
          <p:cNvSpPr/>
          <p:nvPr/>
        </p:nvSpPr>
        <p:spPr>
          <a:xfrm flipV="1">
            <a:off x="4140360" y="1844280"/>
            <a:ext cx="4608360" cy="1297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Line 46"/>
          <p:cNvSpPr/>
          <p:nvPr/>
        </p:nvSpPr>
        <p:spPr>
          <a:xfrm>
            <a:off x="752472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30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3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1" dur="3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3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3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3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3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3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3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33"/>
          <p:cNvSpPr/>
          <p:nvPr/>
        </p:nvSpPr>
        <p:spPr>
          <a:xfrm>
            <a:off x="0" y="3284640"/>
            <a:ext cx="3673440" cy="28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Freeform 2"/>
          <p:cNvSpPr/>
          <p:nvPr/>
        </p:nvSpPr>
        <p:spPr>
          <a:xfrm>
            <a:off x="5435640" y="1844640"/>
            <a:ext cx="2089080" cy="4321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1316" h="2722">
                <a:moveTo>
                  <a:pt x="0" y="1905"/>
                </a:moveTo>
                <a:lnTo>
                  <a:pt x="0" y="0"/>
                </a:lnTo>
                <a:lnTo>
                  <a:pt x="1316" y="817"/>
                </a:lnTo>
                <a:lnTo>
                  <a:pt x="1316" y="2722"/>
                </a:lnTo>
                <a:lnTo>
                  <a:pt x="0" y="1905"/>
                </a:lnTo>
                <a:close/>
              </a:path>
            </a:pathLst>
          </a:cu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Freeform 3"/>
          <p:cNvSpPr/>
          <p:nvPr/>
        </p:nvSpPr>
        <p:spPr>
          <a:xfrm>
            <a:off x="4140360" y="1844640"/>
            <a:ext cx="4679640" cy="302436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948" h="1905">
                <a:moveTo>
                  <a:pt x="0" y="817"/>
                </a:moveTo>
                <a:lnTo>
                  <a:pt x="2948" y="0"/>
                </a:lnTo>
                <a:lnTo>
                  <a:pt x="816" y="1905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8" name="Rectangle 8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9" name="Group 9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40" name="Text Box 10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Text Box 11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Text Box 12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Text Box 13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4" name="Group 14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45" name="Text Box 15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6" name="Text Box 16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Text Box 17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Text Box 18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9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Text Box 22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23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Line 25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Freeform 26"/>
          <p:cNvSpPr/>
          <p:nvPr/>
        </p:nvSpPr>
        <p:spPr>
          <a:xfrm>
            <a:off x="4140360" y="3141720"/>
            <a:ext cx="4679640" cy="302400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948" h="1905">
                <a:moveTo>
                  <a:pt x="0" y="1905"/>
                </a:moveTo>
                <a:lnTo>
                  <a:pt x="2132" y="0"/>
                </a:lnTo>
                <a:lnTo>
                  <a:pt x="2948" y="1088"/>
                </a:lnTo>
                <a:lnTo>
                  <a:pt x="0" y="190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27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28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Text Box 30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Text Box 31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Rectangle 32"/>
          <p:cNvSpPr/>
          <p:nvPr/>
        </p:nvSpPr>
        <p:spPr>
          <a:xfrm>
            <a:off x="-36360" y="1197000"/>
            <a:ext cx="4643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Рассмотрим сечение куба плоскостью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скомое расстояние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 теореме Фалеса равно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1/3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: MN=a/√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Line 34"/>
          <p:cNvSpPr/>
          <p:nvPr/>
        </p:nvSpPr>
        <p:spPr>
          <a:xfrm flipV="1">
            <a:off x="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Line 35"/>
          <p:cNvSpPr/>
          <p:nvPr/>
        </p:nvSpPr>
        <p:spPr>
          <a:xfrm flipV="1">
            <a:off x="183528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Line 37"/>
          <p:cNvSpPr/>
          <p:nvPr/>
        </p:nvSpPr>
        <p:spPr>
          <a:xfrm>
            <a:off x="0" y="3284640"/>
            <a:ext cx="370836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Freeform 39"/>
          <p:cNvSpPr/>
          <p:nvPr/>
        </p:nvSpPr>
        <p:spPr>
          <a:xfrm>
            <a:off x="5435640" y="1844640"/>
            <a:ext cx="2082600" cy="4324320"/>
          </a:xfrm>
          <a:custGeom>
            <a:avLst/>
            <a:gdLst>
              <a:gd name="textAreaLeft" fmla="*/ 0 w 2082600"/>
              <a:gd name="textAreaRight" fmla="*/ 2082960 w 2082600"/>
              <a:gd name="textAreaTop" fmla="*/ 0 h 4324320"/>
              <a:gd name="textAreaBottom" fmla="*/ 4324680 h 4324320"/>
            </a:gdLst>
            <a:ahLst/>
            <a:rect l="textAreaLeft" t="textAreaTop" r="textAreaRight" b="textAreaBottom"/>
            <a:pathLst>
              <a:path w="1312" h="2724">
                <a:moveTo>
                  <a:pt x="0" y="0"/>
                </a:moveTo>
                <a:lnTo>
                  <a:pt x="1312" y="2724"/>
                </a:ln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Freeform 38"/>
          <p:cNvSpPr/>
          <p:nvPr/>
        </p:nvSpPr>
        <p:spPr>
          <a:xfrm>
            <a:off x="6110280" y="3251160"/>
            <a:ext cx="682560" cy="1422360"/>
          </a:xfrm>
          <a:custGeom>
            <a:avLst/>
            <a:gdLst>
              <a:gd name="textAreaLeft" fmla="*/ 0 w 682560"/>
              <a:gd name="textAreaRight" fmla="*/ 682920 w 6825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30" h="896">
                <a:moveTo>
                  <a:pt x="0" y="0"/>
                </a:moveTo>
                <a:lnTo>
                  <a:pt x="430" y="8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Freeform 36"/>
          <p:cNvSpPr/>
          <p:nvPr/>
        </p:nvSpPr>
        <p:spPr>
          <a:xfrm>
            <a:off x="1233360" y="4253040"/>
            <a:ext cx="1219320" cy="9428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768" h="594">
                <a:moveTo>
                  <a:pt x="0" y="0"/>
                </a:moveTo>
                <a:lnTo>
                  <a:pt x="768" y="5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Text Box 40"/>
          <p:cNvSpPr/>
          <p:nvPr/>
        </p:nvSpPr>
        <p:spPr>
          <a:xfrm>
            <a:off x="75564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41"/>
          <p:cNvSpPr/>
          <p:nvPr/>
        </p:nvSpPr>
        <p:spPr>
          <a:xfrm>
            <a:off x="262728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Text Box 42"/>
          <p:cNvSpPr/>
          <p:nvPr/>
        </p:nvSpPr>
        <p:spPr>
          <a:xfrm>
            <a:off x="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Text Box 43"/>
          <p:cNvSpPr/>
          <p:nvPr/>
        </p:nvSpPr>
        <p:spPr>
          <a:xfrm>
            <a:off x="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Text Box 44"/>
          <p:cNvSpPr/>
          <p:nvPr/>
        </p:nvSpPr>
        <p:spPr>
          <a:xfrm>
            <a:off x="3276720" y="292428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45"/>
          <p:cNvSpPr/>
          <p:nvPr/>
        </p:nvSpPr>
        <p:spPr>
          <a:xfrm>
            <a:off x="334800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Text Box 46"/>
          <p:cNvSpPr/>
          <p:nvPr/>
        </p:nvSpPr>
        <p:spPr>
          <a:xfrm>
            <a:off x="161928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Text Box 47"/>
          <p:cNvSpPr/>
          <p:nvPr/>
        </p:nvSpPr>
        <p:spPr>
          <a:xfrm>
            <a:off x="1547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Rectangle 48"/>
          <p:cNvSpPr/>
          <p:nvPr/>
        </p:nvSpPr>
        <p:spPr>
          <a:xfrm>
            <a:off x="0" y="6066000"/>
            <a:ext cx="9144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чание. Перпендикулярн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ледует из доказанной теоремы на первом у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3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3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3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3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3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3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3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3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3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3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3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3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Цел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Систематизация и обобщение приемов работы с пространственными объектами: прямыми , плоскостями и тел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Знакомство с новым понятием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воение и отработка общих приемов определения расстояний между скрещивающимися прям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Freeform 12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Freeform 13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бобщение приемов определения расстояний между скрещивающимися прямым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0" name="Text Box 4"/>
          <p:cNvSpPr/>
          <p:nvPr/>
        </p:nvSpPr>
        <p:spPr>
          <a:xfrm>
            <a:off x="-3636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блема. Даже в случае, если определены параллельные плоскости, в которых лежат прямые, часто трудно найти расстояние между ними –необходимо еще провести третью перпендикулярную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Line 1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Line 15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Line 16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Line 17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Freeform 18"/>
          <p:cNvSpPr/>
          <p:nvPr/>
        </p:nvSpPr>
        <p:spPr>
          <a:xfrm>
            <a:off x="5378400" y="3084480"/>
            <a:ext cx="706320" cy="2360520"/>
          </a:xfrm>
          <a:custGeom>
            <a:avLst/>
            <a:gdLst>
              <a:gd name="textAreaLeft" fmla="*/ 0 w 706320"/>
              <a:gd name="textAreaRight" fmla="*/ 706320 w 7063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445" h="1487">
                <a:moveTo>
                  <a:pt x="0" y="0"/>
                </a:moveTo>
                <a:lnTo>
                  <a:pt x="445" y="1487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Line 19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Freeform 22"/>
          <p:cNvSpPr/>
          <p:nvPr/>
        </p:nvSpPr>
        <p:spPr>
          <a:xfrm>
            <a:off x="4978440" y="2409840"/>
            <a:ext cx="1538280" cy="354024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3540240"/>
              <a:gd name="textAreaBottom" fmla="*/ 3540600 h 3540240"/>
            </a:gdLst>
            <a:ahLst/>
            <a:rect l="textAreaLeft" t="textAreaTop" r="textAreaRight" b="textAreaBottom"/>
            <a:pathLst>
              <a:path w="969" h="2230">
                <a:moveTo>
                  <a:pt x="969" y="1504"/>
                </a:moveTo>
                <a:lnTo>
                  <a:pt x="16" y="2230"/>
                </a:lnTo>
                <a:lnTo>
                  <a:pt x="0" y="749"/>
                </a:lnTo>
                <a:lnTo>
                  <a:pt x="969" y="0"/>
                </a:lnTo>
                <a:lnTo>
                  <a:pt x="969" y="1504"/>
                </a:lnTo>
                <a:close/>
              </a:path>
            </a:pathLst>
          </a:custGeom>
          <a:solidFill>
            <a:srgbClr val="c1d8e5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108000" y="59500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ля решения проблемы достаточно провести эту плоскость перпендикулярно к одной из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3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3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3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3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3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3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Freeform 2"/>
          <p:cNvSpPr/>
          <p:nvPr/>
        </p:nvSpPr>
        <p:spPr>
          <a:xfrm>
            <a:off x="4067280" y="1700280"/>
            <a:ext cx="581040" cy="3135240"/>
          </a:xfrm>
          <a:custGeom>
            <a:avLst/>
            <a:gdLst>
              <a:gd name="textAreaLeft" fmla="*/ 0 w 581040"/>
              <a:gd name="textAreaRight" fmla="*/ 581400 w 581040"/>
              <a:gd name="textAreaTop" fmla="*/ 0 h 3135240"/>
              <a:gd name="textAreaBottom" fmla="*/ 3135600 h 3135240"/>
            </a:gdLst>
            <a:ahLst/>
            <a:rect l="textAreaLeft" t="textAreaTop" r="textAreaRight" b="textAreaBottom"/>
            <a:pathLst>
              <a:path w="366" h="1975">
                <a:moveTo>
                  <a:pt x="0" y="1975"/>
                </a:moveTo>
                <a:lnTo>
                  <a:pt x="366" y="0"/>
                </a:lnTo>
                <a:lnTo>
                  <a:pt x="356" y="1564"/>
                </a:lnTo>
                <a:lnTo>
                  <a:pt x="0" y="1975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Freeform 3"/>
          <p:cNvSpPr/>
          <p:nvPr/>
        </p:nvSpPr>
        <p:spPr>
          <a:xfrm>
            <a:off x="4643280" y="4221000"/>
            <a:ext cx="4167360" cy="136692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625" h="861">
                <a:moveTo>
                  <a:pt x="1912" y="861"/>
                </a:moveTo>
                <a:lnTo>
                  <a:pt x="0" y="0"/>
                </a:lnTo>
                <a:lnTo>
                  <a:pt x="2625" y="2"/>
                </a:lnTo>
                <a:lnTo>
                  <a:pt x="1912" y="861"/>
                </a:lnTo>
                <a:close/>
              </a:path>
            </a:pathLst>
          </a:cu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Line 7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Line 8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Freeform 11"/>
          <p:cNvSpPr/>
          <p:nvPr/>
        </p:nvSpPr>
        <p:spPr>
          <a:xfrm>
            <a:off x="4049640" y="4238640"/>
            <a:ext cx="550800" cy="623880"/>
          </a:xfrm>
          <a:custGeom>
            <a:avLst/>
            <a:gdLst>
              <a:gd name="textAreaLeft" fmla="*/ 0 w 550800"/>
              <a:gd name="textAreaRight" fmla="*/ 551160 w 550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47" h="393">
                <a:moveTo>
                  <a:pt x="347" y="0"/>
                </a:moveTo>
                <a:lnTo>
                  <a:pt x="0" y="393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Line 12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Text Box 13"/>
          <p:cNvSpPr/>
          <p:nvPr/>
        </p:nvSpPr>
        <p:spPr>
          <a:xfrm>
            <a:off x="-36360" y="1773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ую параллельн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на неё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Text Box 14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Text Box 18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Text Box 19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Text Box 20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Freeform 21"/>
          <p:cNvSpPr/>
          <p:nvPr/>
        </p:nvSpPr>
        <p:spPr>
          <a:xfrm>
            <a:off x="4067280" y="1773360"/>
            <a:ext cx="3600360" cy="381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268" h="2404">
                <a:moveTo>
                  <a:pt x="0" y="1950"/>
                </a:moveTo>
                <a:lnTo>
                  <a:pt x="363" y="0"/>
                </a:lnTo>
                <a:lnTo>
                  <a:pt x="2268" y="2404"/>
                </a:lnTo>
                <a:lnTo>
                  <a:pt x="0" y="195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Text Box 22"/>
          <p:cNvSpPr/>
          <p:nvPr/>
        </p:nvSpPr>
        <p:spPr>
          <a:xfrm>
            <a:off x="34920" y="393372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о теореме о трех перпендикуля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A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в которой лежит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Text Box 23"/>
          <p:cNvSpPr/>
          <p:nvPr/>
        </p:nvSpPr>
        <p:spPr>
          <a:xfrm>
            <a:off x="108000" y="59500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ходится на расстояни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равном длине перпендикуля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3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3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3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5" dur="3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3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3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Freeform 2"/>
          <p:cNvSpPr/>
          <p:nvPr/>
        </p:nvSpPr>
        <p:spPr>
          <a:xfrm>
            <a:off x="4049640" y="1755720"/>
            <a:ext cx="581040" cy="3135240"/>
          </a:xfrm>
          <a:custGeom>
            <a:avLst/>
            <a:gdLst>
              <a:gd name="textAreaLeft" fmla="*/ 0 w 581040"/>
              <a:gd name="textAreaRight" fmla="*/ 581400 w 581040"/>
              <a:gd name="textAreaTop" fmla="*/ 0 h 3135240"/>
              <a:gd name="textAreaBottom" fmla="*/ 3135600 h 3135240"/>
            </a:gdLst>
            <a:ahLst/>
            <a:rect l="textAreaLeft" t="textAreaTop" r="textAreaRight" b="textAreaBottom"/>
            <a:pathLst>
              <a:path w="366" h="1975">
                <a:moveTo>
                  <a:pt x="0" y="1975"/>
                </a:moveTo>
                <a:lnTo>
                  <a:pt x="366" y="0"/>
                </a:lnTo>
                <a:lnTo>
                  <a:pt x="356" y="1564"/>
                </a:lnTo>
                <a:lnTo>
                  <a:pt x="0" y="1975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Freeform 3"/>
          <p:cNvSpPr/>
          <p:nvPr/>
        </p:nvSpPr>
        <p:spPr>
          <a:xfrm>
            <a:off x="4643280" y="4221000"/>
            <a:ext cx="4167360" cy="136692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625" h="861">
                <a:moveTo>
                  <a:pt x="1912" y="861"/>
                </a:moveTo>
                <a:lnTo>
                  <a:pt x="0" y="0"/>
                </a:lnTo>
                <a:lnTo>
                  <a:pt x="2625" y="2"/>
                </a:lnTo>
                <a:lnTo>
                  <a:pt x="1912" y="861"/>
                </a:lnTo>
                <a:close/>
              </a:path>
            </a:pathLst>
          </a:cu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4" name="Line 6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Line 7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Line 8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Line 9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Freeform 10"/>
          <p:cNvSpPr/>
          <p:nvPr/>
        </p:nvSpPr>
        <p:spPr>
          <a:xfrm>
            <a:off x="4049640" y="4238640"/>
            <a:ext cx="550800" cy="623880"/>
          </a:xfrm>
          <a:custGeom>
            <a:avLst/>
            <a:gdLst>
              <a:gd name="textAreaLeft" fmla="*/ 0 w 550800"/>
              <a:gd name="textAreaRight" fmla="*/ 551160 w 550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47" h="393">
                <a:moveTo>
                  <a:pt x="347" y="0"/>
                </a:moveTo>
                <a:lnTo>
                  <a:pt x="0" y="393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Line 11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Text Box 13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Text Box 14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Text Box 15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Text Box 16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Text Box 17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Text Box 18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Text Box 19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Freeform 20"/>
          <p:cNvSpPr/>
          <p:nvPr/>
        </p:nvSpPr>
        <p:spPr>
          <a:xfrm>
            <a:off x="4067280" y="1773360"/>
            <a:ext cx="3600360" cy="381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268" h="2404">
                <a:moveTo>
                  <a:pt x="0" y="1950"/>
                </a:moveTo>
                <a:lnTo>
                  <a:pt x="363" y="0"/>
                </a:lnTo>
                <a:lnTo>
                  <a:pt x="2268" y="2404"/>
                </a:lnTo>
                <a:lnTo>
                  <a:pt x="0" y="195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-108000" y="256536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им длину отрез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площад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лин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.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-36360" y="3933720"/>
            <a:ext cx="2520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=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4, DK=√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∙a/2, BN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/DK BN=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√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3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3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3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Freeform 16"/>
          <p:cNvSpPr/>
          <p:nvPr/>
        </p:nvSpPr>
        <p:spPr>
          <a:xfrm>
            <a:off x="3645000" y="3379680"/>
            <a:ext cx="5238720" cy="290196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2901960"/>
              <a:gd name="textAreaBottom" fmla="*/ 2901960 h 2901960"/>
            </a:gdLst>
            <a:ahLst/>
            <a:rect l="textAreaLeft" t="textAreaTop" r="textAreaRight" b="textAreaBottom"/>
            <a:pathLst>
              <a:path w="3300" h="1828">
                <a:moveTo>
                  <a:pt x="0" y="767"/>
                </a:moveTo>
                <a:cubicBezTo>
                  <a:pt x="1" y="668"/>
                  <a:pt x="96" y="436"/>
                  <a:pt x="186" y="329"/>
                </a:cubicBezTo>
                <a:cubicBezTo>
                  <a:pt x="276" y="222"/>
                  <a:pt x="378" y="172"/>
                  <a:pt x="539" y="122"/>
                </a:cubicBezTo>
                <a:cubicBezTo>
                  <a:pt x="700" y="72"/>
                  <a:pt x="958" y="0"/>
                  <a:pt x="1152" y="29"/>
                </a:cubicBezTo>
                <a:cubicBezTo>
                  <a:pt x="1346" y="58"/>
                  <a:pt x="1496" y="205"/>
                  <a:pt x="1704" y="297"/>
                </a:cubicBezTo>
                <a:cubicBezTo>
                  <a:pt x="1912" y="389"/>
                  <a:pt x="2174" y="501"/>
                  <a:pt x="2401" y="581"/>
                </a:cubicBezTo>
                <a:cubicBezTo>
                  <a:pt x="2628" y="661"/>
                  <a:pt x="2921" y="641"/>
                  <a:pt x="3066" y="775"/>
                </a:cubicBezTo>
                <a:cubicBezTo>
                  <a:pt x="3211" y="909"/>
                  <a:pt x="3300" y="1218"/>
                  <a:pt x="3269" y="1384"/>
                </a:cubicBezTo>
                <a:cubicBezTo>
                  <a:pt x="3238" y="1550"/>
                  <a:pt x="3073" y="1718"/>
                  <a:pt x="2880" y="1773"/>
                </a:cubicBezTo>
                <a:cubicBezTo>
                  <a:pt x="2687" y="1828"/>
                  <a:pt x="2325" y="1778"/>
                  <a:pt x="2109" y="1716"/>
                </a:cubicBezTo>
                <a:cubicBezTo>
                  <a:pt x="1893" y="1654"/>
                  <a:pt x="1745" y="1478"/>
                  <a:pt x="1582" y="1400"/>
                </a:cubicBezTo>
                <a:cubicBezTo>
                  <a:pt x="1419" y="1322"/>
                  <a:pt x="1309" y="1281"/>
                  <a:pt x="1128" y="1246"/>
                </a:cubicBezTo>
                <a:cubicBezTo>
                  <a:pt x="947" y="1211"/>
                  <a:pt x="659" y="1216"/>
                  <a:pt x="495" y="1189"/>
                </a:cubicBezTo>
                <a:cubicBezTo>
                  <a:pt x="331" y="1162"/>
                  <a:pt x="228" y="1154"/>
                  <a:pt x="146" y="1084"/>
                </a:cubicBezTo>
                <a:cubicBezTo>
                  <a:pt x="64" y="1014"/>
                  <a:pt x="30" y="833"/>
                  <a:pt x="0" y="76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флексия. Осмысление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-36360" y="1628640"/>
            <a:ext cx="421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енный способ последней задачи носит обобщенный характ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Если не проходят более элементарные приемы, то последний  способ часто оказывается решающ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Text Box 12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Text Box 13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Text Box 14"/>
          <p:cNvSpPr/>
          <p:nvPr/>
        </p:nvSpPr>
        <p:spPr>
          <a:xfrm>
            <a:off x="-36360" y="443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дея этого приема связана с двумя дополнительными объектами: а) плоскостью, в которой лежит одна из прямых. б) перпендикуляром к ней, через который проходит вторая прям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Text Box 15"/>
          <p:cNvSpPr/>
          <p:nvPr/>
        </p:nvSpPr>
        <p:spPr>
          <a:xfrm>
            <a:off x="10800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Запомните последнюю картин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3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3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3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3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3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Freeform 2"/>
          <p:cNvSpPr/>
          <p:nvPr/>
        </p:nvSpPr>
        <p:spPr>
          <a:xfrm>
            <a:off x="3416400" y="3470400"/>
            <a:ext cx="5467320" cy="281124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2811240"/>
              <a:gd name="textAreaBottom" fmla="*/ 2811240 h 2811240"/>
            </a:gdLst>
            <a:ahLst/>
            <a:rect l="textAreaLeft" t="textAreaTop" r="textAreaRight" b="textAreaBottom"/>
            <a:pathLst>
              <a:path w="3444" h="1771">
                <a:moveTo>
                  <a:pt x="22" y="662"/>
                </a:moveTo>
                <a:cubicBezTo>
                  <a:pt x="45" y="540"/>
                  <a:pt x="131" y="364"/>
                  <a:pt x="241" y="264"/>
                </a:cubicBezTo>
                <a:cubicBezTo>
                  <a:pt x="351" y="164"/>
                  <a:pt x="498" y="104"/>
                  <a:pt x="683" y="65"/>
                </a:cubicBezTo>
                <a:cubicBezTo>
                  <a:pt x="868" y="26"/>
                  <a:pt x="1159" y="0"/>
                  <a:pt x="1353" y="29"/>
                </a:cubicBezTo>
                <a:cubicBezTo>
                  <a:pt x="1547" y="58"/>
                  <a:pt x="1649" y="158"/>
                  <a:pt x="1848" y="240"/>
                </a:cubicBezTo>
                <a:cubicBezTo>
                  <a:pt x="2047" y="322"/>
                  <a:pt x="2318" y="444"/>
                  <a:pt x="2545" y="524"/>
                </a:cubicBezTo>
                <a:cubicBezTo>
                  <a:pt x="2772" y="604"/>
                  <a:pt x="3065" y="584"/>
                  <a:pt x="3210" y="718"/>
                </a:cubicBezTo>
                <a:cubicBezTo>
                  <a:pt x="3355" y="852"/>
                  <a:pt x="3444" y="1161"/>
                  <a:pt x="3413" y="1327"/>
                </a:cubicBezTo>
                <a:cubicBezTo>
                  <a:pt x="3382" y="1493"/>
                  <a:pt x="3217" y="1661"/>
                  <a:pt x="3024" y="1716"/>
                </a:cubicBezTo>
                <a:cubicBezTo>
                  <a:pt x="2831" y="1771"/>
                  <a:pt x="2469" y="1721"/>
                  <a:pt x="2253" y="1659"/>
                </a:cubicBezTo>
                <a:cubicBezTo>
                  <a:pt x="2037" y="1597"/>
                  <a:pt x="1889" y="1421"/>
                  <a:pt x="1726" y="1343"/>
                </a:cubicBezTo>
                <a:cubicBezTo>
                  <a:pt x="1563" y="1265"/>
                  <a:pt x="1453" y="1224"/>
                  <a:pt x="1272" y="1189"/>
                </a:cubicBezTo>
                <a:cubicBezTo>
                  <a:pt x="1091" y="1154"/>
                  <a:pt x="834" y="1164"/>
                  <a:pt x="639" y="1132"/>
                </a:cubicBezTo>
                <a:cubicBezTo>
                  <a:pt x="444" y="1100"/>
                  <a:pt x="206" y="1072"/>
                  <a:pt x="103" y="994"/>
                </a:cubicBezTo>
                <a:cubicBezTo>
                  <a:pt x="0" y="916"/>
                  <a:pt x="39" y="731"/>
                  <a:pt x="22" y="66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риентировочная основа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0" y="177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вый этап: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ямой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Line 13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14"/>
          <p:cNvSpPr/>
          <p:nvPr/>
        </p:nvSpPr>
        <p:spPr>
          <a:xfrm>
            <a:off x="0" y="3068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торой этап: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опустим перпендикуляр 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Text Box 15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Line 16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Text Box 17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Text Box 18"/>
          <p:cNvSpPr/>
          <p:nvPr/>
        </p:nvSpPr>
        <p:spPr>
          <a:xfrm>
            <a:off x="0" y="45752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тий этап: в прямоугольном треугольни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Его длина и будет равна расстоянию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Freeform 19"/>
          <p:cNvSpPr/>
          <p:nvPr/>
        </p:nvSpPr>
        <p:spPr>
          <a:xfrm>
            <a:off x="4067280" y="1773360"/>
            <a:ext cx="576000" cy="3168360"/>
          </a:xfrm>
          <a:custGeom>
            <a:avLst/>
            <a:gdLst>
              <a:gd name="textAreaLeft" fmla="*/ 0 w 576000"/>
              <a:gd name="textAreaRight" fmla="*/ 576360 w 576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63" h="1996">
                <a:moveTo>
                  <a:pt x="363" y="1542"/>
                </a:moveTo>
                <a:lnTo>
                  <a:pt x="363" y="0"/>
                </a:lnTo>
                <a:lnTo>
                  <a:pt x="0" y="1996"/>
                </a:lnTo>
                <a:lnTo>
                  <a:pt x="363" y="154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Line 20"/>
          <p:cNvSpPr/>
          <p:nvPr/>
        </p:nvSpPr>
        <p:spPr>
          <a:xfrm flipH="1" flipV="1">
            <a:off x="4211280" y="4076280"/>
            <a:ext cx="43164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Text Box 21"/>
          <p:cNvSpPr/>
          <p:nvPr/>
        </p:nvSpPr>
        <p:spPr>
          <a:xfrm>
            <a:off x="421164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0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3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3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3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2" dur="3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3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3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3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3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3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3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3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3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Freeform 2"/>
          <p:cNvSpPr/>
          <p:nvPr/>
        </p:nvSpPr>
        <p:spPr>
          <a:xfrm>
            <a:off x="3416400" y="3470400"/>
            <a:ext cx="5467320" cy="281124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2811240"/>
              <a:gd name="textAreaBottom" fmla="*/ 2811240 h 2811240"/>
            </a:gdLst>
            <a:ahLst/>
            <a:rect l="textAreaLeft" t="textAreaTop" r="textAreaRight" b="textAreaBottom"/>
            <a:pathLst>
              <a:path w="3444" h="1771">
                <a:moveTo>
                  <a:pt x="22" y="662"/>
                </a:moveTo>
                <a:cubicBezTo>
                  <a:pt x="45" y="540"/>
                  <a:pt x="131" y="364"/>
                  <a:pt x="241" y="264"/>
                </a:cubicBezTo>
                <a:cubicBezTo>
                  <a:pt x="351" y="164"/>
                  <a:pt x="498" y="104"/>
                  <a:pt x="683" y="65"/>
                </a:cubicBezTo>
                <a:cubicBezTo>
                  <a:pt x="868" y="26"/>
                  <a:pt x="1159" y="0"/>
                  <a:pt x="1353" y="29"/>
                </a:cubicBezTo>
                <a:cubicBezTo>
                  <a:pt x="1547" y="58"/>
                  <a:pt x="1649" y="158"/>
                  <a:pt x="1848" y="240"/>
                </a:cubicBezTo>
                <a:cubicBezTo>
                  <a:pt x="2047" y="322"/>
                  <a:pt x="2318" y="444"/>
                  <a:pt x="2545" y="524"/>
                </a:cubicBezTo>
                <a:cubicBezTo>
                  <a:pt x="2772" y="604"/>
                  <a:pt x="3065" y="584"/>
                  <a:pt x="3210" y="718"/>
                </a:cubicBezTo>
                <a:cubicBezTo>
                  <a:pt x="3355" y="852"/>
                  <a:pt x="3444" y="1161"/>
                  <a:pt x="3413" y="1327"/>
                </a:cubicBezTo>
                <a:cubicBezTo>
                  <a:pt x="3382" y="1493"/>
                  <a:pt x="3217" y="1661"/>
                  <a:pt x="3024" y="1716"/>
                </a:cubicBezTo>
                <a:cubicBezTo>
                  <a:pt x="2831" y="1771"/>
                  <a:pt x="2469" y="1721"/>
                  <a:pt x="2253" y="1659"/>
                </a:cubicBezTo>
                <a:cubicBezTo>
                  <a:pt x="2037" y="1597"/>
                  <a:pt x="1889" y="1421"/>
                  <a:pt x="1726" y="1343"/>
                </a:cubicBezTo>
                <a:cubicBezTo>
                  <a:pt x="1563" y="1265"/>
                  <a:pt x="1453" y="1224"/>
                  <a:pt x="1272" y="1189"/>
                </a:cubicBezTo>
                <a:cubicBezTo>
                  <a:pt x="1091" y="1154"/>
                  <a:pt x="834" y="1164"/>
                  <a:pt x="639" y="1132"/>
                </a:cubicBezTo>
                <a:cubicBezTo>
                  <a:pt x="444" y="1100"/>
                  <a:pt x="206" y="1072"/>
                  <a:pt x="103" y="994"/>
                </a:cubicBezTo>
                <a:cubicBezTo>
                  <a:pt x="0" y="916"/>
                  <a:pt x="39" y="731"/>
                  <a:pt x="22" y="66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Как найти точки на скрещивающихся прямых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AD 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и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BM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, ближайшие друг к другу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Text Box 8"/>
          <p:cNvSpPr/>
          <p:nvPr/>
        </p:nvSpPr>
        <p:spPr>
          <a:xfrm>
            <a:off x="0" y="206064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(в плоскости 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Line 15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Text Box 17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Line 18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Text Box 21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Text Box 22"/>
          <p:cNvSpPr/>
          <p:nvPr/>
        </p:nvSpPr>
        <p:spPr>
          <a:xfrm>
            <a:off x="0" y="3844800"/>
            <a:ext cx="42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носим параллельно вдоль прямой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Новые положения точе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будут ближайшими друг к другу  точками прямы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Freeform 23"/>
          <p:cNvSpPr/>
          <p:nvPr/>
        </p:nvSpPr>
        <p:spPr>
          <a:xfrm>
            <a:off x="4067280" y="1773360"/>
            <a:ext cx="576000" cy="3168360"/>
          </a:xfrm>
          <a:custGeom>
            <a:avLst/>
            <a:gdLst>
              <a:gd name="textAreaLeft" fmla="*/ 0 w 576000"/>
              <a:gd name="textAreaRight" fmla="*/ 576360 w 576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63" h="1996">
                <a:moveTo>
                  <a:pt x="363" y="1542"/>
                </a:moveTo>
                <a:lnTo>
                  <a:pt x="363" y="0"/>
                </a:lnTo>
                <a:lnTo>
                  <a:pt x="0" y="1996"/>
                </a:lnTo>
                <a:lnTo>
                  <a:pt x="363" y="1542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Line 24"/>
          <p:cNvSpPr/>
          <p:nvPr/>
        </p:nvSpPr>
        <p:spPr>
          <a:xfrm flipH="1" flipV="1">
            <a:off x="4284720" y="3860280"/>
            <a:ext cx="3585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Text Box 25"/>
          <p:cNvSpPr/>
          <p:nvPr/>
        </p:nvSpPr>
        <p:spPr>
          <a:xfrm>
            <a:off x="4211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Line 26"/>
          <p:cNvSpPr/>
          <p:nvPr/>
        </p:nvSpPr>
        <p:spPr>
          <a:xfrm>
            <a:off x="4284720" y="3860640"/>
            <a:ext cx="2374920" cy="43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65964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3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3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3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3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3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3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3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3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3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3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3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3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1" dur="5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3" dur="5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5" dur="5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7" dur="5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Freeform 45"/>
          <p:cNvSpPr/>
          <p:nvPr/>
        </p:nvSpPr>
        <p:spPr>
          <a:xfrm>
            <a:off x="3780000" y="2781360"/>
            <a:ext cx="3384360" cy="135576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132" h="854">
                <a:moveTo>
                  <a:pt x="0" y="0"/>
                </a:moveTo>
                <a:lnTo>
                  <a:pt x="2132" y="0"/>
                </a:lnTo>
                <a:lnTo>
                  <a:pt x="1587" y="854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Rectangle 2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 на закрепление обобщеннного способ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8" name="Text Box 8"/>
          <p:cNvSpPr/>
          <p:nvPr/>
        </p:nvSpPr>
        <p:spPr>
          <a:xfrm>
            <a:off x="0" y="1341360"/>
            <a:ext cx="514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кубе с длиной реб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=5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реб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зяты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соответственно. Найдите расстояние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есл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K=4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9" name="Group 24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390" name="Text Box 25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1" name="Text Box 26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2" name="Text Box 27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3" name="Text Box 28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4" name="Group 29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395" name="Text Box 30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6" name="Text Box 31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7" name="Text Box 32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8" name="Text Box 33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9" name="Line 34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35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Line 36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Text Box 37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Line 38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Line 39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Line 40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Text Box 43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Text Box 44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Text Box 47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Text Box 48"/>
          <p:cNvSpPr/>
          <p:nvPr/>
        </p:nvSpPr>
        <p:spPr>
          <a:xfrm>
            <a:off x="0" y="3068640"/>
            <a:ext cx="5148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c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прям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||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на неё опустим перпендикуляр до 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Высот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ает искомое рассто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Line 50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Freeform 41"/>
          <p:cNvSpPr/>
          <p:nvPr/>
        </p:nvSpPr>
        <p:spPr>
          <a:xfrm>
            <a:off x="6156360" y="3789360"/>
            <a:ext cx="1008000" cy="273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35280"/>
              <a:gd name="textAreaBottom" fmla="*/ 2735280 h 2735280"/>
            </a:gdLst>
            <a:ahLst/>
            <a:rect l="textAreaLeft" t="textAreaTop" r="textAreaRight" b="textAreaBottom"/>
            <a:pathLst>
              <a:path w="938" h="2510">
                <a:moveTo>
                  <a:pt x="0" y="0"/>
                </a:moveTo>
                <a:lnTo>
                  <a:pt x="938" y="251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Line 46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Line 51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Text Box 52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3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3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3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3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3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3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6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3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3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Freeform 2"/>
          <p:cNvSpPr/>
          <p:nvPr/>
        </p:nvSpPr>
        <p:spPr>
          <a:xfrm>
            <a:off x="3780000" y="2781360"/>
            <a:ext cx="3384360" cy="135576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132" h="854">
                <a:moveTo>
                  <a:pt x="0" y="0"/>
                </a:moveTo>
                <a:lnTo>
                  <a:pt x="2132" y="0"/>
                </a:lnTo>
                <a:lnTo>
                  <a:pt x="1587" y="854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Rectangle 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шение задачи на закрепл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420" name="Text Box 8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1" name="Text Box 9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2" name="Text Box 10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3" name="Text Box 11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4" name="Group 12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425" name="Text Box 13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6" name="Text Box 14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7" name="Text Box 15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8" name="Text Box 16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9" name="Line 17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Text Box 18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Text Box 20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Text Box 24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Text Box 26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Text Box 28"/>
          <p:cNvSpPr/>
          <p:nvPr/>
        </p:nvSpPr>
        <p:spPr>
          <a:xfrm>
            <a:off x="0" y="1413000"/>
            <a:ext cx="55800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ения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=DM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4=15/4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E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27/4. EH=45√3/2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2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Line 29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Freeform 30"/>
          <p:cNvSpPr/>
          <p:nvPr/>
        </p:nvSpPr>
        <p:spPr>
          <a:xfrm>
            <a:off x="6156360" y="3789360"/>
            <a:ext cx="1008000" cy="273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35280"/>
              <a:gd name="textAreaBottom" fmla="*/ 2735280 h 2735280"/>
            </a:gdLst>
            <a:ahLst/>
            <a:rect l="textAreaLeft" t="textAreaTop" r="textAreaRight" b="textAreaBottom"/>
            <a:pathLst>
              <a:path w="938" h="2510">
                <a:moveTo>
                  <a:pt x="0" y="0"/>
                </a:moveTo>
                <a:lnTo>
                  <a:pt x="938" y="251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Line 31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Line 32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Text Box 33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0" y="3357720"/>
            <a:ext cx="493236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EH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√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+25/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10/√3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(2√3).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/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10=5/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Text Box 35"/>
          <p:cNvSpPr/>
          <p:nvPr/>
        </p:nvSpPr>
        <p:spPr>
          <a:xfrm>
            <a:off x="0" y="5119560"/>
            <a:ext cx="4932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ценка ответа на смысл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,5 &lt;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Проверим путем параллельного перенос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до пересечения с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36"/>
          <p:cNvSpPr/>
          <p:nvPr/>
        </p:nvSpPr>
        <p:spPr>
          <a:xfrm>
            <a:off x="5724360" y="3789360"/>
            <a:ext cx="64800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nodeType="clickEffect" fill="hold">
                      <p:stCondLst>
                        <p:cond delay="0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3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3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3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3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3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3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3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3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3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3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98844E-006 L 0.07084 0.2726 E">
                                      <p:cBhvr>
                                        <p:cTn id="1680" dur="3000" fill="hold"/>
                                        <p:tgtEl>
                                          <p:spTgt spid="1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Задач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532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тная работа по актуализация необходимых известных приемов работы с пространственными объектами: прямыми и плоскост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Определение нового понятия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типовых задач на определение расстояний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проблемной задачи на обобщение приема нахождения расстояния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Средства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Модели пространственных фигур, чертежи к задач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еорема Фалеса и теорема о трех перпендикуляр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риемы стерео и планиметрических постро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иповые и проблемные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Компьютер с мультимедийным проекто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План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425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ервый уро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Актуализация: выполнение устных заданий, доказательство теоремы,  решение зада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Определение и усвоение нового по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торой урок . Решение типовых задач на усвоение и отработку нового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ретий урок. Проблемная задача на обобщение приема нахождения расстояния между двумя скрещивающимися прямы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Freeform 8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Line 10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Line 11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Line 12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6" name="Group 19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37" name="Text Box 15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Text Box 16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Text Box 18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1" name="Group 2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42" name="Text Box 2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Text Box 2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Text Box 2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Text Box 2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6" name="Text Box 25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395280" y="1557360"/>
            <a:ext cx="316872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ы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324000" y="3716280"/>
            <a:ext cx="316836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Freeform 31"/>
          <p:cNvSpPr/>
          <p:nvPr/>
        </p:nvSpPr>
        <p:spPr>
          <a:xfrm>
            <a:off x="3780000" y="184464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Freeform 33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3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Freeform 27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3780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Freeform 31"/>
          <p:cNvSpPr/>
          <p:nvPr/>
        </p:nvSpPr>
        <p:spPr>
          <a:xfrm>
            <a:off x="3780000" y="479736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ff00">
              <a:alpha val="7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8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9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10"/>
          <p:cNvSpPr/>
          <p:nvPr/>
        </p:nvSpPr>
        <p:spPr>
          <a:xfrm flipH="1" flipV="1">
            <a:off x="6588000" y="1844280"/>
            <a:ext cx="648000" cy="129708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11"/>
          <p:cNvSpPr/>
          <p:nvPr/>
        </p:nvSpPr>
        <p:spPr>
          <a:xfrm flipH="1" flipV="1">
            <a:off x="5076720" y="3357360"/>
            <a:ext cx="3456000" cy="1439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7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68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2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73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7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324000" y="170028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Установите все пары: прямая и параллельная ей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Freeform 30"/>
          <p:cNvSpPr/>
          <p:nvPr/>
        </p:nvSpPr>
        <p:spPr>
          <a:xfrm>
            <a:off x="3780000" y="184464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Freeform 5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3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3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8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9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90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4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95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9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Text Box 26"/>
          <p:cNvSpPr/>
          <p:nvPr/>
        </p:nvSpPr>
        <p:spPr>
          <a:xfrm>
            <a:off x="179280" y="155736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определяется расстояние между прямой и параллельной ей плоскост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Line 27"/>
          <p:cNvSpPr/>
          <p:nvPr/>
        </p:nvSpPr>
        <p:spPr>
          <a:xfrm flipH="1">
            <a:off x="5076720" y="1844640"/>
            <a:ext cx="1440000" cy="172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Freeform 29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179280" y="299736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179280" y="414972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179280" y="5300640"/>
            <a:ext cx="385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3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Freeform 5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10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15" name="Text Box 11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Text Box 12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3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Text Box 14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9" name="Group 15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20" name="Text Box 16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Text Box 19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4" name="Text Box 21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Text Box 24"/>
          <p:cNvSpPr/>
          <p:nvPr/>
        </p:nvSpPr>
        <p:spPr>
          <a:xfrm>
            <a:off x="250920" y="162864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можно определить расстояние между скрещивающимися прямыми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Line 26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Line 27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Line 28"/>
          <p:cNvSpPr/>
          <p:nvPr/>
        </p:nvSpPr>
        <p:spPr>
          <a:xfrm flipV="1">
            <a:off x="3780000" y="2565000"/>
            <a:ext cx="576000" cy="35276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29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Line 30"/>
          <p:cNvSpPr/>
          <p:nvPr/>
        </p:nvSpPr>
        <p:spPr>
          <a:xfrm flipV="1">
            <a:off x="3780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Freeform 34"/>
          <p:cNvSpPr/>
          <p:nvPr/>
        </p:nvSpPr>
        <p:spPr>
          <a:xfrm>
            <a:off x="3780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7236000" y="3141720"/>
            <a:ext cx="1295280" cy="16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Text Box 37"/>
          <p:cNvSpPr/>
          <p:nvPr/>
        </p:nvSpPr>
        <p:spPr>
          <a:xfrm>
            <a:off x="250920" y="3141720"/>
            <a:ext cx="3851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ы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8"/>
          <p:cNvSpPr/>
          <p:nvPr/>
        </p:nvSpPr>
        <p:spPr>
          <a:xfrm>
            <a:off x="324000" y="4581360"/>
            <a:ext cx="3851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3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3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3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3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3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3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3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8:56Z</dcterms:modified>
  <cp:revision>27</cp:revision>
  <dc:subject/>
  <dc:title>PowerPoint Presentation</dc:title>
</cp:coreProperties>
</file>