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F374-9DD2-4B27-8862-F80341E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A4E2-7C6D-4097-9E51-5E43186D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7C2A0-6E4A-458D-9F1B-C0A7AA8A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3214-63A0-4222-A396-E22EB776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07E0-8EAB-4D70-9D8B-7A05473E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AF3-2A46-457A-9B81-77176340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428E-821C-4891-BA74-20AE3B88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944C-8D99-4402-BA25-1CE9B883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459A-8D6D-4792-8A89-823724F0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5A7A-E292-465E-ACEE-668A8254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656B-033F-4ACF-A728-2B16DE9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3415-2936-41D9-A536-6129CE97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0E3-D287-44E7-956A-0BB2651E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EF61-5C06-4262-A0E2-AD422CB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CD1-4F0E-4C1E-8E22-9B286E91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F07A-9C0A-4F02-B460-6EC1895E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6C29-7B37-498F-947C-2AB7A682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8B90-18A9-4BFA-B6F8-C4CB7C00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68BE-FF46-49F2-9A99-9E0FC052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8931-137F-40C9-B276-8D7CE3B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FB6A-16C3-4779-AC3F-0A60FA2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AF2A-6538-4B7D-8F80-8B2AD82C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27A4-CC3E-4CA3-A78A-2CCEBD47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74D1-DA24-4C03-8BE2-DBAA03E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E335-6942-46CE-91A0-2FA60C9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3E61-F360-43AB-B4B4-62F463A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871A-91DA-44EC-BAC2-C480FFCA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34EA6-D088-46F9-A509-8367FD45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FD67-3527-4886-8007-9C89E80F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4848-74BD-4F00-8B8B-F134D332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A039-BF84-41CF-AC50-DB3785A2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80998-4AB5-43E0-89C1-42C89D76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7648-EBAF-4A3E-942F-5103C6A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BBD4-8E5D-4D1B-B273-BC00E3CF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1427-CD62-4BB0-8881-04017D8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C5182-EBF0-4358-9C09-B60C3CC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B7941-459B-41CD-9255-8EC68401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6A43-6AF8-4142-9F1C-26FEEFD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6EF8-B320-4B9E-95AA-750069C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3F98-F27E-4DBB-AE7B-51378C4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75A0-889A-4848-AD1F-2FF348FE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BBCA-7DB2-41AC-8A31-34376BAD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DC35-AA23-4875-B799-723FC6EF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EB9A-6664-4C7C-ACDD-AD197850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8216-F797-4E27-AC6E-E20CA54C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44DF1-DD8B-4F5F-B87A-BB42A74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CB13-54FD-4E35-A1BD-774A5766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25F8-A301-48A1-BED2-B6000D1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6FAD8-64EE-467E-B93E-F6EC951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9BAB-E982-4936-BAD5-5B726AB3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D86B-50BB-4D1B-974A-38915D4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4645-345C-4AC8-8C94-61FFD45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635F6-3000-4258-A02A-F0CD950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E476-02C9-4212-A20D-8DDB6C3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D7E8D-E0BC-4AD9-9FF2-30E457E8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B22B-34FD-466E-897C-B6D60AC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C5422-034D-4CF1-86DA-F1AE493C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BAFF-EC06-4F94-97C1-CABC438B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EDB41-9402-487E-846F-7D8C6D1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724E-AE25-4B45-BD1A-063EC71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5FFE-3B43-4448-9FB5-BB4FF988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4A1F-4BAC-47D0-8C7D-22440FA7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56719-2FF4-4C1F-8569-193B5662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18AB-2C3B-4ADD-A93E-89A7502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859F-42DB-4088-94A2-F447BA92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6580B-6E37-426A-9268-830F6E0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68B0-A54B-4447-9876-179478B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DC35-6455-4D53-8DF3-8D85ED8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368A-9DF9-4281-ABBE-D1A9447D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6212-A87D-40A8-8486-E2D1CA65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2892-C081-474A-A77B-B6EE9CD7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1AAD9-0A0E-421D-951A-780E63B8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52343-5F8A-46FF-A2F5-3E63D036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1233-DA7F-47A1-BC33-B1E920C8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A1A0-43AA-4979-90AB-4E6788F3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5CBDD-C346-4A2D-ABFD-2F2127BA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37DE1-E45F-4056-9A18-C7807587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6719-E181-46C0-AA82-83EB5CC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E3887-2CE1-4A1B-86DF-C1050B4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4EDF-E829-436A-8641-CB6249A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5493-919E-4454-9FF1-299E9FC1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0298-DF9C-44A6-9F62-5CB45900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141E-0D6A-40FE-8DCD-AEF3315B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6042-651C-4847-9C1D-116FCC34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5662-2EBE-460A-9528-F1223DA1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017B1-A9F6-4F9D-9EC7-A7CDF09E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954A-309F-49DB-8064-53FC2051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8B20C-43C5-4DEA-959A-5A8BD05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2AF6-37D4-4994-B4FE-8B6F314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4BF1-CE75-4B44-A800-EED925A6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7F8B3-59E7-48C4-B03A-BD40865B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43F6-6197-4A79-8695-6BB0795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B41D1-2E32-4C3D-A354-DBE4E4F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F362-E6FB-455C-973D-4E7CB02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3AA35-D3CD-47DB-ADC6-08E3F7EC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364BF-7CA8-444E-B7DC-B94B9571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AF10-D2A8-4A80-BE64-38C743303D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8BE5-6F20-44E8-92FC-B124073D560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300-7268-4F1F-B09F-F6053F29AA3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2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21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323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26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327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8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29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330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1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2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333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334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335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6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37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338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39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0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341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2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3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344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5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6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347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48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49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50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1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52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53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5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56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57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58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359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0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1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362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3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64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365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66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67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368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369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0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71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372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373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374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5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6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377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8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79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380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1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383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4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5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386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87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88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389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0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91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392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93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4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395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397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398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9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0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401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2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403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404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05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06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407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408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410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1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13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323e7a"/>
                </a:gs>
                <a:gs pos="100000">
                  <a:srgbClr val="4d74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4C45-A477-448D-BC90-BECF3CAC0F87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CB5-220F-4D11-82F8-99D78C6DEE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3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8D9D-249A-42B0-872E-1BB37712A7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9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0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2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603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60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0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6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7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608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609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0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1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612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3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4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615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1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9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0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621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2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24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6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627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8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29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630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1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2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633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4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5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636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7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8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639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0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1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642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3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4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645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6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7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648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9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0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651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3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654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5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6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65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8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9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660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1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2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63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6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69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71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2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73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74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5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6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77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8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80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2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83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4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5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86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7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8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89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1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92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3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4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95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7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98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9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0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701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2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0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06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707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708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9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0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1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2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3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4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1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1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1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CBD0-6585-47B0-8AE2-88DB04E39D1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74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773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774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4d74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4d74a7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50000">
                    <a:srgbClr val="a1bdc1"/>
                  </a:gs>
                  <a:gs pos="100000">
                    <a:srgbClr val="323e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1d8e5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81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782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1bd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3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84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785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87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788" name="Group 18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789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790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1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2" name="Group 22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793" name="Freeform 23"/>
                        <p:cNvSpPr/>
                        <p:nvPr/>
                      </p:nvSpPr>
                      <p:spPr>
                        <a:xfrm>
                          <a:off x="14065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4" name="Freeform 24"/>
                        <p:cNvSpPr/>
                        <p:nvPr/>
                      </p:nvSpPr>
                      <p:spPr>
                        <a:xfrm>
                          <a:off x="173448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5" name="Group 25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796" name="Freeform 26"/>
                        <p:cNvSpPr/>
                        <p:nvPr/>
                      </p:nvSpPr>
                      <p:spPr>
                        <a:xfrm>
                          <a:off x="207072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97" name="Freeform 27"/>
                        <p:cNvSpPr/>
                        <p:nvPr/>
                      </p:nvSpPr>
                      <p:spPr>
                        <a:xfrm>
                          <a:off x="2399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798" name="Group 28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799" name="Freeform 29"/>
                        <p:cNvSpPr/>
                        <p:nvPr/>
                      </p:nvSpPr>
                      <p:spPr>
                        <a:xfrm>
                          <a:off x="27352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0" name="Freeform 30"/>
                        <p:cNvSpPr/>
                        <p:nvPr/>
                      </p:nvSpPr>
                      <p:spPr>
                        <a:xfrm>
                          <a:off x="30636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1" name="Group 31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802" name="Freeform 32"/>
                        <p:cNvSpPr/>
                        <p:nvPr/>
                      </p:nvSpPr>
                      <p:spPr>
                        <a:xfrm>
                          <a:off x="33984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3" name="Freeform 33"/>
                        <p:cNvSpPr/>
                        <p:nvPr/>
                      </p:nvSpPr>
                      <p:spPr>
                        <a:xfrm>
                          <a:off x="37274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4" name="Group 34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805" name="Freeform 35"/>
                        <p:cNvSpPr/>
                        <p:nvPr/>
                      </p:nvSpPr>
                      <p:spPr>
                        <a:xfrm>
                          <a:off x="40626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6" name="Freeform 36"/>
                        <p:cNvSpPr/>
                        <p:nvPr/>
                      </p:nvSpPr>
                      <p:spPr>
                        <a:xfrm>
                          <a:off x="439056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07" name="Group 37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808" name="Freeform 38"/>
                        <p:cNvSpPr/>
                        <p:nvPr/>
                      </p:nvSpPr>
                      <p:spPr>
                        <a:xfrm>
                          <a:off x="472680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09" name="Freeform 39"/>
                        <p:cNvSpPr/>
                        <p:nvPr/>
                      </p:nvSpPr>
                      <p:spPr>
                        <a:xfrm>
                          <a:off x="50554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23e7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0" name="Group 40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811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2" name="Freeform 42"/>
                      <p:cNvSpPr/>
                      <p:nvPr/>
                    </p:nvSpPr>
                    <p:spPr>
                      <a:xfrm>
                        <a:off x="5719680" y="3810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3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814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5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6" name="Group 46"/>
                    <p:cNvGrpSpPr/>
                    <p:nvPr/>
                  </p:nvGrpSpPr>
                  <p:grpSpPr>
                    <a:xfrm>
                      <a:off x="6719760" y="3810240"/>
                      <a:ext cx="663480" cy="177840"/>
                      <a:chOff x="6719760" y="3810240"/>
                      <a:chExt cx="663480" cy="177840"/>
                    </a:xfrm>
                  </p:grpSpPr>
                  <p:sp>
                    <p:nvSpPr>
                      <p:cNvPr id="817" name="Freeform 47"/>
                      <p:cNvSpPr/>
                      <p:nvPr/>
                    </p:nvSpPr>
                    <p:spPr>
                      <a:xfrm>
                        <a:off x="6719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8" name="Freeform 48"/>
                      <p:cNvSpPr/>
                      <p:nvPr/>
                    </p:nvSpPr>
                    <p:spPr>
                      <a:xfrm>
                        <a:off x="704880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19" name="Group 49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820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21" name="Freeform 51"/>
                      <p:cNvSpPr/>
                      <p:nvPr/>
                    </p:nvSpPr>
                    <p:spPr>
                      <a:xfrm>
                        <a:off x="77119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323e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22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323e7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23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824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5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826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827" name="Group 57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828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829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0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1" name="Group 61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832" name="Freeform 62"/>
                        <p:cNvSpPr/>
                        <p:nvPr/>
                      </p:nvSpPr>
                      <p:spPr>
                        <a:xfrm>
                          <a:off x="13906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3" name="Freeform 63"/>
                        <p:cNvSpPr/>
                        <p:nvPr/>
                      </p:nvSpPr>
                      <p:spPr>
                        <a:xfrm>
                          <a:off x="171864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4" name="Group 64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835" name="Freeform 65"/>
                        <p:cNvSpPr/>
                        <p:nvPr/>
                      </p:nvSpPr>
                      <p:spPr>
                        <a:xfrm>
                          <a:off x="205488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6" name="Freeform 66"/>
                        <p:cNvSpPr/>
                        <p:nvPr/>
                      </p:nvSpPr>
                      <p:spPr>
                        <a:xfrm>
                          <a:off x="2383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37" name="Group 67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838" name="Freeform 68"/>
                        <p:cNvSpPr/>
                        <p:nvPr/>
                      </p:nvSpPr>
                      <p:spPr>
                        <a:xfrm>
                          <a:off x="27194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39" name="Freeform 69"/>
                        <p:cNvSpPr/>
                        <p:nvPr/>
                      </p:nvSpPr>
                      <p:spPr>
                        <a:xfrm>
                          <a:off x="30477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0" name="Group 70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841" name="Freeform 71"/>
                        <p:cNvSpPr/>
                        <p:nvPr/>
                      </p:nvSpPr>
                      <p:spPr>
                        <a:xfrm>
                          <a:off x="33825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2" name="Freeform 72"/>
                        <p:cNvSpPr/>
                        <p:nvPr/>
                      </p:nvSpPr>
                      <p:spPr>
                        <a:xfrm>
                          <a:off x="37116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3" name="Group 73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844" name="Freeform 74"/>
                        <p:cNvSpPr/>
                        <p:nvPr/>
                      </p:nvSpPr>
                      <p:spPr>
                        <a:xfrm>
                          <a:off x="40467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5" name="Freeform 75"/>
                        <p:cNvSpPr/>
                        <p:nvPr/>
                      </p:nvSpPr>
                      <p:spPr>
                        <a:xfrm>
                          <a:off x="437472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846" name="Group 76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847" name="Freeform 77"/>
                        <p:cNvSpPr/>
                        <p:nvPr/>
                      </p:nvSpPr>
                      <p:spPr>
                        <a:xfrm>
                          <a:off x="471096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848" name="Freeform 78"/>
                        <p:cNvSpPr/>
                        <p:nvPr/>
                      </p:nvSpPr>
                      <p:spPr>
                        <a:xfrm>
                          <a:off x="50396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1d8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9" name="Group 79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850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1" name="Freeform 81"/>
                      <p:cNvSpPr/>
                      <p:nvPr/>
                    </p:nvSpPr>
                    <p:spPr>
                      <a:xfrm>
                        <a:off x="5703840" y="38084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2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853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4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5" name="Group 85"/>
                    <p:cNvGrpSpPr/>
                    <p:nvPr/>
                  </p:nvGrpSpPr>
                  <p:grpSpPr>
                    <a:xfrm>
                      <a:off x="6703920" y="3808440"/>
                      <a:ext cx="663480" cy="177840"/>
                      <a:chOff x="6703920" y="3808440"/>
                      <a:chExt cx="663480" cy="177840"/>
                    </a:xfrm>
                  </p:grpSpPr>
                  <p:sp>
                    <p:nvSpPr>
                      <p:cNvPr id="856" name="Freeform 86"/>
                      <p:cNvSpPr/>
                      <p:nvPr/>
                    </p:nvSpPr>
                    <p:spPr>
                      <a:xfrm>
                        <a:off x="6703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57" name="Freeform 87"/>
                      <p:cNvSpPr/>
                      <p:nvPr/>
                    </p:nvSpPr>
                    <p:spPr>
                      <a:xfrm>
                        <a:off x="703296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grpSp>
                  <p:nvGrpSpPr>
                    <p:cNvPr id="858" name="Group 88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859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60" name="Freeform 90"/>
                      <p:cNvSpPr/>
                      <p:nvPr/>
                    </p:nvSpPr>
                    <p:spPr>
                      <a:xfrm>
                        <a:off x="76960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1d8e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861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1d8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862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863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323e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4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1d8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65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323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7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1d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323e7a"/>
                  </a:gs>
                  <a:gs pos="100000">
                    <a:srgbClr val="4d74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9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870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1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2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3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874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5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6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d74a7"/>
                  </a:gs>
                  <a:gs pos="100000">
                    <a:srgbClr val="c1d8e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cd5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ebcd5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819-A791-485F-A19B-B3E9E311772D}" type="slidenum">
              <a:rPr b="0" i="1" lang="ru-RU" sz="1400" spc="-1" strike="noStrike">
                <a:solidFill>
                  <a:srgbClr val="ebcd5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cc"/>
                </a:solidFill>
                <a:latin typeface="Monotype Corsiva"/>
              </a:rPr>
              <a:t>Семинар-практику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23640" y="162828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Расстояние между скрещивающимися прямы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2484360" y="4221000"/>
            <a:ext cx="66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Зубарева Т.В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учитель матема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ItalicT"/>
              </a:rPr>
              <a:t>Темниковской СОШ №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Freeform 46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кие следствия можно сформулировать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4" name="Group 7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45" name="Text Box 8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6" name="Text Box 9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7" name="Text Box 10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9" name="Group 12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50" name="Text Box 13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54" name="Text Box 17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Text Box 19"/>
          <p:cNvSpPr/>
          <p:nvPr/>
        </p:nvSpPr>
        <p:spPr>
          <a:xfrm>
            <a:off x="0" y="1700280"/>
            <a:ext cx="36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резок с концами на двух скрещивающихся прямых одновременно перпендикулярный им  и есть расстояние между этими прямы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Text Box 23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Text Box 27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Freeform 33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Line 34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Line 35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Line 42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Line 43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Line 44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Line 45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Text Box 47"/>
          <p:cNvSpPr/>
          <p:nvPr/>
        </p:nvSpPr>
        <p:spPr>
          <a:xfrm>
            <a:off x="108000" y="4005360"/>
            <a:ext cx="363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Этот отрезок равен расстоянию от одной из скрещивающихся прямых до параллельной ей плоскости в которой лежит другая прям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Line 51"/>
          <p:cNvSpPr/>
          <p:nvPr/>
        </p:nvSpPr>
        <p:spPr>
          <a:xfrm>
            <a:off x="3780000" y="314172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52"/>
          <p:cNvSpPr/>
          <p:nvPr/>
        </p:nvSpPr>
        <p:spPr>
          <a:xfrm>
            <a:off x="5076720" y="479736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3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3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3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3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3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3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3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3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Теор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2" name="Group 6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73" name="Text Box 7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Text Box 8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5" name="Text Box 9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6" name="Text Box 10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7" name="Group 11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78" name="Text Box 12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Text Box 13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Text Box 14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1" name="Text Box 15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2" name="Text Box 16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0" y="2060640"/>
            <a:ext cx="41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иагональ куба перпендикулярна каждой диагонали грани куба, скрещивающейся с 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0" y="3860640"/>
            <a:ext cx="3780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казательство: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отсюд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любой прямой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Line 32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Freeform 3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1860"/>
                </a:moveTo>
                <a:lnTo>
                  <a:pt x="0" y="0"/>
                </a:lnTo>
                <a:lnTo>
                  <a:pt x="1360" y="817"/>
                </a:lnTo>
                <a:lnTo>
                  <a:pt x="1360" y="2676"/>
                </a:lnTo>
                <a:lnTo>
                  <a:pt x="0" y="186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40"/>
          <p:cNvSpPr/>
          <p:nvPr/>
        </p:nvSpPr>
        <p:spPr>
          <a:xfrm>
            <a:off x="3780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Line 41"/>
          <p:cNvSpPr/>
          <p:nvPr/>
        </p:nvSpPr>
        <p:spPr>
          <a:xfrm>
            <a:off x="7236000" y="3141720"/>
            <a:ext cx="1296720" cy="165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Line 42"/>
          <p:cNvSpPr/>
          <p:nvPr/>
        </p:nvSpPr>
        <p:spPr>
          <a:xfrm flipV="1">
            <a:off x="5076720" y="1844640"/>
            <a:ext cx="3456000" cy="295272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Line 31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7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3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3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1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3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3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3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3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6"/>
          <p:cNvSpPr/>
          <p:nvPr/>
        </p:nvSpPr>
        <p:spPr>
          <a:xfrm>
            <a:off x="5076720" y="1844640"/>
            <a:ext cx="2159280" cy="4248360"/>
          </a:xfrm>
          <a:custGeom>
            <a:avLst/>
            <a:gdLst>
              <a:gd name="textAreaLeft" fmla="*/ 0 w 2159280"/>
              <a:gd name="textAreaRight" fmla="*/ 2159640 w 215928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1360" h="2676">
                <a:moveTo>
                  <a:pt x="0" y="0"/>
                </a:moveTo>
                <a:lnTo>
                  <a:pt x="0" y="1860"/>
                </a:lnTo>
                <a:lnTo>
                  <a:pt x="1360" y="2676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ледствие теоремы. За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5" name="Group 5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96" name="Text Box 6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7" name="Text Box 7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8" name="Text Box 8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9" name="Text Box 9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0" name="Group 1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101" name="Text Box 1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2" name="Text Box 1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3" name="Text Box 1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4" name="Text Box 1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5" name="Text Box 15"/>
          <p:cNvSpPr/>
          <p:nvPr/>
        </p:nvSpPr>
        <p:spPr>
          <a:xfrm>
            <a:off x="5867280" y="551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21"/>
          <p:cNvSpPr/>
          <p:nvPr/>
        </p:nvSpPr>
        <p:spPr>
          <a:xfrm flipH="1">
            <a:off x="6156000" y="4653000"/>
            <a:ext cx="360360" cy="79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516720" y="43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23"/>
          <p:cNvSpPr/>
          <p:nvPr/>
        </p:nvSpPr>
        <p:spPr>
          <a:xfrm>
            <a:off x="-36360" y="4869000"/>
            <a:ext cx="435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им треугольни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их подобия следует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/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24"/>
          <p:cNvSpPr/>
          <p:nvPr/>
        </p:nvSpPr>
        <p:spPr>
          <a:xfrm>
            <a:off x="34920" y="6021360"/>
            <a:ext cx="43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=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D/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a/√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-36360" y="1557360"/>
            <a:ext cx="42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 скрещивающимися диагональю куба и диагональю его гр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7"/>
          <p:cNvSpPr/>
          <p:nvPr/>
        </p:nvSpPr>
        <p:spPr>
          <a:xfrm>
            <a:off x="34920" y="3068640"/>
            <a:ext cx="460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ерпендикулярен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будет перпендикулярен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O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- расстояние межд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Line 19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18"/>
          <p:cNvSpPr/>
          <p:nvPr/>
        </p:nvSpPr>
        <p:spPr>
          <a:xfrm>
            <a:off x="5076720" y="1844640"/>
            <a:ext cx="2159280" cy="424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3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3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3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3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3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3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Freeform 14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Freeform 9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11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33"/>
                </a:solidFill>
                <a:latin typeface="Comic Sans MS"/>
              </a:rPr>
              <a:t>Обобщение.Три типовых случая определения расстояния между скрещивающимися прямым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Line 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Line 5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Line 10"/>
          <p:cNvSpPr/>
          <p:nvPr/>
        </p:nvSpPr>
        <p:spPr>
          <a:xfrm>
            <a:off x="651672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Line 13"/>
          <p:cNvSpPr/>
          <p:nvPr/>
        </p:nvSpPr>
        <p:spPr>
          <a:xfrm>
            <a:off x="4932360" y="3213000"/>
            <a:ext cx="0" cy="237672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Line 15"/>
          <p:cNvSpPr/>
          <p:nvPr/>
        </p:nvSpPr>
        <p:spPr>
          <a:xfrm>
            <a:off x="7740720" y="3141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Line 16"/>
          <p:cNvSpPr/>
          <p:nvPr/>
        </p:nvSpPr>
        <p:spPr>
          <a:xfrm>
            <a:off x="3995640" y="2781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Line 19"/>
          <p:cNvSpPr/>
          <p:nvPr/>
        </p:nvSpPr>
        <p:spPr>
          <a:xfrm>
            <a:off x="4643280" y="270828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Line 20"/>
          <p:cNvSpPr/>
          <p:nvPr/>
        </p:nvSpPr>
        <p:spPr>
          <a:xfrm>
            <a:off x="7020000" y="335772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Rectangle 21"/>
          <p:cNvSpPr/>
          <p:nvPr/>
        </p:nvSpPr>
        <p:spPr>
          <a:xfrm>
            <a:off x="0" y="1989000"/>
            <a:ext cx="4894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Общий перпендикуляр к обеим прямым (единственный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Rectangle 22"/>
          <p:cNvSpPr/>
          <p:nvPr/>
        </p:nvSpPr>
        <p:spPr>
          <a:xfrm>
            <a:off x="0" y="2781360"/>
            <a:ext cx="5256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ff"/>
                </a:solidFill>
                <a:latin typeface="Comic Sans MS"/>
              </a:rPr>
              <a:t>Перпендикуляр от одной из прямых до параллельной плоскости, в которой расположена другая прямая, конец которого не обязательно лежит на прям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Rectangle 23"/>
          <p:cNvSpPr/>
          <p:nvPr/>
        </p:nvSpPr>
        <p:spPr>
          <a:xfrm>
            <a:off x="108000" y="4869000"/>
            <a:ext cx="51847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omic Sans MS"/>
              </a:rPr>
              <a:t>Перпендикуляр между параллельными плоскостями в которых лежат скрещивающиеся прямые, концы которого не обязательно лежат на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30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3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3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3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3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3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3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3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Freeform 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ff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Freeform 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01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облема: Как найти плоскость с одной прямой, параллельную другой скрещивающейся прямой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Line 6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Rectangle 15"/>
          <p:cNvSpPr/>
          <p:nvPr/>
        </p:nvSpPr>
        <p:spPr>
          <a:xfrm>
            <a:off x="0" y="1773360"/>
            <a:ext cx="392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остаточно провести через одну из скрещивающихся прямых прямую линию, параллельную другой скрещивающей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Line 18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Freeform 20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Rectangle 21"/>
          <p:cNvSpPr/>
          <p:nvPr/>
        </p:nvSpPr>
        <p:spPr>
          <a:xfrm>
            <a:off x="34920" y="4581360"/>
            <a:ext cx="46083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тим, что отрезок соединяющий точки пересечения пар параллельных прямых не равен расстоянию между скрещивающимися прямыми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3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3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3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3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3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3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3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3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3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Line 24"/>
          <p:cNvSpPr/>
          <p:nvPr/>
        </p:nvSpPr>
        <p:spPr>
          <a:xfrm>
            <a:off x="6588000" y="3860640"/>
            <a:ext cx="0" cy="100836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Типовые задач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Rectangle 9"/>
          <p:cNvSpPr/>
          <p:nvPr/>
        </p:nvSpPr>
        <p:spPr>
          <a:xfrm>
            <a:off x="34920" y="1341360"/>
            <a:ext cx="4897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Чаще других возникают задачи с перпендикулярными скрещивающимися прямы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К этому типу относится уже рассмотренная задача о расстоянии между диагональю куба и скрещивающейся диагональю его гр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13"/>
          <p:cNvSpPr/>
          <p:nvPr/>
        </p:nvSpPr>
        <p:spPr>
          <a:xfrm>
            <a:off x="-36360" y="4508640"/>
            <a:ext cx="4608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тандартный прием решения этих задач заключается в проведении плоскости, в которой лежит одна прямая, перпендикулярно другой скрещивающейся прям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Line 14"/>
          <p:cNvSpPr/>
          <p:nvPr/>
        </p:nvSpPr>
        <p:spPr>
          <a:xfrm>
            <a:off x="6588000" y="4869000"/>
            <a:ext cx="0" cy="19890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Oval 18"/>
          <p:cNvSpPr/>
          <p:nvPr/>
        </p:nvSpPr>
        <p:spPr>
          <a:xfrm>
            <a:off x="4427640" y="3429000"/>
            <a:ext cx="4319640" cy="1440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Line 20"/>
          <p:cNvSpPr/>
          <p:nvPr/>
        </p:nvSpPr>
        <p:spPr>
          <a:xfrm>
            <a:off x="6588000" y="333360"/>
            <a:ext cx="0" cy="35272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Line 21"/>
          <p:cNvSpPr/>
          <p:nvPr/>
        </p:nvSpPr>
        <p:spPr>
          <a:xfrm flipV="1">
            <a:off x="4932360" y="3860640"/>
            <a:ext cx="3600360" cy="72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Line 22"/>
          <p:cNvSpPr/>
          <p:nvPr/>
        </p:nvSpPr>
        <p:spPr>
          <a:xfrm>
            <a:off x="6588000" y="3860640"/>
            <a:ext cx="505080" cy="289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3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3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3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Freeform 38"/>
          <p:cNvSpPr/>
          <p:nvPr/>
        </p:nvSpPr>
        <p:spPr>
          <a:xfrm>
            <a:off x="7524720" y="1844640"/>
            <a:ext cx="1295280" cy="432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816" h="2722">
                <a:moveTo>
                  <a:pt x="0" y="817"/>
                </a:moveTo>
                <a:lnTo>
                  <a:pt x="816" y="0"/>
                </a:lnTo>
                <a:lnTo>
                  <a:pt x="816" y="1905"/>
                </a:lnTo>
                <a:lnTo>
                  <a:pt x="0" y="2722"/>
                </a:lnTo>
                <a:lnTo>
                  <a:pt x="0" y="81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34920" y="1341360"/>
            <a:ext cx="475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0" y="3213000"/>
            <a:ext cx="4608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ь гран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ребру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 с коэффициентом подобия 1/2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K=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/2=a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√5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58" name="Group 25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59" name="Text Box 26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0" name="Text Box 27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Text Box 28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29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3" name="Group 30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64" name="Text Box 31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5" name="Text Box 32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6" name="Text Box 33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34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8" name="Line 35"/>
          <p:cNvSpPr/>
          <p:nvPr/>
        </p:nvSpPr>
        <p:spPr>
          <a:xfrm>
            <a:off x="4140360" y="6165720"/>
            <a:ext cx="3384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Line 36"/>
          <p:cNvSpPr/>
          <p:nvPr/>
        </p:nvSpPr>
        <p:spPr>
          <a:xfrm>
            <a:off x="7524720" y="3141720"/>
            <a:ext cx="792360" cy="2232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Freeform 37"/>
          <p:cNvSpPr/>
          <p:nvPr/>
        </p:nvSpPr>
        <p:spPr>
          <a:xfrm>
            <a:off x="7524720" y="4964040"/>
            <a:ext cx="662040" cy="1203480"/>
          </a:xfrm>
          <a:custGeom>
            <a:avLst/>
            <a:gdLst>
              <a:gd name="textAreaLeft" fmla="*/ 0 w 662040"/>
              <a:gd name="textAreaRight" fmla="*/ 662400 w 66204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417" h="758">
                <a:moveTo>
                  <a:pt x="0" y="758"/>
                </a:moveTo>
                <a:lnTo>
                  <a:pt x="4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Text Box 39"/>
          <p:cNvSpPr/>
          <p:nvPr/>
        </p:nvSpPr>
        <p:spPr>
          <a:xfrm>
            <a:off x="8388360" y="522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44"/>
          <p:cNvSpPr/>
          <p:nvPr/>
        </p:nvSpPr>
        <p:spPr>
          <a:xfrm>
            <a:off x="774072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3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3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3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3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3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30"/>
          <p:cNvSpPr/>
          <p:nvPr/>
        </p:nvSpPr>
        <p:spPr>
          <a:xfrm>
            <a:off x="4140360" y="1844640"/>
            <a:ext cx="4679640" cy="432108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2948" h="2722">
                <a:moveTo>
                  <a:pt x="0" y="2722"/>
                </a:moveTo>
                <a:lnTo>
                  <a:pt x="0" y="817"/>
                </a:lnTo>
                <a:lnTo>
                  <a:pt x="2948" y="0"/>
                </a:lnTo>
                <a:lnTo>
                  <a:pt x="2948" y="1905"/>
                </a:lnTo>
                <a:lnTo>
                  <a:pt x="0" y="2722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Решение задач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-108000" y="1268280"/>
            <a:ext cx="5689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прямы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M,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где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M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– середин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O, O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–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центры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, соответств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4920" y="3357720"/>
            <a:ext cx="496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ьная плоск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ерпендикулярна прямой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.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Треугольник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M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добны.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K=O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M/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 =a/3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(по теореме Пифагора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=3/2√2, OM=1/2√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9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180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1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2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3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4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185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Line 19"/>
          <p:cNvSpPr/>
          <p:nvPr/>
        </p:nvSpPr>
        <p:spPr>
          <a:xfrm>
            <a:off x="5435640" y="1844640"/>
            <a:ext cx="208908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Freeform 20"/>
          <p:cNvSpPr/>
          <p:nvPr/>
        </p:nvSpPr>
        <p:spPr>
          <a:xfrm>
            <a:off x="5651640" y="5300640"/>
            <a:ext cx="822240" cy="228600"/>
          </a:xfrm>
          <a:custGeom>
            <a:avLst/>
            <a:gdLst>
              <a:gd name="textAreaLeft" fmla="*/ 0 w 822240"/>
              <a:gd name="textAreaRight" fmla="*/ 822600 w 822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03" h="173">
                <a:moveTo>
                  <a:pt x="503" y="1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21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Text Box 22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Line 23"/>
          <p:cNvSpPr/>
          <p:nvPr/>
        </p:nvSpPr>
        <p:spPr>
          <a:xfrm flipV="1">
            <a:off x="4140360" y="1844280"/>
            <a:ext cx="4679640" cy="12970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24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Line 25"/>
          <p:cNvSpPr/>
          <p:nvPr/>
        </p:nvSpPr>
        <p:spPr>
          <a:xfrm>
            <a:off x="5435640" y="4869000"/>
            <a:ext cx="208908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26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Line 27"/>
          <p:cNvSpPr/>
          <p:nvPr/>
        </p:nvSpPr>
        <p:spPr>
          <a:xfrm flipV="1">
            <a:off x="4140360" y="4869000"/>
            <a:ext cx="4679640" cy="129672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Line 28"/>
          <p:cNvSpPr/>
          <p:nvPr/>
        </p:nvSpPr>
        <p:spPr>
          <a:xfrm flipH="1">
            <a:off x="5508360" y="2492280"/>
            <a:ext cx="934920" cy="3313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Line 29"/>
          <p:cNvSpPr/>
          <p:nvPr/>
        </p:nvSpPr>
        <p:spPr>
          <a:xfrm>
            <a:off x="6443640" y="2492280"/>
            <a:ext cx="0" cy="302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3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3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3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3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3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3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3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3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3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3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3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3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Freeform 34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Freeform 32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1268280"/>
            <a:ext cx="5040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Дан куб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 длиной ребра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=a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. Найдите расстояние между скрещивающимися диагоналям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C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 B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смежных граней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BCD </a:t>
            </a:r>
            <a:r>
              <a:rPr b="0" i="1" lang="ru-RU" sz="2400" spc="-1" strike="noStrike">
                <a:solidFill>
                  <a:srgbClr val="ff3399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3399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3399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Rectangle 6"/>
          <p:cNvSpPr/>
          <p:nvPr/>
        </p:nvSpPr>
        <p:spPr>
          <a:xfrm>
            <a:off x="0" y="3789360"/>
            <a:ext cx="5076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, 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||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роведем диагонал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,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лучим треугольни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||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Rectangle 7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7" name="Group 8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08" name="Text Box 9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Text Box 10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Text Box 11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Text Box 12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2" name="Group 13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13" name="Text Box 14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Text Box 15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Text Box 16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Text Box 17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17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Text Box 23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Line 24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Text Box 25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27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Freeform 33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Line 35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Line 36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Text Box 38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Text Box 39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Rectangle 41"/>
          <p:cNvSpPr/>
          <p:nvPr/>
        </p:nvSpPr>
        <p:spPr>
          <a:xfrm>
            <a:off x="-36360" y="5300640"/>
            <a:ext cx="4643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лоскости треугольников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C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параллельны и перпендикулярны плоскост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Line 42"/>
          <p:cNvSpPr/>
          <p:nvPr/>
        </p:nvSpPr>
        <p:spPr>
          <a:xfrm>
            <a:off x="5435640" y="1844640"/>
            <a:ext cx="2089080" cy="43210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Freeform 37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Line 45"/>
          <p:cNvSpPr/>
          <p:nvPr/>
        </p:nvSpPr>
        <p:spPr>
          <a:xfrm flipV="1">
            <a:off x="4140360" y="1844280"/>
            <a:ext cx="4608360" cy="129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Line 46"/>
          <p:cNvSpPr/>
          <p:nvPr/>
        </p:nvSpPr>
        <p:spPr>
          <a:xfrm>
            <a:off x="752472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30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3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3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1" dur="3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3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3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3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3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3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3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3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33"/>
          <p:cNvSpPr/>
          <p:nvPr/>
        </p:nvSpPr>
        <p:spPr>
          <a:xfrm>
            <a:off x="0" y="3284640"/>
            <a:ext cx="3673440" cy="28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Freeform 2"/>
          <p:cNvSpPr/>
          <p:nvPr/>
        </p:nvSpPr>
        <p:spPr>
          <a:xfrm>
            <a:off x="5435640" y="1844640"/>
            <a:ext cx="2089080" cy="4321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321080"/>
              <a:gd name="textAreaBottom" fmla="*/ 4321440 h 4321080"/>
            </a:gdLst>
            <a:ahLst/>
            <a:rect l="textAreaLeft" t="textAreaTop" r="textAreaRight" b="textAreaBottom"/>
            <a:pathLst>
              <a:path w="1316" h="2722">
                <a:moveTo>
                  <a:pt x="0" y="1905"/>
                </a:moveTo>
                <a:lnTo>
                  <a:pt x="0" y="0"/>
                </a:lnTo>
                <a:lnTo>
                  <a:pt x="1316" y="817"/>
                </a:lnTo>
                <a:lnTo>
                  <a:pt x="1316" y="2722"/>
                </a:lnTo>
                <a:lnTo>
                  <a:pt x="0" y="1905"/>
                </a:lnTo>
                <a:close/>
              </a:path>
            </a:pathLst>
          </a:custGeom>
          <a:solidFill>
            <a:srgbClr val="ff3399">
              <a:alpha val="90000"/>
            </a:srgbClr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Freeform 3"/>
          <p:cNvSpPr/>
          <p:nvPr/>
        </p:nvSpPr>
        <p:spPr>
          <a:xfrm>
            <a:off x="4140360" y="1844640"/>
            <a:ext cx="4679640" cy="302436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948" h="1905">
                <a:moveTo>
                  <a:pt x="0" y="817"/>
                </a:moveTo>
                <a:lnTo>
                  <a:pt x="2948" y="0"/>
                </a:lnTo>
                <a:lnTo>
                  <a:pt x="816" y="1905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f273e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9001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33"/>
                </a:solidFill>
                <a:latin typeface="Comic Sans MS"/>
              </a:rPr>
              <a:t>Прием параллельных плоскостей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8" name="Rectangle 8"/>
          <p:cNvSpPr/>
          <p:nvPr/>
        </p:nvSpPr>
        <p:spPr>
          <a:xfrm>
            <a:off x="4140360" y="3141720"/>
            <a:ext cx="338436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9" name="Group 9"/>
          <p:cNvGrpSpPr/>
          <p:nvPr/>
        </p:nvGrpSpPr>
        <p:grpSpPr>
          <a:xfrm>
            <a:off x="3708360" y="4508640"/>
            <a:ext cx="5796000" cy="1881360"/>
            <a:chOff x="3708360" y="4508640"/>
            <a:chExt cx="5796000" cy="1881360"/>
          </a:xfrm>
        </p:grpSpPr>
        <p:sp>
          <p:nvSpPr>
            <p:cNvPr id="1240" name="Text Box 10"/>
            <p:cNvSpPr/>
            <p:nvPr/>
          </p:nvSpPr>
          <p:spPr>
            <a:xfrm>
              <a:off x="3708360" y="594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Text Box 11"/>
            <p:cNvSpPr/>
            <p:nvPr/>
          </p:nvSpPr>
          <p:spPr>
            <a:xfrm>
              <a:off x="543708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2" name="Text Box 12"/>
            <p:cNvSpPr/>
            <p:nvPr/>
          </p:nvSpPr>
          <p:spPr>
            <a:xfrm>
              <a:off x="8928000" y="458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3" name="Text Box 13"/>
            <p:cNvSpPr/>
            <p:nvPr/>
          </p:nvSpPr>
          <p:spPr>
            <a:xfrm>
              <a:off x="7596360" y="6021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4" name="Group 14"/>
          <p:cNvGrpSpPr/>
          <p:nvPr/>
        </p:nvGrpSpPr>
        <p:grpSpPr>
          <a:xfrm>
            <a:off x="3635280" y="1484280"/>
            <a:ext cx="5796000" cy="1918800"/>
            <a:chOff x="3635280" y="1484280"/>
            <a:chExt cx="5796000" cy="1918800"/>
          </a:xfrm>
        </p:grpSpPr>
        <p:sp>
          <p:nvSpPr>
            <p:cNvPr id="1245" name="Text Box 15"/>
            <p:cNvSpPr/>
            <p:nvPr/>
          </p:nvSpPr>
          <p:spPr>
            <a:xfrm>
              <a:off x="363528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6" name="Text Box 16"/>
            <p:cNvSpPr/>
            <p:nvPr/>
          </p:nvSpPr>
          <p:spPr>
            <a:xfrm>
              <a:off x="536400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Text Box 17"/>
            <p:cNvSpPr/>
            <p:nvPr/>
          </p:nvSpPr>
          <p:spPr>
            <a:xfrm>
              <a:off x="885492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Text Box 18"/>
            <p:cNvSpPr/>
            <p:nvPr/>
          </p:nvSpPr>
          <p:spPr>
            <a:xfrm>
              <a:off x="752328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9" name="Text Box 20"/>
          <p:cNvSpPr/>
          <p:nvPr/>
        </p:nvSpPr>
        <p:spPr>
          <a:xfrm>
            <a:off x="6300720" y="206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521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Text Box 22"/>
          <p:cNvSpPr/>
          <p:nvPr/>
        </p:nvSpPr>
        <p:spPr>
          <a:xfrm>
            <a:off x="521964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23"/>
          <p:cNvSpPr/>
          <p:nvPr/>
        </p:nvSpPr>
        <p:spPr>
          <a:xfrm flipV="1">
            <a:off x="4140360" y="4869000"/>
            <a:ext cx="460836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443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Line 25"/>
          <p:cNvSpPr/>
          <p:nvPr/>
        </p:nvSpPr>
        <p:spPr>
          <a:xfrm>
            <a:off x="4140360" y="3141720"/>
            <a:ext cx="1295280" cy="172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Freeform 26"/>
          <p:cNvSpPr/>
          <p:nvPr/>
        </p:nvSpPr>
        <p:spPr>
          <a:xfrm>
            <a:off x="4140360" y="3141720"/>
            <a:ext cx="4679640" cy="3024000"/>
          </a:xfrm>
          <a:custGeom>
            <a:avLst/>
            <a:gdLst>
              <a:gd name="textAreaLeft" fmla="*/ 0 w 4679640"/>
              <a:gd name="textAreaRight" fmla="*/ 4679640 w 4679640"/>
              <a:gd name="textAreaTop" fmla="*/ 0 h 3024000"/>
              <a:gd name="textAreaBottom" fmla="*/ 3024360 h 3024000"/>
            </a:gdLst>
            <a:ahLst/>
            <a:rect l="textAreaLeft" t="textAreaTop" r="textAreaRight" b="textAreaBottom"/>
            <a:pathLst>
              <a:path w="2948" h="1905">
                <a:moveTo>
                  <a:pt x="0" y="1905"/>
                </a:moveTo>
                <a:lnTo>
                  <a:pt x="2132" y="0"/>
                </a:lnTo>
                <a:lnTo>
                  <a:pt x="2948" y="1088"/>
                </a:lnTo>
                <a:lnTo>
                  <a:pt x="0" y="190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27"/>
          <p:cNvSpPr/>
          <p:nvPr/>
        </p:nvSpPr>
        <p:spPr>
          <a:xfrm flipH="1">
            <a:off x="6443280" y="3141720"/>
            <a:ext cx="1081080" cy="2374920"/>
          </a:xfrm>
          <a:prstGeom prst="line">
            <a:avLst/>
          </a:prstGeom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28"/>
          <p:cNvSpPr/>
          <p:nvPr/>
        </p:nvSpPr>
        <p:spPr>
          <a:xfrm flipH="1">
            <a:off x="5435640" y="2492280"/>
            <a:ext cx="1009440" cy="237672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Text Box 30"/>
          <p:cNvSpPr/>
          <p:nvPr/>
        </p:nvSpPr>
        <p:spPr>
          <a:xfrm>
            <a:off x="565164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Text Box 31"/>
          <p:cNvSpPr/>
          <p:nvPr/>
        </p:nvSpPr>
        <p:spPr>
          <a:xfrm>
            <a:off x="6372360" y="4508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Rectangle 32"/>
          <p:cNvSpPr/>
          <p:nvPr/>
        </p:nvSpPr>
        <p:spPr>
          <a:xfrm>
            <a:off x="-36360" y="1197000"/>
            <a:ext cx="4643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Рассмотрим сечение куба плоскостью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B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скомое расстояние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по теореме Фалеса равно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1/3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диагонал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: MN=a/√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Line 34"/>
          <p:cNvSpPr/>
          <p:nvPr/>
        </p:nvSpPr>
        <p:spPr>
          <a:xfrm flipV="1">
            <a:off x="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Line 35"/>
          <p:cNvSpPr/>
          <p:nvPr/>
        </p:nvSpPr>
        <p:spPr>
          <a:xfrm flipV="1">
            <a:off x="1835280" y="3284280"/>
            <a:ext cx="187308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Line 37"/>
          <p:cNvSpPr/>
          <p:nvPr/>
        </p:nvSpPr>
        <p:spPr>
          <a:xfrm>
            <a:off x="0" y="3284640"/>
            <a:ext cx="3708360" cy="2881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Freeform 39"/>
          <p:cNvSpPr/>
          <p:nvPr/>
        </p:nvSpPr>
        <p:spPr>
          <a:xfrm>
            <a:off x="5435640" y="1844640"/>
            <a:ext cx="2082600" cy="4324320"/>
          </a:xfrm>
          <a:custGeom>
            <a:avLst/>
            <a:gdLst>
              <a:gd name="textAreaLeft" fmla="*/ 0 w 2082600"/>
              <a:gd name="textAreaRight" fmla="*/ 2082960 w 2082600"/>
              <a:gd name="textAreaTop" fmla="*/ 0 h 4324320"/>
              <a:gd name="textAreaBottom" fmla="*/ 4324680 h 4324320"/>
            </a:gdLst>
            <a:ahLst/>
            <a:rect l="textAreaLeft" t="textAreaTop" r="textAreaRight" b="textAreaBottom"/>
            <a:pathLst>
              <a:path w="1312" h="2724">
                <a:moveTo>
                  <a:pt x="0" y="0"/>
                </a:moveTo>
                <a:lnTo>
                  <a:pt x="1312" y="2724"/>
                </a:ln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Freeform 38"/>
          <p:cNvSpPr/>
          <p:nvPr/>
        </p:nvSpPr>
        <p:spPr>
          <a:xfrm>
            <a:off x="6110280" y="3251160"/>
            <a:ext cx="682560" cy="1422360"/>
          </a:xfrm>
          <a:custGeom>
            <a:avLst/>
            <a:gdLst>
              <a:gd name="textAreaLeft" fmla="*/ 0 w 682560"/>
              <a:gd name="textAreaRight" fmla="*/ 682920 w 6825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30" h="896">
                <a:moveTo>
                  <a:pt x="0" y="0"/>
                </a:moveTo>
                <a:lnTo>
                  <a:pt x="430" y="89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Freeform 36"/>
          <p:cNvSpPr/>
          <p:nvPr/>
        </p:nvSpPr>
        <p:spPr>
          <a:xfrm>
            <a:off x="1233360" y="4253040"/>
            <a:ext cx="1219320" cy="9428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768" h="594">
                <a:moveTo>
                  <a:pt x="0" y="0"/>
                </a:moveTo>
                <a:lnTo>
                  <a:pt x="768" y="5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Text Box 40"/>
          <p:cNvSpPr/>
          <p:nvPr/>
        </p:nvSpPr>
        <p:spPr>
          <a:xfrm>
            <a:off x="75564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Text Box 41"/>
          <p:cNvSpPr/>
          <p:nvPr/>
        </p:nvSpPr>
        <p:spPr>
          <a:xfrm>
            <a:off x="262728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9" name="Text Box 42"/>
          <p:cNvSpPr/>
          <p:nvPr/>
        </p:nvSpPr>
        <p:spPr>
          <a:xfrm>
            <a:off x="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0" name="Text Box 43"/>
          <p:cNvSpPr/>
          <p:nvPr/>
        </p:nvSpPr>
        <p:spPr>
          <a:xfrm>
            <a:off x="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Text Box 44"/>
          <p:cNvSpPr/>
          <p:nvPr/>
        </p:nvSpPr>
        <p:spPr>
          <a:xfrm>
            <a:off x="3276720" y="292428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Text Box 45"/>
          <p:cNvSpPr/>
          <p:nvPr/>
        </p:nvSpPr>
        <p:spPr>
          <a:xfrm>
            <a:off x="334800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Text Box 46"/>
          <p:cNvSpPr/>
          <p:nvPr/>
        </p:nvSpPr>
        <p:spPr>
          <a:xfrm>
            <a:off x="1619280" y="2924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Text Box 47"/>
          <p:cNvSpPr/>
          <p:nvPr/>
        </p:nvSpPr>
        <p:spPr>
          <a:xfrm>
            <a:off x="1547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Rectangle 48"/>
          <p:cNvSpPr/>
          <p:nvPr/>
        </p:nvSpPr>
        <p:spPr>
          <a:xfrm>
            <a:off x="0" y="6066000"/>
            <a:ext cx="9144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Замечание. Перпендикулярность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 к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D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Comic Sans MS"/>
              </a:rPr>
              <a:t>следует из доказанной теоремы на перво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30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30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3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3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3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3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3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3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3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3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3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3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Цел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Систематизация и обобщение приемов работы с пространственными объектами: прямыми , плоскостями и тел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Знакомство с новым понятием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воение и отработка общих приемов определения расстояний между скрещивающимися прямы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Freeform 12"/>
          <p:cNvSpPr/>
          <p:nvPr/>
        </p:nvSpPr>
        <p:spPr>
          <a:xfrm>
            <a:off x="3203640" y="213372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Freeform 13"/>
          <p:cNvSpPr/>
          <p:nvPr/>
        </p:nvSpPr>
        <p:spPr>
          <a:xfrm>
            <a:off x="3346560" y="4535640"/>
            <a:ext cx="5510160" cy="2122200"/>
          </a:xfrm>
          <a:custGeom>
            <a:avLst/>
            <a:gdLst>
              <a:gd name="textAreaLeft" fmla="*/ 0 w 5510160"/>
              <a:gd name="textAreaRight" fmla="*/ 5510520 w 5510160"/>
              <a:gd name="textAreaTop" fmla="*/ 0 h 2122200"/>
              <a:gd name="textAreaBottom" fmla="*/ 2122560 h 2122200"/>
            </a:gdLst>
            <a:ahLst/>
            <a:rect l="textAreaLeft" t="textAreaTop" r="textAreaRight" b="textAreaBottom"/>
            <a:pathLst>
              <a:path w="3471" h="1337">
                <a:moveTo>
                  <a:pt x="364" y="29"/>
                </a:moveTo>
                <a:cubicBezTo>
                  <a:pt x="512" y="0"/>
                  <a:pt x="732" y="13"/>
                  <a:pt x="948" y="33"/>
                </a:cubicBezTo>
                <a:cubicBezTo>
                  <a:pt x="1164" y="53"/>
                  <a:pt x="1432" y="121"/>
                  <a:pt x="1660" y="150"/>
                </a:cubicBezTo>
                <a:cubicBezTo>
                  <a:pt x="1888" y="179"/>
                  <a:pt x="2061" y="147"/>
                  <a:pt x="2314" y="210"/>
                </a:cubicBezTo>
                <a:cubicBezTo>
                  <a:pt x="2567" y="273"/>
                  <a:pt x="2987" y="392"/>
                  <a:pt x="3176" y="528"/>
                </a:cubicBezTo>
                <a:cubicBezTo>
                  <a:pt x="3365" y="664"/>
                  <a:pt x="3471" y="899"/>
                  <a:pt x="3448" y="1027"/>
                </a:cubicBezTo>
                <a:cubicBezTo>
                  <a:pt x="3425" y="1155"/>
                  <a:pt x="3224" y="1261"/>
                  <a:pt x="3040" y="1299"/>
                </a:cubicBezTo>
                <a:cubicBezTo>
                  <a:pt x="2856" y="1337"/>
                  <a:pt x="2618" y="1309"/>
                  <a:pt x="2344" y="1253"/>
                </a:cubicBezTo>
                <a:cubicBezTo>
                  <a:pt x="2070" y="1197"/>
                  <a:pt x="1672" y="1030"/>
                  <a:pt x="1397" y="960"/>
                </a:cubicBezTo>
                <a:cubicBezTo>
                  <a:pt x="1122" y="890"/>
                  <a:pt x="896" y="880"/>
                  <a:pt x="694" y="833"/>
                </a:cubicBezTo>
                <a:cubicBezTo>
                  <a:pt x="492" y="786"/>
                  <a:pt x="297" y="775"/>
                  <a:pt x="186" y="677"/>
                </a:cubicBezTo>
                <a:cubicBezTo>
                  <a:pt x="75" y="579"/>
                  <a:pt x="0" y="356"/>
                  <a:pt x="30" y="248"/>
                </a:cubicBezTo>
                <a:cubicBezTo>
                  <a:pt x="60" y="140"/>
                  <a:pt x="294" y="75"/>
                  <a:pt x="364" y="29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бобщение приемов определения расстояний между скрещивающимися прямым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0" name="Text Box 4"/>
          <p:cNvSpPr/>
          <p:nvPr/>
        </p:nvSpPr>
        <p:spPr>
          <a:xfrm>
            <a:off x="-36360" y="220500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блема. Даже в случае, если определены параллельные плоскости, в которых лежат прямые, часто трудно найти расстояние между ними –необходимо еще провести третью перпендикулярную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Line 14"/>
          <p:cNvSpPr/>
          <p:nvPr/>
        </p:nvSpPr>
        <p:spPr>
          <a:xfrm flipV="1">
            <a:off x="4211640" y="2565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Line 15"/>
          <p:cNvSpPr/>
          <p:nvPr/>
        </p:nvSpPr>
        <p:spPr>
          <a:xfrm>
            <a:off x="3564000" y="4797360"/>
            <a:ext cx="5256000" cy="1368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Line 16"/>
          <p:cNvSpPr/>
          <p:nvPr/>
        </p:nvSpPr>
        <p:spPr>
          <a:xfrm flipV="1">
            <a:off x="4572000" y="5013000"/>
            <a:ext cx="3097080" cy="863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Line 17"/>
          <p:cNvSpPr/>
          <p:nvPr/>
        </p:nvSpPr>
        <p:spPr>
          <a:xfrm>
            <a:off x="3276720" y="2565360"/>
            <a:ext cx="5256000" cy="13683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Freeform 18"/>
          <p:cNvSpPr/>
          <p:nvPr/>
        </p:nvSpPr>
        <p:spPr>
          <a:xfrm>
            <a:off x="5378400" y="3084480"/>
            <a:ext cx="706320" cy="2360520"/>
          </a:xfrm>
          <a:custGeom>
            <a:avLst/>
            <a:gdLst>
              <a:gd name="textAreaLeft" fmla="*/ 0 w 706320"/>
              <a:gd name="textAreaRight" fmla="*/ 706320 w 70632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445" h="1487">
                <a:moveTo>
                  <a:pt x="0" y="0"/>
                </a:moveTo>
                <a:lnTo>
                  <a:pt x="445" y="1487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Line 19"/>
          <p:cNvSpPr/>
          <p:nvPr/>
        </p:nvSpPr>
        <p:spPr>
          <a:xfrm>
            <a:off x="5796000" y="2997360"/>
            <a:ext cx="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Freeform 22"/>
          <p:cNvSpPr/>
          <p:nvPr/>
        </p:nvSpPr>
        <p:spPr>
          <a:xfrm>
            <a:off x="4978440" y="2409840"/>
            <a:ext cx="1538280" cy="354024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540240"/>
              <a:gd name="textAreaBottom" fmla="*/ 3540600 h 3540240"/>
            </a:gdLst>
            <a:ahLst/>
            <a:rect l="textAreaLeft" t="textAreaTop" r="textAreaRight" b="textAreaBottom"/>
            <a:pathLst>
              <a:path w="969" h="2230">
                <a:moveTo>
                  <a:pt x="969" y="1504"/>
                </a:moveTo>
                <a:lnTo>
                  <a:pt x="16" y="2230"/>
                </a:lnTo>
                <a:lnTo>
                  <a:pt x="0" y="749"/>
                </a:lnTo>
                <a:lnTo>
                  <a:pt x="969" y="0"/>
                </a:lnTo>
                <a:lnTo>
                  <a:pt x="969" y="1504"/>
                </a:lnTo>
                <a:close/>
              </a:path>
            </a:pathLst>
          </a:custGeom>
          <a:solidFill>
            <a:srgbClr val="c1d8e5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Text Box 23"/>
          <p:cNvSpPr/>
          <p:nvPr/>
        </p:nvSpPr>
        <p:spPr>
          <a:xfrm>
            <a:off x="108000" y="59500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ля решения проблемы достаточно провести эту плоскость перпендикулярно к одной из прямых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3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3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3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3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3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3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3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3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Freeform 2"/>
          <p:cNvSpPr/>
          <p:nvPr/>
        </p:nvSpPr>
        <p:spPr>
          <a:xfrm>
            <a:off x="4067280" y="170028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0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3" name="Line 7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Line 8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Freeform 11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Line 12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Text Box 13"/>
          <p:cNvSpPr/>
          <p:nvPr/>
        </p:nvSpPr>
        <p:spPr>
          <a:xfrm>
            <a:off x="-36360" y="177336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ую параллельн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на неё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Text Box 14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Text Box 18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Text Box 19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6" name="Text Box 20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Freeform 21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Text Box 22"/>
          <p:cNvSpPr/>
          <p:nvPr/>
        </p:nvSpPr>
        <p:spPr>
          <a:xfrm>
            <a:off x="34920" y="393372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о теореме о трех перпендикуля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A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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в которой лежит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Text Box 23"/>
          <p:cNvSpPr/>
          <p:nvPr/>
        </p:nvSpPr>
        <p:spPr>
          <a:xfrm>
            <a:off x="108000" y="59500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ходится на расстояни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т плоскост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равном длине перпендикуля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3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3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3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5" dur="3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3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Freeform 2"/>
          <p:cNvSpPr/>
          <p:nvPr/>
        </p:nvSpPr>
        <p:spPr>
          <a:xfrm>
            <a:off x="4049640" y="1755720"/>
            <a:ext cx="581040" cy="3135240"/>
          </a:xfrm>
          <a:custGeom>
            <a:avLst/>
            <a:gdLst>
              <a:gd name="textAreaLeft" fmla="*/ 0 w 581040"/>
              <a:gd name="textAreaRight" fmla="*/ 581400 w 581040"/>
              <a:gd name="textAreaTop" fmla="*/ 0 h 3135240"/>
              <a:gd name="textAreaBottom" fmla="*/ 3135600 h 3135240"/>
            </a:gdLst>
            <a:ahLst/>
            <a:rect l="textAreaLeft" t="textAreaTop" r="textAreaRight" b="textAreaBottom"/>
            <a:pathLst>
              <a:path w="366" h="1975">
                <a:moveTo>
                  <a:pt x="0" y="1975"/>
                </a:moveTo>
                <a:lnTo>
                  <a:pt x="366" y="0"/>
                </a:lnTo>
                <a:lnTo>
                  <a:pt x="356" y="1564"/>
                </a:lnTo>
                <a:lnTo>
                  <a:pt x="0" y="1975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Freeform 3"/>
          <p:cNvSpPr/>
          <p:nvPr/>
        </p:nvSpPr>
        <p:spPr>
          <a:xfrm>
            <a:off x="4643280" y="4221000"/>
            <a:ext cx="4167360" cy="1366920"/>
          </a:xfrm>
          <a:custGeom>
            <a:avLst/>
            <a:gdLst>
              <a:gd name="textAreaLeft" fmla="*/ 0 w 4167360"/>
              <a:gd name="textAreaRight" fmla="*/ 4167720 w 41673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2625" h="861">
                <a:moveTo>
                  <a:pt x="1912" y="861"/>
                </a:moveTo>
                <a:lnTo>
                  <a:pt x="0" y="0"/>
                </a:lnTo>
                <a:lnTo>
                  <a:pt x="2625" y="2"/>
                </a:lnTo>
                <a:lnTo>
                  <a:pt x="1912" y="861"/>
                </a:lnTo>
                <a:close/>
              </a:path>
            </a:pathLst>
          </a:custGeom>
          <a:solidFill>
            <a:srgbClr val="c1d8e5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на обобщение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4" name="Line 6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5" name="Line 7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Line 8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Line 9"/>
          <p:cNvSpPr/>
          <p:nvPr/>
        </p:nvSpPr>
        <p:spPr>
          <a:xfrm>
            <a:off x="3564000" y="4797360"/>
            <a:ext cx="410508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Freeform 10"/>
          <p:cNvSpPr/>
          <p:nvPr/>
        </p:nvSpPr>
        <p:spPr>
          <a:xfrm>
            <a:off x="4049640" y="4238640"/>
            <a:ext cx="550800" cy="623880"/>
          </a:xfrm>
          <a:custGeom>
            <a:avLst/>
            <a:gdLst>
              <a:gd name="textAreaLeft" fmla="*/ 0 w 550800"/>
              <a:gd name="textAreaRight" fmla="*/ 551160 w 5508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47" h="393">
                <a:moveTo>
                  <a:pt x="347" y="0"/>
                </a:moveTo>
                <a:lnTo>
                  <a:pt x="0" y="393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Line 11"/>
          <p:cNvSpPr/>
          <p:nvPr/>
        </p:nvSpPr>
        <p:spPr>
          <a:xfrm flipH="1" flipV="1">
            <a:off x="4211280" y="4005000"/>
            <a:ext cx="431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Text Box 13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Text Box 14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Text Box 15"/>
          <p:cNvSpPr/>
          <p:nvPr/>
        </p:nvSpPr>
        <p:spPr>
          <a:xfrm>
            <a:off x="8639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Text Box 16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Text Box 17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Text Box 18"/>
          <p:cNvSpPr/>
          <p:nvPr/>
        </p:nvSpPr>
        <p:spPr>
          <a:xfrm>
            <a:off x="370836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Text Box 19"/>
          <p:cNvSpPr/>
          <p:nvPr/>
        </p:nvSpPr>
        <p:spPr>
          <a:xfrm>
            <a:off x="385128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Freeform 20"/>
          <p:cNvSpPr/>
          <p:nvPr/>
        </p:nvSpPr>
        <p:spPr>
          <a:xfrm>
            <a:off x="4067280" y="1773360"/>
            <a:ext cx="3600360" cy="381636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268" h="2404">
                <a:moveTo>
                  <a:pt x="0" y="1950"/>
                </a:moveTo>
                <a:lnTo>
                  <a:pt x="363" y="0"/>
                </a:lnTo>
                <a:lnTo>
                  <a:pt x="2268" y="2404"/>
                </a:lnTo>
                <a:lnTo>
                  <a:pt x="0" y="195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-108000" y="256536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им длину отрез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площад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лин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.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-36360" y="3933720"/>
            <a:ext cx="252072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=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4, DK=√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∙a/2, BN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omic Sans MS"/>
              </a:rPr>
              <a:t>DBK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/DK BN=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√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3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Freeform 16"/>
          <p:cNvSpPr/>
          <p:nvPr/>
        </p:nvSpPr>
        <p:spPr>
          <a:xfrm>
            <a:off x="3645000" y="3379680"/>
            <a:ext cx="5238720" cy="290196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2901960"/>
              <a:gd name="textAreaBottom" fmla="*/ 2901960 h 2901960"/>
            </a:gdLst>
            <a:ahLst/>
            <a:rect l="textAreaLeft" t="textAreaTop" r="textAreaRight" b="textAreaBottom"/>
            <a:pathLst>
              <a:path w="3300" h="1828">
                <a:moveTo>
                  <a:pt x="0" y="767"/>
                </a:moveTo>
                <a:cubicBezTo>
                  <a:pt x="1" y="668"/>
                  <a:pt x="96" y="436"/>
                  <a:pt x="186" y="329"/>
                </a:cubicBezTo>
                <a:cubicBezTo>
                  <a:pt x="276" y="222"/>
                  <a:pt x="378" y="172"/>
                  <a:pt x="539" y="122"/>
                </a:cubicBezTo>
                <a:cubicBezTo>
                  <a:pt x="700" y="72"/>
                  <a:pt x="958" y="0"/>
                  <a:pt x="1152" y="29"/>
                </a:cubicBezTo>
                <a:cubicBezTo>
                  <a:pt x="1346" y="58"/>
                  <a:pt x="1496" y="205"/>
                  <a:pt x="1704" y="297"/>
                </a:cubicBezTo>
                <a:cubicBezTo>
                  <a:pt x="1912" y="389"/>
                  <a:pt x="2174" y="501"/>
                  <a:pt x="2401" y="581"/>
                </a:cubicBezTo>
                <a:cubicBezTo>
                  <a:pt x="2628" y="661"/>
                  <a:pt x="2921" y="641"/>
                  <a:pt x="3066" y="775"/>
                </a:cubicBezTo>
                <a:cubicBezTo>
                  <a:pt x="3211" y="909"/>
                  <a:pt x="3300" y="1218"/>
                  <a:pt x="3269" y="1384"/>
                </a:cubicBezTo>
                <a:cubicBezTo>
                  <a:pt x="3238" y="1550"/>
                  <a:pt x="3073" y="1718"/>
                  <a:pt x="2880" y="1773"/>
                </a:cubicBezTo>
                <a:cubicBezTo>
                  <a:pt x="2687" y="1828"/>
                  <a:pt x="2325" y="1778"/>
                  <a:pt x="2109" y="1716"/>
                </a:cubicBezTo>
                <a:cubicBezTo>
                  <a:pt x="1893" y="1654"/>
                  <a:pt x="1745" y="1478"/>
                  <a:pt x="1582" y="1400"/>
                </a:cubicBezTo>
                <a:cubicBezTo>
                  <a:pt x="1419" y="1322"/>
                  <a:pt x="1309" y="1281"/>
                  <a:pt x="1128" y="1246"/>
                </a:cubicBezTo>
                <a:cubicBezTo>
                  <a:pt x="947" y="1211"/>
                  <a:pt x="659" y="1216"/>
                  <a:pt x="495" y="1189"/>
                </a:cubicBezTo>
                <a:cubicBezTo>
                  <a:pt x="331" y="1162"/>
                  <a:pt x="228" y="1154"/>
                  <a:pt x="146" y="1084"/>
                </a:cubicBezTo>
                <a:cubicBezTo>
                  <a:pt x="64" y="1014"/>
                  <a:pt x="30" y="833"/>
                  <a:pt x="0" y="767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флексия. Осмысление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-36360" y="1628640"/>
            <a:ext cx="42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ассмотренный способ последней задачи носит обобщенный характ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Если не проходят более элементарные приемы, то последний  способ часто оказывается решающ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Text Box 12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Text Box 13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Text Box 14"/>
          <p:cNvSpPr/>
          <p:nvPr/>
        </p:nvSpPr>
        <p:spPr>
          <a:xfrm>
            <a:off x="-36360" y="443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дея этого приема связана с двумя дополнительными объектами: а) плоскостью, в которой лежит одна из прямых. б) перпендикуляром к ней, через который проходит вторая прям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Text Box 15"/>
          <p:cNvSpPr/>
          <p:nvPr/>
        </p:nvSpPr>
        <p:spPr>
          <a:xfrm>
            <a:off x="10800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Запомните последнюю картинк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3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3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3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3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3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5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Ориентировочная основа обобщенного прием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0" y="177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вый этап: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ямой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Line 13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14"/>
          <p:cNvSpPr/>
          <p:nvPr/>
        </p:nvSpPr>
        <p:spPr>
          <a:xfrm>
            <a:off x="0" y="3068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торой этап: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опустим перпендикуляр 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15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7" name="Line 16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Text Box 17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Text Box 18"/>
          <p:cNvSpPr/>
          <p:nvPr/>
        </p:nvSpPr>
        <p:spPr>
          <a:xfrm>
            <a:off x="0" y="45752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тий этап: в прямоугольном треугольни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пустим перпендикуляр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Его длина и будет равна расстоянию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Freeform 19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20"/>
          <p:cNvSpPr/>
          <p:nvPr/>
        </p:nvSpPr>
        <p:spPr>
          <a:xfrm flipH="1" flipV="1">
            <a:off x="4211280" y="4076280"/>
            <a:ext cx="43164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21"/>
          <p:cNvSpPr/>
          <p:nvPr/>
        </p:nvSpPr>
        <p:spPr>
          <a:xfrm>
            <a:off x="421164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0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3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3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3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2" dur="3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3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3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3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3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6" dur="3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3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Freeform 2"/>
          <p:cNvSpPr/>
          <p:nvPr/>
        </p:nvSpPr>
        <p:spPr>
          <a:xfrm>
            <a:off x="3416400" y="3470400"/>
            <a:ext cx="5467320" cy="281124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2811240"/>
              <a:gd name="textAreaBottom" fmla="*/ 2811240 h 2811240"/>
            </a:gdLst>
            <a:ahLst/>
            <a:rect l="textAreaLeft" t="textAreaTop" r="textAreaRight" b="textAreaBottom"/>
            <a:pathLst>
              <a:path w="3444" h="1771">
                <a:moveTo>
                  <a:pt x="22" y="662"/>
                </a:moveTo>
                <a:cubicBezTo>
                  <a:pt x="45" y="540"/>
                  <a:pt x="131" y="364"/>
                  <a:pt x="241" y="264"/>
                </a:cubicBezTo>
                <a:cubicBezTo>
                  <a:pt x="351" y="164"/>
                  <a:pt x="498" y="104"/>
                  <a:pt x="683" y="65"/>
                </a:cubicBezTo>
                <a:cubicBezTo>
                  <a:pt x="868" y="26"/>
                  <a:pt x="1159" y="0"/>
                  <a:pt x="1353" y="29"/>
                </a:cubicBezTo>
                <a:cubicBezTo>
                  <a:pt x="1547" y="58"/>
                  <a:pt x="1649" y="158"/>
                  <a:pt x="1848" y="240"/>
                </a:cubicBezTo>
                <a:cubicBezTo>
                  <a:pt x="2047" y="322"/>
                  <a:pt x="2318" y="444"/>
                  <a:pt x="2545" y="524"/>
                </a:cubicBezTo>
                <a:cubicBezTo>
                  <a:pt x="2772" y="604"/>
                  <a:pt x="3065" y="584"/>
                  <a:pt x="3210" y="718"/>
                </a:cubicBezTo>
                <a:cubicBezTo>
                  <a:pt x="3355" y="852"/>
                  <a:pt x="3444" y="1161"/>
                  <a:pt x="3413" y="1327"/>
                </a:cubicBezTo>
                <a:cubicBezTo>
                  <a:pt x="3382" y="1493"/>
                  <a:pt x="3217" y="1661"/>
                  <a:pt x="3024" y="1716"/>
                </a:cubicBezTo>
                <a:cubicBezTo>
                  <a:pt x="2831" y="1771"/>
                  <a:pt x="2469" y="1721"/>
                  <a:pt x="2253" y="1659"/>
                </a:cubicBezTo>
                <a:cubicBezTo>
                  <a:pt x="2037" y="1597"/>
                  <a:pt x="1889" y="1421"/>
                  <a:pt x="1726" y="1343"/>
                </a:cubicBezTo>
                <a:cubicBezTo>
                  <a:pt x="1563" y="1265"/>
                  <a:pt x="1453" y="1224"/>
                  <a:pt x="1272" y="1189"/>
                </a:cubicBezTo>
                <a:cubicBezTo>
                  <a:pt x="1091" y="1154"/>
                  <a:pt x="834" y="1164"/>
                  <a:pt x="639" y="1132"/>
                </a:cubicBezTo>
                <a:cubicBezTo>
                  <a:pt x="444" y="1100"/>
                  <a:pt x="206" y="1072"/>
                  <a:pt x="103" y="994"/>
                </a:cubicBezTo>
                <a:cubicBezTo>
                  <a:pt x="0" y="916"/>
                  <a:pt x="39" y="731"/>
                  <a:pt x="22" y="662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4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Как найти точки на скрещивающихся прямых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AD 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и </a:t>
            </a:r>
            <a:r>
              <a:rPr b="0" i="1" lang="en-US" sz="3200" spc="-1" strike="noStrike">
                <a:solidFill>
                  <a:srgbClr val="eaeaea"/>
                </a:solidFill>
                <a:latin typeface="Monotype Corsiva"/>
              </a:rPr>
              <a:t>BM</a:t>
            </a: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, ближайшие друг к другу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6" name="Line 5"/>
          <p:cNvSpPr/>
          <p:nvPr/>
        </p:nvSpPr>
        <p:spPr>
          <a:xfrm>
            <a:off x="4643280" y="4221000"/>
            <a:ext cx="3600720" cy="648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Line 6"/>
          <p:cNvSpPr/>
          <p:nvPr/>
        </p:nvSpPr>
        <p:spPr>
          <a:xfrm flipV="1">
            <a:off x="4643280" y="1773000"/>
            <a:ext cx="0" cy="2447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Line 7"/>
          <p:cNvSpPr/>
          <p:nvPr/>
        </p:nvSpPr>
        <p:spPr>
          <a:xfrm>
            <a:off x="4643280" y="1773360"/>
            <a:ext cx="3024360" cy="38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0" y="206064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проводим прямую параллельно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до пересечения с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(в плоскости 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Text Box 9"/>
          <p:cNvSpPr/>
          <p:nvPr/>
        </p:nvSpPr>
        <p:spPr>
          <a:xfrm>
            <a:off x="7667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464328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8244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4284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4" name="Line 15"/>
          <p:cNvSpPr/>
          <p:nvPr/>
        </p:nvSpPr>
        <p:spPr>
          <a:xfrm>
            <a:off x="3708360" y="4869000"/>
            <a:ext cx="3959280" cy="720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Text Box 17"/>
          <p:cNvSpPr/>
          <p:nvPr/>
        </p:nvSpPr>
        <p:spPr>
          <a:xfrm>
            <a:off x="3492360" y="443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Line 18"/>
          <p:cNvSpPr/>
          <p:nvPr/>
        </p:nvSpPr>
        <p:spPr>
          <a:xfrm flipH="1">
            <a:off x="4067280" y="4221000"/>
            <a:ext cx="576000" cy="720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Text Box 21"/>
          <p:cNvSpPr/>
          <p:nvPr/>
        </p:nvSpPr>
        <p:spPr>
          <a:xfrm>
            <a:off x="4211640" y="45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Text Box 22"/>
          <p:cNvSpPr/>
          <p:nvPr/>
        </p:nvSpPr>
        <p:spPr>
          <a:xfrm>
            <a:off x="0" y="3844800"/>
            <a:ext cx="42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B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носим параллельно вдоль прямой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отрезо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Новые положения точек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будут ближайшими друг к другу  точками прямы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Freeform 23"/>
          <p:cNvSpPr/>
          <p:nvPr/>
        </p:nvSpPr>
        <p:spPr>
          <a:xfrm>
            <a:off x="4067280" y="1773360"/>
            <a:ext cx="576000" cy="3168360"/>
          </a:xfrm>
          <a:custGeom>
            <a:avLst/>
            <a:gdLst>
              <a:gd name="textAreaLeft" fmla="*/ 0 w 576000"/>
              <a:gd name="textAreaRight" fmla="*/ 576360 w 576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363" h="1996">
                <a:moveTo>
                  <a:pt x="363" y="1542"/>
                </a:moveTo>
                <a:lnTo>
                  <a:pt x="363" y="0"/>
                </a:lnTo>
                <a:lnTo>
                  <a:pt x="0" y="1996"/>
                </a:lnTo>
                <a:lnTo>
                  <a:pt x="363" y="1542"/>
                </a:ln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0" name="Line 24"/>
          <p:cNvSpPr/>
          <p:nvPr/>
        </p:nvSpPr>
        <p:spPr>
          <a:xfrm flipH="1" flipV="1">
            <a:off x="4284720" y="3860280"/>
            <a:ext cx="3585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Text Box 25"/>
          <p:cNvSpPr/>
          <p:nvPr/>
        </p:nvSpPr>
        <p:spPr>
          <a:xfrm>
            <a:off x="4211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Line 26"/>
          <p:cNvSpPr/>
          <p:nvPr/>
        </p:nvSpPr>
        <p:spPr>
          <a:xfrm>
            <a:off x="4284720" y="3860640"/>
            <a:ext cx="2374920" cy="43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659640" y="39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3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2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3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3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3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3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8" dur="3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3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3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3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3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8" dur="3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1" dur="5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3" dur="5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5" dur="5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972 0.06289 E">
                                      <p:cBhvr>
                                        <p:cTn id="1507" dur="5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6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1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Freeform 45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Rectangle 2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Задача  на закрепление обобщеннного способ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Text Box 8"/>
          <p:cNvSpPr/>
          <p:nvPr/>
        </p:nvSpPr>
        <p:spPr>
          <a:xfrm>
            <a:off x="0" y="1341360"/>
            <a:ext cx="5148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кубе с длиной ребр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=5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 ребрах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зяты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соответственно. Найдите расстояние между прямым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 есл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K=4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9" name="Group 24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390" name="Text Box 25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1" name="Text Box 26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2" name="Text Box 27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Text Box 28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4" name="Group 29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395" name="Text Box 30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6" name="Text Box 31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7" name="Text Box 32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8" name="Text Box 33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9" name="Line 34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35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Line 36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Text Box 37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Line 38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Line 39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Line 40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Text Box 43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44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47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Text Box 48"/>
          <p:cNvSpPr/>
          <p:nvPr/>
        </p:nvSpPr>
        <p:spPr>
          <a:xfrm>
            <a:off x="0" y="3068640"/>
            <a:ext cx="51483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Решение. Через точку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c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роведем пряму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||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Из точк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на неё опустим перпендикуляр до пересечени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 точк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Высот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треугольник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 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дает искомое расстоя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Line 50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Freeform 41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Line 46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Line 51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Text Box 52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3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3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3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9" dur="3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3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3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3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3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6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9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3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3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2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Freeform 2"/>
          <p:cNvSpPr/>
          <p:nvPr/>
        </p:nvSpPr>
        <p:spPr>
          <a:xfrm>
            <a:off x="3780000" y="2781360"/>
            <a:ext cx="3384360" cy="1355760"/>
          </a:xfrm>
          <a:custGeom>
            <a:avLst/>
            <a:gdLst>
              <a:gd name="textAreaLeft" fmla="*/ 0 w 3384360"/>
              <a:gd name="textAreaRight" fmla="*/ 3384720 w 338436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132" h="854">
                <a:moveTo>
                  <a:pt x="0" y="0"/>
                </a:moveTo>
                <a:lnTo>
                  <a:pt x="2132" y="0"/>
                </a:lnTo>
                <a:lnTo>
                  <a:pt x="1587" y="854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Rectangle 3"/>
          <p:cNvSpPr/>
          <p:nvPr/>
        </p:nvSpPr>
        <p:spPr>
          <a:xfrm>
            <a:off x="3780000" y="2781360"/>
            <a:ext cx="3384360" cy="3024000"/>
          </a:xfrm>
          <a:prstGeom prst="rect">
            <a:avLst/>
          </a:prstGeom>
          <a:solidFill>
            <a:srgbClr val="ebcd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bcd5d"/>
                </a:solidFill>
                <a:latin typeface="Comic Sans MS"/>
              </a:rPr>
              <a:t>Третий урок</a:t>
            </a:r>
            <a:endParaRPr b="0" lang="en-US" sz="4000" spc="-1" strike="noStrike">
              <a:solidFill>
                <a:srgbClr val="ebcd5d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Monotype Corsiva"/>
              </a:rPr>
              <a:t>Решение задачи на закрепл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19" name="Group 7"/>
          <p:cNvGrpSpPr/>
          <p:nvPr/>
        </p:nvGrpSpPr>
        <p:grpSpPr>
          <a:xfrm>
            <a:off x="3348000" y="4148280"/>
            <a:ext cx="5796000" cy="1881360"/>
            <a:chOff x="3348000" y="4148280"/>
            <a:chExt cx="5796000" cy="1881360"/>
          </a:xfrm>
        </p:grpSpPr>
        <p:sp>
          <p:nvSpPr>
            <p:cNvPr id="1420" name="Text Box 8"/>
            <p:cNvSpPr/>
            <p:nvPr/>
          </p:nvSpPr>
          <p:spPr>
            <a:xfrm>
              <a:off x="3348000" y="558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1" name="Text Box 9"/>
            <p:cNvSpPr/>
            <p:nvPr/>
          </p:nvSpPr>
          <p:spPr>
            <a:xfrm>
              <a:off x="5076720" y="414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2" name="Text Box 10"/>
            <p:cNvSpPr/>
            <p:nvPr/>
          </p:nvSpPr>
          <p:spPr>
            <a:xfrm>
              <a:off x="8567640" y="421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3" name="Text Box 11"/>
            <p:cNvSpPr/>
            <p:nvPr/>
          </p:nvSpPr>
          <p:spPr>
            <a:xfrm>
              <a:off x="7236000" y="5661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4" name="Group 12"/>
          <p:cNvGrpSpPr/>
          <p:nvPr/>
        </p:nvGrpSpPr>
        <p:grpSpPr>
          <a:xfrm>
            <a:off x="3274920" y="1123920"/>
            <a:ext cx="5796000" cy="1918800"/>
            <a:chOff x="3274920" y="1123920"/>
            <a:chExt cx="5796000" cy="1918800"/>
          </a:xfrm>
        </p:grpSpPr>
        <p:sp>
          <p:nvSpPr>
            <p:cNvPr id="1425" name="Text Box 13"/>
            <p:cNvSpPr/>
            <p:nvPr/>
          </p:nvSpPr>
          <p:spPr>
            <a:xfrm>
              <a:off x="3274920" y="256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6" name="Text Box 14"/>
            <p:cNvSpPr/>
            <p:nvPr/>
          </p:nvSpPr>
          <p:spPr>
            <a:xfrm>
              <a:off x="5003640" y="1123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7" name="Text Box 15"/>
            <p:cNvSpPr/>
            <p:nvPr/>
          </p:nvSpPr>
          <p:spPr>
            <a:xfrm>
              <a:off x="8494560" y="1195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8" name="Text Box 16"/>
            <p:cNvSpPr/>
            <p:nvPr/>
          </p:nvSpPr>
          <p:spPr>
            <a:xfrm>
              <a:off x="7162920" y="263700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bcd5d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ebcd5d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9" name="Line 17"/>
          <p:cNvSpPr/>
          <p:nvPr/>
        </p:nvSpPr>
        <p:spPr>
          <a:xfrm>
            <a:off x="7164360" y="2781360"/>
            <a:ext cx="792360" cy="223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Text Box 18"/>
          <p:cNvSpPr/>
          <p:nvPr/>
        </p:nvSpPr>
        <p:spPr>
          <a:xfrm>
            <a:off x="802800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3780000" y="2781360"/>
            <a:ext cx="2736720" cy="30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20"/>
          <p:cNvSpPr/>
          <p:nvPr/>
        </p:nvSpPr>
        <p:spPr>
          <a:xfrm>
            <a:off x="6156360" y="58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3780000" y="2781360"/>
            <a:ext cx="3384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7164360" y="2781360"/>
            <a:ext cx="0" cy="3743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3780000" y="2781360"/>
            <a:ext cx="3384360" cy="374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6" name="Text Box 24"/>
          <p:cNvSpPr/>
          <p:nvPr/>
        </p:nvSpPr>
        <p:spPr>
          <a:xfrm>
            <a:off x="716436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Text Box 25"/>
          <p:cNvSpPr/>
          <p:nvPr/>
        </p:nvSpPr>
        <p:spPr>
          <a:xfrm>
            <a:off x="622764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Text Box 26"/>
          <p:cNvSpPr/>
          <p:nvPr/>
        </p:nvSpPr>
        <p:spPr>
          <a:xfrm>
            <a:off x="5292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0" y="1413000"/>
            <a:ext cx="558000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Вычисления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=DM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=3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4=15/4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EH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27/4. EH=45√3/2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2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5/8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0" name="Line 29"/>
          <p:cNvSpPr/>
          <p:nvPr/>
        </p:nvSpPr>
        <p:spPr>
          <a:xfrm flipH="1">
            <a:off x="6300360" y="2781360"/>
            <a:ext cx="863640" cy="1368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1" name="Freeform 30"/>
          <p:cNvSpPr/>
          <p:nvPr/>
        </p:nvSpPr>
        <p:spPr>
          <a:xfrm>
            <a:off x="6156360" y="3789360"/>
            <a:ext cx="1008000" cy="2735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2735280"/>
              <a:gd name="textAreaBottom" fmla="*/ 2735280 h 2735280"/>
            </a:gdLst>
            <a:ahLst/>
            <a:rect l="textAreaLeft" t="textAreaTop" r="textAreaRight" b="textAreaBottom"/>
            <a:pathLst>
              <a:path w="938" h="2510">
                <a:moveTo>
                  <a:pt x="0" y="0"/>
                </a:moveTo>
                <a:lnTo>
                  <a:pt x="938" y="251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2" name="Line 31"/>
          <p:cNvSpPr/>
          <p:nvPr/>
        </p:nvSpPr>
        <p:spPr>
          <a:xfrm flipH="1">
            <a:off x="5724360" y="2781360"/>
            <a:ext cx="144000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3" name="Line 32"/>
          <p:cNvSpPr/>
          <p:nvPr/>
        </p:nvSpPr>
        <p:spPr>
          <a:xfrm flipH="1">
            <a:off x="6156360" y="1484280"/>
            <a:ext cx="2303280" cy="230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4" name="Text Box 33"/>
          <p:cNvSpPr/>
          <p:nvPr/>
        </p:nvSpPr>
        <p:spPr>
          <a:xfrm>
            <a:off x="63007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bcd5d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0" y="3357720"/>
            <a:ext cx="493236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E/EH=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/√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A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+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=25+25/3. 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10/√3.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(2√3).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/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F=25/10=5/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Text Box 35"/>
          <p:cNvSpPr/>
          <p:nvPr/>
        </p:nvSpPr>
        <p:spPr>
          <a:xfrm>
            <a:off x="0" y="5119560"/>
            <a:ext cx="4932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Оценка ответа на смысл.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=2,5 &lt;DM=3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 Проверим путем параллельного переноса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до пересечения с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Line 36"/>
          <p:cNvSpPr/>
          <p:nvPr/>
        </p:nvSpPr>
        <p:spPr>
          <a:xfrm>
            <a:off x="5724360" y="3789360"/>
            <a:ext cx="64800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nodeType="clickEffect" fill="hold">
                      <p:stCondLst>
                        <p:cond delay="0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3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3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6" dur="3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0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4" dur="3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3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2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3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3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3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3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3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3" dur="3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98844E-006 L 0.07084 0.2726 E">
                                      <p:cBhvr>
                                        <p:cTn id="1680" dur="3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Задачи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532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стная работа по актуализация необходимых известных приемов работы с пространственными объектами: прямыми и плоскост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Определение нового понятия: расстояние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типовых задач на определение расстояний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Решение проблемной задачи на обобщение приема нахождения расстояния между скрещивающимися прямы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Средства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Модели пространственных фигур, чертежи к задач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еорема Фалеса и теорема о трех перпендикуляр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риемы стерео и планиметрических постро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иповые и проблемные зада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Компьютер с мультимедийным проектор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cc"/>
                </a:solidFill>
                <a:latin typeface="Comic Sans MS"/>
              </a:rPr>
              <a:t>План: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4250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Первый уро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Актуализация: выполнение устных заданий, доказательство теоремы,  решение задач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Определение и усвоение нового понят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торой урок . Решение типовых задач на усвоение и отработку нового по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Третий урок. Проблемная задача на обобщение приема нахождения расстояния между двумя скрещивающимися прямы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Freeform 8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10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11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Line 12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6" name="Group 19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37" name="Text Box 15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Text Box 16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0" name="Text Box 18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1" name="Group 20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42" name="Text Box 21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Text Box 22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Text Box 23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Text Box 24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46" name="Text Box 25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Text Box 26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Text Box 27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28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Text Box 29"/>
          <p:cNvSpPr/>
          <p:nvPr/>
        </p:nvSpPr>
        <p:spPr>
          <a:xfrm>
            <a:off x="395280" y="1557360"/>
            <a:ext cx="3168720" cy="22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ые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Text Box 30"/>
          <p:cNvSpPr/>
          <p:nvPr/>
        </p:nvSpPr>
        <p:spPr>
          <a:xfrm>
            <a:off x="324000" y="3716280"/>
            <a:ext cx="316836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Параллельны ли прямая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плоскость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Freeform 31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Freeform 33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3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Freeform 27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3780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Freeform 31"/>
          <p:cNvSpPr/>
          <p:nvPr/>
        </p:nvSpPr>
        <p:spPr>
          <a:xfrm>
            <a:off x="3780000" y="479736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ff00">
              <a:alpha val="7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"/>
          <p:cNvSpPr/>
          <p:nvPr/>
        </p:nvSpPr>
        <p:spPr>
          <a:xfrm flipV="1">
            <a:off x="3780000" y="4797000"/>
            <a:ext cx="475272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9"/>
          <p:cNvSpPr/>
          <p:nvPr/>
        </p:nvSpPr>
        <p:spPr>
          <a:xfrm flipV="1">
            <a:off x="3780000" y="4797000"/>
            <a:ext cx="2376360" cy="129564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 flipH="1" flipV="1">
            <a:off x="6588000" y="1844280"/>
            <a:ext cx="648000" cy="129708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11"/>
          <p:cNvSpPr/>
          <p:nvPr/>
        </p:nvSpPr>
        <p:spPr>
          <a:xfrm flipH="1" flipV="1">
            <a:off x="5076720" y="3357360"/>
            <a:ext cx="3456000" cy="1439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68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2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73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7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324000" y="170028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Установите все пары: прямая и параллельная ей плоск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Freeform 30"/>
          <p:cNvSpPr/>
          <p:nvPr/>
        </p:nvSpPr>
        <p:spPr>
          <a:xfrm>
            <a:off x="3780000" y="1844640"/>
            <a:ext cx="4752720" cy="1297080"/>
          </a:xfrm>
          <a:custGeom>
            <a:avLst/>
            <a:gdLst>
              <a:gd name="textAreaLeft" fmla="*/ 0 w 4752720"/>
              <a:gd name="textAreaRight" fmla="*/ 4753080 w 4752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994" h="817">
                <a:moveTo>
                  <a:pt x="0" y="817"/>
                </a:moveTo>
                <a:lnTo>
                  <a:pt x="817" y="0"/>
                </a:lnTo>
                <a:lnTo>
                  <a:pt x="2994" y="0"/>
                </a:lnTo>
                <a:lnTo>
                  <a:pt x="2177" y="817"/>
                </a:lnTo>
                <a:lnTo>
                  <a:pt x="0" y="817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3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3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8"/>
          <p:cNvSpPr/>
          <p:nvPr/>
        </p:nvSpPr>
        <p:spPr>
          <a:xfrm>
            <a:off x="3780000" y="3141720"/>
            <a:ext cx="3456000" cy="2951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тельные устные задач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4356000" y="1844640"/>
            <a:ext cx="719280" cy="367200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12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990" name="Text Box 13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14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Text Box 15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Text Box 16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4" name="Group 17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995" name="Text Box 18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Text Box 19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7" name="Text Box 20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8" name="Text Box 21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9" name="Text Box 22"/>
          <p:cNvSpPr/>
          <p:nvPr/>
        </p:nvSpPr>
        <p:spPr>
          <a:xfrm>
            <a:off x="507672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3995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608472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637236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Text Box 26"/>
          <p:cNvSpPr/>
          <p:nvPr/>
        </p:nvSpPr>
        <p:spPr>
          <a:xfrm>
            <a:off x="179280" y="155736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определяется расстояние между прямой и параллельной ей плоскостью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Line 27"/>
          <p:cNvSpPr/>
          <p:nvPr/>
        </p:nvSpPr>
        <p:spPr>
          <a:xfrm flipH="1">
            <a:off x="5076720" y="1844640"/>
            <a:ext cx="1440000" cy="1728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7236000" y="1844640"/>
            <a:ext cx="1296720" cy="424836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7" h="2676">
                <a:moveTo>
                  <a:pt x="0" y="2676"/>
                </a:moveTo>
                <a:lnTo>
                  <a:pt x="0" y="817"/>
                </a:lnTo>
                <a:lnTo>
                  <a:pt x="817" y="0"/>
                </a:lnTo>
                <a:lnTo>
                  <a:pt x="817" y="1860"/>
                </a:lnTo>
                <a:lnTo>
                  <a:pt x="0" y="2676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30"/>
          <p:cNvSpPr/>
          <p:nvPr/>
        </p:nvSpPr>
        <p:spPr>
          <a:xfrm>
            <a:off x="179280" y="299736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31"/>
          <p:cNvSpPr/>
          <p:nvPr/>
        </p:nvSpPr>
        <p:spPr>
          <a:xfrm>
            <a:off x="179280" y="4149720"/>
            <a:ext cx="385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MN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32"/>
          <p:cNvSpPr/>
          <p:nvPr/>
        </p:nvSpPr>
        <p:spPr>
          <a:xfrm>
            <a:off x="179280" y="5300640"/>
            <a:ext cx="385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ой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и плоскостью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становка проблем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3780000" y="3141720"/>
            <a:ext cx="3456000" cy="2952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Freeform 5"/>
          <p:cNvSpPr/>
          <p:nvPr/>
        </p:nvSpPr>
        <p:spPr>
          <a:xfrm>
            <a:off x="7236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Line 6"/>
          <p:cNvSpPr/>
          <p:nvPr/>
        </p:nvSpPr>
        <p:spPr>
          <a:xfrm>
            <a:off x="3780000" y="3141720"/>
            <a:ext cx="1295280" cy="1655640"/>
          </a:xfrm>
          <a:prstGeom prst="line">
            <a:avLst/>
          </a:prstGeom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10"/>
          <p:cNvGrpSpPr/>
          <p:nvPr/>
        </p:nvGrpSpPr>
        <p:grpSpPr>
          <a:xfrm>
            <a:off x="3348000" y="4437000"/>
            <a:ext cx="5796000" cy="1881360"/>
            <a:chOff x="3348000" y="4437000"/>
            <a:chExt cx="5796000" cy="1881360"/>
          </a:xfrm>
        </p:grpSpPr>
        <p:sp>
          <p:nvSpPr>
            <p:cNvPr id="1015" name="Text Box 11"/>
            <p:cNvSpPr/>
            <p:nvPr/>
          </p:nvSpPr>
          <p:spPr>
            <a:xfrm>
              <a:off x="3348000" y="587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Text Box 12"/>
            <p:cNvSpPr/>
            <p:nvPr/>
          </p:nvSpPr>
          <p:spPr>
            <a:xfrm>
              <a:off x="5076720" y="4437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3"/>
            <p:cNvSpPr/>
            <p:nvPr/>
          </p:nvSpPr>
          <p:spPr>
            <a:xfrm>
              <a:off x="8567640" y="450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Text Box 14"/>
            <p:cNvSpPr/>
            <p:nvPr/>
          </p:nvSpPr>
          <p:spPr>
            <a:xfrm>
              <a:off x="7236000" y="5950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9" name="Group 15"/>
          <p:cNvGrpSpPr/>
          <p:nvPr/>
        </p:nvGrpSpPr>
        <p:grpSpPr>
          <a:xfrm>
            <a:off x="3348000" y="1484280"/>
            <a:ext cx="5796000" cy="1918800"/>
            <a:chOff x="3348000" y="1484280"/>
            <a:chExt cx="5796000" cy="1918800"/>
          </a:xfrm>
        </p:grpSpPr>
        <p:sp>
          <p:nvSpPr>
            <p:cNvPr id="1020" name="Text Box 16"/>
            <p:cNvSpPr/>
            <p:nvPr/>
          </p:nvSpPr>
          <p:spPr>
            <a:xfrm>
              <a:off x="334800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5076720" y="148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r>
                <a:rPr b="1" i="1" lang="ru-RU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8567640" y="155592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C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Text Box 19"/>
            <p:cNvSpPr/>
            <p:nvPr/>
          </p:nvSpPr>
          <p:spPr>
            <a:xfrm>
              <a:off x="723600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r>
                <a:rPr b="1" i="1" lang="en-US" sz="1800" spc="-1" strike="noStrike" baseline="-25000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4" name="Text Box 21"/>
          <p:cNvSpPr/>
          <p:nvPr/>
        </p:nvSpPr>
        <p:spPr>
          <a:xfrm>
            <a:off x="7524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Text Box 22"/>
          <p:cNvSpPr/>
          <p:nvPr/>
        </p:nvSpPr>
        <p:spPr>
          <a:xfrm>
            <a:off x="8532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Text Box 24"/>
          <p:cNvSpPr/>
          <p:nvPr/>
        </p:nvSpPr>
        <p:spPr>
          <a:xfrm>
            <a:off x="250920" y="1628640"/>
            <a:ext cx="38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Как можно определить расстояние между скрещивающимися прямыми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Line 26"/>
          <p:cNvSpPr/>
          <p:nvPr/>
        </p:nvSpPr>
        <p:spPr>
          <a:xfrm flipV="1">
            <a:off x="7236000" y="2565000"/>
            <a:ext cx="576000" cy="3527640"/>
          </a:xfrm>
          <a:prstGeom prst="line">
            <a:avLst/>
          </a:prstGeom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Line 27"/>
          <p:cNvSpPr/>
          <p:nvPr/>
        </p:nvSpPr>
        <p:spPr>
          <a:xfrm flipV="1">
            <a:off x="7236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28"/>
          <p:cNvSpPr/>
          <p:nvPr/>
        </p:nvSpPr>
        <p:spPr>
          <a:xfrm flipV="1">
            <a:off x="3780000" y="2565000"/>
            <a:ext cx="576000" cy="352764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Text Box 29"/>
          <p:cNvSpPr/>
          <p:nvPr/>
        </p:nvSpPr>
        <p:spPr>
          <a:xfrm>
            <a:off x="3995640" y="22050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K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30"/>
          <p:cNvSpPr/>
          <p:nvPr/>
        </p:nvSpPr>
        <p:spPr>
          <a:xfrm flipV="1">
            <a:off x="3780000" y="3429000"/>
            <a:ext cx="1296720" cy="26640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4140360" y="364500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4643280" y="4292640"/>
            <a:ext cx="345600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Text Box 33"/>
          <p:cNvSpPr/>
          <p:nvPr/>
        </p:nvSpPr>
        <p:spPr>
          <a:xfrm>
            <a:off x="4716360" y="3141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i="1" lang="ru-RU" sz="1800" spc="-1" strike="noStrike" baseline="-25000">
                <a:solidFill>
                  <a:srgbClr val="ffff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Freeform 34"/>
          <p:cNvSpPr/>
          <p:nvPr/>
        </p:nvSpPr>
        <p:spPr>
          <a:xfrm>
            <a:off x="3780000" y="1844640"/>
            <a:ext cx="1285560" cy="4248360"/>
          </a:xfrm>
          <a:custGeom>
            <a:avLst/>
            <a:gdLst>
              <a:gd name="textAreaLeft" fmla="*/ 0 w 1285560"/>
              <a:gd name="textAreaRight" fmla="*/ 1285920 w 1285560"/>
              <a:gd name="textAreaTop" fmla="*/ 0 h 4248360"/>
              <a:gd name="textAreaBottom" fmla="*/ 4248720 h 4248360"/>
            </a:gdLst>
            <a:ahLst/>
            <a:rect l="textAreaLeft" t="textAreaTop" r="textAreaRight" b="textAreaBottom"/>
            <a:pathLst>
              <a:path w="810" h="2676">
                <a:moveTo>
                  <a:pt x="810" y="0"/>
                </a:moveTo>
                <a:lnTo>
                  <a:pt x="0" y="2676"/>
                </a:lnTo>
              </a:path>
            </a:pathLst>
          </a:custGeom>
          <a:noFill/>
          <a:ln w="255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7236000" y="3141720"/>
            <a:ext cx="1295280" cy="16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4427640" y="3933720"/>
            <a:ext cx="3457440" cy="0"/>
          </a:xfrm>
          <a:prstGeom prst="line">
            <a:avLst/>
          </a:prstGeom>
          <a:ln w="255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Text Box 37"/>
          <p:cNvSpPr/>
          <p:nvPr/>
        </p:nvSpPr>
        <p:spPr>
          <a:xfrm>
            <a:off x="250920" y="3141720"/>
            <a:ext cx="38512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рямы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8"/>
          <p:cNvSpPr/>
          <p:nvPr/>
        </p:nvSpPr>
        <p:spPr>
          <a:xfrm>
            <a:off x="324000" y="4581360"/>
            <a:ext cx="3851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K 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L</a:t>
            </a: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3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3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3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3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3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3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3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3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8:56Z</dcterms:modified>
  <cp:revision>27</cp:revision>
  <dc:subject/>
  <dc:title>PowerPoint Presentation</dc:title>
</cp:coreProperties>
</file>