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4A3D-6DBE-4404-A569-0D7C9A8A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B003-CA7F-4DB2-8541-63331427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D7CE-AA2D-4FFA-893D-47B2C98B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73C4-1307-4D81-A664-FA1DF246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1A15-0989-42A7-B91A-9311091B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79EB-19C5-4C52-ADAA-55D930B7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7DF7-331E-416C-A7E3-BDF77D0F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DC3A-DDD7-4AD6-B1B6-6E2D23F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DF57-8A34-4E33-B102-210E9B9D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B52-1825-48DC-B88A-6F796C2C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678-EBD6-4E40-B516-A1EF871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F562-59ED-478B-B67D-580D3436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5373-A688-4825-8C33-64DCB2A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B8C1-7AFA-4B25-993D-1104B92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D07-52E9-4AD9-9950-83D9CC7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5807-C710-45FE-BE01-AC2A4E31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78A7-E7CB-4653-A169-2E5B71BE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2591-247D-4F0A-9D6F-C4032172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F5D0-5825-4002-A35A-C000A580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6831-5C9C-424A-B8AD-8EDB9209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2238-AD9F-4AE5-AD48-9FB739BB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B4DC-2230-40C4-B572-8DD1CE80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9765-F647-4483-9D10-0BADB301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A6FF-CF8B-4CE6-A6EA-170EC4D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A213-928D-4A88-AF99-09D6D8717E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3E4A-BA7B-48C6-AD9B-81BC3B57A3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520560"/>
            <a:ext cx="58672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ЭЛЕМЕНТЫ ТРИГОНОМЕТР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90560" y="3051000"/>
            <a:ext cx="6172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ДИАННАЯ МЕРА УГ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Василёвская С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инковского р-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жегородской об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: Архипкин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пределите градусную и радианную меру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остороннего тре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обедре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моугольного тре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д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го шести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010280" y="1676520"/>
            <a:ext cx="1600200" cy="13716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/3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010280" y="2895480"/>
            <a:ext cx="1600200" cy="14479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/4 рад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7010280" y="4343400"/>
            <a:ext cx="1600200" cy="12952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/2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010280" y="5638680"/>
            <a:ext cx="1905120" cy="12193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/3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Закрепим полученные зн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 угол называется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глом в 1 ради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3520" y="3200400"/>
            <a:ext cx="8229600" cy="29718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нтральный угол, опирающий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 дугу, длина которой рав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диусу окружности, называе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углом в 1 радиа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175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градусная мера угла в 1 ра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2514600"/>
            <a:ext cx="8229600" cy="358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градусная мера угла в    </a:t>
            </a:r>
            <a:r>
              <a:rPr b="0" lang="el-GR" sz="3600" spc="-1" strike="noStrike">
                <a:solidFill>
                  <a:srgbClr val="4e009c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ра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200400" y="1905120"/>
            <a:ext cx="3809880" cy="16002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рад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19520" y="5029200"/>
            <a:ext cx="48006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 радианная мера угла в 1</a:t>
            </a:r>
            <a:r>
              <a:rPr b="0" lang="en-US" sz="36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?</a:t>
            </a: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3200040"/>
            <a:ext cx="8153280" cy="289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 радианная мера угла в </a:t>
            </a:r>
            <a:r>
              <a:rPr b="0" lang="el-GR" sz="3600" spc="-1" strike="noStrike">
                <a:solidFill>
                  <a:srgbClr val="4e009c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276720" y="1752480"/>
            <a:ext cx="403848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3124080" y="4876920"/>
            <a:ext cx="4419720" cy="167616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Найти градусную меру углов, записанных в таблиц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981080"/>
          <a:ext cx="9144000" cy="148608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71"/>
          <p:cNvSpPr/>
          <p:nvPr/>
        </p:nvSpPr>
        <p:spPr>
          <a:xfrm>
            <a:off x="0" y="3505320"/>
            <a:ext cx="20574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9c"/>
                </a:solidFill>
                <a:latin typeface="Arial"/>
              </a:rPr>
              <a:t>Ради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2"/>
          <p:cNvSpPr/>
          <p:nvPr/>
        </p:nvSpPr>
        <p:spPr>
          <a:xfrm>
            <a:off x="2057400" y="3505320"/>
            <a:ext cx="106668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3"/>
          <p:cNvSpPr/>
          <p:nvPr/>
        </p:nvSpPr>
        <p:spPr>
          <a:xfrm>
            <a:off x="3124080" y="3505320"/>
            <a:ext cx="106704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/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4"/>
          <p:cNvSpPr/>
          <p:nvPr/>
        </p:nvSpPr>
        <p:spPr>
          <a:xfrm>
            <a:off x="4191120" y="3505320"/>
            <a:ext cx="121896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/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5"/>
          <p:cNvSpPr/>
          <p:nvPr/>
        </p:nvSpPr>
        <p:spPr>
          <a:xfrm>
            <a:off x="5410080" y="3505320"/>
            <a:ext cx="106704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009c"/>
                </a:solidFill>
                <a:latin typeface="Arial"/>
              </a:rPr>
              <a:t>п/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6"/>
          <p:cNvSpPr/>
          <p:nvPr/>
        </p:nvSpPr>
        <p:spPr>
          <a:xfrm>
            <a:off x="6477120" y="3505320"/>
            <a:ext cx="11430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009c"/>
                </a:solidFill>
                <a:latin typeface="Arial"/>
              </a:rPr>
              <a:t>п/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7"/>
          <p:cNvSpPr/>
          <p:nvPr/>
        </p:nvSpPr>
        <p:spPr>
          <a:xfrm>
            <a:off x="7620120" y="3505320"/>
            <a:ext cx="152388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ffffff"/>
                </a:solidFill>
                <a:latin typeface="Arial"/>
              </a:rPr>
              <a:t>Успехов в учёбе!</a:t>
            </a:r>
            <a:endParaRPr b="0" lang="en-US" sz="8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276360"/>
            <a:ext cx="81532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a8a4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a8a4"/>
                </a:solidFill>
                <a:latin typeface="Arial"/>
              </a:rPr>
              <a:t>ЗА УРОК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980720"/>
            <a:ext cx="4343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e009c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Кажд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точке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ставиться в соответств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некоторая точка окру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</a:rPr>
              <a:t>Точки (1, </a:t>
            </a:r>
            <a:r>
              <a:rPr b="0" lang="el-GR" sz="24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 -1, -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перейдут соответств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в точки окру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 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Угол РО 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–единичны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его мерой измеря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други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495680" y="0"/>
            <a:ext cx="464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2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О                    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3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4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-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5791320" y="2590920"/>
            <a:ext cx="2286000" cy="2286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334120" y="1828800"/>
            <a:ext cx="1981080" cy="83808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V="1">
            <a:off x="5257800" y="4800600"/>
            <a:ext cx="2057400" cy="99072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724280" y="4114800"/>
            <a:ext cx="1828800" cy="68580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4724280" y="2819520"/>
            <a:ext cx="1524240" cy="76176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8077320" y="0"/>
            <a:ext cx="0" cy="6858000"/>
          </a:xfrm>
          <a:prstGeom prst="line">
            <a:avLst/>
          </a:prstGeom>
          <a:ln w="28440">
            <a:solidFill>
              <a:srgbClr val="4e00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8001000" y="373392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8001000" y="22860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8001000" y="27432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8001000" y="48006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8001000" y="52578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8001000" y="60948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8001000" y="6095880"/>
            <a:ext cx="22860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8001000" y="175248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8001000" y="76212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7"/>
          <p:cNvSpPr/>
          <p:nvPr/>
        </p:nvSpPr>
        <p:spPr>
          <a:xfrm>
            <a:off x="6629400" y="3657600"/>
            <a:ext cx="152280" cy="2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V="1">
            <a:off x="7010280" y="3733560"/>
            <a:ext cx="1143000" cy="759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V="1">
            <a:off x="7010280" y="2819160"/>
            <a:ext cx="609840" cy="9903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7010280" y="3809880"/>
            <a:ext cx="533520" cy="91440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6858000" y="2590920"/>
            <a:ext cx="152280" cy="12189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H="1">
            <a:off x="6248520" y="3809880"/>
            <a:ext cx="761760" cy="91440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Углы измеряются в радианной мере, а угол РО М</a:t>
            </a:r>
            <a:r>
              <a:rPr b="0" lang="ru-RU" sz="36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называется углом в 1 радиан (1рад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2895480"/>
            <a:ext cx="49532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Центральный угол, опирающийся на дугу, длина которой равна радиусу окружности, называется углом в 1 ради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57440" y="167652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 = ОМ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943600" y="2895480"/>
            <a:ext cx="2590920" cy="2819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7238880" y="2971800"/>
            <a:ext cx="45720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7238880" y="4343400"/>
            <a:ext cx="1295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 rot="20046600">
            <a:off x="8016840" y="2674440"/>
            <a:ext cx="879480" cy="1590840"/>
          </a:xfrm>
          <a:custGeom>
            <a:avLst/>
            <a:gdLst>
              <a:gd name="textAreaLeft" fmla="*/ 0 w 879480"/>
              <a:gd name="textAreaRight" fmla="*/ 317520 w 879480"/>
              <a:gd name="textAreaTop" fmla="*/ 74520 h 1590840"/>
              <a:gd name="textAreaBottom" fmla="*/ 1516320 h 15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3"/>
                  <a:pt x="10800" y="3246"/>
                </a:cubicBezTo>
                <a:lnTo>
                  <a:pt x="10800" y="7556"/>
                </a:lnTo>
                <a:cubicBezTo>
                  <a:pt x="10800" y="9179"/>
                  <a:pt x="16200" y="10802"/>
                  <a:pt x="21600" y="10802"/>
                </a:cubicBezTo>
                <a:cubicBezTo>
                  <a:pt x="16200" y="10802"/>
                  <a:pt x="10800" y="12425"/>
                  <a:pt x="10800" y="14048"/>
                </a:cubicBezTo>
                <a:lnTo>
                  <a:pt x="10800" y="18354"/>
                </a:lnTo>
                <a:cubicBezTo>
                  <a:pt x="10800" y="1997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рад ≈57,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761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5029200" y="3962520"/>
            <a:ext cx="4114800" cy="167616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092760" y="497844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762120" y="4038480"/>
            <a:ext cx="365760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981080" y="2286000"/>
            <a:ext cx="48006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4114800" y="2438280"/>
            <a:ext cx="1219320" cy="990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981080" y="533520"/>
            <a:ext cx="3810240" cy="16002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рад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3962520" y="838080"/>
            <a:ext cx="1295280" cy="9144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10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1.Найти градусную меру угла, равного:</a:t>
            </a:r>
            <a:br>
              <a:rPr sz="2400"/>
            </a:b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а)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 рад; б)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/2 рад; в) ¾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 рад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676520"/>
            <a:ext cx="83818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А)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находим: 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рад = 180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Б)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2 рад = 90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В)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¾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рад =  </a:t>
            </a:r>
            <a:r>
              <a:rPr b="1" lang="ru-RU" sz="2800" spc="-1" strike="noStrike" u="sng" baseline="30000">
                <a:solidFill>
                  <a:srgbClr val="4e009c"/>
                </a:solidFill>
                <a:uFillTx/>
                <a:latin typeface="Arial"/>
              </a:rPr>
              <a:t>180 . 3</a:t>
            </a:r>
            <a:r>
              <a:rPr b="1" lang="el-GR" sz="2800" spc="-1" strike="noStrike" u="sng" baseline="30000">
                <a:solidFill>
                  <a:srgbClr val="4e009c"/>
                </a:solidFill>
                <a:uFillTx/>
                <a:latin typeface="Arial"/>
                <a:ea typeface="Arial"/>
              </a:rPr>
              <a:t>π</a:t>
            </a: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= 13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                                 </a:t>
            </a:r>
            <a:r>
              <a:rPr b="1" lang="el-GR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124080" y="2057400"/>
            <a:ext cx="4800600" cy="12193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2. Найти градусную меру угла, равного : а) 45 </a:t>
            </a:r>
            <a:r>
              <a:rPr b="0" lang="en-US" sz="39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9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   б) 15 </a:t>
            </a:r>
            <a:r>
              <a:rPr b="0" lang="en-US" sz="39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наход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А) 4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80 * 45 рад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4 ра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Б) 1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4e009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= 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80 * 15 рад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2 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114800" y="2057400"/>
            <a:ext cx="411480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Найти  радианную меру углов, записанных в таблиц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981080"/>
          <a:ext cx="9144000" cy="297180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иа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8288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4e009c"/>
                </a:solidFill>
                <a:latin typeface="Arial"/>
              </a:rPr>
              <a:t>Проверим результаты вычис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2590920"/>
          <a:ext cx="9144000" cy="340668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иа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6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полнить 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 223 ( 1, 3, 5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28191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 1, 3, 5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257440" y="27428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25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 1, 3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8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