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643CC-742D-4D71-8549-90441936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C05C3-3A8A-4B01-882D-4B46870E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88563-3BB9-4B75-B6D0-27B29632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2327-8FF8-487A-AAD4-40179573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DA3A-4EFA-44DA-A0A3-2A9C7C4D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07EB-09FF-4D1D-B505-C763379B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EDB3-E3C3-46C5-98CE-7284C27F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92FC-C880-4672-BA6F-17875041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0714-D05E-4D37-89D0-19293D61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D93E-4261-472B-9A61-83355FB5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C555-F1B4-4975-922A-14496DBA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E6D9-3BAD-4ACB-B82B-47C854C4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0762-B458-45FF-B6AA-D130B38C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7A52-1BF8-4AF8-A7C8-D3D01B22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4B49-F2F5-4AC4-ADF7-E50575F3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9D13-C635-47C5-9655-8ECA1FD2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50A0-56AB-4EDA-9724-023223B8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0E1B4-6251-4FB2-A342-BDC8AAA2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551DF-B75B-40FC-AB89-F343B0C4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24355-A7DB-4BE3-8C41-19CC50B4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AC22B-C30E-4A6A-ABAE-59075117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F0D1B-35B5-435B-9D50-3C42C453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EC577-E457-4BB0-A3B3-629BF02B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99AFA-5EBD-443A-BE9D-A6AC2881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A42F-1B88-4701-AF85-33707812F2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5042-6D36-4221-80E5-3E3E3208D34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520560"/>
            <a:ext cx="58672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ЭЛЕМЕНТЫ ТРИГОНОМЕТРИИ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590560" y="3051000"/>
            <a:ext cx="61722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ДИАННАЯ МЕРА УГ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У Василёвская СО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инковского р-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жегородской об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итель: Архипкина И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Определите градусную и радианную меру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вностороннего треуголь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внобедрен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ямоугольного треуголь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др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го шестиуголь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010280" y="1676520"/>
            <a:ext cx="1600200" cy="137160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/3 р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7010280" y="2895480"/>
            <a:ext cx="1600200" cy="144792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/4 рад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7010280" y="4343400"/>
            <a:ext cx="1600200" cy="12952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/2 р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010280" y="5638680"/>
            <a:ext cx="1905120" cy="121932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/3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р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Закрепим полученные знан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 угол называется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глом в 1 радиа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33520" y="3200400"/>
            <a:ext cx="8229600" cy="297180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Центральный угол, опирающий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а дугу, длина которой равн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адиусу окружности, называетс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углом в 1 радиа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010280" cy="1752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9c"/>
                </a:solidFill>
                <a:latin typeface="Arial"/>
              </a:rPr>
              <a:t>Чему равна градусная мера угла в 1 рад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0880" y="2514600"/>
            <a:ext cx="8229600" cy="3581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9c"/>
                </a:solidFill>
                <a:latin typeface="Arial"/>
              </a:rPr>
              <a:t>Чему равна градусная мера угла в    </a:t>
            </a:r>
            <a:r>
              <a:rPr b="0" lang="el-GR" sz="3600" spc="-1" strike="noStrike">
                <a:solidFill>
                  <a:srgbClr val="4e009c"/>
                </a:solidFill>
                <a:latin typeface="Arial"/>
                <a:ea typeface="Arial"/>
              </a:rPr>
              <a:t>α</a:t>
            </a:r>
            <a:r>
              <a:rPr b="0" lang="ru-RU" sz="3600" spc="-1" strike="noStrike">
                <a:solidFill>
                  <a:srgbClr val="4e009c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4e009c"/>
                </a:solidFill>
                <a:latin typeface="Arial"/>
              </a:rPr>
              <a:t>рад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3200400" y="1905120"/>
            <a:ext cx="3809880" cy="160020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рад =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819520" y="5029200"/>
            <a:ext cx="480060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д = 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9c"/>
                </a:solidFill>
                <a:latin typeface="Arial"/>
              </a:rPr>
              <a:t>Чему равна  радианная мера угла в 1</a:t>
            </a:r>
            <a:r>
              <a:rPr b="0" lang="en-US" sz="36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3600" spc="-1" strike="noStrike">
                <a:solidFill>
                  <a:srgbClr val="4e009c"/>
                </a:solidFill>
                <a:latin typeface="Arial"/>
                <a:ea typeface="Arial"/>
              </a:rPr>
              <a:t>?</a:t>
            </a:r>
            <a:r>
              <a:rPr b="0" lang="ru-RU" sz="3900" spc="-1" strike="noStrike">
                <a:solidFill>
                  <a:srgbClr val="4e009c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3520" y="3200040"/>
            <a:ext cx="8153280" cy="289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9c"/>
                </a:solidFill>
                <a:latin typeface="Arial"/>
              </a:rPr>
              <a:t>Чему равна  радианная мера угла в </a:t>
            </a:r>
            <a:r>
              <a:rPr b="0" lang="el-GR" sz="3600" spc="-1" strike="noStrike">
                <a:solidFill>
                  <a:srgbClr val="4e009c"/>
                </a:solidFill>
                <a:latin typeface="Arial"/>
                <a:ea typeface="Arial"/>
              </a:rPr>
              <a:t>α</a:t>
            </a:r>
            <a:r>
              <a:rPr b="0" lang="ru-RU" sz="3600" spc="-1" strike="noStrike">
                <a:solidFill>
                  <a:srgbClr val="4e009c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3600" spc="-1" strike="noStrike">
                <a:solidFill>
                  <a:srgbClr val="4e009c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3276720" y="1752480"/>
            <a:ext cx="4038480" cy="1676520"/>
          </a:xfrm>
          <a:prstGeom prst="ellipse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=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ра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3124080" y="4876920"/>
            <a:ext cx="4419720" cy="1676160"/>
          </a:xfrm>
          <a:prstGeom prst="ellipse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=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.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1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e009c"/>
                </a:solidFill>
                <a:latin typeface="Arial"/>
              </a:rPr>
              <a:t>Найти градусную меру углов, записанных в таблиц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1981080"/>
          <a:ext cx="9144000" cy="1486080"/>
        </p:xfrm>
        <a:graphic>
          <a:graphicData uri="http://schemas.openxmlformats.org/drawingml/2006/table">
            <a:tbl>
              <a:tblPr/>
              <a:tblGrid>
                <a:gridCol w="2057400"/>
                <a:gridCol w="1066680"/>
                <a:gridCol w="1067040"/>
                <a:gridCol w="1216080"/>
                <a:gridCol w="1069920"/>
                <a:gridCol w="1143000"/>
                <a:gridCol w="1523880"/>
              </a:tblGrid>
              <a:tr h="14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ду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71"/>
          <p:cNvSpPr/>
          <p:nvPr/>
        </p:nvSpPr>
        <p:spPr>
          <a:xfrm>
            <a:off x="0" y="3505320"/>
            <a:ext cx="205740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009c"/>
                </a:solidFill>
                <a:latin typeface="Arial"/>
              </a:rPr>
              <a:t>Радиа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72"/>
          <p:cNvSpPr/>
          <p:nvPr/>
        </p:nvSpPr>
        <p:spPr>
          <a:xfrm>
            <a:off x="2057400" y="3505320"/>
            <a:ext cx="106668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e009c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3"/>
          <p:cNvSpPr/>
          <p:nvPr/>
        </p:nvSpPr>
        <p:spPr>
          <a:xfrm>
            <a:off x="3124080" y="3505320"/>
            <a:ext cx="106704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e009c"/>
                </a:solidFill>
                <a:latin typeface="Arial"/>
              </a:rPr>
              <a:t>п/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74"/>
          <p:cNvSpPr/>
          <p:nvPr/>
        </p:nvSpPr>
        <p:spPr>
          <a:xfrm>
            <a:off x="4191120" y="3505320"/>
            <a:ext cx="121896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e009c"/>
                </a:solidFill>
                <a:latin typeface="Arial"/>
              </a:rPr>
              <a:t>п/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75"/>
          <p:cNvSpPr/>
          <p:nvPr/>
        </p:nvSpPr>
        <p:spPr>
          <a:xfrm>
            <a:off x="5410080" y="3505320"/>
            <a:ext cx="106704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009c"/>
                </a:solidFill>
                <a:latin typeface="Arial"/>
              </a:rPr>
              <a:t>п/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76"/>
          <p:cNvSpPr/>
          <p:nvPr/>
        </p:nvSpPr>
        <p:spPr>
          <a:xfrm>
            <a:off x="6477120" y="3505320"/>
            <a:ext cx="114300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009c"/>
                </a:solidFill>
                <a:latin typeface="Arial"/>
              </a:rPr>
              <a:t>п/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77"/>
          <p:cNvSpPr/>
          <p:nvPr/>
        </p:nvSpPr>
        <p:spPr>
          <a:xfrm>
            <a:off x="7620120" y="3505320"/>
            <a:ext cx="152388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e009c"/>
                </a:solidFill>
                <a:latin typeface="Arial"/>
              </a:rPr>
              <a:t>п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100" spc="-1" strike="noStrike">
                <a:solidFill>
                  <a:srgbClr val="ffffff"/>
                </a:solidFill>
                <a:latin typeface="Arial"/>
              </a:rPr>
              <a:t>Успехов в учёбе!</a:t>
            </a:r>
            <a:endParaRPr b="0" lang="en-US" sz="8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276360"/>
            <a:ext cx="8153280" cy="2819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a8a4"/>
                </a:solidFill>
                <a:latin typeface="Arial"/>
              </a:rPr>
              <a:t>СПАСИБО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a8a4"/>
                </a:solidFill>
                <a:latin typeface="Arial"/>
              </a:rPr>
              <a:t>ЗА УРОК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8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9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1980720"/>
            <a:ext cx="43434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4e009c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9c"/>
                </a:solidFill>
                <a:latin typeface="Arial"/>
              </a:rPr>
              <a:t>Кажд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</a:rPr>
              <a:t>точке прям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9c"/>
                </a:solidFill>
                <a:latin typeface="Arial"/>
              </a:rPr>
              <a:t>ставиться в соответств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9c"/>
                </a:solidFill>
                <a:latin typeface="Arial"/>
              </a:rPr>
              <a:t>некоторая точка окруж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e009c"/>
                </a:solidFill>
                <a:latin typeface="Arial"/>
              </a:rPr>
              <a:t>Точки (1, </a:t>
            </a:r>
            <a:r>
              <a:rPr b="0" lang="el-GR" sz="2400" spc="-1" strike="noStrike">
                <a:solidFill>
                  <a:srgbClr val="4e009c"/>
                </a:solidFill>
                <a:latin typeface="Arial"/>
                <a:ea typeface="Arial"/>
              </a:rPr>
              <a:t>π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/2</a:t>
            </a:r>
            <a:r>
              <a:rPr b="0" i="1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, -1, -2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перейдут соответств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в точки окруж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М</a:t>
            </a:r>
            <a:r>
              <a:rPr b="0" lang="ru-RU" sz="24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М</a:t>
            </a:r>
            <a:r>
              <a:rPr b="0" lang="ru-RU" sz="24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М</a:t>
            </a:r>
            <a:r>
              <a:rPr b="0" lang="ru-RU" sz="24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4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, М</a:t>
            </a:r>
            <a:r>
              <a:rPr b="0" lang="ru-RU" sz="24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3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Угол РО М</a:t>
            </a:r>
            <a:r>
              <a:rPr b="0" lang="ru-RU" sz="24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 –единичный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его мерой измеря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другие уг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495680" y="0"/>
            <a:ext cx="4648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                    </a:t>
            </a:r>
            <a:r>
              <a:rPr b="0" lang="el-GR" sz="2000" spc="-1" strike="noStrike">
                <a:solidFill>
                  <a:srgbClr val="4e009c"/>
                </a:solidFill>
                <a:latin typeface="Arial"/>
                <a:ea typeface="Arial"/>
              </a:rPr>
              <a:t>π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0" lang="el-GR" sz="2000" spc="-1" strike="noStrike">
                <a:solidFill>
                  <a:srgbClr val="4e009c"/>
                </a:solidFill>
                <a:latin typeface="Arial"/>
                <a:ea typeface="Arial"/>
              </a:rPr>
              <a:t>π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М</a:t>
            </a:r>
            <a:r>
              <a:rPr b="0" lang="ru-RU" sz="20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2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М</a:t>
            </a:r>
            <a:r>
              <a:rPr b="0" lang="ru-RU" sz="20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1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О                    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М</a:t>
            </a:r>
            <a:r>
              <a:rPr b="0" lang="ru-RU" sz="20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3       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М</a:t>
            </a:r>
            <a:r>
              <a:rPr b="0" lang="ru-RU" sz="20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4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-</a:t>
            </a:r>
            <a:r>
              <a:rPr b="0" lang="el-GR" sz="2000" spc="-1" strike="noStrike">
                <a:solidFill>
                  <a:srgbClr val="4e009c"/>
                </a:solidFill>
                <a:latin typeface="Arial"/>
                <a:ea typeface="Arial"/>
              </a:rPr>
              <a:t>π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5791320" y="2590920"/>
            <a:ext cx="2286000" cy="2286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5334120" y="1828800"/>
            <a:ext cx="1981080" cy="838080"/>
          </a:xfrm>
          <a:prstGeom prst="line">
            <a:avLst/>
          </a:prstGeom>
          <a:ln w="2844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V="1">
            <a:off x="5257800" y="4800600"/>
            <a:ext cx="2057400" cy="990720"/>
          </a:xfrm>
          <a:prstGeom prst="line">
            <a:avLst/>
          </a:prstGeom>
          <a:ln w="2844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4724280" y="4114800"/>
            <a:ext cx="1828800" cy="685800"/>
          </a:xfrm>
          <a:prstGeom prst="line">
            <a:avLst/>
          </a:prstGeom>
          <a:ln w="2844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V="1">
            <a:off x="4724280" y="2819520"/>
            <a:ext cx="1524240" cy="761760"/>
          </a:xfrm>
          <a:prstGeom prst="line">
            <a:avLst/>
          </a:prstGeom>
          <a:ln w="2844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 flipV="1">
            <a:off x="8077320" y="0"/>
            <a:ext cx="0" cy="6858000"/>
          </a:xfrm>
          <a:prstGeom prst="line">
            <a:avLst/>
          </a:prstGeom>
          <a:ln w="28440">
            <a:solidFill>
              <a:srgbClr val="4e009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8001000" y="373392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8001000" y="228600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8001000" y="274320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8001000" y="480060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>
            <a:off x="8001000" y="525780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>
            <a:off x="8001000" y="60948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8001000" y="6095880"/>
            <a:ext cx="22860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8001000" y="175248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6"/>
          <p:cNvSpPr/>
          <p:nvPr/>
        </p:nvSpPr>
        <p:spPr>
          <a:xfrm>
            <a:off x="8001000" y="76212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27"/>
          <p:cNvSpPr/>
          <p:nvPr/>
        </p:nvSpPr>
        <p:spPr>
          <a:xfrm>
            <a:off x="6629400" y="3657600"/>
            <a:ext cx="152280" cy="2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 flipV="1">
            <a:off x="7010280" y="3733560"/>
            <a:ext cx="1143000" cy="7596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 flipV="1">
            <a:off x="7010280" y="2819160"/>
            <a:ext cx="609840" cy="99036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>
            <a:off x="7010280" y="3809880"/>
            <a:ext cx="533520" cy="91440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6858000" y="2590920"/>
            <a:ext cx="152280" cy="121896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 flipH="1">
            <a:off x="6248520" y="3809880"/>
            <a:ext cx="761760" cy="91440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2133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9c"/>
                </a:solidFill>
                <a:latin typeface="Arial"/>
                <a:ea typeface="Arial"/>
              </a:rPr>
              <a:t>Углы измеряются в радианной мере, а угол РО М</a:t>
            </a:r>
            <a:r>
              <a:rPr b="0" lang="ru-RU" sz="36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1</a:t>
            </a:r>
            <a:r>
              <a:rPr b="0" lang="ru-RU" sz="3600" spc="-1" strike="noStrike">
                <a:solidFill>
                  <a:srgbClr val="4e009c"/>
                </a:solidFill>
                <a:latin typeface="Arial"/>
                <a:ea typeface="Arial"/>
              </a:rPr>
              <a:t> называется углом в 1 радиан (1рад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1920" y="2895480"/>
            <a:ext cx="49532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Центральный угол, опирающийся на дугу, длина которой равна радиусу окружности, называется углом в 1 ради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257440" y="167652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 = ОМ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5943600" y="2895480"/>
            <a:ext cx="2590920" cy="2819520"/>
          </a:xfrm>
          <a:prstGeom prst="ellipse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7238880" y="2971800"/>
            <a:ext cx="45720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V="1">
            <a:off x="7238880" y="4343400"/>
            <a:ext cx="129564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10"/>
          <p:cNvSpPr/>
          <p:nvPr/>
        </p:nvSpPr>
        <p:spPr>
          <a:xfrm rot="20046600">
            <a:off x="8016840" y="2674440"/>
            <a:ext cx="879480" cy="1590840"/>
          </a:xfrm>
          <a:custGeom>
            <a:avLst/>
            <a:gdLst>
              <a:gd name="textAreaLeft" fmla="*/ 0 w 879480"/>
              <a:gd name="textAreaRight" fmla="*/ 317520 w 879480"/>
              <a:gd name="textAreaTop" fmla="*/ 74520 h 1590840"/>
              <a:gd name="textAreaBottom" fmla="*/ 1516320 h 159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23"/>
                  <a:pt x="10800" y="3246"/>
                </a:cubicBezTo>
                <a:lnTo>
                  <a:pt x="10800" y="7556"/>
                </a:lnTo>
                <a:cubicBezTo>
                  <a:pt x="10800" y="9179"/>
                  <a:pt x="16200" y="10802"/>
                  <a:pt x="21600" y="10802"/>
                </a:cubicBezTo>
                <a:cubicBezTo>
                  <a:pt x="16200" y="10802"/>
                  <a:pt x="10800" y="12425"/>
                  <a:pt x="10800" y="14048"/>
                </a:cubicBezTo>
                <a:lnTo>
                  <a:pt x="10800" y="18354"/>
                </a:lnTo>
                <a:cubicBezTo>
                  <a:pt x="10800" y="1997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рад ≈57,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67616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5029200" y="3962520"/>
            <a:ext cx="4114800" cy="1676160"/>
          </a:xfrm>
          <a:prstGeom prst="ellipse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=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рад                         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092760" y="4978440"/>
            <a:ext cx="3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762120" y="4038480"/>
            <a:ext cx="3657600" cy="1676520"/>
          </a:xfrm>
          <a:prstGeom prst="ellipse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=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ра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1981080" y="2286000"/>
            <a:ext cx="480060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д = 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11"/>
          <p:cNvSpPr/>
          <p:nvPr/>
        </p:nvSpPr>
        <p:spPr>
          <a:xfrm>
            <a:off x="4114800" y="2438280"/>
            <a:ext cx="1219320" cy="9907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1981080" y="533520"/>
            <a:ext cx="3810240" cy="160020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рад =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3962520" y="838080"/>
            <a:ext cx="1295280" cy="9144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10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009c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4e009c"/>
                </a:solidFill>
                <a:latin typeface="Arial"/>
              </a:rPr>
              <a:t>1.Найти градусную меру угла, равного:</a:t>
            </a:r>
            <a:br>
              <a:rPr sz="2400"/>
            </a:br>
            <a:r>
              <a:rPr b="1" lang="ru-RU" sz="2400" spc="-1" strike="noStrike">
                <a:solidFill>
                  <a:srgbClr val="4e009c"/>
                </a:solidFill>
                <a:latin typeface="Arial"/>
              </a:rPr>
              <a:t>а) </a:t>
            </a:r>
            <a:r>
              <a:rPr b="0" lang="el-GR" sz="35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3500" spc="-1" strike="noStrike">
                <a:solidFill>
                  <a:srgbClr val="4e009c"/>
                </a:solidFill>
                <a:latin typeface="Arial"/>
              </a:rPr>
              <a:t> рад; б) </a:t>
            </a:r>
            <a:r>
              <a:rPr b="0" lang="el-GR" sz="35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3500" spc="-1" strike="noStrike">
                <a:solidFill>
                  <a:srgbClr val="4e009c"/>
                </a:solidFill>
                <a:latin typeface="Arial"/>
              </a:rPr>
              <a:t>/2 рад; в) ¾ </a:t>
            </a:r>
            <a:r>
              <a:rPr b="0" lang="el-GR" sz="35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3500" spc="-1" strike="noStrike">
                <a:solidFill>
                  <a:srgbClr val="4e009c"/>
                </a:solidFill>
                <a:latin typeface="Arial"/>
              </a:rPr>
              <a:t> рад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676520"/>
            <a:ext cx="838188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А) по форму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находим:  </a:t>
            </a:r>
            <a:r>
              <a:rPr b="0" lang="el-GR" sz="28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 рад = 180</a:t>
            </a:r>
            <a:r>
              <a:rPr b="0" lang="en-US" sz="28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Б) </a:t>
            </a:r>
            <a:r>
              <a:rPr b="0" lang="el-GR" sz="28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/2 рад = 90</a:t>
            </a:r>
            <a:r>
              <a:rPr b="0" lang="en-US" sz="28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В) 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¾ </a:t>
            </a:r>
            <a:r>
              <a:rPr b="0" lang="el-GR" sz="28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 рад =  </a:t>
            </a:r>
            <a:r>
              <a:rPr b="1" lang="ru-RU" sz="2800" spc="-1" strike="noStrike" u="sng" baseline="30000">
                <a:solidFill>
                  <a:srgbClr val="4e009c"/>
                </a:solidFill>
                <a:uFillTx/>
                <a:latin typeface="Arial"/>
              </a:rPr>
              <a:t>180 . 3</a:t>
            </a:r>
            <a:r>
              <a:rPr b="1" lang="el-GR" sz="2800" spc="-1" strike="noStrike" u="sng" baseline="30000">
                <a:solidFill>
                  <a:srgbClr val="4e009c"/>
                </a:solidFill>
                <a:uFillTx/>
                <a:latin typeface="Arial"/>
                <a:ea typeface="Arial"/>
              </a:rPr>
              <a:t>π</a:t>
            </a:r>
            <a:r>
              <a:rPr b="1" lang="ru-RU" sz="2800" spc="-1" strike="noStrike" baseline="30000">
                <a:solidFill>
                  <a:srgbClr val="4e009c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= 135 </a:t>
            </a:r>
            <a:r>
              <a:rPr b="0" lang="en-US" sz="28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4e009c"/>
                </a:solidFill>
                <a:latin typeface="Arial"/>
                <a:ea typeface="Arial"/>
              </a:rPr>
              <a:t>                                    </a:t>
            </a:r>
            <a:r>
              <a:rPr b="1" lang="el-GR" sz="2800" spc="-1" strike="noStrike" baseline="30000">
                <a:solidFill>
                  <a:srgbClr val="4e009c"/>
                </a:solidFill>
                <a:latin typeface="Arial"/>
                <a:ea typeface="Arial"/>
              </a:rPr>
              <a:t>π</a:t>
            </a:r>
            <a:r>
              <a:rPr b="1" lang="ru-RU" sz="2800" spc="-1" strike="noStrike" baseline="30000">
                <a:solidFill>
                  <a:srgbClr val="4e009c"/>
                </a:solidFill>
                <a:latin typeface="Arial"/>
                <a:ea typeface="Arial"/>
              </a:rPr>
              <a:t> 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124080" y="2057400"/>
            <a:ext cx="4800600" cy="121932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д = 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2. Найти градусную меру угла, равного : а) 45 </a:t>
            </a:r>
            <a:r>
              <a:rPr b="0" lang="en-US" sz="39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3900" spc="-1" strike="noStrike">
                <a:solidFill>
                  <a:srgbClr val="4e009c"/>
                </a:solidFill>
                <a:latin typeface="Arial"/>
                <a:ea typeface="Arial"/>
              </a:rPr>
              <a:t>;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    б) 15 </a:t>
            </a:r>
            <a:r>
              <a:rPr b="0" lang="en-US" sz="39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По форму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находи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А) 45 </a:t>
            </a:r>
            <a:r>
              <a:rPr b="0" lang="en-US" sz="28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/180 * 45 рад = </a:t>
            </a:r>
            <a:r>
              <a:rPr b="0" lang="el-GR" sz="28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/4 ра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Б) 15 </a:t>
            </a:r>
            <a:r>
              <a:rPr b="0" lang="en-US" sz="28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1800" spc="-1" strike="noStrike">
                <a:solidFill>
                  <a:srgbClr val="4e009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=  </a:t>
            </a:r>
            <a:r>
              <a:rPr b="0" lang="el-GR" sz="28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/180 * 15 рад = </a:t>
            </a:r>
            <a:r>
              <a:rPr b="0" lang="el-GR" sz="28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/12 р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4114800" y="2057400"/>
            <a:ext cx="4114800" cy="1676520"/>
          </a:xfrm>
          <a:prstGeom prst="ellipse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=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рад                         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e009c"/>
                </a:solidFill>
                <a:latin typeface="Arial"/>
              </a:rPr>
              <a:t>Найти  радианную меру углов, записанных в таблиц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0" y="1981080"/>
          <a:ext cx="9144000" cy="2971800"/>
        </p:xfrm>
        <a:graphic>
          <a:graphicData uri="http://schemas.openxmlformats.org/drawingml/2006/table">
            <a:tbl>
              <a:tblPr/>
              <a:tblGrid>
                <a:gridCol w="2057400"/>
                <a:gridCol w="1066680"/>
                <a:gridCol w="1067040"/>
                <a:gridCol w="1216080"/>
                <a:gridCol w="1069920"/>
                <a:gridCol w="1143000"/>
                <a:gridCol w="1523880"/>
              </a:tblGrid>
              <a:tr h="14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ду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диан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8288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e009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4e009c"/>
                </a:solidFill>
                <a:latin typeface="Arial"/>
              </a:rPr>
              <a:t>Проверим результаты вычисл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2590920"/>
          <a:ext cx="9144000" cy="3406680"/>
        </p:xfrm>
        <a:graphic>
          <a:graphicData uri="http://schemas.openxmlformats.org/drawingml/2006/table">
            <a:tbl>
              <a:tblPr/>
              <a:tblGrid>
                <a:gridCol w="2057400"/>
                <a:gridCol w="1066680"/>
                <a:gridCol w="1067040"/>
                <a:gridCol w="1216080"/>
                <a:gridCol w="1069920"/>
                <a:gridCol w="1143000"/>
                <a:gridCol w="1523880"/>
              </a:tblGrid>
              <a:tr h="1485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ду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диан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60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  <a:ea typeface="Arial"/>
                        </a:rPr>
                        <a:t>π</a:t>
                      </a: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 6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60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  <a:ea typeface="Arial"/>
                        </a:rPr>
                        <a:t>π</a:t>
                      </a: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 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60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  <a:ea typeface="Arial"/>
                        </a:rPr>
                        <a:t>π</a:t>
                      </a: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 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60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  <a:ea typeface="Arial"/>
                        </a:rPr>
                        <a:t>π</a:t>
                      </a: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 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π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ыполнить 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№  223 ( 1, 3, 5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676160" y="2819160"/>
            <a:ext cx="3429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2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( 1, 3, 5 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257440" y="2742840"/>
            <a:ext cx="3429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25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( 1, 3 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30T21:58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