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193B-3F14-4834-8953-D0A6ACDA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0633-661F-40B1-AC9C-6E2E04C3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B779-5F43-4DC0-ADA9-E0E62150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57AB-C79B-472B-B2CC-28A048C7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1EAB-521E-4B24-8BE0-1C3DE859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B852-6416-489B-B381-A47B99E6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6DC8-2B22-410B-BE68-94F28697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ABE5-4F57-40F7-8BC6-90DF8B22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96C9-7DFF-4193-9212-11B625F5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E1CB-3258-4AD9-944F-84212149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BA86-D3D5-4B06-AA7E-F3D70F93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8381-782C-4480-A7DF-E85CD67E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1DFF-B2E8-4253-8460-FFEA3B9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4BF9-3629-4628-B3BE-A38991B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485E-BEE3-4935-A200-4560535C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82AE-3B99-4F57-9F71-72AEFE82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3F9C-9F73-4977-8339-6A11134B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EAC6-A435-42D1-9986-33D9BA04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0660-70D3-46DC-94DD-9868C591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DC39-637C-4D77-AE61-D126F434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0EDF-0D6E-48F4-901D-C6EDBA08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5A35-0F48-415E-86E5-908E1110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DD14-32E7-4A78-9C12-C3EEB61D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8C77-8239-44CB-9957-2FEBE0B0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96A-32A6-4209-B1F5-4CD91CA050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00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a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a8a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5ED8-1B4E-40BA-B543-3C8F098E05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520560"/>
            <a:ext cx="58672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ЭЛЕМЕНТЫ ТРИГОНОМЕТРИ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590560" y="3051000"/>
            <a:ext cx="6172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ДИАННАЯ МЕРА УГ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У Василёвская СО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инковского р-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жегородской об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итель: Архипкин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пределите градусную и радианную меру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вностороннего тре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внобедрен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ямоугольного тре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д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го шестиуг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010280" y="1676520"/>
            <a:ext cx="1600200" cy="13716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/3 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010280" y="2895480"/>
            <a:ext cx="1600200" cy="144792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/4 рад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7010280" y="4343400"/>
            <a:ext cx="1600200" cy="12952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/2 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010280" y="5638680"/>
            <a:ext cx="1905120" cy="121932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/3 </a:t>
            </a:r>
            <a:r>
              <a:rPr b="1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ра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Закрепим полученные зн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 угол называется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глом в 1 радиа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33520" y="3200400"/>
            <a:ext cx="8229600" cy="29718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ентральный угол, опирающий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 дугу, длина которой рав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адиусу окружности, называет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углом в 1 радиа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010280" cy="1752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градусная мера угла в 1 ра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2514600"/>
            <a:ext cx="8229600" cy="3581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градусная мера угла в    </a:t>
            </a:r>
            <a:r>
              <a:rPr b="0" lang="el-GR" sz="3600" spc="-1" strike="noStrike">
                <a:solidFill>
                  <a:srgbClr val="4e009c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ра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200400" y="1905120"/>
            <a:ext cx="3809880" cy="16002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рад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819520" y="5029200"/>
            <a:ext cx="48006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 =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 радианная мера угла в 1</a:t>
            </a:r>
            <a:r>
              <a:rPr b="0" lang="en-US" sz="36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?</a:t>
            </a: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3200040"/>
            <a:ext cx="8153280" cy="289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</a:rPr>
              <a:t>Чему равна  радианная мера угла в </a:t>
            </a:r>
            <a:r>
              <a:rPr b="0" lang="el-GR" sz="3600" spc="-1" strike="noStrike">
                <a:solidFill>
                  <a:srgbClr val="4e009c"/>
                </a:solidFill>
                <a:latin typeface="Arial"/>
                <a:ea typeface="Arial"/>
              </a:rPr>
              <a:t>α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276720" y="1752480"/>
            <a:ext cx="4038480" cy="1676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3124080" y="4876920"/>
            <a:ext cx="4419720" cy="167616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Найти градусную меру углов, записанных в таблиц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1981080"/>
          <a:ext cx="9144000" cy="148608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1067040"/>
                <a:gridCol w="1216080"/>
                <a:gridCol w="1069920"/>
                <a:gridCol w="1143000"/>
                <a:gridCol w="1523880"/>
              </a:tblGrid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ду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71"/>
          <p:cNvSpPr/>
          <p:nvPr/>
        </p:nvSpPr>
        <p:spPr>
          <a:xfrm>
            <a:off x="0" y="3505320"/>
            <a:ext cx="20574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009c"/>
                </a:solidFill>
                <a:latin typeface="Arial"/>
              </a:rPr>
              <a:t>Ради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2"/>
          <p:cNvSpPr/>
          <p:nvPr/>
        </p:nvSpPr>
        <p:spPr>
          <a:xfrm>
            <a:off x="2057400" y="3505320"/>
            <a:ext cx="106668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3"/>
          <p:cNvSpPr/>
          <p:nvPr/>
        </p:nvSpPr>
        <p:spPr>
          <a:xfrm>
            <a:off x="3124080" y="3505320"/>
            <a:ext cx="106704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п/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4"/>
          <p:cNvSpPr/>
          <p:nvPr/>
        </p:nvSpPr>
        <p:spPr>
          <a:xfrm>
            <a:off x="4191120" y="3505320"/>
            <a:ext cx="121896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п/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5"/>
          <p:cNvSpPr/>
          <p:nvPr/>
        </p:nvSpPr>
        <p:spPr>
          <a:xfrm>
            <a:off x="5410080" y="3505320"/>
            <a:ext cx="106704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009c"/>
                </a:solidFill>
                <a:latin typeface="Arial"/>
              </a:rPr>
              <a:t>п/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76"/>
          <p:cNvSpPr/>
          <p:nvPr/>
        </p:nvSpPr>
        <p:spPr>
          <a:xfrm>
            <a:off x="6477120" y="3505320"/>
            <a:ext cx="11430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009c"/>
                </a:solidFill>
                <a:latin typeface="Arial"/>
              </a:rPr>
              <a:t>п/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7"/>
          <p:cNvSpPr/>
          <p:nvPr/>
        </p:nvSpPr>
        <p:spPr>
          <a:xfrm>
            <a:off x="7620120" y="3505320"/>
            <a:ext cx="152388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e009c"/>
                </a:solidFill>
                <a:latin typeface="Arial"/>
              </a:rPr>
              <a:t>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ffffff"/>
                </a:solidFill>
                <a:latin typeface="Arial"/>
              </a:rPr>
              <a:t>Успехов в учёбе!</a:t>
            </a:r>
            <a:endParaRPr b="0" lang="en-US" sz="8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276360"/>
            <a:ext cx="8153280" cy="2819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a8a4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a8a4"/>
                </a:solidFill>
                <a:latin typeface="Arial"/>
              </a:rPr>
              <a:t>ЗА УРОК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0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1980720"/>
            <a:ext cx="43434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4e009c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Кажд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точке прям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ставиться в соответств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</a:rPr>
              <a:t>некоторая точка окруж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</a:rPr>
              <a:t>Точки (1, </a:t>
            </a:r>
            <a:r>
              <a:rPr b="0" lang="el-GR" sz="24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/2</a:t>
            </a: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 -1, -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перейдут соответств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в точки окру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, 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Угол РО М</a:t>
            </a:r>
            <a:r>
              <a:rPr b="0" lang="ru-RU" sz="24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 –единичны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его мерой измеря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другие уг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009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495680" y="0"/>
            <a:ext cx="4648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0" lang="el-GR" sz="20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el-GR" sz="20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2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О                    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3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М</a:t>
            </a:r>
            <a:r>
              <a:rPr b="0" lang="ru-RU" sz="20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4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-</a:t>
            </a:r>
            <a:r>
              <a:rPr b="0" lang="el-GR" sz="2000" spc="-1" strike="noStrike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4e009c"/>
                </a:solidFill>
                <a:latin typeface="Arial"/>
                <a:ea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5791320" y="2590920"/>
            <a:ext cx="2286000" cy="2286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5334120" y="1828800"/>
            <a:ext cx="1981080" cy="83808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V="1">
            <a:off x="5257800" y="4800600"/>
            <a:ext cx="2057400" cy="99072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4724280" y="4114800"/>
            <a:ext cx="1828800" cy="68580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4724280" y="2819520"/>
            <a:ext cx="1524240" cy="761760"/>
          </a:xfrm>
          <a:prstGeom prst="line">
            <a:avLst/>
          </a:prstGeom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8077320" y="0"/>
            <a:ext cx="0" cy="6858000"/>
          </a:xfrm>
          <a:prstGeom prst="line">
            <a:avLst/>
          </a:prstGeom>
          <a:ln w="28440">
            <a:solidFill>
              <a:srgbClr val="4e009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8001000" y="373392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8001000" y="22860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8001000" y="27432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8001000" y="48006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8001000" y="525780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>
            <a:off x="8001000" y="60948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8001000" y="6095880"/>
            <a:ext cx="22860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5"/>
          <p:cNvSpPr/>
          <p:nvPr/>
        </p:nvSpPr>
        <p:spPr>
          <a:xfrm>
            <a:off x="8001000" y="175248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6"/>
          <p:cNvSpPr/>
          <p:nvPr/>
        </p:nvSpPr>
        <p:spPr>
          <a:xfrm>
            <a:off x="8001000" y="762120"/>
            <a:ext cx="152280" cy="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27"/>
          <p:cNvSpPr/>
          <p:nvPr/>
        </p:nvSpPr>
        <p:spPr>
          <a:xfrm>
            <a:off x="6629400" y="3657600"/>
            <a:ext cx="152280" cy="2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8"/>
          <p:cNvSpPr/>
          <p:nvPr/>
        </p:nvSpPr>
        <p:spPr>
          <a:xfrm flipV="1">
            <a:off x="7010280" y="3733560"/>
            <a:ext cx="1143000" cy="7596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 flipV="1">
            <a:off x="7010280" y="2819160"/>
            <a:ext cx="609840" cy="99036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7010280" y="3809880"/>
            <a:ext cx="533520" cy="91440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6858000" y="2590920"/>
            <a:ext cx="152280" cy="121896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 flipH="1">
            <a:off x="6248520" y="3809880"/>
            <a:ext cx="761760" cy="914400"/>
          </a:xfrm>
          <a:prstGeom prst="line">
            <a:avLst/>
          </a:prstGeom>
          <a:ln w="9360">
            <a:solidFill>
              <a:srgbClr val="4e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Углы измеряются в радианной мере, а угол РО М</a:t>
            </a:r>
            <a:r>
              <a:rPr b="0" lang="ru-RU" sz="3600" spc="-1" strike="noStrike" baseline="-25000">
                <a:solidFill>
                  <a:srgbClr val="4e009c"/>
                </a:solidFill>
                <a:latin typeface="Arial"/>
                <a:ea typeface="Arial"/>
              </a:rPr>
              <a:t>1</a:t>
            </a:r>
            <a:r>
              <a:rPr b="0" lang="ru-RU" sz="3600" spc="-1" strike="noStrike">
                <a:solidFill>
                  <a:srgbClr val="4e009c"/>
                </a:solidFill>
                <a:latin typeface="Arial"/>
                <a:ea typeface="Arial"/>
              </a:rPr>
              <a:t> называется углом в 1 радиан (1рад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2895480"/>
            <a:ext cx="49532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Центральный угол, опирающийся на дугу, длина которой равна радиусу окружности, называется углом в 1 ради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57440" y="167652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 = ОМ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5943600" y="2895480"/>
            <a:ext cx="2590920" cy="2819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7238880" y="2971800"/>
            <a:ext cx="457200" cy="1447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7238880" y="4343400"/>
            <a:ext cx="129564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 rot="20046600">
            <a:off x="8016840" y="2674440"/>
            <a:ext cx="879480" cy="1590840"/>
          </a:xfrm>
          <a:custGeom>
            <a:avLst/>
            <a:gdLst>
              <a:gd name="textAreaLeft" fmla="*/ 0 w 879480"/>
              <a:gd name="textAreaRight" fmla="*/ 317520 w 879480"/>
              <a:gd name="textAreaTop" fmla="*/ 74520 h 1590840"/>
              <a:gd name="textAreaBottom" fmla="*/ 1516320 h 159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23"/>
                  <a:pt x="10800" y="3246"/>
                </a:cubicBezTo>
                <a:lnTo>
                  <a:pt x="10800" y="7556"/>
                </a:lnTo>
                <a:cubicBezTo>
                  <a:pt x="10800" y="9179"/>
                  <a:pt x="16200" y="10802"/>
                  <a:pt x="21600" y="10802"/>
                </a:cubicBezTo>
                <a:cubicBezTo>
                  <a:pt x="16200" y="10802"/>
                  <a:pt x="10800" y="12425"/>
                  <a:pt x="10800" y="14048"/>
                </a:cubicBezTo>
                <a:lnTo>
                  <a:pt x="10800" y="18354"/>
                </a:lnTo>
                <a:cubicBezTo>
                  <a:pt x="10800" y="1997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рад ≈57,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761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5029200" y="3962520"/>
            <a:ext cx="4114800" cy="167616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092760" y="497844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762120" y="4038480"/>
            <a:ext cx="3657600" cy="1676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981080" y="2286000"/>
            <a:ext cx="4800600" cy="152388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 =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4114800" y="2438280"/>
            <a:ext cx="1219320" cy="990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981080" y="533520"/>
            <a:ext cx="3810240" cy="160020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рад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3962520" y="838080"/>
            <a:ext cx="1295280" cy="9144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10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009c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4e009c"/>
                </a:solidFill>
                <a:latin typeface="Arial"/>
              </a:rPr>
              <a:t>1.Найти градусную меру угла, равного:</a:t>
            </a:r>
            <a:br>
              <a:rPr sz="2400"/>
            </a:br>
            <a:r>
              <a:rPr b="1" lang="ru-RU" sz="2400" spc="-1" strike="noStrike">
                <a:solidFill>
                  <a:srgbClr val="4e009c"/>
                </a:solidFill>
                <a:latin typeface="Arial"/>
              </a:rPr>
              <a:t>а) </a:t>
            </a:r>
            <a:r>
              <a:rPr b="0" lang="el-GR" sz="35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3500" spc="-1" strike="noStrike">
                <a:solidFill>
                  <a:srgbClr val="4e009c"/>
                </a:solidFill>
                <a:latin typeface="Arial"/>
              </a:rPr>
              <a:t> рад; б) </a:t>
            </a:r>
            <a:r>
              <a:rPr b="0" lang="el-GR" sz="35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3500" spc="-1" strike="noStrike">
                <a:solidFill>
                  <a:srgbClr val="4e009c"/>
                </a:solidFill>
                <a:latin typeface="Arial"/>
              </a:rPr>
              <a:t>/2 рад; в) ¾ </a:t>
            </a:r>
            <a:r>
              <a:rPr b="0" lang="el-GR" sz="35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3500" spc="-1" strike="noStrike">
                <a:solidFill>
                  <a:srgbClr val="4e009c"/>
                </a:solidFill>
                <a:latin typeface="Arial"/>
              </a:rPr>
              <a:t> рад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676520"/>
            <a:ext cx="83818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А)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находим: 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рад = 180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Б)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2 рад = 90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В)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¾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рад =  </a:t>
            </a:r>
            <a:r>
              <a:rPr b="1" lang="ru-RU" sz="2800" spc="-1" strike="noStrike" u="sng" baseline="30000">
                <a:solidFill>
                  <a:srgbClr val="4e009c"/>
                </a:solidFill>
                <a:uFillTx/>
                <a:latin typeface="Arial"/>
              </a:rPr>
              <a:t>180 . 3</a:t>
            </a:r>
            <a:r>
              <a:rPr b="1" lang="el-GR" sz="2800" spc="-1" strike="noStrike" u="sng" baseline="30000">
                <a:solidFill>
                  <a:srgbClr val="4e009c"/>
                </a:solidFill>
                <a:uFillTx/>
                <a:latin typeface="Arial"/>
                <a:ea typeface="Arial"/>
              </a:rPr>
              <a:t>π</a:t>
            </a:r>
            <a:r>
              <a:rPr b="1" lang="ru-RU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= 135 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                                    </a:t>
            </a:r>
            <a:r>
              <a:rPr b="1" lang="el-GR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π</a:t>
            </a:r>
            <a:r>
              <a:rPr b="1" lang="ru-RU" sz="2800" spc="-1" strike="noStrike" baseline="30000">
                <a:solidFill>
                  <a:srgbClr val="4e009c"/>
                </a:solidFill>
                <a:latin typeface="Arial"/>
                <a:ea typeface="Arial"/>
              </a:rPr>
              <a:t> 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124080" y="2057400"/>
            <a:ext cx="4800600" cy="1219320"/>
          </a:xfrm>
          <a:prstGeom prst="rect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д =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2. Найти градусную меру угла, равного : а) 45 </a:t>
            </a:r>
            <a:r>
              <a:rPr b="0" lang="en-US" sz="39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3900" spc="-1" strike="noStrike">
                <a:solidFill>
                  <a:srgbClr val="4e009c"/>
                </a:solidFill>
                <a:latin typeface="Arial"/>
                <a:ea typeface="Arial"/>
              </a:rPr>
              <a:t>;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   б) 15 </a:t>
            </a:r>
            <a:r>
              <a:rPr b="0" lang="en-US" sz="39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наход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А) 45 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180 * 45 рад =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4 ра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Б) 15 </a:t>
            </a:r>
            <a:r>
              <a:rPr b="0" lang="en-US" sz="2800" spc="-1" strike="noStrike">
                <a:solidFill>
                  <a:srgbClr val="4e009c"/>
                </a:solidFill>
                <a:latin typeface="Arial"/>
                <a:ea typeface="Arial"/>
              </a:rPr>
              <a:t>º</a:t>
            </a:r>
            <a:r>
              <a:rPr b="0" lang="ru-RU" sz="1800" spc="-1" strike="noStrike">
                <a:solidFill>
                  <a:srgbClr val="4e009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= 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180 * 15 рад = </a:t>
            </a:r>
            <a:r>
              <a:rPr b="0" lang="el-GR" sz="2800" spc="-1" strike="noStrike">
                <a:solidFill>
                  <a:srgbClr val="4e009c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4e009c"/>
                </a:solidFill>
                <a:latin typeface="Arial"/>
              </a:rPr>
              <a:t>/12 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114800" y="2057400"/>
            <a:ext cx="4114800" cy="1676520"/>
          </a:xfrm>
          <a:prstGeom prst="ellipse">
            <a:avLst/>
          </a:prstGeom>
          <a:solidFill>
            <a:srgbClr val="00a8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180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д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Найти  радианную меру углов, записанных в таблиц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981080"/>
          <a:ext cx="9144000" cy="297180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1067040"/>
                <a:gridCol w="1216080"/>
                <a:gridCol w="1069920"/>
                <a:gridCol w="1143000"/>
                <a:gridCol w="1523880"/>
              </a:tblGrid>
              <a:tr h="14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ду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диан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8288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4e009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4e009c"/>
                </a:solidFill>
                <a:latin typeface="Arial"/>
              </a:rPr>
              <a:t>Проверим результаты вычис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2590920"/>
          <a:ext cx="9144000" cy="340668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  <a:gridCol w="1067040"/>
                <a:gridCol w="1216080"/>
                <a:gridCol w="1069920"/>
                <a:gridCol w="1143000"/>
                <a:gridCol w="1523880"/>
              </a:tblGrid>
              <a:tr h="148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ду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диан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6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4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  <a:ea typeface="Arial"/>
                        </a:rPr>
                        <a:t>π</a:t>
                      </a:r>
                      <a:r>
                        <a:rPr b="1" lang="ru-RU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 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6000" spc="-1" strike="noStrike">
                          <a:solidFill>
                            <a:srgbClr val="00ffff"/>
                          </a:solidFill>
                          <a:latin typeface="Arial"/>
                          <a:ea typeface="Arial"/>
                        </a:rPr>
                        <a:t>π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ыполнить 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№  223 ( 1, 3, 5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76160" y="2819160"/>
            <a:ext cx="3429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2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 1, 3, 5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257440" y="27428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25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( 1, 3 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a8a4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1:58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