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C35-DB09-4933-ADE8-0EAD922E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645-FDD0-4F44-87E1-622473E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5FC-900F-478D-AA5C-95C1AEA5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E8E-319C-4D1C-B08F-61E95F0F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5E0A-C168-452B-957A-90399754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00F3-0F65-4FFD-A1E7-DF472B60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8A81-5BEA-41D4-ADCC-7025D2A2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4392-3AC0-4ED3-A953-FCC84A5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7005-0BF0-4D92-A64A-0644B602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CAF-FEFE-486D-830B-2107CDEB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9BA1-BFE2-4B29-BE08-34FF8EDB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976-0B07-41BE-B3D2-AD81BEA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755-D825-402A-B7E4-B81AFE5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E933-381C-4D98-900E-8CACFC3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C763-A0E6-4FF6-9D7D-5DC9BF13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70A1-D42F-4AAE-B275-BB47AF9C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F49E-9EED-4175-8E78-59340905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3F1C-32F4-4BBE-A8CC-D0D25698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A860-A163-4384-BE8A-A0BE8471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D33C-1FFA-4919-8577-9867729A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4C1F-8406-4138-8CDF-D09D420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3F32-F7A2-4ECC-A7B3-CCCD2459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D5C-D7B5-48C6-B53C-E0D02457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1DA5-F9C8-465E-82B5-3615E17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B3DA-B697-45A9-A39E-F210BB2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E006-CBD1-49EB-A3AC-360E515E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B407-6F1A-4F2F-8273-5BC9290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A33E-8F5A-427B-865E-C92647C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D712-7540-4A6A-AFFD-EB5FA0D1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96E0-90F6-415C-9920-8A9488DC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5408-D7A9-4377-BFDC-8BE0EB71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4B05-F8C2-464C-90AF-C09D03F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F37C-68C9-4888-9A5C-114845A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4D0-5D07-4619-A82A-F9E44C6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49EE-8900-49E2-8533-6E81433C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AA91-C1F6-479A-84C1-DA870E6A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BB28-CEA2-45F1-B843-770B775F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9B17-2436-49B3-9F86-193811B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3173-BA3A-49BD-AD39-C0A7198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956A-6BE7-4826-A476-F149B37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D9F6-F7C2-47A1-8DA2-E27BF61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9A19-D214-42E3-991B-4234F12A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FB70-1565-4191-BFE1-E72E3D78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73BD-0C53-4CA5-9771-6A83477C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9D9-1C8F-43DE-8122-4993CF0E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6037-8433-441C-A900-4C24C47D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40104-E3B7-4597-8F8D-6AA7CBDF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4737-D1D7-440A-AEA9-A8D5E41A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4547-0333-4418-8826-F7A0D6E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B982-B5C0-4C8C-88A2-A980363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6B698-67FD-4969-9B73-656A319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6DEB-6340-405B-A3EB-261BEA0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F96A-1F36-40E0-9605-3ACF2F7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58ED-DB3E-474D-9165-E4EC334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74B8-C15C-4C1D-AD65-40DEDB72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214-B5BB-492C-960B-7F0ECC44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A934B-BC5C-4436-84CC-DCDAEC44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E400-F831-4D2D-86C4-C0A2616C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3213C-576F-480D-87B2-F48B1FE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683F-2A03-4806-BA1B-F9F93757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AB84-EBEF-46A2-913C-63905F0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43AE-05FF-49F8-BEE1-AF6CFECD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B1E6-89EC-4C29-8E71-C31DB89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EAABD-A2CF-4EBA-B478-83659280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072F-F880-404E-90DD-DF9CA3EA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D9BF-FDB7-4E94-AF92-743D6EC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E1C-1CF5-4818-ACBF-B999133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C0A8-92C7-4966-A970-598D035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C270F-7B31-467E-B655-EDF18FCC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9F64-7BB7-4BBD-93F4-24D38E2E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809C7-CC26-42E2-9C0C-A085CDFE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1425-DBAB-4E5C-895B-134A5E7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296BA-9765-4561-AED3-7AC0CC4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BE356-9249-4998-A582-F1B68AD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728B5-83F1-4FFB-BD3F-40A14A2A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F05C-8E43-4938-92C5-8937DDD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6477-7A28-4A21-9234-D0FF6A3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F16-A89F-4F36-B7C4-A086376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FC41-ADA0-4CFE-9A5B-C545696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4E43-9EEA-4E8A-A374-46DA5F7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B18E-A7A5-4D24-A511-9E4CF2A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C677-D022-4046-A4CA-0CCDFA54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19C88-2EAA-4108-A656-960DBB2C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DEB-A885-453A-9EA4-BAA7A0D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D7D5-9176-4D3C-8683-0C47092792E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9586-141C-470E-981D-867219E892A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DCE-1961-4D8F-AA95-C5AC641A8FD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3FE-BE43-438A-88FA-3D7D4266258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87E4-4816-4CC1-8F2F-E4793CB8C3C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8CD-18F3-4A24-AA3C-8888F447F66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DCFB-DCDA-42C5-899B-30A0A79C1D6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326880" y="907920"/>
            <a:ext cx="8817120" cy="4897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258920" y="62064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ahoma"/>
                <a:ea typeface="Tahoma"/>
              </a:rPr>
              <a:t>Тема урока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4100" spc="-1" strike="noStrike">
                <a:solidFill>
                  <a:srgbClr val="002060"/>
                </a:solidFill>
                <a:latin typeface="Tahoma"/>
                <a:ea typeface="Tahoma"/>
              </a:rPr>
              <a:t>Общая характеристика прокариот</a:t>
            </a:r>
            <a:r>
              <a:rPr b="1" i="1" lang="ru-RU" sz="4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Автор:  Мишнина  Лидия Александровна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учитель биологии СОШ №3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Акбулакского района Оренбургской област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3564000" y="295200"/>
            <a:ext cx="2879640" cy="5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Типы питания бактер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1042920" y="1484280"/>
            <a:ext cx="31687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Гетеротрофные бакте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5435640" y="1484280"/>
            <a:ext cx="31687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Автотрофные бакте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179280" y="3254400"/>
            <a:ext cx="194472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апрофи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1366920" y="4221000"/>
            <a:ext cx="19429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имбион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543640" y="3213000"/>
            <a:ext cx="1800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пособны к фотосинтез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6967440" y="4389480"/>
            <a:ext cx="2016360" cy="7189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пособны к хемосинтез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Стрелка вниз 12"/>
          <p:cNvSpPr/>
          <p:nvPr/>
        </p:nvSpPr>
        <p:spPr>
          <a:xfrm>
            <a:off x="1692360" y="2276640"/>
            <a:ext cx="142920" cy="792000"/>
          </a:xfrm>
          <a:prstGeom prst="downArrow">
            <a:avLst>
              <a:gd name="adj1" fmla="val 50000"/>
              <a:gd name="adj2" fmla="val 5038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Стрелка вниз 13"/>
          <p:cNvSpPr/>
          <p:nvPr/>
        </p:nvSpPr>
        <p:spPr>
          <a:xfrm>
            <a:off x="2646360" y="2276640"/>
            <a:ext cx="144360" cy="1584000"/>
          </a:xfrm>
          <a:prstGeom prst="downArrow">
            <a:avLst>
              <a:gd name="adj1" fmla="val 50000"/>
              <a:gd name="adj2" fmla="val 4988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Стрелка вниз 14"/>
          <p:cNvSpPr/>
          <p:nvPr/>
        </p:nvSpPr>
        <p:spPr>
          <a:xfrm>
            <a:off x="6448320" y="2276640"/>
            <a:ext cx="144720" cy="792000"/>
          </a:xfrm>
          <a:prstGeom prst="downArrow">
            <a:avLst>
              <a:gd name="adj1" fmla="val 50000"/>
              <a:gd name="adj2" fmla="val 4976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Стрелка вниз 15"/>
          <p:cNvSpPr/>
          <p:nvPr/>
        </p:nvSpPr>
        <p:spPr>
          <a:xfrm>
            <a:off x="7885080" y="2276640"/>
            <a:ext cx="142920" cy="1944360"/>
          </a:xfrm>
          <a:prstGeom prst="downArrow">
            <a:avLst>
              <a:gd name="adj1" fmla="val 50000"/>
              <a:gd name="adj2" fmla="val 5038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4" name="Прямая со стрелкой 18"/>
          <p:cNvCxnSpPr/>
          <p:nvPr/>
        </p:nvCxnSpPr>
        <p:spPr>
          <a:xfrm flipH="1">
            <a:off x="3418920" y="907920"/>
            <a:ext cx="937080" cy="434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5" name="Прямая со стрелкой 20"/>
          <p:cNvCxnSpPr/>
          <p:nvPr/>
        </p:nvCxnSpPr>
        <p:spPr>
          <a:xfrm>
            <a:off x="5435640" y="907920"/>
            <a:ext cx="721440" cy="434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66" name="Прямоугольник 22"/>
          <p:cNvSpPr/>
          <p:nvPr/>
        </p:nvSpPr>
        <p:spPr>
          <a:xfrm>
            <a:off x="2606760" y="5300640"/>
            <a:ext cx="17431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Стрелка вниз 23"/>
          <p:cNvSpPr/>
          <p:nvPr/>
        </p:nvSpPr>
        <p:spPr>
          <a:xfrm>
            <a:off x="3708360" y="2276640"/>
            <a:ext cx="179280" cy="2831760"/>
          </a:xfrm>
          <a:prstGeom prst="downArrow">
            <a:avLst>
              <a:gd name="adj1" fmla="val 50000"/>
              <a:gd name="adj2" fmla="val 5016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-1086120" y="-1117440"/>
            <a:ext cx="11007720" cy="98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304920"/>
          <a:ext cx="8153640" cy="4803480"/>
        </p:xfrm>
        <a:graphic>
          <a:graphicData uri="http://schemas.openxmlformats.org/drawingml/2006/table">
            <a:tbl>
              <a:tblPr/>
              <a:tblGrid>
                <a:gridCol w="4038840"/>
                <a:gridCol w="41148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эроб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аэроб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ют только в кислородной ср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ют   в бескислородной ср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ы к дыханию кислородом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нергию получают в результате брожения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2920" y="21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Озвучьте видеофрагмент о размножении бактериальной клетки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3"/>
          <a:stretch/>
        </p:blipFill>
        <p:spPr>
          <a:xfrm>
            <a:off x="2340000" y="4835520"/>
            <a:ext cx="4443480" cy="1957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C:\Users\Лидия\Desktop\Рисунок2.jpg"/>
          <p:cNvPicPr/>
          <p:nvPr/>
        </p:nvPicPr>
        <p:blipFill>
          <a:blip r:embed="rId4"/>
          <a:stretch/>
        </p:blipFill>
        <p:spPr>
          <a:xfrm>
            <a:off x="2627280" y="1165320"/>
            <a:ext cx="3203640" cy="1871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C:\Users\Лидия\Desktop\Рисунок2.jpg"/>
          <p:cNvPicPr/>
          <p:nvPr/>
        </p:nvPicPr>
        <p:blipFill>
          <a:blip r:embed="rId5"/>
          <a:stretch/>
        </p:blipFill>
        <p:spPr>
          <a:xfrm>
            <a:off x="3440160" y="3322800"/>
            <a:ext cx="22431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На</a:t>
            </a: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йдите в учебнике описание данных рисунков и объясните роль спорообразования в жизни бактери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Лидия\Desktop\Снимокспора.JPG"/>
          <p:cNvPicPr/>
          <p:nvPr/>
        </p:nvPicPr>
        <p:blipFill>
          <a:blip r:embed="rId3"/>
          <a:stretch/>
        </p:blipFill>
        <p:spPr>
          <a:xfrm>
            <a:off x="4067280" y="4292640"/>
            <a:ext cx="4530600" cy="158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4"/>
          <a:stretch/>
        </p:blipFill>
        <p:spPr>
          <a:xfrm>
            <a:off x="611280" y="1290600"/>
            <a:ext cx="547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5280" y="189000"/>
            <a:ext cx="8539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Вывод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 типу питания бактерии делят на две группы: автотрофные и гетеротрофны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 отношению к кислороду  - на аэробные  и  анаэробные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Большинство бактерий размножаются    путем простого деления  на две идентичные дочерние клет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Некоторые бактерии в неблагоприятных условиях способны образовывать особые защитные формы — споры, покоящиеся клетки  с отсутствием  метаболической актив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Многие бактерии подвижн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Знаками «+»  или  «-» обозначить наличие или отсутствие органоид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55640" y="1557360"/>
          <a:ext cx="7561440" cy="3290760"/>
        </p:xfrm>
        <a:graphic>
          <a:graphicData uri="http://schemas.openxmlformats.org/drawingml/2006/table">
            <a:tbl>
              <a:tblPr/>
              <a:tblGrid>
                <a:gridCol w="2519280"/>
                <a:gridCol w="2521080"/>
                <a:gridCol w="2521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иды кле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ари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укари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лазматическая мембра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итохонд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Ап.Гольд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Э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Жгу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ибосом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Составьте   сравнительную  характеристику клеток   бактерий и растений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268280"/>
            <a:ext cx="83232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ходств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наличие жесткой клеточной стенки, автотроф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личие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состав клеточной стенки (муреин),  ДНК –кольцевая структура, органеллы немембранного строения, гетеротрофы, мелкие, неподвижность цитоплазм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1042920" y="1298520"/>
            <a:ext cx="4154400" cy="2308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3"/>
          <a:stretch/>
        </p:blipFill>
        <p:spPr>
          <a:xfrm>
            <a:off x="5076720" y="1163520"/>
            <a:ext cx="277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34960" y="404640"/>
            <a:ext cx="7499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Corbel"/>
                <a:ea typeface="Tahoma"/>
              </a:rPr>
              <a:t>Диагностика уровня зна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окариотическая клетка в отличие от эукариотической не  содержи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ключ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итоплазматическую мембран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ибосом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зосомы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Клетки бактерий, как и клетки растений, содержа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цитоплазматическую мембрану и митохондри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итоскелет и клеточную стенк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ибосомы и ЭП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ибосомы и клеточную стенк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34960" y="260280"/>
            <a:ext cx="7499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се  прокариотические  и эукариотические  клетки имеют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итохондрии и ядро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акуоли  и ап.Гольдж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ядерную мембрану  и рибосом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лазматическую мембрану  и цитоплазму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ой организм относится к прокариотам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лорелл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ишечная палочк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изентерийная амеб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деновирус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891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2314"/>
                </a:solidFill>
                <a:latin typeface="Corbel"/>
              </a:rPr>
              <a:t>Человек заболел ангиной.  Оказывается, в горле у больного поселились живые   организмы, которые и стали причиной болезни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971640" y="1131840"/>
            <a:ext cx="7848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87280" y="11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берите правильные утвержд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енка бактериальной  клетки состоит из хитин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дерная оболочка у бактерий отсутствуе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ибосомы прокариот  значительно меньше, чем у эукарио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неблагоприятных условиях бактерии образуют спо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летки делятся путем митоз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32000" y="4941720"/>
          <a:ext cx="6624720" cy="1086120"/>
        </p:xfrm>
        <a:graphic>
          <a:graphicData uri="http://schemas.openxmlformats.org/drawingml/2006/table">
            <a:tbl>
              <a:tblPr/>
              <a:tblGrid>
                <a:gridCol w="1323720"/>
                <a:gridCol w="1325880"/>
                <a:gridCol w="1323720"/>
                <a:gridCol w="1325520"/>
                <a:gridCol w="1325880"/>
              </a:tblGrid>
              <a:tr h="54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3"/>
          <a:stretch/>
        </p:blipFill>
        <p:spPr>
          <a:xfrm>
            <a:off x="201600" y="189000"/>
            <a:ext cx="8547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95280" y="907920"/>
          <a:ext cx="8539200" cy="5299200"/>
        </p:xfrm>
        <a:graphic>
          <a:graphicData uri="http://schemas.openxmlformats.org/drawingml/2006/table">
            <a:tbl>
              <a:tblPr/>
              <a:tblGrid>
                <a:gridCol w="5329080"/>
                <a:gridCol w="863640"/>
                <a:gridCol w="792360"/>
                <a:gridCol w="720720"/>
                <a:gridCol w="833400"/>
              </a:tblGrid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Критерии результатив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1.Распознавать и описывать  бактериальную  клетку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.Доказывать, что  бактерии-живые организ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3.Преобразовывать информаци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.Проводить самостоятельное изучение объектов прир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5.Самостоятельно работать с текстовым  материалом, иллюстрациями учебника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98" name="Прямоугольник 5"/>
          <p:cNvSpPr/>
          <p:nvPr/>
        </p:nvSpPr>
        <p:spPr>
          <a:xfrm>
            <a:off x="53964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f271c"/>
                </a:solidFill>
                <a:latin typeface="Corbel"/>
              </a:rPr>
              <a:t>Оценка приращения знаний и ум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560" y="115920"/>
            <a:ext cx="8713800" cy="63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сок использованных источник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.Биология. Многообразие живых организмов» учебник 7 класс. авт. Захаров В.Б., Сонин Н.И.-М.:Дрофа,  2010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2. Наплекова Н.Н. Микробные препара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http://www.argo-shop.com.ua/catalog_total.php?tovar_id=42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зображение «Ребенок заболел   ангиной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http://www.kazved.ru/Thumbnail.aspx?w=670&amp;img=/uploadimg/554571_130950_step-48ce1daf6287ab6252221b3a66ea8654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Изображение «Архебактерии»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my-edu.ru/edu_bio/51_1_4_1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Изображение «Оксифотобактерии»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www.megabook.ru/DescriptionImage.asp?MID=447754&amp;AID=6135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Изображение «Настоящие бактерии»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razvitie05.ru/prokarioti/bakterii.ph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Изображение «Сенная палочк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commons.wikimedia.org/w/index.php?title=File:EscherichiaColi_NIAID.jpg&amp;filetimestamp=20050410214037&amp;uselang=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.Изображение «Бактериальная клетка» http://900igr.net/kartinki/biologija/Klassifikatsija-zhivykh-organizmov/019-Nadtsarstvo-Prokarioty.ht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806040" indent="-20772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5280" y="189000"/>
            <a:ext cx="8539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9lИнтерактив. «Формы бактериальных клеток» http://school-collection.edu.ru/catalog/res/00000339-1000-4ddd-ccea-07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0.Изображение  «Патогенные бактерии» http://school-collection.edu.ru/catalog/res/0000033d-1000-4ddd-29ef-15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1.Анимация. Размножение бактерий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37-1000-4ddd-3b5e-010046bb2fd1/view/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2.Анимация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«Приспособленность бактерий к неблагоприятным условиям»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38-1000-4ddd-4de3-04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3.Изображение «Растительная клетка» http://school-collection.edu.ru/catalog/res/000001f9-1000-4ddd-aabb-140046b3269f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4.Интерактив. Биологические карты "Бактери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43-1000-4ddd-d6eb-2a0046bb2fd1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/view/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Целеполаг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вить особенности строения бактерий, научиться определять их формы  и особенности объединения клето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снить,  как они размножаются, на какие группы делятся по отношению к кислороду, как питаются,  какую роль играют в природе  и жизни челове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orbel"/>
              </a:rPr>
              <a:t>Цитология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клетки живого организма.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rbel"/>
              </a:rPr>
              <a:t>Микробиология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особенности строения и жизнедеятельность микроорганизмо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orbel"/>
              </a:rPr>
              <a:t>Бактериология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бактер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4360" y="1074600"/>
            <a:ext cx="82296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2900520" y="1197000"/>
            <a:ext cx="3024000" cy="5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Царство Прокарио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324000" y="2736720"/>
            <a:ext cx="2576520" cy="708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Настоящие  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3635280" y="2716200"/>
            <a:ext cx="19447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Архе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588000" y="2724120"/>
            <a:ext cx="21607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ксифото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0" name="Прямая со стрелкой 9"/>
          <p:cNvCxnSpPr/>
          <p:nvPr/>
        </p:nvCxnSpPr>
        <p:spPr>
          <a:xfrm flipH="1">
            <a:off x="1611000" y="1773000"/>
            <a:ext cx="238464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1" name="Прямая со стрелкой 11"/>
          <p:cNvCxnSpPr/>
          <p:nvPr/>
        </p:nvCxnSpPr>
        <p:spPr>
          <a:xfrm>
            <a:off x="4412880" y="1773000"/>
            <a:ext cx="108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2" name="Прямая со стрелкой 13"/>
          <p:cNvCxnSpPr/>
          <p:nvPr/>
        </p:nvCxnSpPr>
        <p:spPr>
          <a:xfrm>
            <a:off x="5003640" y="1773000"/>
            <a:ext cx="266472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6607080" y="437832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3543480" y="442116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4"/>
          <a:stretch/>
        </p:blipFill>
        <p:spPr>
          <a:xfrm>
            <a:off x="453960" y="4421160"/>
            <a:ext cx="2676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нная палочка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912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5200" y="115920"/>
            <a:ext cx="8639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троение бактериальной кле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Лидия\Desktop\Рисунок1.png"/>
          <p:cNvPicPr/>
          <p:nvPr/>
        </p:nvPicPr>
        <p:blipFill>
          <a:blip r:embed="rId3"/>
          <a:stretch/>
        </p:blipFill>
        <p:spPr>
          <a:xfrm>
            <a:off x="295200" y="1189080"/>
            <a:ext cx="8309160" cy="4616280"/>
          </a:xfrm>
          <a:prstGeom prst="rect">
            <a:avLst/>
          </a:prstGeom>
          <a:ln w="0">
            <a:noFill/>
          </a:ln>
        </p:spPr>
      </p:pic>
      <p:sp>
        <p:nvSpPr>
          <p:cNvPr id="341" name="Блок-схема: альтернативный процесс 4"/>
          <p:cNvSpPr/>
          <p:nvPr/>
        </p:nvSpPr>
        <p:spPr>
          <a:xfrm>
            <a:off x="1042920" y="93816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Рибосо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Блок-схема: альтернативный процесс 5"/>
          <p:cNvSpPr/>
          <p:nvPr/>
        </p:nvSpPr>
        <p:spPr>
          <a:xfrm>
            <a:off x="3924360" y="105264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Блок-схема: альтернативный процесс 6"/>
          <p:cNvSpPr/>
          <p:nvPr/>
        </p:nvSpPr>
        <p:spPr>
          <a:xfrm>
            <a:off x="6516720" y="93816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4"/>
          <a:stretch/>
        </p:blipFill>
        <p:spPr>
          <a:xfrm>
            <a:off x="6372360" y="3983040"/>
            <a:ext cx="1944720" cy="75240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альтернативный процесс 8"/>
          <p:cNvSpPr/>
          <p:nvPr/>
        </p:nvSpPr>
        <p:spPr>
          <a:xfrm>
            <a:off x="1187280" y="5305320"/>
            <a:ext cx="2851200" cy="716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Плазматическая мембра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5237280" y="4869000"/>
            <a:ext cx="2268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Лидия\Desktop\ШКОЛА\уроки\7класс\бактерии\Снимок.JPG"/>
          <p:cNvPicPr/>
          <p:nvPr/>
        </p:nvPicPr>
        <p:blipFill>
          <a:blip r:embed="rId2"/>
          <a:stretch/>
        </p:blipFill>
        <p:spPr>
          <a:xfrm>
            <a:off x="68400" y="-1440"/>
            <a:ext cx="90756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Особенности  функционирования и условия жизни сенной палочки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9640" y="1557360"/>
          <a:ext cx="8064720" cy="5002200"/>
        </p:xfrm>
        <a:graphic>
          <a:graphicData uri="http://schemas.openxmlformats.org/drawingml/2006/table">
            <a:tbl>
              <a:tblPr/>
              <a:tblGrid>
                <a:gridCol w="2759040"/>
                <a:gridCol w="5305680"/>
              </a:tblGrid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аемы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ая пал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профитные  бактерии, питаются мертвой органикой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кисло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б; на поверхности жидких питательных сред образует тонкую беловатую плёнку, на поверхности плотных — круглые, сероватые, гладкие, блестящие коло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ножаются де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о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еподвижных бактерий внутри видны  блестящие овальные  образования- споры.  Споры   имеют овальную формы, расположены в центр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ая палочка подвижная бактерия, использующая жгутик в качестве мото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1"/>
          <p:cNvSpPr/>
          <p:nvPr/>
        </p:nvSpPr>
        <p:spPr>
          <a:xfrm>
            <a:off x="1612800" y="267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5:37:28Z</dcterms:created>
  <dc:creator>Лидия</dc:creator>
  <dc:description/>
  <dc:language>en-US</dc:language>
  <cp:lastModifiedBy>Василий</cp:lastModifiedBy>
  <dcterms:modified xsi:type="dcterms:W3CDTF">2012-11-18T11:35:18Z</dcterms:modified>
  <cp:revision>84</cp:revision>
  <dc:subject/>
  <dc:title>Презентация PowerPoint</dc:title>
</cp:coreProperties>
</file>