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9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E895-9455-46B2-95C1-05CA0C482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5E18-1213-4F7C-B00C-98828D2A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15A7-6AA7-4D67-B2F1-015982B27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AB53-2A80-4C05-868C-DA1FBF14C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41FD-6931-4AA7-B65F-DC84E6913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DB7B-0AC4-4704-B00B-DA63F694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2BB6E-6CFB-4DF8-986F-D9494015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3BB6-1662-4937-9F88-B2C81031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D19B-CCF5-4F3D-84E3-BD62BCFD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5548-1B08-4D04-8887-915DDB76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EDCE-60EC-4303-8012-2A3923CB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5B8F-9FE5-4833-80BC-895C6055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A9CBC-DA17-4F66-A0C7-05FFBE8C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E161-2E64-4815-9BCD-26A63A57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5BB91-D72C-4E41-A320-C7606F84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0854-DF7E-45DA-A5F7-144D9EE98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8387-09E4-4D83-BAFB-0CBB5E127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6C724-AEDC-4F26-8322-3216FD41E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99D3B-B697-4457-A818-0EB6B412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419CB-EB4C-4D0B-A13E-DE57BE53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9080B-6996-41D3-8003-326F6D0A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1D2D1-039A-4971-976C-78C0FD00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838B-8F2F-4EFC-B621-D548FF93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E1988-74CB-401E-A6C6-D8069B8A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28F04-8BE9-4A65-821D-78F144D0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A4116-B647-4A37-8828-225A20D5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7959F-179A-47E4-98B3-067510F7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63A46-3EA5-4347-B1D2-80202A26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DABAC-80D9-4A98-8F76-F0574D458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E0B90-012B-46F4-9024-32B43BE7F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5575C-7E3C-484D-B7CD-760840E27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41EB3-B831-4B15-A4BC-2018F641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21667-B73B-453E-950E-5BCD8E9D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5A5E-CA76-4232-8C05-437E5F46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44398-6FF0-4B65-AF26-ACDEE96C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C3C20-FB72-4128-861C-E3754851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B5897-393C-498D-A8BA-C9D7ABF2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051CD-8772-4434-B596-D2947E9E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7C28C-96BB-419C-9C3C-B1AB3F1F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10C08-D16C-4A31-B6C3-F9A7712E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D50A6-5909-4C75-9244-292A9A19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7F92C-6A6A-42BB-8E5E-3D5D25CFF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A5C8E-8BCF-445D-B3A7-BFE5D6B79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55411-B987-451E-919F-9AE80B81B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E056-0756-4762-9D7D-5940FD0B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E634C-6976-4650-B74B-0E14F496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65FA7-9419-440F-A323-3B2627C6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48A04-2DC3-4891-AFB2-2B602D61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197E2-3681-4CDF-A9BB-6770CAD8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B7E0B-E0BB-4E85-B2DE-1AFAF632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E290C-8DFF-4F67-A405-3D38081B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96E22-8E9E-49CE-A702-712EBA48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D02A4-5FFB-41F8-BB22-D3AA46F5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5DE4D-5F7E-4995-A604-5114B9D0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A585E-FE6C-47A6-89BD-D6EDC6BC5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839E-4385-4130-A81E-3E656813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C40EA-327E-4ED9-96E2-107A728A2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B4B7B-B794-4F0E-916E-B31BB21BC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F1722-C278-4C25-A91F-EDCD488D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C7168-1492-41E1-8948-EFF4E81A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E8524-55FD-44B0-B70F-136078CF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BADD2-4780-4426-BC32-E5480A20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9F051-634F-4790-AAEE-72528125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29418-2D84-4DFA-93C3-62A93A6B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10D84-B311-493C-A49F-68D07BA8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BCBE6-C093-4507-AAC4-BA4A595D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E1C1-A0C5-4CBB-AB56-3945F7DF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5A235-023B-45DE-8A2D-82A5BC9B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565B6-326B-4708-A775-53D8E9DB9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3E63E-098E-4715-A770-5BEE40646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4F441-B726-4B39-8A62-64EEF7305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2F528-20E1-4752-8454-0235B9B0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7927F-34E8-41CE-999E-F9C2F040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4DAED-2664-452E-AD3E-4AD5F1ED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A09B0-2C1A-4AE9-B690-2AF6A273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AAD41-64E7-4135-B4A9-04B9FA4B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D5AF5-ED27-4EDF-8664-C3920B91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15BF-732F-41B7-B149-E3FE30E8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D49E3-643E-49F9-A137-BC3F7A95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F788E-E88B-435A-9F4C-25FDA69C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2DA0B-B41D-46CD-9E45-4DF5C7CA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FE2DD-C24D-46A8-B10E-E386B6843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843AD-839B-4E84-A353-A4564EE63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AD63-A6CB-460F-80D4-5815AC02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EDEF-411F-4325-8064-0844D704AB40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58F2-B9CE-48B8-8C46-7B377CB2F3B1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68AE-51DE-4A14-8163-3188F54F76CB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6980-4F9D-4C30-B772-464421E6225E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70A7-0BD2-4483-A499-47A33F60E8E1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8894-C256-40AC-86AF-848177ED0426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23D5-BFBD-46B2-97E0-C61169589ACA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"/>
          <p:cNvPicPr/>
          <p:nvPr/>
        </p:nvPicPr>
        <p:blipFill>
          <a:blip r:embed="rId2"/>
          <a:stretch/>
        </p:blipFill>
        <p:spPr>
          <a:xfrm>
            <a:off x="326880" y="907920"/>
            <a:ext cx="8817120" cy="48974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1258920" y="620640"/>
            <a:ext cx="7632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ahoma"/>
                <a:ea typeface="Tahoma"/>
              </a:rPr>
              <a:t>Тема урока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r>
              <a:rPr b="1" i="1" lang="ru-RU" sz="4100" spc="-1" strike="noStrike">
                <a:solidFill>
                  <a:srgbClr val="002060"/>
                </a:solidFill>
                <a:latin typeface="Tahoma"/>
                <a:ea typeface="Tahoma"/>
              </a:rPr>
              <a:t>Общая характеристика прокариот</a:t>
            </a:r>
            <a:r>
              <a:rPr b="1" i="1" lang="ru-RU" sz="41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4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ahoma"/>
                <a:ea typeface="Tahoma"/>
              </a:rPr>
              <a:t>Автор:  Мишнина  Лидия Александровна,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ahoma"/>
                <a:ea typeface="Tahoma"/>
              </a:rPr>
              <a:t>учитель биологии СОШ №3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ahoma"/>
                <a:ea typeface="Tahoma"/>
              </a:rPr>
              <a:t>Акбулакского района Оренбургской области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sp>
        <p:nvSpPr>
          <p:cNvPr id="353" name="Прямоугольник 3"/>
          <p:cNvSpPr/>
          <p:nvPr/>
        </p:nvSpPr>
        <p:spPr>
          <a:xfrm>
            <a:off x="3564000" y="295200"/>
            <a:ext cx="2879640" cy="5763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Типы питания бактерий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Прямоугольник 4"/>
          <p:cNvSpPr/>
          <p:nvPr/>
        </p:nvSpPr>
        <p:spPr>
          <a:xfrm>
            <a:off x="1042920" y="1484280"/>
            <a:ext cx="3168720" cy="7923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Гетеротрофные бактери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Прямоугольник 5"/>
          <p:cNvSpPr/>
          <p:nvPr/>
        </p:nvSpPr>
        <p:spPr>
          <a:xfrm>
            <a:off x="5435640" y="1484280"/>
            <a:ext cx="3168720" cy="7923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Автотрофные бактери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Прямоугольник 6"/>
          <p:cNvSpPr/>
          <p:nvPr/>
        </p:nvSpPr>
        <p:spPr>
          <a:xfrm>
            <a:off x="179280" y="3254400"/>
            <a:ext cx="1944720" cy="64764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Сапрофит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Прямоугольник 7"/>
          <p:cNvSpPr/>
          <p:nvPr/>
        </p:nvSpPr>
        <p:spPr>
          <a:xfrm>
            <a:off x="1366920" y="4221000"/>
            <a:ext cx="1942920" cy="72072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Симбионт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Прямоугольник 8"/>
          <p:cNvSpPr/>
          <p:nvPr/>
        </p:nvSpPr>
        <p:spPr>
          <a:xfrm>
            <a:off x="5543640" y="3213000"/>
            <a:ext cx="1800000" cy="64764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Способны к фотосинтезу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Прямоугольник 9"/>
          <p:cNvSpPr/>
          <p:nvPr/>
        </p:nvSpPr>
        <p:spPr>
          <a:xfrm>
            <a:off x="6967440" y="4389480"/>
            <a:ext cx="2016360" cy="71892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Способны к хемосинтезу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Стрелка вниз 12"/>
          <p:cNvSpPr/>
          <p:nvPr/>
        </p:nvSpPr>
        <p:spPr>
          <a:xfrm>
            <a:off x="1692360" y="2276640"/>
            <a:ext cx="142920" cy="792000"/>
          </a:xfrm>
          <a:prstGeom prst="downArrow">
            <a:avLst>
              <a:gd name="adj1" fmla="val 50000"/>
              <a:gd name="adj2" fmla="val 5038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Стрелка вниз 13"/>
          <p:cNvSpPr/>
          <p:nvPr/>
        </p:nvSpPr>
        <p:spPr>
          <a:xfrm>
            <a:off x="2646360" y="2276640"/>
            <a:ext cx="144360" cy="1584000"/>
          </a:xfrm>
          <a:prstGeom prst="downArrow">
            <a:avLst>
              <a:gd name="adj1" fmla="val 50000"/>
              <a:gd name="adj2" fmla="val 49885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Стрелка вниз 14"/>
          <p:cNvSpPr/>
          <p:nvPr/>
        </p:nvSpPr>
        <p:spPr>
          <a:xfrm>
            <a:off x="6448320" y="2276640"/>
            <a:ext cx="144720" cy="792000"/>
          </a:xfrm>
          <a:prstGeom prst="downArrow">
            <a:avLst>
              <a:gd name="adj1" fmla="val 50000"/>
              <a:gd name="adj2" fmla="val 4976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Стрелка вниз 15"/>
          <p:cNvSpPr/>
          <p:nvPr/>
        </p:nvSpPr>
        <p:spPr>
          <a:xfrm>
            <a:off x="7885080" y="2276640"/>
            <a:ext cx="142920" cy="1944360"/>
          </a:xfrm>
          <a:prstGeom prst="downArrow">
            <a:avLst>
              <a:gd name="adj1" fmla="val 50000"/>
              <a:gd name="adj2" fmla="val 5038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364" name="Прямая со стрелкой 18"/>
          <p:cNvCxnSpPr/>
          <p:nvPr/>
        </p:nvCxnSpPr>
        <p:spPr>
          <a:xfrm flipH="1">
            <a:off x="3418920" y="907920"/>
            <a:ext cx="937080" cy="4341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65" name="Прямая со стрелкой 20"/>
          <p:cNvCxnSpPr/>
          <p:nvPr/>
        </p:nvCxnSpPr>
        <p:spPr>
          <a:xfrm>
            <a:off x="5435640" y="907920"/>
            <a:ext cx="721440" cy="4341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66" name="Прямоугольник 22"/>
          <p:cNvSpPr/>
          <p:nvPr/>
        </p:nvSpPr>
        <p:spPr>
          <a:xfrm>
            <a:off x="2606760" y="5300640"/>
            <a:ext cx="1743120" cy="7923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Паразит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Стрелка вниз 23"/>
          <p:cNvSpPr/>
          <p:nvPr/>
        </p:nvSpPr>
        <p:spPr>
          <a:xfrm>
            <a:off x="3708360" y="2276640"/>
            <a:ext cx="179280" cy="2831760"/>
          </a:xfrm>
          <a:prstGeom prst="downArrow">
            <a:avLst>
              <a:gd name="adj1" fmla="val 50000"/>
              <a:gd name="adj2" fmla="val 50164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"/>
          <p:cNvPicPr/>
          <p:nvPr/>
        </p:nvPicPr>
        <p:blipFill>
          <a:blip r:embed="rId3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-1086120" y="-1117440"/>
            <a:ext cx="11007720" cy="98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0e04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380880" y="304920"/>
          <a:ext cx="8153640" cy="4803480"/>
        </p:xfrm>
        <a:graphic>
          <a:graphicData uri="http://schemas.openxmlformats.org/drawingml/2006/table">
            <a:tbl>
              <a:tblPr/>
              <a:tblGrid>
                <a:gridCol w="4038840"/>
                <a:gridCol w="4114800"/>
              </a:tblGrid>
              <a:tr h="114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эробные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наэробные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ществуют только в кислородной сред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ществуют   в бескислородной сред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особны к дыханию кислородом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нергию получают в результате брожения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02920" y="219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orbel"/>
              </a:rPr>
              <a:t>Озвучьте видеофрагмент о размножении бактериальной клетки. 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9" descr=""/>
          <p:cNvPicPr/>
          <p:nvPr/>
        </p:nvPicPr>
        <p:blipFill>
          <a:blip r:embed="rId3"/>
          <a:stretch/>
        </p:blipFill>
        <p:spPr>
          <a:xfrm>
            <a:off x="2340000" y="4835520"/>
            <a:ext cx="4443480" cy="19573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1" descr="C:\Users\Лидия\Desktop\Рисунок2.jpg"/>
          <p:cNvPicPr/>
          <p:nvPr/>
        </p:nvPicPr>
        <p:blipFill>
          <a:blip r:embed="rId4"/>
          <a:stretch/>
        </p:blipFill>
        <p:spPr>
          <a:xfrm>
            <a:off x="2627280" y="1165320"/>
            <a:ext cx="3203640" cy="18716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2" descr="C:\Users\Лидия\Desktop\Рисунок2.jpg"/>
          <p:cNvPicPr/>
          <p:nvPr/>
        </p:nvPicPr>
        <p:blipFill>
          <a:blip r:embed="rId5"/>
          <a:stretch/>
        </p:blipFill>
        <p:spPr>
          <a:xfrm>
            <a:off x="3440160" y="3322800"/>
            <a:ext cx="224316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2314"/>
                </a:solidFill>
                <a:latin typeface="Corbel"/>
              </a:rPr>
              <a:t>На</a:t>
            </a:r>
            <a:r>
              <a:rPr b="0" lang="en-US" sz="2400" spc="-1" strike="noStrike">
                <a:solidFill>
                  <a:srgbClr val="572314"/>
                </a:solidFill>
                <a:latin typeface="Corbel"/>
              </a:rPr>
              <a:t>йдите в учебнике описание данных рисунков и объясните роль спорообразования в жизни бактерий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" descr="C:\Users\Лидия\Desktop\Снимокспора.JPG"/>
          <p:cNvPicPr/>
          <p:nvPr/>
        </p:nvPicPr>
        <p:blipFill>
          <a:blip r:embed="rId3"/>
          <a:stretch/>
        </p:blipFill>
        <p:spPr>
          <a:xfrm>
            <a:off x="4067280" y="4292640"/>
            <a:ext cx="4530600" cy="15843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"/>
          <p:cNvPicPr/>
          <p:nvPr/>
        </p:nvPicPr>
        <p:blipFill>
          <a:blip r:embed="rId4"/>
          <a:stretch/>
        </p:blipFill>
        <p:spPr>
          <a:xfrm>
            <a:off x="611280" y="1290600"/>
            <a:ext cx="547344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95280" y="189000"/>
            <a:ext cx="8539200" cy="60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orbel"/>
              </a:rPr>
              <a:t>Вывод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По типу питания бактерии делят на две группы: автотрофные и гетеротрофные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По отношению к кислороду  - на аэробные  и  анаэробные. 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Большинство бактерий размножаются    путем простого деления  на две идентичные дочерние клетки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Некоторые бактерии в неблагоприятных условиях способны образовывать особые защитные формы — споры, покоящиеся клетки  с отсутствием  метаболической активности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Многие бактерии подвижны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572314"/>
                </a:solidFill>
                <a:latin typeface="Corbel"/>
              </a:rPr>
              <a:t>Знаками «+»  или  «-» обозначить наличие или отсутствие органоидов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55640" y="1557360"/>
          <a:ext cx="7561440" cy="3290760"/>
        </p:xfrm>
        <a:graphic>
          <a:graphicData uri="http://schemas.openxmlformats.org/drawingml/2006/table">
            <a:tbl>
              <a:tblPr/>
              <a:tblGrid>
                <a:gridCol w="2519280"/>
                <a:gridCol w="2521080"/>
                <a:gridCol w="252108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оиды клет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кари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укари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Плазматическая мембран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Митохондр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Ап.Гольдж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ЭП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Жгут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Рибосом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537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2314"/>
                </a:solidFill>
                <a:latin typeface="Corbel"/>
              </a:rPr>
              <a:t>Составьте   сравнительную  характеристику клеток   бактерий и растений.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1280" y="1268280"/>
            <a:ext cx="8323200" cy="49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Сходство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: наличие жесткой клеточной стенки, автотрофы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Различие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: состав клеточной стенки (муреин),  ДНК –кольцевая структура, органеллы немембранного строения, гетеротрофы, мелкие, неподвижность цитоплазмы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7" name="Picture 2" descr=""/>
          <p:cNvPicPr/>
          <p:nvPr/>
        </p:nvPicPr>
        <p:blipFill>
          <a:blip r:embed="rId2"/>
          <a:stretch/>
        </p:blipFill>
        <p:spPr>
          <a:xfrm>
            <a:off x="1042920" y="1298520"/>
            <a:ext cx="4154400" cy="23083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" descr=""/>
          <p:cNvPicPr/>
          <p:nvPr/>
        </p:nvPicPr>
        <p:blipFill>
          <a:blip r:embed="rId3"/>
          <a:stretch/>
        </p:blipFill>
        <p:spPr>
          <a:xfrm>
            <a:off x="5076720" y="1163520"/>
            <a:ext cx="2772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" dur="500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1434960" y="404640"/>
            <a:ext cx="749952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203"/>
                </a:solidFill>
                <a:latin typeface="Corbel"/>
                <a:ea typeface="Tahoma"/>
              </a:rPr>
              <a:t>Диагностика уровня знаний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Прокариотическая клетка в отличие от эукариотической не  содержит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включения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цитоплазматическую мембрану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рибосомы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лизосомы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Клетки бактерий, как и клетки растений, содержат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цитоплазматическую мембрану и митохондрии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цитоскелет и клеточную стенку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рибосомы и ЭПС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рибосомы и клеточную стенку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1434960" y="260280"/>
            <a:ext cx="74995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се  прокариотические  и эукариотические  клетки имеют: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митохондрии и ядро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вакуоли  и ап.Гольджи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ядерную мембрану  и рибосомы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плазматическую мембрану  и цитоплазму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Какой организм относится к прокариотам?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хлорелла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кишечная палочка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дизентерийная амеба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аденовирус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789156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72314"/>
                </a:solidFill>
                <a:latin typeface="Corbel"/>
              </a:rPr>
              <a:t>Человек заболел ангиной.  Оказывается, в горле у больного поселились живые   организмы, которые и стали причиной болезни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2"/>
          <a:stretch/>
        </p:blipFill>
        <p:spPr>
          <a:xfrm>
            <a:off x="971640" y="1131840"/>
            <a:ext cx="784836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1187280" y="115560"/>
            <a:ext cx="7498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Выберите правильные утверждения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тенка бактериальной  клетки состоит из хитин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Ядерная оболочка у бактерий отсутствуе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ибосомы прокариот  значительно меньше, чем у эукариот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В неблагоприятных условиях бактерии образуют споры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Клетки делятся путем митоз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332000" y="4941720"/>
          <a:ext cx="6624720" cy="1086120"/>
        </p:xfrm>
        <a:graphic>
          <a:graphicData uri="http://schemas.openxmlformats.org/drawingml/2006/table">
            <a:tbl>
              <a:tblPr/>
              <a:tblGrid>
                <a:gridCol w="1323720"/>
                <a:gridCol w="1325880"/>
                <a:gridCol w="1323720"/>
                <a:gridCol w="1325520"/>
                <a:gridCol w="1325880"/>
              </a:tblGrid>
              <a:tr h="54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Corbe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Corbe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Corbe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Corbe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Corbe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54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Corbe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9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2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5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8" dur="5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1" dur="50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4" dur="500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"/>
          <p:cNvPicPr/>
          <p:nvPr/>
        </p:nvPicPr>
        <p:blipFill>
          <a:blip r:embed="rId3"/>
          <a:stretch/>
        </p:blipFill>
        <p:spPr>
          <a:xfrm>
            <a:off x="201600" y="189000"/>
            <a:ext cx="854712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115920"/>
            <a:ext cx="7499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 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395280" y="907920"/>
          <a:ext cx="8539200" cy="5299200"/>
        </p:xfrm>
        <a:graphic>
          <a:graphicData uri="http://schemas.openxmlformats.org/drawingml/2006/table">
            <a:tbl>
              <a:tblPr/>
              <a:tblGrid>
                <a:gridCol w="5329080"/>
                <a:gridCol w="863640"/>
                <a:gridCol w="792360"/>
                <a:gridCol w="720720"/>
                <a:gridCol w="833400"/>
              </a:tblGrid>
              <a:tr h="92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Критерии результативност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«5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«4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«3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«2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97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1.Распознавать и описывать  бактериальную  клетку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2.Доказывать, что  бактерии-живые организм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3.Преобразовывать информацию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97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4.Проводить самостоятельное изучение объектов природ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5.Самостоятельно работать с текстовым  материалом, иллюстрациями учебника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sp>
        <p:nvSpPr>
          <p:cNvPr id="398" name="Прямоугольник 5"/>
          <p:cNvSpPr/>
          <p:nvPr/>
        </p:nvSpPr>
        <p:spPr>
          <a:xfrm>
            <a:off x="539640" y="26028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f271c"/>
                </a:solidFill>
                <a:latin typeface="Corbel"/>
              </a:rPr>
              <a:t>Оценка приращения знаний и умени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250560" y="115920"/>
            <a:ext cx="8713800" cy="63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7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Список использованных источников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1.Биология. Многообразие живых организмов» учебник 7 класс. авт. Захаров В.Б., Сонин Н.И.-М.:Дрофа,  2010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2. Наплекова Н.Н. Микробные препараты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http://www.argo-shop.com.ua/catalog_total.php?tovar_id=425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Изображение «Ребенок заболел   ангиной»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http://www.kazved.ru/Thumbnail.aspx?w=670&amp;img=/uploadimg/554571_130950_step-48ce1daf6287ab6252221b3a66ea8654.jp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4.Изображение «Архебактерии»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ttp://my-edu.ru/edu_bio/51_1_4_1.html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5.Изображение «Оксифотобактерии»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ttp://www.megabook.ru/DescriptionImage.asp?MID=447754&amp;AID=61351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6.Изображение «Настоящие бактерии»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ttp://razvitie05.ru/prokarioti/bakterii.php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7.Изображение «Сенная палочка»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ttp://commons.wikimedia.org/w/index.php?title=File:EscherichiaColi_NIAID.jpg&amp;filetimestamp=20050410214037&amp;uselang=ru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8.Изображение «Бактериальная клетка» http://900igr.net/kartinki/biologija/Klassifikatsija-zhivykh-organizmov/019-Nadtsarstvo-Prokarioty.htm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7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73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2" marL="806040" indent="-207720">
              <a:spcBef>
                <a:spcPts val="2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395280" y="189000"/>
            <a:ext cx="8539200" cy="60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9lИнтерактив. «Формы бактериальных клеток» http://school-collection.edu.ru/catalog/res/00000339-1000-4ddd-ccea-070046bb2fd1/view/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0.Изображение  «Патогенные бактерии» http://school-collection.edu.ru/catalog/res/0000033d-1000-4ddd-29ef-150046bb2fd1/view/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1.Анимация. Размножение бактерий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ttp://school-collection.edu.ru/catalog/res/00000337-1000-4ddd-3b5e-010046bb2fd1/view/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2.Анимация.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«Приспособленность бактерий к неблагоприятным условиям»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ttp://school-collection.edu.ru/catalog/res/00000338-1000-4ddd-4de3-040046bb2fd1/view/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3.Изображение «Растительная клетка» http://school-collection.edu.ru/catalog/res/000001f9-1000-4ddd-aabb-140046b3269f/view/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4.Интерактив. Биологические карты "Бактерии»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ttp://school-collection.edu.ru/catalog/res/00000343-1000-4ddd-d6eb-2a0046bb2fd1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/view/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Целеполагание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выявить особенности строения бактерий, научиться определять их формы  и особенности объединения клеток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выяснить,  как они размножаются, на какие группы делятся по отношению к кислороду, как питаются,  какую роль играют в природе  и жизни человек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Corbel"/>
              </a:rPr>
              <a:t>Цитология </a:t>
            </a:r>
            <a:r>
              <a:rPr b="1" i="1" lang="en-US" sz="3600" spc="-1" strike="noStrike">
                <a:solidFill>
                  <a:srgbClr val="000000"/>
                </a:solidFill>
                <a:latin typeface="Corbel"/>
              </a:rPr>
              <a:t>–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Corbel"/>
              </a:rPr>
              <a:t>наука, изучающая клетки живого организма. 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en-US" sz="3600" spc="-1" strike="noStrike">
                <a:solidFill>
                  <a:srgbClr val="002060"/>
                </a:solidFill>
                <a:latin typeface="Corbel"/>
              </a:rPr>
              <a:t>Микробиология</a:t>
            </a:r>
            <a:r>
              <a:rPr b="1" i="1" lang="en-US" sz="3600" spc="-1" strike="noStrike">
                <a:solidFill>
                  <a:srgbClr val="000000"/>
                </a:solidFill>
                <a:latin typeface="Corbel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Corbel"/>
              </a:rPr>
              <a:t>наука, изучающая особенности строения и жизнедеятельность микроорганизмов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f271c"/>
                </a:solidFill>
                <a:latin typeface="Corbel"/>
              </a:rPr>
              <a:t>Бактериология</a:t>
            </a:r>
            <a:r>
              <a:rPr b="1" i="1" lang="en-US" sz="3600" spc="-1" strike="noStrike">
                <a:solidFill>
                  <a:srgbClr val="000000"/>
                </a:solidFill>
                <a:latin typeface="Corbel"/>
              </a:rPr>
              <a:t> –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Corbel"/>
              </a:rPr>
              <a:t>наука, изучающая бактерии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684360" y="1074600"/>
            <a:ext cx="8229600" cy="33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Прямоугольник 3"/>
          <p:cNvSpPr/>
          <p:nvPr/>
        </p:nvSpPr>
        <p:spPr>
          <a:xfrm>
            <a:off x="2900520" y="1197000"/>
            <a:ext cx="3024000" cy="5763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Царство Прокариот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Прямоугольник 4"/>
          <p:cNvSpPr/>
          <p:nvPr/>
        </p:nvSpPr>
        <p:spPr>
          <a:xfrm>
            <a:off x="324000" y="2736720"/>
            <a:ext cx="2576520" cy="70812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одцарство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Настоящие  бактери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Прямоугольник 5"/>
          <p:cNvSpPr/>
          <p:nvPr/>
        </p:nvSpPr>
        <p:spPr>
          <a:xfrm>
            <a:off x="3635280" y="2716200"/>
            <a:ext cx="1944720" cy="72072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одцарство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Архебактери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Прямоугольник 7"/>
          <p:cNvSpPr/>
          <p:nvPr/>
        </p:nvSpPr>
        <p:spPr>
          <a:xfrm>
            <a:off x="6588000" y="2724120"/>
            <a:ext cx="2160720" cy="72072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одцарство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Оксифотобактери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330" name="Прямая со стрелкой 9"/>
          <p:cNvCxnSpPr/>
          <p:nvPr/>
        </p:nvCxnSpPr>
        <p:spPr>
          <a:xfrm flipH="1">
            <a:off x="1611000" y="1773000"/>
            <a:ext cx="2384640" cy="943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31" name="Прямая со стрелкой 11"/>
          <p:cNvCxnSpPr/>
          <p:nvPr/>
        </p:nvCxnSpPr>
        <p:spPr>
          <a:xfrm>
            <a:off x="4412880" y="1773000"/>
            <a:ext cx="1080" cy="943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32" name="Прямая со стрелкой 13"/>
          <p:cNvCxnSpPr/>
          <p:nvPr/>
        </p:nvCxnSpPr>
        <p:spPr>
          <a:xfrm>
            <a:off x="5003640" y="1773000"/>
            <a:ext cx="2664720" cy="943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pic>
        <p:nvPicPr>
          <p:cNvPr id="333" name="Picture 2" descr=""/>
          <p:cNvPicPr/>
          <p:nvPr/>
        </p:nvPicPr>
        <p:blipFill>
          <a:blip r:embed="rId2"/>
          <a:stretch/>
        </p:blipFill>
        <p:spPr>
          <a:xfrm>
            <a:off x="6607080" y="4378320"/>
            <a:ext cx="1971720" cy="14288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"/>
          <p:cNvPicPr/>
          <p:nvPr/>
        </p:nvPicPr>
        <p:blipFill>
          <a:blip r:embed="rId3"/>
          <a:stretch/>
        </p:blipFill>
        <p:spPr>
          <a:xfrm>
            <a:off x="3543480" y="4421160"/>
            <a:ext cx="2381040" cy="14288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"/>
          <p:cNvPicPr/>
          <p:nvPr/>
        </p:nvPicPr>
        <p:blipFill>
          <a:blip r:embed="rId4"/>
          <a:stretch/>
        </p:blipFill>
        <p:spPr>
          <a:xfrm>
            <a:off x="453960" y="4421160"/>
            <a:ext cx="267660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572314"/>
                </a:solidFill>
                <a:latin typeface="Times New Roman"/>
              </a:rPr>
              <a:t>С</a:t>
            </a:r>
            <a:r>
              <a:rPr b="0" lang="en-US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енная палочка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2"/>
          <a:stretch/>
        </p:blipFill>
        <p:spPr>
          <a:xfrm>
            <a:off x="1332000" y="1268280"/>
            <a:ext cx="6912000" cy="49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95200" y="115920"/>
            <a:ext cx="86392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Строение бактериальной клетк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" descr="C:\Users\Лидия\Desktop\Рисунок1.png"/>
          <p:cNvPicPr/>
          <p:nvPr/>
        </p:nvPicPr>
        <p:blipFill>
          <a:blip r:embed="rId3"/>
          <a:stretch/>
        </p:blipFill>
        <p:spPr>
          <a:xfrm>
            <a:off x="295200" y="1189080"/>
            <a:ext cx="8309160" cy="4616280"/>
          </a:xfrm>
          <a:prstGeom prst="rect">
            <a:avLst/>
          </a:prstGeom>
          <a:ln w="0">
            <a:noFill/>
          </a:ln>
        </p:spPr>
      </p:pic>
      <p:sp>
        <p:nvSpPr>
          <p:cNvPr id="341" name="Блок-схема: альтернативный процесс 4"/>
          <p:cNvSpPr/>
          <p:nvPr/>
        </p:nvSpPr>
        <p:spPr>
          <a:xfrm>
            <a:off x="1042920" y="938160"/>
            <a:ext cx="1643040" cy="500040"/>
          </a:xfrm>
          <a:prstGeom prst="flowChartAlternateProcess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Рибосом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Блок-схема: альтернативный процесс 5"/>
          <p:cNvSpPr/>
          <p:nvPr/>
        </p:nvSpPr>
        <p:spPr>
          <a:xfrm>
            <a:off x="3924360" y="1052640"/>
            <a:ext cx="1643040" cy="500040"/>
          </a:xfrm>
          <a:prstGeom prst="flowChartAlternateProcess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ДНК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Блок-схема: альтернативный процесс 6"/>
          <p:cNvSpPr/>
          <p:nvPr/>
        </p:nvSpPr>
        <p:spPr>
          <a:xfrm>
            <a:off x="6516720" y="938160"/>
            <a:ext cx="1643040" cy="500040"/>
          </a:xfrm>
          <a:prstGeom prst="flowChartAlternateProcess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Жгутик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4" name="Picture 3" descr=""/>
          <p:cNvPicPr/>
          <p:nvPr/>
        </p:nvPicPr>
        <p:blipFill>
          <a:blip r:embed="rId4"/>
          <a:stretch/>
        </p:blipFill>
        <p:spPr>
          <a:xfrm>
            <a:off x="6372360" y="3983040"/>
            <a:ext cx="1944720" cy="752400"/>
          </a:xfrm>
          <a:prstGeom prst="rect">
            <a:avLst/>
          </a:prstGeom>
          <a:ln w="0">
            <a:noFill/>
          </a:ln>
        </p:spPr>
      </p:pic>
      <p:sp>
        <p:nvSpPr>
          <p:cNvPr id="345" name="Блок-схема: альтернативный процесс 8"/>
          <p:cNvSpPr/>
          <p:nvPr/>
        </p:nvSpPr>
        <p:spPr>
          <a:xfrm>
            <a:off x="1187280" y="5305320"/>
            <a:ext cx="2851200" cy="716040"/>
          </a:xfrm>
          <a:prstGeom prst="flowChartAlternateProcess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Плазматическая мембран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6" name="Picture 7" descr=""/>
          <p:cNvPicPr/>
          <p:nvPr/>
        </p:nvPicPr>
        <p:blipFill>
          <a:blip r:embed="rId5"/>
          <a:stretch/>
        </p:blipFill>
        <p:spPr>
          <a:xfrm>
            <a:off x="5237280" y="4869000"/>
            <a:ext cx="226836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8" name="Picture 2" descr="C:\Users\Лидия\Desktop\ШКОЛА\уроки\7класс\бактерии\Снимок.JPG"/>
          <p:cNvPicPr/>
          <p:nvPr/>
        </p:nvPicPr>
        <p:blipFill>
          <a:blip r:embed="rId2"/>
          <a:stretch/>
        </p:blipFill>
        <p:spPr>
          <a:xfrm>
            <a:off x="68400" y="-1440"/>
            <a:ext cx="90756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9152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2314"/>
                </a:solidFill>
                <a:latin typeface="Corbel"/>
              </a:rPr>
              <a:t>Особенности  функционирования и условия жизни сенной палочки 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539640" y="1557360"/>
          <a:ext cx="8064720" cy="5002200"/>
        </p:xfrm>
        <a:graphic>
          <a:graphicData uri="http://schemas.openxmlformats.org/drawingml/2006/table">
            <a:tbl>
              <a:tblPr/>
              <a:tblGrid>
                <a:gridCol w="2759040"/>
                <a:gridCol w="5305680"/>
              </a:tblGrid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учаемые призна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ная палоч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т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профитные  бактерии, питаются мертвой органикой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4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к кислород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эроб; на поверхности жидких питательных сред образует тонкую беловатую плёнку, на поверхности плотных — круглые, сероватые, гладкие, блестящие коло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но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ножаются делени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ообраз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неподвижных бактерий внутри видны  блестящие овальные  образования- споры.  Споры   имеют овальную формы, расположены в центр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иж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ная палочка подвижная бактерия, использующая жгутик в качестве мотор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1" name="Rectangle 1"/>
          <p:cNvSpPr/>
          <p:nvPr/>
        </p:nvSpPr>
        <p:spPr>
          <a:xfrm>
            <a:off x="1612800" y="2674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0T15:37:28Z</dcterms:created>
  <dc:creator>Лидия</dc:creator>
  <dc:description/>
  <dc:language>en-US</dc:language>
  <cp:lastModifiedBy>Василий</cp:lastModifiedBy>
  <dcterms:modified xsi:type="dcterms:W3CDTF">2012-11-18T11:35:18Z</dcterms:modified>
  <cp:revision>84</cp:revision>
  <dc:subject/>
  <dc:title>Презентация PowerPoint</dc:title>
</cp:coreProperties>
</file>