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13.png" ContentType="image/png"/>
  <Override PartName="/ppt/media/image8.png" ContentType="image/png"/>
  <Override PartName="/ppt/media/image11.png" ContentType="image/png"/>
  <Override PartName="/ppt/media/image19.jpeg" ContentType="image/jpeg"/>
  <Override PartName="/ppt/media/image7.jpeg" ContentType="image/jpeg"/>
  <Override PartName="/ppt/media/image6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1.jpeg" ContentType="image/jpeg"/>
  <Override PartName="/ppt/media/image5.png" ContentType="image/png"/>
  <Override PartName="/ppt/media/image10.png" ContentType="image/png"/>
  <Override PartName="/ppt/media/image21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3.png" ContentType="image/png"/>
  <Override PartName="/ppt/media/image17.jpeg" ContentType="image/jpeg"/>
  <Override PartName="/ppt/media/image2.png" ContentType="image/png"/>
  <Override PartName="/ppt/media/image9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D4247-98E1-4E8F-96DC-E88D57905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9DA42-BA3A-4E86-984B-555E86F07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5CFFC-0E4D-4C42-B93F-1D55107FF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AB00C-1070-4BF9-9C9D-A901FEDF3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20D0B-D650-4620-83E2-F081EF53A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23261-9641-4871-88B6-A4BDC755C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09CD6-2E24-4AAD-9D0C-E71541D2D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D2A04-3740-45A7-BE01-AD77D684C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3ADDC-71BB-468C-80F6-09F9A6735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E27C9-9CCF-46B4-AD14-59A3AFF02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5E61E-727B-430F-BF0C-0BD157632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AD225-57D3-407F-BEBF-573BE744E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C081C-A00E-46A1-BDEA-8326B10CB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3B7C7-E571-401F-9070-55294C844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76347-4E46-4D8E-8259-8BF986D2A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AF7F7-1CE7-44FF-A664-3AED026C3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5E256-993F-41EB-8D14-900EB21AE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A583A2-E627-4AE7-9489-1C7E2C96D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5D06CF-3C53-47B1-B45E-F082F91E1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3CCF38-6F59-4481-B1CE-AB78B7497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A047FC-9533-43FA-BD14-5AEF19B38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4651F4-70F1-44B0-96A5-7B645D20D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969E8-4281-48BB-9E6D-744CF4575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FEE440-CD91-43B4-B17A-7EC61A9DE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21E2EA-A14C-486C-BF08-3CCF8E948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816C7C-2687-4EB8-8BA8-AD4D6462E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9ADDCB-DA33-4743-B80C-15CD220DF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4B773D-8920-433F-A768-7363EA09B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1F4BCC-58EE-4F7E-8BC4-04EEE0240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69AFD4-2AC6-4DD9-807F-8544FB738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E8102C-1631-400C-A6E7-4403370B8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B0228F-AAA1-486D-8DD2-01D67CDE7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9A1654-1887-4519-B56C-1DE9CDB74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AD41A-6680-471F-81C7-CC089C7C5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AFF39E-C72C-4919-A1D4-9B00976DB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38B34F-7BBA-4BD5-8B4E-CE98DAB02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43BB00-C782-4FEC-BEF4-9F21143B7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0B119D-FD5C-4D35-9A31-A034E02A3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ADA345-370C-4208-B969-DDC9D4175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411ED3-9482-48D7-B76A-2B3ACC618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F9756A-9DBA-4A03-8273-09763666F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F8A5C0-06B4-456A-B7FA-D14DF474A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A2E017-F838-455B-940D-C859F7B92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31DEF0-23C9-43BF-B73C-6F97ACE47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90C28-381D-40AC-8C9B-C4F084298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514254-925F-4737-A602-B21627320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DF2C7B-29CB-4289-8363-62948B166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3E797B-3A43-4092-A5C6-E1676C5AB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191052-86DA-4B60-8242-D68BBCCCA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E652E3-342F-4A41-9705-D9A01A80F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32BDE2-FFC1-443C-A467-83DBAC81F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9A984B-951B-4B05-BDEC-9CB7E2BE6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AB31B5-2F30-47DA-8225-A6FBF6190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9560A0-B4D4-4E2B-BD33-BA8C20E60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0938BC-4E5B-47FF-BEC8-80A67DAFB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F553C-EE20-4611-9880-DECE8C82D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EF88ED-A0D6-4011-A0FB-706AB262E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A19DC4-3814-4C0D-8AB0-F632195B4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48D79A-D39A-45C3-A0DC-B78E91266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5BDAD4-5BB6-4BB2-98A2-93F78E8C1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DA71CC-7446-487D-90DA-86280A7D5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C269B4-D8A6-4C08-BEB5-EE5B14B4B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AE9ECA-0009-4363-B5C0-15AE89AF2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61C406-35C8-49BE-A65B-ABEBE93FD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E79A81-D897-4FD4-AB0E-7A6941FC5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2F047C-DA0C-4366-8F76-8F8EE1DAC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B5CDB-390E-426C-9E5D-BD174E3BB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112A44-33B4-4A4D-B556-72541C3C4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008F65-C066-4AF2-9FBA-5272D0215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78CEF8-E99B-4A51-87DD-DB0CAAB49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CEAF95-E0B9-4E73-A81F-964FDD422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4D5CEB-289E-4835-9B97-31FEB3190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C71D8C-2307-4931-BFA7-30D0BFAD3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BACA60-92FF-48C6-BBD9-0AED76A5B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6E9968-5189-4194-8443-AA4B8CDA0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0B5BBD-6701-4CAD-8A7D-337954A07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128347-D693-4B43-90EE-368FDE0EA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349FA-EF8D-49CE-AF4D-67B08F06E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5F13E1-EA82-4534-BE21-7313E4FFC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18B628-1EE4-4881-869C-6AFE3E3B0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9F368D-E083-4ADC-9C41-7F9904C76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17959C-9C30-4123-B514-6E2AC787D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B63B59-072E-4C91-8366-B44D744AC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C6F31-9DCF-488D-8E67-3DE2E6C65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3E74B-279A-4736-896E-ABB62D22A80E}" type="slidenum">
              <a:rPr b="0" lang="en-US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55" name="Овал 7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7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8" name="Овал 8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6465D-B251-4890-9306-D82FA6CC14D6}" type="slidenum">
              <a:rPr b="0" lang="en-US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6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1" name="Прямоугольник 9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102" name="Овал 7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7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105" name="Овал 8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E7727-3B97-4A80-8561-D012A973CA16}" type="slidenum">
              <a:rPr b="0" lang="en-US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0954E-72E9-4AD2-B568-14A885A0DB51}" type="slidenum">
              <a:rPr b="0" lang="en-US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4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9" name="Прямоугольник 5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02DA1-23EF-47D0-8774-221D49E5ECF0}" type="slidenum">
              <a:rPr b="0" lang="en-US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6B3F6-DC51-47CF-A14D-57079625C515}" type="slidenum">
              <a:rPr b="0" lang="en-US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7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275" name="Блок-схема: процесс 8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6" name="Блок-схема: процесс 9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D9AFE-5E1E-448C-8B41-FEEB77708055}" type="slidenum">
              <a:rPr b="0" lang="en-US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20.jpe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Picture 2" descr=""/>
          <p:cNvPicPr/>
          <p:nvPr/>
        </p:nvPicPr>
        <p:blipFill>
          <a:blip r:embed="rId2"/>
          <a:stretch/>
        </p:blipFill>
        <p:spPr>
          <a:xfrm>
            <a:off x="326880" y="907920"/>
            <a:ext cx="8817120" cy="4897440"/>
          </a:xfrm>
          <a:prstGeom prst="rect">
            <a:avLst/>
          </a:prstGeom>
          <a:ln w="0">
            <a:noFill/>
          </a:ln>
        </p:spPr>
      </p:pic>
      <p:sp>
        <p:nvSpPr>
          <p:cNvPr id="319" name=""/>
          <p:cNvSpPr txBox="1"/>
          <p:nvPr/>
        </p:nvSpPr>
        <p:spPr>
          <a:xfrm>
            <a:off x="1258920" y="620640"/>
            <a:ext cx="763272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Tahoma"/>
                <a:ea typeface="Tahoma"/>
              </a:rPr>
              <a:t>Тема урока</a:t>
            </a:r>
            <a:endParaRPr b="0" lang="en-US" sz="33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002060"/>
                </a:solidFill>
                <a:latin typeface="Tahoma"/>
                <a:ea typeface="Tahoma"/>
              </a:rPr>
              <a:t> </a:t>
            </a:r>
            <a:r>
              <a:rPr b="1" i="1" lang="ru-RU" sz="4100" spc="-1" strike="noStrike">
                <a:solidFill>
                  <a:srgbClr val="002060"/>
                </a:solidFill>
                <a:latin typeface="Tahoma"/>
                <a:ea typeface="Tahoma"/>
              </a:rPr>
              <a:t>Общая характеристика прокариот</a:t>
            </a:r>
            <a:r>
              <a:rPr b="1" i="1" lang="ru-RU" sz="4100" spc="-1" strike="noStrike">
                <a:solidFill>
                  <a:srgbClr val="000000"/>
                </a:solidFill>
                <a:latin typeface="Tahoma"/>
                <a:ea typeface="Tahoma"/>
              </a:rPr>
              <a:t>.</a:t>
            </a:r>
            <a:endParaRPr b="0" lang="en-US" sz="41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ahoma"/>
                <a:ea typeface="Tahoma"/>
              </a:rPr>
              <a:t>Автор:  Мишнина  Лидия Александровна,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Tahoma"/>
                <a:ea typeface="Tahoma"/>
              </a:rPr>
              <a:t>учитель биологии СОШ №3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ahoma"/>
                <a:ea typeface="Tahoma"/>
              </a:rPr>
              <a:t>Акбулакского района Оренбургской области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" descr=""/>
          <p:cNvPicPr/>
          <p:nvPr/>
        </p:nvPicPr>
        <p:blipFill>
          <a:blip r:embed="rId2"/>
          <a:stretch/>
        </p:blipFill>
        <p:spPr>
          <a:xfrm>
            <a:off x="1434960" y="1447560"/>
            <a:ext cx="7499520" cy="4800600"/>
          </a:xfrm>
          <a:prstGeom prst="rect">
            <a:avLst/>
          </a:prstGeom>
          <a:ln w="0">
            <a:noFill/>
          </a:ln>
        </p:spPr>
      </p:pic>
      <p:sp>
        <p:nvSpPr>
          <p:cNvPr id="353" name="Прямоугольник 3"/>
          <p:cNvSpPr/>
          <p:nvPr/>
        </p:nvSpPr>
        <p:spPr>
          <a:xfrm>
            <a:off x="3564000" y="295200"/>
            <a:ext cx="2879640" cy="576360"/>
          </a:xfrm>
          <a:prstGeom prst="rect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rbel"/>
              </a:rPr>
              <a:t>Типы питания бактерий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4" name="Прямоугольник 4"/>
          <p:cNvSpPr/>
          <p:nvPr/>
        </p:nvSpPr>
        <p:spPr>
          <a:xfrm>
            <a:off x="1042920" y="1484280"/>
            <a:ext cx="3168720" cy="792360"/>
          </a:xfrm>
          <a:prstGeom prst="rect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rbel"/>
              </a:rPr>
              <a:t>Гетеротрофные бактерии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5" name="Прямоугольник 5"/>
          <p:cNvSpPr/>
          <p:nvPr/>
        </p:nvSpPr>
        <p:spPr>
          <a:xfrm>
            <a:off x="5435640" y="1484280"/>
            <a:ext cx="3168720" cy="792360"/>
          </a:xfrm>
          <a:prstGeom prst="rect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rbel"/>
              </a:rPr>
              <a:t>Автотрофные бактерии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6" name="Прямоугольник 6"/>
          <p:cNvSpPr/>
          <p:nvPr/>
        </p:nvSpPr>
        <p:spPr>
          <a:xfrm>
            <a:off x="179280" y="3254400"/>
            <a:ext cx="1944720" cy="647640"/>
          </a:xfrm>
          <a:prstGeom prst="rect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rbel"/>
              </a:rPr>
              <a:t>Сапрофиты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7" name="Прямоугольник 7"/>
          <p:cNvSpPr/>
          <p:nvPr/>
        </p:nvSpPr>
        <p:spPr>
          <a:xfrm>
            <a:off x="1366920" y="4221000"/>
            <a:ext cx="1942920" cy="720720"/>
          </a:xfrm>
          <a:prstGeom prst="rect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rbel"/>
              </a:rPr>
              <a:t>Симбионты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8" name="Прямоугольник 8"/>
          <p:cNvSpPr/>
          <p:nvPr/>
        </p:nvSpPr>
        <p:spPr>
          <a:xfrm>
            <a:off x="5543640" y="3213000"/>
            <a:ext cx="1800000" cy="647640"/>
          </a:xfrm>
          <a:prstGeom prst="rect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rbel"/>
              </a:rPr>
              <a:t>Способны к фотосинтезу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9" name="Прямоугольник 9"/>
          <p:cNvSpPr/>
          <p:nvPr/>
        </p:nvSpPr>
        <p:spPr>
          <a:xfrm>
            <a:off x="6967440" y="4389480"/>
            <a:ext cx="2016360" cy="718920"/>
          </a:xfrm>
          <a:prstGeom prst="rect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rbel"/>
              </a:rPr>
              <a:t>Способны к хемосинтезу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0" name="Стрелка вниз 12"/>
          <p:cNvSpPr/>
          <p:nvPr/>
        </p:nvSpPr>
        <p:spPr>
          <a:xfrm>
            <a:off x="1692360" y="2276640"/>
            <a:ext cx="142920" cy="792000"/>
          </a:xfrm>
          <a:prstGeom prst="downArrow">
            <a:avLst>
              <a:gd name="adj1" fmla="val 50000"/>
              <a:gd name="adj2" fmla="val 50387"/>
            </a:avLst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1" name="Стрелка вниз 13"/>
          <p:cNvSpPr/>
          <p:nvPr/>
        </p:nvSpPr>
        <p:spPr>
          <a:xfrm>
            <a:off x="2646360" y="2276640"/>
            <a:ext cx="144360" cy="1584000"/>
          </a:xfrm>
          <a:prstGeom prst="downArrow">
            <a:avLst>
              <a:gd name="adj1" fmla="val 50000"/>
              <a:gd name="adj2" fmla="val 49885"/>
            </a:avLst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2" name="Стрелка вниз 14"/>
          <p:cNvSpPr/>
          <p:nvPr/>
        </p:nvSpPr>
        <p:spPr>
          <a:xfrm>
            <a:off x="6448320" y="2276640"/>
            <a:ext cx="144720" cy="792000"/>
          </a:xfrm>
          <a:prstGeom prst="downArrow">
            <a:avLst>
              <a:gd name="adj1" fmla="val 50000"/>
              <a:gd name="adj2" fmla="val 49760"/>
            </a:avLst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3" name="Стрелка вниз 15"/>
          <p:cNvSpPr/>
          <p:nvPr/>
        </p:nvSpPr>
        <p:spPr>
          <a:xfrm>
            <a:off x="7885080" y="2276640"/>
            <a:ext cx="142920" cy="1944360"/>
          </a:xfrm>
          <a:prstGeom prst="downArrow">
            <a:avLst>
              <a:gd name="adj1" fmla="val 50000"/>
              <a:gd name="adj2" fmla="val 50387"/>
            </a:avLst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cxnSp>
        <p:nvCxnSpPr>
          <p:cNvPr id="364" name="Прямая со стрелкой 18"/>
          <p:cNvCxnSpPr/>
          <p:nvPr/>
        </p:nvCxnSpPr>
        <p:spPr>
          <a:xfrm flipH="1">
            <a:off x="3418920" y="907920"/>
            <a:ext cx="937080" cy="43416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365" name="Прямая со стрелкой 20"/>
          <p:cNvCxnSpPr/>
          <p:nvPr/>
        </p:nvCxnSpPr>
        <p:spPr>
          <a:xfrm>
            <a:off x="5435640" y="907920"/>
            <a:ext cx="721440" cy="43416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sp>
        <p:nvSpPr>
          <p:cNvPr id="366" name="Прямоугольник 22"/>
          <p:cNvSpPr/>
          <p:nvPr/>
        </p:nvSpPr>
        <p:spPr>
          <a:xfrm>
            <a:off x="2606760" y="5300640"/>
            <a:ext cx="1743120" cy="792360"/>
          </a:xfrm>
          <a:prstGeom prst="rect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rbel"/>
              </a:rPr>
              <a:t>Паразиты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7" name="Стрелка вниз 23"/>
          <p:cNvSpPr/>
          <p:nvPr/>
        </p:nvSpPr>
        <p:spPr>
          <a:xfrm>
            <a:off x="3708360" y="2276640"/>
            <a:ext cx="179280" cy="2831760"/>
          </a:xfrm>
          <a:prstGeom prst="downArrow">
            <a:avLst>
              <a:gd name="adj1" fmla="val 50000"/>
              <a:gd name="adj2" fmla="val 50164"/>
            </a:avLst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2"/>
          <a:stretch/>
        </p:blipFill>
        <p:spPr>
          <a:xfrm>
            <a:off x="1434960" y="1447560"/>
            <a:ext cx="7499520" cy="480060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2" descr=""/>
          <p:cNvPicPr/>
          <p:nvPr/>
        </p:nvPicPr>
        <p:blipFill>
          <a:blip r:embed="rId3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-1086120" y="-1117440"/>
            <a:ext cx="11007720" cy="984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20e04"/>
                </a:solidFill>
                <a:latin typeface="Corbe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aphicFrame>
        <p:nvGraphicFramePr>
          <p:cNvPr id="372" name=""/>
          <p:cNvGraphicFramePr/>
          <p:nvPr/>
        </p:nvGraphicFramePr>
        <p:xfrm>
          <a:off x="380880" y="304920"/>
          <a:ext cx="8153640" cy="4803480"/>
        </p:xfrm>
        <a:graphic>
          <a:graphicData uri="http://schemas.openxmlformats.org/drawingml/2006/table">
            <a:tbl>
              <a:tblPr/>
              <a:tblGrid>
                <a:gridCol w="4038840"/>
                <a:gridCol w="4114800"/>
              </a:tblGrid>
              <a:tr h="114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эробные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наэробные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уществуют только в кислородной среде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уществуют   в бескислородной среде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0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пособны к дыханию кислородом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Энергию получают в результате брожения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402920" y="2196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Corbel"/>
              </a:rPr>
              <a:t>Озвучьте видеофрагмент о размножении бактериальной клетки. 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74" name="" descr=""/>
          <p:cNvPicPr/>
          <p:nvPr/>
        </p:nvPicPr>
        <p:blipFill>
          <a:blip r:embed="rId2"/>
          <a:stretch/>
        </p:blipFill>
        <p:spPr>
          <a:xfrm>
            <a:off x="1434960" y="1447560"/>
            <a:ext cx="7499520" cy="480060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9" descr=""/>
          <p:cNvPicPr/>
          <p:nvPr/>
        </p:nvPicPr>
        <p:blipFill>
          <a:blip r:embed="rId3"/>
          <a:stretch/>
        </p:blipFill>
        <p:spPr>
          <a:xfrm>
            <a:off x="2340000" y="4835520"/>
            <a:ext cx="4443480" cy="195732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11" descr="C:\Users\Лидия\Desktop\Рисунок2.jpg"/>
          <p:cNvPicPr/>
          <p:nvPr/>
        </p:nvPicPr>
        <p:blipFill>
          <a:blip r:embed="rId4"/>
          <a:stretch/>
        </p:blipFill>
        <p:spPr>
          <a:xfrm>
            <a:off x="2627280" y="1165320"/>
            <a:ext cx="3203640" cy="187164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12" descr="C:\Users\Лидия\Desktop\Рисунок2.jpg"/>
          <p:cNvPicPr/>
          <p:nvPr/>
        </p:nvPicPr>
        <p:blipFill>
          <a:blip r:embed="rId5"/>
          <a:stretch/>
        </p:blipFill>
        <p:spPr>
          <a:xfrm>
            <a:off x="3440160" y="3322800"/>
            <a:ext cx="2243160" cy="111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6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6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72314"/>
                </a:solidFill>
                <a:latin typeface="Corbel"/>
              </a:rPr>
              <a:t>На</a:t>
            </a:r>
            <a:r>
              <a:rPr b="0" lang="en-US" sz="2400" spc="-1" strike="noStrike">
                <a:solidFill>
                  <a:srgbClr val="572314"/>
                </a:solidFill>
                <a:latin typeface="Corbel"/>
              </a:rPr>
              <a:t>йдите в учебнике описание данных рисунков и объясните роль спорообразования в жизни бактерий</a:t>
            </a:r>
            <a:endParaRPr b="0" lang="en-US" sz="24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2"/>
          <a:stretch/>
        </p:blipFill>
        <p:spPr>
          <a:xfrm>
            <a:off x="1434960" y="1447560"/>
            <a:ext cx="7499520" cy="480060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3" descr="C:\Users\Лидия\Desktop\Снимокспора.JPG"/>
          <p:cNvPicPr/>
          <p:nvPr/>
        </p:nvPicPr>
        <p:blipFill>
          <a:blip r:embed="rId3"/>
          <a:stretch/>
        </p:blipFill>
        <p:spPr>
          <a:xfrm>
            <a:off x="4067280" y="4292640"/>
            <a:ext cx="4530600" cy="158436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4" descr=""/>
          <p:cNvPicPr/>
          <p:nvPr/>
        </p:nvPicPr>
        <p:blipFill>
          <a:blip r:embed="rId4"/>
          <a:stretch/>
        </p:blipFill>
        <p:spPr>
          <a:xfrm>
            <a:off x="611280" y="1290600"/>
            <a:ext cx="547344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395280" y="189000"/>
            <a:ext cx="8539200" cy="605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53880" indent="-27396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70c0"/>
                </a:solidFill>
                <a:latin typeface="Corbel"/>
              </a:rPr>
              <a:t>Вывод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По типу питания бактерии делят на две группы: автотрофные и гетеротрофные.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По отношению к кислороду  - на аэробные  и  анаэробные. 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Большинство бактерий размножаются    путем простого деления  на две идентичные дочерние клетки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Некоторые бактерии в неблагоприятных условиях способны образовывать особые защитные формы — споры, покоящиеся клетки  с отсутствием  метаболической активности.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Многие бактерии подвижны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72314"/>
                </a:solidFill>
                <a:latin typeface="Corbel"/>
              </a:rPr>
              <a:t> </a:t>
            </a:r>
            <a:r>
              <a:rPr b="0" lang="en-US" sz="2400" spc="-1" strike="noStrike">
                <a:solidFill>
                  <a:srgbClr val="572314"/>
                </a:solidFill>
                <a:latin typeface="Corbel"/>
              </a:rPr>
              <a:t>Знаками «+»  или  «-» обозначить наличие или отсутствие органоидов.</a:t>
            </a:r>
            <a:endParaRPr b="0" lang="en-US" sz="2400" spc="-1" strike="noStrike">
              <a:solidFill>
                <a:srgbClr val="572314"/>
              </a:solidFill>
              <a:latin typeface="Corbel"/>
            </a:endParaRPr>
          </a:p>
        </p:txBody>
      </p:sp>
      <p:graphicFrame>
        <p:nvGraphicFramePr>
          <p:cNvPr id="384" name=""/>
          <p:cNvGraphicFramePr/>
          <p:nvPr/>
        </p:nvGraphicFramePr>
        <p:xfrm>
          <a:off x="755640" y="1557360"/>
          <a:ext cx="7561440" cy="3290760"/>
        </p:xfrm>
        <a:graphic>
          <a:graphicData uri="http://schemas.openxmlformats.org/drawingml/2006/table">
            <a:tbl>
              <a:tblPr/>
              <a:tblGrid>
                <a:gridCol w="2519280"/>
                <a:gridCol w="2521080"/>
                <a:gridCol w="2521080"/>
              </a:tblGrid>
              <a:tr h="731880">
                <a:tc>
                  <a:txBody>
                    <a:bodyPr lIns="68760" rIns="68760" tIns="0" bIns="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оиды клетк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кариот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укариот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Плазматическая мембрана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Митохондри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Ап.Гольдж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ЭП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Жгутик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Рибосомы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537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72314"/>
                </a:solidFill>
                <a:latin typeface="Corbel"/>
              </a:rPr>
              <a:t>Составьте   сравнительную  характеристику клеток   бактерий и растений.</a:t>
            </a:r>
            <a:br>
              <a:rPr sz="2800"/>
            </a:b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611280" y="1268280"/>
            <a:ext cx="8323200" cy="498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810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810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810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810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810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Corbel"/>
              </a:rPr>
              <a:t>Сходство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: наличие жесткой клеточной стенки, автотрофы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810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rbel"/>
              </a:rPr>
              <a:t>Различие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: состав клеточной стенки (муреин),  ДНК –кольцевая структура, органеллы немембранного строения, гетеротрофы, мелкие, неподвижность цитоплазмы.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810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810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87" name="Picture 2" descr=""/>
          <p:cNvPicPr/>
          <p:nvPr/>
        </p:nvPicPr>
        <p:blipFill>
          <a:blip r:embed="rId2"/>
          <a:stretch/>
        </p:blipFill>
        <p:spPr>
          <a:xfrm>
            <a:off x="1042920" y="1298520"/>
            <a:ext cx="4154400" cy="230832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3" descr=""/>
          <p:cNvPicPr/>
          <p:nvPr/>
        </p:nvPicPr>
        <p:blipFill>
          <a:blip r:embed="rId3"/>
          <a:stretch/>
        </p:blipFill>
        <p:spPr>
          <a:xfrm>
            <a:off x="5076720" y="1163520"/>
            <a:ext cx="277200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0" dur="500"/>
                                        <p:tgtEl>
                                          <p:spTgt spid="3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3" dur="500"/>
                                        <p:tgtEl>
                                          <p:spTgt spid="3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 txBox="1"/>
          <p:nvPr/>
        </p:nvSpPr>
        <p:spPr>
          <a:xfrm>
            <a:off x="1434960" y="404640"/>
            <a:ext cx="749952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b2203"/>
                </a:solidFill>
                <a:latin typeface="Corbel"/>
                <a:ea typeface="Tahoma"/>
              </a:rPr>
              <a:t>Диагностика уровня знаний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 Прокариотическая клетка в отличие от эукариотической не  содержит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включения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цитоплазматическую мембрану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рибосомы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лизосомы 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  Клетки бактерий, как и клетки растений, содержат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цитоплазматическую мембрану и митохондрии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цитоскелет и клеточную стенку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рибосомы и ЭПС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рибосомы и клеточную стенку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 txBox="1"/>
          <p:nvPr/>
        </p:nvSpPr>
        <p:spPr>
          <a:xfrm>
            <a:off x="1434960" y="260280"/>
            <a:ext cx="749952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Все  прокариотические  и эукариотические  клетки имеют: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митохондрии и ядро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вакуоли  и ап.Гольджи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ядерную мембрану  и рибосомы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плазматическую мембрану  и цитоплазму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Какой организм относится к прокариотам?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хлорелла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кишечная палочка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дизентерийная амеба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аденовирус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42560" y="115920"/>
            <a:ext cx="7891560" cy="12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572314"/>
                </a:solidFill>
                <a:latin typeface="Corbel"/>
              </a:rPr>
              <a:t>Человек заболел ангиной.  Оказывается, в горле у больного поселились живые   организмы, которые и стали причиной болезни</a:t>
            </a:r>
            <a:endParaRPr b="0" lang="en-US" sz="20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21" name="Picture 2" descr=""/>
          <p:cNvPicPr/>
          <p:nvPr/>
        </p:nvPicPr>
        <p:blipFill>
          <a:blip r:embed="rId2"/>
          <a:stretch/>
        </p:blipFill>
        <p:spPr>
          <a:xfrm>
            <a:off x="971640" y="1131840"/>
            <a:ext cx="7848360" cy="52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 txBox="1"/>
          <p:nvPr/>
        </p:nvSpPr>
        <p:spPr>
          <a:xfrm>
            <a:off x="1187280" y="115560"/>
            <a:ext cx="74980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Выберите правильные утверждения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Стенка бактериальной  клетки состоит из хитина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Ядерная оболочка у бактерий отсутствует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Рибосомы прокариот  значительно меньше, чем у эукариот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В неблагоприятных условиях бактерии образуют споры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Клетки делятся путем митоза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graphicFrame>
        <p:nvGraphicFramePr>
          <p:cNvPr id="392" name=""/>
          <p:cNvGraphicFramePr/>
          <p:nvPr/>
        </p:nvGraphicFramePr>
        <p:xfrm>
          <a:off x="1332000" y="4941720"/>
          <a:ext cx="6624720" cy="1086120"/>
        </p:xfrm>
        <a:graphic>
          <a:graphicData uri="http://schemas.openxmlformats.org/drawingml/2006/table">
            <a:tbl>
              <a:tblPr/>
              <a:tblGrid>
                <a:gridCol w="1323720"/>
                <a:gridCol w="1325880"/>
                <a:gridCol w="1323720"/>
                <a:gridCol w="1325520"/>
                <a:gridCol w="1325880"/>
              </a:tblGrid>
              <a:tr h="543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ffffff"/>
                          </a:solidFill>
                          <a:latin typeface="Corbel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ffffff"/>
                          </a:solidFill>
                          <a:latin typeface="Corbel"/>
                          <a:ea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ffffff"/>
                          </a:solidFill>
                          <a:latin typeface="Corbel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ffffff"/>
                          </a:solidFill>
                          <a:latin typeface="Corbel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ffffff"/>
                          </a:solidFill>
                          <a:latin typeface="Corbel"/>
                          <a:ea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542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ffffff"/>
                          </a:solidFill>
                          <a:latin typeface="Corbel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Corbel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Corbel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Corbel"/>
                          <a:ea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Corbel"/>
                          <a:ea typeface="Arial"/>
                        </a:rPr>
                        <a:t>23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09" dur="500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12" dur="500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15" dur="500"/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18" dur="500"/>
                                        <p:tgtEl>
                                          <p:spTgt spid="3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21" dur="500"/>
                                        <p:tgtEl>
                                          <p:spTgt spid="3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24" dur="500"/>
                                        <p:tgtEl>
                                          <p:spTgt spid="3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94" name="" descr=""/>
          <p:cNvPicPr/>
          <p:nvPr/>
        </p:nvPicPr>
        <p:blipFill>
          <a:blip r:embed="rId2"/>
          <a:stretch/>
        </p:blipFill>
        <p:spPr>
          <a:xfrm>
            <a:off x="1434960" y="1447560"/>
            <a:ext cx="7499520" cy="480060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2" descr=""/>
          <p:cNvPicPr/>
          <p:nvPr/>
        </p:nvPicPr>
        <p:blipFill>
          <a:blip r:embed="rId3"/>
          <a:stretch/>
        </p:blipFill>
        <p:spPr>
          <a:xfrm>
            <a:off x="201600" y="189000"/>
            <a:ext cx="8547120" cy="63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434960" y="115920"/>
            <a:ext cx="74995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72314"/>
                </a:solidFill>
                <a:latin typeface="Corbel"/>
              </a:rPr>
              <a:t>  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graphicFrame>
        <p:nvGraphicFramePr>
          <p:cNvPr id="397" name=""/>
          <p:cNvGraphicFramePr/>
          <p:nvPr/>
        </p:nvGraphicFramePr>
        <p:xfrm>
          <a:off x="395280" y="907920"/>
          <a:ext cx="8539200" cy="5299200"/>
        </p:xfrm>
        <a:graphic>
          <a:graphicData uri="http://schemas.openxmlformats.org/drawingml/2006/table">
            <a:tbl>
              <a:tblPr/>
              <a:tblGrid>
                <a:gridCol w="5329080"/>
                <a:gridCol w="863640"/>
                <a:gridCol w="792360"/>
                <a:gridCol w="720720"/>
                <a:gridCol w="833400"/>
              </a:tblGrid>
              <a:tr h="92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Corbel"/>
                          <a:ea typeface="Arial"/>
                        </a:rPr>
                        <a:t>Критерии результативности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rbel"/>
                          <a:ea typeface="Arial"/>
                        </a:rPr>
                        <a:t>«5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rbel"/>
                          <a:ea typeface="Arial"/>
                        </a:rPr>
                        <a:t>«4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rbel"/>
                          <a:ea typeface="Arial"/>
                        </a:rPr>
                        <a:t>«3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rbel"/>
                          <a:ea typeface="Arial"/>
                        </a:rPr>
                        <a:t>«2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97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Corbel"/>
                          <a:ea typeface="Arial"/>
                        </a:rPr>
                        <a:t>1.Распознавать и описывать  бактериальную  клетку 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Corbel"/>
                          <a:ea typeface="Arial"/>
                        </a:rPr>
                        <a:t>2.Доказывать, что  бактерии-живые организмы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Corbel"/>
                          <a:ea typeface="Arial"/>
                        </a:rPr>
                        <a:t>3.Преобразовывать информацию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97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Corbel"/>
                          <a:ea typeface="Arial"/>
                        </a:rPr>
                        <a:t>4.Проводить самостоятельное изучение объектов природы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Corbel"/>
                          <a:ea typeface="Arial"/>
                        </a:rPr>
                        <a:t>5.Самостоятельно работать с текстовым  материалом, иллюстрациями учебника 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</a:tbl>
          </a:graphicData>
        </a:graphic>
      </p:graphicFrame>
      <p:sp>
        <p:nvSpPr>
          <p:cNvPr id="398" name="Прямоугольник 5"/>
          <p:cNvSpPr/>
          <p:nvPr/>
        </p:nvSpPr>
        <p:spPr>
          <a:xfrm>
            <a:off x="539640" y="260280"/>
            <a:ext cx="79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4f271c"/>
                </a:solidFill>
                <a:latin typeface="Corbel"/>
              </a:rPr>
              <a:t>Оценка приращения знаний и умений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250560" y="115920"/>
            <a:ext cx="8713800" cy="63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73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rbel"/>
              </a:rPr>
              <a:t>Список использованных источников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73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rbel"/>
              </a:rPr>
              <a:t>1.Биология. Многообразие живых организмов» учебник 7 класс. авт. Захаров В.Б., Сонин Н.И.-М.:Дрофа,  2010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73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rbel"/>
              </a:rPr>
              <a:t>2. Наплекова Н.Н. Микробные препараты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73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Corbel"/>
              </a:rPr>
              <a:t>http://www.argo-shop.com.ua/catalog_total.php?tovar_id=425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73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Corbel"/>
              </a:rPr>
              <a:t>3.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Изображение «Ребенок заболел   ангиной»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73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http://www.kazved.ru/Thumbnail.aspx?w=670&amp;img=/uploadimg/554571_130950_step-48ce1daf6287ab6252221b3a66ea8654.jpg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73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4.Изображение «Архебактерии»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http://my-edu.ru/edu_bio/51_1_4_1.html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73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5.Изображение «Оксифотобактерии» 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http://www.megabook.ru/DescriptionImage.asp?MID=447754&amp;AID=613513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73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6.Изображение «Настоящие бактерии»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http://razvitie05.ru/prokarioti/bakterii.php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73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7.Изображение «Сенная палочка»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73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http://commons.wikimedia.org/w/index.php?title=File:EscherichiaColi_NIAID.jpg&amp;filetimestamp=20050410214037&amp;uselang=ru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73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8.Изображение «Бактериальная клетка» http://900igr.net/kartinki/biologija/Klassifikatsija-zhivykh-organizmov/019-Nadtsarstvo-Prokarioty.htm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73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73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734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lvl="2" marL="806040" indent="-207720">
              <a:spcBef>
                <a:spcPts val="2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 txBox="1"/>
          <p:nvPr/>
        </p:nvSpPr>
        <p:spPr>
          <a:xfrm>
            <a:off x="395280" y="189000"/>
            <a:ext cx="8539200" cy="605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810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810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9lИнтерактив. «Формы бактериальных клеток» http://school-collection.edu.ru/catalog/res/00000339-1000-4ddd-ccea-070046bb2fd1/view/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810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810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10.Изображение  «Патогенные бактерии» http://school-collection.edu.ru/catalog/res/0000033d-1000-4ddd-29ef-150046bb2fd1/view/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810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11.Анимация. Размножение бактерий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http://school-collection.edu.ru/catalog/res/00000337-1000-4ddd-3b5e-010046bb2fd1/view/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810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12.Анимация.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«Приспособленность бактерий к неблагоприятным условиям»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http://school-collection.edu.ru/catalog/res/00000338-1000-4ddd-4de3-040046bb2fd1/view/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810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13.Изображение «Растительная клетка» http://school-collection.edu.ru/catalog/res/000001f9-1000-4ddd-aabb-140046b3269f/view/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810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14.Интерактив. Биологические карты "Бактерии»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810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http://school-collection.edu.ru/catalog/res/00000343-1000-4ddd-d6eb-2a0046bb2fd1</a:t>
            </a: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/view/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Целеполагание 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выявить особенности строения бактерий, научиться определять их формы  и особенности объединения клеток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выяснить,  как они размножаются, на какие группы делятся по отношению к кислороду, как питаются,  какую роль играют в природе  и жизни человека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 txBox="1"/>
          <p:nvPr/>
        </p:nvSpPr>
        <p:spPr>
          <a:xfrm>
            <a:off x="457200" y="404640"/>
            <a:ext cx="822960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2060"/>
                </a:solidFill>
                <a:latin typeface="Corbel"/>
              </a:rPr>
              <a:t>Цитология </a:t>
            </a:r>
            <a:r>
              <a:rPr b="1" i="1" lang="en-US" sz="3600" spc="-1" strike="noStrike">
                <a:solidFill>
                  <a:srgbClr val="000000"/>
                </a:solidFill>
                <a:latin typeface="Corbel"/>
              </a:rPr>
              <a:t>–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Corbel"/>
              </a:rPr>
              <a:t>наука, изучающая клетки живого организма.  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i="1" lang="en-US" sz="3600" spc="-1" strike="noStrike">
                <a:solidFill>
                  <a:srgbClr val="002060"/>
                </a:solidFill>
                <a:latin typeface="Corbel"/>
              </a:rPr>
              <a:t>Микробиология</a:t>
            </a:r>
            <a:r>
              <a:rPr b="1" i="1" lang="en-US" sz="3600" spc="-1" strike="noStrike">
                <a:solidFill>
                  <a:srgbClr val="000000"/>
                </a:solidFill>
                <a:latin typeface="Corbel"/>
              </a:rPr>
              <a:t> – 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Corbel"/>
              </a:rPr>
              <a:t>наука, изучающая особенности строения и жизнедеятельность микроорганизмов.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4f271c"/>
                </a:solidFill>
                <a:latin typeface="Corbel"/>
              </a:rPr>
              <a:t>Бактериология</a:t>
            </a:r>
            <a:r>
              <a:rPr b="1" i="1" lang="en-US" sz="3600" spc="-1" strike="noStrike">
                <a:solidFill>
                  <a:srgbClr val="000000"/>
                </a:solidFill>
                <a:latin typeface="Corbel"/>
              </a:rPr>
              <a:t> –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Corbel"/>
              </a:rPr>
              <a:t>наука, изучающая бактерии.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" dur="500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2" dur="500"/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2" dur="500"/>
                                        <p:tgtEl>
                                          <p:spTgt spid="3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684360" y="1074600"/>
            <a:ext cx="8229600" cy="33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6" name="Прямоугольник 3"/>
          <p:cNvSpPr/>
          <p:nvPr/>
        </p:nvSpPr>
        <p:spPr>
          <a:xfrm>
            <a:off x="2900520" y="1197000"/>
            <a:ext cx="3024000" cy="576360"/>
          </a:xfrm>
          <a:prstGeom prst="rect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Царство Прокариоты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7" name="Прямоугольник 4"/>
          <p:cNvSpPr/>
          <p:nvPr/>
        </p:nvSpPr>
        <p:spPr>
          <a:xfrm>
            <a:off x="324000" y="2736720"/>
            <a:ext cx="2576520" cy="708120"/>
          </a:xfrm>
          <a:prstGeom prst="rect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Подцарство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Настоящие  бактерии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8" name="Прямоугольник 5"/>
          <p:cNvSpPr/>
          <p:nvPr/>
        </p:nvSpPr>
        <p:spPr>
          <a:xfrm>
            <a:off x="3635280" y="2716200"/>
            <a:ext cx="1944720" cy="720720"/>
          </a:xfrm>
          <a:prstGeom prst="rect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Подцарство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Архебактерии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9" name="Прямоугольник 7"/>
          <p:cNvSpPr/>
          <p:nvPr/>
        </p:nvSpPr>
        <p:spPr>
          <a:xfrm>
            <a:off x="6588000" y="2724120"/>
            <a:ext cx="2160720" cy="720720"/>
          </a:xfrm>
          <a:prstGeom prst="rect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Подцарство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Оксифотобактерии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cxnSp>
        <p:nvCxnSpPr>
          <p:cNvPr id="330" name="Прямая со стрелкой 9"/>
          <p:cNvCxnSpPr/>
          <p:nvPr/>
        </p:nvCxnSpPr>
        <p:spPr>
          <a:xfrm flipH="1">
            <a:off x="1611000" y="1773000"/>
            <a:ext cx="2384640" cy="94356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331" name="Прямая со стрелкой 11"/>
          <p:cNvCxnSpPr/>
          <p:nvPr/>
        </p:nvCxnSpPr>
        <p:spPr>
          <a:xfrm>
            <a:off x="4412880" y="1773000"/>
            <a:ext cx="1080" cy="94356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332" name="Прямая со стрелкой 13"/>
          <p:cNvCxnSpPr/>
          <p:nvPr/>
        </p:nvCxnSpPr>
        <p:spPr>
          <a:xfrm>
            <a:off x="5003640" y="1773000"/>
            <a:ext cx="2664720" cy="94356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pic>
        <p:nvPicPr>
          <p:cNvPr id="333" name="Picture 2" descr=""/>
          <p:cNvPicPr/>
          <p:nvPr/>
        </p:nvPicPr>
        <p:blipFill>
          <a:blip r:embed="rId2"/>
          <a:stretch/>
        </p:blipFill>
        <p:spPr>
          <a:xfrm>
            <a:off x="6607080" y="4378320"/>
            <a:ext cx="1971720" cy="142884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4" descr=""/>
          <p:cNvPicPr/>
          <p:nvPr/>
        </p:nvPicPr>
        <p:blipFill>
          <a:blip r:embed="rId3"/>
          <a:stretch/>
        </p:blipFill>
        <p:spPr>
          <a:xfrm>
            <a:off x="3543480" y="4421160"/>
            <a:ext cx="2381040" cy="142884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3" descr=""/>
          <p:cNvPicPr/>
          <p:nvPr/>
        </p:nvPicPr>
        <p:blipFill>
          <a:blip r:embed="rId4"/>
          <a:stretch/>
        </p:blipFill>
        <p:spPr>
          <a:xfrm>
            <a:off x="453960" y="4421160"/>
            <a:ext cx="2676600" cy="13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72314"/>
                </a:solidFill>
                <a:latin typeface="Corbel"/>
              </a:rPr>
              <a:t> </a:t>
            </a:r>
            <a:r>
              <a:rPr b="0" lang="en-US" sz="2400" spc="-1" strike="noStrike">
                <a:solidFill>
                  <a:srgbClr val="572314"/>
                </a:solidFill>
                <a:latin typeface="Times New Roman"/>
              </a:rPr>
              <a:t>С</a:t>
            </a:r>
            <a:r>
              <a:rPr b="0" lang="en-US" sz="2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енная палочка.</a:t>
            </a:r>
            <a:endParaRPr b="0" lang="en-US" sz="24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37" name="Picture 2" descr=""/>
          <p:cNvPicPr/>
          <p:nvPr/>
        </p:nvPicPr>
        <p:blipFill>
          <a:blip r:embed="rId2"/>
          <a:stretch/>
        </p:blipFill>
        <p:spPr>
          <a:xfrm>
            <a:off x="1332000" y="1268280"/>
            <a:ext cx="6912000" cy="492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295200" y="115920"/>
            <a:ext cx="863928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Строение бактериальной клетки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2"/>
          <a:stretch/>
        </p:blipFill>
        <p:spPr>
          <a:xfrm>
            <a:off x="1434960" y="1447560"/>
            <a:ext cx="7499520" cy="480060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2" descr="C:\Users\Лидия\Desktop\Рисунок1.png"/>
          <p:cNvPicPr/>
          <p:nvPr/>
        </p:nvPicPr>
        <p:blipFill>
          <a:blip r:embed="rId3"/>
          <a:stretch/>
        </p:blipFill>
        <p:spPr>
          <a:xfrm>
            <a:off x="295200" y="1189080"/>
            <a:ext cx="8309160" cy="4616280"/>
          </a:xfrm>
          <a:prstGeom prst="rect">
            <a:avLst/>
          </a:prstGeom>
          <a:ln w="0">
            <a:noFill/>
          </a:ln>
        </p:spPr>
      </p:pic>
      <p:sp>
        <p:nvSpPr>
          <p:cNvPr id="341" name="Блок-схема: альтернативный процесс 4"/>
          <p:cNvSpPr/>
          <p:nvPr/>
        </p:nvSpPr>
        <p:spPr>
          <a:xfrm>
            <a:off x="1042920" y="938160"/>
            <a:ext cx="1643040" cy="500040"/>
          </a:xfrm>
          <a:prstGeom prst="flowChartAlternateProcess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Рибосомы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2" name="Блок-схема: альтернативный процесс 5"/>
          <p:cNvSpPr/>
          <p:nvPr/>
        </p:nvSpPr>
        <p:spPr>
          <a:xfrm>
            <a:off x="3924360" y="1052640"/>
            <a:ext cx="1643040" cy="500040"/>
          </a:xfrm>
          <a:prstGeom prst="flowChartAlternateProcess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ДНК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3" name="Блок-схема: альтернативный процесс 6"/>
          <p:cNvSpPr/>
          <p:nvPr/>
        </p:nvSpPr>
        <p:spPr>
          <a:xfrm>
            <a:off x="6516720" y="938160"/>
            <a:ext cx="1643040" cy="500040"/>
          </a:xfrm>
          <a:prstGeom prst="flowChartAlternateProcess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Жгутик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4" name="Picture 3" descr=""/>
          <p:cNvPicPr/>
          <p:nvPr/>
        </p:nvPicPr>
        <p:blipFill>
          <a:blip r:embed="rId4"/>
          <a:stretch/>
        </p:blipFill>
        <p:spPr>
          <a:xfrm>
            <a:off x="6372360" y="3983040"/>
            <a:ext cx="1944720" cy="752400"/>
          </a:xfrm>
          <a:prstGeom prst="rect">
            <a:avLst/>
          </a:prstGeom>
          <a:ln w="0">
            <a:noFill/>
          </a:ln>
        </p:spPr>
      </p:pic>
      <p:sp>
        <p:nvSpPr>
          <p:cNvPr id="345" name="Блок-схема: альтернативный процесс 8"/>
          <p:cNvSpPr/>
          <p:nvPr/>
        </p:nvSpPr>
        <p:spPr>
          <a:xfrm>
            <a:off x="1187280" y="5305320"/>
            <a:ext cx="2851200" cy="716040"/>
          </a:xfrm>
          <a:prstGeom prst="flowChartAlternateProcess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Плазматическая мембрана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6" name="Picture 7" descr=""/>
          <p:cNvPicPr/>
          <p:nvPr/>
        </p:nvPicPr>
        <p:blipFill>
          <a:blip r:embed="rId5"/>
          <a:stretch/>
        </p:blipFill>
        <p:spPr>
          <a:xfrm>
            <a:off x="5237280" y="4869000"/>
            <a:ext cx="2268360" cy="64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4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9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4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9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4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9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48" name="Picture 2" descr="C:\Users\Лидия\Desktop\ШКОЛА\уроки\7класс\бактерии\Снимок.JPG"/>
          <p:cNvPicPr/>
          <p:nvPr/>
        </p:nvPicPr>
        <p:blipFill>
          <a:blip r:embed="rId2"/>
          <a:stretch/>
        </p:blipFill>
        <p:spPr>
          <a:xfrm>
            <a:off x="68400" y="-1440"/>
            <a:ext cx="907560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9152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72314"/>
                </a:solidFill>
                <a:latin typeface="Corbel"/>
              </a:rPr>
              <a:t>Особенности  функционирования и условия жизни сенной палочки </a:t>
            </a:r>
            <a:endParaRPr b="0" lang="en-US" sz="2400" spc="-1" strike="noStrike">
              <a:solidFill>
                <a:srgbClr val="572314"/>
              </a:solidFill>
              <a:latin typeface="Corbel"/>
            </a:endParaRPr>
          </a:p>
        </p:txBody>
      </p:sp>
      <p:graphicFrame>
        <p:nvGraphicFramePr>
          <p:cNvPr id="350" name=""/>
          <p:cNvGraphicFramePr/>
          <p:nvPr/>
        </p:nvGraphicFramePr>
        <p:xfrm>
          <a:off x="539640" y="1557360"/>
          <a:ext cx="8064720" cy="5002200"/>
        </p:xfrm>
        <a:graphic>
          <a:graphicData uri="http://schemas.openxmlformats.org/drawingml/2006/table">
            <a:tbl>
              <a:tblPr/>
              <a:tblGrid>
                <a:gridCol w="2759040"/>
                <a:gridCol w="5305680"/>
              </a:tblGrid>
              <a:tr h="369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учаемые призна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нная палоч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итани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профитные  бактерии, питаются мертвой органикой.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84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ношение к кислород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эроб; на поверхности жидких питательных сред образует тонкую беловатую плёнку, на поверхности плотных — круглые, сероватые, гладкие, блестящие колон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3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множ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множаются деление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2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орообразовани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 неподвижных бактерий внутри видны  блестящие овальные  образования- споры.  Споры   имеют овальную формы, расположены в центр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3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вижени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нная палочка подвижная бактерия, использующая жгутик в качестве мотор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51" name="Rectangle 1"/>
          <p:cNvSpPr/>
          <p:nvPr/>
        </p:nvSpPr>
        <p:spPr>
          <a:xfrm>
            <a:off x="1612800" y="26748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0T15:37:28Z</dcterms:created>
  <dc:creator>Лидия</dc:creator>
  <dc:description/>
  <dc:language>en-US</dc:language>
  <cp:lastModifiedBy>Василий</cp:lastModifiedBy>
  <dcterms:modified xsi:type="dcterms:W3CDTF">2012-11-18T11:35:18Z</dcterms:modified>
  <cp:revision>84</cp:revision>
  <dc:subject/>
  <dc:title>Презентация PowerPoint</dc:title>
</cp:coreProperties>
</file>