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CC2-F544-4FA9-875C-1C141A31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F9D-712A-4E75-949D-B0081F84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5F0-18B6-4D9F-9E4B-230FC59F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E12-20C2-4023-A324-F127CE9C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AB52-0B67-46C7-A15E-FA049FDC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CDBB-D24E-47D9-A784-6C8D1209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7126-BFDE-46F3-B3E0-7F1399AC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C763-4475-430A-891E-462BB4F8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78C7-B9B7-44E8-8865-93E6AB53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AE62-D784-415F-9035-5FCDAD72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3AF0-BA4B-41A7-BB4C-670635A9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088-4F25-4147-B64B-F118231F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830E-7450-4474-B9A6-E231C86D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71EB-0B40-4B0F-98AB-2CFD79E6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D809-E3A0-4DBB-B458-D960A0B7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B2F9-D5AD-4C23-A581-BEEAA527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F2EE-635B-4683-BAFB-09E40E28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37CF6-1254-41D8-84A4-AD0FC07E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F7E1-2F62-4EB5-816C-D2C94B04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B28F9-53D6-46C1-955B-EBDE254A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A27F-A547-48C1-B1FD-EF7E605D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AF74-997D-4A25-A03F-A1EED8C7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718-9159-43C4-86C8-94AC71B0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57C2-F447-43B1-AF13-8EE11094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BD84-30B2-4FC9-ADBF-086CF2AF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D34D9-04FA-41E4-A7D6-77CE9CBE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9AA22-2D90-450A-84A1-5870DBE0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3F2B8-95BA-4C37-81DB-0936455F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33E7-A951-45A7-8FE0-B787B0EE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0A981-FFA3-45EE-8AC6-C15849B4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64D9-0423-4A2E-8D74-B95FB6B4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A717-C780-40AB-97CA-F0D6B6BD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B94A-1E43-404E-9DAC-614192B3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F70-A4B9-4984-B9E6-A5A7F0F8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60CA6-EA80-432F-9ECC-0CDDB07B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6C7BC-3B00-4DD1-975F-1050B18F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FF5E7-44F1-4294-B197-F6C28113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E6AB2-3F1C-41CF-B2FA-4DC5436A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E01D-12A1-4B41-B142-0A321740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7C4A1-EC23-456D-9FFF-F8F1C634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2290C-5D33-4301-B3ED-322329CF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5447A-FDF1-4EF1-BC2F-3C36603E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E78E7-9668-4D6F-A8D5-8A7AD18D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DFE-2122-495F-BF05-F89E14C6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4BE-DA9B-4B3A-86D4-D8D8FD5F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743-226D-4F1B-976F-139951C6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C62-4535-4451-AF3A-78D7F5A8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860-E2E7-4EC9-A390-03A97764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EC82-E118-434D-A2B5-8BD52A88AFD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FBE7-120A-437C-AE74-97C66045083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DCAE-D6EF-4477-8FF2-8FE1C59B75A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EFB4-F4F3-4355-9CC7-1BA0085C960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17" hidden="1"/>
          <p:cNvSpPr/>
          <p:nvPr/>
        </p:nvSpPr>
        <p:spPr>
          <a:xfrm>
            <a:off x="1082520" y="2421000"/>
            <a:ext cx="2016360" cy="152064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портивно – оздори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Выноска-облако 24"/>
          <p:cNvSpPr/>
          <p:nvPr/>
        </p:nvSpPr>
        <p:spPr>
          <a:xfrm>
            <a:off x="2886120" y="115920"/>
            <a:ext cx="3341520" cy="1944720"/>
          </a:xfrm>
          <a:prstGeom prst="cloudCallout">
            <a:avLst>
              <a:gd name="adj1" fmla="val -31421"/>
              <a:gd name="adj2" fmla="val 5556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Обще интеллектуальная 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12-конечная звезда 25"/>
          <p:cNvSpPr/>
          <p:nvPr/>
        </p:nvSpPr>
        <p:spPr>
          <a:xfrm>
            <a:off x="3286080" y="2643120"/>
            <a:ext cx="2854440" cy="2320920"/>
          </a:xfrm>
          <a:prstGeom prst="pi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dverGothic"/>
              </a:rPr>
              <a:t>Воспитание   лич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Выноска-облако 10"/>
          <p:cNvSpPr/>
          <p:nvPr/>
        </p:nvSpPr>
        <p:spPr>
          <a:xfrm>
            <a:off x="5508720" y="4365720"/>
            <a:ext cx="3240000" cy="2087640"/>
          </a:xfrm>
          <a:prstGeom prst="cloudCallout">
            <a:avLst>
              <a:gd name="adj1" fmla="val -26907"/>
              <a:gd name="adj2" fmla="val 5482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Духовно - нравственное развит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Выноска-облако 11"/>
          <p:cNvSpPr/>
          <p:nvPr/>
        </p:nvSpPr>
        <p:spPr>
          <a:xfrm>
            <a:off x="33480" y="4437000"/>
            <a:ext cx="3240000" cy="2087640"/>
          </a:xfrm>
          <a:prstGeom prst="cloudCallout">
            <a:avLst>
              <a:gd name="adj1" fmla="val -26907"/>
              <a:gd name="adj2" fmla="val 5482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Общекультурная 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Выноска-облако 12"/>
          <p:cNvSpPr/>
          <p:nvPr/>
        </p:nvSpPr>
        <p:spPr>
          <a:xfrm>
            <a:off x="33480" y="1695600"/>
            <a:ext cx="3240000" cy="2087280"/>
          </a:xfrm>
          <a:prstGeom prst="cloudCallout">
            <a:avLst>
              <a:gd name="adj1" fmla="val -26907"/>
              <a:gd name="adj2" fmla="val 5482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Спортивно – оздоровительная 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Выноска-облако 13"/>
          <p:cNvSpPr/>
          <p:nvPr/>
        </p:nvSpPr>
        <p:spPr>
          <a:xfrm>
            <a:off x="5854680" y="1695600"/>
            <a:ext cx="3240000" cy="2087280"/>
          </a:xfrm>
          <a:prstGeom prst="cloudCallout">
            <a:avLst>
              <a:gd name="adj1" fmla="val -26907"/>
              <a:gd name="adj2" fmla="val 5482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Социальная 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11280" y="155700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73c65"/>
                </a:solidFill>
                <a:latin typeface="AGBenguiatCyr-Bold"/>
              </a:rPr>
              <a:t>Обще</a:t>
            </a:r>
            <a:r>
              <a:rPr b="1" lang="en-US" sz="5400" spc="-1" strike="noStrike">
                <a:solidFill>
                  <a:srgbClr val="073c65"/>
                </a:solidFill>
                <a:latin typeface="AGBenguiatCyr-Bold"/>
              </a:rPr>
              <a:t>-</a:t>
            </a:r>
            <a:r>
              <a:rPr b="1" lang="ru-RU" sz="5400" spc="-1" strike="noStrike">
                <a:solidFill>
                  <a:srgbClr val="073c65"/>
                </a:solidFill>
                <a:latin typeface="AGBenguiatCyr-Bold"/>
              </a:rPr>
              <a:t>интеллектуальная деятельность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189080" y="3297240"/>
            <a:ext cx="6881760" cy="2743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971640" y="731880"/>
            <a:ext cx="7129440" cy="2697120"/>
          </a:xfrm>
          <a:prstGeom prst="rect">
            <a:avLst/>
          </a:prstGeom>
          <a:solidFill>
            <a:srgbClr val="9ee2cf"/>
          </a:solidFill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AdverGothic"/>
              </a:rPr>
              <a:t>Обще-интеллектуальная деятельность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Группа 3"/>
          <p:cNvGrpSpPr/>
          <p:nvPr/>
        </p:nvGrpSpPr>
        <p:grpSpPr>
          <a:xfrm>
            <a:off x="3254400" y="2197080"/>
            <a:ext cx="2706840" cy="2355840"/>
            <a:chOff x="3254400" y="2197080"/>
            <a:chExt cx="2706840" cy="2355840"/>
          </a:xfrm>
        </p:grpSpPr>
        <p:sp>
          <p:nvSpPr>
            <p:cNvPr id="240" name="Скругленный прямоугольник 4"/>
            <p:cNvSpPr/>
            <p:nvPr/>
          </p:nvSpPr>
          <p:spPr>
            <a:xfrm>
              <a:off x="3254400" y="2197080"/>
              <a:ext cx="2706840" cy="2355840"/>
            </a:xfrm>
            <a:prstGeom prst="roundRect">
              <a:avLst>
                <a:gd name="adj" fmla="val 16667"/>
              </a:avLst>
            </a:prstGeom>
            <a:solidFill>
              <a:srgbClr val="5dceaf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1" name="Скругленный прямоугольник 4"/>
            <p:cNvSpPr/>
            <p:nvPr/>
          </p:nvSpPr>
          <p:spPr>
            <a:xfrm>
              <a:off x="3375000" y="2311920"/>
              <a:ext cx="2465280" cy="21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dverGothic"/>
                </a:rPr>
                <a:t>Каким я хочу стать?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2" name="Группа 6"/>
          <p:cNvGrpSpPr/>
          <p:nvPr/>
        </p:nvGrpSpPr>
        <p:grpSpPr>
          <a:xfrm>
            <a:off x="1833480" y="103320"/>
            <a:ext cx="5654880" cy="2046240"/>
            <a:chOff x="1833480" y="103320"/>
            <a:chExt cx="5654880" cy="2046240"/>
          </a:xfrm>
        </p:grpSpPr>
        <p:sp>
          <p:nvSpPr>
            <p:cNvPr id="243" name="Скругленный прямоугольник 7"/>
            <p:cNvSpPr/>
            <p:nvPr/>
          </p:nvSpPr>
          <p:spPr>
            <a:xfrm>
              <a:off x="1833480" y="103320"/>
              <a:ext cx="5654880" cy="2046240"/>
            </a:xfrm>
            <a:prstGeom prst="roundRect">
              <a:avLst>
                <a:gd name="adj" fmla="val 16667"/>
              </a:avLst>
            </a:prstGeom>
            <a:solidFill>
              <a:srgbClr val="50de4a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4" name="Скругленный прямоугольник 4"/>
            <p:cNvSpPr/>
            <p:nvPr/>
          </p:nvSpPr>
          <p:spPr>
            <a:xfrm>
              <a:off x="1933200" y="203040"/>
              <a:ext cx="54554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AdverGothic"/>
                </a:rPr>
                <a:t>Хочу стать интересным и умным человеком</a:t>
              </a:r>
              <a:endParaRPr b="0" lang="en-US" sz="3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5" name="Группа 9"/>
          <p:cNvGrpSpPr/>
          <p:nvPr/>
        </p:nvGrpSpPr>
        <p:grpSpPr>
          <a:xfrm>
            <a:off x="42840" y="4468680"/>
            <a:ext cx="3378240" cy="2303640"/>
            <a:chOff x="42840" y="4468680"/>
            <a:chExt cx="3378240" cy="2303640"/>
          </a:xfrm>
        </p:grpSpPr>
        <p:sp>
          <p:nvSpPr>
            <p:cNvPr id="246" name="Скругленный прямоугольник 10"/>
            <p:cNvSpPr/>
            <p:nvPr/>
          </p:nvSpPr>
          <p:spPr>
            <a:xfrm>
              <a:off x="42840" y="4468680"/>
              <a:ext cx="3378240" cy="230364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7" name="Скругленный прямоугольник 4"/>
            <p:cNvSpPr/>
            <p:nvPr/>
          </p:nvSpPr>
          <p:spPr>
            <a:xfrm>
              <a:off x="155160" y="4581000"/>
              <a:ext cx="3153600" cy="20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dverGothic"/>
                </a:rPr>
                <a:t>Хочу стать интеллектуально развитой личностью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8" name="Группа 12"/>
          <p:cNvGrpSpPr/>
          <p:nvPr/>
        </p:nvGrpSpPr>
        <p:grpSpPr>
          <a:xfrm>
            <a:off x="5649840" y="4479840"/>
            <a:ext cx="3459240" cy="2279880"/>
            <a:chOff x="5649840" y="4479840"/>
            <a:chExt cx="3459240" cy="2279880"/>
          </a:xfrm>
        </p:grpSpPr>
        <p:sp>
          <p:nvSpPr>
            <p:cNvPr id="249" name="Скругленный прямоугольник 13"/>
            <p:cNvSpPr/>
            <p:nvPr/>
          </p:nvSpPr>
          <p:spPr>
            <a:xfrm>
              <a:off x="5649840" y="4479840"/>
              <a:ext cx="3459240" cy="2279880"/>
            </a:xfrm>
            <a:prstGeom prst="roundRect">
              <a:avLst>
                <a:gd name="adj" fmla="val 16667"/>
              </a:avLst>
            </a:prstGeom>
            <a:solidFill>
              <a:srgbClr val="caee36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0" name="Скругленный прямоугольник 4"/>
            <p:cNvSpPr/>
            <p:nvPr/>
          </p:nvSpPr>
          <p:spPr>
            <a:xfrm>
              <a:off x="5761080" y="4591080"/>
              <a:ext cx="32367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dverGothic"/>
                </a:rPr>
                <a:t>Хочу стать подготовленным к будущей жизни, чтобы помочь своим детям в обучении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828720" y="60480"/>
            <a:ext cx="7705800" cy="2006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68360" y="184464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Исправить двойки, тройки или четверки за четверть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Овладеть знаниями по предметам по возрасту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Свободно разбираться во всех областях обучения или каком-то предмете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542880" y="6480"/>
            <a:ext cx="8277120" cy="1749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79280" y="1483920"/>
            <a:ext cx="8785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Посещаю дополнительные занятия по предметам;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Выполняю дополнительные задания;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Стараюсь самостоятельно выполнять домашние задания по предметам;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Изучаю и использую дополнительные ресурсы обучения (компьютер-Интернет, библиотека-книги).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Подзаголовок 1" descr=""/>
          <p:cNvPicPr/>
          <p:nvPr/>
        </p:nvPicPr>
        <p:blipFill>
          <a:blip r:embed="rId1"/>
          <a:stretch/>
        </p:blipFill>
        <p:spPr>
          <a:xfrm>
            <a:off x="1116000" y="281160"/>
            <a:ext cx="7485120" cy="1272960"/>
          </a:xfrm>
          <a:prstGeom prst="rect">
            <a:avLst/>
          </a:prstGeom>
          <a:ln w="0">
            <a:noFill/>
          </a:ln>
        </p:spPr>
      </p:pic>
      <p:pic>
        <p:nvPicPr>
          <p:cNvPr id="256" name="Заголовок 2" descr=""/>
          <p:cNvPicPr/>
          <p:nvPr/>
        </p:nvPicPr>
        <p:blipFill>
          <a:blip r:embed="rId2"/>
          <a:stretch/>
        </p:blipFill>
        <p:spPr>
          <a:xfrm>
            <a:off x="536400" y="1798560"/>
            <a:ext cx="80647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682560" y="365040"/>
            <a:ext cx="8400960" cy="1749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610920" y="198900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Поставьте перед собой задачу из числа предыдущих пунктов, еще не достигнутых вами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424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 algn="ctr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3260c"/>
                </a:solidFill>
                <a:latin typeface="AGBenguiatCyr-Bold"/>
              </a:rPr>
              <a:t>Духовно – нравственное развитие</a:t>
            </a:r>
            <a:r>
              <a:rPr b="1" lang="ru-RU" sz="5400" spc="-1" strike="noStrike">
                <a:solidFill>
                  <a:srgbClr val="c3260c"/>
                </a:solidFill>
                <a:latin typeface="AdverGothic"/>
              </a:rPr>
              <a:t> 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969840" y="3011400"/>
            <a:ext cx="7418520" cy="2865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042920" y="620280"/>
            <a:ext cx="7129440" cy="2303640"/>
          </a:xfrm>
          <a:prstGeom prst="rect">
            <a:avLst/>
          </a:prstGeom>
          <a:solidFill>
            <a:srgbClr val="4e67c8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AdverGothic"/>
              </a:rPr>
              <a:t>Духовно – нравственное развитие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Группа 3"/>
          <p:cNvGrpSpPr/>
          <p:nvPr/>
        </p:nvGrpSpPr>
        <p:grpSpPr>
          <a:xfrm>
            <a:off x="3254400" y="2197080"/>
            <a:ext cx="2706840" cy="2355840"/>
            <a:chOff x="3254400" y="2197080"/>
            <a:chExt cx="2706840" cy="2355840"/>
          </a:xfrm>
        </p:grpSpPr>
        <p:sp>
          <p:nvSpPr>
            <p:cNvPr id="263" name="Скругленный прямоугольник 4"/>
            <p:cNvSpPr/>
            <p:nvPr/>
          </p:nvSpPr>
          <p:spPr>
            <a:xfrm>
              <a:off x="3254400" y="2197080"/>
              <a:ext cx="2706840" cy="2355840"/>
            </a:xfrm>
            <a:prstGeom prst="roundRect">
              <a:avLst>
                <a:gd name="adj" fmla="val 16667"/>
              </a:avLst>
            </a:prstGeom>
            <a:solidFill>
              <a:srgbClr val="5dceaf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Скругленный прямоугольник 4"/>
            <p:cNvSpPr/>
            <p:nvPr/>
          </p:nvSpPr>
          <p:spPr>
            <a:xfrm>
              <a:off x="3375000" y="2311920"/>
              <a:ext cx="2465280" cy="21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dverGothic"/>
                </a:rPr>
                <a:t>Каким я хочу стать?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5" name="Группа 6"/>
          <p:cNvGrpSpPr/>
          <p:nvPr/>
        </p:nvGrpSpPr>
        <p:grpSpPr>
          <a:xfrm>
            <a:off x="1833480" y="103320"/>
            <a:ext cx="5654880" cy="2046240"/>
            <a:chOff x="1833480" y="103320"/>
            <a:chExt cx="5654880" cy="2046240"/>
          </a:xfrm>
        </p:grpSpPr>
        <p:sp>
          <p:nvSpPr>
            <p:cNvPr id="266" name="Скругленный прямоугольник 7"/>
            <p:cNvSpPr/>
            <p:nvPr/>
          </p:nvSpPr>
          <p:spPr>
            <a:xfrm>
              <a:off x="1833480" y="103320"/>
              <a:ext cx="5654880" cy="2046240"/>
            </a:xfrm>
            <a:prstGeom prst="roundRect">
              <a:avLst>
                <a:gd name="adj" fmla="val 16667"/>
              </a:avLst>
            </a:prstGeom>
            <a:solidFill>
              <a:srgbClr val="50de4a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Скругленный прямоугольник 4"/>
            <p:cNvSpPr/>
            <p:nvPr/>
          </p:nvSpPr>
          <p:spPr>
            <a:xfrm>
              <a:off x="1933200" y="203040"/>
              <a:ext cx="54554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AdverGothic"/>
                </a:rPr>
                <a:t>Хочу всегда приходить на помощь нуждающимся</a:t>
              </a:r>
              <a:endParaRPr b="0" lang="en-US" sz="3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8" name="Группа 9"/>
          <p:cNvGrpSpPr/>
          <p:nvPr/>
        </p:nvGrpSpPr>
        <p:grpSpPr>
          <a:xfrm>
            <a:off x="42840" y="4468680"/>
            <a:ext cx="3378240" cy="2303640"/>
            <a:chOff x="42840" y="4468680"/>
            <a:chExt cx="3378240" cy="2303640"/>
          </a:xfrm>
        </p:grpSpPr>
        <p:sp>
          <p:nvSpPr>
            <p:cNvPr id="269" name="Скругленный прямоугольник 10"/>
            <p:cNvSpPr/>
            <p:nvPr/>
          </p:nvSpPr>
          <p:spPr>
            <a:xfrm>
              <a:off x="42840" y="4468680"/>
              <a:ext cx="3378240" cy="230364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Скругленный прямоугольник 4"/>
            <p:cNvSpPr/>
            <p:nvPr/>
          </p:nvSpPr>
          <p:spPr>
            <a:xfrm>
              <a:off x="155160" y="4581000"/>
              <a:ext cx="3153600" cy="20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dverGothic"/>
                </a:rPr>
                <a:t>Хочу защищать свою страну,  ее экологию и природу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1" name="Группа 12"/>
          <p:cNvGrpSpPr/>
          <p:nvPr/>
        </p:nvGrpSpPr>
        <p:grpSpPr>
          <a:xfrm>
            <a:off x="5649840" y="4479840"/>
            <a:ext cx="3459240" cy="2279880"/>
            <a:chOff x="5649840" y="4479840"/>
            <a:chExt cx="3459240" cy="2279880"/>
          </a:xfrm>
        </p:grpSpPr>
        <p:sp>
          <p:nvSpPr>
            <p:cNvPr id="272" name="Скругленный прямоугольник 13"/>
            <p:cNvSpPr/>
            <p:nvPr/>
          </p:nvSpPr>
          <p:spPr>
            <a:xfrm>
              <a:off x="5649840" y="4479840"/>
              <a:ext cx="3459240" cy="2279880"/>
            </a:xfrm>
            <a:prstGeom prst="roundRect">
              <a:avLst>
                <a:gd name="adj" fmla="val 16667"/>
              </a:avLst>
            </a:prstGeom>
            <a:solidFill>
              <a:srgbClr val="caee36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Скругленный прямоугольник 4"/>
            <p:cNvSpPr/>
            <p:nvPr/>
          </p:nvSpPr>
          <p:spPr>
            <a:xfrm>
              <a:off x="5761080" y="4591080"/>
              <a:ext cx="32367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dverGothic"/>
                </a:rPr>
                <a:t>Хочу знать и любить историю своего государства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0" descr=""/>
          <p:cNvPicPr/>
          <p:nvPr/>
        </p:nvPicPr>
        <p:blipFill>
          <a:blip r:embed="rId1"/>
          <a:stretch/>
        </p:blipFill>
        <p:spPr>
          <a:xfrm>
            <a:off x="396720" y="1517760"/>
            <a:ext cx="8423280" cy="5151240"/>
          </a:xfrm>
          <a:prstGeom prst="rect">
            <a:avLst/>
          </a:prstGeom>
          <a:ln w="0">
            <a:noFill/>
          </a:ln>
        </p:spPr>
      </p:pic>
      <p:pic>
        <p:nvPicPr>
          <p:cNvPr id="222" name="Объект 11" descr=""/>
          <p:cNvPicPr/>
          <p:nvPr/>
        </p:nvPicPr>
        <p:blipFill>
          <a:blip r:embed="rId2"/>
          <a:stretch/>
        </p:blipFill>
        <p:spPr>
          <a:xfrm>
            <a:off x="396720" y="152280"/>
            <a:ext cx="85885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7918560" cy="20048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323640" y="1988640"/>
            <a:ext cx="85690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Быть нужным и полезным близким людям и своей стране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Жить в экологически чистом государстве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Привить интерес к истории нашего государства своим младшим братьям  и сестрам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69800" y="79200"/>
            <a:ext cx="8131320" cy="1743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d79ca"/>
                </a:solidFill>
                <a:latin typeface="AdverGothic"/>
              </a:rPr>
              <a:t>Помогаю близким в работе и домашних делах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d79ca"/>
                </a:solidFill>
                <a:latin typeface="AdverGothic"/>
              </a:rPr>
              <a:t>Берегу природу (или не берегу), не загрязняю окружающую среду (или загрязняю), или мне все равно при какой экологии жить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d79ca"/>
                </a:solidFill>
                <a:latin typeface="AdverGothic"/>
              </a:rPr>
              <a:t>Изучаю различные науки в школе (историю, литературу, географию и биологию)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828720" y="281160"/>
            <a:ext cx="7918560" cy="1346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324000" y="162864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Меня уважают сверстники за умение прийти на помощь;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Я никогда не бросаю на землю не разлагающиеся материалы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У меня хорошие оценки по естественным наукам;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Я еще очень мало достиг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324000" y="365040"/>
            <a:ext cx="8485200" cy="17496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24000" y="2133360"/>
            <a:ext cx="842472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Развивать в себе то, что еще не развили из предложенного или что-то свое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95280" y="2133360"/>
            <a:ext cx="7345440" cy="33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0636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GBenguiatCyr-Bold"/>
              </a:rPr>
              <a:t>Социальная деятельность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901800" y="3273480"/>
            <a:ext cx="7772400" cy="2878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042560" y="764640"/>
            <a:ext cx="7201080" cy="2265480"/>
          </a:xfrm>
          <a:prstGeom prst="rect">
            <a:avLst/>
          </a:prstGeom>
          <a:solidFill>
            <a:srgbClr val="b8c2e9"/>
          </a:solidFill>
          <a:ln w="0">
            <a:noFill/>
          </a:ln>
        </p:spPr>
        <p:txBody>
          <a:bodyPr anchor="t">
            <a:normAutofit/>
          </a:bodyPr>
          <a:p>
            <a:pPr lvl="4" marL="120636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AdverGothicCTT"/>
              </a:rPr>
              <a:t>Социальная деятельность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Объект 6" descr=""/>
          <p:cNvPicPr/>
          <p:nvPr/>
        </p:nvPicPr>
        <p:blipFill>
          <a:blip r:embed="rId1"/>
          <a:stretch/>
        </p:blipFill>
        <p:spPr>
          <a:xfrm>
            <a:off x="109440" y="12600"/>
            <a:ext cx="8821800" cy="680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324000" y="133200"/>
            <a:ext cx="8643960" cy="2000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23640" y="206028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Быть приятным в общении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Зарабатывать хорошую зарплату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249120" y="165240"/>
            <a:ext cx="8656920" cy="16509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324000" y="1557360"/>
            <a:ext cx="8496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- Беру пример достойного культурного общения у порядочных людей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- Развиваю навыки трудовой деятельности (посещаю кружок…)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Изучаю иностранные языки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Изучаю ПК.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324000" y="212760"/>
            <a:ext cx="8496000" cy="1244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324000" y="119664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Сверстники любят общаться со мной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Я овладел (указать каким) мастерством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Я имею хорошие оценки по иностранному языку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Я без труда пользуюсь ПК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Мне еще многому стоит научитьс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4360" y="1197000"/>
            <a:ext cx="77752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lang="ru-RU" sz="5400" spc="-1" strike="noStrike">
                <a:solidFill>
                  <a:srgbClr val="23735d"/>
                </a:solidFill>
                <a:latin typeface="AGBenguiatCyr-Bold"/>
              </a:rPr>
              <a:t>Спортивно – оздоровительная деятельность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1"/>
          <a:stretch/>
        </p:blipFill>
        <p:spPr>
          <a:xfrm>
            <a:off x="249120" y="365040"/>
            <a:ext cx="8523360" cy="17496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324000" y="206028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Сформировать в себе те навыки, которые еще не сформированы (из предложенных или другие)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682560" y="1809720"/>
            <a:ext cx="84549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828720" y="3011400"/>
            <a:ext cx="7729560" cy="3408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971640" y="731880"/>
            <a:ext cx="7345440" cy="1976400"/>
          </a:xfrm>
          <a:prstGeom prst="rect">
            <a:avLst/>
          </a:prstGeom>
          <a:solidFill>
            <a:srgbClr val="f9b3a7"/>
          </a:solidFill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AdverGothicCTT"/>
              </a:rPr>
              <a:t>Общекультурная деятельность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96720" y="347760"/>
            <a:ext cx="8064720" cy="1425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250560" y="1628280"/>
            <a:ext cx="856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- Хочу в будущем овладеть интересной профессией …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- Свой вариант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755640" y="133200"/>
            <a:ext cx="784548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250920" y="234900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- Применить свои знания, умения и навыки во благо себе и своей семье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396720" y="225360"/>
            <a:ext cx="8277480" cy="1743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324000" y="1844280"/>
            <a:ext cx="871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Развиваю творческие способности, занимаясь шитьем, вышиванием, деланием чего-либо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Принимаю участие во всех школьных мероприятиях, связанных с моим любимым делом (указать).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396720" y="281160"/>
            <a:ext cx="8423280" cy="12664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323640" y="1413000"/>
            <a:ext cx="856908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Я регулярно участвую во всех школьных мероприятиях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Я выполняю в классе</a:t>
            </a:r>
            <a:r>
              <a:rPr b="0" lang="en-US" sz="38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поручение (указать какое)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Я прочитал много о (указать какой) профессии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Я достиг еще очень мало. 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542880" y="365040"/>
            <a:ext cx="8448840" cy="1749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324000" y="1988640"/>
            <a:ext cx="849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Заняться определенным видом деятельности (указать), который необходим мне для будущей профессии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060560" y="3297240"/>
            <a:ext cx="7315200" cy="3414600"/>
          </a:xfrm>
          <a:prstGeom prst="rect">
            <a:avLst/>
          </a:prstGeom>
          <a:ln w="0">
            <a:noFill/>
          </a:ln>
        </p:spPr>
      </p:pic>
      <p:pic>
        <p:nvPicPr>
          <p:cNvPr id="225" name="Объект 3" descr=""/>
          <p:cNvPicPr/>
          <p:nvPr/>
        </p:nvPicPr>
        <p:blipFill>
          <a:blip r:embed="rId2"/>
          <a:stretch/>
        </p:blipFill>
        <p:spPr>
          <a:xfrm>
            <a:off x="969840" y="590400"/>
            <a:ext cx="716292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Объект 6" descr=""/>
          <p:cNvPicPr/>
          <p:nvPr/>
        </p:nvPicPr>
        <p:blipFill>
          <a:blip r:embed="rId1"/>
          <a:stretch/>
        </p:blipFill>
        <p:spPr>
          <a:xfrm>
            <a:off x="109440" y="-36360"/>
            <a:ext cx="878544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682560" y="-12600"/>
            <a:ext cx="7693200" cy="2006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50560" y="1773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AdverGothic"/>
              </a:rPr>
              <a:t>- Я должен укреплять иммунитет, отказавшись от вредных привыч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AdverGothic"/>
              </a:rPr>
              <a:t>- Укрепить мышцы, дыхательную и пищеварительную системы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AdverGothic"/>
              </a:rPr>
              <a:t>- Свободно выполнять физическую нагрузку по возрасту;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-6480" y="1395360"/>
            <a:ext cx="8974440" cy="5353200"/>
          </a:xfrm>
          <a:prstGeom prst="rect">
            <a:avLst/>
          </a:prstGeom>
          <a:ln w="0">
            <a:noFill/>
          </a:ln>
        </p:spPr>
      </p:pic>
      <p:pic>
        <p:nvPicPr>
          <p:cNvPr id="231" name="Объект 2" descr=""/>
          <p:cNvPicPr/>
          <p:nvPr/>
        </p:nvPicPr>
        <p:blipFill>
          <a:blip r:embed="rId2"/>
          <a:stretch/>
        </p:blipFill>
        <p:spPr>
          <a:xfrm>
            <a:off x="-542880" y="96840"/>
            <a:ext cx="8686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dverGothic"/>
              </a:rPr>
              <a:t>- У меня отличная оценка   по физкультуре;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dverGothic"/>
              </a:rPr>
              <a:t>- Я легко могу пробежать большое расстояние;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dverGothic"/>
              </a:rPr>
              <a:t>- Я сдаю все нормативы по возрасту;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dverGothic"/>
              </a:rPr>
              <a:t>- Мое тело имеет спортивный вид (или нет).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Объект 2" descr=""/>
          <p:cNvPicPr/>
          <p:nvPr/>
        </p:nvPicPr>
        <p:blipFill>
          <a:blip r:embed="rId1"/>
          <a:stretch/>
        </p:blipFill>
        <p:spPr>
          <a:xfrm>
            <a:off x="469800" y="281160"/>
            <a:ext cx="84250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1844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70c0"/>
                </a:solidFill>
                <a:latin typeface="AdverGothic"/>
              </a:rPr>
              <a:t>Поставьте перед собой ту цель, которую еще не достигли</a:t>
            </a:r>
            <a:br>
              <a:rPr sz="4600"/>
            </a:br>
            <a:r>
              <a:rPr b="0" lang="ru-RU" sz="4600" spc="-1" strike="noStrike">
                <a:solidFill>
                  <a:srgbClr val="0070c0"/>
                </a:solidFill>
                <a:latin typeface="AdverGothic"/>
              </a:rPr>
              <a:t>(можно выбрать из вышеперечисленных)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Объект 2" descr=""/>
          <p:cNvPicPr/>
          <p:nvPr/>
        </p:nvPicPr>
        <p:blipFill>
          <a:blip r:embed="rId1"/>
          <a:stretch/>
        </p:blipFill>
        <p:spPr>
          <a:xfrm>
            <a:off x="176040" y="6480"/>
            <a:ext cx="879192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5:58:25Z</dcterms:created>
  <dc:creator>Admin</dc:creator>
  <dc:description/>
  <dc:language>en-US</dc:language>
  <cp:lastModifiedBy>Admin</cp:lastModifiedBy>
  <dcterms:modified xsi:type="dcterms:W3CDTF">2012-02-04T20:42:12Z</dcterms:modified>
  <cp:revision>49</cp:revision>
  <dc:subject/>
  <dc:title>Спортивно – оздоровительная деятельность</dc:title>
</cp:coreProperties>
</file>