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446D-D2B6-4A0D-8A42-1F6D081C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997-F81C-4021-ACF5-C4D8D133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364E-4642-4341-9C45-0CD9C685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37B5-2EDA-4B12-8E62-E74E6271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FF4B-4FAC-48EC-BC7A-BE1E8952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D3FF-269C-4F36-8ACE-CCA59A83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55CD-553C-49EC-B97F-14DDF173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7877-94D7-40FB-9DAC-99CDD7AE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C9D0-A287-4168-84BD-54E5CAD8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4FA3-3260-4D3E-9144-8E7AA85E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89AC-2B18-4773-814F-DD8FD035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8D3-CA36-4CD6-AEC7-3BC0C0EB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958A-A36D-4562-A372-9A1B0CB9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B33A-6398-4987-8270-1BFBCC85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8839-7EB4-4585-90F6-54BB40E8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E428-0696-4D6D-8AA8-8E30109D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48F5-4F5A-4B0B-A746-F7639A1C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5A344-33C6-474C-98EF-04C410D8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17C68-E694-4518-B6C8-38ACEC78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CECEA-E2B7-4B07-8BF7-F44EB12A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740F3-914B-401A-918D-4D25C576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D889B-EF2B-4107-86D2-431BCBDE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220F-1C16-4FF2-A5DD-B698D9EB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A0395-5D51-4C25-A714-C23C0AF8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D9374-7586-4C5F-AD9B-F90A0190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9EC62-F00A-4D34-99B2-971536EE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C4973-DA86-4549-B9CE-BF57C355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21D09-70F9-4AED-8508-3FD71DD7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C565E-7B3F-487E-BDEA-4C911283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70710-1C21-4284-821E-5F7C4BDC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A485F-A572-4B4F-85E2-C882F3CC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93551-478C-44CE-B16D-28E66C7F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624AE-3AB3-489E-87FB-7CF481E2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E7FB-4CB0-4F68-A56B-E8106CF7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5DA88-122F-44C2-A084-47E8EB88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C16CF-717B-4741-880D-269DEED1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C9E7A-DB00-44D5-800E-EB3D7ACA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661B0-C044-4801-BFCF-419D0A19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22E0B-865F-4789-AA66-91C97245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2E778-192A-44CD-9BAC-2EECE9A6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7AFF3-F579-429C-A37E-98BF6830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B71DF-06C9-480C-943E-3790818D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2A91D-CED0-4926-8F2E-4E111597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1BE3-BD1B-4C09-B32F-F16FD568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2BEA-5298-4194-926C-EA051B5A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CAD7-39EE-4442-98D7-97CD442C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68E-2CC9-45F1-8491-D1C5F73F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D47-53C2-45E3-BA49-3DB8E701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960C-600E-4670-B965-510D6C69EE0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2AC2-9120-44D1-A3C7-65BC3A97601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3A44-0260-4A51-9E7C-EBD46019CC7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5B6C-9881-4002-B818-1E696E7BC7B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17" hidden="1"/>
          <p:cNvSpPr/>
          <p:nvPr/>
        </p:nvSpPr>
        <p:spPr>
          <a:xfrm>
            <a:off x="1082520" y="2421000"/>
            <a:ext cx="2016360" cy="152064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портивно – оздорительная деятельност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Выноска-облако 24"/>
          <p:cNvSpPr/>
          <p:nvPr/>
        </p:nvSpPr>
        <p:spPr>
          <a:xfrm>
            <a:off x="2886120" y="115920"/>
            <a:ext cx="3341520" cy="1944720"/>
          </a:xfrm>
          <a:prstGeom prst="cloudCallout">
            <a:avLst>
              <a:gd name="adj1" fmla="val -31421"/>
              <a:gd name="adj2" fmla="val 5556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dverGothic"/>
              </a:rPr>
              <a:t>Обще интеллектуальная деятельн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12-конечная звезда 25"/>
          <p:cNvSpPr/>
          <p:nvPr/>
        </p:nvSpPr>
        <p:spPr>
          <a:xfrm>
            <a:off x="3286080" y="2643120"/>
            <a:ext cx="2854440" cy="2320920"/>
          </a:xfrm>
          <a:prstGeom prst="pi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dverGothic"/>
              </a:rPr>
              <a:t>Воспитание   личност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Выноска-облако 10"/>
          <p:cNvSpPr/>
          <p:nvPr/>
        </p:nvSpPr>
        <p:spPr>
          <a:xfrm>
            <a:off x="5508720" y="4365720"/>
            <a:ext cx="3240000" cy="2087640"/>
          </a:xfrm>
          <a:prstGeom prst="cloudCallout">
            <a:avLst>
              <a:gd name="adj1" fmla="val -26907"/>
              <a:gd name="adj2" fmla="val 54824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dverGothic"/>
              </a:rPr>
              <a:t>Духовно - нравственное развити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Выноска-облако 11"/>
          <p:cNvSpPr/>
          <p:nvPr/>
        </p:nvSpPr>
        <p:spPr>
          <a:xfrm>
            <a:off x="33480" y="4437000"/>
            <a:ext cx="3240000" cy="2087640"/>
          </a:xfrm>
          <a:prstGeom prst="cloudCallout">
            <a:avLst>
              <a:gd name="adj1" fmla="val -26907"/>
              <a:gd name="adj2" fmla="val 54824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dverGothic"/>
              </a:rPr>
              <a:t>Общекультурная деятельн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Выноска-облако 12"/>
          <p:cNvSpPr/>
          <p:nvPr/>
        </p:nvSpPr>
        <p:spPr>
          <a:xfrm>
            <a:off x="33480" y="1695600"/>
            <a:ext cx="3240000" cy="2087280"/>
          </a:xfrm>
          <a:prstGeom prst="cloudCallout">
            <a:avLst>
              <a:gd name="adj1" fmla="val -26907"/>
              <a:gd name="adj2" fmla="val 54824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dverGothic"/>
              </a:rPr>
              <a:t>Спортивно – оздоровительная деятельн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Выноска-облако 13"/>
          <p:cNvSpPr/>
          <p:nvPr/>
        </p:nvSpPr>
        <p:spPr>
          <a:xfrm>
            <a:off x="5854680" y="1695600"/>
            <a:ext cx="3240000" cy="2087280"/>
          </a:xfrm>
          <a:prstGeom prst="cloudCallout">
            <a:avLst>
              <a:gd name="adj1" fmla="val -26907"/>
              <a:gd name="adj2" fmla="val 54824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dverGothic"/>
              </a:rPr>
              <a:t>Социальная деятельн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11280" y="155700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73c65"/>
                </a:solidFill>
                <a:latin typeface="AGBenguiatCyr-Bold"/>
              </a:rPr>
              <a:t>Обще</a:t>
            </a:r>
            <a:r>
              <a:rPr b="1" lang="en-US" sz="5400" spc="-1" strike="noStrike">
                <a:solidFill>
                  <a:srgbClr val="073c65"/>
                </a:solidFill>
                <a:latin typeface="AGBenguiatCyr-Bold"/>
              </a:rPr>
              <a:t>-</a:t>
            </a:r>
            <a:r>
              <a:rPr b="1" lang="ru-RU" sz="5400" spc="-1" strike="noStrike">
                <a:solidFill>
                  <a:srgbClr val="073c65"/>
                </a:solidFill>
                <a:latin typeface="AGBenguiatCyr-Bold"/>
              </a:rPr>
              <a:t>интеллектуальная деятельность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189080" y="3297240"/>
            <a:ext cx="6881760" cy="2743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971640" y="731880"/>
            <a:ext cx="7129440" cy="2697120"/>
          </a:xfrm>
          <a:prstGeom prst="rect">
            <a:avLst/>
          </a:prstGeom>
          <a:solidFill>
            <a:srgbClr val="9ee2cf"/>
          </a:solidFill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AdverGothic"/>
              </a:rPr>
              <a:t>Обще-интеллектуальная деятельность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Группа 3"/>
          <p:cNvGrpSpPr/>
          <p:nvPr/>
        </p:nvGrpSpPr>
        <p:grpSpPr>
          <a:xfrm>
            <a:off x="3254400" y="2197080"/>
            <a:ext cx="2706840" cy="2355840"/>
            <a:chOff x="3254400" y="2197080"/>
            <a:chExt cx="2706840" cy="2355840"/>
          </a:xfrm>
        </p:grpSpPr>
        <p:sp>
          <p:nvSpPr>
            <p:cNvPr id="240" name="Скругленный прямоугольник 4"/>
            <p:cNvSpPr/>
            <p:nvPr/>
          </p:nvSpPr>
          <p:spPr>
            <a:xfrm>
              <a:off x="3254400" y="2197080"/>
              <a:ext cx="2706840" cy="2355840"/>
            </a:xfrm>
            <a:prstGeom prst="roundRect">
              <a:avLst>
                <a:gd name="adj" fmla="val 16667"/>
              </a:avLst>
            </a:prstGeom>
            <a:solidFill>
              <a:srgbClr val="5dceaf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1" name="Скругленный прямоугольник 4"/>
            <p:cNvSpPr/>
            <p:nvPr/>
          </p:nvSpPr>
          <p:spPr>
            <a:xfrm>
              <a:off x="3375000" y="2311920"/>
              <a:ext cx="2465280" cy="21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101520" bIns="10152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dverGothic"/>
                </a:rPr>
                <a:t>Каким я хочу стать?</a:t>
              </a:r>
              <a:endParaRPr b="0" lang="en-US" sz="4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42" name="Группа 6"/>
          <p:cNvGrpSpPr/>
          <p:nvPr/>
        </p:nvGrpSpPr>
        <p:grpSpPr>
          <a:xfrm>
            <a:off x="1833480" y="103320"/>
            <a:ext cx="5654880" cy="2046240"/>
            <a:chOff x="1833480" y="103320"/>
            <a:chExt cx="5654880" cy="2046240"/>
          </a:xfrm>
        </p:grpSpPr>
        <p:sp>
          <p:nvSpPr>
            <p:cNvPr id="243" name="Скругленный прямоугольник 7"/>
            <p:cNvSpPr/>
            <p:nvPr/>
          </p:nvSpPr>
          <p:spPr>
            <a:xfrm>
              <a:off x="1833480" y="103320"/>
              <a:ext cx="5654880" cy="2046240"/>
            </a:xfrm>
            <a:prstGeom prst="roundRect">
              <a:avLst>
                <a:gd name="adj" fmla="val 16667"/>
              </a:avLst>
            </a:prstGeom>
            <a:solidFill>
              <a:srgbClr val="50de4a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4" name="Скругленный прямоугольник 4"/>
            <p:cNvSpPr/>
            <p:nvPr/>
          </p:nvSpPr>
          <p:spPr>
            <a:xfrm>
              <a:off x="1933200" y="203040"/>
              <a:ext cx="545544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ru-RU" sz="3600" spc="-1" strike="noStrike">
                  <a:solidFill>
                    <a:srgbClr val="7030a0"/>
                  </a:solidFill>
                  <a:latin typeface="AdverGothic"/>
                </a:rPr>
                <a:t>Хочу стать интересным и умным человеком</a:t>
              </a:r>
              <a:endParaRPr b="0" lang="en-US" sz="3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45" name="Группа 9"/>
          <p:cNvGrpSpPr/>
          <p:nvPr/>
        </p:nvGrpSpPr>
        <p:grpSpPr>
          <a:xfrm>
            <a:off x="42840" y="4468680"/>
            <a:ext cx="3378240" cy="2303640"/>
            <a:chOff x="42840" y="4468680"/>
            <a:chExt cx="3378240" cy="2303640"/>
          </a:xfrm>
        </p:grpSpPr>
        <p:sp>
          <p:nvSpPr>
            <p:cNvPr id="246" name="Скругленный прямоугольник 10"/>
            <p:cNvSpPr/>
            <p:nvPr/>
          </p:nvSpPr>
          <p:spPr>
            <a:xfrm>
              <a:off x="42840" y="4468680"/>
              <a:ext cx="3378240" cy="230364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7" name="Скругленный прямоугольник 4"/>
            <p:cNvSpPr/>
            <p:nvPr/>
          </p:nvSpPr>
          <p:spPr>
            <a:xfrm>
              <a:off x="155160" y="4581000"/>
              <a:ext cx="3153600" cy="20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dverGothic"/>
                </a:rPr>
                <a:t>Хочу стать интеллектуально развитой личностью</a:t>
              </a: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48" name="Группа 12"/>
          <p:cNvGrpSpPr/>
          <p:nvPr/>
        </p:nvGrpSpPr>
        <p:grpSpPr>
          <a:xfrm>
            <a:off x="5649840" y="4479840"/>
            <a:ext cx="3459240" cy="2279880"/>
            <a:chOff x="5649840" y="4479840"/>
            <a:chExt cx="3459240" cy="2279880"/>
          </a:xfrm>
        </p:grpSpPr>
        <p:sp>
          <p:nvSpPr>
            <p:cNvPr id="249" name="Скругленный прямоугольник 13"/>
            <p:cNvSpPr/>
            <p:nvPr/>
          </p:nvSpPr>
          <p:spPr>
            <a:xfrm>
              <a:off x="5649840" y="4479840"/>
              <a:ext cx="3459240" cy="2279880"/>
            </a:xfrm>
            <a:prstGeom prst="roundRect">
              <a:avLst>
                <a:gd name="adj" fmla="val 16667"/>
              </a:avLst>
            </a:prstGeom>
            <a:solidFill>
              <a:srgbClr val="caee36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0" name="Скругленный прямоугольник 4"/>
            <p:cNvSpPr/>
            <p:nvPr/>
          </p:nvSpPr>
          <p:spPr>
            <a:xfrm>
              <a:off x="5761080" y="4591080"/>
              <a:ext cx="323676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dverGothic"/>
                </a:rPr>
                <a:t>Хочу стать подготовленным к будущей жизни, чтобы помочь своим детям в обучении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828720" y="60480"/>
            <a:ext cx="7705800" cy="2006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68360" y="184464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Исправить двойки, тройки или четверки за четверть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Овладеть знаниями по предметам по возрасту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Свободно разбираться во всех областях обучения или каком-то предмете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542880" y="6480"/>
            <a:ext cx="8277120" cy="1749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179280" y="1483920"/>
            <a:ext cx="87854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164160">
              <a:lnSpc>
                <a:spcPct val="90000"/>
              </a:lnSpc>
              <a:spcBef>
                <a:spcPts val="975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Посещаю дополнительные занятия по предметам;</a:t>
            </a:r>
            <a:endParaRPr b="0" lang="en-US" sz="3900" spc="-1" strike="noStrike">
              <a:solidFill>
                <a:srgbClr val="404040"/>
              </a:solidFill>
              <a:latin typeface="Trebuchet MS"/>
            </a:endParaRPr>
          </a:p>
          <a:p>
            <a:pPr marL="205560" indent="-164160">
              <a:lnSpc>
                <a:spcPct val="90000"/>
              </a:lnSpc>
              <a:spcBef>
                <a:spcPts val="975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Выполняю дополнительные задания;</a:t>
            </a:r>
            <a:endParaRPr b="0" lang="en-US" sz="3900" spc="-1" strike="noStrike">
              <a:solidFill>
                <a:srgbClr val="404040"/>
              </a:solidFill>
              <a:latin typeface="Trebuchet MS"/>
            </a:endParaRPr>
          </a:p>
          <a:p>
            <a:pPr marL="205560" indent="-164160">
              <a:lnSpc>
                <a:spcPct val="90000"/>
              </a:lnSpc>
              <a:spcBef>
                <a:spcPts val="975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Стараюсь самостоятельно выполнять домашние задания по предметам;</a:t>
            </a:r>
            <a:endParaRPr b="0" lang="en-US" sz="3900" spc="-1" strike="noStrike">
              <a:solidFill>
                <a:srgbClr val="404040"/>
              </a:solidFill>
              <a:latin typeface="Trebuchet MS"/>
            </a:endParaRPr>
          </a:p>
          <a:p>
            <a:pPr marL="205560" indent="-164160">
              <a:lnSpc>
                <a:spcPct val="90000"/>
              </a:lnSpc>
              <a:spcBef>
                <a:spcPts val="975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Изучаю и использую дополнительные ресурсы обучения (компьютер-Интернет, библиотека-книги).</a:t>
            </a:r>
            <a:endParaRPr b="0" lang="en-US" sz="3900" spc="-1" strike="noStrike">
              <a:solidFill>
                <a:srgbClr val="404040"/>
              </a:solidFill>
              <a:latin typeface="Trebuchet MS"/>
            </a:endParaRPr>
          </a:p>
          <a:p>
            <a:pPr marL="205560" indent="-164160">
              <a:lnSpc>
                <a:spcPct val="90000"/>
              </a:lnSpc>
              <a:spcBef>
                <a:spcPts val="9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Подзаголовок 1" descr=""/>
          <p:cNvPicPr/>
          <p:nvPr/>
        </p:nvPicPr>
        <p:blipFill>
          <a:blip r:embed="rId1"/>
          <a:stretch/>
        </p:blipFill>
        <p:spPr>
          <a:xfrm>
            <a:off x="1116000" y="281160"/>
            <a:ext cx="7485120" cy="1272960"/>
          </a:xfrm>
          <a:prstGeom prst="rect">
            <a:avLst/>
          </a:prstGeom>
          <a:ln w="0">
            <a:noFill/>
          </a:ln>
        </p:spPr>
      </p:pic>
      <p:pic>
        <p:nvPicPr>
          <p:cNvPr id="256" name="Заголовок 2" descr=""/>
          <p:cNvPicPr/>
          <p:nvPr/>
        </p:nvPicPr>
        <p:blipFill>
          <a:blip r:embed="rId2"/>
          <a:stretch/>
        </p:blipFill>
        <p:spPr>
          <a:xfrm>
            <a:off x="536400" y="1798560"/>
            <a:ext cx="806472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682560" y="365040"/>
            <a:ext cx="8400960" cy="17496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610920" y="1989000"/>
            <a:ext cx="8064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79ca"/>
                </a:solidFill>
                <a:latin typeface="AdverGothic"/>
              </a:rPr>
              <a:t>Поставьте перед собой задачу из числа предыдущих пунктов, еще не достигнутых вами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424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 algn="ctr">
              <a:lnSpc>
                <a:spcPct val="100000"/>
              </a:lnSpc>
              <a:spcBef>
                <a:spcPts val="1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3260c"/>
                </a:solidFill>
                <a:latin typeface="AGBenguiatCyr-Bold"/>
              </a:rPr>
              <a:t>Духовно – нравственное развитие</a:t>
            </a:r>
            <a:r>
              <a:rPr b="1" lang="ru-RU" sz="5400" spc="-1" strike="noStrike">
                <a:solidFill>
                  <a:srgbClr val="c3260c"/>
                </a:solidFill>
                <a:latin typeface="AdverGothic"/>
              </a:rPr>
              <a:t> 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969840" y="3011400"/>
            <a:ext cx="7418520" cy="2865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1042920" y="620280"/>
            <a:ext cx="7129440" cy="2303640"/>
          </a:xfrm>
          <a:prstGeom prst="rect">
            <a:avLst/>
          </a:prstGeom>
          <a:solidFill>
            <a:srgbClr val="4e67c8">
              <a:alpha val="5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AdverGothic"/>
              </a:rPr>
              <a:t>Духовно – нравственное развитие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Группа 3"/>
          <p:cNvGrpSpPr/>
          <p:nvPr/>
        </p:nvGrpSpPr>
        <p:grpSpPr>
          <a:xfrm>
            <a:off x="3254400" y="2197080"/>
            <a:ext cx="2706840" cy="2355840"/>
            <a:chOff x="3254400" y="2197080"/>
            <a:chExt cx="2706840" cy="2355840"/>
          </a:xfrm>
        </p:grpSpPr>
        <p:sp>
          <p:nvSpPr>
            <p:cNvPr id="263" name="Скругленный прямоугольник 4"/>
            <p:cNvSpPr/>
            <p:nvPr/>
          </p:nvSpPr>
          <p:spPr>
            <a:xfrm>
              <a:off x="3254400" y="2197080"/>
              <a:ext cx="2706840" cy="2355840"/>
            </a:xfrm>
            <a:prstGeom prst="roundRect">
              <a:avLst>
                <a:gd name="adj" fmla="val 16667"/>
              </a:avLst>
            </a:prstGeom>
            <a:solidFill>
              <a:srgbClr val="5dceaf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4" name="Скругленный прямоугольник 4"/>
            <p:cNvSpPr/>
            <p:nvPr/>
          </p:nvSpPr>
          <p:spPr>
            <a:xfrm>
              <a:off x="3375000" y="2311920"/>
              <a:ext cx="2465280" cy="21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101520" bIns="10152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dverGothic"/>
                </a:rPr>
                <a:t>Каким я хочу стать?</a:t>
              </a:r>
              <a:endParaRPr b="0" lang="en-US" sz="4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65" name="Группа 6"/>
          <p:cNvGrpSpPr/>
          <p:nvPr/>
        </p:nvGrpSpPr>
        <p:grpSpPr>
          <a:xfrm>
            <a:off x="1833480" y="103320"/>
            <a:ext cx="5654880" cy="2046240"/>
            <a:chOff x="1833480" y="103320"/>
            <a:chExt cx="5654880" cy="2046240"/>
          </a:xfrm>
        </p:grpSpPr>
        <p:sp>
          <p:nvSpPr>
            <p:cNvPr id="266" name="Скругленный прямоугольник 7"/>
            <p:cNvSpPr/>
            <p:nvPr/>
          </p:nvSpPr>
          <p:spPr>
            <a:xfrm>
              <a:off x="1833480" y="103320"/>
              <a:ext cx="5654880" cy="2046240"/>
            </a:xfrm>
            <a:prstGeom prst="roundRect">
              <a:avLst>
                <a:gd name="adj" fmla="val 16667"/>
              </a:avLst>
            </a:prstGeom>
            <a:solidFill>
              <a:srgbClr val="50de4a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Скругленный прямоугольник 4"/>
            <p:cNvSpPr/>
            <p:nvPr/>
          </p:nvSpPr>
          <p:spPr>
            <a:xfrm>
              <a:off x="1933200" y="203040"/>
              <a:ext cx="545544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ru-RU" sz="3600" spc="-1" strike="noStrike">
                  <a:solidFill>
                    <a:srgbClr val="7030a0"/>
                  </a:solidFill>
                  <a:latin typeface="AdverGothic"/>
                </a:rPr>
                <a:t>Хочу всегда приходить на помощь нуждающимся</a:t>
              </a:r>
              <a:endParaRPr b="0" lang="en-US" sz="3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68" name="Группа 9"/>
          <p:cNvGrpSpPr/>
          <p:nvPr/>
        </p:nvGrpSpPr>
        <p:grpSpPr>
          <a:xfrm>
            <a:off x="42840" y="4468680"/>
            <a:ext cx="3378240" cy="2303640"/>
            <a:chOff x="42840" y="4468680"/>
            <a:chExt cx="3378240" cy="2303640"/>
          </a:xfrm>
        </p:grpSpPr>
        <p:sp>
          <p:nvSpPr>
            <p:cNvPr id="269" name="Скругленный прямоугольник 10"/>
            <p:cNvSpPr/>
            <p:nvPr/>
          </p:nvSpPr>
          <p:spPr>
            <a:xfrm>
              <a:off x="42840" y="4468680"/>
              <a:ext cx="3378240" cy="230364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Скругленный прямоугольник 4"/>
            <p:cNvSpPr/>
            <p:nvPr/>
          </p:nvSpPr>
          <p:spPr>
            <a:xfrm>
              <a:off x="155160" y="4581000"/>
              <a:ext cx="3153600" cy="20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dverGothic"/>
                </a:rPr>
                <a:t>Хочу защищать свою страну,  ее экологию и природу</a:t>
              </a: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71" name="Группа 12"/>
          <p:cNvGrpSpPr/>
          <p:nvPr/>
        </p:nvGrpSpPr>
        <p:grpSpPr>
          <a:xfrm>
            <a:off x="5649840" y="4479840"/>
            <a:ext cx="3459240" cy="2279880"/>
            <a:chOff x="5649840" y="4479840"/>
            <a:chExt cx="3459240" cy="2279880"/>
          </a:xfrm>
        </p:grpSpPr>
        <p:sp>
          <p:nvSpPr>
            <p:cNvPr id="272" name="Скругленный прямоугольник 13"/>
            <p:cNvSpPr/>
            <p:nvPr/>
          </p:nvSpPr>
          <p:spPr>
            <a:xfrm>
              <a:off x="5649840" y="4479840"/>
              <a:ext cx="3459240" cy="2279880"/>
            </a:xfrm>
            <a:prstGeom prst="roundRect">
              <a:avLst>
                <a:gd name="adj" fmla="val 16667"/>
              </a:avLst>
            </a:prstGeom>
            <a:solidFill>
              <a:srgbClr val="caee36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Скругленный прямоугольник 4"/>
            <p:cNvSpPr/>
            <p:nvPr/>
          </p:nvSpPr>
          <p:spPr>
            <a:xfrm>
              <a:off x="5761080" y="4591080"/>
              <a:ext cx="323676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dverGothic"/>
                </a:rPr>
                <a:t>Хочу знать и любить историю своего государства</a:t>
              </a: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0" descr=""/>
          <p:cNvPicPr/>
          <p:nvPr/>
        </p:nvPicPr>
        <p:blipFill>
          <a:blip r:embed="rId1"/>
          <a:stretch/>
        </p:blipFill>
        <p:spPr>
          <a:xfrm>
            <a:off x="396720" y="1517760"/>
            <a:ext cx="8423280" cy="5151240"/>
          </a:xfrm>
          <a:prstGeom prst="rect">
            <a:avLst/>
          </a:prstGeom>
          <a:ln w="0">
            <a:noFill/>
          </a:ln>
        </p:spPr>
      </p:pic>
      <p:pic>
        <p:nvPicPr>
          <p:cNvPr id="222" name="Объект 11" descr=""/>
          <p:cNvPicPr/>
          <p:nvPr/>
        </p:nvPicPr>
        <p:blipFill>
          <a:blip r:embed="rId2"/>
          <a:stretch/>
        </p:blipFill>
        <p:spPr>
          <a:xfrm>
            <a:off x="396720" y="152280"/>
            <a:ext cx="85885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542880" y="274680"/>
            <a:ext cx="7918560" cy="20048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323640" y="1988640"/>
            <a:ext cx="856908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- Быть нужным и полезным близким людям и своей стране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- Жить в экологически чистом государстве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- Привить интерес к истории нашего государства своим младшим братьям  и сестрам.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69800" y="79200"/>
            <a:ext cx="8131320" cy="17431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179280" y="155736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8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d79ca"/>
                </a:solidFill>
                <a:latin typeface="AdverGothic"/>
              </a:rPr>
              <a:t>Помогаю близким в работе и домашних делах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8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d79ca"/>
                </a:solidFill>
                <a:latin typeface="AdverGothic"/>
              </a:rPr>
              <a:t>Берегу природу (или не берегу), не загрязняю окружающую среду (или загрязняю), или мне все равно при какой экологии жить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8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d79ca"/>
                </a:solidFill>
                <a:latin typeface="AdverGothic"/>
              </a:rPr>
              <a:t>Изучаю различные науки в школе (историю, литературу, географию и биологию).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828720" y="281160"/>
            <a:ext cx="7918560" cy="1346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324000" y="162864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- Меня уважают сверстники за умение прийти на помощь;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- Я никогда не бросаю на землю не разлагающиеся материалы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У меня хорошие оценки по естественным наукам;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Я еще очень мало достиг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324000" y="365040"/>
            <a:ext cx="8485200" cy="17496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324000" y="2133360"/>
            <a:ext cx="842472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79ca"/>
                </a:solidFill>
                <a:latin typeface="AdverGothic"/>
              </a:rPr>
              <a:t>Развивать в себе то, что еще не развили из предложенного или что-то свое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95280" y="2133360"/>
            <a:ext cx="7345440" cy="33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20636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GBenguiatCyr-Bold"/>
              </a:rPr>
              <a:t>Социальная деятельность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901800" y="3273480"/>
            <a:ext cx="7772400" cy="2878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042560" y="764640"/>
            <a:ext cx="7201080" cy="2265480"/>
          </a:xfrm>
          <a:prstGeom prst="rect">
            <a:avLst/>
          </a:prstGeom>
          <a:solidFill>
            <a:srgbClr val="b8c2e9"/>
          </a:solidFill>
          <a:ln w="0">
            <a:noFill/>
          </a:ln>
        </p:spPr>
        <p:txBody>
          <a:bodyPr anchor="t">
            <a:normAutofit/>
          </a:bodyPr>
          <a:p>
            <a:pPr lvl="4" marL="120636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AdverGothicCTT"/>
              </a:rPr>
              <a:t>Социальная деятельность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Объект 6" descr=""/>
          <p:cNvPicPr/>
          <p:nvPr/>
        </p:nvPicPr>
        <p:blipFill>
          <a:blip r:embed="rId1"/>
          <a:stretch/>
        </p:blipFill>
        <p:spPr>
          <a:xfrm>
            <a:off x="109440" y="12600"/>
            <a:ext cx="8821800" cy="680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324000" y="133200"/>
            <a:ext cx="8643960" cy="20005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323640" y="2060280"/>
            <a:ext cx="85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Быть приятным в общении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Зарабатывать хорошую зарплату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249120" y="165240"/>
            <a:ext cx="8656920" cy="16509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324000" y="1557360"/>
            <a:ext cx="8496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- Беру пример достойного культурного общения у порядочных людей;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- Развиваю навыки трудовой деятельности (посещаю кружок…);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Изучаю иностранные языки;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Изучаю ПК.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1" descr=""/>
          <p:cNvPicPr/>
          <p:nvPr/>
        </p:nvPicPr>
        <p:blipFill>
          <a:blip r:embed="rId1"/>
          <a:stretch/>
        </p:blipFill>
        <p:spPr>
          <a:xfrm>
            <a:off x="324000" y="212760"/>
            <a:ext cx="8496000" cy="1244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324000" y="119664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Сверстники любят общаться со мной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Я овладел (указать каким) мастерством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Я имею хорошие оценки по иностранному языку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Я без труда пользуюсь ПК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Мне еще многому стоит научиться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84360" y="1197000"/>
            <a:ext cx="77752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spcBef>
                <a:spcPts val="1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1" lang="ru-RU" sz="5400" spc="-1" strike="noStrike">
                <a:solidFill>
                  <a:srgbClr val="23735d"/>
                </a:solidFill>
                <a:latin typeface="AGBenguiatCyr-Bold"/>
              </a:rPr>
              <a:t>Спортивно – оздоровительная деятельность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Заголовок 1" descr=""/>
          <p:cNvPicPr/>
          <p:nvPr/>
        </p:nvPicPr>
        <p:blipFill>
          <a:blip r:embed="rId1"/>
          <a:stretch/>
        </p:blipFill>
        <p:spPr>
          <a:xfrm>
            <a:off x="249120" y="365040"/>
            <a:ext cx="8523360" cy="17496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324000" y="2060280"/>
            <a:ext cx="842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79ca"/>
                </a:solidFill>
                <a:latin typeface="AdverGothic"/>
              </a:rPr>
              <a:t>Сформировать в себе те навыки, которые еще не сформированы (из предложенных или другие)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Заголовок 1" descr=""/>
          <p:cNvPicPr/>
          <p:nvPr/>
        </p:nvPicPr>
        <p:blipFill>
          <a:blip r:embed="rId1"/>
          <a:stretch/>
        </p:blipFill>
        <p:spPr>
          <a:xfrm>
            <a:off x="682560" y="1809720"/>
            <a:ext cx="845496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Заголовок 1" descr=""/>
          <p:cNvPicPr/>
          <p:nvPr/>
        </p:nvPicPr>
        <p:blipFill>
          <a:blip r:embed="rId1"/>
          <a:stretch/>
        </p:blipFill>
        <p:spPr>
          <a:xfrm>
            <a:off x="828720" y="3011400"/>
            <a:ext cx="7729560" cy="34084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971640" y="731880"/>
            <a:ext cx="7345440" cy="1976400"/>
          </a:xfrm>
          <a:prstGeom prst="rect">
            <a:avLst/>
          </a:prstGeom>
          <a:solidFill>
            <a:srgbClr val="f9b3a7"/>
          </a:solidFill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AdverGothicCTT"/>
              </a:rPr>
              <a:t>Общекультурная деятельность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396720" y="347760"/>
            <a:ext cx="8064720" cy="1425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250560" y="1628280"/>
            <a:ext cx="856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79ca"/>
                </a:solidFill>
                <a:latin typeface="AdverGothic"/>
              </a:rPr>
              <a:t>- Хочу в будущем овладеть интересной профессией …;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79ca"/>
                </a:solidFill>
                <a:latin typeface="AdverGothic"/>
              </a:rPr>
              <a:t>- Свой вариант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755640" y="133200"/>
            <a:ext cx="784548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250920" y="2349000"/>
            <a:ext cx="86421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79ca"/>
                </a:solidFill>
                <a:latin typeface="AdverGothic"/>
              </a:rPr>
              <a:t>- Применить свои знания, умения и навыки во благо себе и своей семье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396720" y="225360"/>
            <a:ext cx="8277480" cy="17431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324000" y="1844280"/>
            <a:ext cx="8712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Развиваю творческие способности, занимаясь шитьем, вышиванием, деланием чего-либо;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Принимаю участие во всех школьных мероприятиях, связанных с моим любимым делом (указать).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396720" y="281160"/>
            <a:ext cx="8423280" cy="12664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323640" y="1413000"/>
            <a:ext cx="856908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Я регулярно участвую во всех школьных мероприятиях;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Я выполняю в классе</a:t>
            </a:r>
            <a:r>
              <a:rPr b="0" lang="en-US" sz="38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поручение (указать какое);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Я прочитал много о (указать какой) профессии;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Я достиг еще очень мало. 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542880" y="365040"/>
            <a:ext cx="8448840" cy="17496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324000" y="1988640"/>
            <a:ext cx="8496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79ca"/>
                </a:solidFill>
                <a:latin typeface="AdverGothic"/>
              </a:rPr>
              <a:t>Заняться определенным видом деятельности (указать), который необходим мне для будущей профессии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1060560" y="3297240"/>
            <a:ext cx="7315200" cy="3414600"/>
          </a:xfrm>
          <a:prstGeom prst="rect">
            <a:avLst/>
          </a:prstGeom>
          <a:ln w="0">
            <a:noFill/>
          </a:ln>
        </p:spPr>
      </p:pic>
      <p:pic>
        <p:nvPicPr>
          <p:cNvPr id="225" name="Объект 3" descr=""/>
          <p:cNvPicPr/>
          <p:nvPr/>
        </p:nvPicPr>
        <p:blipFill>
          <a:blip r:embed="rId2"/>
          <a:stretch/>
        </p:blipFill>
        <p:spPr>
          <a:xfrm>
            <a:off x="969840" y="590400"/>
            <a:ext cx="716292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Объект 6" descr=""/>
          <p:cNvPicPr/>
          <p:nvPr/>
        </p:nvPicPr>
        <p:blipFill>
          <a:blip r:embed="rId1"/>
          <a:stretch/>
        </p:blipFill>
        <p:spPr>
          <a:xfrm>
            <a:off x="109440" y="-36360"/>
            <a:ext cx="878544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682560" y="-12600"/>
            <a:ext cx="7693200" cy="2006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250560" y="177336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70c0"/>
                </a:solidFill>
                <a:latin typeface="AdverGothic"/>
              </a:rPr>
              <a:t>- Я должен укреплять иммунитет, отказавшись от вредных привычек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70c0"/>
                </a:solidFill>
                <a:latin typeface="AdverGothic"/>
              </a:rPr>
              <a:t>- Укрепить мышцы, дыхательную и пищеварительную системы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70c0"/>
                </a:solidFill>
                <a:latin typeface="AdverGothic"/>
              </a:rPr>
              <a:t>- Свободно выполнять физическую нагрузку по возрасту; 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-6480" y="1395360"/>
            <a:ext cx="8974440" cy="5353200"/>
          </a:xfrm>
          <a:prstGeom prst="rect">
            <a:avLst/>
          </a:prstGeom>
          <a:ln w="0">
            <a:noFill/>
          </a:ln>
        </p:spPr>
      </p:pic>
      <p:pic>
        <p:nvPicPr>
          <p:cNvPr id="231" name="Объект 2" descr=""/>
          <p:cNvPicPr/>
          <p:nvPr/>
        </p:nvPicPr>
        <p:blipFill>
          <a:blip r:embed="rId2"/>
          <a:stretch/>
        </p:blipFill>
        <p:spPr>
          <a:xfrm>
            <a:off x="-542880" y="96840"/>
            <a:ext cx="86868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dverGothic"/>
              </a:rPr>
              <a:t>- У меня отличная оценка   по физкультуре;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dverGothic"/>
              </a:rPr>
              <a:t>- Я легко могу пробежать большое расстояние;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dverGothic"/>
              </a:rPr>
              <a:t>- Я сдаю все нормативы по возрасту;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dverGothic"/>
              </a:rPr>
              <a:t>- Мое тело имеет спортивный вид (или нет).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Объект 2" descr=""/>
          <p:cNvPicPr/>
          <p:nvPr/>
        </p:nvPicPr>
        <p:blipFill>
          <a:blip r:embed="rId1"/>
          <a:stretch/>
        </p:blipFill>
        <p:spPr>
          <a:xfrm>
            <a:off x="469800" y="281160"/>
            <a:ext cx="842508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4920" y="1844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70c0"/>
                </a:solidFill>
                <a:latin typeface="AdverGothic"/>
              </a:rPr>
              <a:t>Поставьте перед собой ту цель, которую еще не достигли</a:t>
            </a:r>
            <a:br>
              <a:rPr sz="4600"/>
            </a:br>
            <a:r>
              <a:rPr b="0" lang="ru-RU" sz="4600" spc="-1" strike="noStrike">
                <a:solidFill>
                  <a:srgbClr val="0070c0"/>
                </a:solidFill>
                <a:latin typeface="AdverGothic"/>
              </a:rPr>
              <a:t>(можно выбрать из вышеперечисленных).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Объект 2" descr=""/>
          <p:cNvPicPr/>
          <p:nvPr/>
        </p:nvPicPr>
        <p:blipFill>
          <a:blip r:embed="rId1"/>
          <a:stretch/>
        </p:blipFill>
        <p:spPr>
          <a:xfrm>
            <a:off x="176040" y="6480"/>
            <a:ext cx="879192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5:58:25Z</dcterms:created>
  <dc:creator>Admin</dc:creator>
  <dc:description/>
  <dc:language>en-US</dc:language>
  <cp:lastModifiedBy>Admin</cp:lastModifiedBy>
  <dcterms:modified xsi:type="dcterms:W3CDTF">2012-02-04T20:42:12Z</dcterms:modified>
  <cp:revision>49</cp:revision>
  <dc:subject/>
  <dc:title>Спортивно – оздоровительная деятельность</dc:title>
</cp:coreProperties>
</file>