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1444-78F8-43C4-B576-5956E6AA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705-4513-43EE-B3F7-BE5A14F3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309-C664-47B6-93C8-949665DC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F25-8A7D-4C60-8EB1-DC71203E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3B8-9A30-4C3D-B23C-E7D387BB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5FA1-2A3F-4946-A4EF-29FD7B6D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824-01B1-4EE8-A1A1-C91990BF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F79-2EFF-4F70-8AAF-328FBB6F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DB75-07E1-44D8-9BCB-AF1B9A66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3A09-0498-4C1A-AFEC-D7F2CD94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574-DDA2-413D-91A3-8F614978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B61-C978-4640-9F71-17F80670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A053-F87D-4E78-A763-849BBBA8E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c_colier/ph04949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detfond.org/images/publications/classic/big/48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proshkolu.ru/content/media/pic/std/1000000/719000/718954-038e5a6ce8cc01ed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g.4pk.ru/320x10000/images/17/3423717.jp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hepsiburada.net/assets/Kitap/500/kwordsworth08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13/sudarinya2009.0/0_361a_6f83e276_XL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m-painting.ru/plugins/p19_image_design/images/2585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66640" y="500040"/>
            <a:ext cx="8186760" cy="310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Критический реализм в литерату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Calibri"/>
              </a:rPr>
              <a:t>Джузеппе Верд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го опера «Травиата» раскрывает сложный внутренний мир герои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рители неоднозначно приняли 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йчас опера звучит на всех сценах ми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-main-pic" descr="Картинка 5 из 2905"/>
          <p:cNvPicPr/>
          <p:nvPr/>
        </p:nvPicPr>
        <p:blipFill>
          <a:blip r:embed="rId1"/>
          <a:stretch/>
        </p:blipFill>
        <p:spPr>
          <a:xfrm>
            <a:off x="457200" y="1600200"/>
            <a:ext cx="4191120" cy="4495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Клод Дебюсс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ыступил новатором музыкального искусства под впечатлением импрессионист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Его произведения создают мимолетные образы и ощущени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-main-pic" descr="Картинка 1 из 6563"/>
          <p:cNvPicPr/>
          <p:nvPr/>
        </p:nvPicPr>
        <p:blipFill>
          <a:blip r:embed="rId1"/>
          <a:stretch/>
        </p:blipFill>
        <p:spPr>
          <a:xfrm>
            <a:off x="4800600" y="152388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-main-pic" descr="Картинка 5 из 1217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0492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i-main-pic" descr="Картинка 19 из 286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228600"/>
            <a:ext cx="335304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i-main-pic" descr="Картинка 4 из 1108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124080"/>
            <a:ext cx="4572000" cy="3029040"/>
          </a:xfrm>
          <a:prstGeom prst="rect">
            <a:avLst/>
          </a:prstGeom>
          <a:ln w="0">
            <a:noFill/>
          </a:ln>
        </p:spPr>
      </p:pic>
      <p:pic>
        <p:nvPicPr>
          <p:cNvPr id="47" name="i-main-pic" descr="Картинка 11 из 64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24280" y="3124080"/>
            <a:ext cx="4419720" cy="3733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арлз Диккен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" descr="Чарльз Диккенс (Charles Dickens)"/>
          <p:cNvPicPr/>
          <p:nvPr/>
        </p:nvPicPr>
        <p:blipFill>
          <a:blip r:embed="rId1"/>
          <a:stretch/>
        </p:blipFill>
        <p:spPr>
          <a:xfrm>
            <a:off x="457200" y="1447920"/>
            <a:ext cx="3429000" cy="4724280"/>
          </a:xfrm>
          <a:prstGeom prst="rect">
            <a:avLst/>
          </a:prstGeom>
          <a:ln w="0">
            <a:noFill/>
          </a:ln>
        </p:spPr>
      </p:pic>
      <p:pic>
        <p:nvPicPr>
          <p:cNvPr id="51" name="i-main-pic" descr="Картинка 5 из 3945">
            <a:hlinkClick r:id="rId2"/>
          </p:cNvPr>
          <p:cNvPicPr/>
          <p:nvPr/>
        </p:nvPicPr>
        <p:blipFill>
          <a:blip r:embed="rId3"/>
          <a:srcRect l="20969" t="6667" r="20969" b="7778"/>
          <a:stretch/>
        </p:blipFill>
        <p:spPr>
          <a:xfrm>
            <a:off x="4114800" y="609480"/>
            <a:ext cx="4648320" cy="5867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Arial Black"/>
              </a:rPr>
              <a:t>Искусство 19 века</a:t>
            </a:r>
            <a:br>
              <a:rPr sz="6600"/>
            </a:br>
            <a:r>
              <a:rPr b="1" lang="ru-RU" sz="6600" spc="-1" strike="noStrike">
                <a:solidFill>
                  <a:srgbClr val="002060"/>
                </a:solidFill>
                <a:latin typeface="Arial Black"/>
              </a:rPr>
              <a:t>импрессиониз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мпрессионистов объединяло стремление запечатлеть изменчивость красоты окружающего мира. Они вышли на природу и передавали то, что видит гла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сюда и названи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ression 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печатл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i-main-pic" descr="Картинка 41 из 60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743200"/>
            <a:ext cx="3809880" cy="3276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http://images.km.ru/education/referats/img/6214_76.jpg"/>
          <p:cNvPicPr/>
          <p:nvPr/>
        </p:nvPicPr>
        <p:blipFill>
          <a:blip r:embed="rId3"/>
          <a:stretch/>
        </p:blipFill>
        <p:spPr>
          <a:xfrm>
            <a:off x="4724280" y="2743200"/>
            <a:ext cx="4191120" cy="3276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7656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инсент Ван Го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Ваза с циния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-main-pic" descr="Картинка 19 из 22604">
            <a:hlinkClick r:id="rId1"/>
          </p:cNvPr>
          <p:cNvPicPr/>
          <p:nvPr/>
        </p:nvPicPr>
        <p:blipFill>
          <a:blip r:embed="rId2"/>
          <a:srcRect l="0" t="22111" r="0" b="2211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миль Писса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64371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Склон Жале. Понтуа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http://images.km.ru/education/referats/img/6214_77.jpg"/>
          <p:cNvPicPr/>
          <p:nvPr/>
        </p:nvPicPr>
        <p:blipFill>
          <a:blip r:embed="rId1"/>
          <a:srcRect l="0" t="881" r="0" b="881"/>
          <a:stretch/>
        </p:blipFill>
        <p:spPr>
          <a:xfrm>
            <a:off x="1219320" y="612720"/>
            <a:ext cx="655308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libri"/>
              </a:rPr>
              <a:t>Музы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встрийский композитор Франц Шубер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здавал песни, балла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Лесной царь» – повесть о всаднике, который мчится с больным ребенком через недобрый сказочный ле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i-main-pic" descr="Картинка 8 из 760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648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277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Фредерик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Шопен-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«король мазуро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3429000"/>
            <a:ext cx="34290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як, надеялся, что его музыка поможет родному народу добиться независим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-main-pic" descr="Картинка 1 из 95933"/>
          <p:cNvPicPr/>
          <p:nvPr/>
        </p:nvPicPr>
        <p:blipFill>
          <a:blip r:embed="rId1"/>
          <a:stretch/>
        </p:blipFill>
        <p:spPr>
          <a:xfrm>
            <a:off x="4759200" y="685800"/>
            <a:ext cx="3927600" cy="5410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2:40:14Z</dcterms:created>
  <dc:creator>User</dc:creator>
  <dc:description/>
  <dc:language>en-US</dc:language>
  <cp:lastModifiedBy>User</cp:lastModifiedBy>
  <dcterms:modified xsi:type="dcterms:W3CDTF">2011-09-12T17:24:30Z</dcterms:modified>
  <cp:revision>16</cp:revision>
  <dc:subject/>
  <dc:title>Литература и искусство Европы XIX века</dc:title>
</cp:coreProperties>
</file>