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B553-9CDE-46B8-BCDB-1209B621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8D9-1BCC-4B87-A903-E71A57BB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0C6-63AE-4EA7-95F7-6D9A88C0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827-B6AA-44FC-997A-A00B8142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2142-3473-40B8-9918-B6DB3F3A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E85-B8AD-413E-A19A-D46D3673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918-E78A-44E9-8B53-87D980EA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C427-FCE6-46D0-89AE-59740AC6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45B-8772-4771-95A5-44B24018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0A83-398F-4880-A441-3DDA6AD0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8354-5150-4F34-8A90-586E3883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C0C-7D25-402F-86FD-56B5822A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821B-63EA-483A-9FE4-DA3AF96BA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c_colier/ph04949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detfond.org/images/publications/classic/big/48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proshkolu.ru/content/media/pic/std/1000000/719000/718954-038e5a6ce8cc01ed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g.4pk.ru/320x10000/images/17/3423717.jp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s.hepsiburada.net/assets/Kitap/500/kwordsworth08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13/sudarinya2009.0/0_361a_6f83e276_XL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m-painting.ru/plugins/p19_image_design/images/2585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66640" y="500040"/>
            <a:ext cx="8186760" cy="310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Критический реализм в литерату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Calibri"/>
              </a:rPr>
              <a:t>Джузеппе Верд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го опера «Травиата» раскрывает сложный внутренний мир герои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рители неоднозначно приняли 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йчас опера звучит на всех сценах ми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i-main-pic" descr="Картинка 5 из 2905"/>
          <p:cNvPicPr/>
          <p:nvPr/>
        </p:nvPicPr>
        <p:blipFill>
          <a:blip r:embed="rId1"/>
          <a:stretch/>
        </p:blipFill>
        <p:spPr>
          <a:xfrm>
            <a:off x="457200" y="1600200"/>
            <a:ext cx="4191120" cy="4495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Клод Дебюсс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ыступил новатором музыкального искусства под впечатлением импрессионист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Его произведения создают мимолетные образы и ощущени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-main-pic" descr="Картинка 1 из 6563"/>
          <p:cNvPicPr/>
          <p:nvPr/>
        </p:nvPicPr>
        <p:blipFill>
          <a:blip r:embed="rId1"/>
          <a:stretch/>
        </p:blipFill>
        <p:spPr>
          <a:xfrm>
            <a:off x="4800600" y="152388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-main-pic" descr="Картинка 5 из 1217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0492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i-main-pic" descr="Картинка 19 из 286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228600"/>
            <a:ext cx="3353040" cy="2590920"/>
          </a:xfrm>
          <a:prstGeom prst="rect">
            <a:avLst/>
          </a:prstGeom>
          <a:ln w="0">
            <a:noFill/>
          </a:ln>
        </p:spPr>
      </p:pic>
      <p:pic>
        <p:nvPicPr>
          <p:cNvPr id="46" name="i-main-pic" descr="Картинка 4 из 1108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124080"/>
            <a:ext cx="4572000" cy="3029040"/>
          </a:xfrm>
          <a:prstGeom prst="rect">
            <a:avLst/>
          </a:prstGeom>
          <a:ln w="0">
            <a:noFill/>
          </a:ln>
        </p:spPr>
      </p:pic>
      <p:pic>
        <p:nvPicPr>
          <p:cNvPr id="47" name="i-main-pic" descr="Картинка 11 из 64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24280" y="3124080"/>
            <a:ext cx="4419720" cy="3733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арлз Диккен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" descr="Чарльз Диккенс (Charles Dickens)"/>
          <p:cNvPicPr/>
          <p:nvPr/>
        </p:nvPicPr>
        <p:blipFill>
          <a:blip r:embed="rId1"/>
          <a:stretch/>
        </p:blipFill>
        <p:spPr>
          <a:xfrm>
            <a:off x="457200" y="1447920"/>
            <a:ext cx="3429000" cy="4724280"/>
          </a:xfrm>
          <a:prstGeom prst="rect">
            <a:avLst/>
          </a:prstGeom>
          <a:ln w="0">
            <a:noFill/>
          </a:ln>
        </p:spPr>
      </p:pic>
      <p:pic>
        <p:nvPicPr>
          <p:cNvPr id="51" name="i-main-pic" descr="Картинка 5 из 3945">
            <a:hlinkClick r:id="rId2"/>
          </p:cNvPr>
          <p:cNvPicPr/>
          <p:nvPr/>
        </p:nvPicPr>
        <p:blipFill>
          <a:blip r:embed="rId3"/>
          <a:srcRect l="20969" t="6667" r="20969" b="7778"/>
          <a:stretch/>
        </p:blipFill>
        <p:spPr>
          <a:xfrm>
            <a:off x="4114800" y="609480"/>
            <a:ext cx="4648320" cy="5867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Arial Black"/>
              </a:rPr>
              <a:t>Искусство 19 века</a:t>
            </a:r>
            <a:br>
              <a:rPr sz="6600"/>
            </a:br>
            <a:r>
              <a:rPr b="1" lang="ru-RU" sz="6600" spc="-1" strike="noStrike">
                <a:solidFill>
                  <a:srgbClr val="002060"/>
                </a:solidFill>
                <a:latin typeface="Arial Black"/>
              </a:rPr>
              <a:t>импрессионизм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мпрессионистов объединяло стремление запечатлеть изменчивость красоты окружающего мира. Они вышли на природу и передавали то, что видит гла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сюда и названи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ression 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печатл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i-main-pic" descr="Картинка 41 из 60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743200"/>
            <a:ext cx="3809880" cy="3276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http://images.km.ru/education/referats/img/6214_76.jpg"/>
          <p:cNvPicPr/>
          <p:nvPr/>
        </p:nvPicPr>
        <p:blipFill>
          <a:blip r:embed="rId3"/>
          <a:stretch/>
        </p:blipFill>
        <p:spPr>
          <a:xfrm>
            <a:off x="4724280" y="2743200"/>
            <a:ext cx="4191120" cy="32767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7656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инсент Ван Го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Ваза с циния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-main-pic" descr="Картинка 19 из 22604">
            <a:hlinkClick r:id="rId1"/>
          </p:cNvPr>
          <p:cNvPicPr/>
          <p:nvPr/>
        </p:nvPicPr>
        <p:blipFill>
          <a:blip r:embed="rId2"/>
          <a:srcRect l="0" t="22111" r="0" b="2211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миль Писса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643716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Склон Жале. Понтуа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http://images.km.ru/education/referats/img/6214_77.jpg"/>
          <p:cNvPicPr/>
          <p:nvPr/>
        </p:nvPicPr>
        <p:blipFill>
          <a:blip r:embed="rId1"/>
          <a:srcRect l="0" t="881" r="0" b="881"/>
          <a:stretch/>
        </p:blipFill>
        <p:spPr>
          <a:xfrm>
            <a:off x="1219320" y="612720"/>
            <a:ext cx="655308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libri"/>
              </a:rPr>
              <a:t>Музы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встрийский композитор Франц Шубер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здавал песни, балла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Лесной царь» – повесть о всаднике, который мчится с больным ребенком через недобрый сказочный ле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i-main-pic" descr="Картинка 8 из 760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648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277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Фредерик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Шопен-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«король мазурок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3429000"/>
            <a:ext cx="34290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як, надеялся, что его музыка поможет родному народу добиться независим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-main-pic" descr="Картинка 1 из 95933"/>
          <p:cNvPicPr/>
          <p:nvPr/>
        </p:nvPicPr>
        <p:blipFill>
          <a:blip r:embed="rId1"/>
          <a:stretch/>
        </p:blipFill>
        <p:spPr>
          <a:xfrm>
            <a:off x="4759200" y="685800"/>
            <a:ext cx="3927600" cy="5410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2:40:14Z</dcterms:created>
  <dc:creator>User</dc:creator>
  <dc:description/>
  <dc:language>en-US</dc:language>
  <cp:lastModifiedBy>User</cp:lastModifiedBy>
  <dcterms:modified xsi:type="dcterms:W3CDTF">2011-09-12T17:24:30Z</dcterms:modified>
  <cp:revision>16</cp:revision>
  <dc:subject/>
  <dc:title>Литература и искусство Европы XIX века</dc:title>
</cp:coreProperties>
</file>