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DEF-A7C8-433A-9A15-81F14EF7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E61-5522-4660-B0A0-2B18E4E4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C47-617C-48C1-80BA-B60B64B8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841-3AB8-44FD-9AF0-305E58D6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87F-92BF-40C3-BD3E-3CB71CF1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866-FC0E-4E4D-A866-7981589B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C4D-17E2-4A30-AF73-1AE175DC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2FC-4CBA-441B-AB37-F8D606CB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CE2-E432-4B55-A146-8FC4BF1B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FD0-80B2-4A89-9A68-C829A668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4AD-D135-4123-9BA8-0DA3F9E0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211-AC63-4CFB-9BFB-5EDC51B2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4284-9A68-4E6F-BC4B-1508F2AE5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colier/ph04949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detfond.org/images/publications/classic/big/48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roshkolu.ru/content/media/pic/std/1000000/719000/718954-038e5a6ce8cc01ed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g.4pk.ru/320x10000/images/17/3423717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hepsiburada.net/assets/Kitap/500/kwordsworth08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3/sudarinya2009.0/0_361a_6f83e276_XL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m-painting.ru/plugins/p19_image_design/images/2585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66640" y="500040"/>
            <a:ext cx="8186760" cy="310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ритический реализм в литерату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Джузеппе Верд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го опера «Травиата» раскрывает сложный внутренний мир герои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рители неоднозначно приняли 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йчас опера звучит на всех сценах ми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-main-pic" descr="Картинка 5 из 2905"/>
          <p:cNvPicPr/>
          <p:nvPr/>
        </p:nvPicPr>
        <p:blipFill>
          <a:blip r:embed="rId1"/>
          <a:stretch/>
        </p:blipFill>
        <p:spPr>
          <a:xfrm>
            <a:off x="457200" y="160020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Клод Дебюсс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ступил новатором музыкального искусства под впечатлением импрессионис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Его произведения создают мимолетные образы и ощуще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-main-pic" descr="Картинка 1 из 6563"/>
          <p:cNvPicPr/>
          <p:nvPr/>
        </p:nvPicPr>
        <p:blipFill>
          <a:blip r:embed="rId1"/>
          <a:stretch/>
        </p:blipFill>
        <p:spPr>
          <a:xfrm>
            <a:off x="4800600" y="15238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-main-pic" descr="Картинка 5 из 121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i-main-pic" descr="Картинка 19 из 28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228600"/>
            <a:ext cx="33530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i-main-pic" descr="Картинка 4 из 1108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124080"/>
            <a:ext cx="457200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i-main-pic" descr="Картинка 11 из 64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12408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арлз Диккен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" descr="Чарльз Диккенс (Charles Dickens)"/>
          <p:cNvPicPr/>
          <p:nvPr/>
        </p:nvPicPr>
        <p:blipFill>
          <a:blip r:embed="rId1"/>
          <a:stretch/>
        </p:blipFill>
        <p:spPr>
          <a:xfrm>
            <a:off x="457200" y="1447920"/>
            <a:ext cx="3429000" cy="4724280"/>
          </a:xfrm>
          <a:prstGeom prst="rect">
            <a:avLst/>
          </a:prstGeom>
          <a:ln w="0">
            <a:noFill/>
          </a:ln>
        </p:spPr>
      </p:pic>
      <p:pic>
        <p:nvPicPr>
          <p:cNvPr id="51" name="i-main-pic" descr="Картинка 5 из 3945">
            <a:hlinkClick r:id="rId2"/>
          </p:cNvPr>
          <p:cNvPicPr/>
          <p:nvPr/>
        </p:nvPicPr>
        <p:blipFill>
          <a:blip r:embed="rId3"/>
          <a:srcRect l="20969" t="6667" r="20969" b="7778"/>
          <a:stretch/>
        </p:blipFill>
        <p:spPr>
          <a:xfrm>
            <a:off x="4114800" y="609480"/>
            <a:ext cx="4648320" cy="5867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Arial Black"/>
              </a:rPr>
              <a:t>Искусство 19 века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Arial Black"/>
              </a:rPr>
              <a:t>импрессиониз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прессионистов объединяло стремление запечатлеть изменчивость красоты окружающего мира. Они вышли на природу и передавали то, что видит гла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юда и названи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ression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печат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-main-pic" descr="Картинка 41 из 60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74320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images.km.ru/education/referats/img/6214_76.jpg"/>
          <p:cNvPicPr/>
          <p:nvPr/>
        </p:nvPicPr>
        <p:blipFill>
          <a:blip r:embed="rId3"/>
          <a:stretch/>
        </p:blipFill>
        <p:spPr>
          <a:xfrm>
            <a:off x="4724280" y="2743200"/>
            <a:ext cx="4191120" cy="3276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765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нсент Ван Г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Ваза с циния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-main-pic" descr="Картинка 19 из 22604">
            <a:hlinkClick r:id="rId1"/>
          </p:cNvPr>
          <p:cNvPicPr/>
          <p:nvPr/>
        </p:nvPicPr>
        <p:blipFill>
          <a:blip r:embed="rId2"/>
          <a:srcRect l="0" t="22111" r="0" b="2211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миль Писса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64371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Склон Жале. Понтуа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http://images.km.ru/education/referats/img/6214_77.jpg"/>
          <p:cNvPicPr/>
          <p:nvPr/>
        </p:nvPicPr>
        <p:blipFill>
          <a:blip r:embed="rId1"/>
          <a:srcRect l="0" t="881" r="0" b="881"/>
          <a:stretch/>
        </p:blipFill>
        <p:spPr>
          <a:xfrm>
            <a:off x="1219320" y="612720"/>
            <a:ext cx="65530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"/>
              </a:rPr>
              <a:t>Музы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стрийский композитор Франц Шубер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вал песни, балл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Лесной царь» – повесть о всаднике, который мчится с больным ребенком через недобрый сказочный ле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-main-pic" descr="Картинка 8 из 760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7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Фредерик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Шопен-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«король мазур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34290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як, надеялся, что его музыка поможет родному народу добиться независим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-main-pic" descr="Картинка 1 из 95933"/>
          <p:cNvPicPr/>
          <p:nvPr/>
        </p:nvPicPr>
        <p:blipFill>
          <a:blip r:embed="rId1"/>
          <a:stretch/>
        </p:blipFill>
        <p:spPr>
          <a:xfrm>
            <a:off x="4759200" y="685800"/>
            <a:ext cx="392760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40:14Z</dcterms:created>
  <dc:creator>User</dc:creator>
  <dc:description/>
  <dc:language>en-US</dc:language>
  <cp:lastModifiedBy>User</cp:lastModifiedBy>
  <dcterms:modified xsi:type="dcterms:W3CDTF">2011-09-12T17:24:30Z</dcterms:modified>
  <cp:revision>16</cp:revision>
  <dc:subject/>
  <dc:title>Литература и искусство Европы XIX века</dc:title>
</cp:coreProperties>
</file>