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CC116-6DA6-4A0A-937B-87070A80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9748-C0F8-432F-BAD2-86826D1D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C627-45AC-4E36-B204-46757548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49AD-F790-4982-9C33-52EFA634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B803-104C-44E8-BB86-E4934605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B876-7C29-41A3-BA52-0AD4959E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3788-DAA7-4EB8-9524-B4E0BADA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D3E0-B41B-4B43-9AA8-2922775C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9B68-34A7-4CDD-9616-E6630D30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496D-D731-4E39-8419-E39871A9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1D88-7920-469E-9940-CE286083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C081C-1A90-4A2D-B494-6309B31B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62C2-33F6-420E-A7E3-91052501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51FE-3DD4-45A0-AF3F-AA0F5773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DCB7-E253-4749-943F-E0BE527B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0884-866B-4879-9BB7-627F4E38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2CE4-2B31-4B84-ABE1-060C3CAA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56C54-58D4-4342-A357-61D974F6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F7045-ABDC-40F1-BF0C-BB3EEF8B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875A-4C31-40EB-8905-D681F7A0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ED8D-F0C3-4785-B03F-79E6AEB0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68AFD-6A31-4430-98C1-45D641A6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9E186-0EB0-4C6F-A1DF-41DA23C5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46B3-FEAC-46EF-A956-1B8CFAF7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FBDD-310C-4EF1-B41B-D13891B777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9FBD-DC0B-45AD-9662-3E91621053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484360" y="3213000"/>
            <a:ext cx="4032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е функции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иметр прямоугольника равен 60см. Какую длину должны иметь стороны прямоугольника, чтобы площадь была наибольш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арабол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найдите точку,       ближайшую  к точке А(2; 0,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«Недостаточно лишь понять задачу, необходимо желание решить ее. Без сильного желания  решить  трудную задачу  невозможно,  но  при  наличии такового  возможно.  Где  есть желание, найдется пут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йа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ние производной к нахождению наибольших и наименьших значений функций, к решению простейших прикладных задач «на экстремум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ебраического смыс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метрического смы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Идея функциональной зависимости в чистом виде выступает в тот момент, когда появляется алгебраическая формула или «алгебраическое выражение»»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убнов Я.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я задана своим графиком. Укажите наибольшее и наименьшее значение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5229360"/>
            <a:ext cx="764388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 4 и 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4 и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 и 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 и 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22560" y="1989000"/>
            <a:ext cx="33876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=5-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-1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 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Найдите наименьшее значение фун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= 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x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отрезке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716360" y="1916280"/>
                <a:ext cx="1511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71640" y="4075920"/>
            <a:ext cx="726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-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 -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такого значения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Какая из функций имеет максиму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47280" y="2707920"/>
            <a:ext cx="713916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2x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508720" y="2637000"/>
                <a:ext cx="8636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843280" y="3933720"/>
                <a:ext cx="792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каз «Много ли человеку земли нужно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крестьянине Пахоме, покупавшем землю у башкир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цена какая будет?- говорит Пах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Цена у нас одна: 1000 рублей за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понял Па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Какая же это мера – день? Сколько в ней десятин буд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Мы этого, - говорит, - не умеем считать. А мы за день продаем; сколько обойдешь в день, то и твое, а цена 1000 руб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дивился Па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Да ведь это, - говорит,  -в день обойти земли много буд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смеялся старш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Вся твоя, - говорит. – Только один уговор: если назад не придешь в день к тому месту, с какого возьмешься, пропали твои день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А как же, - говорит, - отметить , где я прой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А мы встанем на место, где ты облюбуешь; мы стоять будем, а ты иди, делай круг, а с собой скребку возьми и, где надобно, замечай, на углах ямки рой, дернички клади; потом с ямки на ямку плугом пройдем. Какой хочешь круг забирай, только до захода солнца приходи к тому месту, с какого взялся. Что обойдешь, все тв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гура, которая получилась у  Пахома имеет 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00360" y="5589360"/>
            <a:ext cx="345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это за фигу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96960" y="1981080"/>
            <a:ext cx="40053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1:04:55Z</dcterms:created>
  <dc:creator>Kabinet_16</dc:creator>
  <dc:description/>
  <dc:language>en-US</dc:language>
  <cp:lastModifiedBy>Kabinet_16</cp:lastModifiedBy>
  <dcterms:modified xsi:type="dcterms:W3CDTF">2007-11-09T11:57:24Z</dcterms:modified>
  <cp:revision>4</cp:revision>
  <dc:subject/>
  <dc:title>Слайд 1</dc:title>
</cp:coreProperties>
</file>