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8D75B-608A-4E05-B572-639651063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7AF79-7DD7-407B-ADC2-91634DD37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F0E11-B308-4642-8962-1D74A932E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53A72-D499-412D-BE7C-A2E599065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C3AAB-DE79-4360-950D-528D3A772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C721E-1AF1-41E7-B5F6-898D47A15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B55E7-7AD0-4B41-B861-5F8E4F935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C5F84-C6EA-4906-86E2-D3E07EA79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71DB0-A119-4FD7-B10E-50A84A8BA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917B1-0A27-4ED6-9364-4AEBE2D1D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559B9-F640-454D-A09F-A17C0E920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63BF2-214C-4BD2-B5DD-B0C455154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E9F74-CBAB-40FC-AB92-38F2F8EE4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718E2-CEBC-4424-BE86-2F23BB1A0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B5288-7A6D-4CEC-A985-719728DFD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F2B08-D6E7-4022-A0D8-6FF7A16C6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C89AC-A2B4-4C95-AD67-1548BCD3D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3A2F1-8E31-4E33-B5AA-CEE30D3E7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BBFB7-6489-4A55-92D1-A434B1937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19158-FA51-4F52-B414-9312C87A1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46039-F929-4092-A0ED-267F72CB1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7DFEA-E909-4DEA-B15E-A1CD440BC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A1EF4-38AF-4AF1-B604-560001A38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C6AD0-B298-479E-BCD0-308E5BCE5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0C84E-E492-49CF-8C8F-A17EA7E5EA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04619-6052-42FD-9FBD-175D9BD353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2484360" y="3213000"/>
            <a:ext cx="403236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начение функции</a:t>
            </a: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дач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иметр прямоугольника равен 60см. Какую длину должны иметь стороны прямоугольника, чтобы площадь была наибольш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дач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параболе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найдите точку,       ближайшую  к точке А(2; 0,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«Недостаточно лишь понять задачу, необходимо желание решить ее. Без сильного желания  решить  трудную задачу  невозможно,  но  при  наличии такового  возможно.  Где  есть желание, найдется путь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йа 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Цель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менение производной к нахождению наибольших и наименьших значений функций, к решению простейших прикладных задач «на экстремум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лгебраического смысл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еометрического смыс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Идея функциональной зависимости в чистом виде выступает в тот момент, когда появляется алгебраическая формула или «алгебраическое выражение»».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убнов Я.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ункция задана своим графиком. Укажите наибольшее и наименьшее значение функ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42560" y="5229360"/>
            <a:ext cx="764388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  4 и -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4 и 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3 и -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3 и -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022560" y="1989000"/>
            <a:ext cx="338760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йдите наибольшее значение функции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=5-х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414972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 -1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8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 4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Найдите наименьшее значение функци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= 3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 x 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на отрезке                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4716360" y="1916280"/>
                <a:ext cx="151128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971640" y="4075920"/>
            <a:ext cx="7262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 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-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 -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такого значения 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Какая из функций имеет максиму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47280" y="2707920"/>
            <a:ext cx="7139160" cy="31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=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=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= 2x-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5508720" y="2637000"/>
                <a:ext cx="86364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х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2843280" y="3933720"/>
                <a:ext cx="79200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х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ссказ «Много ли человеку земли нужно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 крестьянине Пахоме, покупавшем землю у башкирце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 цена какая будет?- говорит Пах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Цена у нас одна: 1000 рублей за де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е понял Пах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Какая же это мера – день? Сколько в ней десятин буде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Мы этого, - говорит, - не умеем считать. А мы за день продаем; сколько обойдешь в день, то и твое, а цена 1000 руб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дивился Пах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Да ведь это, - говорит,  -в день обойти земли много буд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асмеялся старш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Вся твоя, - говорит. – Только один уговор: если назад не придешь в день к тому месту, с какого возьмешься, пропали твои деньг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А как же, - говорит, - отметить , где я пройд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А мы встанем на место, где ты облюбуешь; мы стоять будем, а ты иди, делай круг, а с собой скребку возьми и, где надобно, замечай, на углах ямки рой, дернички клади; потом с ямки на ямку плугом пройдем. Какой хочешь круг забирай, только до захода солнца приходи к тому месту, с какого взялся. Что обойдешь, все тв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.Н. Толст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игура, которая получилась у  Пахома имеет вид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700360" y="5589360"/>
            <a:ext cx="3456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то это за фигур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496960" y="1981080"/>
            <a:ext cx="4005360" cy="31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1T11:04:55Z</dcterms:created>
  <dc:creator>Kabinet_16</dc:creator>
  <dc:description/>
  <dc:language>en-US</dc:language>
  <cp:lastModifiedBy>Kabinet_16</cp:lastModifiedBy>
  <dcterms:modified xsi:type="dcterms:W3CDTF">2007-11-09T11:57:24Z</dcterms:modified>
  <cp:revision>4</cp:revision>
  <dc:subject/>
  <dc:title>Слайд 1</dc:title>
</cp:coreProperties>
</file>