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BCAD4-4AF4-4A67-B95B-0B08E32B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EE3BB-CCAA-4D71-A321-87D5C8F7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CFAC4-D9D8-4B00-BA80-E9F011CF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4B6A7-BF87-4ABC-8D09-40C94ACB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EFF7-C683-4B28-9EF5-18EF2540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5423-0897-481B-8CC8-6C404689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4152-DF13-4268-8B0A-7E578613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3AEC-8804-44F5-A890-51AA9EB1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7DF6-3CEE-499B-908E-247E1F37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5087-80DF-406A-972A-1230FD5F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1A20-E060-456B-AEDC-D4A42273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21FB5-761D-4573-8BAF-5EC36B6E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6412-FEE1-43D6-89A6-FDC4F493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C6FF-2BF7-4E55-8EDD-E887A1EC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E8E9-CFCE-4AB9-AA6E-E6636BF5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84D3-BC52-4EEA-843A-9F30BB12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298F-8349-4B9A-A2AC-57B621AE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09380-4426-4996-B090-3AC37CB7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EA529-C503-4711-8D46-746BE639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AB540-A45B-457A-AAD8-88F17562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1BB81-9D9C-4827-A1C4-BD1F427B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90D04-2117-457F-ACAB-EB8AAE42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FE4D0-1DC5-453E-923C-03ECA10C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1ABDE-FA81-42EB-957F-C6879207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6F57-D395-4C0D-A213-D34867FEF0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12D9-994C-404B-BDB9-B6366C17C6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484360" y="3213000"/>
            <a:ext cx="4032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чение функции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иметр прямоугольника равен 60см. Какую длину должны иметь стороны прямоугольника, чтобы площадь была наибольш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арабол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найдите точку,       ближайшую  к точке А(2; 0,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«Недостаточно лишь понять задачу, необходимо желание решить ее. Без сильного желания  решить  трудную задачу  невозможно,  но  при  наличии такового  возможно.  Где  есть желание, найдется пут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йа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нение производной к нахождению наибольших и наименьших значений функций, к решению простейших прикладных задач «на экстремум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ебраического смыс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ометрического смы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Идея функциональной зависимости в чистом виде выступает в тот момент, когда появляется алгебраическая формула или «алгебраическое выражение»»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убнов Я.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ия задана своим графиком. Укажите наибольшее и наименьшее значение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560" y="5229360"/>
            <a:ext cx="764388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 4 и 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4 и 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3 и 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3 и 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22560" y="1989000"/>
            <a:ext cx="33876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наибольшее значение функции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=5-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 -1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 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Найдите наименьшее значение функ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= 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x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отрезке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716360" y="1916280"/>
                <a:ext cx="1511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71640" y="4075920"/>
            <a:ext cx="726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 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-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 -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такого значения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Какая из функций имеет максиму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47280" y="2707920"/>
            <a:ext cx="713916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2x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508720" y="2637000"/>
                <a:ext cx="8636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843280" y="3933720"/>
                <a:ext cx="792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каз «Много ли человеку земли нужно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крестьянине Пахоме, покупавшем землю у башкир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 цена какая будет?- говорит Пах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Цена у нас одна: 1000 рублей за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 понял Пах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Какая же это мера – день? Сколько в ней десятин буд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Мы этого, - говорит, - не умеем считать. А мы за день продаем; сколько обойдешь в день, то и твое, а цена 1000 руб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дивился Пах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Да ведь это, - говорит,  -в день обойти земли много буд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смеялся старш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Вся твоя, - говорит. – Только один уговор: если назад не придешь в день к тому месту, с какого возьмешься, пропали твои день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А как же, - говорит, - отметить , где я прой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А мы встанем на место, где ты облюбуешь; мы стоять будем, а ты иди, делай круг, а с собой скребку возьми и, где надобно, замечай, на углах ямки рой, дернички клади; потом с ямки на ямку плугом пройдем. Какой хочешь круг забирай, только до захода солнца приходи к тому месту, с какого взялся. Что обойдешь, все тв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гура, которая получилась у  Пахома имеет в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700360" y="5589360"/>
            <a:ext cx="345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это за фигу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96960" y="1981080"/>
            <a:ext cx="400536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1:04:55Z</dcterms:created>
  <dc:creator>Kabinet_16</dc:creator>
  <dc:description/>
  <dc:language>en-US</dc:language>
  <cp:lastModifiedBy>Kabinet_16</cp:lastModifiedBy>
  <dcterms:modified xsi:type="dcterms:W3CDTF">2007-11-09T11:57:24Z</dcterms:modified>
  <cp:revision>4</cp:revision>
  <dc:subject/>
  <dc:title>Слайд 1</dc:title>
</cp:coreProperties>
</file>