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F09-6746-4ACA-8C77-E0352952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AC2-53C4-4F2D-81F0-116368B8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BD2-2A6B-4422-802A-1547293E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067-3108-492D-B2DA-2F15EC5D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4A0B-C292-46E5-87B4-F8BA7FF9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3FE7-7182-4E9D-B0B9-6CA4F46A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C2A1-3E73-49BA-8099-60BB6DE1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0DAE-8E6F-4D06-88DB-28F44406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4827-51D6-49F1-829E-E60F9DE5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8BEB-EC75-4F8D-A694-B1E87B07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1CA3-4969-4AFE-93B8-AB25D2BE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D2B-C67B-4901-8FD9-D50FB9CC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490F-0A60-4539-8089-050BF498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941B-2D4B-4E37-86D0-A068B2BA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1A0B-E828-4681-8A77-70671036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CC51-FFEC-45EB-8F57-AE920BB7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83F9-8677-4538-A11A-A7BF8F62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2B2-1D91-42CC-A2BC-42671ED2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8F8-480E-4379-9C21-356A1661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4DC-B0B4-46E6-8AEE-69E279E8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7F5-0B0E-4673-B2A0-84DDF105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2BC-F8B1-4ED9-A5CF-131FE17E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CBA-6CE3-47E6-93A2-D356E984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E14-2BA1-4D6C-8E9A-8A062B48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9444-CF23-4BB3-AE47-F800D92DA46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B042-3FAD-4A7B-A65A-6BA78BF5770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§ 58. Экологические группы млекопитающих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слоно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массивная голова и короткая шея компенсируются длинным подвижным хоботом. Хищные звери имеют не такие длинные ноги, как растительноядные. Однако сравнительно длинные ноги у хищников, преследующих добычу быстрым бегом, например у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вол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гепар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а относительно короткие конечности у хищников, подстерегающих добычу, например у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льва, тигра, рыс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Прыгающие наземны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млекопитающие, например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заяц, тушканчик, кенгур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имеют сильные и длинные задние конечности и укороченные, более слабые перед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кенгуру слабые передние ноги потеряли свое значение опоры при прыжках. Зато развит длинный хвост, который при медленном движении животного играет роль дополнительной опоры, а при больших прыжках – балансира и ру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Наземно-древесны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млекопитающие, живущие в лесах, связаны с древесно-кустарниковой растительностью. Они устраивают гнезда на деревьях, а кормятся как на земле, так и на деревьях. У этих зверей вытянутое, сильное и гибкое тело, укороченные конечности, вооруженные острыми когтя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 этой группе относятся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лесная куница, соболь, белка, бурунду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У многих мелких наземно-древесных видов хорошо развит хвост с длинными остистыми волосками, что способствует планирующим прыжкам. У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летяг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о бокам тела развита кожистая складка, улучшающая ее планирующие способ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одзем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лекопитающие приспособлены к роющему образу жизни. Почти все время они проводят под землей, редко появляясь на поверх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ло землероев короткое, вальковатое, шейный отдел не заметен, хвост редуцирован. Мех короткий, густой, без ворса, ноги короткие с сильной мускулатурой и большими когтями. Ушные раковины редуцирова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рение плохо развито, а у некоторых подземных зверьков глаза скрыты под кожей. Хорошо развиты у землероев обоняние и осязание.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ро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роет землю сильными, вывернутыми наружу лопатообразными передними конечностями и выталкивает землю на поверхность головой.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лепыш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роет землю крупными, выдающимися вперед резц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етающие млекопитающие в полной мере освоили воздушную среду. К этой группе относятся представители отряда рукокрыл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дние конечности у летучих мышей превратились в длинные и гибкие крылья, в которых натянута перепонка между сильно вытянутыми костями кисти передней конечности, туловищем, задней конечностью и даже хвост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У быстро летающих зверьков, например у рыжей вечерницы, крылья длинные и узкие; у медленно летающих ушанов – широкие и тупы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В связи с полетом сильно развиты грудные мышцы, которые, как и у птиц, прикрепляются к килю грудины. Летучие мыши не только добывают насекомых в воздухе, но, как и птицы, совершают сезонные миграции: на зимовку улетают в теплые райо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У всех рукокрылых хорошо развиты ушные раковины: они улавливают отраженные от предметов издаваемые в полете зверьками ультразвуки, которые помогают ориентироваться и даже в темноте находить добыч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ми общими чертами обладают представители отряда приматов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зовите семейства отряда приматов (см. рис. 218). Какие черты этих животных указывают на их высокую организацию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Водные и околоводны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млекопитающие. Типичными из них, полностью утратившими связь с землей являются китообразные. Тело их приобрело обтекаемую рыбообразную форму, голова сливается с туловищем, шейный отдел отсутствует. Основным органом движения служит хвостовой плавник, расположенный (в отличие от рыб) в горизонтальной плоск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дние конечности, видоизмененные в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ласт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выполняют роль рулей. Задние конечности редуцированы полностью, исчезли ушные раковины, закрыт наружный слуховой проход, носовые отверстия закрываются клапанами, отсутствует шерстный покр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орошо развит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подкожный жи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обеспечивающий теплоизоляцию. В связи с питанием планктонными организмами у усатых китов исчезли зубы и развился особый цедильный аппарат, состоящий из большого числа роговых пласт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ьшую часть жизни проводят в воде ластоногие. Однако они не утратили связи с сушей: выходят на лежбища в период размно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ластоногих две пары ластов, принимающих участие в движении в воде. Шерстный покров редуцирован, хотя детеныши рождаются покрытыми густым мехом. Термоизолирующую роль выполняет толстый слой подкожного жи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сть млекопитающие, которые ведут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полуводны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образ жизни. Они принадлежат к различным систематическим группам, используют разную пищу, но имеют общие черты в связи с полуводным образом жизни. Их конечности снабжены плавательными перепонками, функцию руля в воде выполняет хвост. Шерстный покров хорошо развит, имеет густой теплый подшерсто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 шерстью зверьки, ведущие полуводный образ жизни, тщательно ухаживают: разбирают, расчесывают, смазывают жирным секретом кожных желез. К млекопитающим, ведущим полуводный образ жизни, принадлежат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утконос, выхухоль, бобр, выдра, ондатр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 др. В воде они прекрасно плавают и ныряют, свободно перемещаются по суше, хотя в скорости заметно уступают типичным наземным звер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воды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реди представителей одной и той же экологической группы зверей (наземной, роющей, водной, летающей) есть виды из разных отрядов и семейств. Однако они обладают сходными адаптивными (приспособительными) чертами к одинаковым условиям обит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16000" y="1128600"/>
            <a:ext cx="720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зовите черты сходства представителей семейства человекообразных обезьян с людь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лекопитающие приспособились к жизни в наземной, почвенной, водной и воздушной средах обитания (см. также § 2). В различных природно-климатических зонах они населяют леса, луга, степи, пустыни. Живут по берегам водоемов, в реках, озерах, морях и океанах. Некоторые освоили воздушную среду, многие ведут роющий образ жизн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лекопитающие образовали несколько экологических групп с характерными чертами строения, жизнедеятельности, поведения (рис. 219). (Определение термина "экологическая группа" см. в очерке об экологических группах птиц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417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Типично наземны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млекопитающие населяют леса и открытые пространства. Они имеют пропорционально сложенное сильное тело, хорошо развитую мускулистую шею, высокие конечности. Передвигаются ходьбой, бегом и прыганьем. Наиболее ярко признаки группы проявляются у быстробегающих звер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реди наземных зверей много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растительноядны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идов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олени, лошади, антилоп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Это травоядные животные. Особые приспособления имеют млекопитающие, которые кормятся ветками и листьями деревьев. Особенно длинная шея развита у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жираф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Это позволяет ему не только срывать листья, недоступные другим наземным животным, но и обеспечивать себе хороший обзор мест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4:41:36Z</dcterms:created>
  <dc:creator>54</dc:creator>
  <dc:description/>
  <dc:language>en-US</dc:language>
  <cp:lastModifiedBy>54</cp:lastModifiedBy>
  <dcterms:modified xsi:type="dcterms:W3CDTF">2012-05-03T14:41:56Z</dcterms:modified>
  <cp:revision>1</cp:revision>
  <dc:subject/>
  <dc:title>§ 58. Экологические группы млекопитающих </dc:title>
</cp:coreProperties>
</file>