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CBF-00DE-48F6-B430-2114C31E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950-96A1-4C28-90AB-D817DE36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A92-C485-463E-8C6B-046C475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0A9-9D15-488A-8582-FBD0BCD5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7CA3-1C66-471B-8056-CFDC8AF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FFE2-7F3E-44F2-A026-C0BEB93D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2072-1A79-4F4D-90E4-C57BC64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8C62-8612-4A50-986B-66AC9CF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6D4-03D4-4D1F-8F84-1F226523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1AAF-AFD5-4131-9545-113AEA4A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3E45-44F5-47F8-8C20-9BFF74A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233-892D-4377-8006-85DAD123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311E-14C2-4774-A87B-F4C83E47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AFF6-AC61-4107-860C-74049E7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03C3-7A1C-4984-91F4-0E41107D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402C-9A71-4E31-8F43-67F88754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3E54-A66A-4123-86F9-A09787AD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BBB-27FE-4CC6-9C2D-351E04D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9F8-0DCF-435D-9371-F216F447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1F5-6AE6-4136-BDEE-70A4BAD2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7B3-0346-4105-B9D3-591DCFBC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DA0-3050-4909-AB87-8314FE4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8E1-5AA1-4761-BDC3-840919A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C4F-C1A0-4288-803D-5E3FE66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55A4-86AA-43A7-8CCF-F7D803D948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6B3-05B0-480D-B736-F34E357528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§ 58. Экологические группы млекопитающих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лон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ассивная голова и короткая шея компенсируются длинным подвижным хоботом. Хищные звери имеют не такие длинные ноги, как растительноядные. Однако сравнительно длинные ноги у хищников, преследующих добычу быстрым бегом, например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ол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гепар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а относительно короткие конечности у хищников, подстерегающих добычу, например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ьва, тигра, ры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рыгающие назем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лекопитающие, например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заяц, тушканчик, кенгур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имеют сильные и длинные задние конечности и укороченные, более слабые перед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кенгуру слабые передние ноги потеряли свое значение опоры при прыжках. Зато развит длинный хвост, который при медленном движении животного играет роль дополнительной опоры, а при больших прыжках – балансира и ру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Наземно-древес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, живущие в лесах, связаны с древесно-кустарниковой растительностью. Они устраивают гнезда на деревьях, а кормятся как на земле, так и на деревьях. У этих зверей вытянутое, сильное и гибкое тело, укороченные конечности, вооруженные острыми когт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этой группе относятс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есная куница, соболь, белка, бурунду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 многих мелких наземно-древесных видов хорошо развит хвост с длинными остистыми волосками, что способствует планирующим прыжкам.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етяг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 бокам тела развита кожистая складка, улучшающая ее планирующие 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лекопитающие приспособлены к роющему образу жизни. Почти все время они проводят под землей, редко появляясь на поверх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о землероев короткое, вальковатое, шейный отдел не заметен, хвост редуцирован. Мех короткий, густой, без ворса, ноги короткие с сильной мускулатурой и большими когтями. Ушные раковины редуциров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рение плохо развито, а у некоторых подземных зверьков глаза скрыты под кожей. Хорошо развиты у землероев обоняние и осязание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р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ет землю сильными, вывернутыми наружу лопатообразными передними конечностями и выталкивает землю на поверхность головой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лепыш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ет землю крупными, выдающимися вперед резц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етающие млекопитающие в полной мере освоили воздушную среду. К этой группе относятся представители отряда рукокрыл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ние конечности у летучих мышей превратились в длинные и гибкие крылья, в которых натянута перепонка между сильно вытянутыми костями кисти передней конечности, туловищем, задней конечностью и даже хвост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быстро летающих зверьков, например у рыжей вечерницы, крылья длинные и узкие; у медленно летающих ушанов – широкие и туп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 связи с полетом сильно развиты грудные мышцы, которые, как и у птиц, прикрепляются к килю грудины. Летучие мыши не только добывают насекомых в воздухе, но, как и птицы, совершают сезонные миграции: на зимовку улетают в теплые райо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всех рукокрылых хорошо развиты ушные раковины: они улавливают отраженные от предметов издаваемые в полете зверьками ультразвуки, которые помогают ориентироваться и даже в темноте находить добыч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и общими чертами обладают представители отряда приматов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овите семейства отряда приматов (см. рис. 218). Какие черты этих животных указывают на их высокую организацию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одные и околовод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. Типичными из них, полностью утратившими связь с землей являются китообразные. Тело их приобрело обтекаемую рыбообразную форму, голова сливается с туловищем, шейный отдел отсутствует. Основным органом движения служит хвостовой плавник, расположенный (в отличие от рыб) в горизонтальной плоск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ние конечности, видоизмененные в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ласт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выполняют роль рулей. Задние конечности редуцированы полностью, исчезли ушные раковины, закрыт наружный слуховой проход, носовые отверстия закрываются клапанами, отсутствует шерстный покр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орошо развит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дкожный жи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обеспечивающий теплоизоляцию. В связи с питанием планктонными организмами у усатых китов исчезли зубы и развился особый цедильный аппарат, состоящий из большого числа роговых пласт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ую часть жизни проводят в воде ластоногие. Однако они не утратили связи с сушей: выходят на лежбища в период размн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ластоногих две пары ластов, принимающих участие в движении в воде. Шерстный покров редуцирован, хотя детеныши рождаются покрытыми густым мехом. Термоизолирующую роль выполняет толстый слой подкожного жи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ть млекопитающие, которые ведут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олувод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браз жизни. Они принадлежат к различным систематическим группам, используют разную пищу, но имеют общие черты в связи с полуводным образом жизни. Их конечности снабжены плавательными перепонками, функцию руля в воде выполняет хвост. Шерстный покров хорошо развит, имеет густой теплый подшерсто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 шерстью зверьки, ведущие полуводный образ жизни, тщательно ухаживают: разбирают, расчесывают, смазывают жирным секретом кожных желез. К млекопитающим, ведущим полуводный образ жизни, принадлежа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тконос, выхухоль, бобр, выдра, ондат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. В воде они прекрасно плавают и ныряют, свободно перемещаются по суше, хотя в скорости заметно уступают типичным наземным звер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и представителей одной и той же экологической группы зверей (наземной, роющей, водной, летающей) есть виды из разных отрядов и семейств. Однако они обладают сходными адаптивными (приспособительными) чертами к одинаковым условиям обит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128600"/>
            <a:ext cx="720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овите черты сходства представителей семейства человекообразных обезьян с людь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лекопитающие приспособились к жизни в наземной, почвенной, водной и воздушной средах обитания (см. также § 2). В различных природно-климатических зонах они населяют леса, луга, степи, пустыни. Живут по берегам водоемов, в реках, озерах, морях и океанах. Некоторые освоили воздушную среду, многие ведут роющий образ жизн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лекопитающие образовали несколько экологических групп с характерными чертами строения, жизнедеятельности, поведения (рис. 219). (Определение термина "экологическая группа" см. в очерке об экологических группах птиц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Типично назем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 населяют леса и открытые пространства. Они имеют пропорционально сложенное сильное тело, хорошо развитую мускулистую шею, высокие конечности. Передвигаются ходьбой, бегом и прыганьем. Наиболее ярко признаки группы проявляются у быстробегающих звер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еди наземных зверей много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растительнояд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идов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лени, лошади, антилоп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Это травоядные животные. Особые приспособления имеют млекопитающие, которые кормятся ветками и листьями деревьев. Особенно длинная шея развита у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жираф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Это позволяет ему не только срывать листья, недоступные другим наземным животным, но и обеспечивать себе хороший обзор мест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4:41:36Z</dcterms:created>
  <dc:creator>54</dc:creator>
  <dc:description/>
  <dc:language>en-US</dc:language>
  <cp:lastModifiedBy>54</cp:lastModifiedBy>
  <dcterms:modified xsi:type="dcterms:W3CDTF">2012-05-03T14:41:56Z</dcterms:modified>
  <cp:revision>1</cp:revision>
  <dc:subject/>
  <dc:title>§ 58. Экологические группы млекопитающих </dc:title>
</cp:coreProperties>
</file>