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1CF-78E2-472F-9743-3765D5BB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9D4-08F1-4B31-A6A8-636B2089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583-60EB-4E81-A9E2-E0B2B0CE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7F0-FD79-46CE-AFFB-80AA3FFF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05C4-F673-4306-8ABD-65431713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9561-71DF-45AA-8E42-E566FB08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60E1-7EBA-4FB2-85EF-8A9E5BEA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B794-5522-4554-BF5D-F237B226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1892-4489-4B1E-95C4-9F9BFB9B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2848-48BB-47D5-B7E9-29B27169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C65C-B5D7-4D67-95DB-615CE76F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C6A-752A-40C8-9B1D-3BBE72CF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5136-66F5-42C3-988B-FC8838E4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5F7D-4229-4F95-A954-AABD62D5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4B39-5F7A-41A6-8605-0A927AB4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857A-03E6-411F-9443-75D98360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39DA-E1B7-487D-9B68-067948EE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A48-3EBC-4ECE-A1EA-89E9FC6A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A0E-2B9E-4528-8B59-D95236B0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637-E421-453F-B013-B01C6DD8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342-D5D0-4EAB-A9C4-3E6F31CB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108-C7CA-4BB8-BCBB-81385DFB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0A0-79A3-4E29-9952-3FF6CBED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786-DC2A-49C7-BAB6-EE7C4869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6E8A-79F5-40E7-AA0B-74FA92E5D7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BC78-B78C-40A0-AA19-F08AB077A5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Онтогенез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Семерня Лидия Михайло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нтогенез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нтогенез 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ндивидуальное развитие организма, с момента образования зиготы до смер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личают два основных типа онтогенеза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ямой и непрямо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При прямом развитии рождающийся организм в основном сходен со взрослым, а стадия метаморфоза отсутствует. При непрямом развитии образуется личинка, отличающаяся от взрослого организма внешним и внутренним строением, а также по характеру питания, способу передвижения и ряду других особенностей. Во взрослую особь личинка превращается в результате метаморфоза. Непрямое развитие дает организмам значительные преимущества. Непрямое развитие встречается в личиночной форме, прямое - в неличиночной и внутриутробной. Непрямой (личиночный) тип развития проходят многие виды беспозвоночных и некоторые позвоночные животные (рыбы, земноводные). У них в процессе развития формируются одна или несколько личиночных стад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ямой неличиночный (яйцекладный) тип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развития встречается у ряда беспозвоночных, а также у рыб, пресмыкающихся, птиц и некоторых млекопитающих, яйца которых богаты желтком. При этом зародыш длительное время развивается внутри яй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ямой внутриутробный тип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развития характерен для высших млекопитающих и человека, яйцеклетки которых почти лишены желтка. Все жизненные функции зародыша осуществляются через материнский организм. Для этого из тканей матери и зародыша развивается плацента. Завершается этот тип развития процессом деторо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мбриональное развит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Эмбриональное развитие (эмбриогенез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чинается с момента оплодотворения, представляет собой процесс преобразования зиготы в многоклеточный организм и завершается выходом из яйцевых (зародышевых) оболочек (при личиночном и неличиночном типах развития) либо рождением (при внутриутробном).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Эмбриогенез включает процессы дробления, гаструляции, гисто- и органогенез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робл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ряд последовательных митотических делений зиготы, в результате которых происходит образование бластомеров. Образовавшиеся бластомеры не увеличиваются в размерах. В процессе дробления суммарный объем зародыша не изменяется, а размеры составляющих его клеток уменьшаются. В результате ряда дроблений образуется бласту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ластул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многоклеточный шаровидный зародыш с однослойной стенкой и полостью внутри. Бластула образуется в результате бластуляции, когда бластомеры смещаются к периферии, образуя бластодерму, образующаяся при этом внутренняя полость заполняется жидкостью и становится первичной полостью тела - бластоцелью. После образования бластулы начинается процесс гаструля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мбриональное развит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струляция - это процесс образования двух- или трехслойного зародыша - гаструлы. Она образуется в результате перемещения клеток бластодермы. Образующиеся слои называют зародышевыми листками. Наружный слой клеток называется эктодермой, внутренний - энтодермой, слой клеток между ними называется мезодермой. Каждый из зародышевых листков дает начало тем или иным орга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исто – и органогене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сто- и органогенез - формирование тканей и органов зародыша в результате дифференцировки клеток и зародышевых лист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эктодер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ся: нервная система, эпидермис кожи и его производные (роговые чешуи, перья и волосы, зуб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зодер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ется мускулатура, скелет, выделительная, половая и кровеносная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энтодер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ся пищеварительная система и ее железы (печень, поджелудочная железа), дыхательная систе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стэмбриональное развит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стэмбриональное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зародышевое) развитие начинается с момента рождения (при внутриутробном развитии зародыша у млекопитающих) или с момента выхода организма из яйцевых оболочек и продолжается вплоть до смерти живого организма. Постэмбриональное развитие сопровождается ростом. При этом он может быть ограничен определенным сроком или длиться в течение все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стадии индивидуального развития любого организма подвержены влиянию факторов внешней среды. Огромное влияние на развитие организма оказывает среда, в которой он формируется. Температура, свет, влажность, разнообразные химические вещества (ядохимикаты, алкоголь, никотин, ряд лекарственных препаратов и др.) могут нарушать нормальный ход онтогенеза и приводить к формированию различных заболе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иогенетический зако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 пределах типа эмбрионы, начиная с самых ранних стадий, обнаруживают известное общее сход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л Б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Индивидуальное развитие ос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 онтогенез) до определённой степени повторяет историческое развитие вида(филогенез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 которому относится данная особ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. Мюллер, Э.Гекк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иогенетический зако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 пределах типа эмбрионы, начиная с самых ранних стадий, обнаруживают известное общее сход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л Б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Индивидуальное развитие ос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 онтогенез) до определённой степени повторяет историческое развитие вида(филогенез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 которому относится данная особ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. Мюллер, Э.Гекк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иогенетический зако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Индивидуальное развитие ос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 онтогенез) до определённой степени повторяет историческое развитие вида(филогенез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 которому относится данная особ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. Мюллер, Э.Гекк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кон зародышевого развит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 пределах типа эмбрионы, начиная с самых ранних стадий, обнаруживают известное общее сход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л Б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33003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ножение организм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нож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способность живых организмов воспроизводить себе подобных, обеспечивая непрерывность и преемственность жизни в ряду поко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ды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спо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сходит без образования гамет и в нем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частвует лишь один организ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Идентичное потомство, происходящее от одной родительской особи, называю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л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полое размножение эволюционно сложилось раньше полового. Его значение - увеличение численности вида, при помощи митотического деления. Все потомки имеют генотип, идентичный материнскому, что не сопровождается повышением генетического разнообр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ды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дит при слиянии двух гамет особей одного вида - родителей, в результате которого осуществля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ъединение генетической информации в наследственном материале потом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значение полового размножения заключается не только в самовоспроизведении особей, но и в обеспечении биологического разнообразия видов, их адаптивных возможностей и эволюционных перспектив. Это делает половое размножение биологически более прогрессивным, чем бесполо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бесполого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ление.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лением размножаются одноклеточные организмы: каждая особь делится на две или большее число дочерних клеток, идентичных родительской клетке. Делению клетки предшествует репликация ДНК, а у эукариот - также деление ядра. В большинстве случаев происходит бинарное деление, при котором образуются две идентичные дочерние клетки. Так делятся бактерии, многие простейшие (амеба, парамеция), одноклеточные водоросли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таком делении вслед за рядом делений клеточного ядра происходит деление самой клетки на множество дочерних клеток. Наблюдается у споровиков - группы простейших. Стадия, на которой происходит множественное деление, называется шизонтом, а сам этот процесс - шизогония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бразование спор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пора - это одноклеточная репродуктивная единица обычно микроскопических размеров, (споруляция) состоящая из небольшого количества цитоплазмы и ядра, покрытая плотной оболочкой и устойчивая к действиям неблагоприятных факторов внешней среды. Споры служат для размножения, расселения и переживания неблагоприятных условий. Существуют и половые споры - зооспоры; они участвуют в половом размножении, иногда выполняют функцию гамет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бесполого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чковани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чкованием называют одну из форм полового размножения, при которой новая особь образуется в виде выроста (почки) на теле родительской особи, а затем отделяется от нее, превращаясь в самостоятельный организм, совершенно идентичный родительскому. Например, у кишечнополостных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рагментаци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тся разделение особи на две и несколько частей, каждая из которых растет и образует новую особь. Основу фрагментации составляет способность организма к регенерации - восстановлению утраченных частей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егетативное размножени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егетативном размножении от растения отделяется относительно большая, обычно дифференцированная, часть и развивается в самостоятельное растение. Нередко растения образуют структуры, специально предназначенные для этой цели: луковицы, клубнелуковицы, корневища, столоны и клубни. Некоторые из этих структур служат для запасания питательных веществ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ды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дит при слиянии двух гамет особей одного вида - родителей, в результате которого осуществля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ъединение генетической информации в наследственном материале потом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значение полового размножения заключается не только в самовоспроизведении особей, но и в обеспечении биологического разнообразия видов, их адаптивных возможностей и эволюционных перспектив. Это делает половое размножение биологически более прогрессивным, чем бесполо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дии полового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вое размножение характерно для подавляющего большинства живых существ. Оно складывается из 4 основных процес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Гаметогенез - образование половых клеток (гаме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Оплодотворение - слияние гамет и образование зиг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Эмбриогенез - дробление зиготы и формирование зародыш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Постэмбриональный период - рост и развитие организма в послезародышевый пери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лодотвор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лодотво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роцесс слияния мужской и женской половых клеток (гамет), в результате которого образуется оплодотворенная яйцеклетка (зигота). То есть из двух гаплоидных гамет образуется одна диплоидная клетка (зиго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ружное оплодотворени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гда половые клетки сливаются вне организма, 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нутренн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 половые клетки сливаются внутри половых путей особи;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екрестное оплодотвор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 объединяются половые клетки разных особей;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амооплодотвор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и слиянии гамет, продуцируемых одним и тем же организмом; моноспермия и полиспермия в зависимости от числа сперматозоидов, оплодотворяющих одну яйцекле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04:11:56Z</dcterms:created>
  <dc:creator>Лидия Михайловна</dc:creator>
  <dc:description/>
  <dc:language>en-US</dc:language>
  <cp:lastModifiedBy>Коля</cp:lastModifiedBy>
  <dcterms:modified xsi:type="dcterms:W3CDTF">2013-05-17T21:34:01Z</dcterms:modified>
  <cp:revision>7</cp:revision>
  <dc:subject/>
  <dc:title>Онтогенез</dc:title>
</cp:coreProperties>
</file>