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CB9-E1AD-45CA-920A-F9EFC9CA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E46-4E36-4775-BB0B-C74BC62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9B8-8712-4F2C-B82B-BC3A9DE1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C9F-004E-4979-9997-E84E3E5F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395C-4ED0-41C3-9651-DEB8EC0E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58C-6012-42C6-8490-B6CC47A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A7D5-9413-48FE-874A-0CB2FBB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3D8-17E5-405F-A402-BCBBA28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190-DFAD-44B2-8018-FF604437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62B-8B1D-433F-A3F8-74D38A1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BF57-E164-4268-A49C-D4AA69B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3CD-9977-4982-ADC2-5734F45C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054-2CC3-4890-9E35-92EC877D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FC1-04D9-4A05-A604-7E7AE56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4F27-015D-490C-BF86-B80A7A7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6F4-84AA-4288-9655-8C95F53A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468A-C062-400A-A0EB-0F3BD5C5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BF1-F3B7-4CDD-8AD2-A209BBB4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CF2-D3D2-4D53-AFD0-5CACB2F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DFB-C786-4F3E-B2EA-203730B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D92-CBE7-4033-8B6D-3397D643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905-F8B2-42C5-8EE4-92544EE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B1E-6F3E-4B8E-9B3C-B112370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F62-953D-49BE-B92F-CFE61DF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0FA5-00B3-4623-97AF-9554B5FF33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13B1-372B-4558-9B8F-A68CCE3F26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нтогенез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Семерня Лидия Михайл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генез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нтогенез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ндивидуальное развитие организма, с момента образования зиготы до смер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личают два основных типа онтогенеза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и непрям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При прямом развитии рождающийся организм в основном сходен со взрослым, а стадия метаморфоза отсутствует. При непрямом развитии образуется личинка, отличающаяся от взрослого организма внешним и внутренним строением, а также по характеру питания, способу передвижения и ряду других особенностей. Во взрослую особь личинка превращается в результате метаморфоза. Непрямое развитие дает организмам значительные преимущества. Непрямое развитие встречается в личиночной форме, прямое - в неличиночной и внутриутробной. Непрямой (личиночный) тип развития проходят многие виды беспозвоночных и некоторые позвоночные животные (рыбы, земноводные). У них в процессе развития формируются одна или несколько личиночных стад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неличиночный (яйцекладный)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встречается у ряда беспозвоночных, а также у рыб, пресмыкающихся, птиц и некоторых млекопитающих, яйца которых богаты желтком. При этом зародыш длительное время развивается внутри яй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внутриутробный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характерен для высших млекопитающих и человека, яйцеклетки которых почти лишены желтка. Все жизненные функции зародыша осуществляются через материнский организм. Для этого из тканей матери и зародыша развивается плацента. Завершается этот тип развития процессом деторо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нальное развитие (эмбриогенез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чинается с момента оплодотворения, представляет собой процесс преобразования зиготы в многоклеточный организм и завершается выходом из яйцевых (зародышевых) оболочек (при личиночном и неличиночном типах развития) либо рождением (при внутриутробном)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генез включает процессы дробления, гаструляции, гисто- и органогене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роб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ряд последовательных митотических делений зиготы, в результате которых происходит образование бластомеров. Образовавшиеся бластомеры не увеличиваются в размерах. В процессе дробления суммарный объем зародыша не изменяется, а размеры составляющих его клеток уменьшаются. В результате ряда дроблений образуется бласту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ласту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ногоклеточный шаровидный зародыш с однослойной стенкой и полостью внутри. Бластула образуется в результате бластуляции, когда бластомеры смещаются к периферии, образуя бластодерму, образующаяся при этом внутренняя полость заполняется жидкостью и становится первичной полостью тела - бластоцелью. После образования бластулы начинается процесс гастру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струляция - это процесс образования двух- или трехслойного зародыша - гаструлы. Она образуется в результате перемещения клеток бластодермы. Образующиеся слои называют зародышевыми листками. Наружный слой клеток называется эктодермой, внутренний - энтодермой, слой клеток между ними называется мезодермой. Каждый из зародышевых листков дает начало тем или иным орга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сто – и органогене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сто- и органогенез - формирование тканей и органов зародыша в результате дифференцировки клеток и зародышевых ли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к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: нервная система, эпидермис кожи и его производные (роговые чешуи, перья и волосы, зуб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з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мускулатура, скелет, выделительная, половая и кровеносная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н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 пищеварительная система и ее железы (печень, поджелудочная железа), дыхательная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т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тэмбриональное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зародышевое) развитие начинается с момента рождения (при внутриутробном развитии зародыша у млекопитающих) или с момента выхода организма из яйцевых оболочек и продолжается вплоть до смерти живого организма. Постэмбриональное развитие сопровождается ростом. При этом он может быть ограничен определенным сроком или длиться в течение все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стадии индивидуального развития любого организма подвержены влиянию факторов внешней среды. Огромное влияние на развитие организма оказывает среда, в которой он формируется. Температура, свет, влажность, разнообразные химические вещества (ядохимикаты, алкоголь, никотин, ряд лекарственных препаратов и др.) могут нарушать нормальный ход онтогенеза и приводить к формированию различных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он зародышевого развит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3300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ножение организм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пособность живых организмов воспроизводить себе подобных, обеспечивая непрерывность и преемственность жизни в ряду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по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ит без образования гамет и в н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аствует лишь один орган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Идентичное потомство, происходящее от одной родительской особи, назыв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олое размножение эволюционно сложилось раньше полового. Его значение - увеличение численности вида, при помощи митотического деления. Все потомки имеют генотип, идентичный материнскому, что не сопровождается повышением генетическ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ление.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ением размножаются одноклеточные организмы: каждая особь делится на две или большее число дочерних клеток, идентичных родительской клетке. Делению клетки предшествует репликация ДНК, а у эукариот - также деление ядра. В большинстве случаев происходит бинарное деление, при котором образуются две идентичные дочерние клетки. Так делятся бактерии, многие простейшие (амеба, парамеция), одноклеточные водоросли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таком делении вслед за рядом делений клеточного ядра происходит деление самой клетки на множество дочерних клеток. Наблюдается у споровиков - группы простейших. Стадия, на которой происходит множественное деление, называется шизонтом, а сам этот процесс - шизогони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бразование спор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пора - это одноклеточная репродуктивная единица обычно микроскопических размеров, (споруляция) состоящая из небольшого количества цитоплазмы и ядра, покрытая плотной оболочкой и устойчивая к действиям неблагоприятных факторов внешней среды. Споры служат для размножения, расселения и переживания неблагоприятных условий. Существуют и половые споры - зооспоры; они участвуют в половом размножении, иногда выполняют функцию гамет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кова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кованием называют одну из форм полового размножения, при которой новая особь образуется в виде выроста (почки) на теле родительской особи, а затем отделяется от нее, превращаясь в самостоятельный организм, совершенно идентичный родительскому. Например, у кишечнополостны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рагмент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разделение особи на две и несколько частей, каждая из которых растет и образует новую особь. Основу фрагментации составляет способность организма к регенерации - восстановлению утраченных част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гетативное размнож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гетативном размножении от растения отделяется относительно большая, обычно дифференцированная, часть и развивается в самостоятельное растение. Нередко растения образуют структуры, специально предназначенные для этой цели: луковицы, клубнелуковицы, корневища, столоны и клубни. Некоторые из этих структур служат для запасания питательных вещест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и полов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е размножение характерно для подавляющего большинства живых существ. Оно складывается из 4 основных проце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Гаметогенез - образование половых клеток (гам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плодотворение - слияние гамет и образование зиг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Эмбриогенез - дробление зиготы и формирование зароды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остэмбриональный период - рост и развитие организма в послезародышевый пери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лодотвор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лодотво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цесс слияния мужской и женской половых клеток (гамет), в результате которого образуется оплодотворенная яйцеклетка (зигота). То есть из двух гаплоидных гамет образуется одна диплоидная клетка (зиго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ружное оплодотворени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половые клетки сливаются вне организма,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утрен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половые клетки сливаются внутри половых путей особи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крестное 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бъединяются половые клетки разных особей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мо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и слиянии гамет, продуцируемых одним и тем же организмом; моноспермия и полиспермия в зависимости от числа сперматозоидов, оплодотворяющих одну яйцекле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4:11:56Z</dcterms:created>
  <dc:creator>Лидия Михайловна</dc:creator>
  <dc:description/>
  <dc:language>en-US</dc:language>
  <cp:lastModifiedBy>Коля</cp:lastModifiedBy>
  <dcterms:modified xsi:type="dcterms:W3CDTF">2013-05-17T21:34:01Z</dcterms:modified>
  <cp:revision>7</cp:revision>
  <dc:subject/>
  <dc:title>Онтогенез</dc:title>
</cp:coreProperties>
</file>