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11B-EE66-4506-9B8E-178CF425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E4B-D0FA-4CCD-A729-0A3A5EDF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74C-ADC8-4261-83C4-F3DD5805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ADF-A33D-4ADD-8369-DDE65BF9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0596-3C75-4EEC-A8FD-F9108629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9F70-24E5-401D-8388-D598D73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2A5-9FB1-4B11-8049-7E91E5E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FE5B-1A24-4630-A2F8-0AA80F8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F46B-9FCC-4201-8D0E-55482F1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C318-61E6-4137-9B71-1B9FCDAB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4B82-A586-40BF-8AEE-35A983D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D67-A7A1-46FE-A9AE-89E66A6E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2E11-CA25-44EE-9154-EA65C2C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658C-B0F6-44E0-B731-5F0D3B8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D90-BC52-471B-8EC4-536986F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84F-1222-4976-AF6F-1EE196B5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411-F4E2-487A-AA4F-9E1C6442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992-CCC7-485F-8660-C6A94940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C38-9231-4B1A-B05C-30BECCB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7ED-42F7-4E74-AC82-C17BA77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A3A-4B7D-4515-B5A8-19C7279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D01-17FB-4F53-B1B0-EF4AC9E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DD5-B899-4FEA-A767-3C2662A7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D59-2C57-4042-9A5A-1717CDB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E711-3FC7-48A7-9807-3F551CC28D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7EE-5553-4A57-BA93-3EAC56AF54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нтогенез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Семерня Лидия Михайл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генез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нтогенез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ндивидуальное развитие организма, с момента образования зиготы до смер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личают два основных типа онтогенеза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и непрям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При прямом развитии рождающийся организм в основном сходен со взрослым, а стадия метаморфоза отсутствует. При непрямом развитии образуется личинка, отличающаяся от взрослого организма внешним и внутренним строением, а также по характеру питания, способу передвижения и ряду других особенностей. Во взрослую особь личинка превращается в результате метаморфоза. Непрямое развитие дает организмам значительные преимущества. Непрямое развитие встречается в личиночной форме, прямое - в неличиночной и внутриутробной. Непрямой (личиночный) тип развития проходят многие виды беспозвоночных и некоторые позвоночные животные (рыбы, земноводные). У них в процессе развития формируются одна или несколько личиночных стад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неличиночный (яйцекладный)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встречается у ряда беспозвоночных, а также у рыб, пресмыкающихся, птиц и некоторых млекопитающих, яйца которых богаты желтком. При этом зародыш длительное время развивается внутри яй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ямой внутриутробный ти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азвития характерен для высших млекопитающих и человека, яйцеклетки которых почти лишены желтка. Все жизненные функции зародыша осуществляются через материнский организм. Для этого из тканей матери и зародыша развивается плацента. Завершается этот тип развития процессом деторо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нальное развитие (эмбриогенез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чинается с момента оплодотворения, представляет собой процесс преобразования зиготы в многоклеточный организм и завершается выходом из яйцевых (зародышевых) оболочек (при личиночном и неличиночном типах развития) либо рождением (при внутриутробном)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мбриогенез включает процессы дробления, гаструляции, гисто- и органогене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роб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ряд последовательных митотических делений зиготы, в результате которых происходит образование бластомеров. Образовавшиеся бластомеры не увеличиваются в размерах. В процессе дробления суммарный объем зародыша не изменяется, а размеры составляющих его клеток уменьшаются. В результате ряда дроблений образуется бласту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ласту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ногоклеточный шаровидный зародыш с однослойной стенкой и полостью внутри. Бластула образуется в результате бластуляции, когда бластомеры смещаются к периферии, образуя бластодерму, образующаяся при этом внутренняя полость заполняется жидкостью и становится первичной полостью тела - бластоцелью. После образования бластулы начинается процесс гаструля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струляция - это процесс образования двух- или трехслойного зародыша - гаструлы. Она образуется в результате перемещения клеток бластодермы. Образующиеся слои называют зародышевыми листками. Наружный слой клеток называется эктодермой, внутренний - энтодермой, слой клеток между ними называется мезодермой. Каждый из зародышевых листков дает начало тем или иным орга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сто – и органогене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сто- и органогенез - формирование тканей и органов зародыша в результате дифференцировки клеток и зародышевых ли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к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: нервная система, эпидермис кожи и его производные (роговые чешуи, перья и волосы, зуб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з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мускулатура, скелет, выделительная, половая и кровеносная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энтоде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ся пищеварительная система и ее железы (печень, поджелудочная железа), дыхательная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тэмбриональное развит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тэмбриональное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зародышевое) развитие начинается с момента рождения (при внутриутробном развитии зародыша у млекопитающих) или с момента выхода организма из яйцевых оболочек и продолжается вплоть до смерти живого организма. Постэмбриональное развитие сопровождается ростом. При этом он может быть ограничен определенным сроком или длиться в течение все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стадии индивидуального развития любого организма подвержены влиянию факторов внешней среды. Огромное влияние на развитие организма оказывает среда, в которой он формируется. Температура, свет, влажность, разнообразные химические вещества (ядохимикаты, алкоголь, никотин, ряд лекарственных препаратов и др.) могут нарушать нормальный ход онтогенеза и приводить к формированию различных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енетический зак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Индивидуальное развитие о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 онтогенез) до определённой степени повторяет историческое развитие вида(филогене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которому относится данная особ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Мюллер, Э.Гекк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он зародышевого развит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 пределах типа эмбрионы, начиная с самых ранних стадий, обнаруживают известное общее сход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Б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3300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ножение организм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пособность живых организмов воспроизводить себе подобных, обеспечивая непрерывность и преемственность жизни в ряду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по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ит без образования гамет и в н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аствует лишь один орган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Идентичное потомство, происходящее от одной родительской особи, назыв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олое размножение эволюционно сложилось раньше полового. Его значение - увеличение численности вида, при помощи митотического деления. Все потомки имеют генотип, идентичный материнскому, что не сопровождается повышением генетическ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ление.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ением размножаются одноклеточные организмы: каждая особь делится на две или большее число дочерних клеток, идентичных родительской клетке. Делению клетки предшествует репликация ДНК, а у эукариот - также деление ядра. В большинстве случаев происходит бинарное деление, при котором образуются две идентичные дочерние клетки. Так делятся бактерии, многие простейшие (амеба, парамеция), одноклеточные водоросли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таком делении вслед за рядом делений клеточного ядра происходит деление самой клетки на множество дочерних клеток. Наблюдается у споровиков - группы простейших. Стадия, на которой происходит множественное деление, называется шизонтом, а сам этот процесс - шизогони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бразование спор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пора - это одноклеточная репродуктивная единица обычно микроскопических размеров, (споруляция) состоящая из небольшого количества цитоплазмы и ядра, покрытая плотной оболочкой и устойчивая к действиям неблагоприятных факторов внешней среды. Споры служат для размножения, расселения и переживания неблагоприятных условий. Существуют и половые споры - зооспоры; они участвуют в половом размножении, иногда выполняют функцию гамет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беспол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кова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кованием называют одну из форм полового размножения, при которой новая особь образуется в виде выроста (почки) на теле родительской особи, а затем отделяется от нее, превращаясь в самостоятельный организм, совершенно идентичный родительскому. Например, у кишечнополостны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рагмент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разделение особи на две и несколько частей, каждая из которых растет и образует новую особь. Основу фрагментации составляет способность организма к регенерации - восстановлению утраченных част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гетативное размнож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гетативном размножении от растения отделяется относительно большая, обычно дифференцированная, часть и развивается в самостоятельное растение. Нередко растения образуют структуры, специально предназначенные для этой цели: луковицы, клубнелуковицы, корневища, столоны и клубни. Некоторые из этих структур служат для запасания питательных веществ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дит при слиянии двух гамет особей одного вида - родителей, в результате которого осущест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динение генетической информации в наследственном материале потом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начение полового размножения заключается не только в самовоспроизведении особей, но и в обеспечении биологического разнообразия видов, их адаптивных возможностей и эволюционных перспектив. Это делает половое размножение биологически более прогрессивным, чем беспол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и полового размно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е размножение характерно для подавляющего большинства живых существ. Оно складывается из 4 основных проце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Гаметогенез - образование половых клеток (гам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плодотворение - слияние гамет и образование зиг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Эмбриогенез - дробление зиготы и формирование зароды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остэмбриональный период - рост и развитие организма в послезародышевый пери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лодотвор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лодотво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цесс слияния мужской и женской половых клеток (гамет), в результате которого образуется оплодотворенная яйцеклетка (зигота). То есть из двух гаплоидных гамет образуется одна диплоидная клетка (зиго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ружное оплодотворени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половые клетки сливаются вне организма,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утрен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половые клетки сливаются внутри половых путей особи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крестное 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бъединяются половые клетки разных особей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мооплодотв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и слиянии гамет, продуцируемых одним и тем же организмом; моноспермия и полиспермия в зависимости от числа сперматозоидов, оплодотворяющих одну яйцекле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4:11:56Z</dcterms:created>
  <dc:creator>Лидия Михайловна</dc:creator>
  <dc:description/>
  <dc:language>en-US</dc:language>
  <cp:lastModifiedBy>Коля</cp:lastModifiedBy>
  <dcterms:modified xsi:type="dcterms:W3CDTF">2013-05-17T21:34:01Z</dcterms:modified>
  <cp:revision>7</cp:revision>
  <dc:subject/>
  <dc:title>Онтогенез</dc:title>
</cp:coreProperties>
</file>