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.png" ContentType="image/png"/>
  <Override PartName="/ppt/media/image2.gif" ContentType="image/gif"/>
  <Override PartName="/ppt/media/image7.jpeg" ContentType="image/jpeg"/>
  <Override PartName="/ppt/media/image3.gif" ContentType="image/gif"/>
  <Override PartName="/ppt/media/image4.jpeg" ContentType="image/jpeg"/>
  <Override PartName="/ppt/media/image8.gif" ContentType="image/gif"/>
  <Override PartName="/ppt/media/image13.gif" ContentType="image/gif"/>
  <Override PartName="/ppt/media/image5.jpeg" ContentType="image/jpeg"/>
  <Override PartName="/ppt/media/image11.gif" ContentType="image/gif"/>
  <Override PartName="/ppt/media/applause.wav" ContentType="audio/x-wav"/>
  <Override PartName="/ppt/media/image6.jpeg" ContentType="image/jpeg"/>
  <Override PartName="/ppt/media/image9.jpeg" ContentType="image/jpe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8B34-FD62-48DD-B249-03145598C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DA1F-E9DF-4B9A-AB6C-3865EEA8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E5BA-EFAC-4213-9E41-6548033CF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9027-42B0-4772-87C6-AD859DA66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5595-D747-4705-82D7-63835E0B0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B774-4AB1-4EA5-87D3-6138A651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2285-DA31-469D-AE23-D620A35C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AFE1-FD44-4442-85C2-7A5A2AFB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511A-5CFC-426E-8351-FA448472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14DB-44B1-4843-8769-21149A35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6335-1F35-40C2-B4DE-17E6A4EE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35B1-621B-4DB1-9861-C416D5B9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F0F4-FF81-4D8F-A438-CD604AA1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D827-459F-4E37-A481-B2059AB4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008C-41FE-4D55-A591-26D0EFC4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F5A8-C6C8-4347-9B8C-47A8AFD2E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FC46-A7CD-4887-8F9C-D3687BDE5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01C2-D76F-4FC2-8E7D-D083036B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D18D-B4CE-454A-905D-31BF14A4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C71E-6ECD-471C-9699-3124C522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7FD2-21CC-476A-BE25-4699A88B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D714-1688-4195-8137-E5CC8E29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3FDF-EAFE-4B56-A5EE-D48BA1E4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1EEF-7597-4452-B10E-E2A098E7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716C-85D7-455C-BB6F-B185C2EE4458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BA14-2CE6-4263-BE05-AE80ED07E5E3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085160" cy="10666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entury Gothic"/>
              </a:rPr>
              <a:t>Николай Некрасов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2920" y="4292280"/>
            <a:ext cx="5256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Century Gothic"/>
              </a:rPr>
              <a:t>Викторина для 3-4класс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042920" y="62064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79080" y="685800"/>
            <a:ext cx="70866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9. Что такое зипун?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42920" y="2492280"/>
            <a:ext cx="549432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А) Шапк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Б) Пояс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В) Тёплая куртк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Г)  Штаны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 rot="1452000">
            <a:off x="7165800" y="1181160"/>
            <a:ext cx="75096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056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10. Закончи строчки :</a:t>
            </a:r>
            <a:br>
              <a:rPr sz="4000"/>
            </a:br>
            <a:br>
              <a:rPr sz="4000"/>
            </a:b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Я их не бью ни весною, ни лето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Шкура – плохая, …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92000" y="3500280"/>
            <a:ext cx="482436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А) Уж больно худы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Б) Вся шапка облезет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В) Линяет косой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Г) Не купят весной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79440" y="685800"/>
            <a:ext cx="6461280" cy="28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11.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По отрывку определи, какое это стихотворение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Century Gothic"/>
              </a:rPr>
              <a:t>Глядит – хорошо ли метели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entury Gothic"/>
              </a:rPr>
              <a:t>  Лесные тропы занесли,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entury Gothic"/>
              </a:rPr>
              <a:t>  И нет ли где трещины, щели,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entury Gothic"/>
              </a:rPr>
              <a:t>  И нет ли где голой земли?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42920" y="4076280"/>
            <a:ext cx="54943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А) «Дедушка Мазай и зайцы»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Б) «Мужичок с ноготок»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В) «Зеленый шум»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Г) «Мороз – воевода»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921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12. К какому стихотворению Н.Некрасова сделан этот рисунок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560" y="4005000"/>
            <a:ext cx="61930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А) «Мужичок с ноготок»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Б) «Мороз красный нос»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В)«Не ветер бушует над бором»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Г) «Дед Мазай и зайцы»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403280" y="1700280"/>
            <a:ext cx="4762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0"/>
                            </p:stCondLst>
                            <p:childTnLst>
                              <p:par>
                                <p:cTn id="26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6000"/>
                            </p:stCondLst>
                            <p:childTnLst>
                              <p:par>
                                <p:cTn id="27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Gothic"/>
              </a:rPr>
              <a:t>Давайте проверим!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79280" y="1989000"/>
            <a:ext cx="233676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1-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2-б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3-б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4-</a:t>
            </a: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5-б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6-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995280" y="1916280"/>
            <a:ext cx="208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7-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8-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9-в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10-в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11-г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12-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443640" y="1628640"/>
            <a:ext cx="17272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8207280" cy="5905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 rot="21358200">
            <a:off x="900000" y="1484280"/>
            <a:ext cx="7311960" cy="320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>
                    <a:alpha val="99000"/>
                  </a:srgbClr>
                </a:solidFill>
                <a:effectLst>
                  <a:outerShdw dist="40186" dir="1096358" blurRad="0" rotWithShape="0">
                    <a:srgbClr val="800080">
                      <a:alpha val="50000"/>
                    </a:srgbClr>
                  </a:outerShdw>
                </a:effectLst>
                <a:latin typeface="Arial"/>
              </a:rPr>
              <a:t>Поздравляю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>
                  <a:alpha val="99000"/>
                </a:srgbClr>
              </a:solidFill>
              <a:effectLst>
                <a:outerShdw dist="40186" dir="1096358" blurRad="0" rotWithShape="0">
                  <a:srgbClr val="800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132000" y="836640"/>
            <a:ext cx="1428840" cy="1038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3348000" y="5157720"/>
            <a:ext cx="2089080" cy="60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7280" y="981000"/>
            <a:ext cx="70567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Gothic"/>
              </a:rPr>
              <a:t>1. Назовите отчество     Н.Некрасова.</a:t>
            </a: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79080" y="2819520"/>
            <a:ext cx="525636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А) Алексеевич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Б) Александрович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В) Сергеевич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79080" y="907920"/>
            <a:ext cx="61722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entury Gothic"/>
              </a:rPr>
              <a:t>2. Назовите годы жизни Некрасова?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76360" y="3141360"/>
            <a:ext cx="496728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Gothic"/>
              </a:rPr>
              <a:t>А) 1820-1876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Gothic"/>
              </a:rPr>
              <a:t>Б) 1821-1878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Gothic"/>
              </a:rPr>
              <a:t>В) 1799-1838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31640" y="691920"/>
            <a:ext cx="727236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3. Сколько лет было Пушкину когда родился Некрасов?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92360" y="2997000"/>
            <a:ext cx="304488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Gothic"/>
              </a:rPr>
              <a:t>А) 15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Gothic"/>
              </a:rPr>
              <a:t>Б)</a:t>
            </a:r>
            <a:r>
              <a:rPr b="0" i="1" lang="ru-RU" sz="5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entury Gothic"/>
              </a:rPr>
              <a:t>22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Gothic"/>
              </a:rPr>
              <a:t>В) 32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55640" y="4292640"/>
            <a:ext cx="137484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79080" y="836280"/>
            <a:ext cx="7086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Gothic"/>
              </a:rPr>
              <a:t>4. При каком царе родился Некрасов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02920" y="3068280"/>
            <a:ext cx="513396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А) Александр 1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Б) Александр 2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В) Николай 1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5640" y="685440"/>
            <a:ext cx="727236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5. Какое из двух стихотворений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написал Некрасов?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31640" y="2060640"/>
            <a:ext cx="5257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А) </a:t>
            </a:r>
            <a:r>
              <a:rPr b="0" lang="de-DE" sz="2400" spc="-1" strike="noStrike">
                <a:solidFill>
                  <a:srgbClr val="000000"/>
                </a:solidFill>
                <a:latin typeface="Century Gothic"/>
              </a:rPr>
              <a:t>Проснулся утра шум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Gothic"/>
              </a:rPr>
              <a:t>приятный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Gothic"/>
              </a:rPr>
              <a:t>Открыты ставни; трубный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Gothic"/>
              </a:rPr>
              <a:t>Дым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</a:t>
            </a:r>
            <a:r>
              <a:rPr b="0" lang="de-DE" sz="2400" spc="-1" strike="noStrike">
                <a:solidFill>
                  <a:srgbClr val="000000"/>
                </a:solidFill>
                <a:latin typeface="Century Gothic"/>
              </a:rPr>
              <a:t>толбом восходит голубым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Б) </a:t>
            </a:r>
            <a:r>
              <a:rPr b="0" lang="de-DE" sz="2400" spc="-1" strike="noStrike">
                <a:solidFill>
                  <a:srgbClr val="000000"/>
                </a:solidFill>
                <a:latin typeface="Century Gothic"/>
              </a:rPr>
              <a:t>В нашей улице жизнь трудовая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Gothic"/>
              </a:rPr>
              <a:t>Начинают ни свет ни заря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Gothic"/>
              </a:rPr>
              <a:t>Свой ужасный концерт, припевая,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Gothic"/>
              </a:rPr>
              <a:t>Токари, резчики, слесаря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6. Портрет Н.А.Некрасова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7" name="1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1579680" cy="2232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02520" y="184464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26520" y="184464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C:\Documents and Settings\Admin\Рабочий стол\пушкин1\image001.jpg"/>
          <p:cNvPicPr/>
          <p:nvPr/>
        </p:nvPicPr>
        <p:blipFill>
          <a:blip r:embed="rId3"/>
          <a:stretch/>
        </p:blipFill>
        <p:spPr>
          <a:xfrm>
            <a:off x="4500720" y="1557360"/>
            <a:ext cx="1690560" cy="2232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Граф Л.Н. Толстой"/>
          <p:cNvPicPr/>
          <p:nvPr/>
        </p:nvPicPr>
        <p:blipFill>
          <a:blip r:embed="rId4"/>
          <a:stretch/>
        </p:blipFill>
        <p:spPr>
          <a:xfrm>
            <a:off x="1476360" y="4076640"/>
            <a:ext cx="1674720" cy="2232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02520" y="44578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Ханс Кристиан Андерсен"/>
          <p:cNvPicPr/>
          <p:nvPr/>
        </p:nvPicPr>
        <p:blipFill>
          <a:blip r:embed="rId5"/>
          <a:stretch/>
        </p:blipFill>
        <p:spPr>
          <a:xfrm>
            <a:off x="4572000" y="4149720"/>
            <a:ext cx="1531800" cy="2087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069080" y="4314960"/>
            <a:ext cx="5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6920" y="981000"/>
            <a:ext cx="739620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7. Из какого стихотворени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    эти строки?</a:t>
            </a:r>
            <a:br>
              <a:rPr sz="4000"/>
            </a:b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Смотрят, на задние лапки встают,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Лодку качают, грести не дают.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5640" y="3429000"/>
            <a:ext cx="597708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А) Дедушка Мазай и зайцы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Б)  Мужичок с ноготок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В) Мороз - воевод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Г)  Зеленый шум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000"/>
                            </p:stCondLst>
                            <p:childTnLst>
                              <p:par>
                                <p:cTn id="15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79080" y="685800"/>
            <a:ext cx="710892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8.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У Некрасова есть стихотворение «Мужичок с…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79440" y="2205000"/>
            <a:ext cx="48052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"/>
          <p:cNvSpPr/>
          <p:nvPr/>
        </p:nvSpPr>
        <p:spPr>
          <a:xfrm>
            <a:off x="1908000" y="3006000"/>
            <a:ext cx="3743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) Ного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) Локо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) Пальч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) Мизинч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03:40:10Z</dcterms:created>
  <dc:creator>GYPNORION</dc:creator>
  <dc:description/>
  <dc:language>en-US</dc:language>
  <cp:lastModifiedBy>GYPNORION</cp:lastModifiedBy>
  <dcterms:modified xsi:type="dcterms:W3CDTF">2012-02-05T05:53:29Z</dcterms:modified>
  <cp:revision>2</cp:revision>
  <dc:subject/>
  <dc:title>Николай Некрас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241</vt:lpwstr>
  </property>
  <property fmtid="{D5CDD505-2E9C-101B-9397-08002B2CF9AE}" pid="3" name="APEditor">
    <vt:lpwstr>103</vt:lpwstr>
  </property>
  <property fmtid="{D5CDD505-2E9C-101B-9397-08002B2CF9AE}" pid="4" name="Applications">
    <vt:lpwstr>172;#Office 2000;#-1;#TBD;#-1;#TBD;#-1;#TBD;#-1;#TBD;#-1;#TBD;#-1;#TBD</vt:lpwstr>
  </property>
  <property fmtid="{D5CDD505-2E9C-101B-9397-08002B2CF9AE}" pid="5" name="AssetId">
    <vt:lpwstr>TS001159440</vt:lpwstr>
  </property>
  <property fmtid="{D5CDD505-2E9C-101B-9397-08002B2CF9AE}" pid="6" name="AssetType">
    <vt:lpwstr>TP</vt:lpwstr>
  </property>
  <property fmtid="{D5CDD505-2E9C-101B-9397-08002B2CF9AE}" pid="7" name="AuthoringAssetId">
    <vt:lpwstr>TP001159440</vt:lpwstr>
  </property>
  <property fmtid="{D5CDD505-2E9C-101B-9397-08002B2CF9AE}" pid="8" name="CHMName">
    <vt:lpwstr/>
  </property>
  <property fmtid="{D5CDD505-2E9C-101B-9397-08002B2CF9AE}" pid="9" name="Content Type">
    <vt:lpwstr>OOFile</vt:lpwstr>
  </property>
  <property fmtid="{D5CDD505-2E9C-101B-9397-08002B2CF9AE}" pid="10" name="ContentTypeId">
    <vt:lpwstr>0x0101006025706CF4CD034688BEBAE97A2E701D0202001F9DE411C1B38343BE78B0080F632418</vt:lpwstr>
  </property>
  <property fmtid="{D5CDD505-2E9C-101B-9397-08002B2CF9AE}" pid="11" name="DirectSourceMarket">
    <vt:lpwstr>english</vt:lpwstr>
  </property>
  <property fmtid="{D5CDD505-2E9C-101B-9397-08002B2CF9AE}" pid="12" name="EditorialStatus">
    <vt:lpwstr/>
  </property>
  <property fmtid="{D5CDD505-2E9C-101B-9397-08002B2CF9AE}" pid="13" name="IsDeleted">
    <vt:lpwstr>0</vt:lpwstr>
  </property>
  <property fmtid="{D5CDD505-2E9C-101B-9397-08002B2CF9AE}" pid="14" name="IsSearchable">
    <vt:lpwstr>0</vt:lpwstr>
  </property>
  <property fmtid="{D5CDD505-2E9C-101B-9397-08002B2CF9AE}" pid="15" name="LCID">
    <vt:lpwstr>1049</vt:lpwstr>
  </property>
  <property fmtid="{D5CDD505-2E9C-101B-9397-08002B2CF9AE}" pid="16" name="Markets">
    <vt:lpwstr/>
  </property>
  <property fmtid="{D5CDD505-2E9C-101B-9397-08002B2CF9AE}" pid="17" name="Milestone">
    <vt:lpwstr>Continuous</vt:lpwstr>
  </property>
  <property fmtid="{D5CDD505-2E9C-101B-9397-08002B2CF9AE}" pid="18" name="NumericId">
    <vt:lpwstr>-1.00000000000000</vt:lpwstr>
  </property>
  <property fmtid="{D5CDD505-2E9C-101B-9397-08002B2CF9AE}" pid="19" name="OpenTemplate">
    <vt:lpwstr>1</vt:lpwstr>
  </property>
  <property fmtid="{D5CDD505-2E9C-101B-9397-08002B2CF9AE}" pid="20" name="OriginalSourceMarket">
    <vt:lpwstr>english</vt:lpwstr>
  </property>
  <property fmtid="{D5CDD505-2E9C-101B-9397-08002B2CF9AE}" pid="21" name="ParentAssetId">
    <vt:lpwstr/>
  </property>
  <property fmtid="{D5CDD505-2E9C-101B-9397-08002B2CF9AE}" pid="22" name="PrimaryImageGen">
    <vt:lpwstr>1</vt:lpwstr>
  </property>
  <property fmtid="{D5CDD505-2E9C-101B-9397-08002B2CF9AE}" pid="23" name="PublishTargets">
    <vt:lpwstr>OfficeOnline</vt:lpwstr>
  </property>
  <property fmtid="{D5CDD505-2E9C-101B-9397-08002B2CF9AE}" pid="24" name="ShowIn">
    <vt:lpwstr>Show everywhere</vt:lpwstr>
  </property>
  <property fmtid="{D5CDD505-2E9C-101B-9397-08002B2CF9AE}" pid="25" name="SourceTitle">
    <vt:lpwstr>School books design template</vt:lpwstr>
  </property>
  <property fmtid="{D5CDD505-2E9C-101B-9397-08002B2CF9AE}" pid="26" name="TPAppVersion">
    <vt:lpwstr>11</vt:lpwstr>
  </property>
  <property fmtid="{D5CDD505-2E9C-101B-9397-08002B2CF9AE}" pid="27" name="TPApplication">
    <vt:lpwstr>PowerPoint</vt:lpwstr>
  </property>
  <property fmtid="{D5CDD505-2E9C-101B-9397-08002B2CF9AE}" pid="28" name="TPCommandLine">
    <vt:lpwstr>{PP} {FilePath}</vt:lpwstr>
  </property>
  <property fmtid="{D5CDD505-2E9C-101B-9397-08002B2CF9AE}" pid="29" name="TPFriendlyName">
    <vt:lpwstr>{Document Themes}</vt:lpwstr>
  </property>
  <property fmtid="{D5CDD505-2E9C-101B-9397-08002B2CF9AE}" pid="30" name="TPInstallLocation">
    <vt:lpwstr>{Document Themes}</vt:lpwstr>
  </property>
  <property fmtid="{D5CDD505-2E9C-101B-9397-08002B2CF9AE}" pid="31" name="TPLaunchHelpLink">
    <vt:lpwstr/>
  </property>
  <property fmtid="{D5CDD505-2E9C-101B-9397-08002B2CF9AE}" pid="32" name="TPLaunchHelpLinkType">
    <vt:lpwstr/>
  </property>
  <property fmtid="{D5CDD505-2E9C-101B-9397-08002B2CF9AE}" pid="33" name="UACurrentWords">
    <vt:lpwstr>0</vt:lpwstr>
  </property>
  <property fmtid="{D5CDD505-2E9C-101B-9397-08002B2CF9AE}" pid="34" name="UALocComments">
    <vt:lpwstr/>
  </property>
  <property fmtid="{D5CDD505-2E9C-101B-9397-08002B2CF9AE}" pid="35" name="UALocRecommendation">
    <vt:lpwstr>Localize</vt:lpwstr>
  </property>
  <property fmtid="{D5CDD505-2E9C-101B-9397-08002B2CF9AE}" pid="36" name="UANotes">
    <vt:lpwstr>Contains image from Hemera. Uses Hemera photos from CAM site which can only be used on Office Online. These templates cannot be distributed in a CD or in the box with any software application.. SEO Pilot 2008</vt:lpwstr>
  </property>
  <property fmtid="{D5CDD505-2E9C-101B-9397-08002B2CF9AE}" pid="37" name="display_urn:schemas-microsoft-com:office:office#APAuthor">
    <vt:lpwstr>REDMOND\cynvey</vt:lpwstr>
  </property>
  <property fmtid="{D5CDD505-2E9C-101B-9397-08002B2CF9AE}" pid="38" name="display_urn:schemas-microsoft-com:office:office#APEditor">
    <vt:lpwstr>REDMOND\v-luannv</vt:lpwstr>
  </property>
</Properties>
</file>