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.png" ContentType="image/png"/>
  <Override PartName="/ppt/media/image2.gif" ContentType="image/gif"/>
  <Override PartName="/ppt/media/image7.jpeg" ContentType="image/jpeg"/>
  <Override PartName="/ppt/media/image3.gif" ContentType="image/gif"/>
  <Override PartName="/ppt/media/image4.jpeg" ContentType="image/jpeg"/>
  <Override PartName="/ppt/media/image8.gif" ContentType="image/gif"/>
  <Override PartName="/ppt/media/image13.gif" ContentType="image/gif"/>
  <Override PartName="/ppt/media/image5.jpeg" ContentType="image/jpeg"/>
  <Override PartName="/ppt/media/image11.gif" ContentType="image/gif"/>
  <Override PartName="/ppt/media/applause.wav" ContentType="audio/x-wav"/>
  <Override PartName="/ppt/media/image6.jpeg" ContentType="image/jpeg"/>
  <Override PartName="/ppt/media/image9.jpeg" ContentType="image/jpe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B884-5FC3-46C4-8148-9032BFA4B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6F6C-6004-40E0-B05C-FFBFDC83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D493-E3D0-4018-93CA-D95975800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D61A-DED9-4F13-8524-8A8B75F79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B8FA-5A8F-4E4B-9B3F-393A40082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5E243-9B12-45A7-9D2A-2C0EB91A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A382-7F68-4BA1-BB55-43502D89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027C-E854-41B5-9D30-177BCF91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E153-47F7-41FC-9DA6-5A87AC0E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9EB6B-19D9-4A43-A1F2-D301E1B7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5D09-E0CD-4D29-BD06-6E066EAF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CFB1-3001-4A58-9CF3-41A09CD1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947E-1562-4952-8363-208350C0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4487-0013-4ABC-8B98-8B46BAE8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ABEE-ECF3-4FBB-AC36-F9034E08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BE5F-62A5-471C-B7D7-494B00E71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A886-62F7-4C98-91C3-12469AEC0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BA86-54A0-4333-98C1-D8930D44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8B09-782E-4780-BF2A-5489BF1F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100C-BFDF-485E-A7C3-1865937E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E413-4CF1-4EB2-879F-9FE8EED0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FC3D-4E78-4142-9BD8-7B57B6E7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9887-FBD3-455A-A181-0B3DE3E7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896E-5969-4FFF-8924-D56ED181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4EA9-C09E-48BA-924F-B6FB2DDBBCB2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9070-A1B2-4A96-8352-813D2BACB2B0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7085160" cy="10666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entury Gothic"/>
              </a:rPr>
              <a:t>Николай Некрасов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2920" y="4292280"/>
            <a:ext cx="5256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80"/>
                </a:solidFill>
                <a:latin typeface="Century Gothic"/>
              </a:rPr>
              <a:t>Викторина для 3-4класс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042920" y="62064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79080" y="685800"/>
            <a:ext cx="70866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9. Что такое зипун?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42920" y="2492280"/>
            <a:ext cx="549432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А) Шапка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Б) Пояс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В) Тёплая куртка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Г)  Штаны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 rot="1452000">
            <a:off x="7165800" y="1181160"/>
            <a:ext cx="75096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0567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10. Закончи строчки :</a:t>
            </a:r>
            <a:br>
              <a:rPr sz="4000"/>
            </a:br>
            <a:br>
              <a:rPr sz="4000"/>
            </a:br>
            <a:r>
              <a:rPr b="0" i="1" lang="ru-RU" sz="3200" spc="-1" strike="noStrike">
                <a:solidFill>
                  <a:srgbClr val="000000"/>
                </a:solidFill>
                <a:latin typeface="Century Gothic"/>
              </a:rPr>
              <a:t>Я их не бью ни весною, ни летом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entury Gothic"/>
              </a:rPr>
              <a:t>Шкура – плохая, …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92000" y="3500280"/>
            <a:ext cx="482436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А) Уж больно худы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Б) Вся шапка облезет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В) Линяет косой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Г) Не купят весной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79440" y="685800"/>
            <a:ext cx="6461280" cy="28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11.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По отрывку определи, какое это стихотворение: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Century Gothic"/>
              </a:rPr>
              <a:t>Глядит – хорошо ли метели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entury Gothic"/>
              </a:rPr>
              <a:t>  Лесные тропы занесли,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entury Gothic"/>
              </a:rPr>
              <a:t>  И нет ли где трещины, щели,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entury Gothic"/>
              </a:rPr>
              <a:t>  И нет ли где голой земли?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42920" y="4076280"/>
            <a:ext cx="54943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А) «Дедушка Мазай и зайцы»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Б) «Мужичок с ноготок»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В) «Зеленый шум»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Г) «Мороз – воевода»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9214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12. К какому стихотворению Н.Некрасова сделан этот рисунок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6560" y="4005000"/>
            <a:ext cx="619308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А) «Мужичок с ноготок»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Б) «Мороз красный нос»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В)«Не ветер бушует над бором»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Г) «Дед Мазай и зайцы»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403280" y="1700280"/>
            <a:ext cx="4762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000"/>
                            </p:stCondLst>
                            <p:childTnLst>
                              <p:par>
                                <p:cTn id="26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0"/>
                            </p:stCondLst>
                            <p:childTnLst>
                              <p:par>
                                <p:cTn id="26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6000"/>
                            </p:stCondLst>
                            <p:childTnLst>
                              <p:par>
                                <p:cTn id="27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Gothic"/>
              </a:rPr>
              <a:t>Давайте проверим!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79280" y="1989000"/>
            <a:ext cx="233676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1-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2-б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3-б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4-</a:t>
            </a: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5-б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6-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995280" y="1916280"/>
            <a:ext cx="208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7-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8-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9-в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10-в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11-г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12-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443640" y="1628640"/>
            <a:ext cx="17272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8207280" cy="5905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 rot="21358200">
            <a:off x="900000" y="1484280"/>
            <a:ext cx="7311960" cy="320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>
                    <a:alpha val="99000"/>
                  </a:srgbClr>
                </a:solidFill>
                <a:effectLst>
                  <a:outerShdw dist="40186" dir="1096358" blurRad="0" rotWithShape="0">
                    <a:srgbClr val="800080">
                      <a:alpha val="50000"/>
                    </a:srgbClr>
                  </a:outerShdw>
                </a:effectLst>
                <a:latin typeface="Arial"/>
              </a:rPr>
              <a:t>Поздравляю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>
                  <a:alpha val="99000"/>
                </a:srgbClr>
              </a:solidFill>
              <a:effectLst>
                <a:outerShdw dist="40186" dir="1096358" blurRad="0" rotWithShape="0">
                  <a:srgbClr val="800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132000" y="836640"/>
            <a:ext cx="1428840" cy="1038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3348000" y="5157720"/>
            <a:ext cx="2089080" cy="60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7280" y="981000"/>
            <a:ext cx="70567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Gothic"/>
              </a:rPr>
              <a:t>1. Назовите отчество     Н.Некрасова.</a:t>
            </a: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79080" y="2819520"/>
            <a:ext cx="525636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А) Алексеевич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Б) Александрович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В) Сергеевич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79080" y="907920"/>
            <a:ext cx="61722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entury Gothic"/>
              </a:rPr>
              <a:t>2. Назовите годы жизни Некрасова?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76360" y="3141360"/>
            <a:ext cx="496728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Gothic"/>
              </a:rPr>
              <a:t>А) 1820-1876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Gothic"/>
              </a:rPr>
              <a:t>Б) 1821-1878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Gothic"/>
              </a:rPr>
              <a:t>В) 1799-1838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31640" y="691920"/>
            <a:ext cx="727236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3. Сколько лет было Пушкину когда родился Некрасов?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92360" y="2997000"/>
            <a:ext cx="304488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entury Gothic"/>
              </a:rPr>
              <a:t>А) 15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entury Gothic"/>
              </a:rPr>
              <a:t>Б)</a:t>
            </a:r>
            <a:r>
              <a:rPr b="0" i="1" lang="ru-RU" sz="5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entury Gothic"/>
              </a:rPr>
              <a:t>22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entury Gothic"/>
              </a:rPr>
              <a:t>В) 32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55640" y="4292640"/>
            <a:ext cx="137484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79080" y="836280"/>
            <a:ext cx="7086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Gothic"/>
              </a:rPr>
              <a:t>4. При каком царе родился Некрасов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02920" y="3068280"/>
            <a:ext cx="513396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А) Александр 1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Б) Александр 2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В) Николай 1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5640" y="685440"/>
            <a:ext cx="727236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5. Какое из двух стихотворений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написал Некрасов?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31640" y="2060640"/>
            <a:ext cx="5257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А) </a:t>
            </a:r>
            <a:r>
              <a:rPr b="0" lang="de-DE" sz="2400" spc="-1" strike="noStrike">
                <a:solidFill>
                  <a:srgbClr val="000000"/>
                </a:solidFill>
                <a:latin typeface="Century Gothic"/>
              </a:rPr>
              <a:t>Проснулся утра шум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Gothic"/>
              </a:rPr>
              <a:t>приятный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Gothic"/>
              </a:rPr>
              <a:t>Открыты ставни; трубный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Gothic"/>
              </a:rPr>
              <a:t>Дым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</a:t>
            </a:r>
            <a:r>
              <a:rPr b="0" lang="de-DE" sz="2400" spc="-1" strike="noStrike">
                <a:solidFill>
                  <a:srgbClr val="000000"/>
                </a:solidFill>
                <a:latin typeface="Century Gothic"/>
              </a:rPr>
              <a:t>толбом восходит голубым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Б) </a:t>
            </a:r>
            <a:r>
              <a:rPr b="0" lang="de-DE" sz="2400" spc="-1" strike="noStrike">
                <a:solidFill>
                  <a:srgbClr val="000000"/>
                </a:solidFill>
                <a:latin typeface="Century Gothic"/>
              </a:rPr>
              <a:t>В нашей улице жизнь трудовая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Gothic"/>
              </a:rPr>
              <a:t>Начинают ни свет ни заря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Gothic"/>
              </a:rPr>
              <a:t>Свой ужасный концерт, припевая,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entury Gothic"/>
              </a:rPr>
              <a:t>Токари, резчики, слесаря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6. Портрет Н.А.Некрасова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7" name="1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1579680" cy="2232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902520" y="184464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26520" y="184464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C:\Documents and Settings\Admin\Рабочий стол\пушкин1\image001.jpg"/>
          <p:cNvPicPr/>
          <p:nvPr/>
        </p:nvPicPr>
        <p:blipFill>
          <a:blip r:embed="rId3"/>
          <a:stretch/>
        </p:blipFill>
        <p:spPr>
          <a:xfrm>
            <a:off x="4500720" y="1557360"/>
            <a:ext cx="1690560" cy="2232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Граф Л.Н. Толстой"/>
          <p:cNvPicPr/>
          <p:nvPr/>
        </p:nvPicPr>
        <p:blipFill>
          <a:blip r:embed="rId4"/>
          <a:stretch/>
        </p:blipFill>
        <p:spPr>
          <a:xfrm>
            <a:off x="1476360" y="4076640"/>
            <a:ext cx="1674720" cy="2232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02520" y="445788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Ханс Кристиан Андерсен"/>
          <p:cNvPicPr/>
          <p:nvPr/>
        </p:nvPicPr>
        <p:blipFill>
          <a:blip r:embed="rId5"/>
          <a:stretch/>
        </p:blipFill>
        <p:spPr>
          <a:xfrm>
            <a:off x="4572000" y="4149720"/>
            <a:ext cx="1531800" cy="2087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069080" y="4314960"/>
            <a:ext cx="5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6920" y="981000"/>
            <a:ext cx="7396200" cy="18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7. Из какого стихотворени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    эти строки?</a:t>
            </a:r>
            <a:br>
              <a:rPr sz="4000"/>
            </a:br>
            <a:r>
              <a:rPr b="0" i="1" lang="ru-RU" sz="3200" spc="-1" strike="noStrike">
                <a:solidFill>
                  <a:srgbClr val="000000"/>
                </a:solidFill>
                <a:latin typeface="Century Gothic"/>
              </a:rPr>
              <a:t>Смотрят, на задние лапки встают,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entury Gothic"/>
              </a:rPr>
              <a:t>Лодку качают, грести не дают.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5640" y="3429000"/>
            <a:ext cx="597708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А) Дедушка Мазай и зайцы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Б)  Мужичок с ноготок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В) Мороз - воевод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Г)  Зеленый шум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000"/>
                            </p:stCondLst>
                            <p:childTnLst>
                              <p:par>
                                <p:cTn id="15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79080" y="685800"/>
            <a:ext cx="710892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8.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У Некрасова есть стихотворение «Мужичок с…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79440" y="2205000"/>
            <a:ext cx="480528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"/>
          <p:cNvSpPr/>
          <p:nvPr/>
        </p:nvSpPr>
        <p:spPr>
          <a:xfrm>
            <a:off x="1908000" y="3006000"/>
            <a:ext cx="3743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) Ного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) Локо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) Пальч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) Мизинч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03:40:10Z</dcterms:created>
  <dc:creator>GYPNORION</dc:creator>
  <dc:description/>
  <dc:language>en-US</dc:language>
  <cp:lastModifiedBy>GYPNORION</cp:lastModifiedBy>
  <dcterms:modified xsi:type="dcterms:W3CDTF">2012-02-05T05:53:29Z</dcterms:modified>
  <cp:revision>2</cp:revision>
  <dc:subject/>
  <dc:title>Николай Некрас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241</vt:lpwstr>
  </property>
  <property fmtid="{D5CDD505-2E9C-101B-9397-08002B2CF9AE}" pid="3" name="APEditor">
    <vt:lpwstr>103</vt:lpwstr>
  </property>
  <property fmtid="{D5CDD505-2E9C-101B-9397-08002B2CF9AE}" pid="4" name="Applications">
    <vt:lpwstr>172;#Office 2000;#-1;#TBD;#-1;#TBD;#-1;#TBD;#-1;#TBD;#-1;#TBD;#-1;#TBD</vt:lpwstr>
  </property>
  <property fmtid="{D5CDD505-2E9C-101B-9397-08002B2CF9AE}" pid="5" name="AssetId">
    <vt:lpwstr>TS001159440</vt:lpwstr>
  </property>
  <property fmtid="{D5CDD505-2E9C-101B-9397-08002B2CF9AE}" pid="6" name="AssetType">
    <vt:lpwstr>TP</vt:lpwstr>
  </property>
  <property fmtid="{D5CDD505-2E9C-101B-9397-08002B2CF9AE}" pid="7" name="AuthoringAssetId">
    <vt:lpwstr>TP001159440</vt:lpwstr>
  </property>
  <property fmtid="{D5CDD505-2E9C-101B-9397-08002B2CF9AE}" pid="8" name="CHMName">
    <vt:lpwstr/>
  </property>
  <property fmtid="{D5CDD505-2E9C-101B-9397-08002B2CF9AE}" pid="9" name="Content Type">
    <vt:lpwstr>OOFile</vt:lpwstr>
  </property>
  <property fmtid="{D5CDD505-2E9C-101B-9397-08002B2CF9AE}" pid="10" name="ContentTypeId">
    <vt:lpwstr>0x0101006025706CF4CD034688BEBAE97A2E701D0202001F9DE411C1B38343BE78B0080F632418</vt:lpwstr>
  </property>
  <property fmtid="{D5CDD505-2E9C-101B-9397-08002B2CF9AE}" pid="11" name="DirectSourceMarket">
    <vt:lpwstr>english</vt:lpwstr>
  </property>
  <property fmtid="{D5CDD505-2E9C-101B-9397-08002B2CF9AE}" pid="12" name="EditorialStatus">
    <vt:lpwstr/>
  </property>
  <property fmtid="{D5CDD505-2E9C-101B-9397-08002B2CF9AE}" pid="13" name="IsDeleted">
    <vt:lpwstr>0</vt:lpwstr>
  </property>
  <property fmtid="{D5CDD505-2E9C-101B-9397-08002B2CF9AE}" pid="14" name="IsSearchable">
    <vt:lpwstr>0</vt:lpwstr>
  </property>
  <property fmtid="{D5CDD505-2E9C-101B-9397-08002B2CF9AE}" pid="15" name="LCID">
    <vt:lpwstr>1049</vt:lpwstr>
  </property>
  <property fmtid="{D5CDD505-2E9C-101B-9397-08002B2CF9AE}" pid="16" name="Markets">
    <vt:lpwstr/>
  </property>
  <property fmtid="{D5CDD505-2E9C-101B-9397-08002B2CF9AE}" pid="17" name="Milestone">
    <vt:lpwstr>Continuous</vt:lpwstr>
  </property>
  <property fmtid="{D5CDD505-2E9C-101B-9397-08002B2CF9AE}" pid="18" name="NumericId">
    <vt:lpwstr>-1.00000000000000</vt:lpwstr>
  </property>
  <property fmtid="{D5CDD505-2E9C-101B-9397-08002B2CF9AE}" pid="19" name="OpenTemplate">
    <vt:lpwstr>1</vt:lpwstr>
  </property>
  <property fmtid="{D5CDD505-2E9C-101B-9397-08002B2CF9AE}" pid="20" name="OriginalSourceMarket">
    <vt:lpwstr>english</vt:lpwstr>
  </property>
  <property fmtid="{D5CDD505-2E9C-101B-9397-08002B2CF9AE}" pid="21" name="ParentAssetId">
    <vt:lpwstr/>
  </property>
  <property fmtid="{D5CDD505-2E9C-101B-9397-08002B2CF9AE}" pid="22" name="PrimaryImageGen">
    <vt:lpwstr>1</vt:lpwstr>
  </property>
  <property fmtid="{D5CDD505-2E9C-101B-9397-08002B2CF9AE}" pid="23" name="PublishTargets">
    <vt:lpwstr>OfficeOnline</vt:lpwstr>
  </property>
  <property fmtid="{D5CDD505-2E9C-101B-9397-08002B2CF9AE}" pid="24" name="ShowIn">
    <vt:lpwstr>Show everywhere</vt:lpwstr>
  </property>
  <property fmtid="{D5CDD505-2E9C-101B-9397-08002B2CF9AE}" pid="25" name="SourceTitle">
    <vt:lpwstr>School books design template</vt:lpwstr>
  </property>
  <property fmtid="{D5CDD505-2E9C-101B-9397-08002B2CF9AE}" pid="26" name="TPAppVersion">
    <vt:lpwstr>11</vt:lpwstr>
  </property>
  <property fmtid="{D5CDD505-2E9C-101B-9397-08002B2CF9AE}" pid="27" name="TPApplication">
    <vt:lpwstr>PowerPoint</vt:lpwstr>
  </property>
  <property fmtid="{D5CDD505-2E9C-101B-9397-08002B2CF9AE}" pid="28" name="TPCommandLine">
    <vt:lpwstr>{PP} {FilePath}</vt:lpwstr>
  </property>
  <property fmtid="{D5CDD505-2E9C-101B-9397-08002B2CF9AE}" pid="29" name="TPFriendlyName">
    <vt:lpwstr>{Document Themes}</vt:lpwstr>
  </property>
  <property fmtid="{D5CDD505-2E9C-101B-9397-08002B2CF9AE}" pid="30" name="TPInstallLocation">
    <vt:lpwstr>{Document Themes}</vt:lpwstr>
  </property>
  <property fmtid="{D5CDD505-2E9C-101B-9397-08002B2CF9AE}" pid="31" name="TPLaunchHelpLink">
    <vt:lpwstr/>
  </property>
  <property fmtid="{D5CDD505-2E9C-101B-9397-08002B2CF9AE}" pid="32" name="TPLaunchHelpLinkType">
    <vt:lpwstr/>
  </property>
  <property fmtid="{D5CDD505-2E9C-101B-9397-08002B2CF9AE}" pid="33" name="UACurrentWords">
    <vt:lpwstr>0</vt:lpwstr>
  </property>
  <property fmtid="{D5CDD505-2E9C-101B-9397-08002B2CF9AE}" pid="34" name="UALocComments">
    <vt:lpwstr/>
  </property>
  <property fmtid="{D5CDD505-2E9C-101B-9397-08002B2CF9AE}" pid="35" name="UALocRecommendation">
    <vt:lpwstr>Localize</vt:lpwstr>
  </property>
  <property fmtid="{D5CDD505-2E9C-101B-9397-08002B2CF9AE}" pid="36" name="UANotes">
    <vt:lpwstr>Contains image from Hemera. Uses Hemera photos from CAM site which can only be used on Office Online. These templates cannot be distributed in a CD or in the box with any software application.. SEO Pilot 2008</vt:lpwstr>
  </property>
  <property fmtid="{D5CDD505-2E9C-101B-9397-08002B2CF9AE}" pid="37" name="display_urn:schemas-microsoft-com:office:office#APAuthor">
    <vt:lpwstr>REDMOND\cynvey</vt:lpwstr>
  </property>
  <property fmtid="{D5CDD505-2E9C-101B-9397-08002B2CF9AE}" pid="38" name="display_urn:schemas-microsoft-com:office:office#APEditor">
    <vt:lpwstr>REDMOND\v-luannv</vt:lpwstr>
  </property>
</Properties>
</file>