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applause.wav" ContentType="audio/x-wav"/>
  <Override PartName="/ppt/media/image6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A2A-FA3A-4503-AADE-E7977FEE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CD4-CF25-49F8-9D82-CA99BAE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DD1-B538-4030-B4F6-28EBCE17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C71-6DFB-4B5A-93DF-C4B712F6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796-4056-4C6E-ACA8-E495A88D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49D-50EE-42A7-8862-FDC75895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8694-7D57-4C57-A4C3-F9794DD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9E34-26F1-41A2-AE1C-C59465A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D3A7-2C2B-425E-B620-C1D02499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DF33-D00F-4F2C-9A5E-FA7C500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F0F-8D61-48AF-85E0-6C40D37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8C9-B1DD-4C41-8AAE-45353DF9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339F-5029-444E-A336-B37113D1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A1F-B07B-4980-A547-2B3128B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A96D-8AB6-4B1D-9EEB-C0FF588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1C21-B52F-449C-A959-E18D0482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B48F-7A6B-439F-A341-A8740482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646-305A-4F51-A358-2E61245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B26-88AC-444A-B626-58C0D721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B9D-A5D8-4C5D-96CA-14AAB633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AB3-D11E-42A1-9DB2-16F0C10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46-6751-467F-B231-A45A8DF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35C-5231-4CB2-BF86-9BD5DA1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F71-EEEA-47A6-AD5A-9263275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147A-B1F2-4A95-BA3E-7FC660F69EC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0005-49DD-4C4D-B609-D5ACE8B39D6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085160" cy="1066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Николай Некрасов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4292280"/>
            <a:ext cx="525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Century Gothic"/>
              </a:rPr>
              <a:t>Викторина для 3-4класс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9. Что такое зипун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54943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) Шап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Б) Поя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) Тёплая кур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Г)  Шта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52000">
            <a:off x="7165800" y="1181160"/>
            <a:ext cx="7509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05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10. Закончи строчки :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Я их не бью ни весною, ни лето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Шкура – плохая, 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92000" y="3500280"/>
            <a:ext cx="48243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Уж больно худ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Вся шапка облез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Линяет кос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Не купят весн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440" y="685800"/>
            <a:ext cx="64612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 отрывку определи, какое это стихотворе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Глядит – хорошо ли метел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Лесные тропы занесли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трещины, щели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голой земли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54943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Дедушка Мазай и зайц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 «Зеленый шу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Мороз – воевода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2. К какому стихотворению Н.Некрасова сделан этот рисунок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61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ороз красный нос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«Не ветер бушует над боро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Дед Мазай и зайцы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4762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авайте проверим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79280" y="1989000"/>
            <a:ext cx="23367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4-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6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95280" y="1916280"/>
            <a:ext cx="208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8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9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0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1-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2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358200">
            <a:off x="900000" y="1484280"/>
            <a:ext cx="7311960" cy="32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40186" dir="1096358" blurRad="0" rotWithShape="0">
                    <a:srgbClr val="800080">
                      <a:alpha val="50000"/>
                    </a:srgbClr>
                  </a:outerShdw>
                </a:effectLst>
                <a:latin typeface="Arial"/>
              </a:rPr>
              <a:t>Поздравляю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40186" dir="1096358" blurRad="0" rotWithShape="0">
                  <a:srgbClr val="800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208908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05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1. Назовите отчество     Н.Некрасова.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79080" y="2819520"/>
            <a:ext cx="52563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о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Серг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907920"/>
            <a:ext cx="61722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2. Назовите годы жизни Некрасова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4967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А) 1820-1876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Б) 1821-187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) 1799-183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27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3. Сколько лет было Пушкину когда родился Некрасов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360" y="2997000"/>
            <a:ext cx="3044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А) 15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)</a:t>
            </a:r>
            <a:r>
              <a:rPr b="0" i="1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В) 3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374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836280"/>
            <a:ext cx="7086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4. При каком царе родился Некрасов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3068280"/>
            <a:ext cx="5133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андр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Николай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685440"/>
            <a:ext cx="727236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. Какое из двух стихотворен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аписал Некрасов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525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оснулся утра шу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иятн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Открыты ставни; труб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Дым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лбом восходит голубы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В нашей улице жизнь трудова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Начинают ни свет ни з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Свой ужасный концерт, припева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кари, резчики, слес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6. Портрет Н.А.Некрасов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1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57968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2520" y="1844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6520" y="1844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Admin\Рабочий стол\пушкин1\image001.jpg"/>
          <p:cNvPicPr/>
          <p:nvPr/>
        </p:nvPicPr>
        <p:blipFill>
          <a:blip r:embed="rId3"/>
          <a:stretch/>
        </p:blipFill>
        <p:spPr>
          <a:xfrm>
            <a:off x="4500720" y="1557360"/>
            <a:ext cx="169056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раф Л.Н. Толстой"/>
          <p:cNvPicPr/>
          <p:nvPr/>
        </p:nvPicPr>
        <p:blipFill>
          <a:blip r:embed="rId4"/>
          <a:stretch/>
        </p:blipFill>
        <p:spPr>
          <a:xfrm>
            <a:off x="1476360" y="4076640"/>
            <a:ext cx="1674720" cy="223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2520" y="44578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Ханс Кристиан Андерсен"/>
          <p:cNvPicPr/>
          <p:nvPr/>
        </p:nvPicPr>
        <p:blipFill>
          <a:blip r:embed="rId5"/>
          <a:stretch/>
        </p:blipFill>
        <p:spPr>
          <a:xfrm>
            <a:off x="4572000" y="4149720"/>
            <a:ext cx="153180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69080" y="43149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981000"/>
            <a:ext cx="73962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7. Из какого стихотвор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эти строки?</a:t>
            </a: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Смотрят, на задние лапки встают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Лодку качают, грести не дают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3429000"/>
            <a:ext cx="5977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Дедушка Мазай и зайц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 Мужичок с ногото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Мороз - воево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 Зеленый шу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0892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8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У Некрасова есть стихотворение «Мужичок с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440" y="2205000"/>
            <a:ext cx="4805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006000"/>
            <a:ext cx="37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ог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Лок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Мизи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3:40:10Z</dcterms:created>
  <dc:creator>GYPNORION</dc:creator>
  <dc:description/>
  <dc:language>en-US</dc:language>
  <cp:lastModifiedBy>GYPNORION</cp:lastModifiedBy>
  <dcterms:modified xsi:type="dcterms:W3CDTF">2012-02-05T05:53:29Z</dcterms:modified>
  <cp:revision>2</cp:revision>
  <dc:subject/>
  <dc:title>Николай Некра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