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552-2761-4C41-81CF-43FCCD65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8820-C7AC-4A9D-A950-BC15521F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FDC-9169-4C4F-8A6D-4866175E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E0B5-FC38-4132-A401-24CEC873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C9788-0B54-4D91-8C62-FB9E7872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607D8-F85B-4568-968F-9D6F4DAF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BCD86-1238-45D8-9144-31867E3C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9F360-0DF7-4E7F-AA69-D03DEB21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F6F4D-F79B-43DC-8067-0BF9C136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319E0-77F2-474A-9435-62E34D30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0144D-6462-4996-A8E1-55A84FAA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AA2-431E-4366-AD2D-DB831A1C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3B290-7799-428C-9F32-49B953B8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53849-585E-47C3-ABA7-21FE7106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1EF92-0525-405F-865B-03ED61F3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7A20C-F287-452C-9CC8-1CAD95E5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03F5D-69CF-4F33-A324-F5E1ED9A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CD0-8246-4C24-864F-F2430616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AB9-B6FE-4EA8-A66F-A92F742F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E8C-4641-4A38-A32E-8B8DCF68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F0F-71A4-4D30-94DA-86173079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51C-43DC-424B-81CD-FE8EF06A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1D4-65DA-4210-8F8F-D399D129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E99-EFB3-4D3A-B8C4-B3B1294B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428D-E08A-4D7F-83A3-18BC5AAAC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0959-99E0-491F-B78A-6462C1045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Тема 2 « Музыка выражает и изображает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057400" y="609480"/>
            <a:ext cx="4419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узыка может грустить и смеять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узыка может заставить любить и страда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ль и обиду, надежду и счаст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 прочувствовать и передать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вуки музыки могут переда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рисовать картину прир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дать звуки прир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узыка может без сл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67652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ражат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2880" y="1676520"/>
            <a:ext cx="32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ображат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590920"/>
            <a:ext cx="2514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ув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арак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2590920"/>
            <a:ext cx="297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-нибу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вуки прир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19320" y="4572000"/>
            <a:ext cx="190476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24280" y="4114800"/>
            <a:ext cx="30225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узыка очень разная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371600"/>
            <a:ext cx="266688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1600200"/>
            <a:ext cx="17618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е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1523880"/>
            <a:ext cx="259092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05320" y="1828800"/>
            <a:ext cx="1981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длен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1752480"/>
            <a:ext cx="259056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400800" y="1905120"/>
            <a:ext cx="1924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руст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590920"/>
            <a:ext cx="2590560" cy="838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2819520"/>
            <a:ext cx="212436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аско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2819520"/>
            <a:ext cx="2438280" cy="83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05320" y="3048120"/>
            <a:ext cx="1771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3048120"/>
            <a:ext cx="2438280" cy="83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324480" y="3200400"/>
            <a:ext cx="169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и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886200"/>
            <a:ext cx="2667240" cy="83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4114800"/>
            <a:ext cx="155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др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4267080"/>
            <a:ext cx="2514600" cy="838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038480" y="4419720"/>
            <a:ext cx="1524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х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4495680"/>
            <a:ext cx="2514600" cy="838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934320" y="4724280"/>
            <a:ext cx="1704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ром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5334120"/>
            <a:ext cx="3200400" cy="7617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95480" y="5486400"/>
            <a:ext cx="1428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з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амые обычные чувства люд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67652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радос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16765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еча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3629160" cy="2909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3962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4495680" cy="5562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4120" y="1752480"/>
            <a:ext cx="3276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Веселая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Грустная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45720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Бетхове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Веселая.   Грустна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4286160" cy="4419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2-28T17:28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