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546-C762-41DD-887A-0A14E5E7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D8B-5ED5-4EC9-8A29-4B03A990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B35-9C1E-4AF5-ACA9-CF26A28F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28D-42E8-4A13-A957-C88DF5E9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FA9B0-A876-4AA6-B77A-58F12298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E8970-6D2C-46CD-8723-1492840F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D1379-CD3F-4B34-A071-40E2BDA5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2BC0C-AFF4-465D-AD70-A859D815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822F7-B7C1-4CBB-A857-A2B2C180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EE77A-4647-447E-837D-EC0EC682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422B4-5A7C-4AC3-8793-4C1A7FE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B38-D59F-43AF-9707-74DF8FE6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51F93-AC18-4156-80F5-244B976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02DDE-2795-43F9-9606-E40BF81C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F34D-9F9A-4E1D-ADCB-A6268FB2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EBD91-68E9-4CB1-A529-CBC836C5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2447A-DF76-4F5F-AB8B-A4588C87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471-D475-41DF-9823-1EDD0DB5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C0D-2AFC-4A88-9AFD-59BDB6D7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9DC-B18E-436B-AEBF-52A53696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CCE-B399-495A-B14B-2E779DE6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2D7-BAC1-4FE4-A2C4-CECB5E04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350-D7D6-4A35-8C37-47CA575E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F3D-2DC1-4546-A457-58F70D9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3D28-3150-40E2-8118-8B019C43C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56AC-8C49-4DE8-8B1B-1620150D2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Тема 2 « Музыка выражает и изображает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7400" y="609480"/>
            <a:ext cx="4419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зыка может грустить и смеять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зыка может заставить любить и страд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ь и обиду, надежду и счас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прочувствовать и передат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вуки музыки могут перед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исовать картину прир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дать звуки прир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узыка может без сл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6765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2880" y="1676520"/>
            <a:ext cx="32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обража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90920"/>
            <a:ext cx="2514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ув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59092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-нибу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уки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4280" y="4114800"/>
            <a:ext cx="30225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узыка очень разная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371600"/>
            <a:ext cx="26668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600200"/>
            <a:ext cx="1761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523880"/>
            <a:ext cx="25909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05320" y="1828800"/>
            <a:ext cx="1981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дле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1752480"/>
            <a:ext cx="259056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00800" y="1905120"/>
            <a:ext cx="19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уст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90920"/>
            <a:ext cx="2590560" cy="838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2819520"/>
            <a:ext cx="212436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ск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819520"/>
            <a:ext cx="243828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05320" y="3048120"/>
            <a:ext cx="1771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048120"/>
            <a:ext cx="243828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324480" y="3200400"/>
            <a:ext cx="16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886200"/>
            <a:ext cx="266724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4114800"/>
            <a:ext cx="155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др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4267080"/>
            <a:ext cx="251460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038480" y="4419720"/>
            <a:ext cx="1524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х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495680"/>
            <a:ext cx="251460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934320" y="4724280"/>
            <a:ext cx="1704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ом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5334120"/>
            <a:ext cx="3200400" cy="76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95480" y="5486400"/>
            <a:ext cx="1428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з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обычные чувства люд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765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ад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1676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еча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3629160" cy="2909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962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4495680" cy="5562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4120" y="1752480"/>
            <a:ext cx="3276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Веселая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Грустная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572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Бетхове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Веселая.   Грустна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286160" cy="4419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28T17:28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