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111-F1BC-42F0-B4D3-24A55862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0F9-EB05-4C1F-ADBC-CFF77351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18D-4870-43CF-BD3F-F769E5CA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8378-EC42-4CCC-A656-757A25B7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B12A0-EB6E-4E18-9E9E-C9966272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07DE4-8958-47C7-9AAC-70E870C6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91581-8BE5-4D3C-9B6A-3CAD2562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33F83-D56E-4486-AB82-B64C2FC7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FA940-1DA1-4967-BD91-D4647EAB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1DB69-AF6C-4C72-B76A-155FE8F7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FE849-AD23-4D06-A197-D6F3F180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F4D5-F31C-48D4-8656-55FBC133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E957E-3545-4063-9656-D6FFC6AD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71A5A-2ABB-41A3-A092-25AA2F79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70E88-7206-42F5-951D-4C3D152F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442B9-B1B7-410E-8105-DC033EF6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6ACA6-7796-445E-A1E2-F4C7BD8B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6EF-35C3-46A0-ADE0-538D816A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B78D-82B3-411E-9ED4-2D4E2042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0AD-89D2-4AAE-A920-EBAF1B2A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588-31E1-4B53-80FD-FE59C204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490-115C-4F89-B485-FE65800E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1943-8ABA-41E0-BF28-D6FD62CF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1B6-406B-42D1-B0B6-128FCD15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C1DE-DD28-4032-B681-AF3B3C4B41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ED8D-A242-4027-ABA4-8120E81B93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Тема 2 « Музыка выражает и изображает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57400" y="609480"/>
            <a:ext cx="4419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 кла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узыка может грустить и смеятьс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узыка может заставить любить и страда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ль и обиду, надежду и счаст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ет прочувствовать и передать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вуки музыки могут переда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рисовать картину прир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дать звуки прир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узыка может без слов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67652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ражат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52880" y="1676520"/>
            <a:ext cx="32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ображат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590920"/>
            <a:ext cx="2514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ув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арак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2590920"/>
            <a:ext cx="2971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-нибу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вуки прир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19320" y="4572000"/>
            <a:ext cx="1904760" cy="1676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24280" y="4114800"/>
            <a:ext cx="30225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узыка очень разная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371600"/>
            <a:ext cx="266688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1600200"/>
            <a:ext cx="17618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сел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1523880"/>
            <a:ext cx="259092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05320" y="1828800"/>
            <a:ext cx="1981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длен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1752480"/>
            <a:ext cx="259056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400800" y="1905120"/>
            <a:ext cx="1924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руст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590920"/>
            <a:ext cx="2590560" cy="838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2819520"/>
            <a:ext cx="212436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аско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2819520"/>
            <a:ext cx="2438280" cy="83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505320" y="3048120"/>
            <a:ext cx="1771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3048120"/>
            <a:ext cx="2438280" cy="83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324480" y="3200400"/>
            <a:ext cx="169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и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3886200"/>
            <a:ext cx="2667240" cy="83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4114800"/>
            <a:ext cx="1552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др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4267080"/>
            <a:ext cx="2514600" cy="838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038480" y="4419720"/>
            <a:ext cx="1524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их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4495680"/>
            <a:ext cx="2514600" cy="838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934320" y="4724280"/>
            <a:ext cx="1704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ром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5334120"/>
            <a:ext cx="3200400" cy="7617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95480" y="5486400"/>
            <a:ext cx="1428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из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амые обычные чувства люд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67652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радос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16765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еча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3629160" cy="2909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3962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4495680" cy="5562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4120" y="1752480"/>
            <a:ext cx="3276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«Веселая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Грустная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45720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Бетхове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Веселая.   Грустная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4286160" cy="4419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2-28T17:28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