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CD8-6DF0-4493-B2AF-465F6B10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3B7-5583-4530-9CF3-162543DA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266-8728-4D80-A6E1-DB869954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450-68FD-485C-A8BC-A02B652E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01C3-13CA-4589-8A28-C81510BC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BEE0-BF51-432B-A6FF-886ECF99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7570-0590-4CA1-B7E3-594D3C7A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7196-3585-4B41-8E41-1FF7875F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8C9A-70A4-4F84-A757-FF3288CB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E1F9-8D3D-48FD-B7ED-7956345C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0043-4FA4-4FC7-9C46-D938941F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E4D-BA6F-48B6-B2FD-EBB73680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6430-D0CA-4A62-9567-09F70568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9A9A-CE44-4BC5-8B4B-7BC5FEAD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3905-6252-4264-BE13-B53937F5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D005-32CC-4034-B718-3A4ED32B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CE3C-0898-48C2-8205-98581FD6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56D-85DF-4E88-8A4B-5B75F3CD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7AF-F7A4-4DA5-BC21-AA253A95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04E-F3E9-4D7B-B657-C2562684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58E-5B9D-483C-95DA-1B6CA552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A07-F295-4512-967E-AAD6499D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5E7-D8CD-4A38-A769-463F3045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15C-4B15-4E78-BB3D-D34CCD39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DC9F-0CC0-43BB-BB96-AC24D1C130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90D6-37A1-4440-AA7C-8841F22360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oragro.ru/images/vegetable/2_carrots/vegetable_2_carrots_2_h_orig.jpe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priroda.clow.ru/text/1480-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rorastaika.ru/assets/images/February/february_dolgoletnie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flora.sinbir.ru/pic/labaznik3.jpg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22348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Многообразие и значение корней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987280" y="3962520"/>
            <a:ext cx="583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Калюгина Н.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МОУ «СОШ №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Ртищево Саратовской област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3_17_new"/>
          <p:cNvPicPr/>
          <p:nvPr/>
        </p:nvPicPr>
        <p:blipFill>
          <a:blip r:embed="rId1"/>
          <a:stretch/>
        </p:blipFill>
        <p:spPr>
          <a:xfrm>
            <a:off x="324000" y="2060640"/>
            <a:ext cx="3047760" cy="460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03_16_new"/>
          <p:cNvPicPr/>
          <p:nvPr/>
        </p:nvPicPr>
        <p:blipFill>
          <a:blip r:embed="rId2"/>
          <a:stretch/>
        </p:blipFill>
        <p:spPr>
          <a:xfrm>
            <a:off x="2987640" y="1268280"/>
            <a:ext cx="3600360" cy="466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03_09_new"/>
          <p:cNvPicPr/>
          <p:nvPr/>
        </p:nvPicPr>
        <p:blipFill>
          <a:blip r:embed="rId3"/>
          <a:stretch/>
        </p:blipFill>
        <p:spPr>
          <a:xfrm>
            <a:off x="6084720" y="2576520"/>
            <a:ext cx="2409840" cy="4281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124000" y="279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Ходульные корни пандануса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 Black"/>
              </a:rPr>
              <a:t>КОНТРФОРСЫ И ЗМЕЕВИДНЫЕ КОРН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5" descr="03_12_new"/>
          <p:cNvPicPr/>
          <p:nvPr/>
        </p:nvPicPr>
        <p:blipFill>
          <a:blip r:embed="rId1"/>
          <a:stretch/>
        </p:blipFill>
        <p:spPr>
          <a:xfrm>
            <a:off x="4932360" y="1916280"/>
            <a:ext cx="3218040" cy="4392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39924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0" descr="Картинка 7 из 11"/>
          <p:cNvPicPr/>
          <p:nvPr/>
        </p:nvPicPr>
        <p:blipFill>
          <a:blip r:embed="rId2"/>
          <a:stretch/>
        </p:blipFill>
        <p:spPr>
          <a:xfrm>
            <a:off x="755640" y="1989000"/>
            <a:ext cx="3529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ДЫХАТЕЛЬНЫЕ КОР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3" descr="03_14_old"/>
          <p:cNvPicPr/>
          <p:nvPr/>
        </p:nvPicPr>
        <p:blipFill>
          <a:blip r:embed="rId1"/>
          <a:stretch/>
        </p:blipFill>
        <p:spPr>
          <a:xfrm>
            <a:off x="179280" y="2421000"/>
            <a:ext cx="4010040" cy="3089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469080" y="5667480"/>
            <a:ext cx="32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Дыхательные корни ди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мускатного орех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03_19_new"/>
          <p:cNvPicPr/>
          <p:nvPr/>
        </p:nvPicPr>
        <p:blipFill>
          <a:blip r:embed="rId2"/>
          <a:stretch/>
        </p:blipFill>
        <p:spPr>
          <a:xfrm>
            <a:off x="4716360" y="1628640"/>
            <a:ext cx="3959280" cy="33721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4427640" y="5157720"/>
            <a:ext cx="44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Воздушные кор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Флорид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манг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образуют густую и труднопроходим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чащ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ипы корневых сист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6244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тержневая корне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чковатая корне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058760" y="3063960"/>
            <a:ext cx="3573720" cy="2730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5824440" y="3505320"/>
            <a:ext cx="23097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692360" y="549360"/>
            <a:ext cx="50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ункции корне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07080" y="166860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сасы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03600" y="359424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Укрепление в поч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63960" y="4241880"/>
            <a:ext cx="269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егетатив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размн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438880" y="1649520"/>
            <a:ext cx="251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Запас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итатель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2268360" y="981000"/>
            <a:ext cx="719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3276720" y="98100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4067280" y="981000"/>
            <a:ext cx="1009440" cy="33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5364000" y="981000"/>
            <a:ext cx="576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Видоизменения корн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1484280"/>
            <a:ext cx="259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пл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067280" y="1341360"/>
            <a:ext cx="331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вые клуб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971640" y="5877000"/>
            <a:ext cx="33130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вые 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300720" y="5805360"/>
            <a:ext cx="25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убеньки на корн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9" descr="Картинка 8 из 608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060640"/>
            <a:ext cx="1873440" cy="23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480-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335772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Картинка 13 из 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1916280"/>
            <a:ext cx="2304720" cy="244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Картинка 5 из 5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79640" y="3573360"/>
            <a:ext cx="216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3_02_old"/>
          <p:cNvPicPr/>
          <p:nvPr/>
        </p:nvPicPr>
        <p:blipFill>
          <a:blip r:embed="rId1"/>
          <a:stretch/>
        </p:blipFill>
        <p:spPr>
          <a:xfrm>
            <a:off x="468360" y="549360"/>
            <a:ext cx="2717640" cy="4195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476360" y="5157720"/>
            <a:ext cx="65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Это не ствол, а сплетение  огромных лиан ра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образованных  множеством мочковатых корней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свисающих вни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03_03_new"/>
          <p:cNvPicPr/>
          <p:nvPr/>
        </p:nvPicPr>
        <p:blipFill>
          <a:blip r:embed="rId2"/>
          <a:stretch/>
        </p:blipFill>
        <p:spPr>
          <a:xfrm>
            <a:off x="3708360" y="765000"/>
            <a:ext cx="50767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057480" y="556416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Корни-подпорки у банья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Картинка 3 из 1957"/>
          <p:cNvPicPr/>
          <p:nvPr/>
        </p:nvPicPr>
        <p:blipFill>
          <a:blip r:embed="rId1"/>
          <a:stretch/>
        </p:blipFill>
        <p:spPr>
          <a:xfrm>
            <a:off x="5003640" y="836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Картинка 5 из 1957"/>
          <p:cNvPicPr/>
          <p:nvPr/>
        </p:nvPicPr>
        <p:blipFill>
          <a:blip r:embed="rId2"/>
          <a:stretch/>
        </p:blipFill>
        <p:spPr>
          <a:xfrm>
            <a:off x="324000" y="1484280"/>
            <a:ext cx="4103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900000" y="54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ЭПИФИТНЫЕ КОР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119480" y="1989000"/>
            <a:ext cx="441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лоридский фикус-душите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инает жизнь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ени где-нибудь в трещ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го дерева и, развиваяс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бивает 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Картинка 1 из 14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КОРНИ-ПАРАЗ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03_07_new"/>
          <p:cNvPicPr/>
          <p:nvPr/>
        </p:nvPicPr>
        <p:blipFill>
          <a:blip r:embed="rId1"/>
          <a:stretch/>
        </p:blipFill>
        <p:spPr>
          <a:xfrm>
            <a:off x="324000" y="126828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063320" y="1820880"/>
            <a:ext cx="4556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которые тропические раст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адлежат к  семейств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мнецветниковы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ут за счет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крадут питательные веще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репляя свои корни к корн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едних растен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чем жертв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-видимому, нисколь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страд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того, что им приходи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м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лебн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4000" y="6014880"/>
            <a:ext cx="42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уйтсия обильноцветущ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ХОДУЛЬНЫЕ КОР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19840" y="539280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Шагающий панданус во флоридс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аду тропических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859280" y="522936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Пандану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на острове Гавай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Ходульные корни помог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ему выдерживать навод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в затопляемых низи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Картинка 19 из 1381"/>
          <p:cNvPicPr/>
          <p:nvPr/>
        </p:nvPicPr>
        <p:blipFill>
          <a:blip r:embed="rId1"/>
          <a:stretch/>
        </p:blipFill>
        <p:spPr>
          <a:xfrm>
            <a:off x="5651640" y="1413000"/>
            <a:ext cx="2966760" cy="3881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i?id=31330170&amp;tov=0"/>
          <p:cNvPicPr/>
          <p:nvPr/>
        </p:nvPicPr>
        <p:blipFill>
          <a:blip r:embed="rId2"/>
          <a:stretch/>
        </p:blipFill>
        <p:spPr>
          <a:xfrm>
            <a:off x="1042920" y="1341360"/>
            <a:ext cx="3097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17:04Z</dcterms:created>
  <dc:creator>Пользователь</dc:creator>
  <dc:description/>
  <dc:language>en-US</dc:language>
  <cp:lastModifiedBy>наталья</cp:lastModifiedBy>
  <dcterms:modified xsi:type="dcterms:W3CDTF">2013-05-05T19:40:28Z</dcterms:modified>
  <cp:revision>4</cp:revision>
  <dc:subject/>
  <dc:title>Слайд 1</dc:title>
</cp:coreProperties>
</file>