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A575-6DEE-4C97-9BFA-FA751BC2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7EE5-31A3-4146-9FAC-98E2F03C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947E-50A3-4E83-9A5A-A4A7A3AA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3527-1D29-4C31-8E87-380C3673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CA72-11AC-4A8D-9D21-8F6998E3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CA61-5070-49DC-A657-7A49571A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D3BF-EDBC-4E24-BC99-191F5B54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DAA5-4FD8-44F1-B225-33D46618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E58B-D7ED-4037-99B4-5D19889E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446D-7962-4C04-A035-AA46C0CB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F069-7907-4689-B8C9-D878DE67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7FA0-4D25-4D0C-9948-D06D2C94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8586-399A-437D-8F22-D8C8CD92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B8AB-2D4C-428E-806A-D0F9ED15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3BCB-7055-4860-9488-6349F506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1BB1-C663-4FAF-A6D2-29D1A19F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03F6-C702-4713-A4D4-D53396F9F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6F8A-12F6-426E-99B5-F9E93425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F7B6-A42A-4B60-809E-B09A3C52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8EC1-0AC3-4482-8355-B145FF88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276C-EF84-4DFB-AE89-B408558D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D204-B22E-429C-AFFC-B6256496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E9EB-63B6-4238-9BCD-77075084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8279-F04C-4497-AA26-173C67B8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1BA7-12C1-4B62-B98C-8AB9A9711A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328E-B147-4625-A098-4E55641A53B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oragro.ru/images/vegetable/2_carrots/vegetable_2_carrots_2_h_orig.jpe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priroda.clow.ru/text/1480-3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prorastaika.ru/assets/images/February/february_dolgoletnie.jp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www.flora.sinbir.ru/pic/labaznik3.jpg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223480" cy="20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Многообразие и значение корней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987280" y="3962520"/>
            <a:ext cx="583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 Калюгина Н.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МОУ «СОШ №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. Ртищево Саратовской област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03_17_new"/>
          <p:cNvPicPr/>
          <p:nvPr/>
        </p:nvPicPr>
        <p:blipFill>
          <a:blip r:embed="rId1"/>
          <a:stretch/>
        </p:blipFill>
        <p:spPr>
          <a:xfrm>
            <a:off x="324000" y="2060640"/>
            <a:ext cx="3047760" cy="4608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03_16_new"/>
          <p:cNvPicPr/>
          <p:nvPr/>
        </p:nvPicPr>
        <p:blipFill>
          <a:blip r:embed="rId2"/>
          <a:stretch/>
        </p:blipFill>
        <p:spPr>
          <a:xfrm>
            <a:off x="2987640" y="1268280"/>
            <a:ext cx="3600360" cy="4662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03_09_new"/>
          <p:cNvPicPr/>
          <p:nvPr/>
        </p:nvPicPr>
        <p:blipFill>
          <a:blip r:embed="rId3"/>
          <a:stretch/>
        </p:blipFill>
        <p:spPr>
          <a:xfrm>
            <a:off x="6084720" y="2576520"/>
            <a:ext cx="2409840" cy="42814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2124000" y="27936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Ходульные корни пандануса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Arial Black"/>
              </a:rPr>
              <a:t>КОНТРФОРСЫ И ЗМЕЕВИДНЫЕ КОРНИ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Picture 5" descr="03_12_new"/>
          <p:cNvPicPr/>
          <p:nvPr/>
        </p:nvPicPr>
        <p:blipFill>
          <a:blip r:embed="rId1"/>
          <a:stretch/>
        </p:blipFill>
        <p:spPr>
          <a:xfrm>
            <a:off x="4932360" y="1916280"/>
            <a:ext cx="3218040" cy="43923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8"/>
          <p:cNvSpPr/>
          <p:nvPr/>
        </p:nvSpPr>
        <p:spPr>
          <a:xfrm>
            <a:off x="39924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10" descr="Картинка 7 из 11"/>
          <p:cNvPicPr/>
          <p:nvPr/>
        </p:nvPicPr>
        <p:blipFill>
          <a:blip r:embed="rId2"/>
          <a:stretch/>
        </p:blipFill>
        <p:spPr>
          <a:xfrm>
            <a:off x="755640" y="1989000"/>
            <a:ext cx="3529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 Black"/>
              </a:rPr>
              <a:t>ДЫХАТЕЛЬНЫЕ КОРН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0" name="Picture 3" descr="03_14_old"/>
          <p:cNvPicPr/>
          <p:nvPr/>
        </p:nvPicPr>
        <p:blipFill>
          <a:blip r:embed="rId1"/>
          <a:stretch/>
        </p:blipFill>
        <p:spPr>
          <a:xfrm>
            <a:off x="179280" y="2421000"/>
            <a:ext cx="4010040" cy="3089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469080" y="5667480"/>
            <a:ext cx="32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Дыхательные корни дик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мускатного орех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03_19_new"/>
          <p:cNvPicPr/>
          <p:nvPr/>
        </p:nvPicPr>
        <p:blipFill>
          <a:blip r:embed="rId2"/>
          <a:stretch/>
        </p:blipFill>
        <p:spPr>
          <a:xfrm>
            <a:off x="4716360" y="1628640"/>
            <a:ext cx="3959280" cy="33721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4427640" y="5157720"/>
            <a:ext cx="446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Воздушные кор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Флоридск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мангр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образуют густую и труднопроходим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чащ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ипы корневых систе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862440" cy="10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тержневая корневая сист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Мочковатая корневая сист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058760" y="3063960"/>
            <a:ext cx="3573720" cy="2730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5824440" y="3505320"/>
            <a:ext cx="230976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692360" y="549360"/>
            <a:ext cx="505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ункции корне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07080" y="1668600"/>
            <a:ext cx="23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Всасы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03600" y="3594240"/>
            <a:ext cx="37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Укрепление в поч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863960" y="4241880"/>
            <a:ext cx="269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Вегетативн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размн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438880" y="1649520"/>
            <a:ext cx="251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Запас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питатель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 flipH="1">
            <a:off x="2268360" y="981000"/>
            <a:ext cx="71928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3276720" y="981000"/>
            <a:ext cx="0" cy="266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4067280" y="981000"/>
            <a:ext cx="1009440" cy="331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5364000" y="981000"/>
            <a:ext cx="57636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Видоизменения корне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39640" y="1484280"/>
            <a:ext cx="259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непл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4067280" y="1341360"/>
            <a:ext cx="33130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невые клуб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971640" y="5877000"/>
            <a:ext cx="331308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невые  ши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6300720" y="5805360"/>
            <a:ext cx="251928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убеньки на корн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9" descr="Картинка 8 из 608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060640"/>
            <a:ext cx="1873440" cy="2376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1480-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335772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Картинка 13 из 2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40360" y="1916280"/>
            <a:ext cx="2304720" cy="2447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Картинка 5 из 5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979640" y="3573360"/>
            <a:ext cx="2160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03_02_old"/>
          <p:cNvPicPr/>
          <p:nvPr/>
        </p:nvPicPr>
        <p:blipFill>
          <a:blip r:embed="rId1"/>
          <a:stretch/>
        </p:blipFill>
        <p:spPr>
          <a:xfrm>
            <a:off x="468360" y="549360"/>
            <a:ext cx="2717640" cy="41958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1476360" y="5157720"/>
            <a:ext cx="655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Это не ствол, а сплетение  огромных лиан ра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образованных  множеством мочковатых корней,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свисающих вниз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03_03_new"/>
          <p:cNvPicPr/>
          <p:nvPr/>
        </p:nvPicPr>
        <p:blipFill>
          <a:blip r:embed="rId2"/>
          <a:stretch/>
        </p:blipFill>
        <p:spPr>
          <a:xfrm>
            <a:off x="3708360" y="765000"/>
            <a:ext cx="507672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3057480" y="556416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Корни-подпорки у банья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Картинка 3 из 1957"/>
          <p:cNvPicPr/>
          <p:nvPr/>
        </p:nvPicPr>
        <p:blipFill>
          <a:blip r:embed="rId1"/>
          <a:stretch/>
        </p:blipFill>
        <p:spPr>
          <a:xfrm>
            <a:off x="5003640" y="83664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Картинка 5 из 1957"/>
          <p:cNvPicPr/>
          <p:nvPr/>
        </p:nvPicPr>
        <p:blipFill>
          <a:blip r:embed="rId2"/>
          <a:stretch/>
        </p:blipFill>
        <p:spPr>
          <a:xfrm>
            <a:off x="324000" y="1484280"/>
            <a:ext cx="41036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900000" y="549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ЭПИФИТНЫЕ КОРН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119480" y="1989000"/>
            <a:ext cx="4413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лоридский фикус-душител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чинает жизнь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ени где-нибудь в трещ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ого дерева и, развиваяс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бивает е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Картинка 1 из 14"/>
          <p:cNvPicPr/>
          <p:nvPr/>
        </p:nvPicPr>
        <p:blipFill>
          <a:blip r:embed="rId1"/>
          <a:stretch/>
        </p:blipFill>
        <p:spPr>
          <a:xfrm>
            <a:off x="611280" y="1628640"/>
            <a:ext cx="3456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 Black"/>
              </a:rPr>
              <a:t>КОРНИ-ПАРАЗИ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3" descr="03_07_new"/>
          <p:cNvPicPr/>
          <p:nvPr/>
        </p:nvPicPr>
        <p:blipFill>
          <a:blip r:embed="rId1"/>
          <a:stretch/>
        </p:blipFill>
        <p:spPr>
          <a:xfrm>
            <a:off x="324000" y="1268280"/>
            <a:ext cx="3527280" cy="4392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4063320" y="1820880"/>
            <a:ext cx="455616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которые тропические раст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надлежат к  семейств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мнецветниковы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вут за счет друг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и крадут питательные веществ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крепляя свои корни к корня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едних растени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чем жертв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-видимому, нисколь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страдаю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 того, что им приходи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рм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хлебни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24000" y="6014880"/>
            <a:ext cx="42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Нуйтсия обильноцветущ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 Black"/>
              </a:rPr>
              <a:t>ХОДУЛЬНЫЕ КОРН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19840" y="5392800"/>
            <a:ext cx="41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Шагающий панданус во флоридск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саду тропических раст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4859280" y="5229360"/>
            <a:ext cx="374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Пандану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на острове Гавай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Ходульные корни помога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ему выдерживать навод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в затопляемых низин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8" descr="Картинка 19 из 1381"/>
          <p:cNvPicPr/>
          <p:nvPr/>
        </p:nvPicPr>
        <p:blipFill>
          <a:blip r:embed="rId1"/>
          <a:stretch/>
        </p:blipFill>
        <p:spPr>
          <a:xfrm>
            <a:off x="5651640" y="1413000"/>
            <a:ext cx="2966760" cy="3881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i?id=31330170&amp;tov=0"/>
          <p:cNvPicPr/>
          <p:nvPr/>
        </p:nvPicPr>
        <p:blipFill>
          <a:blip r:embed="rId2"/>
          <a:stretch/>
        </p:blipFill>
        <p:spPr>
          <a:xfrm>
            <a:off x="1042920" y="1341360"/>
            <a:ext cx="30974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7:17:04Z</dcterms:created>
  <dc:creator>Пользователь</dc:creator>
  <dc:description/>
  <dc:language>en-US</dc:language>
  <cp:lastModifiedBy>наталья</cp:lastModifiedBy>
  <dcterms:modified xsi:type="dcterms:W3CDTF">2013-05-05T19:40:28Z</dcterms:modified>
  <cp:revision>4</cp:revision>
  <dc:subject/>
  <dc:title>Слайд 1</dc:title>
</cp:coreProperties>
</file>