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8B2-9D28-464D-BF28-EE98CBCA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8EF-0611-4CD9-BA20-9C2D6C0C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A74-3690-49C4-855C-F7A3086E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3C6-2F96-4FA9-9380-99512607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9B6B-2500-4134-9F25-BF53530F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A6A3-7A56-4B6F-931E-DD915DB5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2607-88AD-4511-B54D-81604064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366F-8183-424B-B941-D831A584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08C5-1BA4-47EB-9193-B15193F7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A3B9-E800-4B73-9FB9-07C8BD4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9D8C-D05B-4F97-8FF8-F2345F60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571-7CDC-4E20-9C46-6055D70B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FC5C-6547-40FC-A5D5-354C8978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7AFD-E835-4787-9989-96D76425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8522-6EE1-44E4-A667-764E067B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C1DF-680D-44C3-85C7-5276CB87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FF07-5165-40D6-8E31-4884BDA2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C78-9E79-4DA5-A1D2-9500AA31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FCD-D40C-456A-94B0-C3381CFD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928-8A36-45B4-A741-E37C7245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898-65AC-4C30-9864-9EF61FC3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179-94BB-4811-847A-C2847C23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656-FCCC-40C8-AD15-C6F39CAE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EF9-70BF-4D1E-ACA5-3BC1CD50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9C22-F95B-4622-820F-80D7868B86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E752-D0FD-4882-AB7D-6B57AEC3C9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oragro.ru/images/vegetable/2_carrots/vegetable_2_carrots_2_h_orig.jpe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priroda.clow.ru/text/1480-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rorastaika.ru/assets/images/February/february_dolgoletnie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flora.sinbir.ru/pic/labaznik3.jpg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22348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Многообразие и значение корней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987280" y="3962520"/>
            <a:ext cx="583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Калюгина Н.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МОУ «СОШ №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Ртищево Саратовской област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3_17_new"/>
          <p:cNvPicPr/>
          <p:nvPr/>
        </p:nvPicPr>
        <p:blipFill>
          <a:blip r:embed="rId1"/>
          <a:stretch/>
        </p:blipFill>
        <p:spPr>
          <a:xfrm>
            <a:off x="324000" y="2060640"/>
            <a:ext cx="3047760" cy="460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03_16_new"/>
          <p:cNvPicPr/>
          <p:nvPr/>
        </p:nvPicPr>
        <p:blipFill>
          <a:blip r:embed="rId2"/>
          <a:stretch/>
        </p:blipFill>
        <p:spPr>
          <a:xfrm>
            <a:off x="2987640" y="1268280"/>
            <a:ext cx="3600360" cy="466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03_09_new"/>
          <p:cNvPicPr/>
          <p:nvPr/>
        </p:nvPicPr>
        <p:blipFill>
          <a:blip r:embed="rId3"/>
          <a:stretch/>
        </p:blipFill>
        <p:spPr>
          <a:xfrm>
            <a:off x="6084720" y="2576520"/>
            <a:ext cx="2409840" cy="4281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124000" y="279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Ходульные корни пандануса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 Black"/>
              </a:rPr>
              <a:t>КОНТРФОРСЫ И ЗМЕЕВИДНЫЕ КОРН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5" descr="03_12_new"/>
          <p:cNvPicPr/>
          <p:nvPr/>
        </p:nvPicPr>
        <p:blipFill>
          <a:blip r:embed="rId1"/>
          <a:stretch/>
        </p:blipFill>
        <p:spPr>
          <a:xfrm>
            <a:off x="4932360" y="1916280"/>
            <a:ext cx="3218040" cy="4392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39924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0" descr="Картинка 7 из 11"/>
          <p:cNvPicPr/>
          <p:nvPr/>
        </p:nvPicPr>
        <p:blipFill>
          <a:blip r:embed="rId2"/>
          <a:stretch/>
        </p:blipFill>
        <p:spPr>
          <a:xfrm>
            <a:off x="755640" y="1989000"/>
            <a:ext cx="3529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ДЫХАТЕЛЬНЫЕ КОР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3" descr="03_14_old"/>
          <p:cNvPicPr/>
          <p:nvPr/>
        </p:nvPicPr>
        <p:blipFill>
          <a:blip r:embed="rId1"/>
          <a:stretch/>
        </p:blipFill>
        <p:spPr>
          <a:xfrm>
            <a:off x="179280" y="2421000"/>
            <a:ext cx="4010040" cy="3089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469080" y="5667480"/>
            <a:ext cx="32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Дыхательные корни ди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мускатного орех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03_19_new"/>
          <p:cNvPicPr/>
          <p:nvPr/>
        </p:nvPicPr>
        <p:blipFill>
          <a:blip r:embed="rId2"/>
          <a:stretch/>
        </p:blipFill>
        <p:spPr>
          <a:xfrm>
            <a:off x="4716360" y="1628640"/>
            <a:ext cx="3959280" cy="33721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4427640" y="5157720"/>
            <a:ext cx="44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Воздушные кор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Флорид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манг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образуют густую и труднопроходим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чащ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ипы корневых сист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6244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тержневая корне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чковатая корне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058760" y="3063960"/>
            <a:ext cx="3573720" cy="2730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5824440" y="3505320"/>
            <a:ext cx="23097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692360" y="549360"/>
            <a:ext cx="50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ункции корне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07080" y="166860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сасы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03600" y="359424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Укрепление в поч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63960" y="4241880"/>
            <a:ext cx="269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егетатив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размн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438880" y="1649520"/>
            <a:ext cx="251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Запас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итатель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2268360" y="981000"/>
            <a:ext cx="719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3276720" y="98100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4067280" y="981000"/>
            <a:ext cx="1009440" cy="33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5364000" y="981000"/>
            <a:ext cx="576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Видоизменения корн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1484280"/>
            <a:ext cx="259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пл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067280" y="1341360"/>
            <a:ext cx="331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вые клуб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971640" y="5877000"/>
            <a:ext cx="33130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вые 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300720" y="5805360"/>
            <a:ext cx="25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убеньки на корн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9" descr="Картинка 8 из 608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060640"/>
            <a:ext cx="1873440" cy="23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480-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335772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Картинка 13 из 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1916280"/>
            <a:ext cx="2304720" cy="244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Картинка 5 из 5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79640" y="3573360"/>
            <a:ext cx="216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3_02_old"/>
          <p:cNvPicPr/>
          <p:nvPr/>
        </p:nvPicPr>
        <p:blipFill>
          <a:blip r:embed="rId1"/>
          <a:stretch/>
        </p:blipFill>
        <p:spPr>
          <a:xfrm>
            <a:off x="468360" y="549360"/>
            <a:ext cx="2717640" cy="4195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476360" y="5157720"/>
            <a:ext cx="65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Это не ствол, а сплетение  огромных лиан ра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образованных  множеством мочковатых корней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свисающих вни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03_03_new"/>
          <p:cNvPicPr/>
          <p:nvPr/>
        </p:nvPicPr>
        <p:blipFill>
          <a:blip r:embed="rId2"/>
          <a:stretch/>
        </p:blipFill>
        <p:spPr>
          <a:xfrm>
            <a:off x="3708360" y="765000"/>
            <a:ext cx="50767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057480" y="556416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Корни-подпорки у банья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Картинка 3 из 1957"/>
          <p:cNvPicPr/>
          <p:nvPr/>
        </p:nvPicPr>
        <p:blipFill>
          <a:blip r:embed="rId1"/>
          <a:stretch/>
        </p:blipFill>
        <p:spPr>
          <a:xfrm>
            <a:off x="5003640" y="836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Картинка 5 из 1957"/>
          <p:cNvPicPr/>
          <p:nvPr/>
        </p:nvPicPr>
        <p:blipFill>
          <a:blip r:embed="rId2"/>
          <a:stretch/>
        </p:blipFill>
        <p:spPr>
          <a:xfrm>
            <a:off x="324000" y="1484280"/>
            <a:ext cx="4103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900000" y="54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ЭПИФИТНЫЕ КОР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119480" y="1989000"/>
            <a:ext cx="441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лоридский фикус-душите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инает жизнь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ени где-нибудь в трещ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ого дерева и, развиваяс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бивает 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Картинка 1 из 14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КОРНИ-ПАРАЗ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03_07_new"/>
          <p:cNvPicPr/>
          <p:nvPr/>
        </p:nvPicPr>
        <p:blipFill>
          <a:blip r:embed="rId1"/>
          <a:stretch/>
        </p:blipFill>
        <p:spPr>
          <a:xfrm>
            <a:off x="324000" y="126828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063320" y="1820880"/>
            <a:ext cx="4556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которые тропические раст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адлежат к  семейств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мнецветниковы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ут за счет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крадут питательные веще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репляя свои корни к корн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едних растен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чем жертв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-видимому, нисколь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страд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того, что им приходи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м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лебн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4000" y="6014880"/>
            <a:ext cx="42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уйтсия обильноцветущ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ХОДУЛЬНЫЕ КОР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19840" y="539280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Шагающий панданус во флоридс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аду тропических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859280" y="522936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Пандану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на острове Гавай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Ходульные корни помог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ему выдерживать навод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в затопляемых низи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Картинка 19 из 1381"/>
          <p:cNvPicPr/>
          <p:nvPr/>
        </p:nvPicPr>
        <p:blipFill>
          <a:blip r:embed="rId1"/>
          <a:stretch/>
        </p:blipFill>
        <p:spPr>
          <a:xfrm>
            <a:off x="5651640" y="1413000"/>
            <a:ext cx="2966760" cy="3881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i?id=31330170&amp;tov=0"/>
          <p:cNvPicPr/>
          <p:nvPr/>
        </p:nvPicPr>
        <p:blipFill>
          <a:blip r:embed="rId2"/>
          <a:stretch/>
        </p:blipFill>
        <p:spPr>
          <a:xfrm>
            <a:off x="1042920" y="1341360"/>
            <a:ext cx="3097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17:04Z</dcterms:created>
  <dc:creator>Пользователь</dc:creator>
  <dc:description/>
  <dc:language>en-US</dc:language>
  <cp:lastModifiedBy>наталья</cp:lastModifiedBy>
  <dcterms:modified xsi:type="dcterms:W3CDTF">2013-05-05T19:40:28Z</dcterms:modified>
  <cp:revision>4</cp:revision>
  <dc:subject/>
  <dc:title>Слайд 1</dc:title>
</cp:coreProperties>
</file>