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37C-713E-4C3D-815D-D9F29A8D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7B2-CCB5-4C48-89CC-36D5D92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C63-39DF-4AAE-AD18-0F96E1B9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6FE-820C-470C-8F8A-33B3A9C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464C3-C154-47F3-A7A5-98948510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304DC-E824-4DE2-A38C-15F175ED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7D0DC-ED6C-4948-A7E9-ADC5677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3D438-878D-452D-BAE2-227C5B7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9981-254E-484C-848C-463F2162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42E83-EA5A-429C-8DE9-576CA320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E1A66-F4C8-474F-8E56-00308C82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958-3664-4277-B700-DE109745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7B0A4-7E97-4AA3-A016-0CE0893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571D5-1001-4A5E-8183-7AA79E5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6888A-39F3-4494-953E-657C5696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CD1D-17EB-4C95-BCB6-60EA308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E7D2-ADC3-4A36-A8F2-5674F573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7A90-5C15-4558-91D7-0E411C37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908E-0FCE-4D98-9845-8FDD18D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D42C-E9F1-477F-A6BD-D556411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CBA5-2384-4601-A668-FAA63B89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3A8B-C559-4520-9041-0844625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A33-7819-4965-88F3-60CC5D35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6D7BF-7413-4223-BAC4-8C6BB28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87DF-A07E-4355-A85A-E62A55C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BA6F-DBB5-4B3D-9DF5-CB0E218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7908-48C6-4723-BC0C-A3E8D10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C3C4-6C51-4B91-8B87-419219C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FA4D-7E79-4660-9BF0-D4A1CE1C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F565-EFE7-4397-A4A2-2D33A216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5FC2-20D1-4C2C-ABA2-D2C3D7EC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0155-AF6E-420F-872C-7C3D1580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0452-E296-41A1-833E-8590E80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883-1CC8-498B-988E-5647FAE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6DC9-40CA-49F6-B00D-247AB28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622E-3FD4-4248-B652-D4368C6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78C8-D267-4361-A736-94F6A5C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4671-0926-4715-8F4E-712BA1D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12E3-A839-467F-81AB-5011B44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66C4-2CEE-4708-B847-64895A5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55CD-899C-4267-A5B1-FC591EBC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E1C4-863C-485D-841C-15A34190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5412-C738-40A6-A752-58BA064D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54A-6748-4B68-BE1A-CD5B6E5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1A7-E180-4A5D-AAC9-82AB193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857-AEC6-4AAF-B15A-C2FB1BF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8ED-8B83-4E8E-95F5-72DC434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102-D2E5-47CE-A947-2D57096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057-B1A1-48B3-8588-C9598A0AB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2116-AE33-4FBD-80FF-990AB919CD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9A1-1085-4D92-98C8-7C9089D5BA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823-39B4-4DB9-939D-A304CA0437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Мир </a:t>
            </a: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секомых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атчинского Дома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каркина Ольга Викто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F:\фото для ЦИТ\DSC00001.JPG"/>
          <p:cNvPicPr/>
          <p:nvPr/>
        </p:nvPicPr>
        <p:blipFill>
          <a:blip r:embed="rId1"/>
          <a:stretch/>
        </p:blipFill>
        <p:spPr>
          <a:xfrm>
            <a:off x="395280" y="692280"/>
            <a:ext cx="3622680" cy="271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абочка Шашечница красная, Дидим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шечница красная = Melitaea didyma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Nymphalidae = Нимфалиды, многоцветниц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elitaea didyma (Esper, 1779) = Шашечница красная, Дид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7" descr="http://img-fotki.yandex.ru/get/32/torgachkin.a1/0_193af_62c85ccc_L"/>
          <p:cNvPicPr/>
          <p:nvPr/>
        </p:nvPicPr>
        <p:blipFill>
          <a:blip r:embed="rId1"/>
          <a:stretch/>
        </p:blipFill>
        <p:spPr>
          <a:xfrm>
            <a:off x="5148360" y="2205000"/>
            <a:ext cx="3827520" cy="285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0_18dc7_af96ab28_L"/>
          <p:cNvPicPr/>
          <p:nvPr/>
        </p:nvPicPr>
        <p:blipFill>
          <a:blip r:embed="rId1"/>
          <a:stretch/>
        </p:blipFill>
        <p:spPr>
          <a:xfrm>
            <a:off x="1835280" y="1916280"/>
            <a:ext cx="621504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Нимфа 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0_c1ff_629c09dc_L"/>
          <p:cNvPicPr/>
          <p:nvPr/>
        </p:nvPicPr>
        <p:blipFill>
          <a:blip r:embed="rId1"/>
          <a:stretch/>
        </p:blipFill>
        <p:spPr>
          <a:xfrm>
            <a:off x="2124000" y="1916280"/>
            <a:ext cx="51562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льшой ночной 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0_3b63_e2590add_L"/>
          <p:cNvPicPr/>
          <p:nvPr/>
        </p:nvPicPr>
        <p:blipFill>
          <a:blip r:embed="rId1"/>
          <a:stretch/>
        </p:blipFill>
        <p:spPr>
          <a:xfrm>
            <a:off x="1908000" y="1844640"/>
            <a:ext cx="55008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бочки капустниц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0_f9e6_5d0851a1_L"/>
          <p:cNvPicPr/>
          <p:nvPr/>
        </p:nvPicPr>
        <p:blipFill>
          <a:blip r:embed="rId1"/>
          <a:stretch/>
        </p:blipFill>
        <p:spPr>
          <a:xfrm>
            <a:off x="3059280" y="177336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ярышниц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ярышница (лат. Aporia crataegi) — бабочка, вредная плодовым деревьям, принадлежит к семейству белянок (Pieridae), из группы дневных бабочек. Прежде она производила чуть ли не большие опустошения в садах, чем капустница на огородах, но в последние годы попадается реже вследствие неоднократного наступления неблагоприятной погоды во время её спари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8" descr="0_18c59_a12b7d5a_L"/>
          <p:cNvPicPr/>
          <p:nvPr/>
        </p:nvPicPr>
        <p:blipFill>
          <a:blip r:embed="rId1"/>
          <a:stretch/>
        </p:blipFill>
        <p:spPr>
          <a:xfrm>
            <a:off x="5076720" y="2492280"/>
            <a:ext cx="4067280" cy="272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763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бабочка имеет от 50 до 60 мм в размахе крыльев, которые у неё белые с чёрными жилками; передние — с закругленною вершиною. Боярышница распространена по всей Европе, а также в Северной и Средней Азии до Японии. Бабочки выходят из куколки в июне, а на юге уже в мае. При выходе они выпускают из себя красную жидкость, которая там, где боярышниц очень много, подавала повод к толкам о так называемых кровяных дождях. Вылупившиеся бабочки порхают по цветам, затем совокупляются, и оплодотворенные самки откладывают от 60 до 100 удлиненно-яйцевидных желтых яичек кучками на верхнюю сторону листьев различных деревьев, особенно слив, груш, яблонь, абрикосов, боярышника и рябины. Недели через две из яичек вылупляются гусеницы. Гусеница боярышницы пепельного цвета, на спине чёрная с двумя широкими оранжевыми или буроватыми продольными полос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14320" y="9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лупившиеся гусеницы обвивают листья паутинными нитями и объедают их; обвитые листья буреют и свертываются. Гусеницы растут медленно и зимуют на деревьях, в гнездах, состоящих из нескольких обвитых нитями листьев и легко бросающихся в глаза, когда опадут прочие листья. Весною гусеницы выползают из гнезд, переходят на почки и приготовляют себе новое, более обширное гнездо, в которое они возвращаются по вечерам и при возвращении холодной погоды. После последней линьки гусеницы начинают быстро расти. Если прочно установится теплая погода, то гусеницы не возвращаются более в гнездо и первоначально держатся ещё группами, а впоследствии, будучи более взрослыми, расползаются в разные стороны. В июне, а на юге ещё в начале мая превращаются — в зеленовато-желтую или беловатую с чёрными пятнами куколку, которая по большей части имеет горизонтальное положение. Подобные же гнезда устраивают гусеницы другой бабочки — шелкопряды златогузки (Liparis s. Porthesia chrysorrhoea), и потому гнезда гусениц боярышниц называют «малыми», в отличие от гнезд гусениц златогузки, называемых «большим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Гусеница бабочки 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пустницы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0_5545_a26e5c81_L"/>
          <p:cNvPicPr/>
          <p:nvPr/>
        </p:nvPicPr>
        <p:blipFill>
          <a:blip r:embed="rId1"/>
          <a:stretch/>
        </p:blipFill>
        <p:spPr>
          <a:xfrm>
            <a:off x="1908000" y="1844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спользованная литерату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otki.yandex.ru/users/torgachkin/view/19072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дмира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ип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ленистоноги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секом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ылат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д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Amphiesmenoptera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шуекрыл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d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n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о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анессы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и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дми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http://img-fotki.yandex.ru/get/2709/kisya1432.1/0_21da1_58eb2b2a_L"/>
          <p:cNvPicPr/>
          <p:nvPr/>
        </p:nvPicPr>
        <p:blipFill>
          <a:blip r:embed="rId1"/>
          <a:stretch/>
        </p:blipFill>
        <p:spPr>
          <a:xfrm>
            <a:off x="4140360" y="2421000"/>
            <a:ext cx="3922560" cy="29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Желтушка шафранная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ли почтовый рожок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елтушка шафранная или Почтовый рожок = Colias crocea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Pieridae = Белян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семейство: Coliadinae = Желтуш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д: Colias crocea (Geoffroy, 1785) = Желтушка шафранная, Почтовый рожо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 Примечание: Croceus (с латинского) - шафрановый, то есть ярко-желтый цв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http://img-fotki.yandex.ru/get/24/lesya-denisova.4/0_b720_aaabedb9_L"/>
          <p:cNvPicPr/>
          <p:nvPr/>
        </p:nvPicPr>
        <p:blipFill>
          <a:blip r:embed="rId1"/>
          <a:stretch/>
        </p:blipFill>
        <p:spPr>
          <a:xfrm>
            <a:off x="4716360" y="2781360"/>
            <a:ext cx="343872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итание бабоче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бабочек питается нектаром цветов, некоторые – соком, вытекающим из деревьев. Некоторые виды тропических бабочек (морфо), любят перебродивший банановый сок. Привлеченные его запахом, они слетаются к соку и, одурманенные, становятся в это время совершенно беззащитными. Есть бабочки, которые любят свежий лошадиный навоз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опиках есть бабочки – кровососы. Их грубый хоботок способен прокалывать кожу млекопитающих. Предполагают, что вначале бабочки прокалывали кожицу фруктов, чтобы напиться сока, а потом приноровились пить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ховое чу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турния Буадюваля - CALIGULA BOISDUVALII. Семейство Павлиноглазки. Бабочка, размах крыльев до 10 см, имеет характерные округлые “глазчатые” пятна коричневого цвета, окаймлённые черным кругом в середине каждого крыла. Антенны у самок — гребенчатые, у самцов — перистые. Встречается в широколиственных и смешанных лесах. Летает с конца лета вплоть до заморозков. Является эндемиком (Эндемик - это вид растений или животных, встречающийся только в одном месте планеты) юга Дальнего Востока, Забайкалья и Японии. Вид назван в честь французского энтомолога Буадюваля. Встречается очень редко. Снимок сделан в 50 км от г. Находка, 30 сентября 2007 г. в два часа д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http://img-fotki.yandex.ru/get/5/ovn07valeri.2/0_3d8e_8996092d_L"/>
          <p:cNvPicPr/>
          <p:nvPr/>
        </p:nvPicPr>
        <p:blipFill>
          <a:blip r:embed="rId1"/>
          <a:stretch/>
        </p:blipFill>
        <p:spPr>
          <a:xfrm>
            <a:off x="5292720" y="2449440"/>
            <a:ext cx="3851280" cy="28875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-4572000" y="602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http://img-fotki.yandex.ru/get/5/ovn07valeri.2/0_3d8e_8996092d_L"/>
          <p:cNvPicPr/>
          <p:nvPr/>
        </p:nvPicPr>
        <p:blipFill>
          <a:blip r:embed="rId2"/>
          <a:stretch/>
        </p:blipFill>
        <p:spPr>
          <a:xfrm>
            <a:off x="-6510240" y="2287440"/>
            <a:ext cx="3432240" cy="257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-2679840" y="2369160"/>
            <a:ext cx="199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Сатурния Буадюваля - CALIGU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Бабочки предгорий Кубани и Черноморского побережья Кавказ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Papilionidae = Парусники (Кавалеры)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Zerynthia polyxena ([Denis &amp; Schiffermüller], 1775) = Поликсена, Зеринтия поликс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Поликсена (греческая мифология) - дочь троянского царя Приама и Гекубы, возлюбленная Ахиллеса, принесенная в жертву его тени Неоптолемом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а Поликсена (Zerynthia polyxena) очень красивый и редкий вид парусников, реликт третичного периода. Длина переднего крыла 24-26 мм. Общий тон крыльев желтый со сложным узором из пятен и зубчатых линий черного цвета. На задних крыльях внутрь от зубчатой полосы по краю расположен еще ряд красных пятен. Брюшко с черными и красными пят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окрестностях Новороссийска встречается локально, бабочка летает в апреле – мае, отличить ее можно по неровному порхающему полету низко над землей. Гусеницы питаются листьями различных растений из семейства кирказоновых. Зимует куколка. За год бывает только одно поколение. Лепидоптерологи* (лепидоптерология* - это раздел энтомологии, изучающий бабочек) взяли имя Поликсена для бабочки из античных мифов. Так звали дочь троянского царя Приама. Она сестра Кассандры и возлюбленная героя Ахиллеса. Англичане называют бабочку Поликсену - Southern Festoon и это действительно «южное украшение» так как встречается в Южной Европе и на юге Росс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ttp://img-fotki.yandex.ru/get/5/torgachkin.22/0_4a81_c9008c76_L"/>
          <p:cNvPicPr/>
          <p:nvPr/>
        </p:nvPicPr>
        <p:blipFill>
          <a:blip r:embed="rId1"/>
          <a:stretch/>
        </p:blipFill>
        <p:spPr>
          <a:xfrm>
            <a:off x="3348000" y="1628640"/>
            <a:ext cx="5796000" cy="434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Языкан обыкнов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ан обыкновенный - Macroglossum stellatarum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Sphingidae = Бражни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acroglossum stellatarum (Linnaeus, 1758) = Языкан обыкновенный или бражник-хобо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http://img-fotki.yandex.ru/get/7/torgachkin.81/0_75d7_d568bfb7_L"/>
          <p:cNvPicPr/>
          <p:nvPr/>
        </p:nvPicPr>
        <p:blipFill>
          <a:blip r:embed="rId1"/>
          <a:stretch/>
        </p:blipFill>
        <p:spPr>
          <a:xfrm>
            <a:off x="3924360" y="220500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Червонец огн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Lycaena virgaureae – червонец огненный, самец, семейство голубянки – Lycaenidae / В Красной Книге Москвы, Челябинской области и некоторых других регио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ерное, последняя яркая бабочка в этом году…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явилась передо мной внезапно, и тут же исчезл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rga + aurea (с греческого) - "золотая ветка"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вонец – в честь красно-желтого червонного золота – в царской России ходили монеты из такого золот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шинства видов этого семейства крылья самцов голубовато-переливчаты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сеницы червонца огненного питаются диким щавелем и золотарником, так что бабочек нужно искать на лугах, где встречаются эти раст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img-fotki.yandex.ru/get/2708/evelinalina.a/0_158f9_36bc01ba_L"/>
          <p:cNvPicPr/>
          <p:nvPr/>
        </p:nvPicPr>
        <p:blipFill>
          <a:blip r:embed="rId1"/>
          <a:stretch/>
        </p:blipFill>
        <p:spPr>
          <a:xfrm>
            <a:off x="4643280" y="1628640"/>
            <a:ext cx="4089600" cy="414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13:33Z</dcterms:created>
  <dc:creator>Klass2</dc:creator>
  <dc:description/>
  <dc:language>en-US</dc:language>
  <cp:lastModifiedBy>Zaw</cp:lastModifiedBy>
  <dcterms:modified xsi:type="dcterms:W3CDTF">2009-09-17T09:32:11Z</dcterms:modified>
  <cp:revision>7</cp:revision>
  <dc:subject/>
  <dc:title>Мир насекомых </dc:title>
</cp:coreProperties>
</file>