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627-F14F-45F3-A54E-59CE0486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163-3649-4158-9AB8-A797EDEC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A0B-0B0A-4AB1-9D15-00F21498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D1A-93FF-4645-A594-A5D210AC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FBED5-07D3-4962-920F-B3E19C6C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42B1F-6F34-47DF-AB6B-061EA0D8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B1EFF-2362-4941-99E1-3F28E055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EDA2F-14DB-436A-970A-D0C31D9E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B9920-2619-4FE3-9725-464F1EF3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50B90-FEF2-4A1D-9ED0-1BD964C5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4973E-0E04-4D0E-B1C1-D2682B61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F0A-C120-4EED-B827-A8FADFD5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CDCAF-248E-4724-8360-B99E3E40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9AE6E-E9DE-4C00-B886-0DBBFF89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CB865-29F7-4B57-AFCE-98CFC0E8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034DD-B72F-4214-956E-02C3EE58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35313-68B1-49B9-A169-923BCD5C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79659-F221-455C-B452-455944F3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41036-1B63-49D0-A364-A2321D22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BE85-5037-47D8-95CF-3410FBD8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AED3-0F09-43AA-BE90-EAFF1ECF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937B-CD69-400D-A4A3-07665A9D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046-1A68-41BA-8E80-5FB391BF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F75D3-D8A9-4359-B3E4-7198F500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2933B-B455-494E-A83C-F1E08EA0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BE546-074B-402C-A1F1-501A40CC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649D0-ED79-41D5-9B3C-D750CB74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59AED-EFF0-404F-94C5-EA717F19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C79B-2B7D-49FE-BDCB-A47782C2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4F698-F67D-44C7-BA51-C393A257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4564D-AABD-4B05-88F6-93294880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C0982-A86D-4F96-AD44-8A5E00E4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F7534-0A43-4A30-8BD6-D0A7D748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105-9184-44C3-B53B-5BC950ED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FB3CB-CFD8-415C-B95B-1D73457D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B80E4-9A83-42B7-AD05-B128BE8E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83599-4C26-4EED-9210-39113087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0223C-4FBD-4559-9F24-DF48358D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5140C-EABD-4C5F-9544-1932A9E2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DBEBF-B0F2-4E0C-9BB8-975C4FA3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9C11C-F941-4EB9-B4A1-0E81565F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341B3-F2F5-4C19-A637-4DD8474B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5AE72-B621-4064-B006-C993935B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054-4027-4A44-AD03-2468A24A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994-835D-4872-9DEB-8BD402EB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92D-CF6A-45DF-9091-9E282BBE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303-7905-4226-A21C-98AA91A2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D75-E1C4-42FA-ACFB-BF01B461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C978-2F4E-4ADD-9B11-2408A47517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9806-EA6E-461F-936C-B05B43FCCE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8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692E-BAA8-4AC9-85EE-5A577BC348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5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D02D-0D64-4DF5-A958-14090ACD88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Мир </a:t>
            </a:r>
            <a:br>
              <a:rPr sz="4800"/>
            </a:b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насекомых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резентацию подготови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едагог дополнительного образования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атчинского Дома детского твор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Букаркина Ольга Виктор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Рисунок 5" descr="F:\фото для ЦИТ\DSC00001.JPG"/>
          <p:cNvPicPr/>
          <p:nvPr/>
        </p:nvPicPr>
        <p:blipFill>
          <a:blip r:embed="rId1"/>
          <a:stretch/>
        </p:blipFill>
        <p:spPr>
          <a:xfrm>
            <a:off x="395280" y="692280"/>
            <a:ext cx="3622680" cy="271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Бабочка Шашечница красная, Дидима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ашечница красная = Melitaea didyma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: Lepidoptera = Чешуекрылые, бабочк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мейство: Nymphalidae = Нимфалиды, многоцветницы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: Melitaea didyma (Esper, 1779) = Шашечница красная, Диди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7" descr="http://img-fotki.yandex.ru/get/32/torgachkin.a1/0_193af_62c85ccc_L"/>
          <p:cNvPicPr/>
          <p:nvPr/>
        </p:nvPicPr>
        <p:blipFill>
          <a:blip r:embed="rId1"/>
          <a:stretch/>
        </p:blipFill>
        <p:spPr>
          <a:xfrm>
            <a:off x="5148360" y="2205000"/>
            <a:ext cx="3827520" cy="2854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Павлиний глаз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7" descr="0_18dc7_af96ab28_L"/>
          <p:cNvPicPr/>
          <p:nvPr/>
        </p:nvPicPr>
        <p:blipFill>
          <a:blip r:embed="rId1"/>
          <a:stretch/>
        </p:blipFill>
        <p:spPr>
          <a:xfrm>
            <a:off x="1835280" y="1916280"/>
            <a:ext cx="621504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Нимфа И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0_c1ff_629c09dc_L"/>
          <p:cNvPicPr/>
          <p:nvPr/>
        </p:nvPicPr>
        <p:blipFill>
          <a:blip r:embed="rId1"/>
          <a:stretch/>
        </p:blipFill>
        <p:spPr>
          <a:xfrm>
            <a:off x="2124000" y="1916280"/>
            <a:ext cx="515628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Большой ночной павлиний глаз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0_3b63_e2590add_L"/>
          <p:cNvPicPr/>
          <p:nvPr/>
        </p:nvPicPr>
        <p:blipFill>
          <a:blip r:embed="rId1"/>
          <a:stretch/>
        </p:blipFill>
        <p:spPr>
          <a:xfrm>
            <a:off x="1908000" y="1844640"/>
            <a:ext cx="55008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Бабочки капустницы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0_f9e6_5d0851a1_L"/>
          <p:cNvPicPr/>
          <p:nvPr/>
        </p:nvPicPr>
        <p:blipFill>
          <a:blip r:embed="rId1"/>
          <a:stretch/>
        </p:blipFill>
        <p:spPr>
          <a:xfrm>
            <a:off x="3059280" y="177336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Боярышниц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ярышница (лат. Aporia crataegi) — бабочка, вредная плодовым деревьям, принадлежит к семейству белянок (Pieridae), из группы дневных бабочек. Прежде она производила чуть ли не большие опустошения в садах, чем капустница на огородах, но в последние годы попадается реже вследствие неоднократного наступления неблагоприятной погоды во время её спари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8" descr="0_18c59_a12b7d5a_L"/>
          <p:cNvPicPr/>
          <p:nvPr/>
        </p:nvPicPr>
        <p:blipFill>
          <a:blip r:embed="rId1"/>
          <a:stretch/>
        </p:blipFill>
        <p:spPr>
          <a:xfrm>
            <a:off x="5076720" y="2492280"/>
            <a:ext cx="4067280" cy="272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763640" y="620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а бабочка имеет от 50 до 60 мм в размахе крыльев, которые у неё белые с чёрными жилками; передние — с закругленною вершиною. Боярышница распространена по всей Европе, а также в Северной и Средней Азии до Японии. Бабочки выходят из куколки в июне, а на юге уже в мае. При выходе они выпускают из себя красную жидкость, которая там, где боярышниц очень много, подавала повод к толкам о так называемых кровяных дождях. Вылупившиеся бабочки порхают по цветам, затем совокупляются, и оплодотворенные самки откладывают от 60 до 100 удлиненно-яйцевидных желтых яичек кучками на верхнюю сторону листьев различных деревьев, особенно слив, груш, яблонь, абрикосов, боярышника и рябины. Недели через две из яичек вылупляются гусеницы. Гусеница боярышницы пепельного цвета, на спине чёрная с двумя широкими оранжевыми или буроватыми продольными полос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714320" y="9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лупившиеся гусеницы обвивают листья паутинными нитями и объедают их; обвитые листья буреют и свертываются. Гусеницы растут медленно и зимуют на деревьях, в гнездах, состоящих из нескольких обвитых нитями листьев и легко бросающихся в глаза, когда опадут прочие листья. Весною гусеницы выползают из гнезд, переходят на почки и приготовляют себе новое, более обширное гнездо, в которое они возвращаются по вечерам и при возвращении холодной погоды. После последней линьки гусеницы начинают быстро расти. Если прочно установится теплая погода, то гусеницы не возвращаются более в гнездо и первоначально держатся ещё группами, а впоследствии, будучи более взрослыми, расползаются в разные стороны. В июне, а на юге ещё в начале мая превращаются — в зеленовато-желтую или беловатую с чёрными пятнами куколку, которая по большей части имеет горизонтальное положение. Подобные же гнезда устраивают гусеницы другой бабочки — шелкопряды златогузки (Liparis s. Porthesia chrysorrhoea), и потому гнезда гусениц боярышниц называют «малыми», в отличие от гнезд гусениц златогузки, называемых «большими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Гусеница бабочки </a:t>
            </a:r>
            <a:br>
              <a:rPr sz="3500"/>
            </a:b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капустницы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9" descr="0_5545_a26e5c81_L"/>
          <p:cNvPicPr/>
          <p:nvPr/>
        </p:nvPicPr>
        <p:blipFill>
          <a:blip r:embed="rId1"/>
          <a:stretch/>
        </p:blipFill>
        <p:spPr>
          <a:xfrm>
            <a:off x="1908000" y="18446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спользованная литератур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http://fotki.yandex.ru/users/torgachkin/view/19072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Адмира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343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ип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Членистоногие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ласс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секомые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одкласс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рылатые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адотряд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Amphiesmenoptera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ряд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Чешуекрылые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емейство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Nymphalidae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одсемейство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Nymphalinae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од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анессы </a:t>
            </a:r>
            <a:br>
              <a:rPr sz="2000"/>
            </a:b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ид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Адмир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http://img-fotki.yandex.ru/get/2709/kisya1432.1/0_21da1_58eb2b2a_L"/>
          <p:cNvPicPr/>
          <p:nvPr/>
        </p:nvPicPr>
        <p:blipFill>
          <a:blip r:embed="rId1"/>
          <a:stretch/>
        </p:blipFill>
        <p:spPr>
          <a:xfrm>
            <a:off x="4140360" y="2421000"/>
            <a:ext cx="3922560" cy="294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Желтушка шафранная </a:t>
            </a:r>
            <a:br>
              <a:rPr sz="3500"/>
            </a:b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или почтовый рожок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343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елтушка шафранная или Почтовый рожок = Colias crocea </a:t>
            </a:r>
            <a:br>
              <a:rPr sz="1600"/>
            </a:b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тряд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Lepidoptera = Чешуекрылые, бабочки. </a:t>
            </a:r>
            <a:br>
              <a:rPr sz="1600"/>
            </a:b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емейство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Pieridae = Белянк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семейство: Coliadinae = Желтушк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ид: Colias crocea (Geoffroy, 1785) = Желтушка шафранная, Почтовый рожок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* Примечание: Croceus (с латинского) - шафрановый, то есть ярко-желтый цв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7" descr="http://img-fotki.yandex.ru/get/24/lesya-denisova.4/0_b720_aaabedb9_L"/>
          <p:cNvPicPr/>
          <p:nvPr/>
        </p:nvPicPr>
        <p:blipFill>
          <a:blip r:embed="rId1"/>
          <a:stretch/>
        </p:blipFill>
        <p:spPr>
          <a:xfrm>
            <a:off x="4716360" y="2781360"/>
            <a:ext cx="3438720" cy="288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Питание бабочек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инство бабочек питается нектаром цветов, некоторые – соком, вытекающим из деревьев. Некоторые виды тропических бабочек (морфо), любят перебродивший банановый сок. Привлеченные его запахом, они слетаются к соку и, одурманенные, становятся в это время совершенно беззащитными. Есть бабочки, которые любят свежий лошадиный навоз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ропиках есть бабочки – кровососы. Их грубый хоботок способен прокалывать кожу млекопитающих. Предполагают, что вначале бабочки прокалывали кожицу фруктов, чтобы напиться сока, а потом приноровились пить кро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ховое чу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турния Буадюваля - CALIGULA BOISDUVALII. Семейство Павлиноглазки. Бабочка, размах крыльев до 10 см, имеет характерные округлые “глазчатые” пятна коричневого цвета, окаймлённые черным кругом в середине каждого крыла. Антенны у самок — гребенчатые, у самцов — перистые. Встречается в широколиственных и смешанных лесах. Летает с конца лета вплоть до заморозков. Является эндемиком (Эндемик - это вид растений или животных, встречающийся только в одном месте планеты) юга Дальнего Востока, Забайкалья и Японии. Вид назван в честь французского энтомолога Буадюваля. Встречается очень редко. Снимок сделан в 50 км от г. Находка, 30 сентября 2007 г. в два часа дн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6" descr="http://img-fotki.yandex.ru/get/5/ovn07valeri.2/0_3d8e_8996092d_L"/>
          <p:cNvPicPr/>
          <p:nvPr/>
        </p:nvPicPr>
        <p:blipFill>
          <a:blip r:embed="rId1"/>
          <a:stretch/>
        </p:blipFill>
        <p:spPr>
          <a:xfrm>
            <a:off x="5292720" y="2449440"/>
            <a:ext cx="3851280" cy="28875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-4572000" y="602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http://img-fotki.yandex.ru/get/5/ovn07valeri.2/0_3d8e_8996092d_L"/>
          <p:cNvPicPr/>
          <p:nvPr/>
        </p:nvPicPr>
        <p:blipFill>
          <a:blip r:embed="rId2"/>
          <a:stretch/>
        </p:blipFill>
        <p:spPr>
          <a:xfrm>
            <a:off x="-6510240" y="2287440"/>
            <a:ext cx="3432240" cy="257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9"/>
          <p:cNvSpPr/>
          <p:nvPr/>
        </p:nvSpPr>
        <p:spPr>
          <a:xfrm>
            <a:off x="-2679840" y="2369160"/>
            <a:ext cx="199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Сатурния Буадюваля - CALIGUL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Бабочки предгорий Кубани и Черноморского побережья Кавказ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тряд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Lepidoptera = Чешуекрылые, бабочки. </a:t>
            </a:r>
            <a:br>
              <a:rPr sz="1800"/>
            </a:b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емейство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Papilionidae = Парусники (Кавалеры). </a:t>
            </a:r>
            <a:br>
              <a:rPr sz="1800"/>
            </a:b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и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Zerynthia polyxena ([Denis &amp; Schiffermüller], 1775) = Поликсена, Зеринтия поликсен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 Поликсена (греческая мифология) - дочь троянского царя Приама и Гекубы, возлюбленная Ахиллеса, принесенная в жертву его тени Неоптолемом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бочка Поликсена (Zerynthia polyxena) очень красивый и редкий вид парусников, реликт третичного периода. Длина переднего крыла 24-26 мм. Общий тон крыльев желтый со сложным узором из пятен и зубчатых линий черного цвета. На задних крыльях внутрь от зубчатой полосы по краю расположен еще ряд красных пятен. Брюшко с черными и красными пятн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окрестностях Новороссийска встречается локально, бабочка летает в апреле – мае, отличить ее можно по неровному порхающему полету низко над землей. Гусеницы питаются листьями различных растений из семейства кирказоновых. Зимует куколка. За год бывает только одно поколение. Лепидоптерологи* (лепидоптерология* - это раздел энтомологии, изучающий бабочек) взяли имя Поликсена для бабочки из античных мифов. Так звали дочь троянского царя Приама. Она сестра Кассандры и возлюбленная героя Ахиллеса. Англичане называют бабочку Поликсену - Southern Festoon и это действительно «южное украшение» так как встречается в Южной Европе и на юге Росс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ttp://img-fotki.yandex.ru/get/5/torgachkin.22/0_4a81_c9008c76_L"/>
          <p:cNvPicPr/>
          <p:nvPr/>
        </p:nvPicPr>
        <p:blipFill>
          <a:blip r:embed="rId1"/>
          <a:stretch/>
        </p:blipFill>
        <p:spPr>
          <a:xfrm>
            <a:off x="3348000" y="1628640"/>
            <a:ext cx="5796000" cy="434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Языкан обыкновенны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ан обыкновенный - Macroglossum stellatarum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: Lepidoptera = Чешуекрылые, бабочк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мейство: Sphingidae = Бражник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: Macroglossum stellatarum (Linnaeus, 1758) = Языкан обыкновенный или бражник-хобот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http://img-fotki.yandex.ru/get/7/torgachkin.81/0_75d7_d568bfb7_L"/>
          <p:cNvPicPr/>
          <p:nvPr/>
        </p:nvPicPr>
        <p:blipFill>
          <a:blip r:embed="rId1"/>
          <a:stretch/>
        </p:blipFill>
        <p:spPr>
          <a:xfrm>
            <a:off x="3924360" y="220500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Червонец огненны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Lycaena virgaureae – червонец огненный, самец, семейство голубянки – Lycaenidae / В Красной Книге Москвы, Челябинской области и некоторых других регио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ерное, последняя яркая бабочка в этом году…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явилась передо мной внезапно, и тут же исчезл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irga + aurea (с греческого) - "золотая ветка"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вонец – в честь красно-желтого червонного золота – в царской России ходили монеты из такого золота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 большинства видов этого семейства крылья самцов голубовато-переливчаты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сеницы червонца огненного питаются диким щавелем и золотарником, так что бабочек нужно искать на лугах, где встречаются эти раст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7" descr="http://img-fotki.yandex.ru/get/2708/evelinalina.a/0_158f9_36bc01ba_L"/>
          <p:cNvPicPr/>
          <p:nvPr/>
        </p:nvPicPr>
        <p:blipFill>
          <a:blip r:embed="rId1"/>
          <a:stretch/>
        </p:blipFill>
        <p:spPr>
          <a:xfrm>
            <a:off x="4643280" y="1628640"/>
            <a:ext cx="4089600" cy="414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1:13:33Z</dcterms:created>
  <dc:creator>Klass2</dc:creator>
  <dc:description/>
  <dc:language>en-US</dc:language>
  <cp:lastModifiedBy>Zaw</cp:lastModifiedBy>
  <dcterms:modified xsi:type="dcterms:W3CDTF">2009-09-17T09:32:11Z</dcterms:modified>
  <cp:revision>7</cp:revision>
  <dc:subject/>
  <dc:title>Мир насекомых </dc:title>
</cp:coreProperties>
</file>