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2F8-958A-4CED-87E8-E9DA31D5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28F-52B6-4147-80BB-7E3BF67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78F-DBDF-492B-81B9-2FE27F1A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1FE-E6BD-474B-962D-1DA8837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9E52-B9EE-48E1-83CD-23D3C64D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CBA-8D6A-45E2-A112-0CB8088C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86E-80AA-4545-9453-569E5DB4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6B31-2326-4CC1-A472-66059DF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374-41CF-488C-8114-B1FA317F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7CD-C9FC-47B6-BA28-AE9EA423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A66-6D21-4A36-A6C2-8169C29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5EA-917F-49CF-9D42-3DACE7BA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C93-522F-478B-B1B6-02E03A3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3821-59DE-44E9-BE0A-FDD9F83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51E6-D2F0-442C-B5BE-6CF3A59D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9F63-EE21-4D53-BD47-CFCDB106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25C-BFD8-4BA2-879C-CE6AAADD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947-16D5-4DF1-B29A-D09FA37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ABD-5572-48C5-B3BE-394D5D81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54F-953B-4066-8D22-36EEA0AD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521-7D90-4D47-8970-50692BF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482-D25B-48C6-BC14-BBDB5B5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636-64BD-4639-A76D-0DEC35C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BB4-24EB-4C01-9825-FB90253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C029-8A8D-41FC-AA75-00CFF48281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16FC-B259-42AA-B31D-4FCC29CE719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778370989"/>
          <p:cNvPicPr/>
          <p:nvPr/>
        </p:nvPicPr>
        <p:blipFill>
          <a:blip r:embed="rId1"/>
          <a:stretch/>
        </p:blipFill>
        <p:spPr>
          <a:xfrm>
            <a:off x="0" y="-146160"/>
            <a:ext cx="9540720" cy="71042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"/>
          <p:cNvSpPr txBox="1"/>
          <p:nvPr/>
        </p:nvSpPr>
        <p:spPr>
          <a:xfrm>
            <a:off x="900000" y="2187720"/>
            <a:ext cx="784872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Palatino Linotype"/>
              </a:rPr>
              <a:t>КАЗАХСТАН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659640" y="4869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11В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ЛАСС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ШКОЛА №48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ОНКУРС: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РЕДНЯЯ АЗИЯ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ТРАНЫ СНГ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71680" y="500040"/>
            <a:ext cx="388764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нее время интерес к Казахстану, как к туристскому направлению, значительно возрос во всем мире, и соответственно, из года в год увеличивается спектр туристских услуг, предоставляемых местными туроператорами для привлечения большего количества путешественников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Более всего в Казахстане туристов из Германии, Англии, Японии, Кореи, Китая.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Немцы и англичане уже разведали туристические маршруты Казахстан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97" name="Picture 10" descr="гор Казахстана"/>
          <p:cNvPicPr/>
          <p:nvPr/>
        </p:nvPicPr>
        <p:blipFill>
          <a:blip r:embed="rId1"/>
          <a:stretch/>
        </p:blipFill>
        <p:spPr>
          <a:xfrm>
            <a:off x="5364000" y="1197000"/>
            <a:ext cx="3600720" cy="2378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гор Казахстана"/>
          <p:cNvPicPr/>
          <p:nvPr/>
        </p:nvPicPr>
        <p:blipFill>
          <a:blip r:embed="rId2"/>
          <a:stretch/>
        </p:blipFill>
        <p:spPr>
          <a:xfrm>
            <a:off x="539640" y="4149720"/>
            <a:ext cx="3816360" cy="253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3348000" y="3716280"/>
            <a:ext cx="33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 КАЗАХ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0" name="Picture 14" descr="analysis_schbkz_1"/>
          <p:cNvPicPr/>
          <p:nvPr/>
        </p:nvPicPr>
        <p:blipFill>
          <a:blip r:embed="rId3"/>
          <a:stretch/>
        </p:blipFill>
        <p:spPr>
          <a:xfrm>
            <a:off x="5364000" y="4149720"/>
            <a:ext cx="360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68360" y="549360"/>
            <a:ext cx="475128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 Казахстан предоставляет практически все существующие виды туризма -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ознавательный, развлекательный, этнический, экологическ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други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Для туристов предлагается большое количество маршрутов путешествий по всей территории Казахстана. Взять хотя бы Южный Казахстан. Как не проехать по его Золотому кольцу?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благодатном оазисе южных степей,                        на стыке кочевой и оседлой цивилизаций существовали древнейшие города мира. Веками по этой земле проходила система древних караванных дорог, ведущих из Китая в страны Ближнего Востока и Европ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24000" y="4221000"/>
            <a:ext cx="4679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роме того, регион располагает уникальными климатическими возможностями для отдыха, лечения, охоты, занятий альпинизмом, горнолыжным и конькобежным спорто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десь находится вторая глубокая точка планеты - впадина Карагие, лежащая на 132 м ниже уровня моря, а также знаменитые меловые уте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Имеются богатые охотничьи угодья, условия для любителей рыбной ловли, развития водных видов спорт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4" name="Picture 17" descr="Иртыш - воплощение недостатка бассейнового"/>
          <p:cNvPicPr/>
          <p:nvPr/>
        </p:nvPicPr>
        <p:blipFill>
          <a:blip r:embed="rId1"/>
          <a:stretch/>
        </p:blipFill>
        <p:spPr>
          <a:xfrm>
            <a:off x="5435640" y="4076640"/>
            <a:ext cx="3384360" cy="2376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5724360" y="645336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6" name="Picture 23" descr="Тобол - левый приток реки Иртыш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290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5"/>
          <p:cNvSpPr/>
          <p:nvPr/>
        </p:nvSpPr>
        <p:spPr>
          <a:xfrm>
            <a:off x="5651640" y="3645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ТОБОЛ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7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СТОРИЯ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324000" y="1903320"/>
            <a:ext cx="525600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Stencil Std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октябре 1990 Верховным Советом Казахской ССР принята Декларация о государственном суверенитете республики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1 учрежден пост президента избиравшегося Верховным Советом. Назарбаев, бывший Председателем Верховного Совета и Первым секретарём ЦК КП Казахстана стал первым президенто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 января 1992 года — Казахстан стал членом ОБСЕ, а 3 марта 1992 года принят в члены ОО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755640" y="333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66"/>
                </a:solidFill>
                <a:uFillTx/>
                <a:latin typeface="Stencil Std"/>
              </a:rPr>
              <a:t>Период после получения Казахстаном независимости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1" name="Picture 13" descr="Президент Казахстана выступит в Госдуме"/>
          <p:cNvPicPr/>
          <p:nvPr/>
        </p:nvPicPr>
        <p:blipFill>
          <a:blip r:embed="rId1"/>
          <a:stretch/>
        </p:blipFill>
        <p:spPr>
          <a:xfrm>
            <a:off x="5435640" y="981000"/>
            <a:ext cx="3457440" cy="235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5076720" y="3429000"/>
            <a:ext cx="39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ПРЕЗИДЕНТ КАЗАХСТАНА-НАЗАРБАЕВ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39640" y="981000"/>
            <a:ext cx="38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стан — унитарная республика президентско-парламентского типа. Президент является главой государства и верховным главнокомандующи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755640" y="4851360"/>
            <a:ext cx="460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0 октября 1997 года — Указом Президента город Астана объявлена столицей Казахстан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6 июля 1998 года — подписана Декларация между Республикой Казахстан и Российской Федерацией о вечной дружбе и союзничестве, ориентированном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XXI столети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5" name="Picture 27" descr="Астана - новая столица Казахстана"/>
          <p:cNvPicPr/>
          <p:nvPr/>
        </p:nvPicPr>
        <p:blipFill>
          <a:blip r:embed="rId2"/>
          <a:stretch/>
        </p:blipFill>
        <p:spPr>
          <a:xfrm>
            <a:off x="5495760" y="4005360"/>
            <a:ext cx="34689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СЕЛЕНИЕ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250920" y="206064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3 была зафиксирована наибольшая численность населения Казахстана за всю историю — 16,9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 1993 года численность населения ежегодно сокращалась вплоть до 2003 года и уменьшилась на 13 %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ующие годы в результате высокого естественного прироста численность и удельный вес казахов начинает постепенно увеличиватьс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предварительным итогам переписи населения 2009 года, казахи составляют примерно 67 % населения страны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йчас в Казахстане проживает окол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5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6300720" y="549360"/>
            <a:ext cx="2295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ЕЛЕНИ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Picture 11" descr="Основное и коренное население Казахстана"/>
          <p:cNvPicPr/>
          <p:nvPr/>
        </p:nvPicPr>
        <p:blipFill>
          <a:blip r:embed="rId1"/>
          <a:stretch/>
        </p:blipFill>
        <p:spPr>
          <a:xfrm>
            <a:off x="5076720" y="1341360"/>
            <a:ext cx="3749760" cy="2592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324000" y="549360"/>
            <a:ext cx="439236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шний Казахстан — государство с полиэтническим составом населения. Казахи составляют более 2/3 населения (67 %).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тране проживают русские (21 % населения), украинцы, узбеки, немцы, татары…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1" name="Picture 20" descr="Казахская национальная одежда"/>
          <p:cNvPicPr/>
          <p:nvPr/>
        </p:nvPicPr>
        <p:blipFill>
          <a:blip r:embed="rId2"/>
          <a:stretch/>
        </p:blipFill>
        <p:spPr>
          <a:xfrm>
            <a:off x="5076720" y="407664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УЛЬТУР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7"/>
          <p:cNvSpPr/>
          <p:nvPr/>
        </p:nvSpPr>
        <p:spPr>
          <a:xfrm>
            <a:off x="3924360" y="4869000"/>
            <a:ext cx="201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традиции гостя угощают национальными казахскими блюдами за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дастарханом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накрытым столом) в юрт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50920" y="260280"/>
            <a:ext cx="360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Юрта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один из самых совершенных видов переносного жилища. Это удобный и практичный дом, идеально приспособленный к условиям природы и образу жизни – одно из величайших изобретений Евразийских кочевни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500720" y="1628640"/>
            <a:ext cx="273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Чапан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то мужская одежд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роде халата с поясом, сделанная из бархата и украшенная вышивкой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Мужчины носят также мягкие тюбетейки, высокие фетровые колпаки или охотничьи шапки-ушанки из лисьего меха (малакай)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Picture 13" descr="Юрта"/>
          <p:cNvPicPr/>
          <p:nvPr/>
        </p:nvPicPr>
        <p:blipFill>
          <a:blip r:embed="rId1"/>
          <a:stretch/>
        </p:blipFill>
        <p:spPr>
          <a:xfrm>
            <a:off x="468360" y="1844640"/>
            <a:ext cx="3311640" cy="2209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5"/>
          <p:cNvSpPr/>
          <p:nvPr/>
        </p:nvSpPr>
        <p:spPr>
          <a:xfrm>
            <a:off x="1403280" y="4076640"/>
            <a:ext cx="1295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ЮР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9" name="Picture 17" descr="Куырдак"/>
          <p:cNvPicPr/>
          <p:nvPr/>
        </p:nvPicPr>
        <p:blipFill>
          <a:blip r:embed="rId2"/>
          <a:stretch/>
        </p:blipFill>
        <p:spPr>
          <a:xfrm>
            <a:off x="468360" y="4437000"/>
            <a:ext cx="3311640" cy="226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Беспармак"/>
          <p:cNvPicPr/>
          <p:nvPr/>
        </p:nvPicPr>
        <p:blipFill>
          <a:blip r:embed="rId3"/>
          <a:stretch/>
        </p:blipFill>
        <p:spPr>
          <a:xfrm>
            <a:off x="5867280" y="4076640"/>
            <a:ext cx="3132360" cy="26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Мужской меховой головной убор"/>
          <p:cNvPicPr/>
          <p:nvPr/>
        </p:nvPicPr>
        <p:blipFill>
          <a:blip r:embed="rId4"/>
          <a:stretch/>
        </p:blipFill>
        <p:spPr>
          <a:xfrm>
            <a:off x="7308720" y="1341360"/>
            <a:ext cx="1606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24000" y="333360"/>
            <a:ext cx="3384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и высоко ценят искусство красноречия и почитают своих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акынов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поэтов-импровизатров,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ыступающих на публичных состязаниях (айтысах) под аккомпанемент национальных музыкальных инструментов: двуструнной домбры и смычкового инструмента кобыза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8000" y="2528280"/>
            <a:ext cx="640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циональные игры – непременный атрибут праздник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кша курес (казахская борьба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га (скачки на большие дистанции – 25, 50 или 100 км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окпар (всадники пытаются вырвать друг у друга козлиную тушу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ыз-куу («догони девушку»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лты бакан (качели на шести столбах)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WordArt 8"/>
          <p:cNvSpPr txBox="1"/>
          <p:nvPr/>
        </p:nvSpPr>
        <p:spPr>
          <a:xfrm>
            <a:off x="6443640" y="476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10" descr="уаробей 2"/>
          <p:cNvPicPr/>
          <p:nvPr/>
        </p:nvPicPr>
        <p:blipFill>
          <a:blip r:embed="rId1"/>
          <a:stretch/>
        </p:blipFill>
        <p:spPr>
          <a:xfrm>
            <a:off x="468360" y="4365720"/>
            <a:ext cx="3814560" cy="239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уаробьи переростки 4"/>
          <p:cNvPicPr/>
          <p:nvPr/>
        </p:nvPicPr>
        <p:blipFill>
          <a:blip r:embed="rId2"/>
          <a:stretch/>
        </p:blipFill>
        <p:spPr>
          <a:xfrm>
            <a:off x="4643280" y="4365720"/>
            <a:ext cx="3745080" cy="23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Казахская национальная одежда"/>
          <p:cNvPicPr/>
          <p:nvPr/>
        </p:nvPicPr>
        <p:blipFill>
          <a:blip r:embed="rId3"/>
          <a:stretch/>
        </p:blipFill>
        <p:spPr>
          <a:xfrm>
            <a:off x="5940360" y="1052640"/>
            <a:ext cx="3203640" cy="2404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3"/>
          <p:cNvSpPr/>
          <p:nvPr/>
        </p:nvSpPr>
        <p:spPr>
          <a:xfrm>
            <a:off x="6804000" y="350028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КАЗАХСКАЯ НАЦ.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ДЕЖД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ИМВОЛ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gash2"/>
          <p:cNvPicPr/>
          <p:nvPr/>
        </p:nvPicPr>
        <p:blipFill>
          <a:blip r:embed="rId1"/>
          <a:stretch/>
        </p:blipFill>
        <p:spPr>
          <a:xfrm>
            <a:off x="0" y="-27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08000" y="765000"/>
            <a:ext cx="885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На перекрестке миров, в центре Евразии!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Дамы и господа! Добро пожаловать в Казахстан, огромную страну в самом центре Евразии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где древность соседствует с современностью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а восточные традиции - с западным модерном! Древняя культура Казахстана и его уникальная природа Вас, несомненно, восхитят.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Казахстан - это впечатление и взрыв чувств, ландшафты и многое друго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Приглашаю Вас окунуться в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увлекательное путешестви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11280" y="404640"/>
            <a:ext cx="45370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оответствии с Законом Казах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ми символами Казахстана являются Государственный Флаг, Государственный Герб, Государственный Гим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24360" y="1591560"/>
            <a:ext cx="532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Флаг Республики Казахстан представляет собой голубое полотнище с золотистым изображением солнца с лучами в центре, под которым парит орел — символ независимости, свободы и суверенитета. Слева у древка находится национальный орнамент в виде вертикальной поло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79280" y="4111920"/>
            <a:ext cx="5077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Stencil Std"/>
              </a:rPr>
              <a:t>   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Герб Республики Казахстан имеет форму круга сине-голубого цвета и представляет собой изображение шанырак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верхняя сводчатая часть юрты), от которог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о все стороны в виде солнечных лучей расходятся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ыки (опоры). Справа и слева от шанырака расположены крылья мифических коней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верху находится пятиконечная звезд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ВОЛ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11" descr="Флаг Казахстана"/>
          <p:cNvPicPr/>
          <p:nvPr/>
        </p:nvPicPr>
        <p:blipFill>
          <a:blip r:embed="rId1"/>
          <a:stretch/>
        </p:blipFill>
        <p:spPr>
          <a:xfrm>
            <a:off x="6156360" y="335772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Герб Казахстана"/>
          <p:cNvPicPr/>
          <p:nvPr/>
        </p:nvPicPr>
        <p:blipFill>
          <a:blip r:embed="rId2"/>
          <a:stretch/>
        </p:blipFill>
        <p:spPr>
          <a:xfrm>
            <a:off x="6877080" y="4869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17"/>
          <p:cNvSpPr txBox="1"/>
          <p:nvPr/>
        </p:nvSpPr>
        <p:spPr>
          <a:xfrm rot="5400000">
            <a:off x="5265720" y="3816360"/>
            <a:ext cx="1296720" cy="37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ФЛАГ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247" name="WordArt 18"/>
          <p:cNvSpPr txBox="1"/>
          <p:nvPr/>
        </p:nvSpPr>
        <p:spPr>
          <a:xfrm rot="5400000">
            <a:off x="5738400" y="5574960"/>
            <a:ext cx="1512720" cy="38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ГЕРБ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248" name="gymn_kaz.mp3" descr=""/>
          <p:cNvPicPr/>
          <p:nvPr/>
        </p:nvPicPr>
        <p:blipFill>
          <a:blip r:embed="rId3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Три мудреца в городе Астана (Казахстан"/>
          <p:cNvPicPr/>
          <p:nvPr/>
        </p:nvPicPr>
        <p:blipFill>
          <a:blip r:embed="rId4"/>
          <a:stretch/>
        </p:blipFill>
        <p:spPr>
          <a:xfrm>
            <a:off x="684360" y="170028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3"/>
          <p:cNvSpPr/>
          <p:nvPr/>
        </p:nvSpPr>
        <p:spPr>
          <a:xfrm>
            <a:off x="611280" y="371628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ТРИ МУДРЕЦА В ГОРОДЕ А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10135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ЭКОНОМ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НОМ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8000" y="907920"/>
            <a:ext cx="3203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Север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развиты зерновое хозяйство, добыча железной руды и каменного угля, машиностроение, производство нефтепродуктов и ферросплавов, энергетика.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Восточ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цветная металлургия, энергетика, машиностроение и лесное хозяйство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Запад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крупнейший нефтегазодобывающий регион, машиностроение, приборостроение, производство строительных материалов в частности ракушечника, мела, цемен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857920" y="1285920"/>
            <a:ext cx="27702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Юж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хлопок, рис, шерсть, зерно, фрукты, овощи, табак, виноград, конопля, ; развиты цветная металлургия, приборостроение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лёгкая и пищевая промышленность, рыбное и лесное хозяй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Централь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чёрная и цветная металлургия, машиностроение, животновод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2920" y="214200"/>
            <a:ext cx="5715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Palatino Linotype"/>
              </a:rPr>
              <a:t>Казахстан — аграрно-индустриальная страна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Валовой внутренний продукт Казахстана $133,726 млрд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.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     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$11 000 на душу населения 54-й в мире (2007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6358045_v_Astane_Kazahstan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астана"/>
          <p:cNvPicPr/>
          <p:nvPr/>
        </p:nvPicPr>
        <p:blipFill>
          <a:blip r:embed="rId3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астана ввв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астана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1187280" y="765000"/>
            <a:ext cx="70581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В РАБОТЕ ПРИНИМАЛИ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УЧАСТИЕ: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ХАРЬКОВ МИХАИЛ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ГИЛЯРЕВСКИЙ МАКСИМ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ЖАМБАЛОВА ИРИ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ПЕТРОЧЕНКОВА АЛЁ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2934720" y="5661000"/>
            <a:ext cx="3995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Palatino Linotype"/>
              </a:rPr>
              <a:t>THE END</a:t>
            </a:r>
            <a:endParaRPr b="1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4" name="gymn_kaz.mp3" descr=""/>
          <p:cNvPicPr/>
          <p:nvPr/>
        </p:nvPicPr>
        <p:blipFill>
          <a:blip r:embed="rId6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1908000" y="3068640"/>
            <a:ext cx="53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ГОРОД АСТАНА</a:t>
            </a:r>
            <a:endParaRPr b="1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0987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2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29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3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397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4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8">
                                  <p:stCondLst>
                                    <p:cond delay="501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8">
                                  <p:stCondLst>
                                    <p:cond delay="574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8">
                                  <p:stCondLst>
                                    <p:cond delay="587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8">
                                  <p:stCondLst>
                                    <p:cond delay="598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8">
                                  <p:stCondLst>
                                    <p:cond delay="606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61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8"/>
          <p:cNvSpPr txBox="1"/>
          <p:nvPr/>
        </p:nvSpPr>
        <p:spPr>
          <a:xfrm>
            <a:off x="1187280" y="2060640"/>
            <a:ext cx="6867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ГЕОГРАФИЧЕСКОЕ 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2" name="WordArt 10"/>
          <p:cNvSpPr txBox="1"/>
          <p:nvPr/>
        </p:nvSpPr>
        <p:spPr>
          <a:xfrm>
            <a:off x="2124000" y="3357720"/>
            <a:ext cx="48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ЛОЖЕНИЕ</a:t>
            </a:r>
            <a:endParaRPr b="1" lang="en-US" sz="1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Карта Казахста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-181080" y="404640"/>
            <a:ext cx="5545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Республика находится в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центральной части Еврази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 югу от Уральских гор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западе омывается Каспийским море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раничит с Россией, Китаем, Киргизи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збекистаном и Туркменией.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льеф Казахстана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в основном, равнинны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более 80% стран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анимают сухие степи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востоке и востоке страны - предгорья Алтая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арбагатая, Джунгарского Алатау и Тянь-Шан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ик Хан-Тенгри (7010 м.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на границе Казахстана и Кыргызстана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является самой высокой точкой стран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Общая площадь - </a:t>
            </a:r>
            <a:r>
              <a:rPr b="1" lang="ru-RU" sz="1800" spc="-1" strike="noStrike">
                <a:solidFill>
                  <a:srgbClr val="ffcc66"/>
                </a:solidFill>
                <a:latin typeface="Palatino Linotype"/>
              </a:rPr>
              <a:t>2717,3 тыс. кв. км. 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евятое место в мире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0" y="4357800"/>
            <a:ext cx="54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толица: А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о 1998 г. столицей являлся город Алма-Ата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ые религии: ислам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47%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христианство 46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%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кспорт: нефть, металлы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химикалии, зерно, шерсть, мясо, уголь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ая пусковая площадка для космических кораблей: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конур (арендуется РОССИЕЙ у Казахстана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66" name="Picture 24" descr="kazahstan3"/>
          <p:cNvPicPr/>
          <p:nvPr/>
        </p:nvPicPr>
        <p:blipFill>
          <a:blip r:embed="rId1"/>
          <a:stretch/>
        </p:blipFill>
        <p:spPr>
          <a:xfrm>
            <a:off x="5410080" y="1052640"/>
            <a:ext cx="3625920" cy="26524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27"/>
          <p:cNvSpPr txBox="1"/>
          <p:nvPr/>
        </p:nvSpPr>
        <p:spPr>
          <a:xfrm>
            <a:off x="6929280" y="571680"/>
            <a:ext cx="1000440" cy="30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 П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28" descr="В степи на западе Казахстана появился разлом глубиной 30"/>
          <p:cNvPicPr/>
          <p:nvPr/>
        </p:nvPicPr>
        <p:blipFill>
          <a:blip r:embed="rId2"/>
          <a:stretch/>
        </p:blipFill>
        <p:spPr>
          <a:xfrm>
            <a:off x="5435640" y="400536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6012000" y="6597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ЗАПАД КАЗАХСТАНА.СТЕП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77080" y="37162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948360" y="549360"/>
            <a:ext cx="193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95280" y="767880"/>
            <a:ext cx="475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Рельеф местности Казахстана разнообразен. 58 % территории занимают пустыни и полупустыни, 10 % — горы. 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На севере республики преобладают степи и лесостепи. 23 % территории страны пригодны для земледелия, 70 % — для отгонного животноводства.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3" name="Picture 17" descr="казахстан, павлодар, иртыш, реки, пейзаж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320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Осень на Ишиме"/>
          <p:cNvPicPr/>
          <p:nvPr/>
        </p:nvPicPr>
        <p:blipFill>
          <a:blip r:embed="rId2"/>
          <a:stretch/>
        </p:blipFill>
        <p:spPr>
          <a:xfrm>
            <a:off x="5292720" y="3933720"/>
            <a:ext cx="3527280" cy="2425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5651640" y="3573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435640" y="65246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СЕНЬ НА РЕКЕ ИШМЕ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7" name="Picture 12" descr="казахстан"/>
          <p:cNvPicPr/>
          <p:nvPr/>
        </p:nvPicPr>
        <p:blipFill>
          <a:blip r:embed="rId3"/>
          <a:stretch/>
        </p:blipFill>
        <p:spPr>
          <a:xfrm>
            <a:off x="1042920" y="3068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6877080" y="549360"/>
            <a:ext cx="2008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0920" y="618480"/>
            <a:ext cx="406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ерритория Казахстана находится очень далеко от океана и открыта для ветров с запада и севера. Из-за этого основными свойствами климата Казахстана являются его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зкая континентальность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неравномерное распределение природных осад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427640" y="1197000"/>
            <a:ext cx="4608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има в Казахстане холодная и продолжительная на севере и умеренно мягкая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редняя температура января варьируется         от -18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севере до -3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Лето — сухое. На севере — тёплое,                             в центре — очень тёплое,  на юге — жарко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чти для всей территории Казахстана характерны сильные ветры, в ряде регионов свыше 40 м/сек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1" name="Picture 8" descr="Чин-Тургенское ущелье (Северный Тянь-Шань) в 100 км от Алма-Аты"/>
          <p:cNvPicPr/>
          <p:nvPr/>
        </p:nvPicPr>
        <p:blipFill>
          <a:blip r:embed="rId1"/>
          <a:stretch/>
        </p:blipFill>
        <p:spPr>
          <a:xfrm>
            <a:off x="684360" y="2421000"/>
            <a:ext cx="295092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771640" y="638172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СЕВЕРНЫЙ ТЯНЬ-ШАНЬ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3" name="Picture 10" descr="ото v00doo в горах Казахстана"/>
          <p:cNvPicPr/>
          <p:nvPr/>
        </p:nvPicPr>
        <p:blipFill>
          <a:blip r:embed="rId2"/>
          <a:stretch/>
        </p:blipFill>
        <p:spPr>
          <a:xfrm>
            <a:off x="4716360" y="364500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940360" y="549360"/>
            <a:ext cx="244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260280"/>
            <a:ext cx="396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Казахстане произрастает свыше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шести тысяч видов растен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на его просторах можно встретить около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500 видов птиц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178 видов звер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2 видов земноводных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 в реках и озерах - 107 видов рыб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395280" y="4149720"/>
            <a:ext cx="352728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символ Казахстана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4859280" y="4149720"/>
            <a:ext cx="3384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царь зверей 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8" name="WordArt 18"/>
          <p:cNvSpPr txBox="1"/>
          <p:nvPr/>
        </p:nvSpPr>
        <p:spPr>
          <a:xfrm rot="5400000">
            <a:off x="2291760" y="4411440"/>
            <a:ext cx="3673440" cy="26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снежный барс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89" name="Picture 20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3457440" cy="21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0" name="Picture 21" descr="10Жертвой дикого зверя стал 23-х летний парень2"/>
          <p:cNvPicPr/>
          <p:nvPr/>
        </p:nvPicPr>
        <p:blipFill>
          <a:blip r:embed="rId2"/>
          <a:stretch/>
        </p:blipFill>
        <p:spPr>
          <a:xfrm>
            <a:off x="4788000" y="4581360"/>
            <a:ext cx="331308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Picture 22" descr="1622862"/>
          <p:cNvPicPr/>
          <p:nvPr/>
        </p:nvPicPr>
        <p:blipFill>
          <a:blip r:embed="rId3"/>
          <a:stretch/>
        </p:blipFill>
        <p:spPr>
          <a:xfrm>
            <a:off x="6084720" y="1341360"/>
            <a:ext cx="2016360" cy="27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WordArt 23"/>
          <p:cNvSpPr txBox="1"/>
          <p:nvPr/>
        </p:nvSpPr>
        <p:spPr>
          <a:xfrm rot="5400000">
            <a:off x="7308000" y="2493360"/>
            <a:ext cx="216072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хищник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93" name="Picture 35" descr="звкрь))))))a3"/>
          <p:cNvPicPr/>
          <p:nvPr/>
        </p:nvPicPr>
        <p:blipFill>
          <a:blip r:embed="rId4"/>
          <a:stretch/>
        </p:blipFill>
        <p:spPr>
          <a:xfrm>
            <a:off x="395280" y="1989000"/>
            <a:ext cx="345744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УРИЗМ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1:17:04Z</dcterms:created>
  <dc:creator> zx</dc:creator>
  <dc:description/>
  <dc:language>en-US</dc:language>
  <cp:lastModifiedBy>Никита</cp:lastModifiedBy>
  <dcterms:modified xsi:type="dcterms:W3CDTF">2009-12-17T17:20:00Z</dcterms:modified>
  <cp:revision>528</cp:revision>
  <dc:subject/>
  <dc:title>Слайд 1</dc:title>
</cp:coreProperties>
</file>