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82F-E6D5-4CA5-955E-6705D631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D97-824F-42B7-9C4E-37E9C6A9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00B-ADD4-4835-9F8F-6DACE2DB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E7D-504E-4FE7-B7D7-FB7B79AB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C5D0-195C-49E4-8469-150A6C6E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ACD1-4467-47EE-8F91-4791B2F2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177C-9DA7-43B3-B59F-6B30F1B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A982-532D-4A67-AEAE-45D1EE4E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0D10-5DFE-46B3-A5FF-D8BF0454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02DB-380D-4C5C-9341-E5854690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163C-4CB0-4587-B749-3F307CD7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734-01A0-44B9-9028-A20933A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4E3-1822-403B-8C29-B6AA26D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EB1F-0DA2-4D46-8452-DEC445D8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7A3F-9342-4E34-A4EB-90DA0670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4FE-7CB7-4007-92F6-C6995DD4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8F0B-F7B2-41F4-9D8D-D7D7CBC1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D04-3B0A-4B47-88C8-11D487C7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6E8-C342-48F8-95C4-374ECAE3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470-52A2-425A-B74D-1B75BB4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A6D-4DEA-43F8-ACE8-279D4ED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BB4-A700-4BB7-9558-771BD8A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543-8EDC-4236-8636-0B25518B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490-FE8F-4F29-9CD6-F0459BD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328E-EEA2-4F01-8B1A-F6E0643CFD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022C-9804-4D6B-AA91-BBA4D31DA84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778370989"/>
          <p:cNvPicPr/>
          <p:nvPr/>
        </p:nvPicPr>
        <p:blipFill>
          <a:blip r:embed="rId1"/>
          <a:stretch/>
        </p:blipFill>
        <p:spPr>
          <a:xfrm>
            <a:off x="0" y="-146160"/>
            <a:ext cx="9540720" cy="71042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4"/>
          <p:cNvSpPr txBox="1"/>
          <p:nvPr/>
        </p:nvSpPr>
        <p:spPr>
          <a:xfrm>
            <a:off x="900000" y="2187720"/>
            <a:ext cx="7848720" cy="35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6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Palatino Linotype"/>
              </a:rPr>
              <a:t>КАЗАХСТАН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659640" y="4869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11В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ЛАСС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ШКОЛА №48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ОНКУРС: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СРЕДНЯЯ АЗИЯ.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СТРАНЫ СНГ.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608472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УРИЗМ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71680" y="500040"/>
            <a:ext cx="388764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последнее время интерес к Казахстану, как к туристскому направлению, значительно возрос во всем мире, и соответственно, из года в год увеличивается спектр туристских услуг, предоставляемых местными туроператорами для привлечения большего количества путешественников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Более всего в Казахстане туристов из Германии, Англии, Японии, Кореи, Китая.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Немцы и англичане уже разведали туристические маршруты Казахстан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97" name="Picture 10" descr="гор Казахстана"/>
          <p:cNvPicPr/>
          <p:nvPr/>
        </p:nvPicPr>
        <p:blipFill>
          <a:blip r:embed="rId1"/>
          <a:stretch/>
        </p:blipFill>
        <p:spPr>
          <a:xfrm>
            <a:off x="5364000" y="1197000"/>
            <a:ext cx="3600720" cy="2378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гор Казахстана"/>
          <p:cNvPicPr/>
          <p:nvPr/>
        </p:nvPicPr>
        <p:blipFill>
          <a:blip r:embed="rId2"/>
          <a:stretch/>
        </p:blipFill>
        <p:spPr>
          <a:xfrm>
            <a:off x="539640" y="4149720"/>
            <a:ext cx="3816360" cy="253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3348000" y="3716280"/>
            <a:ext cx="331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ГОРЫ КАЗАХСТАН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0" name="Picture 14" descr="analysis_schbkz_1"/>
          <p:cNvPicPr/>
          <p:nvPr/>
        </p:nvPicPr>
        <p:blipFill>
          <a:blip r:embed="rId3"/>
          <a:stretch/>
        </p:blipFill>
        <p:spPr>
          <a:xfrm>
            <a:off x="5364000" y="4149720"/>
            <a:ext cx="360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608472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УРИЗМ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68360" y="549360"/>
            <a:ext cx="475128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годня Казахстан предоставляет практически все существующие виды туризма -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познавательный, развлекательный, этнический, экологически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и други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Для туристов предлагается большое количество маршрутов путешествий по всей территории Казахстана. Взять хотя бы Южный Казахстан. Как не проехать по его Золотому кольцу?           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благодатном оазисе южных степей,                        на стыке кочевой и оседлой цивилизаций существовали древнейшие города мира. Веками по этой земле проходила система древних караванных дорог, ведущих из Китая в страны Ближнего Востока и Европы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24000" y="4221000"/>
            <a:ext cx="4679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роме того, регион располагает уникальными климатическими возможностями для отдыха, лечения, охоты, занятий альпинизмом, горнолыжным и конькобежным спортом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десь находится вторая глубокая точка планеты - впадина Карагие, лежащая на 132 м ниже уровня моря, а также знаменитые меловые утесы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Имеются богатые охотничьи угодья, условия для любителей рыбной ловли, развития водных видов спорта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4" name="Picture 17" descr="Иртыш - воплощение недостатка бассейнового"/>
          <p:cNvPicPr/>
          <p:nvPr/>
        </p:nvPicPr>
        <p:blipFill>
          <a:blip r:embed="rId1"/>
          <a:stretch/>
        </p:blipFill>
        <p:spPr>
          <a:xfrm>
            <a:off x="5435640" y="4076640"/>
            <a:ext cx="3384360" cy="2376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8"/>
          <p:cNvSpPr/>
          <p:nvPr/>
        </p:nvSpPr>
        <p:spPr>
          <a:xfrm>
            <a:off x="5724360" y="645336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ИРТЫШ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06" name="Picture 23" descr="Тобол - левый приток реки Иртыш"/>
          <p:cNvPicPr/>
          <p:nvPr/>
        </p:nvPicPr>
        <p:blipFill>
          <a:blip r:embed="rId2"/>
          <a:stretch/>
        </p:blipFill>
        <p:spPr>
          <a:xfrm>
            <a:off x="5435640" y="1197000"/>
            <a:ext cx="3384360" cy="2290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5"/>
          <p:cNvSpPr/>
          <p:nvPr/>
        </p:nvSpPr>
        <p:spPr>
          <a:xfrm>
            <a:off x="5651640" y="3645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ТОБОЛ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7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СТОРИЯ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324000" y="1903320"/>
            <a:ext cx="525600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Stencil Std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Stencil Std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октябре 1990 Верховным Советом Казахской ССР принята Декларация о государственном суверенитете республики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1991 учрежден пост президента избиравшегося Верховным Советом. Назарбаев, бывший Председателем Верховного Совета и Первым секретарём ЦК КП Казахстана стал первым президентом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2 января 1992 года — Казахстан стал членом ОБСЕ, а 3 марта 1992 года принят в члены ООН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ccff"/>
                </a:solidFill>
                <a:latin typeface="Stencil Std"/>
              </a:rPr>
              <a:t>	</a:t>
            </a:r>
            <a:r>
              <a:rPr b="1" lang="ru-RU" sz="1200" spc="-1" strike="noStrike">
                <a:solidFill>
                  <a:srgbClr val="66ccff"/>
                </a:solidFill>
                <a:latin typeface="Stencil Std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755640" y="333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66"/>
                </a:solidFill>
                <a:uFillTx/>
                <a:latin typeface="Stencil Std"/>
              </a:rPr>
              <a:t>Период после получения Казахстаном независимости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11" name="Picture 13" descr="Президент Казахстана выступит в Госдуме"/>
          <p:cNvPicPr/>
          <p:nvPr/>
        </p:nvPicPr>
        <p:blipFill>
          <a:blip r:embed="rId1"/>
          <a:stretch/>
        </p:blipFill>
        <p:spPr>
          <a:xfrm>
            <a:off x="5435640" y="981000"/>
            <a:ext cx="3457440" cy="235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5076720" y="3429000"/>
            <a:ext cx="39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ПРЕЗИДЕНТ КАЗАХСТАНА-НАЗАРБАЕВ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539640" y="981000"/>
            <a:ext cx="38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хстан — унитарная республика президентско-парламентского типа. Президент является главой государства и верховным главнокомандующим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755640" y="4851360"/>
            <a:ext cx="4608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20 октября 1997 года — Указом Президента город Астана объявлена столицей Казахстана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Times New Roman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6 июля 1998 года — подписана Декларация между Республикой Казахстан и Российской Федерацией о вечной дружбе и союзничестве, ориентированном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XXI столети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15" name="Picture 27" descr="Астана - новая столица Казахстана"/>
          <p:cNvPicPr/>
          <p:nvPr/>
        </p:nvPicPr>
        <p:blipFill>
          <a:blip r:embed="rId2"/>
          <a:stretch/>
        </p:blipFill>
        <p:spPr>
          <a:xfrm>
            <a:off x="5495760" y="4005360"/>
            <a:ext cx="34689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СЕЛЕНИЕ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250920" y="2060640"/>
            <a:ext cx="4176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1993 была зафиксирована наибольшая численность населения Казахстана за всю историю — 16,9 млн. человек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 1993 года численность населения ежегодно сокращалась вплоть до 2003 года и уменьшилась на 13 %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последующие годы в результате высокого естественного прироста численность и удельный вес казахов начинает постепенно увеличиваться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 предварительным итогам переписи населения 2009 года, казахи составляют примерно 67 % населения страны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buClr>
                <a:srgbClr val="ffcc66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йчас в Казахстане проживает около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15 млн. человек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6300720" y="549360"/>
            <a:ext cx="2295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ЕЛЕНИЕ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Picture 11" descr="Основное и коренное население Казахстана"/>
          <p:cNvPicPr/>
          <p:nvPr/>
        </p:nvPicPr>
        <p:blipFill>
          <a:blip r:embed="rId1"/>
          <a:stretch/>
        </p:blipFill>
        <p:spPr>
          <a:xfrm>
            <a:off x="5076720" y="1341360"/>
            <a:ext cx="3749760" cy="2592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5"/>
          <p:cNvSpPr/>
          <p:nvPr/>
        </p:nvSpPr>
        <p:spPr>
          <a:xfrm>
            <a:off x="324000" y="549360"/>
            <a:ext cx="439236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егодняшний Казахстан — государство с полиэтническим составом населения. Казахи составляют более 2/3 населения (67 %).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стране проживают русские (21 % населения), украинцы, узбеки, немцы, татары…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21" name="Picture 20" descr="Казахская национальная одежда"/>
          <p:cNvPicPr/>
          <p:nvPr/>
        </p:nvPicPr>
        <p:blipFill>
          <a:blip r:embed="rId2"/>
          <a:stretch/>
        </p:blipFill>
        <p:spPr>
          <a:xfrm>
            <a:off x="5076720" y="407664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КУЛЬТУР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7"/>
          <p:cNvSpPr/>
          <p:nvPr/>
        </p:nvSpPr>
        <p:spPr>
          <a:xfrm>
            <a:off x="3924360" y="4869000"/>
            <a:ext cx="201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 традиции гостя угощают национальными казахскими блюдами за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дастарханом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накрытым столом) в юрт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50920" y="260280"/>
            <a:ext cx="360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Юрта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один из самых совершенных видов переносного жилища. Это удобный и практичный дом, идеально приспособленный к условиям природы и образу жизни – одно из величайших изобретений Евразийских кочевников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500720" y="1628640"/>
            <a:ext cx="273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Чапан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это мужская одежд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роде халата с поясом, сделанная из бархата и украшенная вышивкой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Мужчины носят также мягкие тюбетейки, высокие фетровые колпаки или охотничьи шапки-ушанки из лисьего меха (малакай).</a:t>
            </a:r>
            <a:r>
              <a:rPr b="0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ЛЬТУР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7" name="Picture 13" descr="Юрта"/>
          <p:cNvPicPr/>
          <p:nvPr/>
        </p:nvPicPr>
        <p:blipFill>
          <a:blip r:embed="rId1"/>
          <a:stretch/>
        </p:blipFill>
        <p:spPr>
          <a:xfrm>
            <a:off x="468360" y="1844640"/>
            <a:ext cx="3311640" cy="2209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5"/>
          <p:cNvSpPr/>
          <p:nvPr/>
        </p:nvSpPr>
        <p:spPr>
          <a:xfrm>
            <a:off x="1403280" y="4076640"/>
            <a:ext cx="1295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ЮРТ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29" name="Picture 17" descr="Куырдак"/>
          <p:cNvPicPr/>
          <p:nvPr/>
        </p:nvPicPr>
        <p:blipFill>
          <a:blip r:embed="rId2"/>
          <a:stretch/>
        </p:blipFill>
        <p:spPr>
          <a:xfrm>
            <a:off x="468360" y="4437000"/>
            <a:ext cx="3311640" cy="2265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Беспармак"/>
          <p:cNvPicPr/>
          <p:nvPr/>
        </p:nvPicPr>
        <p:blipFill>
          <a:blip r:embed="rId3"/>
          <a:stretch/>
        </p:blipFill>
        <p:spPr>
          <a:xfrm>
            <a:off x="5867280" y="4076640"/>
            <a:ext cx="3132360" cy="268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Мужской меховой головной убор"/>
          <p:cNvPicPr/>
          <p:nvPr/>
        </p:nvPicPr>
        <p:blipFill>
          <a:blip r:embed="rId4"/>
          <a:stretch/>
        </p:blipFill>
        <p:spPr>
          <a:xfrm>
            <a:off x="7308720" y="1341360"/>
            <a:ext cx="1606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324000" y="333360"/>
            <a:ext cx="3384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хи высоко ценят искусство красноречия и почитают своих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акынов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поэтов-импровизатров,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ыступающих на публичных состязаниях (айтысах) под аккомпанемент национальных музыкальных инструментов: двуструнной домбры и смычкового инструмента кобыза.</a:t>
            </a:r>
            <a:r>
              <a:rPr b="0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8000" y="2528280"/>
            <a:ext cx="640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циональные игры – непременный атрибут праздник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азакша курес (казахская борьба)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байга (скачки на большие дистанции – 25, 50 или 100 км)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окпар (всадники пытаются вырвать друг у друга козлиную тушу)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ыз-куу («догони девушку»)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алты бакан (качели на шести столбах)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WordArt 8"/>
          <p:cNvSpPr txBox="1"/>
          <p:nvPr/>
        </p:nvSpPr>
        <p:spPr>
          <a:xfrm>
            <a:off x="6443640" y="4762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ЛЬТУР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5" name="Picture 10" descr="уаробей 2"/>
          <p:cNvPicPr/>
          <p:nvPr/>
        </p:nvPicPr>
        <p:blipFill>
          <a:blip r:embed="rId1"/>
          <a:stretch/>
        </p:blipFill>
        <p:spPr>
          <a:xfrm>
            <a:off x="468360" y="4365720"/>
            <a:ext cx="3814560" cy="2390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уаробьи переростки 4"/>
          <p:cNvPicPr/>
          <p:nvPr/>
        </p:nvPicPr>
        <p:blipFill>
          <a:blip r:embed="rId2"/>
          <a:stretch/>
        </p:blipFill>
        <p:spPr>
          <a:xfrm>
            <a:off x="4643280" y="4365720"/>
            <a:ext cx="3745080" cy="23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Казахская национальная одежда"/>
          <p:cNvPicPr/>
          <p:nvPr/>
        </p:nvPicPr>
        <p:blipFill>
          <a:blip r:embed="rId3"/>
          <a:stretch/>
        </p:blipFill>
        <p:spPr>
          <a:xfrm>
            <a:off x="5940360" y="1052640"/>
            <a:ext cx="3203640" cy="2404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3"/>
          <p:cNvSpPr/>
          <p:nvPr/>
        </p:nvSpPr>
        <p:spPr>
          <a:xfrm>
            <a:off x="6804000" y="350028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КАЗАХСКАЯ НАЦ.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ОДЕЖД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ИМВОЛИК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gash2"/>
          <p:cNvPicPr/>
          <p:nvPr/>
        </p:nvPicPr>
        <p:blipFill>
          <a:blip r:embed="rId1"/>
          <a:stretch/>
        </p:blipFill>
        <p:spPr>
          <a:xfrm>
            <a:off x="0" y="-2700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08000" y="765000"/>
            <a:ext cx="885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На перекрестке миров, в центре Евразии!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Дамы и господа! Добро пожаловать в Казахстан, огромную страну в самом центре Евразии,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где древность соседствует с современностью,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а восточные традиции - с западным модерном! Древняя культура Казахстана и его уникальная природа Вас, несомненно, восхитят.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Казахстан - это впечатление и взрыв чувств, ландшафты и многое другое…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Приглашаю Вас окунуться в 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Palatino Linotype"/>
              </a:rPr>
              <a:t>увлекательное путешествие…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611280" y="404640"/>
            <a:ext cx="45370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Stencil Std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соответствии с Законом Казахстан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ми символами Казахстана являются Государственный Флаг, Государственный Герб, Государственный Гимн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924360" y="1591560"/>
            <a:ext cx="532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й Флаг Республики Казахстан представляет собой голубое полотнище с золотистым изображением солнца с лучами в центре, под которым парит орел — символ независимости, свободы и суверенитета. Слева у древка находится национальный орнамент в виде вертикальной полосы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79280" y="4111920"/>
            <a:ext cx="5077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Stencil Std"/>
              </a:rPr>
              <a:t>   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осударственный Герб Республики Казахстан имеет форму круга сине-голубого цвета и представляет собой изображение шанырак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верхняя сводчатая часть юрты), от которого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о все стороны в виде солнечных лучей расходятся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уыки (опоры). Справа и слева от шанырака расположены крылья мифических коней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верху находится пятиконечная звезда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МВОЛИК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4" name="Picture 11" descr="Флаг Казахстана"/>
          <p:cNvPicPr/>
          <p:nvPr/>
        </p:nvPicPr>
        <p:blipFill>
          <a:blip r:embed="rId1"/>
          <a:stretch/>
        </p:blipFill>
        <p:spPr>
          <a:xfrm>
            <a:off x="6156360" y="3357720"/>
            <a:ext cx="2521080" cy="129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Герб Казахстана"/>
          <p:cNvPicPr/>
          <p:nvPr/>
        </p:nvPicPr>
        <p:blipFill>
          <a:blip r:embed="rId2"/>
          <a:stretch/>
        </p:blipFill>
        <p:spPr>
          <a:xfrm>
            <a:off x="6877080" y="4869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17"/>
          <p:cNvSpPr txBox="1"/>
          <p:nvPr/>
        </p:nvSpPr>
        <p:spPr>
          <a:xfrm rot="5400000">
            <a:off x="5265720" y="3816360"/>
            <a:ext cx="1296720" cy="37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ФЛАГ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247" name="WordArt 18"/>
          <p:cNvSpPr txBox="1"/>
          <p:nvPr/>
        </p:nvSpPr>
        <p:spPr>
          <a:xfrm rot="5400000">
            <a:off x="5738400" y="5574960"/>
            <a:ext cx="1512720" cy="38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ГЕРБ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248" name="gymn_kaz.mp3" descr=""/>
          <p:cNvPicPr/>
          <p:nvPr/>
        </p:nvPicPr>
        <p:blipFill>
          <a:blip r:embed="rId3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Три мудреца в городе Астана (Казахстан"/>
          <p:cNvPicPr/>
          <p:nvPr/>
        </p:nvPicPr>
        <p:blipFill>
          <a:blip r:embed="rId4"/>
          <a:stretch/>
        </p:blipFill>
        <p:spPr>
          <a:xfrm>
            <a:off x="684360" y="1700280"/>
            <a:ext cx="3166920" cy="2016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3"/>
          <p:cNvSpPr/>
          <p:nvPr/>
        </p:nvSpPr>
        <p:spPr>
          <a:xfrm>
            <a:off x="611280" y="371628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ТРИ МУДРЕЦА В ГОРОДЕ АСТАН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10135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5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ЭКОНОМИКА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6443640" y="54936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КОНОМИК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8000" y="907920"/>
            <a:ext cx="3203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Север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развиты зерновое хозяйство, добыча железной руды и каменного угля, машиностроение, производство нефтепродуктов и ферросплавов, энергетика.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Восточ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цветная металлургия, энергетика, машиностроение и лесное хозяйство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Запад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крупнейший нефтегазодобывающий регион, машиностроение, приборостроение, производство строительных материалов в частности ракушечника, мела, цемента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857920" y="1285920"/>
            <a:ext cx="27702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Юж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хлопок, рис, шерсть, зерно, фрукты, овощи, табак, виноград, конопля, ; развиты цветная металлургия, приборостроение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лёгкая и пищевая промышленность, рыбное и лесное хозяйство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Palatino Linotype"/>
              </a:rPr>
              <a:t>Центральный Казахстан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— чёрная и цветная металлургия, машиностроение, животноводство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42920" y="214200"/>
            <a:ext cx="5715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Palatino Linotype"/>
              </a:rPr>
              <a:t>Казахстан — аграрно-индустриальная страна</a:t>
            </a:r>
            <a:endParaRPr b="1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Валовой внутренний продукт Казахстана $133,726 млрд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.</a:t>
            </a: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                                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$11 000 на душу населения 54-й в мире (2007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16358045_v_Astane_Kazahstan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астана"/>
          <p:cNvPicPr/>
          <p:nvPr/>
        </p:nvPicPr>
        <p:blipFill>
          <a:blip r:embed="rId3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астана ввв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астана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7"/>
          <p:cNvSpPr/>
          <p:nvPr/>
        </p:nvSpPr>
        <p:spPr>
          <a:xfrm>
            <a:off x="1187280" y="765000"/>
            <a:ext cx="70581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В РАБОТЕ ПРИНИМАЛИ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УЧАСТИЕ: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ХАРЬКОВ МИХАИЛ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ГИЛЯРЕВСКИЙ МАКСИМ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ЖАМБАЛОВА ИРИНА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Palatino Linotype"/>
              </a:rPr>
              <a:t>ПЕТРОЧЕНКОВА АЛЁНА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2934720" y="5661000"/>
            <a:ext cx="3995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Palatino Linotype"/>
              </a:rPr>
              <a:t>THE END</a:t>
            </a:r>
            <a:endParaRPr b="1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4" name="gymn_kaz.mp3" descr=""/>
          <p:cNvPicPr/>
          <p:nvPr/>
        </p:nvPicPr>
        <p:blipFill>
          <a:blip r:embed="rId6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2"/>
          <p:cNvSpPr/>
          <p:nvPr/>
        </p:nvSpPr>
        <p:spPr>
          <a:xfrm>
            <a:off x="1908000" y="3068640"/>
            <a:ext cx="53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ГОРОД АСТАНА</a:t>
            </a:r>
            <a:endParaRPr b="1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10987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1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2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29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3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397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4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8">
                                  <p:stCondLst>
                                    <p:cond delay="501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8">
                                  <p:stCondLst>
                                    <p:cond delay="574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8">
                                  <p:stCondLst>
                                    <p:cond delay="587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8">
                                  <p:stCondLst>
                                    <p:cond delay="598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8">
                                  <p:stCondLst>
                                    <p:cond delay="606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61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8"/>
          <p:cNvSpPr txBox="1"/>
          <p:nvPr/>
        </p:nvSpPr>
        <p:spPr>
          <a:xfrm>
            <a:off x="1187280" y="2060640"/>
            <a:ext cx="6867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ГЕОГРАФИЧЕСКОЕ 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62" name="WordArt 10"/>
          <p:cNvSpPr txBox="1"/>
          <p:nvPr/>
        </p:nvSpPr>
        <p:spPr>
          <a:xfrm>
            <a:off x="2124000" y="3357720"/>
            <a:ext cx="48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ЛОЖЕНИЕ</a:t>
            </a:r>
            <a:endParaRPr b="1" lang="en-US" sz="1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6" descr="Карта Казахста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-181080" y="404640"/>
            <a:ext cx="5545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Республика находится в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центральной части Евразии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к югу от Уральских гор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 юго-западе омывается Каспийским морем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раничит с Россией, Китаем, Киргизией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Узбекистаном и Туркменией.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Рельеф Казахстана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в основном, равнинны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– более 80% страны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анимают сухие степи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на юго-востоке и востоке страны - предгорья Алтая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Тарбагатая, Джунгарского Алатау и Тянь-Шаня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Пик Хан-Тенгри (7010 м.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на границе Казахстана и Кыргызстана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является самой высокой точкой страны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Общая площадь - </a:t>
            </a:r>
            <a:r>
              <a:rPr b="1" lang="ru-RU" sz="1800" spc="-1" strike="noStrike">
                <a:solidFill>
                  <a:srgbClr val="ffcc66"/>
                </a:solidFill>
                <a:latin typeface="Palatino Linotype"/>
              </a:rPr>
              <a:t>2717,3 тыс. кв. км. </a:t>
            </a:r>
            <a:endParaRPr b="1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девятое место в мире)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0" y="4357800"/>
            <a:ext cx="5400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толица: Астана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(до 1998 г. столицей являлся город Алма-Ата)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лавные религии: ислам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47%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, христианство 46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%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Экспорт: нефть, металлы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химикалии, зерно, шерсть, мясо, уголь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Главная пусковая площадка для космических кораблей: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Байконур (арендуется РОССИЕЙ у Казахстана)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66" name="Picture 24" descr="kazahstan3"/>
          <p:cNvPicPr/>
          <p:nvPr/>
        </p:nvPicPr>
        <p:blipFill>
          <a:blip r:embed="rId1"/>
          <a:stretch/>
        </p:blipFill>
        <p:spPr>
          <a:xfrm>
            <a:off x="5410080" y="1052640"/>
            <a:ext cx="3625920" cy="26524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27"/>
          <p:cNvSpPr txBox="1"/>
          <p:nvPr/>
        </p:nvSpPr>
        <p:spPr>
          <a:xfrm>
            <a:off x="6929280" y="571680"/>
            <a:ext cx="1000440" cy="30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 П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Picture 28" descr="В степи на западе Казахстана появился разлом глубиной 30"/>
          <p:cNvPicPr/>
          <p:nvPr/>
        </p:nvPicPr>
        <p:blipFill>
          <a:blip r:embed="rId2"/>
          <a:stretch/>
        </p:blipFill>
        <p:spPr>
          <a:xfrm>
            <a:off x="5435640" y="4005360"/>
            <a:ext cx="3600360" cy="2592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9"/>
          <p:cNvSpPr/>
          <p:nvPr/>
        </p:nvSpPr>
        <p:spPr>
          <a:xfrm>
            <a:off x="6012000" y="65977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ЗАПАД КАЗАХСТАНА.СТЕПИ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77080" y="371628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ГОРЫ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948360" y="549360"/>
            <a:ext cx="193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РОДА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95280" y="767880"/>
            <a:ext cx="4753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Palatino Linotype"/>
              </a:rPr>
              <a:t>Рельеф местности Казахстана разнообразен. 58 % территории занимают пустыни и полупустыни, 10 % — горы. </a:t>
            </a:r>
            <a:endParaRPr b="1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Palatino Linotype"/>
              </a:rPr>
              <a:t>На севере республики преобладают степи и лесостепи. 23 % территории страны пригодны для земледелия, 70 % — для отгонного животноводства.</a:t>
            </a:r>
            <a:endParaRPr b="1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73" name="Picture 17" descr="казахстан, павлодар, иртыш, реки, пейзаж"/>
          <p:cNvPicPr/>
          <p:nvPr/>
        </p:nvPicPr>
        <p:blipFill>
          <a:blip r:embed="rId1"/>
          <a:stretch/>
        </p:blipFill>
        <p:spPr>
          <a:xfrm>
            <a:off x="5292720" y="1197000"/>
            <a:ext cx="3527280" cy="2320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Осень на Ишиме"/>
          <p:cNvPicPr/>
          <p:nvPr/>
        </p:nvPicPr>
        <p:blipFill>
          <a:blip r:embed="rId2"/>
          <a:stretch/>
        </p:blipFill>
        <p:spPr>
          <a:xfrm>
            <a:off x="5292720" y="3933720"/>
            <a:ext cx="3527280" cy="2425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5651640" y="357336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РЕКА ИРТЫШ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435640" y="65246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ОСЕНЬ НА РЕКЕ ИШМЕ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77" name="Picture 12" descr="казахстан"/>
          <p:cNvPicPr/>
          <p:nvPr/>
        </p:nvPicPr>
        <p:blipFill>
          <a:blip r:embed="rId3"/>
          <a:stretch/>
        </p:blipFill>
        <p:spPr>
          <a:xfrm>
            <a:off x="1042920" y="3068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6877080" y="549360"/>
            <a:ext cx="2008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ИМАТ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50920" y="618480"/>
            <a:ext cx="4064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Территория Казахстана находится очень далеко от океана и открыта для ветров с запада и севера. Из-за этого основными свойствами климата Казахстана являются его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резкая континентальность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и неравномерное распределение природных осадков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427640" y="1197000"/>
            <a:ext cx="4608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Зима в Казахстане холодная и продолжительная на севере и умеренно мягкая на юг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Средняя температура января варьируется         от -18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C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° на севере до -3 </a:t>
            </a:r>
            <a:r>
              <a:rPr b="1" lang="en-US" sz="1400" spc="-1" strike="noStrike">
                <a:solidFill>
                  <a:srgbClr val="ffcc66"/>
                </a:solidFill>
                <a:latin typeface="Palatino Linotype"/>
              </a:rPr>
              <a:t>C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° на юге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Лето — сухое. На севере — тёплое,                             в центре — очень тёплое,  на юге — жаркое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Почти для всей территории Казахстана характерны сильные ветры, в ряде регионов свыше 40 м/сек.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81" name="Picture 8" descr="Чин-Тургенское ущелье (Северный Тянь-Шань) в 100 км от Алма-Аты"/>
          <p:cNvPicPr/>
          <p:nvPr/>
        </p:nvPicPr>
        <p:blipFill>
          <a:blip r:embed="rId1"/>
          <a:stretch/>
        </p:blipFill>
        <p:spPr>
          <a:xfrm>
            <a:off x="684360" y="2421000"/>
            <a:ext cx="2950920" cy="38098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2771640" y="6381720"/>
            <a:ext cx="30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Palatino Linotype"/>
              </a:rPr>
              <a:t>СЕВЕРНЫЙ ТЯНЬ-ШАНЬ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83" name="Picture 10" descr="ото v00doo в горах Казахстана"/>
          <p:cNvPicPr/>
          <p:nvPr/>
        </p:nvPicPr>
        <p:blipFill>
          <a:blip r:embed="rId2"/>
          <a:stretch/>
        </p:blipFill>
        <p:spPr>
          <a:xfrm>
            <a:off x="4716360" y="364500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5940360" y="549360"/>
            <a:ext cx="244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Е</a:t>
            </a:r>
            <a:endParaRPr b="1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260280"/>
            <a:ext cx="396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В Казахстане произрастает свыше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шести тысяч видов растений</a:t>
            </a: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, на его просторах можно встретить около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500 видов птиц,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66"/>
                </a:solidFill>
                <a:uFillTx/>
                <a:latin typeface="Palatino Linotype"/>
              </a:rPr>
              <a:t>178 видов зверей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12 видов земноводных, 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Palatino Linotype"/>
              </a:rPr>
              <a:t>а в реках и озерах - 107 видов рыб.</a:t>
            </a:r>
            <a:endParaRPr b="1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395280" y="4149720"/>
            <a:ext cx="352728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символ Казахстана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87" name="WordArt 15"/>
          <p:cNvSpPr txBox="1"/>
          <p:nvPr/>
        </p:nvSpPr>
        <p:spPr>
          <a:xfrm>
            <a:off x="4859280" y="4149720"/>
            <a:ext cx="3384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царь зверей 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88" name="WordArt 18"/>
          <p:cNvSpPr txBox="1"/>
          <p:nvPr/>
        </p:nvSpPr>
        <p:spPr>
          <a:xfrm rot="5400000">
            <a:off x="2291760" y="4411440"/>
            <a:ext cx="3673440" cy="266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снежный барс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189" name="Picture 20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3457440" cy="215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0" name="Picture 21" descr="10Жертвой дикого зверя стал 23-х летний парень2"/>
          <p:cNvPicPr/>
          <p:nvPr/>
        </p:nvPicPr>
        <p:blipFill>
          <a:blip r:embed="rId2"/>
          <a:stretch/>
        </p:blipFill>
        <p:spPr>
          <a:xfrm>
            <a:off x="4788000" y="4581360"/>
            <a:ext cx="3313080" cy="21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Picture 22" descr="1622862"/>
          <p:cNvPicPr/>
          <p:nvPr/>
        </p:nvPicPr>
        <p:blipFill>
          <a:blip r:embed="rId3"/>
          <a:stretch/>
        </p:blipFill>
        <p:spPr>
          <a:xfrm>
            <a:off x="6084720" y="1341360"/>
            <a:ext cx="2016360" cy="27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WordArt 23"/>
          <p:cNvSpPr txBox="1"/>
          <p:nvPr/>
        </p:nvSpPr>
        <p:spPr>
          <a:xfrm rot="5400000">
            <a:off x="7308000" y="2493360"/>
            <a:ext cx="216072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Palatino Linotype"/>
              </a:rPr>
              <a:t>хищник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193" name="Picture 35" descr="звкрь))))))a3"/>
          <p:cNvPicPr/>
          <p:nvPr/>
        </p:nvPicPr>
        <p:blipFill>
          <a:blip r:embed="rId4"/>
          <a:stretch/>
        </p:blipFill>
        <p:spPr>
          <a:xfrm>
            <a:off x="395280" y="1989000"/>
            <a:ext cx="345744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116000" y="2205000"/>
            <a:ext cx="6867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УРИЗМ</a:t>
            </a:r>
            <a:endParaRPr b="1" lang="en-US" sz="32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1:17:04Z</dcterms:created>
  <dc:creator> zx</dc:creator>
  <dc:description/>
  <dc:language>en-US</dc:language>
  <cp:lastModifiedBy>Никита</cp:lastModifiedBy>
  <dcterms:modified xsi:type="dcterms:W3CDTF">2009-12-17T17:20:00Z</dcterms:modified>
  <cp:revision>528</cp:revision>
  <dc:subject/>
  <dc:title>Слайд 1</dc:title>
</cp:coreProperties>
</file>