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C793A-3F48-4AE6-99D9-648C3B3B7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240E3-2DC6-4EF5-A139-3696308F5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7D655-F3B6-4895-B166-E24797EA4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F1DFB-0C00-44BE-A8FA-1A7F3D1E3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6590A-FDCA-44F7-B481-E9F286C20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2D81C-9905-4B35-8274-D09B826D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8CFEC-064B-4F42-A813-08DD3A6FB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103FD-B12A-4DB3-8013-6FDBA23F4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110F8-8483-48BE-B096-F6F75D928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1044B-5CB4-466B-A034-C4DA7034E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DB438-4B1E-4D47-BF08-730FFD506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142C-EDF6-4A18-B51D-C56C2A681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5A9A-9ED3-4181-A962-16BAB2049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36DEB-13DE-4644-8B3E-EF07C82D8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D6C11-2129-453E-9FF4-7297F097E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95A40-E313-4847-BC65-8321EFAA3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7BD58-B005-4056-BA8A-49041BED6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11EC3-736B-4B5B-9E38-671D582525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A3168-7EC1-4A1E-85A7-3A72D0B40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C2510-844A-4421-8116-F2519FD4A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6BE65-0E69-49FB-95AC-FD8517632C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41092-6CE3-40AB-845B-0F1085A7A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74C8-FDF4-44B0-BB3C-6112B227A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9BD99-EB6C-4CBF-967A-23BB6CFEA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33E4D-4DAF-4120-A6B7-831DCDFD6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00D04-4E8F-41CB-B47F-9FF438CC9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642E1-7BFA-41EF-86C5-17D40C432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97B73-7F8B-4393-84BC-255C09E3D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DF849D-03C5-4CE3-A16F-5803EC001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247B9F-113F-458D-BE98-E7884115C2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E28BE6-8D25-471B-A658-911B2B06CE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9308E-FCDA-4528-8585-5DCF4EE2AD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E37DE-870B-4D83-BF2A-6AC3FE333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FB8ED-24FB-4477-AC9D-71E87E07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2668C-C622-458F-B774-852C638497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42574-86A2-42A4-9215-E41040E072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8583B-5D37-4817-8809-E92236A668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CAD96-DFD5-42F4-9CBF-EFADD3D8B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ABF24-FAFB-4083-B5BC-E05088A58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70B1B-FDB9-4949-98D2-3F320E096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98BC6-EE5B-4B28-BD15-5B1E30AF3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5E301E-9774-445B-9DD6-6F966EE70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E14E11-63D3-4F42-8F83-5906B2BAE2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895A72-E572-43C3-87E1-A5F73FC417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C3EF-E31D-4697-A686-0DD40C808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BE8665-B5B5-4112-809A-3FD505C2A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A606FC-6054-4B4F-B07C-03047C2AE5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BF572-6970-4AD4-960C-3B6CE895A1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8379D-36F3-4475-AEF5-D7FC41924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80AAD-DFDA-45A9-8B5C-883B8E4B5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7F7DB-3B4F-4C9D-892B-5FFC69FA3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0FCEA0-FAF3-4C67-AC34-06EF83555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147C0-4CAB-417E-AA6F-CAAFB87D9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38584-8E68-42F2-9A8C-934F87376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4E3C6B-A234-4E39-978C-150129E849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00241-69BE-48FC-99EC-FCCD333B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F93DA7-1488-4F49-A00B-759A8E99F0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B4C4C-1527-45CD-996A-3E35FC72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1B79-28B4-4A27-B2CF-7CFC0243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A7F3-1BEE-46FC-935B-A66A813A5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3B2D-F662-42BD-A918-635756958D51}"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5CC3-6179-4B75-8A52-7A8B246306D7}"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CCC4-3743-48D5-B7C3-1CEB26CCF610}"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D558-46E3-44C5-BE05-767A4F5B5D12}" type="slidenum">
              <a:rPr b="0" lang="ru-RU"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291C-1133-47BE-8F3A-BAB0FA810D41}"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Franklin Gothic Medium"/>
              </a:rPr>
              <a:t>КАЗАХСКИЕ МУЗЫКАЛЬНЫЕ ИНСТРУМЕНТЫ</a:t>
            </a:r>
            <a:endParaRPr b="0" lang="en-US" sz="3200" spc="-1" strike="noStrike">
              <a:solidFill>
                <a:srgbClr val="000000"/>
              </a:solidFill>
              <a:latin typeface="Franklin Gothic Medium"/>
            </a:endParaRPr>
          </a:p>
        </p:txBody>
      </p:sp>
      <p:sp>
        <p:nvSpPr>
          <p:cNvPr id="216" name="PlaceHolder 2"/>
          <p:cNvSpPr>
            <a:spLocks noGrp="1"/>
          </p:cNvSpPr>
          <p:nvPr>
            <p:ph type="subTitle"/>
          </p:nvPr>
        </p:nvSpPr>
        <p:spPr>
          <a:xfrm>
            <a:off x="1212840" y="2469960"/>
            <a:ext cx="6510240" cy="330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УРАН</a:t>
            </a:r>
            <a:endParaRPr b="0" lang="en-US" sz="2800" spc="-1" strike="noStrike">
              <a:solidFill>
                <a:srgbClr val="000000"/>
              </a:solidFill>
              <a:latin typeface="Franklin Gothic Medium"/>
            </a:endParaRPr>
          </a:p>
        </p:txBody>
      </p:sp>
      <p:sp>
        <p:nvSpPr>
          <p:cNvPr id="234" name=""/>
          <p:cNvSpPr txBox="1"/>
          <p:nvPr/>
        </p:nvSpPr>
        <p:spPr>
          <a:xfrm>
            <a:off x="755280" y="907560"/>
            <a:ext cx="7521480" cy="54738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        </a:t>
            </a:r>
            <a:r>
              <a:rPr b="1" lang="ru-RU" sz="2800" spc="-1" strike="noStrike">
                <a:solidFill>
                  <a:srgbClr val="000000"/>
                </a:solidFill>
                <a:latin typeface="Franklin Gothic Book"/>
              </a:rPr>
              <a:t>Уран - духовой музыкальный инструмент, употреблявшийся воинами. Две различные по длине трубки имеют по три игровых отверстия. Исследователи указывают на восточное происхождение духовых инструментов, которые были обнаружены среди народов Средней Азии. Древние духовые инструменты не имели игровых отверстий и применялись лишь для подачи сигналов. С появлением отверстий на трубке духовые инструменты значительно обогащаются техническими возможностями.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36" name="Picture 2" descr=""/>
          <p:cNvPicPr/>
          <p:nvPr/>
        </p:nvPicPr>
        <p:blipFill>
          <a:blip r:embed="rId1"/>
          <a:stretch/>
        </p:blipFill>
        <p:spPr>
          <a:xfrm>
            <a:off x="2987640" y="1628640"/>
            <a:ext cx="2448000" cy="463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ЖЕТЫГЕН</a:t>
            </a:r>
            <a:endParaRPr b="0" lang="en-US" sz="28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fontScale="76000"/>
          </a:bodyPr>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Жетыген - древний семиструнный щипковый инструмент. Наиболее древний тип жетыгена представлял собой продолговатый ящик. Струны натягивались рукой с наружной стороны инструмента. Позднее верхняя часть жетыгена была накрыта деревянной декой. Под каждую струну подставляли с двух сторон асыки. Передвигая их, можно было подстраивать струну. Настройка струн производится колками и передвижением подставок.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0" name="Picture 2" descr=""/>
          <p:cNvPicPr/>
          <p:nvPr/>
        </p:nvPicPr>
        <p:blipFill>
          <a:blip r:embed="rId1"/>
          <a:stretch/>
        </p:blipFill>
        <p:spPr>
          <a:xfrm>
            <a:off x="2268360" y="1557360"/>
            <a:ext cx="352764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Medium"/>
              </a:rPr>
              <a:t>ШЕРТЕР</a:t>
            </a:r>
            <a:endParaRPr b="0" lang="en-US" sz="2800" spc="-1" strike="noStrike">
              <a:solidFill>
                <a:srgbClr val="000000"/>
              </a:solidFill>
              <a:latin typeface="Franklin Gothic Medium"/>
            </a:endParaRPr>
          </a:p>
        </p:txBody>
      </p:sp>
      <p:sp>
        <p:nvSpPr>
          <p:cNvPr id="222" name=""/>
          <p:cNvSpPr txBox="1"/>
          <p:nvPr/>
        </p:nvSpPr>
        <p:spPr>
          <a:xfrm>
            <a:off x="539640" y="1125360"/>
            <a:ext cx="8136000" cy="511200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         </a:t>
            </a:r>
            <a:r>
              <a:rPr b="1" lang="ru-RU" sz="3000" spc="-1" strike="noStrike">
                <a:solidFill>
                  <a:srgbClr val="000000"/>
                </a:solidFill>
                <a:latin typeface="Franklin Gothic Book"/>
              </a:rPr>
              <a:t>Шертер - древний струнный щипковый инструмент. На шертере играли так же, как и на домбре. Но шертер был намного меньше и отличался более сильным звучанием. Внешне шертер напоминал кобыз. Настройка струн была связана с длинным устройством инструмента. Шертер употребляли преимущественно для сопровождения песен, сказаний, легенд. Он был распространен среди пастухов.  </a:t>
            </a:r>
            <a:endParaRPr b="1" lang="en-US" sz="3000" spc="-1" strike="noStrike">
              <a:solidFill>
                <a:srgbClr val="00000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Franklin Gothic Book"/>
              </a:rPr>
              <a:t> </a:t>
            </a:r>
            <a:endParaRPr b="1" lang="en-US" sz="1500" spc="-1" strike="noStrike">
              <a:solidFill>
                <a:srgbClr val="00000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4" name="Picture 2" descr=""/>
          <p:cNvPicPr/>
          <p:nvPr/>
        </p:nvPicPr>
        <p:blipFill>
          <a:blip r:embed="rId1"/>
          <a:stretch/>
        </p:blipFill>
        <p:spPr>
          <a:xfrm>
            <a:off x="3348000" y="1413000"/>
            <a:ext cx="2303640" cy="503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СЫБЫЗГЫ</a:t>
            </a:r>
            <a:endParaRPr b="0" lang="en-US" sz="2800" spc="-1" strike="noStrike">
              <a:solidFill>
                <a:srgbClr val="000000"/>
              </a:solidFill>
              <a:latin typeface="Franklin Gothic Medium"/>
            </a:endParaRPr>
          </a:p>
        </p:txBody>
      </p:sp>
      <p:sp>
        <p:nvSpPr>
          <p:cNvPr id="226" name=""/>
          <p:cNvSpPr txBox="1"/>
          <p:nvPr/>
        </p:nvSpPr>
        <p:spPr>
          <a:xfrm>
            <a:off x="394920" y="1100160"/>
            <a:ext cx="8209080" cy="53532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a:t>
            </a:r>
            <a:r>
              <a:rPr b="1" lang="ru-RU" sz="3200" spc="-1" strike="noStrike">
                <a:solidFill>
                  <a:srgbClr val="000000"/>
                </a:solidFill>
                <a:latin typeface="Franklin Gothic Book"/>
              </a:rPr>
              <a:t>Среди духовых инструментов сыбызгы была наиболее любимым инструментом – она тесно вошла в музыкальную жизнь народа. Сыбызгисты были желанными гостями на всех тоях и праздненствах. Сыбызгы делали из трубки тростника, на которой прорезали три отверстия. Сделать сыбызгы можно было легко и быстро, но научиться играть на ней считалось серьезным делом. Кроме тростниковых сыбызгы существовали и деревянные. </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8" name="Picture 2" descr=""/>
          <p:cNvPicPr/>
          <p:nvPr/>
        </p:nvPicPr>
        <p:blipFill>
          <a:blip r:embed="rId1"/>
          <a:stretch/>
        </p:blipFill>
        <p:spPr>
          <a:xfrm>
            <a:off x="3348000" y="1484280"/>
            <a:ext cx="187164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ДАБЫЛ</a:t>
            </a:r>
            <a:endParaRPr b="0" lang="en-US" sz="2800" spc="-1" strike="noStrike">
              <a:solidFill>
                <a:srgbClr val="000000"/>
              </a:solidFill>
              <a:latin typeface="Franklin Gothic Medium"/>
            </a:endParaRPr>
          </a:p>
        </p:txBody>
      </p:sp>
      <p:sp>
        <p:nvSpPr>
          <p:cNvPr id="230" name=""/>
          <p:cNvSpPr txBox="1"/>
          <p:nvPr/>
        </p:nvSpPr>
        <p:spPr>
          <a:xfrm>
            <a:off x="380880" y="1052640"/>
            <a:ext cx="8151840" cy="54007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         </a:t>
            </a:r>
            <a:r>
              <a:rPr b="1" lang="ru-RU" sz="3000" spc="-1" strike="noStrike">
                <a:solidFill>
                  <a:srgbClr val="000000"/>
                </a:solidFill>
                <a:latin typeface="Franklin Gothic Book"/>
              </a:rPr>
              <a:t>Дабыл - ударный инструмент, ободок с ручкой с двух сторон обтянут кожей. Обычно дабылом пользовались воины. Это был инструмент с очень громким звуком, служивший для подачи сигналов. В древние времена ударные инструменты имели широкое применение в жизни казахов. Громкие звуки ударных инструментов созывали жителей аула на охоту, на совершение религиозных обрядов, извещали о предстоящих перекочевках</a:t>
            </a:r>
            <a:r>
              <a:rPr b="1" lang="en-US" sz="3500" spc="-1" strike="noStrike">
                <a:solidFill>
                  <a:srgbClr val="000000"/>
                </a:solidFill>
                <a:latin typeface="Franklin Gothic Book"/>
              </a:rPr>
              <a:t>.</a:t>
            </a:r>
            <a:r>
              <a:rPr b="1" lang="ru-RU" sz="3500" spc="-1" strike="noStrike">
                <a:solidFill>
                  <a:srgbClr val="000000"/>
                </a:solidFill>
                <a:latin typeface="Franklin Gothic Book"/>
              </a:rPr>
              <a:t> </a:t>
            </a:r>
            <a:endParaRPr b="1" lang="en-US" sz="3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32" name="Picture 2" descr=""/>
          <p:cNvPicPr/>
          <p:nvPr/>
        </p:nvPicPr>
        <p:blipFill>
          <a:blip r:embed="rId1"/>
          <a:stretch/>
        </p:blipFill>
        <p:spPr>
          <a:xfrm>
            <a:off x="3925800" y="2065320"/>
            <a:ext cx="131436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03:10:03Z</dcterms:created>
  <dc:creator>User</dc:creator>
  <dc:description/>
  <dc:language>en-US</dc:language>
  <cp:lastModifiedBy>Владлена</cp:lastModifiedBy>
  <dcterms:modified xsi:type="dcterms:W3CDTF">2011-03-08T13:46:00Z</dcterms:modified>
  <cp:revision>6</cp:revision>
  <dc:subject/>
  <dc:title>Казахские музыкальные инструменты</dc:title>
</cp:coreProperties>
</file>