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7.gif" ContentType="image/gif"/>
  <Override PartName="/ppt/media/image28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6.png" ContentType="image/png"/>
  <Override PartName="/ppt/media/image7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0.gif" ContentType="image/gif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DAB94E-8162-4C49-85FD-69942C20B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3C8AEF-5258-43D3-B025-6FF17B196EE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26E03C-333A-4818-9928-BDA146AB51B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AD1440-B6BA-466D-96F2-236E547ED32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2D8078-91E9-41ED-BEA2-08A9C2FC08B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372F38-E10A-4E27-8168-9E1B028C954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EFCEC4-99EF-4C0F-A938-CEA2CAECB13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913D67-197A-4091-ABF4-C8CC67A9EE5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91DEAD-B88F-4C8C-873D-2FF122A8A29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F0F779-D539-4121-8F39-24A8C28E4E1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636857-E049-4435-B1F6-F0009CCDB86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472CC8-3B94-4976-9A89-A457C82D89A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DCD518-497D-421D-934E-45D4510EDA3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124704-0565-4730-BD27-A950DF4F34B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2E4B7C-1C2A-4698-A504-C57BC067837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E44-01AC-4234-9D99-1617C59D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48B-375D-4462-9B00-02AE7B7A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39A-16A7-4EA1-B251-6677011A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DC6-7B7D-4F81-A82B-7B1C2AC4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E475-B5A7-4CC5-8D49-91D0FAB9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5D5B-9F24-400A-8D1E-76572B3B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C4AB-66B4-4A26-85DD-80BAF508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B101-A2AF-4573-AE4A-74E44A90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95AF-BCDB-4E4D-BAD6-0685EA48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2C76-62FB-4B61-8ED4-0ACE202D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265A-4DDC-4283-9DC3-69C9A955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4BD-F9CB-46CB-8500-005EA7C7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4727-EE3B-4C5C-859D-CECB7FA8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40C5-2CBB-415B-8E2D-5121C1C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B9E-0E25-478C-B948-031BC1A9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20DA-41B1-4A2B-ACE1-67AA8135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061B-5668-4F01-B3C4-3327F7D3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F19-5BB1-48F3-818B-331EB616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38C-6AC5-42A9-A02A-F2353C53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B72-266C-4DD1-89F4-5E0C22EF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A68-B2C7-4048-99EE-BEA1F463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2CD-95FE-4BF4-B2B1-BF0D3562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CDE-9E12-4353-95E1-98E1E46C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599-F35A-46E4-8BFA-FD64D55C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EC117C-6042-4F36-8152-3EA9A8B1025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40BE42-A215-4289-94C2-4196A5A6107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hyperlink" Target="http://states-world.ru/flags/ger-fx10.png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o.foto.radikal.ru/0707/8a/5f1f472fef00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s53.radikal.ru/i139/0809/9a/161023054385.jpg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а 32 из 25289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sp>
        <p:nvSpPr>
          <p:cNvPr id="89" name="TextBox 2"/>
          <p:cNvSpPr/>
          <p:nvPr/>
        </p:nvSpPr>
        <p:spPr>
          <a:xfrm>
            <a:off x="1619640" y="332640"/>
            <a:ext cx="5616360" cy="1186920"/>
          </a:xfrm>
          <a:prstGeom prst="rect">
            <a:avLst/>
          </a:prstGeom>
          <a:solidFill>
            <a:schemeClr val="tx2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Bookman Old Style"/>
              </a:rPr>
              <a:t>Российская империя в 19 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Таблица 1"/>
          <p:cNvGraphicFramePr/>
          <p:nvPr/>
        </p:nvGraphicFramePr>
        <p:xfrm>
          <a:off x="395640" y="1484640"/>
          <a:ext cx="8064360" cy="5040360"/>
        </p:xfrm>
        <a:graphic>
          <a:graphicData uri="http://schemas.openxmlformats.org/drawingml/2006/table">
            <a:tbl>
              <a:tblPr/>
              <a:tblGrid>
                <a:gridCol w="2232000"/>
                <a:gridCol w="1800000"/>
                <a:gridCol w="2016000"/>
                <a:gridCol w="2016000"/>
              </a:tblGrid>
              <a:tr h="119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881—18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896 —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9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3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5,3 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28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3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35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19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2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Герм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3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8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7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ик 3"/>
          <p:cNvSpPr/>
          <p:nvPr/>
        </p:nvSpPr>
        <p:spPr>
          <a:xfrm>
            <a:off x="1259640" y="332640"/>
            <a:ext cx="6696360" cy="94284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Доли в мировом промышленном производ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Картинка 6 из 252896"/>
          <p:cNvPicPr/>
          <p:nvPr/>
        </p:nvPicPr>
        <p:blipFill>
          <a:blip r:embed="rId1"/>
          <a:srcRect l="0" t="0" r="0" b="800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148" name="TextBox 2"/>
          <p:cNvSpPr/>
          <p:nvPr/>
        </p:nvSpPr>
        <p:spPr>
          <a:xfrm>
            <a:off x="1835640" y="0"/>
            <a:ext cx="5112360" cy="94284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381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Экономическое развитие Российской имп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лилиния 3"/>
          <p:cNvSpPr/>
          <p:nvPr/>
        </p:nvSpPr>
        <p:spPr>
          <a:xfrm>
            <a:off x="827640" y="242100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олилиния 4"/>
          <p:cNvSpPr/>
          <p:nvPr/>
        </p:nvSpPr>
        <p:spPr>
          <a:xfrm rot="2898000">
            <a:off x="77400" y="4404960"/>
            <a:ext cx="1293840" cy="165564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5"/>
          <p:cNvSpPr/>
          <p:nvPr/>
        </p:nvSpPr>
        <p:spPr>
          <a:xfrm>
            <a:off x="0" y="162864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6"/>
          <p:cNvSpPr/>
          <p:nvPr/>
        </p:nvSpPr>
        <p:spPr>
          <a:xfrm>
            <a:off x="2771640" y="3141000"/>
            <a:ext cx="1223640" cy="172800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728000"/>
              <a:gd name="textAreaBottom" fmla="*/ 1728360 h 172800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7"/>
          <p:cNvSpPr/>
          <p:nvPr/>
        </p:nvSpPr>
        <p:spPr>
          <a:xfrm>
            <a:off x="1475640" y="378900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8"/>
          <p:cNvSpPr/>
          <p:nvPr/>
        </p:nvSpPr>
        <p:spPr>
          <a:xfrm>
            <a:off x="4356000" y="3213000"/>
            <a:ext cx="1367640" cy="2160000"/>
          </a:xfrm>
          <a:custGeom>
            <a:avLst/>
            <a:gdLst>
              <a:gd name="textAreaLeft" fmla="*/ 0 w 1367640"/>
              <a:gd name="textAreaRight" fmla="*/ 1368000 w 1367640"/>
              <a:gd name="textAreaTop" fmla="*/ 0 h 2160000"/>
              <a:gd name="textAreaBottom" fmla="*/ 2160360 h 216000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Таблица 1"/>
          <p:cNvGraphicFramePr/>
          <p:nvPr/>
        </p:nvGraphicFramePr>
        <p:xfrm>
          <a:off x="323640" y="1268640"/>
          <a:ext cx="8568720" cy="5382000"/>
        </p:xfrm>
        <a:graphic>
          <a:graphicData uri="http://schemas.openxmlformats.org/drawingml/2006/table">
            <a:tbl>
              <a:tblPr/>
              <a:tblGrid>
                <a:gridCol w="2856240"/>
                <a:gridCol w="2856240"/>
                <a:gridCol w="2856240"/>
              </a:tblGrid>
              <a:tr h="198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Госуд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Годовой расход на сухопутные вой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На душу насе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104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Австро-Венг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69 469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3,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Анг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29 51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5,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Герм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90 95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5,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84 379 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36 51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5,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ик 2"/>
          <p:cNvSpPr/>
          <p:nvPr/>
        </p:nvSpPr>
        <p:spPr>
          <a:xfrm>
            <a:off x="755640" y="260640"/>
            <a:ext cx="7704360" cy="82116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равнительная таблица военных расходов на 1897 год. В рубл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755640" y="332640"/>
            <a:ext cx="7776360" cy="130860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lt1"/>
                </a:solidFill>
                <a:latin typeface="Bookman Old Style"/>
              </a:rPr>
              <a:t>«Золотой век» просвещения и величи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251640" y="1917000"/>
            <a:ext cx="8640720" cy="942840"/>
          </a:xfrm>
          <a:prstGeom prst="rect">
            <a:avLst/>
          </a:prstGeom>
          <a:noFill/>
          <a:ln w="38100">
            <a:solidFill>
              <a:srgbClr val="1f497d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Ведущая роль в культуре принадлежит дворянской и разночинной интеллиге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323640" y="3645000"/>
            <a:ext cx="6120360" cy="821160"/>
          </a:xfrm>
          <a:prstGeom prst="rect">
            <a:avLst/>
          </a:prstGeom>
          <a:solidFill>
            <a:schemeClr val="bg2">
              <a:lumMod val="90000"/>
            </a:schemeClr>
          </a:solidFill>
          <a:ln w="0">
            <a:noFill/>
          </a:ln>
          <a:effectLst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cap="all">
                <a:solidFill>
                  <a:srgbClr val="4d78bb"/>
                </a:solidFill>
                <a:latin typeface="Bookman Old Style"/>
              </a:rPr>
              <a:t>ЛИТЕРАТУРА</a:t>
            </a:r>
            <a:r>
              <a:rPr b="1" lang="ru-RU" sz="2400" spc="-1" strike="noStrike" cap="all">
                <a:solidFill>
                  <a:srgbClr val="4d78bb"/>
                </a:solidFill>
                <a:latin typeface="Bookman Old Style"/>
              </a:rPr>
              <a:t> – «Ослепительные свет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1043640" y="4653000"/>
            <a:ext cx="7632360" cy="1979280"/>
          </a:xfrm>
          <a:prstGeom prst="rect">
            <a:avLst/>
          </a:prstGeom>
          <a:solidFill>
            <a:schemeClr val="bg2">
              <a:lumMod val="90000"/>
            </a:schemeClr>
          </a:solid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 cap="all">
                <a:solidFill>
                  <a:srgbClr val="4d78bb"/>
                </a:solidFill>
                <a:latin typeface="Bookman Old Style"/>
              </a:rPr>
              <a:t>МУЗЫКА</a:t>
            </a:r>
            <a:r>
              <a:rPr b="1" lang="ru-RU" sz="2800" spc="-1" strike="noStrike" cap="all">
                <a:solidFill>
                  <a:srgbClr val="4d78bb"/>
                </a:solidFill>
                <a:latin typeface="Bookman Old Style"/>
              </a:rPr>
              <a:t>-</a:t>
            </a:r>
            <a:r>
              <a:rPr b="1" lang="ru-RU" sz="2400" spc="-1" strike="noStrike" cap="all">
                <a:solidFill>
                  <a:srgbClr val="4d78bb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rgbClr val="4d78bb"/>
                </a:solidFill>
                <a:latin typeface="Bookman Old Style"/>
              </a:rPr>
              <a:t>«отход от социальной проблематики и возрастание интереса к внутреннему миру человека, к философско-этическим проблем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C:\Program Files\QIP\Users\453621037\RcvdFiles\402453795_`Nik@\cd3a5f2992a5.jpg"/>
          <p:cNvPicPr/>
          <p:nvPr/>
        </p:nvPicPr>
        <p:blipFill>
          <a:blip r:embed="rId1"/>
          <a:stretch/>
        </p:blipFill>
        <p:spPr>
          <a:xfrm>
            <a:off x="214200" y="285840"/>
            <a:ext cx="8726400" cy="60717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Program Files\QIP\Users\453621037\RcvdFiles\402453795_`Nik@\8365461255623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C:\Program Files\QIP\Users\453621037\RcvdFiles\402453795_`Nik@\imgB.asp.jpg"/>
          <p:cNvPicPr/>
          <p:nvPr/>
        </p:nvPicPr>
        <p:blipFill>
          <a:blip r:embed="rId1"/>
          <a:stretch/>
        </p:blipFill>
        <p:spPr>
          <a:xfrm>
            <a:off x="214200" y="214200"/>
            <a:ext cx="4714560" cy="35895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66" name="Picture 4" descr="C:\Program Files\QIP\Users\453621037\RcvdFiles\402453795_`Nik@\746.jpg"/>
          <p:cNvPicPr/>
          <p:nvPr/>
        </p:nvPicPr>
        <p:blipFill>
          <a:blip r:embed="rId2"/>
          <a:stretch/>
        </p:blipFill>
        <p:spPr>
          <a:xfrm>
            <a:off x="5214960" y="142920"/>
            <a:ext cx="3638160" cy="37857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67" name="Picture 5" descr="C:\Program Files\QIP\Users\453621037\RcvdFiles\402453795_`Nik@\bea24a8aebf5f779687f41e6d9675d4d.jpg"/>
          <p:cNvPicPr/>
          <p:nvPr/>
        </p:nvPicPr>
        <p:blipFill>
          <a:blip r:embed="rId3"/>
          <a:stretch/>
        </p:blipFill>
        <p:spPr>
          <a:xfrm>
            <a:off x="857160" y="4000680"/>
            <a:ext cx="3428640" cy="267372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68" name="Picture 6" descr="C:\Program Files\QIP\Users\453621037\RcvdFiles\402453795_`Nik@\ortodox046.jpg"/>
          <p:cNvPicPr/>
          <p:nvPr/>
        </p:nvPicPr>
        <p:blipFill>
          <a:blip r:embed="rId4"/>
          <a:stretch/>
        </p:blipFill>
        <p:spPr>
          <a:xfrm>
            <a:off x="4572000" y="4214880"/>
            <a:ext cx="4262040" cy="24123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2162880" y="428760"/>
            <a:ext cx="5013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9f5c"/>
                </a:solidFill>
                <a:latin typeface="Calibri"/>
              </a:rPr>
              <a:t>Досуг и обыча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Program Files\QIP\Users\453621037\RcvdFiles\402453795_`Nik@\004.jpg"/>
          <p:cNvPicPr/>
          <p:nvPr/>
        </p:nvPicPr>
        <p:blipFill>
          <a:blip r:embed="rId1"/>
          <a:stretch/>
        </p:blipFill>
        <p:spPr>
          <a:xfrm>
            <a:off x="642960" y="1428840"/>
            <a:ext cx="8143560" cy="50760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Program Files\QIP\Users\453621037\RcvdFiles\402453795_`Nik@\27.jpg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703840"/>
          </a:xfrm>
          <a:prstGeom prst="rect">
            <a:avLst/>
          </a:prstGeom>
          <a:ln w="0">
            <a:noFill/>
          </a:ln>
          <a:effectLst>
            <a:glow rad="22860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Program Files\QIP\Users\453621037\RcvdFiles\402453795_`Nik@\pic1848_1536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535752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75" name="Picture 5" descr="C:\Program Files\QIP\Users\453621037\RcvdFiles\402453795_`Nik@\53221249_kustodiev05.jpg"/>
          <p:cNvPicPr/>
          <p:nvPr/>
        </p:nvPicPr>
        <p:blipFill>
          <a:blip r:embed="rId2"/>
          <a:stretch/>
        </p:blipFill>
        <p:spPr>
          <a:xfrm>
            <a:off x="4500720" y="1071720"/>
            <a:ext cx="4447800" cy="42858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Блок-схема: альтернативный процесс 1"/>
          <p:cNvSpPr/>
          <p:nvPr/>
        </p:nvSpPr>
        <p:spPr>
          <a:xfrm>
            <a:off x="357120" y="620640"/>
            <a:ext cx="3500280" cy="1428480"/>
          </a:xfrm>
          <a:prstGeom prst="flowChartAlternateProcess">
            <a:avLst/>
          </a:prstGeom>
          <a:solidFill>
            <a:schemeClr val="tx2">
              <a:lumMod val="75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ИМПЕР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Овал 2"/>
          <p:cNvSpPr/>
          <p:nvPr/>
        </p:nvSpPr>
        <p:spPr>
          <a:xfrm>
            <a:off x="4788000" y="2349000"/>
            <a:ext cx="3024000" cy="1356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ен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179640" y="4941000"/>
            <a:ext cx="3960000" cy="1356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омитет министерств (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3276000" y="3933000"/>
            <a:ext cx="3024000" cy="1356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ин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5"/>
          <p:cNvSpPr/>
          <p:nvPr/>
        </p:nvSpPr>
        <p:spPr>
          <a:xfrm>
            <a:off x="4751640" y="260640"/>
            <a:ext cx="4392000" cy="1644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Государств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Выгнутая вправо стрелка 7"/>
          <p:cNvSpPr/>
          <p:nvPr/>
        </p:nvSpPr>
        <p:spPr>
          <a:xfrm rot="18774000">
            <a:off x="4703040" y="1620360"/>
            <a:ext cx="723240" cy="12628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Выгнутая вправо стрелка 8"/>
          <p:cNvSpPr/>
          <p:nvPr/>
        </p:nvSpPr>
        <p:spPr>
          <a:xfrm rot="19629600">
            <a:off x="3817800" y="2633400"/>
            <a:ext cx="744120" cy="155484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Выгнутая вправо стрелка 9"/>
          <p:cNvSpPr/>
          <p:nvPr/>
        </p:nvSpPr>
        <p:spPr>
          <a:xfrm rot="20356200">
            <a:off x="2080440" y="3162240"/>
            <a:ext cx="883440" cy="1953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Выгнутая вправо стрелка 10"/>
          <p:cNvSpPr/>
          <p:nvPr/>
        </p:nvSpPr>
        <p:spPr>
          <a:xfrm rot="17813400">
            <a:off x="4433040" y="381240"/>
            <a:ext cx="723240" cy="12628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Program Files\QIP\Users\453621037\RcvdFiles\402453795_`Nik@\surikov01.jpg"/>
          <p:cNvPicPr/>
          <p:nvPr/>
        </p:nvPicPr>
        <p:blipFill>
          <a:blip r:embed="rId1"/>
          <a:stretch/>
        </p:blipFill>
        <p:spPr>
          <a:xfrm>
            <a:off x="500040" y="642960"/>
            <a:ext cx="8168400" cy="52146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Documents and Settings\Zloi_Z\Рабочий стол\купала.jpg"/>
          <p:cNvPicPr/>
          <p:nvPr/>
        </p:nvPicPr>
        <p:blipFill>
          <a:blip r:embed="rId1"/>
          <a:srcRect l="0" t="0" r="0" b="8851"/>
          <a:stretch/>
        </p:blipFill>
        <p:spPr>
          <a:xfrm>
            <a:off x="428760" y="1143000"/>
            <a:ext cx="8244360" cy="514368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sp>
        <p:nvSpPr>
          <p:cNvPr id="178" name="Прямоугольник 4"/>
          <p:cNvSpPr/>
          <p:nvPr/>
        </p:nvSpPr>
        <p:spPr>
          <a:xfrm>
            <a:off x="2328840" y="0"/>
            <a:ext cx="4113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9f5c"/>
                </a:solidFill>
                <a:latin typeface="Calibri"/>
              </a:rPr>
              <a:t>Иван Купа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535040" y="357120"/>
            <a:ext cx="5975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9f5c"/>
                </a:solidFill>
                <a:latin typeface="Calibri"/>
              </a:rPr>
              <a:t>Семейные обряд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Zloi_Z\Рабочий стол\семья1.jpg"/>
          <p:cNvPicPr/>
          <p:nvPr/>
        </p:nvPicPr>
        <p:blipFill>
          <a:blip r:embed="rId1"/>
          <a:stretch/>
        </p:blipFill>
        <p:spPr>
          <a:xfrm>
            <a:off x="1000080" y="1285920"/>
            <a:ext cx="7471080" cy="53337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C:\Program Files\QIP\Users\453621037\RcvdFiles\402453795_`Nik@\942-2.jpg"/>
          <p:cNvPicPr/>
          <p:nvPr/>
        </p:nvPicPr>
        <p:blipFill>
          <a:blip r:embed="rId1"/>
          <a:stretch/>
        </p:blipFill>
        <p:spPr>
          <a:xfrm>
            <a:off x="428760" y="428760"/>
            <a:ext cx="8235000" cy="592884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Program Files\QIP\Users\453621037\RcvdFiles\402453795_`Nik@\Новая папка\свадебная.jpg"/>
          <p:cNvPicPr/>
          <p:nvPr/>
        </p:nvPicPr>
        <p:blipFill>
          <a:blip r:embed="rId1"/>
          <a:stretch/>
        </p:blipFill>
        <p:spPr>
          <a:xfrm>
            <a:off x="1071360" y="428760"/>
            <a:ext cx="3093840" cy="550044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83" name="Picture 3" descr="C:\Program Files\QIP\Users\453621037\RcvdFiles\402453795_`Nik@\Новая папка\свадебная одежда.gif"/>
          <p:cNvPicPr/>
          <p:nvPr/>
        </p:nvPicPr>
        <p:blipFill>
          <a:blip r:embed="rId2"/>
          <a:stretch/>
        </p:blipFill>
        <p:spPr>
          <a:xfrm>
            <a:off x="5286240" y="500040"/>
            <a:ext cx="2747880" cy="54288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sp>
        <p:nvSpPr>
          <p:cNvPr id="184" name="TextBox 5"/>
          <p:cNvSpPr/>
          <p:nvPr/>
        </p:nvSpPr>
        <p:spPr>
          <a:xfrm>
            <a:off x="2571840" y="6072120"/>
            <a:ext cx="3785760" cy="1064520"/>
          </a:xfrm>
          <a:prstGeom prst="rect">
            <a:avLst/>
          </a:prstGeom>
          <a:solidFill>
            <a:schemeClr val="tx2">
              <a:lumMod val="50000"/>
            </a:schemeClr>
          </a:solidFill>
          <a:ln w="9525">
            <a:solidFill>
              <a:srgbClr val="8064a2">
                <a:lumMod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Свадебная одеж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Zloi_Z\Рабочий стол\attach.asp.jpeg"/>
          <p:cNvPicPr/>
          <p:nvPr/>
        </p:nvPicPr>
        <p:blipFill>
          <a:blip r:embed="rId1"/>
          <a:stretch/>
        </p:blipFill>
        <p:spPr>
          <a:xfrm>
            <a:off x="642960" y="357120"/>
            <a:ext cx="4500360" cy="62769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86" name="Picture 3" descr="C:\Program Files\QIP\Users\453621037\RcvdFiles\402453795_`Nik@\Новая папка\dress2.jpg"/>
          <p:cNvPicPr/>
          <p:nvPr/>
        </p:nvPicPr>
        <p:blipFill>
          <a:blip r:embed="rId2"/>
          <a:stretch/>
        </p:blipFill>
        <p:spPr>
          <a:xfrm>
            <a:off x="5857920" y="571320"/>
            <a:ext cx="2499840" cy="571464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Program Files\QIP\Users\453621037\RcvdFiles\402453795_`Nik@\Новая папка\5.jpg"/>
          <p:cNvPicPr/>
          <p:nvPr/>
        </p:nvPicPr>
        <p:blipFill>
          <a:blip r:embed="rId1"/>
          <a:stretch/>
        </p:blipFill>
        <p:spPr>
          <a:xfrm>
            <a:off x="428760" y="571320"/>
            <a:ext cx="4214520" cy="579492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88" name="Picture 3" descr="C:\Program Files\QIP\Users\453621037\RcvdFiles\402453795_`Nik@\Новая папка\праздничная одежда.jpg"/>
          <p:cNvPicPr/>
          <p:nvPr/>
        </p:nvPicPr>
        <p:blipFill>
          <a:blip r:embed="rId2"/>
          <a:stretch/>
        </p:blipFill>
        <p:spPr>
          <a:xfrm>
            <a:off x="4929120" y="571320"/>
            <a:ext cx="3625920" cy="578628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Program Files\QIP\Users\453621037\RcvdFiles\402453795_`Nik@\f71ae45ebe7at.jpg"/>
          <p:cNvPicPr/>
          <p:nvPr/>
        </p:nvPicPr>
        <p:blipFill>
          <a:blip r:embed="rId1"/>
          <a:srcRect l="0" t="0" r="0" b="5779"/>
          <a:stretch/>
        </p:blipFill>
        <p:spPr>
          <a:xfrm>
            <a:off x="357120" y="285840"/>
            <a:ext cx="4357440" cy="614160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3" descr="C:\Program Files\QIP\Users\453621037\RcvdFiles\402453795_`Nik@\DSC07602.jpg"/>
          <p:cNvPicPr/>
          <p:nvPr/>
        </p:nvPicPr>
        <p:blipFill>
          <a:blip r:embed="rId2"/>
          <a:srcRect l="3192" t="0" r="0" b="4049"/>
          <a:stretch/>
        </p:blipFill>
        <p:spPr>
          <a:xfrm>
            <a:off x="4857840" y="500040"/>
            <a:ext cx="3571560" cy="558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755640" y="332640"/>
            <a:ext cx="7776360" cy="69912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lt1"/>
                </a:solidFill>
                <a:latin typeface="Bookman Old Style"/>
              </a:rPr>
              <a:t>Внешняя поли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79640" y="1340640"/>
            <a:ext cx="8496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Ведущее положение в мировой поли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icture 7"/>
          <p:cNvSpPr/>
          <p:nvPr/>
        </p:nvSpPr>
        <p:spPr>
          <a:xfrm>
            <a:off x="5940000" y="2420640"/>
            <a:ext cx="2955960" cy="20743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icture 5"/>
          <p:cNvSpPr/>
          <p:nvPr/>
        </p:nvSpPr>
        <p:spPr>
          <a:xfrm>
            <a:off x="6300000" y="3861000"/>
            <a:ext cx="2485800" cy="2262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icture 2"/>
          <p:cNvSpPr/>
          <p:nvPr/>
        </p:nvSpPr>
        <p:spPr>
          <a:xfrm>
            <a:off x="179640" y="2680560"/>
            <a:ext cx="2952000" cy="20545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icture 4"/>
          <p:cNvSpPr/>
          <p:nvPr/>
        </p:nvSpPr>
        <p:spPr>
          <a:xfrm>
            <a:off x="467280" y="3717000"/>
            <a:ext cx="2757960" cy="23076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icture 2">
            <a:hlinkClick r:id="rId5"/>
          </p:cNvPr>
          <p:cNvSpPr/>
          <p:nvPr/>
        </p:nvSpPr>
        <p:spPr>
          <a:xfrm>
            <a:off x="4212000" y="4581000"/>
            <a:ext cx="3240000" cy="21578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icture 2">
            <a:hlinkClick r:id="rId7"/>
          </p:cNvPr>
          <p:cNvSpPr/>
          <p:nvPr/>
        </p:nvSpPr>
        <p:spPr>
          <a:xfrm>
            <a:off x="3131640" y="5229000"/>
            <a:ext cx="2592000" cy="173124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icture 4">
            <a:hlinkClick r:id="rId9"/>
          </p:cNvPr>
          <p:cNvSpPr/>
          <p:nvPr/>
        </p:nvSpPr>
        <p:spPr>
          <a:xfrm>
            <a:off x="1187640" y="5373000"/>
            <a:ext cx="2448000" cy="16347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Блок-схема: решение 1"/>
          <p:cNvSpPr/>
          <p:nvPr/>
        </p:nvSpPr>
        <p:spPr>
          <a:xfrm>
            <a:off x="4212000" y="26064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09" name="Блок-схема: решение 3"/>
          <p:cNvSpPr/>
          <p:nvPr/>
        </p:nvSpPr>
        <p:spPr>
          <a:xfrm>
            <a:off x="0" y="2781000"/>
            <a:ext cx="4643640" cy="1583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932000" y="76464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Дворя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755640" y="3357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рестья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Блок-схема: альтернативный процесс 11"/>
          <p:cNvSpPr/>
          <p:nvPr/>
        </p:nvSpPr>
        <p:spPr>
          <a:xfrm>
            <a:off x="395640" y="404640"/>
            <a:ext cx="3500280" cy="1428480"/>
          </a:xfrm>
          <a:prstGeom prst="flowChartAlternateProcess">
            <a:avLst/>
          </a:prstGeom>
          <a:solidFill>
            <a:schemeClr val="tx2">
              <a:lumMod val="75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осло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Блок-схема: решение 16"/>
          <p:cNvSpPr/>
          <p:nvPr/>
        </p:nvSpPr>
        <p:spPr>
          <a:xfrm>
            <a:off x="4284000" y="2133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5076000" y="2637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Духове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Блок-схема: решение 18"/>
          <p:cNvSpPr/>
          <p:nvPr/>
        </p:nvSpPr>
        <p:spPr>
          <a:xfrm>
            <a:off x="4356000" y="3789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5076000" y="4293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упе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Блок-схема: решение 20"/>
          <p:cNvSpPr/>
          <p:nvPr/>
        </p:nvSpPr>
        <p:spPr>
          <a:xfrm>
            <a:off x="4356000" y="5346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5076000" y="580536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Меща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Блок-схема: решение 22"/>
          <p:cNvSpPr/>
          <p:nvPr/>
        </p:nvSpPr>
        <p:spPr>
          <a:xfrm>
            <a:off x="0" y="5346000"/>
            <a:ext cx="432000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539640" y="580536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аза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Блок-схема: решение 1"/>
          <p:cNvSpPr/>
          <p:nvPr/>
        </p:nvSpPr>
        <p:spPr>
          <a:xfrm>
            <a:off x="4212000" y="62064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5004000" y="112464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Буржуа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Блок-схема: решение 3"/>
          <p:cNvSpPr/>
          <p:nvPr/>
        </p:nvSpPr>
        <p:spPr>
          <a:xfrm>
            <a:off x="3132000" y="2493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3924000" y="2997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Разночин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Блок-схема: решение 5"/>
          <p:cNvSpPr/>
          <p:nvPr/>
        </p:nvSpPr>
        <p:spPr>
          <a:xfrm>
            <a:off x="1331640" y="4221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123640" y="4725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Пролета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Блок-схема: решение 7"/>
          <p:cNvSpPr/>
          <p:nvPr/>
        </p:nvSpPr>
        <p:spPr>
          <a:xfrm>
            <a:off x="4428000" y="5157360"/>
            <a:ext cx="4715640" cy="170028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004000" y="5661360"/>
            <a:ext cx="3888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Интеллиген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Блок-схема: альтернативный процесс 10"/>
          <p:cNvSpPr/>
          <p:nvPr/>
        </p:nvSpPr>
        <p:spPr>
          <a:xfrm>
            <a:off x="395640" y="404640"/>
            <a:ext cx="3500280" cy="1428480"/>
          </a:xfrm>
          <a:prstGeom prst="flowChartAlternateProcess">
            <a:avLst/>
          </a:prstGeom>
          <a:solidFill>
            <a:schemeClr val="tx2">
              <a:lumMod val="75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лас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Блок-схема: альтернативный процесс 1"/>
          <p:cNvSpPr/>
          <p:nvPr/>
        </p:nvSpPr>
        <p:spPr>
          <a:xfrm>
            <a:off x="323640" y="332640"/>
            <a:ext cx="3500280" cy="1428480"/>
          </a:xfrm>
          <a:prstGeom prst="flowChartAlternateProcess">
            <a:avLst/>
          </a:prstGeom>
          <a:solidFill>
            <a:schemeClr val="accent1">
              <a:lumMod val="50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Эконом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4284000" y="476640"/>
            <a:ext cx="93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148000" y="476640"/>
            <a:ext cx="3744000" cy="136944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0">
            <a:noFill/>
          </a:ln>
          <a:effectLst>
            <a:softEdge rad="31752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лабо- средний уровень развития капит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755640" y="2205000"/>
            <a:ext cx="7560360" cy="516240"/>
          </a:xfrm>
          <a:prstGeom prst="rect">
            <a:avLst/>
          </a:prstGeom>
          <a:solidFill>
            <a:srgbClr val="ffffff"/>
          </a:solidFill>
          <a:ln w="57150">
            <a:solidFill>
              <a:srgbClr val="1f497d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Bookman Old Style"/>
              </a:rPr>
              <a:t>Аграрно - индустриальн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251640" y="3285000"/>
            <a:ext cx="8640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Многоукладный характер экономики - наряду с частнокапиталистическим, монополистическим и государственно-монополистическим сохранялись мелкотоварный (кустарная промышленность), полукрепостнический и натурально-патриархальный (община) укл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39640" y="836640"/>
            <a:ext cx="7992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SzPct val="100000"/>
              <a:buBlip>
                <a:blip r:embed="rId1"/>
              </a:buBlip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Зависимость от внешних рынков зерна и иностранных инвести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00"/>
              <a:buBlip>
                <a:blip r:embed="rId2"/>
              </a:buBlip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Сочетание высоких темпов развития экономики с низкой производительностью тру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00"/>
              <a:buBlip>
                <a:blip r:embed="rId3"/>
              </a:buBlip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Российская буржуазия не имела доступа к власти и не была свободна в принятии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323640" y="1628640"/>
            <a:ext cx="849672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Страны с высоким уровнем развития капитализма (Англия, Франция, С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Страны со средним (Германия, Япония) и слабо-средним (Россия, Австро-Венгрия) уровнем развития капит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58"/>
              <a:buBlip>
                <a:blip r:embed="rId3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Страны слабого развития капитализма (страны Латинской Америки, Африки, Аз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39640" y="188640"/>
            <a:ext cx="7776360" cy="106452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В современной науке выделяют три эшелона модерниз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251640" y="260640"/>
            <a:ext cx="87127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chemeClr val="accent4"/>
                </a:solidFill>
                <a:latin typeface="Bookman Old Style"/>
              </a:rPr>
              <a:t>Модернизация 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усовершенствование, улучшение, обновление объекта, приведение его в соответствие с новыми требованиями и нормами, техническими условиями, показателями ка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"/>
          <p:cNvSpPr/>
          <p:nvPr/>
        </p:nvSpPr>
        <p:spPr>
          <a:xfrm>
            <a:off x="179640" y="3429000"/>
            <a:ext cx="3024000" cy="107964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Поли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Овал 3"/>
          <p:cNvSpPr/>
          <p:nvPr/>
        </p:nvSpPr>
        <p:spPr>
          <a:xfrm>
            <a:off x="2915640" y="3645000"/>
            <a:ext cx="3600000" cy="107964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Эконо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4"/>
          <p:cNvSpPr/>
          <p:nvPr/>
        </p:nvSpPr>
        <p:spPr>
          <a:xfrm>
            <a:off x="6119640" y="3429000"/>
            <a:ext cx="3024000" cy="107964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Куль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51640" y="4725000"/>
            <a:ext cx="2808000" cy="94284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278b5"/>
                </a:solidFill>
                <a:latin typeface="Bookman Old Style"/>
              </a:rPr>
              <a:t>Республика, демокра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132000" y="4941000"/>
            <a:ext cx="2808000" cy="94284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278b5"/>
                </a:solidFill>
                <a:latin typeface="Bookman Old Style"/>
              </a:rPr>
              <a:t>Капитализм,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6372360" y="4725000"/>
            <a:ext cx="2771280" cy="136944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278b5"/>
                </a:solidFill>
                <a:latin typeface="Bookman Old Style"/>
              </a:rPr>
              <a:t>Новая система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  <Words>320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5:44:17Z</dcterms:created>
  <dc:creator>Масютка</dc:creator>
  <dc:description/>
  <dc:language>en-US</dc:language>
  <cp:lastModifiedBy>Оксана</cp:lastModifiedBy>
  <dcterms:modified xsi:type="dcterms:W3CDTF">2010-09-16T16:35:27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Экран (4:3)</vt:lpwstr>
  </property>
  <property fmtid="{D5CDD505-2E9C-101B-9397-08002B2CF9AE}" pid="4" name="Slides">
    <vt:r8>27</vt:r8>
  </property>
</Properties>
</file>