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7.gif" ContentType="image/gif"/>
  <Override PartName="/ppt/media/image28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6.png" ContentType="image/png"/>
  <Override PartName="/ppt/media/image7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0.gif" ContentType="image/gif"/>
  <Override PartName="/ppt/media/image3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B06A01-8386-450A-B754-80C300EC4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B0FE66-6C6D-46F1-994A-C8149FC27DD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1D8685-20F6-4CCF-BB3E-9E2D178E870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1E726C-2CDF-46CA-B60B-8E19145E7A1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D7C62A-F9F6-40D2-8768-C9AF1DB1CD7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9E0822-A7F0-47F7-A208-78EDD79FAC2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C6E34F-1CAD-4BBE-A83B-3B7F5CD5C64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09B07E-FC42-4FA2-A9AF-5EB400E1616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6ECB5C-8BDF-4979-93F8-FDF228299E9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4C9339-32E9-4242-A3E8-F13FC4FCDBC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120BB7-ED63-4270-9283-C35B3E54491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6AD306-EA0E-4D12-97F1-ABC831A47A8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5BCFA7-D7C0-44F8-95E9-F4BE612C2DD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4EFE08-0D41-494A-9EEF-D92AE3A2314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8B6A9E-2CAF-4DBE-8848-49A0146AEDA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5E1-EF20-4567-A9B9-BC69EC5C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1831-8962-4E3F-9319-049F901D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921-1E92-4B66-90A8-E4EBF329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3E2-E9DF-4E10-8133-011CA445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026A-93DC-4ACC-AF41-2BC79EB3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41ED-2D05-45F6-9758-1B02736D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8F60-A9EC-4B64-8A7C-7C72BFB6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5598-8759-4F84-8A10-9C3B993A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E421-2282-4C55-9811-52E92279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104D-8CE0-44E8-822F-18F2B1C9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996A-5336-4722-B564-F1E41F80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607-5289-4A1D-A684-57C33BFB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6CE9-FE54-4EFA-A8AA-BFD66687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CCA9-FC64-461A-9F28-253D14F0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3887-06F9-4F99-95C9-7272F674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04F2-C4CF-4BBB-8EFC-6D027ABE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0B60-8B53-45D3-906C-F1E35CE5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CE4-A59E-439F-833E-ABE17265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7913-F250-4564-85B9-6C5A3ABC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B3AD-3C66-40FA-9222-6C69EFD2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E9D-BF33-4FC1-B95D-F96C3C5E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4E4-90BB-46AF-B846-65C5434A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EF1F-BDA0-4F6E-8A45-B44FD426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2951-B1E8-4263-9E65-6AF2B899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0A40F7-165E-42AD-BA21-DC9AAFC79CC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C97BA4-EE30-438A-81B0-6EFDB92AC10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hyperlink" Target="http://states-world.ru/flags/ger-fx10.png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o.foto.radikal.ru/0707/8a/5f1f472fef00.jpg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s53.radikal.ru/i139/0809/9a/161023054385.jpg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Картинка 32 из 252896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  <a:effectLst>
            <a:softEdge rad="635040"/>
          </a:effectLst>
        </p:spPr>
      </p:pic>
      <p:sp>
        <p:nvSpPr>
          <p:cNvPr id="89" name="TextBox 2"/>
          <p:cNvSpPr/>
          <p:nvPr/>
        </p:nvSpPr>
        <p:spPr>
          <a:xfrm>
            <a:off x="1619640" y="332640"/>
            <a:ext cx="5616360" cy="1186920"/>
          </a:xfrm>
          <a:prstGeom prst="rect">
            <a:avLst/>
          </a:prstGeom>
          <a:solidFill>
            <a:schemeClr val="tx2">
              <a:lumMod val="75000"/>
            </a:schemeClr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lt1"/>
                </a:solidFill>
                <a:latin typeface="Bookman Old Style"/>
              </a:rPr>
              <a:t>Российская империя в 19 ве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Таблица 1"/>
          <p:cNvGraphicFramePr/>
          <p:nvPr/>
        </p:nvGraphicFramePr>
        <p:xfrm>
          <a:off x="395640" y="1484640"/>
          <a:ext cx="8064360" cy="5040360"/>
        </p:xfrm>
        <a:graphic>
          <a:graphicData uri="http://schemas.openxmlformats.org/drawingml/2006/table">
            <a:tbl>
              <a:tblPr/>
              <a:tblGrid>
                <a:gridCol w="2232000"/>
                <a:gridCol w="1800000"/>
                <a:gridCol w="2016000"/>
                <a:gridCol w="2016000"/>
              </a:tblGrid>
              <a:tr h="1193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Стр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1881—18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1896 —1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19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66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3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5,3 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66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28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3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35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1193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Великобрит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26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19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66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Герм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13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16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15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66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Фран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8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7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2800" spc="49" strike="noStrike">
                          <a:solidFill>
                            <a:srgbClr val="fbfcfd">
                              <a:alpha val="95000"/>
                            </a:srgbClr>
                          </a:solidFill>
                          <a:latin typeface="Bookman Old Style"/>
                        </a:rPr>
                        <a:t>6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</a:tbl>
          </a:graphicData>
        </a:graphic>
      </p:graphicFrame>
      <p:sp>
        <p:nvSpPr>
          <p:cNvPr id="146" name="Прямоугольник 3"/>
          <p:cNvSpPr/>
          <p:nvPr/>
        </p:nvSpPr>
        <p:spPr>
          <a:xfrm>
            <a:off x="1259640" y="332640"/>
            <a:ext cx="6696360" cy="942840"/>
          </a:xfrm>
          <a:prstGeom prst="rect">
            <a:avLst/>
          </a:prstGeom>
          <a:solidFill>
            <a:schemeClr val="tx2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Bookman Old Style"/>
              </a:rPr>
              <a:t>Доли в мировом промышленном производ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Картинка 6 из 252896"/>
          <p:cNvPicPr/>
          <p:nvPr/>
        </p:nvPicPr>
        <p:blipFill>
          <a:blip r:embed="rId1"/>
          <a:srcRect l="0" t="0" r="0" b="800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148" name="TextBox 2"/>
          <p:cNvSpPr/>
          <p:nvPr/>
        </p:nvSpPr>
        <p:spPr>
          <a:xfrm>
            <a:off x="1835640" y="0"/>
            <a:ext cx="5112360" cy="94284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381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Экономическое развитие Российской имп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олилиния 3"/>
          <p:cNvSpPr/>
          <p:nvPr/>
        </p:nvSpPr>
        <p:spPr>
          <a:xfrm>
            <a:off x="827640" y="2421000"/>
            <a:ext cx="1079640" cy="14396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3954297" h="4068738">
                <a:moveTo>
                  <a:pt x="1301250" y="514169"/>
                </a:moveTo>
                <a:cubicBezTo>
                  <a:pt x="1184088" y="467304"/>
                  <a:pt x="1288260" y="514103"/>
                  <a:pt x="1159582" y="436896"/>
                </a:cubicBezTo>
                <a:cubicBezTo>
                  <a:pt x="1123486" y="415238"/>
                  <a:pt x="1082425" y="400882"/>
                  <a:pt x="1043672" y="385380"/>
                </a:cubicBezTo>
                <a:cubicBezTo>
                  <a:pt x="794680" y="393966"/>
                  <a:pt x="545030" y="391111"/>
                  <a:pt x="296697" y="411138"/>
                </a:cubicBezTo>
                <a:cubicBezTo>
                  <a:pt x="275302" y="412863"/>
                  <a:pt x="263946" y="439351"/>
                  <a:pt x="245182" y="449775"/>
                </a:cubicBezTo>
                <a:cubicBezTo>
                  <a:pt x="224973" y="461002"/>
                  <a:pt x="202253" y="466946"/>
                  <a:pt x="180788" y="475532"/>
                </a:cubicBezTo>
                <a:cubicBezTo>
                  <a:pt x="163616" y="492704"/>
                  <a:pt x="142743" y="506842"/>
                  <a:pt x="129272" y="527048"/>
                </a:cubicBezTo>
                <a:cubicBezTo>
                  <a:pt x="116448" y="546283"/>
                  <a:pt x="112903" y="570316"/>
                  <a:pt x="103514" y="591442"/>
                </a:cubicBezTo>
                <a:cubicBezTo>
                  <a:pt x="64591" y="679021"/>
                  <a:pt x="93441" y="609071"/>
                  <a:pt x="51999" y="681594"/>
                </a:cubicBezTo>
                <a:cubicBezTo>
                  <a:pt x="42474" y="698263"/>
                  <a:pt x="34827" y="715938"/>
                  <a:pt x="26241" y="733110"/>
                </a:cubicBezTo>
                <a:cubicBezTo>
                  <a:pt x="30534" y="831848"/>
                  <a:pt x="31540" y="930784"/>
                  <a:pt x="39120" y="1029324"/>
                </a:cubicBezTo>
                <a:cubicBezTo>
                  <a:pt x="40161" y="1042859"/>
                  <a:pt x="48270" y="1054907"/>
                  <a:pt x="51999" y="1067960"/>
                </a:cubicBezTo>
                <a:cubicBezTo>
                  <a:pt x="56862" y="1084979"/>
                  <a:pt x="59792" y="1102522"/>
                  <a:pt x="64878" y="1119476"/>
                </a:cubicBezTo>
                <a:cubicBezTo>
                  <a:pt x="64883" y="1119494"/>
                  <a:pt x="97072" y="1216059"/>
                  <a:pt x="103514" y="1235386"/>
                </a:cubicBezTo>
                <a:cubicBezTo>
                  <a:pt x="107807" y="1248265"/>
                  <a:pt x="108863" y="1262727"/>
                  <a:pt x="116393" y="1274022"/>
                </a:cubicBezTo>
                <a:lnTo>
                  <a:pt x="142151" y="1312659"/>
                </a:lnTo>
                <a:cubicBezTo>
                  <a:pt x="146444" y="1329831"/>
                  <a:pt x="146248" y="1348807"/>
                  <a:pt x="155030" y="1364175"/>
                </a:cubicBezTo>
                <a:cubicBezTo>
                  <a:pt x="164066" y="1379989"/>
                  <a:pt x="182006" y="1388819"/>
                  <a:pt x="193666" y="1402811"/>
                </a:cubicBezTo>
                <a:cubicBezTo>
                  <a:pt x="203575" y="1414702"/>
                  <a:pt x="210838" y="1428569"/>
                  <a:pt x="219424" y="1441448"/>
                </a:cubicBezTo>
                <a:cubicBezTo>
                  <a:pt x="254080" y="1580071"/>
                  <a:pt x="197779" y="1385277"/>
                  <a:pt x="283819" y="1557358"/>
                </a:cubicBezTo>
                <a:cubicBezTo>
                  <a:pt x="293608" y="1576937"/>
                  <a:pt x="288839" y="1601321"/>
                  <a:pt x="296697" y="1621752"/>
                </a:cubicBezTo>
                <a:cubicBezTo>
                  <a:pt x="310481" y="1657590"/>
                  <a:pt x="336071" y="1688356"/>
                  <a:pt x="348213" y="1724783"/>
                </a:cubicBezTo>
                <a:cubicBezTo>
                  <a:pt x="387288" y="1842009"/>
                  <a:pt x="327351" y="1656874"/>
                  <a:pt x="373971" y="1827814"/>
                </a:cubicBezTo>
                <a:cubicBezTo>
                  <a:pt x="381115" y="1854008"/>
                  <a:pt x="399728" y="1905087"/>
                  <a:pt x="399728" y="1905087"/>
                </a:cubicBezTo>
                <a:cubicBezTo>
                  <a:pt x="391142" y="1952310"/>
                  <a:pt x="394084" y="2003176"/>
                  <a:pt x="373971" y="2046755"/>
                </a:cubicBezTo>
                <a:cubicBezTo>
                  <a:pt x="370555" y="2054157"/>
                  <a:pt x="298073" y="2083714"/>
                  <a:pt x="283819" y="2085391"/>
                </a:cubicBezTo>
                <a:cubicBezTo>
                  <a:pt x="223977" y="2092431"/>
                  <a:pt x="163616" y="2093977"/>
                  <a:pt x="103514" y="2098270"/>
                </a:cubicBezTo>
                <a:cubicBezTo>
                  <a:pt x="0" y="2253544"/>
                  <a:pt x="41646" y="2158129"/>
                  <a:pt x="64878" y="2471758"/>
                </a:cubicBezTo>
                <a:cubicBezTo>
                  <a:pt x="66890" y="2498925"/>
                  <a:pt x="83020" y="2535256"/>
                  <a:pt x="90635" y="2561910"/>
                </a:cubicBezTo>
                <a:cubicBezTo>
                  <a:pt x="95497" y="2578929"/>
                  <a:pt x="94732" y="2598057"/>
                  <a:pt x="103514" y="2613425"/>
                </a:cubicBezTo>
                <a:cubicBezTo>
                  <a:pt x="112551" y="2629239"/>
                  <a:pt x="129272" y="2639183"/>
                  <a:pt x="142151" y="2652062"/>
                </a:cubicBezTo>
                <a:cubicBezTo>
                  <a:pt x="176018" y="2787527"/>
                  <a:pt x="125463" y="2622858"/>
                  <a:pt x="193666" y="2742214"/>
                </a:cubicBezTo>
                <a:cubicBezTo>
                  <a:pt x="202448" y="2757582"/>
                  <a:pt x="199572" y="2777460"/>
                  <a:pt x="206545" y="2793729"/>
                </a:cubicBezTo>
                <a:cubicBezTo>
                  <a:pt x="214409" y="2812077"/>
                  <a:pt x="264343" y="2872886"/>
                  <a:pt x="270940" y="2883882"/>
                </a:cubicBezTo>
                <a:cubicBezTo>
                  <a:pt x="336343" y="2992888"/>
                  <a:pt x="271346" y="2938217"/>
                  <a:pt x="373971" y="2999791"/>
                </a:cubicBezTo>
                <a:cubicBezTo>
                  <a:pt x="391143" y="3021256"/>
                  <a:pt x="403495" y="3047693"/>
                  <a:pt x="425486" y="3064186"/>
                </a:cubicBezTo>
                <a:cubicBezTo>
                  <a:pt x="439646" y="3074806"/>
                  <a:pt x="461170" y="3069149"/>
                  <a:pt x="477002" y="3077065"/>
                </a:cubicBezTo>
                <a:cubicBezTo>
                  <a:pt x="504691" y="3090909"/>
                  <a:pt x="529839" y="3109574"/>
                  <a:pt x="554275" y="3128580"/>
                </a:cubicBezTo>
                <a:cubicBezTo>
                  <a:pt x="568652" y="3139762"/>
                  <a:pt x="577546" y="3157439"/>
                  <a:pt x="592912" y="3167217"/>
                </a:cubicBezTo>
                <a:cubicBezTo>
                  <a:pt x="625306" y="3187832"/>
                  <a:pt x="665225" y="3195693"/>
                  <a:pt x="695943" y="3218732"/>
                </a:cubicBezTo>
                <a:cubicBezTo>
                  <a:pt x="713115" y="3231611"/>
                  <a:pt x="732280" y="3242191"/>
                  <a:pt x="747458" y="3257369"/>
                </a:cubicBezTo>
                <a:cubicBezTo>
                  <a:pt x="762636" y="3272547"/>
                  <a:pt x="769605" y="3295143"/>
                  <a:pt x="786095" y="3308884"/>
                </a:cubicBezTo>
                <a:cubicBezTo>
                  <a:pt x="796524" y="3317575"/>
                  <a:pt x="812589" y="3315692"/>
                  <a:pt x="824731" y="3321763"/>
                </a:cubicBezTo>
                <a:cubicBezTo>
                  <a:pt x="838575" y="3328685"/>
                  <a:pt x="850489" y="3338935"/>
                  <a:pt x="863368" y="3347521"/>
                </a:cubicBezTo>
                <a:cubicBezTo>
                  <a:pt x="867661" y="3360400"/>
                  <a:pt x="868102" y="3375297"/>
                  <a:pt x="876247" y="3386158"/>
                </a:cubicBezTo>
                <a:cubicBezTo>
                  <a:pt x="935736" y="3465477"/>
                  <a:pt x="925178" y="3436123"/>
                  <a:pt x="992157" y="3476310"/>
                </a:cubicBezTo>
                <a:cubicBezTo>
                  <a:pt x="1018702" y="3492237"/>
                  <a:pt x="1047541" y="3505935"/>
                  <a:pt x="1069430" y="3527825"/>
                </a:cubicBezTo>
                <a:cubicBezTo>
                  <a:pt x="1082309" y="3540704"/>
                  <a:pt x="1092912" y="3556359"/>
                  <a:pt x="1108066" y="3566462"/>
                </a:cubicBezTo>
                <a:cubicBezTo>
                  <a:pt x="1119362" y="3573992"/>
                  <a:pt x="1135062" y="3572356"/>
                  <a:pt x="1146703" y="3579341"/>
                </a:cubicBezTo>
                <a:cubicBezTo>
                  <a:pt x="1199794" y="3611195"/>
                  <a:pt x="1249734" y="3648028"/>
                  <a:pt x="1301250" y="3682372"/>
                </a:cubicBezTo>
                <a:cubicBezTo>
                  <a:pt x="1314129" y="3690958"/>
                  <a:pt x="1327503" y="3698842"/>
                  <a:pt x="1339886" y="3708129"/>
                </a:cubicBezTo>
                <a:cubicBezTo>
                  <a:pt x="1357058" y="3721008"/>
                  <a:pt x="1372765" y="3736116"/>
                  <a:pt x="1391402" y="3746766"/>
                </a:cubicBezTo>
                <a:cubicBezTo>
                  <a:pt x="1403189" y="3753501"/>
                  <a:pt x="1417159" y="3755352"/>
                  <a:pt x="1430038" y="3759645"/>
                </a:cubicBezTo>
                <a:cubicBezTo>
                  <a:pt x="1438624" y="3772524"/>
                  <a:pt x="1443115" y="3789406"/>
                  <a:pt x="1455796" y="3798282"/>
                </a:cubicBezTo>
                <a:cubicBezTo>
                  <a:pt x="1487252" y="3820301"/>
                  <a:pt x="1558827" y="3849797"/>
                  <a:pt x="1558827" y="3849797"/>
                </a:cubicBezTo>
                <a:cubicBezTo>
                  <a:pt x="1575999" y="3875555"/>
                  <a:pt x="1588453" y="3905180"/>
                  <a:pt x="1610343" y="3927070"/>
                </a:cubicBezTo>
                <a:cubicBezTo>
                  <a:pt x="1619942" y="3936669"/>
                  <a:pt x="1636837" y="3933878"/>
                  <a:pt x="1648979" y="3939949"/>
                </a:cubicBezTo>
                <a:cubicBezTo>
                  <a:pt x="1662823" y="3946871"/>
                  <a:pt x="1674177" y="3958027"/>
                  <a:pt x="1687616" y="3965707"/>
                </a:cubicBezTo>
                <a:cubicBezTo>
                  <a:pt x="1704285" y="3975232"/>
                  <a:pt x="1722462" y="3981940"/>
                  <a:pt x="1739131" y="3991465"/>
                </a:cubicBezTo>
                <a:cubicBezTo>
                  <a:pt x="1797876" y="4025033"/>
                  <a:pt x="1762094" y="4018960"/>
                  <a:pt x="1842162" y="4042980"/>
                </a:cubicBezTo>
                <a:cubicBezTo>
                  <a:pt x="1925056" y="4067848"/>
                  <a:pt x="2087602" y="4065917"/>
                  <a:pt x="2138376" y="4068738"/>
                </a:cubicBezTo>
                <a:cubicBezTo>
                  <a:pt x="2340145" y="4055859"/>
                  <a:pt x="2542507" y="4050219"/>
                  <a:pt x="2743683" y="4030101"/>
                </a:cubicBezTo>
                <a:cubicBezTo>
                  <a:pt x="2759085" y="4028561"/>
                  <a:pt x="2769047" y="4012308"/>
                  <a:pt x="2782320" y="4004344"/>
                </a:cubicBezTo>
                <a:cubicBezTo>
                  <a:pt x="2811999" y="3986537"/>
                  <a:pt x="2843674" y="3972027"/>
                  <a:pt x="2872472" y="3952828"/>
                </a:cubicBezTo>
                <a:cubicBezTo>
                  <a:pt x="2895343" y="3937580"/>
                  <a:pt x="2914875" y="3917806"/>
                  <a:pt x="2936866" y="3901313"/>
                </a:cubicBezTo>
                <a:cubicBezTo>
                  <a:pt x="2949249" y="3892026"/>
                  <a:pt x="2962624" y="3884141"/>
                  <a:pt x="2975503" y="3875555"/>
                </a:cubicBezTo>
                <a:cubicBezTo>
                  <a:pt x="3049317" y="3764833"/>
                  <a:pt x="2960823" y="3904917"/>
                  <a:pt x="3014140" y="3798282"/>
                </a:cubicBezTo>
                <a:cubicBezTo>
                  <a:pt x="3051110" y="3724341"/>
                  <a:pt x="3074439" y="3720414"/>
                  <a:pt x="3104292" y="3630856"/>
                </a:cubicBezTo>
                <a:cubicBezTo>
                  <a:pt x="3182128" y="3397351"/>
                  <a:pt x="3088320" y="3689422"/>
                  <a:pt x="3142928" y="3489189"/>
                </a:cubicBezTo>
                <a:cubicBezTo>
                  <a:pt x="3150072" y="3462994"/>
                  <a:pt x="3160884" y="3437921"/>
                  <a:pt x="3168686" y="3411915"/>
                </a:cubicBezTo>
                <a:cubicBezTo>
                  <a:pt x="3173772" y="3394961"/>
                  <a:pt x="3176702" y="3377419"/>
                  <a:pt x="3181565" y="3360400"/>
                </a:cubicBezTo>
                <a:cubicBezTo>
                  <a:pt x="3185295" y="3347347"/>
                  <a:pt x="3191499" y="3335015"/>
                  <a:pt x="3194444" y="3321763"/>
                </a:cubicBezTo>
                <a:cubicBezTo>
                  <a:pt x="3200109" y="3296272"/>
                  <a:pt x="3203030" y="3270248"/>
                  <a:pt x="3207323" y="3244490"/>
                </a:cubicBezTo>
                <a:cubicBezTo>
                  <a:pt x="3198737" y="3175803"/>
                  <a:pt x="3216248" y="3098334"/>
                  <a:pt x="3181565" y="3038428"/>
                </a:cubicBezTo>
                <a:cubicBezTo>
                  <a:pt x="3161159" y="3003182"/>
                  <a:pt x="3103249" y="3015455"/>
                  <a:pt x="3065655" y="2999791"/>
                </a:cubicBezTo>
                <a:cubicBezTo>
                  <a:pt x="3051367" y="2993838"/>
                  <a:pt x="3040863" y="2980956"/>
                  <a:pt x="3027019" y="2974034"/>
                </a:cubicBezTo>
                <a:cubicBezTo>
                  <a:pt x="3006341" y="2963695"/>
                  <a:pt x="2984271" y="2956394"/>
                  <a:pt x="2962624" y="2948276"/>
                </a:cubicBezTo>
                <a:cubicBezTo>
                  <a:pt x="2949913" y="2943509"/>
                  <a:pt x="2935855" y="2941990"/>
                  <a:pt x="2923988" y="2935397"/>
                </a:cubicBezTo>
                <a:cubicBezTo>
                  <a:pt x="2896927" y="2920363"/>
                  <a:pt x="2868604" y="2905772"/>
                  <a:pt x="2846714" y="2883882"/>
                </a:cubicBezTo>
                <a:cubicBezTo>
                  <a:pt x="2820956" y="2858124"/>
                  <a:pt x="2800331" y="2825914"/>
                  <a:pt x="2769441" y="2806608"/>
                </a:cubicBezTo>
                <a:cubicBezTo>
                  <a:pt x="2735097" y="2785143"/>
                  <a:pt x="2699164" y="2766035"/>
                  <a:pt x="2666410" y="2742214"/>
                </a:cubicBezTo>
                <a:cubicBezTo>
                  <a:pt x="2651680" y="2731501"/>
                  <a:pt x="2641765" y="2715237"/>
                  <a:pt x="2627773" y="2703577"/>
                </a:cubicBezTo>
                <a:cubicBezTo>
                  <a:pt x="2615882" y="2693668"/>
                  <a:pt x="2602016" y="2686406"/>
                  <a:pt x="2589137" y="2677820"/>
                </a:cubicBezTo>
                <a:lnTo>
                  <a:pt x="2537621" y="2600546"/>
                </a:lnTo>
                <a:cubicBezTo>
                  <a:pt x="2529035" y="2587667"/>
                  <a:pt x="2516759" y="2576594"/>
                  <a:pt x="2511864" y="2561910"/>
                </a:cubicBezTo>
                <a:cubicBezTo>
                  <a:pt x="2503278" y="2536152"/>
                  <a:pt x="2499107" y="2508473"/>
                  <a:pt x="2486106" y="2484637"/>
                </a:cubicBezTo>
                <a:cubicBezTo>
                  <a:pt x="2426756" y="2375830"/>
                  <a:pt x="2443978" y="2465376"/>
                  <a:pt x="2408833" y="2368727"/>
                </a:cubicBezTo>
                <a:cubicBezTo>
                  <a:pt x="2398152" y="2339355"/>
                  <a:pt x="2393477" y="2308046"/>
                  <a:pt x="2383075" y="2278575"/>
                </a:cubicBezTo>
                <a:cubicBezTo>
                  <a:pt x="2367686" y="2234974"/>
                  <a:pt x="2331559" y="2149786"/>
                  <a:pt x="2331559" y="2149786"/>
                </a:cubicBezTo>
                <a:cubicBezTo>
                  <a:pt x="2335852" y="2102563"/>
                  <a:pt x="2338171" y="2055119"/>
                  <a:pt x="2344438" y="2008118"/>
                </a:cubicBezTo>
                <a:cubicBezTo>
                  <a:pt x="2346777" y="1990573"/>
                  <a:pt x="2347499" y="1971330"/>
                  <a:pt x="2357317" y="1956603"/>
                </a:cubicBezTo>
                <a:cubicBezTo>
                  <a:pt x="2365903" y="1943724"/>
                  <a:pt x="2383075" y="1939431"/>
                  <a:pt x="2395954" y="1930845"/>
                </a:cubicBezTo>
                <a:cubicBezTo>
                  <a:pt x="2526411" y="1669929"/>
                  <a:pt x="2357161" y="2042253"/>
                  <a:pt x="2460348" y="1608873"/>
                </a:cubicBezTo>
                <a:cubicBezTo>
                  <a:pt x="2465973" y="1585249"/>
                  <a:pt x="2487862" y="1561051"/>
                  <a:pt x="2511864" y="1557358"/>
                </a:cubicBezTo>
                <a:cubicBezTo>
                  <a:pt x="2660612" y="1534474"/>
                  <a:pt x="2812371" y="1540186"/>
                  <a:pt x="2962624" y="1531600"/>
                </a:cubicBezTo>
                <a:cubicBezTo>
                  <a:pt x="3055051" y="1469981"/>
                  <a:pt x="3018007" y="1501974"/>
                  <a:pt x="3078534" y="1441448"/>
                </a:cubicBezTo>
                <a:cubicBezTo>
                  <a:pt x="3156374" y="1285768"/>
                  <a:pt x="3051910" y="1473397"/>
                  <a:pt x="3142928" y="1364175"/>
                </a:cubicBezTo>
                <a:cubicBezTo>
                  <a:pt x="3155219" y="1349426"/>
                  <a:pt x="3156192" y="1327236"/>
                  <a:pt x="3168686" y="1312659"/>
                </a:cubicBezTo>
                <a:cubicBezTo>
                  <a:pt x="3182655" y="1296362"/>
                  <a:pt x="3204319" y="1288461"/>
                  <a:pt x="3220202" y="1274022"/>
                </a:cubicBezTo>
                <a:cubicBezTo>
                  <a:pt x="3335704" y="1169020"/>
                  <a:pt x="3265006" y="1198987"/>
                  <a:pt x="3348990" y="1170991"/>
                </a:cubicBezTo>
                <a:cubicBezTo>
                  <a:pt x="3384506" y="1135476"/>
                  <a:pt x="3384426" y="1130505"/>
                  <a:pt x="3426264" y="1106597"/>
                </a:cubicBezTo>
                <a:cubicBezTo>
                  <a:pt x="3442933" y="1097072"/>
                  <a:pt x="3462420" y="1092358"/>
                  <a:pt x="3477779" y="1080839"/>
                </a:cubicBezTo>
                <a:cubicBezTo>
                  <a:pt x="3497207" y="1066268"/>
                  <a:pt x="3509534" y="1043439"/>
                  <a:pt x="3529295" y="1029324"/>
                </a:cubicBezTo>
                <a:cubicBezTo>
                  <a:pt x="3540342" y="1021434"/>
                  <a:pt x="3556064" y="1023038"/>
                  <a:pt x="3567931" y="1016445"/>
                </a:cubicBezTo>
                <a:cubicBezTo>
                  <a:pt x="3594992" y="1001411"/>
                  <a:pt x="3645204" y="964929"/>
                  <a:pt x="3645204" y="964929"/>
                </a:cubicBezTo>
                <a:cubicBezTo>
                  <a:pt x="3649497" y="947757"/>
                  <a:pt x="3646752" y="927012"/>
                  <a:pt x="3658083" y="913414"/>
                </a:cubicBezTo>
                <a:cubicBezTo>
                  <a:pt x="3670374" y="898665"/>
                  <a:pt x="3693136" y="897534"/>
                  <a:pt x="3709599" y="887656"/>
                </a:cubicBezTo>
                <a:cubicBezTo>
                  <a:pt x="3736144" y="871729"/>
                  <a:pt x="3762436" y="855147"/>
                  <a:pt x="3786872" y="836141"/>
                </a:cubicBezTo>
                <a:cubicBezTo>
                  <a:pt x="3801249" y="824959"/>
                  <a:pt x="3809695" y="806541"/>
                  <a:pt x="3825509" y="797504"/>
                </a:cubicBezTo>
                <a:cubicBezTo>
                  <a:pt x="3840877" y="788722"/>
                  <a:pt x="3859852" y="788918"/>
                  <a:pt x="3877024" y="784625"/>
                </a:cubicBezTo>
                <a:cubicBezTo>
                  <a:pt x="3909397" y="687510"/>
                  <a:pt x="3865727" y="807219"/>
                  <a:pt x="3915661" y="707352"/>
                </a:cubicBezTo>
                <a:cubicBezTo>
                  <a:pt x="3921732" y="695210"/>
                  <a:pt x="3923192" y="681193"/>
                  <a:pt x="3928540" y="668715"/>
                </a:cubicBezTo>
                <a:cubicBezTo>
                  <a:pt x="3936103" y="651069"/>
                  <a:pt x="3945711" y="634372"/>
                  <a:pt x="3954297" y="617200"/>
                </a:cubicBezTo>
                <a:cubicBezTo>
                  <a:pt x="3945711" y="582856"/>
                  <a:pt x="3946753" y="544525"/>
                  <a:pt x="3928540" y="514169"/>
                </a:cubicBezTo>
                <a:cubicBezTo>
                  <a:pt x="3918662" y="497706"/>
                  <a:pt x="3893487" y="498289"/>
                  <a:pt x="3877024" y="488411"/>
                </a:cubicBezTo>
                <a:cubicBezTo>
                  <a:pt x="3850479" y="472484"/>
                  <a:pt x="3825509" y="454068"/>
                  <a:pt x="3799751" y="436896"/>
                </a:cubicBezTo>
                <a:cubicBezTo>
                  <a:pt x="3657281" y="341916"/>
                  <a:pt x="3776561" y="412203"/>
                  <a:pt x="3387627" y="385380"/>
                </a:cubicBezTo>
                <a:cubicBezTo>
                  <a:pt x="3353283" y="368208"/>
                  <a:pt x="3296738" y="370292"/>
                  <a:pt x="3284596" y="333865"/>
                </a:cubicBezTo>
                <a:cubicBezTo>
                  <a:pt x="3265646" y="277015"/>
                  <a:pt x="3283859" y="301299"/>
                  <a:pt x="3220202" y="269470"/>
                </a:cubicBezTo>
                <a:cubicBezTo>
                  <a:pt x="3168415" y="140005"/>
                  <a:pt x="3230816" y="254651"/>
                  <a:pt x="3142928" y="179318"/>
                </a:cubicBezTo>
                <a:cubicBezTo>
                  <a:pt x="2975193" y="35546"/>
                  <a:pt x="3208551" y="197309"/>
                  <a:pt x="3065655" y="102045"/>
                </a:cubicBezTo>
                <a:cubicBezTo>
                  <a:pt x="3057069" y="84873"/>
                  <a:pt x="3052188" y="65278"/>
                  <a:pt x="3039897" y="50529"/>
                </a:cubicBezTo>
                <a:cubicBezTo>
                  <a:pt x="2997790" y="0"/>
                  <a:pt x="2944124" y="31121"/>
                  <a:pt x="2885351" y="37651"/>
                </a:cubicBezTo>
                <a:cubicBezTo>
                  <a:pt x="2872472" y="46237"/>
                  <a:pt x="2860558" y="56486"/>
                  <a:pt x="2846714" y="63408"/>
                </a:cubicBezTo>
                <a:cubicBezTo>
                  <a:pt x="2834572" y="69479"/>
                  <a:pt x="2820556" y="70939"/>
                  <a:pt x="2808078" y="76287"/>
                </a:cubicBezTo>
                <a:cubicBezTo>
                  <a:pt x="2790431" y="83850"/>
                  <a:pt x="2773231" y="92520"/>
                  <a:pt x="2756562" y="102045"/>
                </a:cubicBezTo>
                <a:cubicBezTo>
                  <a:pt x="2743123" y="109724"/>
                  <a:pt x="2731365" y="120124"/>
                  <a:pt x="2717926" y="127803"/>
                </a:cubicBezTo>
                <a:cubicBezTo>
                  <a:pt x="2673369" y="153264"/>
                  <a:pt x="2671116" y="151991"/>
                  <a:pt x="2627773" y="166439"/>
                </a:cubicBezTo>
                <a:cubicBezTo>
                  <a:pt x="2470692" y="271161"/>
                  <a:pt x="2617776" y="177718"/>
                  <a:pt x="2498985" y="243713"/>
                </a:cubicBezTo>
                <a:cubicBezTo>
                  <a:pt x="2477103" y="255870"/>
                  <a:pt x="2455817" y="269082"/>
                  <a:pt x="2434590" y="282349"/>
                </a:cubicBezTo>
                <a:cubicBezTo>
                  <a:pt x="2421464" y="290552"/>
                  <a:pt x="2410181" y="302010"/>
                  <a:pt x="2395954" y="308107"/>
                </a:cubicBezTo>
                <a:cubicBezTo>
                  <a:pt x="2379685" y="315080"/>
                  <a:pt x="2361610" y="316693"/>
                  <a:pt x="2344438" y="320986"/>
                </a:cubicBezTo>
                <a:cubicBezTo>
                  <a:pt x="2327266" y="329572"/>
                  <a:pt x="2310569" y="339181"/>
                  <a:pt x="2292923" y="346744"/>
                </a:cubicBezTo>
                <a:cubicBezTo>
                  <a:pt x="2213119" y="380945"/>
                  <a:pt x="2298889" y="331981"/>
                  <a:pt x="2202771" y="385380"/>
                </a:cubicBezTo>
                <a:cubicBezTo>
                  <a:pt x="2180889" y="397537"/>
                  <a:pt x="2161384" y="414156"/>
                  <a:pt x="2138376" y="424017"/>
                </a:cubicBezTo>
                <a:cubicBezTo>
                  <a:pt x="2095121" y="442555"/>
                  <a:pt x="2023102" y="463943"/>
                  <a:pt x="1970951" y="475532"/>
                </a:cubicBezTo>
                <a:cubicBezTo>
                  <a:pt x="1949583" y="480281"/>
                  <a:pt x="1927793" y="483102"/>
                  <a:pt x="1906557" y="488411"/>
                </a:cubicBezTo>
                <a:cubicBezTo>
                  <a:pt x="1829867" y="507584"/>
                  <a:pt x="1894693" y="511465"/>
                  <a:pt x="1764889" y="514169"/>
                </a:cubicBezTo>
                <a:cubicBezTo>
                  <a:pt x="1593208" y="517746"/>
                  <a:pt x="1421452" y="514169"/>
                  <a:pt x="1249734" y="514169"/>
                </a:cubicBezTo>
              </a:path>
            </a:pathLst>
          </a:custGeom>
          <a:noFill/>
          <a:ln w="76200">
            <a:solidFill>
              <a:srgbClr val="ff0000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олилиния 4"/>
          <p:cNvSpPr/>
          <p:nvPr/>
        </p:nvSpPr>
        <p:spPr>
          <a:xfrm rot="2898000">
            <a:off x="77400" y="4404960"/>
            <a:ext cx="1293840" cy="1655640"/>
          </a:xfrm>
          <a:custGeom>
            <a:avLst/>
            <a:gdLst>
              <a:gd name="textAreaLeft" fmla="*/ 0 w 1293840"/>
              <a:gd name="textAreaRight" fmla="*/ 1294200 w 129384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3954297" h="4068738">
                <a:moveTo>
                  <a:pt x="1301250" y="514169"/>
                </a:moveTo>
                <a:cubicBezTo>
                  <a:pt x="1184088" y="467304"/>
                  <a:pt x="1288260" y="514103"/>
                  <a:pt x="1159582" y="436896"/>
                </a:cubicBezTo>
                <a:cubicBezTo>
                  <a:pt x="1123486" y="415238"/>
                  <a:pt x="1082425" y="400882"/>
                  <a:pt x="1043672" y="385380"/>
                </a:cubicBezTo>
                <a:cubicBezTo>
                  <a:pt x="794680" y="393966"/>
                  <a:pt x="545030" y="391111"/>
                  <a:pt x="296697" y="411138"/>
                </a:cubicBezTo>
                <a:cubicBezTo>
                  <a:pt x="275302" y="412863"/>
                  <a:pt x="263946" y="439351"/>
                  <a:pt x="245182" y="449775"/>
                </a:cubicBezTo>
                <a:cubicBezTo>
                  <a:pt x="224973" y="461002"/>
                  <a:pt x="202253" y="466946"/>
                  <a:pt x="180788" y="475532"/>
                </a:cubicBezTo>
                <a:cubicBezTo>
                  <a:pt x="163616" y="492704"/>
                  <a:pt x="142743" y="506842"/>
                  <a:pt x="129272" y="527048"/>
                </a:cubicBezTo>
                <a:cubicBezTo>
                  <a:pt x="116448" y="546283"/>
                  <a:pt x="112903" y="570316"/>
                  <a:pt x="103514" y="591442"/>
                </a:cubicBezTo>
                <a:cubicBezTo>
                  <a:pt x="64591" y="679021"/>
                  <a:pt x="93441" y="609071"/>
                  <a:pt x="51999" y="681594"/>
                </a:cubicBezTo>
                <a:cubicBezTo>
                  <a:pt x="42474" y="698263"/>
                  <a:pt x="34827" y="715938"/>
                  <a:pt x="26241" y="733110"/>
                </a:cubicBezTo>
                <a:cubicBezTo>
                  <a:pt x="30534" y="831848"/>
                  <a:pt x="31540" y="930784"/>
                  <a:pt x="39120" y="1029324"/>
                </a:cubicBezTo>
                <a:cubicBezTo>
                  <a:pt x="40161" y="1042859"/>
                  <a:pt x="48270" y="1054907"/>
                  <a:pt x="51999" y="1067960"/>
                </a:cubicBezTo>
                <a:cubicBezTo>
                  <a:pt x="56862" y="1084979"/>
                  <a:pt x="59792" y="1102522"/>
                  <a:pt x="64878" y="1119476"/>
                </a:cubicBezTo>
                <a:cubicBezTo>
                  <a:pt x="64883" y="1119494"/>
                  <a:pt x="97072" y="1216059"/>
                  <a:pt x="103514" y="1235386"/>
                </a:cubicBezTo>
                <a:cubicBezTo>
                  <a:pt x="107807" y="1248265"/>
                  <a:pt x="108863" y="1262727"/>
                  <a:pt x="116393" y="1274022"/>
                </a:cubicBezTo>
                <a:lnTo>
                  <a:pt x="142151" y="1312659"/>
                </a:lnTo>
                <a:cubicBezTo>
                  <a:pt x="146444" y="1329831"/>
                  <a:pt x="146248" y="1348807"/>
                  <a:pt x="155030" y="1364175"/>
                </a:cubicBezTo>
                <a:cubicBezTo>
                  <a:pt x="164066" y="1379989"/>
                  <a:pt x="182006" y="1388819"/>
                  <a:pt x="193666" y="1402811"/>
                </a:cubicBezTo>
                <a:cubicBezTo>
                  <a:pt x="203575" y="1414702"/>
                  <a:pt x="210838" y="1428569"/>
                  <a:pt x="219424" y="1441448"/>
                </a:cubicBezTo>
                <a:cubicBezTo>
                  <a:pt x="254080" y="1580071"/>
                  <a:pt x="197779" y="1385277"/>
                  <a:pt x="283819" y="1557358"/>
                </a:cubicBezTo>
                <a:cubicBezTo>
                  <a:pt x="293608" y="1576937"/>
                  <a:pt x="288839" y="1601321"/>
                  <a:pt x="296697" y="1621752"/>
                </a:cubicBezTo>
                <a:cubicBezTo>
                  <a:pt x="310481" y="1657590"/>
                  <a:pt x="336071" y="1688356"/>
                  <a:pt x="348213" y="1724783"/>
                </a:cubicBezTo>
                <a:cubicBezTo>
                  <a:pt x="387288" y="1842009"/>
                  <a:pt x="327351" y="1656874"/>
                  <a:pt x="373971" y="1827814"/>
                </a:cubicBezTo>
                <a:cubicBezTo>
                  <a:pt x="381115" y="1854008"/>
                  <a:pt x="399728" y="1905087"/>
                  <a:pt x="399728" y="1905087"/>
                </a:cubicBezTo>
                <a:cubicBezTo>
                  <a:pt x="391142" y="1952310"/>
                  <a:pt x="394084" y="2003176"/>
                  <a:pt x="373971" y="2046755"/>
                </a:cubicBezTo>
                <a:cubicBezTo>
                  <a:pt x="370555" y="2054157"/>
                  <a:pt x="298073" y="2083714"/>
                  <a:pt x="283819" y="2085391"/>
                </a:cubicBezTo>
                <a:cubicBezTo>
                  <a:pt x="223977" y="2092431"/>
                  <a:pt x="163616" y="2093977"/>
                  <a:pt x="103514" y="2098270"/>
                </a:cubicBezTo>
                <a:cubicBezTo>
                  <a:pt x="0" y="2253544"/>
                  <a:pt x="41646" y="2158129"/>
                  <a:pt x="64878" y="2471758"/>
                </a:cubicBezTo>
                <a:cubicBezTo>
                  <a:pt x="66890" y="2498925"/>
                  <a:pt x="83020" y="2535256"/>
                  <a:pt x="90635" y="2561910"/>
                </a:cubicBezTo>
                <a:cubicBezTo>
                  <a:pt x="95497" y="2578929"/>
                  <a:pt x="94732" y="2598057"/>
                  <a:pt x="103514" y="2613425"/>
                </a:cubicBezTo>
                <a:cubicBezTo>
                  <a:pt x="112551" y="2629239"/>
                  <a:pt x="129272" y="2639183"/>
                  <a:pt x="142151" y="2652062"/>
                </a:cubicBezTo>
                <a:cubicBezTo>
                  <a:pt x="176018" y="2787527"/>
                  <a:pt x="125463" y="2622858"/>
                  <a:pt x="193666" y="2742214"/>
                </a:cubicBezTo>
                <a:cubicBezTo>
                  <a:pt x="202448" y="2757582"/>
                  <a:pt x="199572" y="2777460"/>
                  <a:pt x="206545" y="2793729"/>
                </a:cubicBezTo>
                <a:cubicBezTo>
                  <a:pt x="214409" y="2812077"/>
                  <a:pt x="264343" y="2872886"/>
                  <a:pt x="270940" y="2883882"/>
                </a:cubicBezTo>
                <a:cubicBezTo>
                  <a:pt x="336343" y="2992888"/>
                  <a:pt x="271346" y="2938217"/>
                  <a:pt x="373971" y="2999791"/>
                </a:cubicBezTo>
                <a:cubicBezTo>
                  <a:pt x="391143" y="3021256"/>
                  <a:pt x="403495" y="3047693"/>
                  <a:pt x="425486" y="3064186"/>
                </a:cubicBezTo>
                <a:cubicBezTo>
                  <a:pt x="439646" y="3074806"/>
                  <a:pt x="461170" y="3069149"/>
                  <a:pt x="477002" y="3077065"/>
                </a:cubicBezTo>
                <a:cubicBezTo>
                  <a:pt x="504691" y="3090909"/>
                  <a:pt x="529839" y="3109574"/>
                  <a:pt x="554275" y="3128580"/>
                </a:cubicBezTo>
                <a:cubicBezTo>
                  <a:pt x="568652" y="3139762"/>
                  <a:pt x="577546" y="3157439"/>
                  <a:pt x="592912" y="3167217"/>
                </a:cubicBezTo>
                <a:cubicBezTo>
                  <a:pt x="625306" y="3187832"/>
                  <a:pt x="665225" y="3195693"/>
                  <a:pt x="695943" y="3218732"/>
                </a:cubicBezTo>
                <a:cubicBezTo>
                  <a:pt x="713115" y="3231611"/>
                  <a:pt x="732280" y="3242191"/>
                  <a:pt x="747458" y="3257369"/>
                </a:cubicBezTo>
                <a:cubicBezTo>
                  <a:pt x="762636" y="3272547"/>
                  <a:pt x="769605" y="3295143"/>
                  <a:pt x="786095" y="3308884"/>
                </a:cubicBezTo>
                <a:cubicBezTo>
                  <a:pt x="796524" y="3317575"/>
                  <a:pt x="812589" y="3315692"/>
                  <a:pt x="824731" y="3321763"/>
                </a:cubicBezTo>
                <a:cubicBezTo>
                  <a:pt x="838575" y="3328685"/>
                  <a:pt x="850489" y="3338935"/>
                  <a:pt x="863368" y="3347521"/>
                </a:cubicBezTo>
                <a:cubicBezTo>
                  <a:pt x="867661" y="3360400"/>
                  <a:pt x="868102" y="3375297"/>
                  <a:pt x="876247" y="3386158"/>
                </a:cubicBezTo>
                <a:cubicBezTo>
                  <a:pt x="935736" y="3465477"/>
                  <a:pt x="925178" y="3436123"/>
                  <a:pt x="992157" y="3476310"/>
                </a:cubicBezTo>
                <a:cubicBezTo>
                  <a:pt x="1018702" y="3492237"/>
                  <a:pt x="1047541" y="3505935"/>
                  <a:pt x="1069430" y="3527825"/>
                </a:cubicBezTo>
                <a:cubicBezTo>
                  <a:pt x="1082309" y="3540704"/>
                  <a:pt x="1092912" y="3556359"/>
                  <a:pt x="1108066" y="3566462"/>
                </a:cubicBezTo>
                <a:cubicBezTo>
                  <a:pt x="1119362" y="3573992"/>
                  <a:pt x="1135062" y="3572356"/>
                  <a:pt x="1146703" y="3579341"/>
                </a:cubicBezTo>
                <a:cubicBezTo>
                  <a:pt x="1199794" y="3611195"/>
                  <a:pt x="1249734" y="3648028"/>
                  <a:pt x="1301250" y="3682372"/>
                </a:cubicBezTo>
                <a:cubicBezTo>
                  <a:pt x="1314129" y="3690958"/>
                  <a:pt x="1327503" y="3698842"/>
                  <a:pt x="1339886" y="3708129"/>
                </a:cubicBezTo>
                <a:cubicBezTo>
                  <a:pt x="1357058" y="3721008"/>
                  <a:pt x="1372765" y="3736116"/>
                  <a:pt x="1391402" y="3746766"/>
                </a:cubicBezTo>
                <a:cubicBezTo>
                  <a:pt x="1403189" y="3753501"/>
                  <a:pt x="1417159" y="3755352"/>
                  <a:pt x="1430038" y="3759645"/>
                </a:cubicBezTo>
                <a:cubicBezTo>
                  <a:pt x="1438624" y="3772524"/>
                  <a:pt x="1443115" y="3789406"/>
                  <a:pt x="1455796" y="3798282"/>
                </a:cubicBezTo>
                <a:cubicBezTo>
                  <a:pt x="1487252" y="3820301"/>
                  <a:pt x="1558827" y="3849797"/>
                  <a:pt x="1558827" y="3849797"/>
                </a:cubicBezTo>
                <a:cubicBezTo>
                  <a:pt x="1575999" y="3875555"/>
                  <a:pt x="1588453" y="3905180"/>
                  <a:pt x="1610343" y="3927070"/>
                </a:cubicBezTo>
                <a:cubicBezTo>
                  <a:pt x="1619942" y="3936669"/>
                  <a:pt x="1636837" y="3933878"/>
                  <a:pt x="1648979" y="3939949"/>
                </a:cubicBezTo>
                <a:cubicBezTo>
                  <a:pt x="1662823" y="3946871"/>
                  <a:pt x="1674177" y="3958027"/>
                  <a:pt x="1687616" y="3965707"/>
                </a:cubicBezTo>
                <a:cubicBezTo>
                  <a:pt x="1704285" y="3975232"/>
                  <a:pt x="1722462" y="3981940"/>
                  <a:pt x="1739131" y="3991465"/>
                </a:cubicBezTo>
                <a:cubicBezTo>
                  <a:pt x="1797876" y="4025033"/>
                  <a:pt x="1762094" y="4018960"/>
                  <a:pt x="1842162" y="4042980"/>
                </a:cubicBezTo>
                <a:cubicBezTo>
                  <a:pt x="1925056" y="4067848"/>
                  <a:pt x="2087602" y="4065917"/>
                  <a:pt x="2138376" y="4068738"/>
                </a:cubicBezTo>
                <a:cubicBezTo>
                  <a:pt x="2340145" y="4055859"/>
                  <a:pt x="2542507" y="4050219"/>
                  <a:pt x="2743683" y="4030101"/>
                </a:cubicBezTo>
                <a:cubicBezTo>
                  <a:pt x="2759085" y="4028561"/>
                  <a:pt x="2769047" y="4012308"/>
                  <a:pt x="2782320" y="4004344"/>
                </a:cubicBezTo>
                <a:cubicBezTo>
                  <a:pt x="2811999" y="3986537"/>
                  <a:pt x="2843674" y="3972027"/>
                  <a:pt x="2872472" y="3952828"/>
                </a:cubicBezTo>
                <a:cubicBezTo>
                  <a:pt x="2895343" y="3937580"/>
                  <a:pt x="2914875" y="3917806"/>
                  <a:pt x="2936866" y="3901313"/>
                </a:cubicBezTo>
                <a:cubicBezTo>
                  <a:pt x="2949249" y="3892026"/>
                  <a:pt x="2962624" y="3884141"/>
                  <a:pt x="2975503" y="3875555"/>
                </a:cubicBezTo>
                <a:cubicBezTo>
                  <a:pt x="3049317" y="3764833"/>
                  <a:pt x="2960823" y="3904917"/>
                  <a:pt x="3014140" y="3798282"/>
                </a:cubicBezTo>
                <a:cubicBezTo>
                  <a:pt x="3051110" y="3724341"/>
                  <a:pt x="3074439" y="3720414"/>
                  <a:pt x="3104292" y="3630856"/>
                </a:cubicBezTo>
                <a:cubicBezTo>
                  <a:pt x="3182128" y="3397351"/>
                  <a:pt x="3088320" y="3689422"/>
                  <a:pt x="3142928" y="3489189"/>
                </a:cubicBezTo>
                <a:cubicBezTo>
                  <a:pt x="3150072" y="3462994"/>
                  <a:pt x="3160884" y="3437921"/>
                  <a:pt x="3168686" y="3411915"/>
                </a:cubicBezTo>
                <a:cubicBezTo>
                  <a:pt x="3173772" y="3394961"/>
                  <a:pt x="3176702" y="3377419"/>
                  <a:pt x="3181565" y="3360400"/>
                </a:cubicBezTo>
                <a:cubicBezTo>
                  <a:pt x="3185295" y="3347347"/>
                  <a:pt x="3191499" y="3335015"/>
                  <a:pt x="3194444" y="3321763"/>
                </a:cubicBezTo>
                <a:cubicBezTo>
                  <a:pt x="3200109" y="3296272"/>
                  <a:pt x="3203030" y="3270248"/>
                  <a:pt x="3207323" y="3244490"/>
                </a:cubicBezTo>
                <a:cubicBezTo>
                  <a:pt x="3198737" y="3175803"/>
                  <a:pt x="3216248" y="3098334"/>
                  <a:pt x="3181565" y="3038428"/>
                </a:cubicBezTo>
                <a:cubicBezTo>
                  <a:pt x="3161159" y="3003182"/>
                  <a:pt x="3103249" y="3015455"/>
                  <a:pt x="3065655" y="2999791"/>
                </a:cubicBezTo>
                <a:cubicBezTo>
                  <a:pt x="3051367" y="2993838"/>
                  <a:pt x="3040863" y="2980956"/>
                  <a:pt x="3027019" y="2974034"/>
                </a:cubicBezTo>
                <a:cubicBezTo>
                  <a:pt x="3006341" y="2963695"/>
                  <a:pt x="2984271" y="2956394"/>
                  <a:pt x="2962624" y="2948276"/>
                </a:cubicBezTo>
                <a:cubicBezTo>
                  <a:pt x="2949913" y="2943509"/>
                  <a:pt x="2935855" y="2941990"/>
                  <a:pt x="2923988" y="2935397"/>
                </a:cubicBezTo>
                <a:cubicBezTo>
                  <a:pt x="2896927" y="2920363"/>
                  <a:pt x="2868604" y="2905772"/>
                  <a:pt x="2846714" y="2883882"/>
                </a:cubicBezTo>
                <a:cubicBezTo>
                  <a:pt x="2820956" y="2858124"/>
                  <a:pt x="2800331" y="2825914"/>
                  <a:pt x="2769441" y="2806608"/>
                </a:cubicBezTo>
                <a:cubicBezTo>
                  <a:pt x="2735097" y="2785143"/>
                  <a:pt x="2699164" y="2766035"/>
                  <a:pt x="2666410" y="2742214"/>
                </a:cubicBezTo>
                <a:cubicBezTo>
                  <a:pt x="2651680" y="2731501"/>
                  <a:pt x="2641765" y="2715237"/>
                  <a:pt x="2627773" y="2703577"/>
                </a:cubicBezTo>
                <a:cubicBezTo>
                  <a:pt x="2615882" y="2693668"/>
                  <a:pt x="2602016" y="2686406"/>
                  <a:pt x="2589137" y="2677820"/>
                </a:cubicBezTo>
                <a:lnTo>
                  <a:pt x="2537621" y="2600546"/>
                </a:lnTo>
                <a:cubicBezTo>
                  <a:pt x="2529035" y="2587667"/>
                  <a:pt x="2516759" y="2576594"/>
                  <a:pt x="2511864" y="2561910"/>
                </a:cubicBezTo>
                <a:cubicBezTo>
                  <a:pt x="2503278" y="2536152"/>
                  <a:pt x="2499107" y="2508473"/>
                  <a:pt x="2486106" y="2484637"/>
                </a:cubicBezTo>
                <a:cubicBezTo>
                  <a:pt x="2426756" y="2375830"/>
                  <a:pt x="2443978" y="2465376"/>
                  <a:pt x="2408833" y="2368727"/>
                </a:cubicBezTo>
                <a:cubicBezTo>
                  <a:pt x="2398152" y="2339355"/>
                  <a:pt x="2393477" y="2308046"/>
                  <a:pt x="2383075" y="2278575"/>
                </a:cubicBezTo>
                <a:cubicBezTo>
                  <a:pt x="2367686" y="2234974"/>
                  <a:pt x="2331559" y="2149786"/>
                  <a:pt x="2331559" y="2149786"/>
                </a:cubicBezTo>
                <a:cubicBezTo>
                  <a:pt x="2335852" y="2102563"/>
                  <a:pt x="2338171" y="2055119"/>
                  <a:pt x="2344438" y="2008118"/>
                </a:cubicBezTo>
                <a:cubicBezTo>
                  <a:pt x="2346777" y="1990573"/>
                  <a:pt x="2347499" y="1971330"/>
                  <a:pt x="2357317" y="1956603"/>
                </a:cubicBezTo>
                <a:cubicBezTo>
                  <a:pt x="2365903" y="1943724"/>
                  <a:pt x="2383075" y="1939431"/>
                  <a:pt x="2395954" y="1930845"/>
                </a:cubicBezTo>
                <a:cubicBezTo>
                  <a:pt x="2526411" y="1669929"/>
                  <a:pt x="2357161" y="2042253"/>
                  <a:pt x="2460348" y="1608873"/>
                </a:cubicBezTo>
                <a:cubicBezTo>
                  <a:pt x="2465973" y="1585249"/>
                  <a:pt x="2487862" y="1561051"/>
                  <a:pt x="2511864" y="1557358"/>
                </a:cubicBezTo>
                <a:cubicBezTo>
                  <a:pt x="2660612" y="1534474"/>
                  <a:pt x="2812371" y="1540186"/>
                  <a:pt x="2962624" y="1531600"/>
                </a:cubicBezTo>
                <a:cubicBezTo>
                  <a:pt x="3055051" y="1469981"/>
                  <a:pt x="3018007" y="1501974"/>
                  <a:pt x="3078534" y="1441448"/>
                </a:cubicBezTo>
                <a:cubicBezTo>
                  <a:pt x="3156374" y="1285768"/>
                  <a:pt x="3051910" y="1473397"/>
                  <a:pt x="3142928" y="1364175"/>
                </a:cubicBezTo>
                <a:cubicBezTo>
                  <a:pt x="3155219" y="1349426"/>
                  <a:pt x="3156192" y="1327236"/>
                  <a:pt x="3168686" y="1312659"/>
                </a:cubicBezTo>
                <a:cubicBezTo>
                  <a:pt x="3182655" y="1296362"/>
                  <a:pt x="3204319" y="1288461"/>
                  <a:pt x="3220202" y="1274022"/>
                </a:cubicBezTo>
                <a:cubicBezTo>
                  <a:pt x="3335704" y="1169020"/>
                  <a:pt x="3265006" y="1198987"/>
                  <a:pt x="3348990" y="1170991"/>
                </a:cubicBezTo>
                <a:cubicBezTo>
                  <a:pt x="3384506" y="1135476"/>
                  <a:pt x="3384426" y="1130505"/>
                  <a:pt x="3426264" y="1106597"/>
                </a:cubicBezTo>
                <a:cubicBezTo>
                  <a:pt x="3442933" y="1097072"/>
                  <a:pt x="3462420" y="1092358"/>
                  <a:pt x="3477779" y="1080839"/>
                </a:cubicBezTo>
                <a:cubicBezTo>
                  <a:pt x="3497207" y="1066268"/>
                  <a:pt x="3509534" y="1043439"/>
                  <a:pt x="3529295" y="1029324"/>
                </a:cubicBezTo>
                <a:cubicBezTo>
                  <a:pt x="3540342" y="1021434"/>
                  <a:pt x="3556064" y="1023038"/>
                  <a:pt x="3567931" y="1016445"/>
                </a:cubicBezTo>
                <a:cubicBezTo>
                  <a:pt x="3594992" y="1001411"/>
                  <a:pt x="3645204" y="964929"/>
                  <a:pt x="3645204" y="964929"/>
                </a:cubicBezTo>
                <a:cubicBezTo>
                  <a:pt x="3649497" y="947757"/>
                  <a:pt x="3646752" y="927012"/>
                  <a:pt x="3658083" y="913414"/>
                </a:cubicBezTo>
                <a:cubicBezTo>
                  <a:pt x="3670374" y="898665"/>
                  <a:pt x="3693136" y="897534"/>
                  <a:pt x="3709599" y="887656"/>
                </a:cubicBezTo>
                <a:cubicBezTo>
                  <a:pt x="3736144" y="871729"/>
                  <a:pt x="3762436" y="855147"/>
                  <a:pt x="3786872" y="836141"/>
                </a:cubicBezTo>
                <a:cubicBezTo>
                  <a:pt x="3801249" y="824959"/>
                  <a:pt x="3809695" y="806541"/>
                  <a:pt x="3825509" y="797504"/>
                </a:cubicBezTo>
                <a:cubicBezTo>
                  <a:pt x="3840877" y="788722"/>
                  <a:pt x="3859852" y="788918"/>
                  <a:pt x="3877024" y="784625"/>
                </a:cubicBezTo>
                <a:cubicBezTo>
                  <a:pt x="3909397" y="687510"/>
                  <a:pt x="3865727" y="807219"/>
                  <a:pt x="3915661" y="707352"/>
                </a:cubicBezTo>
                <a:cubicBezTo>
                  <a:pt x="3921732" y="695210"/>
                  <a:pt x="3923192" y="681193"/>
                  <a:pt x="3928540" y="668715"/>
                </a:cubicBezTo>
                <a:cubicBezTo>
                  <a:pt x="3936103" y="651069"/>
                  <a:pt x="3945711" y="634372"/>
                  <a:pt x="3954297" y="617200"/>
                </a:cubicBezTo>
                <a:cubicBezTo>
                  <a:pt x="3945711" y="582856"/>
                  <a:pt x="3946753" y="544525"/>
                  <a:pt x="3928540" y="514169"/>
                </a:cubicBezTo>
                <a:cubicBezTo>
                  <a:pt x="3918662" y="497706"/>
                  <a:pt x="3893487" y="498289"/>
                  <a:pt x="3877024" y="488411"/>
                </a:cubicBezTo>
                <a:cubicBezTo>
                  <a:pt x="3850479" y="472484"/>
                  <a:pt x="3825509" y="454068"/>
                  <a:pt x="3799751" y="436896"/>
                </a:cubicBezTo>
                <a:cubicBezTo>
                  <a:pt x="3657281" y="341916"/>
                  <a:pt x="3776561" y="412203"/>
                  <a:pt x="3387627" y="385380"/>
                </a:cubicBezTo>
                <a:cubicBezTo>
                  <a:pt x="3353283" y="368208"/>
                  <a:pt x="3296738" y="370292"/>
                  <a:pt x="3284596" y="333865"/>
                </a:cubicBezTo>
                <a:cubicBezTo>
                  <a:pt x="3265646" y="277015"/>
                  <a:pt x="3283859" y="301299"/>
                  <a:pt x="3220202" y="269470"/>
                </a:cubicBezTo>
                <a:cubicBezTo>
                  <a:pt x="3168415" y="140005"/>
                  <a:pt x="3230816" y="254651"/>
                  <a:pt x="3142928" y="179318"/>
                </a:cubicBezTo>
                <a:cubicBezTo>
                  <a:pt x="2975193" y="35546"/>
                  <a:pt x="3208551" y="197309"/>
                  <a:pt x="3065655" y="102045"/>
                </a:cubicBezTo>
                <a:cubicBezTo>
                  <a:pt x="3057069" y="84873"/>
                  <a:pt x="3052188" y="65278"/>
                  <a:pt x="3039897" y="50529"/>
                </a:cubicBezTo>
                <a:cubicBezTo>
                  <a:pt x="2997790" y="0"/>
                  <a:pt x="2944124" y="31121"/>
                  <a:pt x="2885351" y="37651"/>
                </a:cubicBezTo>
                <a:cubicBezTo>
                  <a:pt x="2872472" y="46237"/>
                  <a:pt x="2860558" y="56486"/>
                  <a:pt x="2846714" y="63408"/>
                </a:cubicBezTo>
                <a:cubicBezTo>
                  <a:pt x="2834572" y="69479"/>
                  <a:pt x="2820556" y="70939"/>
                  <a:pt x="2808078" y="76287"/>
                </a:cubicBezTo>
                <a:cubicBezTo>
                  <a:pt x="2790431" y="83850"/>
                  <a:pt x="2773231" y="92520"/>
                  <a:pt x="2756562" y="102045"/>
                </a:cubicBezTo>
                <a:cubicBezTo>
                  <a:pt x="2743123" y="109724"/>
                  <a:pt x="2731365" y="120124"/>
                  <a:pt x="2717926" y="127803"/>
                </a:cubicBezTo>
                <a:cubicBezTo>
                  <a:pt x="2673369" y="153264"/>
                  <a:pt x="2671116" y="151991"/>
                  <a:pt x="2627773" y="166439"/>
                </a:cubicBezTo>
                <a:cubicBezTo>
                  <a:pt x="2470692" y="271161"/>
                  <a:pt x="2617776" y="177718"/>
                  <a:pt x="2498985" y="243713"/>
                </a:cubicBezTo>
                <a:cubicBezTo>
                  <a:pt x="2477103" y="255870"/>
                  <a:pt x="2455817" y="269082"/>
                  <a:pt x="2434590" y="282349"/>
                </a:cubicBezTo>
                <a:cubicBezTo>
                  <a:pt x="2421464" y="290552"/>
                  <a:pt x="2410181" y="302010"/>
                  <a:pt x="2395954" y="308107"/>
                </a:cubicBezTo>
                <a:cubicBezTo>
                  <a:pt x="2379685" y="315080"/>
                  <a:pt x="2361610" y="316693"/>
                  <a:pt x="2344438" y="320986"/>
                </a:cubicBezTo>
                <a:cubicBezTo>
                  <a:pt x="2327266" y="329572"/>
                  <a:pt x="2310569" y="339181"/>
                  <a:pt x="2292923" y="346744"/>
                </a:cubicBezTo>
                <a:cubicBezTo>
                  <a:pt x="2213119" y="380945"/>
                  <a:pt x="2298889" y="331981"/>
                  <a:pt x="2202771" y="385380"/>
                </a:cubicBezTo>
                <a:cubicBezTo>
                  <a:pt x="2180889" y="397537"/>
                  <a:pt x="2161384" y="414156"/>
                  <a:pt x="2138376" y="424017"/>
                </a:cubicBezTo>
                <a:cubicBezTo>
                  <a:pt x="2095121" y="442555"/>
                  <a:pt x="2023102" y="463943"/>
                  <a:pt x="1970951" y="475532"/>
                </a:cubicBezTo>
                <a:cubicBezTo>
                  <a:pt x="1949583" y="480281"/>
                  <a:pt x="1927793" y="483102"/>
                  <a:pt x="1906557" y="488411"/>
                </a:cubicBezTo>
                <a:cubicBezTo>
                  <a:pt x="1829867" y="507584"/>
                  <a:pt x="1894693" y="511465"/>
                  <a:pt x="1764889" y="514169"/>
                </a:cubicBezTo>
                <a:cubicBezTo>
                  <a:pt x="1593208" y="517746"/>
                  <a:pt x="1421452" y="514169"/>
                  <a:pt x="1249734" y="514169"/>
                </a:cubicBezTo>
              </a:path>
            </a:pathLst>
          </a:custGeom>
          <a:noFill/>
          <a:ln w="76200">
            <a:solidFill>
              <a:srgbClr val="ff0000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олилиния 5"/>
          <p:cNvSpPr/>
          <p:nvPr/>
        </p:nvSpPr>
        <p:spPr>
          <a:xfrm>
            <a:off x="0" y="1628640"/>
            <a:ext cx="1079640" cy="14396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3954297" h="4068738">
                <a:moveTo>
                  <a:pt x="1301250" y="514169"/>
                </a:moveTo>
                <a:cubicBezTo>
                  <a:pt x="1184088" y="467304"/>
                  <a:pt x="1288260" y="514103"/>
                  <a:pt x="1159582" y="436896"/>
                </a:cubicBezTo>
                <a:cubicBezTo>
                  <a:pt x="1123486" y="415238"/>
                  <a:pt x="1082425" y="400882"/>
                  <a:pt x="1043672" y="385380"/>
                </a:cubicBezTo>
                <a:cubicBezTo>
                  <a:pt x="794680" y="393966"/>
                  <a:pt x="545030" y="391111"/>
                  <a:pt x="296697" y="411138"/>
                </a:cubicBezTo>
                <a:cubicBezTo>
                  <a:pt x="275302" y="412863"/>
                  <a:pt x="263946" y="439351"/>
                  <a:pt x="245182" y="449775"/>
                </a:cubicBezTo>
                <a:cubicBezTo>
                  <a:pt x="224973" y="461002"/>
                  <a:pt x="202253" y="466946"/>
                  <a:pt x="180788" y="475532"/>
                </a:cubicBezTo>
                <a:cubicBezTo>
                  <a:pt x="163616" y="492704"/>
                  <a:pt x="142743" y="506842"/>
                  <a:pt x="129272" y="527048"/>
                </a:cubicBezTo>
                <a:cubicBezTo>
                  <a:pt x="116448" y="546283"/>
                  <a:pt x="112903" y="570316"/>
                  <a:pt x="103514" y="591442"/>
                </a:cubicBezTo>
                <a:cubicBezTo>
                  <a:pt x="64591" y="679021"/>
                  <a:pt x="93441" y="609071"/>
                  <a:pt x="51999" y="681594"/>
                </a:cubicBezTo>
                <a:cubicBezTo>
                  <a:pt x="42474" y="698263"/>
                  <a:pt x="34827" y="715938"/>
                  <a:pt x="26241" y="733110"/>
                </a:cubicBezTo>
                <a:cubicBezTo>
                  <a:pt x="30534" y="831848"/>
                  <a:pt x="31540" y="930784"/>
                  <a:pt x="39120" y="1029324"/>
                </a:cubicBezTo>
                <a:cubicBezTo>
                  <a:pt x="40161" y="1042859"/>
                  <a:pt x="48270" y="1054907"/>
                  <a:pt x="51999" y="1067960"/>
                </a:cubicBezTo>
                <a:cubicBezTo>
                  <a:pt x="56862" y="1084979"/>
                  <a:pt x="59792" y="1102522"/>
                  <a:pt x="64878" y="1119476"/>
                </a:cubicBezTo>
                <a:cubicBezTo>
                  <a:pt x="64883" y="1119494"/>
                  <a:pt x="97072" y="1216059"/>
                  <a:pt x="103514" y="1235386"/>
                </a:cubicBezTo>
                <a:cubicBezTo>
                  <a:pt x="107807" y="1248265"/>
                  <a:pt x="108863" y="1262727"/>
                  <a:pt x="116393" y="1274022"/>
                </a:cubicBezTo>
                <a:lnTo>
                  <a:pt x="142151" y="1312659"/>
                </a:lnTo>
                <a:cubicBezTo>
                  <a:pt x="146444" y="1329831"/>
                  <a:pt x="146248" y="1348807"/>
                  <a:pt x="155030" y="1364175"/>
                </a:cubicBezTo>
                <a:cubicBezTo>
                  <a:pt x="164066" y="1379989"/>
                  <a:pt x="182006" y="1388819"/>
                  <a:pt x="193666" y="1402811"/>
                </a:cubicBezTo>
                <a:cubicBezTo>
                  <a:pt x="203575" y="1414702"/>
                  <a:pt x="210838" y="1428569"/>
                  <a:pt x="219424" y="1441448"/>
                </a:cubicBezTo>
                <a:cubicBezTo>
                  <a:pt x="254080" y="1580071"/>
                  <a:pt x="197779" y="1385277"/>
                  <a:pt x="283819" y="1557358"/>
                </a:cubicBezTo>
                <a:cubicBezTo>
                  <a:pt x="293608" y="1576937"/>
                  <a:pt x="288839" y="1601321"/>
                  <a:pt x="296697" y="1621752"/>
                </a:cubicBezTo>
                <a:cubicBezTo>
                  <a:pt x="310481" y="1657590"/>
                  <a:pt x="336071" y="1688356"/>
                  <a:pt x="348213" y="1724783"/>
                </a:cubicBezTo>
                <a:cubicBezTo>
                  <a:pt x="387288" y="1842009"/>
                  <a:pt x="327351" y="1656874"/>
                  <a:pt x="373971" y="1827814"/>
                </a:cubicBezTo>
                <a:cubicBezTo>
                  <a:pt x="381115" y="1854008"/>
                  <a:pt x="399728" y="1905087"/>
                  <a:pt x="399728" y="1905087"/>
                </a:cubicBezTo>
                <a:cubicBezTo>
                  <a:pt x="391142" y="1952310"/>
                  <a:pt x="394084" y="2003176"/>
                  <a:pt x="373971" y="2046755"/>
                </a:cubicBezTo>
                <a:cubicBezTo>
                  <a:pt x="370555" y="2054157"/>
                  <a:pt x="298073" y="2083714"/>
                  <a:pt x="283819" y="2085391"/>
                </a:cubicBezTo>
                <a:cubicBezTo>
                  <a:pt x="223977" y="2092431"/>
                  <a:pt x="163616" y="2093977"/>
                  <a:pt x="103514" y="2098270"/>
                </a:cubicBezTo>
                <a:cubicBezTo>
                  <a:pt x="0" y="2253544"/>
                  <a:pt x="41646" y="2158129"/>
                  <a:pt x="64878" y="2471758"/>
                </a:cubicBezTo>
                <a:cubicBezTo>
                  <a:pt x="66890" y="2498925"/>
                  <a:pt x="83020" y="2535256"/>
                  <a:pt x="90635" y="2561910"/>
                </a:cubicBezTo>
                <a:cubicBezTo>
                  <a:pt x="95497" y="2578929"/>
                  <a:pt x="94732" y="2598057"/>
                  <a:pt x="103514" y="2613425"/>
                </a:cubicBezTo>
                <a:cubicBezTo>
                  <a:pt x="112551" y="2629239"/>
                  <a:pt x="129272" y="2639183"/>
                  <a:pt x="142151" y="2652062"/>
                </a:cubicBezTo>
                <a:cubicBezTo>
                  <a:pt x="176018" y="2787527"/>
                  <a:pt x="125463" y="2622858"/>
                  <a:pt x="193666" y="2742214"/>
                </a:cubicBezTo>
                <a:cubicBezTo>
                  <a:pt x="202448" y="2757582"/>
                  <a:pt x="199572" y="2777460"/>
                  <a:pt x="206545" y="2793729"/>
                </a:cubicBezTo>
                <a:cubicBezTo>
                  <a:pt x="214409" y="2812077"/>
                  <a:pt x="264343" y="2872886"/>
                  <a:pt x="270940" y="2883882"/>
                </a:cubicBezTo>
                <a:cubicBezTo>
                  <a:pt x="336343" y="2992888"/>
                  <a:pt x="271346" y="2938217"/>
                  <a:pt x="373971" y="2999791"/>
                </a:cubicBezTo>
                <a:cubicBezTo>
                  <a:pt x="391143" y="3021256"/>
                  <a:pt x="403495" y="3047693"/>
                  <a:pt x="425486" y="3064186"/>
                </a:cubicBezTo>
                <a:cubicBezTo>
                  <a:pt x="439646" y="3074806"/>
                  <a:pt x="461170" y="3069149"/>
                  <a:pt x="477002" y="3077065"/>
                </a:cubicBezTo>
                <a:cubicBezTo>
                  <a:pt x="504691" y="3090909"/>
                  <a:pt x="529839" y="3109574"/>
                  <a:pt x="554275" y="3128580"/>
                </a:cubicBezTo>
                <a:cubicBezTo>
                  <a:pt x="568652" y="3139762"/>
                  <a:pt x="577546" y="3157439"/>
                  <a:pt x="592912" y="3167217"/>
                </a:cubicBezTo>
                <a:cubicBezTo>
                  <a:pt x="625306" y="3187832"/>
                  <a:pt x="665225" y="3195693"/>
                  <a:pt x="695943" y="3218732"/>
                </a:cubicBezTo>
                <a:cubicBezTo>
                  <a:pt x="713115" y="3231611"/>
                  <a:pt x="732280" y="3242191"/>
                  <a:pt x="747458" y="3257369"/>
                </a:cubicBezTo>
                <a:cubicBezTo>
                  <a:pt x="762636" y="3272547"/>
                  <a:pt x="769605" y="3295143"/>
                  <a:pt x="786095" y="3308884"/>
                </a:cubicBezTo>
                <a:cubicBezTo>
                  <a:pt x="796524" y="3317575"/>
                  <a:pt x="812589" y="3315692"/>
                  <a:pt x="824731" y="3321763"/>
                </a:cubicBezTo>
                <a:cubicBezTo>
                  <a:pt x="838575" y="3328685"/>
                  <a:pt x="850489" y="3338935"/>
                  <a:pt x="863368" y="3347521"/>
                </a:cubicBezTo>
                <a:cubicBezTo>
                  <a:pt x="867661" y="3360400"/>
                  <a:pt x="868102" y="3375297"/>
                  <a:pt x="876247" y="3386158"/>
                </a:cubicBezTo>
                <a:cubicBezTo>
                  <a:pt x="935736" y="3465477"/>
                  <a:pt x="925178" y="3436123"/>
                  <a:pt x="992157" y="3476310"/>
                </a:cubicBezTo>
                <a:cubicBezTo>
                  <a:pt x="1018702" y="3492237"/>
                  <a:pt x="1047541" y="3505935"/>
                  <a:pt x="1069430" y="3527825"/>
                </a:cubicBezTo>
                <a:cubicBezTo>
                  <a:pt x="1082309" y="3540704"/>
                  <a:pt x="1092912" y="3556359"/>
                  <a:pt x="1108066" y="3566462"/>
                </a:cubicBezTo>
                <a:cubicBezTo>
                  <a:pt x="1119362" y="3573992"/>
                  <a:pt x="1135062" y="3572356"/>
                  <a:pt x="1146703" y="3579341"/>
                </a:cubicBezTo>
                <a:cubicBezTo>
                  <a:pt x="1199794" y="3611195"/>
                  <a:pt x="1249734" y="3648028"/>
                  <a:pt x="1301250" y="3682372"/>
                </a:cubicBezTo>
                <a:cubicBezTo>
                  <a:pt x="1314129" y="3690958"/>
                  <a:pt x="1327503" y="3698842"/>
                  <a:pt x="1339886" y="3708129"/>
                </a:cubicBezTo>
                <a:cubicBezTo>
                  <a:pt x="1357058" y="3721008"/>
                  <a:pt x="1372765" y="3736116"/>
                  <a:pt x="1391402" y="3746766"/>
                </a:cubicBezTo>
                <a:cubicBezTo>
                  <a:pt x="1403189" y="3753501"/>
                  <a:pt x="1417159" y="3755352"/>
                  <a:pt x="1430038" y="3759645"/>
                </a:cubicBezTo>
                <a:cubicBezTo>
                  <a:pt x="1438624" y="3772524"/>
                  <a:pt x="1443115" y="3789406"/>
                  <a:pt x="1455796" y="3798282"/>
                </a:cubicBezTo>
                <a:cubicBezTo>
                  <a:pt x="1487252" y="3820301"/>
                  <a:pt x="1558827" y="3849797"/>
                  <a:pt x="1558827" y="3849797"/>
                </a:cubicBezTo>
                <a:cubicBezTo>
                  <a:pt x="1575999" y="3875555"/>
                  <a:pt x="1588453" y="3905180"/>
                  <a:pt x="1610343" y="3927070"/>
                </a:cubicBezTo>
                <a:cubicBezTo>
                  <a:pt x="1619942" y="3936669"/>
                  <a:pt x="1636837" y="3933878"/>
                  <a:pt x="1648979" y="3939949"/>
                </a:cubicBezTo>
                <a:cubicBezTo>
                  <a:pt x="1662823" y="3946871"/>
                  <a:pt x="1674177" y="3958027"/>
                  <a:pt x="1687616" y="3965707"/>
                </a:cubicBezTo>
                <a:cubicBezTo>
                  <a:pt x="1704285" y="3975232"/>
                  <a:pt x="1722462" y="3981940"/>
                  <a:pt x="1739131" y="3991465"/>
                </a:cubicBezTo>
                <a:cubicBezTo>
                  <a:pt x="1797876" y="4025033"/>
                  <a:pt x="1762094" y="4018960"/>
                  <a:pt x="1842162" y="4042980"/>
                </a:cubicBezTo>
                <a:cubicBezTo>
                  <a:pt x="1925056" y="4067848"/>
                  <a:pt x="2087602" y="4065917"/>
                  <a:pt x="2138376" y="4068738"/>
                </a:cubicBezTo>
                <a:cubicBezTo>
                  <a:pt x="2340145" y="4055859"/>
                  <a:pt x="2542507" y="4050219"/>
                  <a:pt x="2743683" y="4030101"/>
                </a:cubicBezTo>
                <a:cubicBezTo>
                  <a:pt x="2759085" y="4028561"/>
                  <a:pt x="2769047" y="4012308"/>
                  <a:pt x="2782320" y="4004344"/>
                </a:cubicBezTo>
                <a:cubicBezTo>
                  <a:pt x="2811999" y="3986537"/>
                  <a:pt x="2843674" y="3972027"/>
                  <a:pt x="2872472" y="3952828"/>
                </a:cubicBezTo>
                <a:cubicBezTo>
                  <a:pt x="2895343" y="3937580"/>
                  <a:pt x="2914875" y="3917806"/>
                  <a:pt x="2936866" y="3901313"/>
                </a:cubicBezTo>
                <a:cubicBezTo>
                  <a:pt x="2949249" y="3892026"/>
                  <a:pt x="2962624" y="3884141"/>
                  <a:pt x="2975503" y="3875555"/>
                </a:cubicBezTo>
                <a:cubicBezTo>
                  <a:pt x="3049317" y="3764833"/>
                  <a:pt x="2960823" y="3904917"/>
                  <a:pt x="3014140" y="3798282"/>
                </a:cubicBezTo>
                <a:cubicBezTo>
                  <a:pt x="3051110" y="3724341"/>
                  <a:pt x="3074439" y="3720414"/>
                  <a:pt x="3104292" y="3630856"/>
                </a:cubicBezTo>
                <a:cubicBezTo>
                  <a:pt x="3182128" y="3397351"/>
                  <a:pt x="3088320" y="3689422"/>
                  <a:pt x="3142928" y="3489189"/>
                </a:cubicBezTo>
                <a:cubicBezTo>
                  <a:pt x="3150072" y="3462994"/>
                  <a:pt x="3160884" y="3437921"/>
                  <a:pt x="3168686" y="3411915"/>
                </a:cubicBezTo>
                <a:cubicBezTo>
                  <a:pt x="3173772" y="3394961"/>
                  <a:pt x="3176702" y="3377419"/>
                  <a:pt x="3181565" y="3360400"/>
                </a:cubicBezTo>
                <a:cubicBezTo>
                  <a:pt x="3185295" y="3347347"/>
                  <a:pt x="3191499" y="3335015"/>
                  <a:pt x="3194444" y="3321763"/>
                </a:cubicBezTo>
                <a:cubicBezTo>
                  <a:pt x="3200109" y="3296272"/>
                  <a:pt x="3203030" y="3270248"/>
                  <a:pt x="3207323" y="3244490"/>
                </a:cubicBezTo>
                <a:cubicBezTo>
                  <a:pt x="3198737" y="3175803"/>
                  <a:pt x="3216248" y="3098334"/>
                  <a:pt x="3181565" y="3038428"/>
                </a:cubicBezTo>
                <a:cubicBezTo>
                  <a:pt x="3161159" y="3003182"/>
                  <a:pt x="3103249" y="3015455"/>
                  <a:pt x="3065655" y="2999791"/>
                </a:cubicBezTo>
                <a:cubicBezTo>
                  <a:pt x="3051367" y="2993838"/>
                  <a:pt x="3040863" y="2980956"/>
                  <a:pt x="3027019" y="2974034"/>
                </a:cubicBezTo>
                <a:cubicBezTo>
                  <a:pt x="3006341" y="2963695"/>
                  <a:pt x="2984271" y="2956394"/>
                  <a:pt x="2962624" y="2948276"/>
                </a:cubicBezTo>
                <a:cubicBezTo>
                  <a:pt x="2949913" y="2943509"/>
                  <a:pt x="2935855" y="2941990"/>
                  <a:pt x="2923988" y="2935397"/>
                </a:cubicBezTo>
                <a:cubicBezTo>
                  <a:pt x="2896927" y="2920363"/>
                  <a:pt x="2868604" y="2905772"/>
                  <a:pt x="2846714" y="2883882"/>
                </a:cubicBezTo>
                <a:cubicBezTo>
                  <a:pt x="2820956" y="2858124"/>
                  <a:pt x="2800331" y="2825914"/>
                  <a:pt x="2769441" y="2806608"/>
                </a:cubicBezTo>
                <a:cubicBezTo>
                  <a:pt x="2735097" y="2785143"/>
                  <a:pt x="2699164" y="2766035"/>
                  <a:pt x="2666410" y="2742214"/>
                </a:cubicBezTo>
                <a:cubicBezTo>
                  <a:pt x="2651680" y="2731501"/>
                  <a:pt x="2641765" y="2715237"/>
                  <a:pt x="2627773" y="2703577"/>
                </a:cubicBezTo>
                <a:cubicBezTo>
                  <a:pt x="2615882" y="2693668"/>
                  <a:pt x="2602016" y="2686406"/>
                  <a:pt x="2589137" y="2677820"/>
                </a:cubicBezTo>
                <a:lnTo>
                  <a:pt x="2537621" y="2600546"/>
                </a:lnTo>
                <a:cubicBezTo>
                  <a:pt x="2529035" y="2587667"/>
                  <a:pt x="2516759" y="2576594"/>
                  <a:pt x="2511864" y="2561910"/>
                </a:cubicBezTo>
                <a:cubicBezTo>
                  <a:pt x="2503278" y="2536152"/>
                  <a:pt x="2499107" y="2508473"/>
                  <a:pt x="2486106" y="2484637"/>
                </a:cubicBezTo>
                <a:cubicBezTo>
                  <a:pt x="2426756" y="2375830"/>
                  <a:pt x="2443978" y="2465376"/>
                  <a:pt x="2408833" y="2368727"/>
                </a:cubicBezTo>
                <a:cubicBezTo>
                  <a:pt x="2398152" y="2339355"/>
                  <a:pt x="2393477" y="2308046"/>
                  <a:pt x="2383075" y="2278575"/>
                </a:cubicBezTo>
                <a:cubicBezTo>
                  <a:pt x="2367686" y="2234974"/>
                  <a:pt x="2331559" y="2149786"/>
                  <a:pt x="2331559" y="2149786"/>
                </a:cubicBezTo>
                <a:cubicBezTo>
                  <a:pt x="2335852" y="2102563"/>
                  <a:pt x="2338171" y="2055119"/>
                  <a:pt x="2344438" y="2008118"/>
                </a:cubicBezTo>
                <a:cubicBezTo>
                  <a:pt x="2346777" y="1990573"/>
                  <a:pt x="2347499" y="1971330"/>
                  <a:pt x="2357317" y="1956603"/>
                </a:cubicBezTo>
                <a:cubicBezTo>
                  <a:pt x="2365903" y="1943724"/>
                  <a:pt x="2383075" y="1939431"/>
                  <a:pt x="2395954" y="1930845"/>
                </a:cubicBezTo>
                <a:cubicBezTo>
                  <a:pt x="2526411" y="1669929"/>
                  <a:pt x="2357161" y="2042253"/>
                  <a:pt x="2460348" y="1608873"/>
                </a:cubicBezTo>
                <a:cubicBezTo>
                  <a:pt x="2465973" y="1585249"/>
                  <a:pt x="2487862" y="1561051"/>
                  <a:pt x="2511864" y="1557358"/>
                </a:cubicBezTo>
                <a:cubicBezTo>
                  <a:pt x="2660612" y="1534474"/>
                  <a:pt x="2812371" y="1540186"/>
                  <a:pt x="2962624" y="1531600"/>
                </a:cubicBezTo>
                <a:cubicBezTo>
                  <a:pt x="3055051" y="1469981"/>
                  <a:pt x="3018007" y="1501974"/>
                  <a:pt x="3078534" y="1441448"/>
                </a:cubicBezTo>
                <a:cubicBezTo>
                  <a:pt x="3156374" y="1285768"/>
                  <a:pt x="3051910" y="1473397"/>
                  <a:pt x="3142928" y="1364175"/>
                </a:cubicBezTo>
                <a:cubicBezTo>
                  <a:pt x="3155219" y="1349426"/>
                  <a:pt x="3156192" y="1327236"/>
                  <a:pt x="3168686" y="1312659"/>
                </a:cubicBezTo>
                <a:cubicBezTo>
                  <a:pt x="3182655" y="1296362"/>
                  <a:pt x="3204319" y="1288461"/>
                  <a:pt x="3220202" y="1274022"/>
                </a:cubicBezTo>
                <a:cubicBezTo>
                  <a:pt x="3335704" y="1169020"/>
                  <a:pt x="3265006" y="1198987"/>
                  <a:pt x="3348990" y="1170991"/>
                </a:cubicBezTo>
                <a:cubicBezTo>
                  <a:pt x="3384506" y="1135476"/>
                  <a:pt x="3384426" y="1130505"/>
                  <a:pt x="3426264" y="1106597"/>
                </a:cubicBezTo>
                <a:cubicBezTo>
                  <a:pt x="3442933" y="1097072"/>
                  <a:pt x="3462420" y="1092358"/>
                  <a:pt x="3477779" y="1080839"/>
                </a:cubicBezTo>
                <a:cubicBezTo>
                  <a:pt x="3497207" y="1066268"/>
                  <a:pt x="3509534" y="1043439"/>
                  <a:pt x="3529295" y="1029324"/>
                </a:cubicBezTo>
                <a:cubicBezTo>
                  <a:pt x="3540342" y="1021434"/>
                  <a:pt x="3556064" y="1023038"/>
                  <a:pt x="3567931" y="1016445"/>
                </a:cubicBezTo>
                <a:cubicBezTo>
                  <a:pt x="3594992" y="1001411"/>
                  <a:pt x="3645204" y="964929"/>
                  <a:pt x="3645204" y="964929"/>
                </a:cubicBezTo>
                <a:cubicBezTo>
                  <a:pt x="3649497" y="947757"/>
                  <a:pt x="3646752" y="927012"/>
                  <a:pt x="3658083" y="913414"/>
                </a:cubicBezTo>
                <a:cubicBezTo>
                  <a:pt x="3670374" y="898665"/>
                  <a:pt x="3693136" y="897534"/>
                  <a:pt x="3709599" y="887656"/>
                </a:cubicBezTo>
                <a:cubicBezTo>
                  <a:pt x="3736144" y="871729"/>
                  <a:pt x="3762436" y="855147"/>
                  <a:pt x="3786872" y="836141"/>
                </a:cubicBezTo>
                <a:cubicBezTo>
                  <a:pt x="3801249" y="824959"/>
                  <a:pt x="3809695" y="806541"/>
                  <a:pt x="3825509" y="797504"/>
                </a:cubicBezTo>
                <a:cubicBezTo>
                  <a:pt x="3840877" y="788722"/>
                  <a:pt x="3859852" y="788918"/>
                  <a:pt x="3877024" y="784625"/>
                </a:cubicBezTo>
                <a:cubicBezTo>
                  <a:pt x="3909397" y="687510"/>
                  <a:pt x="3865727" y="807219"/>
                  <a:pt x="3915661" y="707352"/>
                </a:cubicBezTo>
                <a:cubicBezTo>
                  <a:pt x="3921732" y="695210"/>
                  <a:pt x="3923192" y="681193"/>
                  <a:pt x="3928540" y="668715"/>
                </a:cubicBezTo>
                <a:cubicBezTo>
                  <a:pt x="3936103" y="651069"/>
                  <a:pt x="3945711" y="634372"/>
                  <a:pt x="3954297" y="617200"/>
                </a:cubicBezTo>
                <a:cubicBezTo>
                  <a:pt x="3945711" y="582856"/>
                  <a:pt x="3946753" y="544525"/>
                  <a:pt x="3928540" y="514169"/>
                </a:cubicBezTo>
                <a:cubicBezTo>
                  <a:pt x="3918662" y="497706"/>
                  <a:pt x="3893487" y="498289"/>
                  <a:pt x="3877024" y="488411"/>
                </a:cubicBezTo>
                <a:cubicBezTo>
                  <a:pt x="3850479" y="472484"/>
                  <a:pt x="3825509" y="454068"/>
                  <a:pt x="3799751" y="436896"/>
                </a:cubicBezTo>
                <a:cubicBezTo>
                  <a:pt x="3657281" y="341916"/>
                  <a:pt x="3776561" y="412203"/>
                  <a:pt x="3387627" y="385380"/>
                </a:cubicBezTo>
                <a:cubicBezTo>
                  <a:pt x="3353283" y="368208"/>
                  <a:pt x="3296738" y="370292"/>
                  <a:pt x="3284596" y="333865"/>
                </a:cubicBezTo>
                <a:cubicBezTo>
                  <a:pt x="3265646" y="277015"/>
                  <a:pt x="3283859" y="301299"/>
                  <a:pt x="3220202" y="269470"/>
                </a:cubicBezTo>
                <a:cubicBezTo>
                  <a:pt x="3168415" y="140005"/>
                  <a:pt x="3230816" y="254651"/>
                  <a:pt x="3142928" y="179318"/>
                </a:cubicBezTo>
                <a:cubicBezTo>
                  <a:pt x="2975193" y="35546"/>
                  <a:pt x="3208551" y="197309"/>
                  <a:pt x="3065655" y="102045"/>
                </a:cubicBezTo>
                <a:cubicBezTo>
                  <a:pt x="3057069" y="84873"/>
                  <a:pt x="3052188" y="65278"/>
                  <a:pt x="3039897" y="50529"/>
                </a:cubicBezTo>
                <a:cubicBezTo>
                  <a:pt x="2997790" y="0"/>
                  <a:pt x="2944124" y="31121"/>
                  <a:pt x="2885351" y="37651"/>
                </a:cubicBezTo>
                <a:cubicBezTo>
                  <a:pt x="2872472" y="46237"/>
                  <a:pt x="2860558" y="56486"/>
                  <a:pt x="2846714" y="63408"/>
                </a:cubicBezTo>
                <a:cubicBezTo>
                  <a:pt x="2834572" y="69479"/>
                  <a:pt x="2820556" y="70939"/>
                  <a:pt x="2808078" y="76287"/>
                </a:cubicBezTo>
                <a:cubicBezTo>
                  <a:pt x="2790431" y="83850"/>
                  <a:pt x="2773231" y="92520"/>
                  <a:pt x="2756562" y="102045"/>
                </a:cubicBezTo>
                <a:cubicBezTo>
                  <a:pt x="2743123" y="109724"/>
                  <a:pt x="2731365" y="120124"/>
                  <a:pt x="2717926" y="127803"/>
                </a:cubicBezTo>
                <a:cubicBezTo>
                  <a:pt x="2673369" y="153264"/>
                  <a:pt x="2671116" y="151991"/>
                  <a:pt x="2627773" y="166439"/>
                </a:cubicBezTo>
                <a:cubicBezTo>
                  <a:pt x="2470692" y="271161"/>
                  <a:pt x="2617776" y="177718"/>
                  <a:pt x="2498985" y="243713"/>
                </a:cubicBezTo>
                <a:cubicBezTo>
                  <a:pt x="2477103" y="255870"/>
                  <a:pt x="2455817" y="269082"/>
                  <a:pt x="2434590" y="282349"/>
                </a:cubicBezTo>
                <a:cubicBezTo>
                  <a:pt x="2421464" y="290552"/>
                  <a:pt x="2410181" y="302010"/>
                  <a:pt x="2395954" y="308107"/>
                </a:cubicBezTo>
                <a:cubicBezTo>
                  <a:pt x="2379685" y="315080"/>
                  <a:pt x="2361610" y="316693"/>
                  <a:pt x="2344438" y="320986"/>
                </a:cubicBezTo>
                <a:cubicBezTo>
                  <a:pt x="2327266" y="329572"/>
                  <a:pt x="2310569" y="339181"/>
                  <a:pt x="2292923" y="346744"/>
                </a:cubicBezTo>
                <a:cubicBezTo>
                  <a:pt x="2213119" y="380945"/>
                  <a:pt x="2298889" y="331981"/>
                  <a:pt x="2202771" y="385380"/>
                </a:cubicBezTo>
                <a:cubicBezTo>
                  <a:pt x="2180889" y="397537"/>
                  <a:pt x="2161384" y="414156"/>
                  <a:pt x="2138376" y="424017"/>
                </a:cubicBezTo>
                <a:cubicBezTo>
                  <a:pt x="2095121" y="442555"/>
                  <a:pt x="2023102" y="463943"/>
                  <a:pt x="1970951" y="475532"/>
                </a:cubicBezTo>
                <a:cubicBezTo>
                  <a:pt x="1949583" y="480281"/>
                  <a:pt x="1927793" y="483102"/>
                  <a:pt x="1906557" y="488411"/>
                </a:cubicBezTo>
                <a:cubicBezTo>
                  <a:pt x="1829867" y="507584"/>
                  <a:pt x="1894693" y="511465"/>
                  <a:pt x="1764889" y="514169"/>
                </a:cubicBezTo>
                <a:cubicBezTo>
                  <a:pt x="1593208" y="517746"/>
                  <a:pt x="1421452" y="514169"/>
                  <a:pt x="1249734" y="514169"/>
                </a:cubicBezTo>
              </a:path>
            </a:pathLst>
          </a:custGeom>
          <a:noFill/>
          <a:ln w="76200">
            <a:solidFill>
              <a:srgbClr val="ff0000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6"/>
          <p:cNvSpPr/>
          <p:nvPr/>
        </p:nvSpPr>
        <p:spPr>
          <a:xfrm>
            <a:off x="2771640" y="3141000"/>
            <a:ext cx="1223640" cy="1728000"/>
          </a:xfrm>
          <a:custGeom>
            <a:avLst/>
            <a:gdLst>
              <a:gd name="textAreaLeft" fmla="*/ 0 w 1223640"/>
              <a:gd name="textAreaRight" fmla="*/ 1224000 w 1223640"/>
              <a:gd name="textAreaTop" fmla="*/ 0 h 1728000"/>
              <a:gd name="textAreaBottom" fmla="*/ 1728360 h 1728000"/>
            </a:gdLst>
            <a:ahLst/>
            <a:rect l="textAreaLeft" t="textAreaTop" r="textAreaRight" b="textAreaBottom"/>
            <a:pathLst>
              <a:path w="3954297" h="4068738">
                <a:moveTo>
                  <a:pt x="1301250" y="514169"/>
                </a:moveTo>
                <a:cubicBezTo>
                  <a:pt x="1184088" y="467304"/>
                  <a:pt x="1288260" y="514103"/>
                  <a:pt x="1159582" y="436896"/>
                </a:cubicBezTo>
                <a:cubicBezTo>
                  <a:pt x="1123486" y="415238"/>
                  <a:pt x="1082425" y="400882"/>
                  <a:pt x="1043672" y="385380"/>
                </a:cubicBezTo>
                <a:cubicBezTo>
                  <a:pt x="794680" y="393966"/>
                  <a:pt x="545030" y="391111"/>
                  <a:pt x="296697" y="411138"/>
                </a:cubicBezTo>
                <a:cubicBezTo>
                  <a:pt x="275302" y="412863"/>
                  <a:pt x="263946" y="439351"/>
                  <a:pt x="245182" y="449775"/>
                </a:cubicBezTo>
                <a:cubicBezTo>
                  <a:pt x="224973" y="461002"/>
                  <a:pt x="202253" y="466946"/>
                  <a:pt x="180788" y="475532"/>
                </a:cubicBezTo>
                <a:cubicBezTo>
                  <a:pt x="163616" y="492704"/>
                  <a:pt x="142743" y="506842"/>
                  <a:pt x="129272" y="527048"/>
                </a:cubicBezTo>
                <a:cubicBezTo>
                  <a:pt x="116448" y="546283"/>
                  <a:pt x="112903" y="570316"/>
                  <a:pt x="103514" y="591442"/>
                </a:cubicBezTo>
                <a:cubicBezTo>
                  <a:pt x="64591" y="679021"/>
                  <a:pt x="93441" y="609071"/>
                  <a:pt x="51999" y="681594"/>
                </a:cubicBezTo>
                <a:cubicBezTo>
                  <a:pt x="42474" y="698263"/>
                  <a:pt x="34827" y="715938"/>
                  <a:pt x="26241" y="733110"/>
                </a:cubicBezTo>
                <a:cubicBezTo>
                  <a:pt x="30534" y="831848"/>
                  <a:pt x="31540" y="930784"/>
                  <a:pt x="39120" y="1029324"/>
                </a:cubicBezTo>
                <a:cubicBezTo>
                  <a:pt x="40161" y="1042859"/>
                  <a:pt x="48270" y="1054907"/>
                  <a:pt x="51999" y="1067960"/>
                </a:cubicBezTo>
                <a:cubicBezTo>
                  <a:pt x="56862" y="1084979"/>
                  <a:pt x="59792" y="1102522"/>
                  <a:pt x="64878" y="1119476"/>
                </a:cubicBezTo>
                <a:cubicBezTo>
                  <a:pt x="64883" y="1119494"/>
                  <a:pt x="97072" y="1216059"/>
                  <a:pt x="103514" y="1235386"/>
                </a:cubicBezTo>
                <a:cubicBezTo>
                  <a:pt x="107807" y="1248265"/>
                  <a:pt x="108863" y="1262727"/>
                  <a:pt x="116393" y="1274022"/>
                </a:cubicBezTo>
                <a:lnTo>
                  <a:pt x="142151" y="1312659"/>
                </a:lnTo>
                <a:cubicBezTo>
                  <a:pt x="146444" y="1329831"/>
                  <a:pt x="146248" y="1348807"/>
                  <a:pt x="155030" y="1364175"/>
                </a:cubicBezTo>
                <a:cubicBezTo>
                  <a:pt x="164066" y="1379989"/>
                  <a:pt x="182006" y="1388819"/>
                  <a:pt x="193666" y="1402811"/>
                </a:cubicBezTo>
                <a:cubicBezTo>
                  <a:pt x="203575" y="1414702"/>
                  <a:pt x="210838" y="1428569"/>
                  <a:pt x="219424" y="1441448"/>
                </a:cubicBezTo>
                <a:cubicBezTo>
                  <a:pt x="254080" y="1580071"/>
                  <a:pt x="197779" y="1385277"/>
                  <a:pt x="283819" y="1557358"/>
                </a:cubicBezTo>
                <a:cubicBezTo>
                  <a:pt x="293608" y="1576937"/>
                  <a:pt x="288839" y="1601321"/>
                  <a:pt x="296697" y="1621752"/>
                </a:cubicBezTo>
                <a:cubicBezTo>
                  <a:pt x="310481" y="1657590"/>
                  <a:pt x="336071" y="1688356"/>
                  <a:pt x="348213" y="1724783"/>
                </a:cubicBezTo>
                <a:cubicBezTo>
                  <a:pt x="387288" y="1842009"/>
                  <a:pt x="327351" y="1656874"/>
                  <a:pt x="373971" y="1827814"/>
                </a:cubicBezTo>
                <a:cubicBezTo>
                  <a:pt x="381115" y="1854008"/>
                  <a:pt x="399728" y="1905087"/>
                  <a:pt x="399728" y="1905087"/>
                </a:cubicBezTo>
                <a:cubicBezTo>
                  <a:pt x="391142" y="1952310"/>
                  <a:pt x="394084" y="2003176"/>
                  <a:pt x="373971" y="2046755"/>
                </a:cubicBezTo>
                <a:cubicBezTo>
                  <a:pt x="370555" y="2054157"/>
                  <a:pt x="298073" y="2083714"/>
                  <a:pt x="283819" y="2085391"/>
                </a:cubicBezTo>
                <a:cubicBezTo>
                  <a:pt x="223977" y="2092431"/>
                  <a:pt x="163616" y="2093977"/>
                  <a:pt x="103514" y="2098270"/>
                </a:cubicBezTo>
                <a:cubicBezTo>
                  <a:pt x="0" y="2253544"/>
                  <a:pt x="41646" y="2158129"/>
                  <a:pt x="64878" y="2471758"/>
                </a:cubicBezTo>
                <a:cubicBezTo>
                  <a:pt x="66890" y="2498925"/>
                  <a:pt x="83020" y="2535256"/>
                  <a:pt x="90635" y="2561910"/>
                </a:cubicBezTo>
                <a:cubicBezTo>
                  <a:pt x="95497" y="2578929"/>
                  <a:pt x="94732" y="2598057"/>
                  <a:pt x="103514" y="2613425"/>
                </a:cubicBezTo>
                <a:cubicBezTo>
                  <a:pt x="112551" y="2629239"/>
                  <a:pt x="129272" y="2639183"/>
                  <a:pt x="142151" y="2652062"/>
                </a:cubicBezTo>
                <a:cubicBezTo>
                  <a:pt x="176018" y="2787527"/>
                  <a:pt x="125463" y="2622858"/>
                  <a:pt x="193666" y="2742214"/>
                </a:cubicBezTo>
                <a:cubicBezTo>
                  <a:pt x="202448" y="2757582"/>
                  <a:pt x="199572" y="2777460"/>
                  <a:pt x="206545" y="2793729"/>
                </a:cubicBezTo>
                <a:cubicBezTo>
                  <a:pt x="214409" y="2812077"/>
                  <a:pt x="264343" y="2872886"/>
                  <a:pt x="270940" y="2883882"/>
                </a:cubicBezTo>
                <a:cubicBezTo>
                  <a:pt x="336343" y="2992888"/>
                  <a:pt x="271346" y="2938217"/>
                  <a:pt x="373971" y="2999791"/>
                </a:cubicBezTo>
                <a:cubicBezTo>
                  <a:pt x="391143" y="3021256"/>
                  <a:pt x="403495" y="3047693"/>
                  <a:pt x="425486" y="3064186"/>
                </a:cubicBezTo>
                <a:cubicBezTo>
                  <a:pt x="439646" y="3074806"/>
                  <a:pt x="461170" y="3069149"/>
                  <a:pt x="477002" y="3077065"/>
                </a:cubicBezTo>
                <a:cubicBezTo>
                  <a:pt x="504691" y="3090909"/>
                  <a:pt x="529839" y="3109574"/>
                  <a:pt x="554275" y="3128580"/>
                </a:cubicBezTo>
                <a:cubicBezTo>
                  <a:pt x="568652" y="3139762"/>
                  <a:pt x="577546" y="3157439"/>
                  <a:pt x="592912" y="3167217"/>
                </a:cubicBezTo>
                <a:cubicBezTo>
                  <a:pt x="625306" y="3187832"/>
                  <a:pt x="665225" y="3195693"/>
                  <a:pt x="695943" y="3218732"/>
                </a:cubicBezTo>
                <a:cubicBezTo>
                  <a:pt x="713115" y="3231611"/>
                  <a:pt x="732280" y="3242191"/>
                  <a:pt x="747458" y="3257369"/>
                </a:cubicBezTo>
                <a:cubicBezTo>
                  <a:pt x="762636" y="3272547"/>
                  <a:pt x="769605" y="3295143"/>
                  <a:pt x="786095" y="3308884"/>
                </a:cubicBezTo>
                <a:cubicBezTo>
                  <a:pt x="796524" y="3317575"/>
                  <a:pt x="812589" y="3315692"/>
                  <a:pt x="824731" y="3321763"/>
                </a:cubicBezTo>
                <a:cubicBezTo>
                  <a:pt x="838575" y="3328685"/>
                  <a:pt x="850489" y="3338935"/>
                  <a:pt x="863368" y="3347521"/>
                </a:cubicBezTo>
                <a:cubicBezTo>
                  <a:pt x="867661" y="3360400"/>
                  <a:pt x="868102" y="3375297"/>
                  <a:pt x="876247" y="3386158"/>
                </a:cubicBezTo>
                <a:cubicBezTo>
                  <a:pt x="935736" y="3465477"/>
                  <a:pt x="925178" y="3436123"/>
                  <a:pt x="992157" y="3476310"/>
                </a:cubicBezTo>
                <a:cubicBezTo>
                  <a:pt x="1018702" y="3492237"/>
                  <a:pt x="1047541" y="3505935"/>
                  <a:pt x="1069430" y="3527825"/>
                </a:cubicBezTo>
                <a:cubicBezTo>
                  <a:pt x="1082309" y="3540704"/>
                  <a:pt x="1092912" y="3556359"/>
                  <a:pt x="1108066" y="3566462"/>
                </a:cubicBezTo>
                <a:cubicBezTo>
                  <a:pt x="1119362" y="3573992"/>
                  <a:pt x="1135062" y="3572356"/>
                  <a:pt x="1146703" y="3579341"/>
                </a:cubicBezTo>
                <a:cubicBezTo>
                  <a:pt x="1199794" y="3611195"/>
                  <a:pt x="1249734" y="3648028"/>
                  <a:pt x="1301250" y="3682372"/>
                </a:cubicBezTo>
                <a:cubicBezTo>
                  <a:pt x="1314129" y="3690958"/>
                  <a:pt x="1327503" y="3698842"/>
                  <a:pt x="1339886" y="3708129"/>
                </a:cubicBezTo>
                <a:cubicBezTo>
                  <a:pt x="1357058" y="3721008"/>
                  <a:pt x="1372765" y="3736116"/>
                  <a:pt x="1391402" y="3746766"/>
                </a:cubicBezTo>
                <a:cubicBezTo>
                  <a:pt x="1403189" y="3753501"/>
                  <a:pt x="1417159" y="3755352"/>
                  <a:pt x="1430038" y="3759645"/>
                </a:cubicBezTo>
                <a:cubicBezTo>
                  <a:pt x="1438624" y="3772524"/>
                  <a:pt x="1443115" y="3789406"/>
                  <a:pt x="1455796" y="3798282"/>
                </a:cubicBezTo>
                <a:cubicBezTo>
                  <a:pt x="1487252" y="3820301"/>
                  <a:pt x="1558827" y="3849797"/>
                  <a:pt x="1558827" y="3849797"/>
                </a:cubicBezTo>
                <a:cubicBezTo>
                  <a:pt x="1575999" y="3875555"/>
                  <a:pt x="1588453" y="3905180"/>
                  <a:pt x="1610343" y="3927070"/>
                </a:cubicBezTo>
                <a:cubicBezTo>
                  <a:pt x="1619942" y="3936669"/>
                  <a:pt x="1636837" y="3933878"/>
                  <a:pt x="1648979" y="3939949"/>
                </a:cubicBezTo>
                <a:cubicBezTo>
                  <a:pt x="1662823" y="3946871"/>
                  <a:pt x="1674177" y="3958027"/>
                  <a:pt x="1687616" y="3965707"/>
                </a:cubicBezTo>
                <a:cubicBezTo>
                  <a:pt x="1704285" y="3975232"/>
                  <a:pt x="1722462" y="3981940"/>
                  <a:pt x="1739131" y="3991465"/>
                </a:cubicBezTo>
                <a:cubicBezTo>
                  <a:pt x="1797876" y="4025033"/>
                  <a:pt x="1762094" y="4018960"/>
                  <a:pt x="1842162" y="4042980"/>
                </a:cubicBezTo>
                <a:cubicBezTo>
                  <a:pt x="1925056" y="4067848"/>
                  <a:pt x="2087602" y="4065917"/>
                  <a:pt x="2138376" y="4068738"/>
                </a:cubicBezTo>
                <a:cubicBezTo>
                  <a:pt x="2340145" y="4055859"/>
                  <a:pt x="2542507" y="4050219"/>
                  <a:pt x="2743683" y="4030101"/>
                </a:cubicBezTo>
                <a:cubicBezTo>
                  <a:pt x="2759085" y="4028561"/>
                  <a:pt x="2769047" y="4012308"/>
                  <a:pt x="2782320" y="4004344"/>
                </a:cubicBezTo>
                <a:cubicBezTo>
                  <a:pt x="2811999" y="3986537"/>
                  <a:pt x="2843674" y="3972027"/>
                  <a:pt x="2872472" y="3952828"/>
                </a:cubicBezTo>
                <a:cubicBezTo>
                  <a:pt x="2895343" y="3937580"/>
                  <a:pt x="2914875" y="3917806"/>
                  <a:pt x="2936866" y="3901313"/>
                </a:cubicBezTo>
                <a:cubicBezTo>
                  <a:pt x="2949249" y="3892026"/>
                  <a:pt x="2962624" y="3884141"/>
                  <a:pt x="2975503" y="3875555"/>
                </a:cubicBezTo>
                <a:cubicBezTo>
                  <a:pt x="3049317" y="3764833"/>
                  <a:pt x="2960823" y="3904917"/>
                  <a:pt x="3014140" y="3798282"/>
                </a:cubicBezTo>
                <a:cubicBezTo>
                  <a:pt x="3051110" y="3724341"/>
                  <a:pt x="3074439" y="3720414"/>
                  <a:pt x="3104292" y="3630856"/>
                </a:cubicBezTo>
                <a:cubicBezTo>
                  <a:pt x="3182128" y="3397351"/>
                  <a:pt x="3088320" y="3689422"/>
                  <a:pt x="3142928" y="3489189"/>
                </a:cubicBezTo>
                <a:cubicBezTo>
                  <a:pt x="3150072" y="3462994"/>
                  <a:pt x="3160884" y="3437921"/>
                  <a:pt x="3168686" y="3411915"/>
                </a:cubicBezTo>
                <a:cubicBezTo>
                  <a:pt x="3173772" y="3394961"/>
                  <a:pt x="3176702" y="3377419"/>
                  <a:pt x="3181565" y="3360400"/>
                </a:cubicBezTo>
                <a:cubicBezTo>
                  <a:pt x="3185295" y="3347347"/>
                  <a:pt x="3191499" y="3335015"/>
                  <a:pt x="3194444" y="3321763"/>
                </a:cubicBezTo>
                <a:cubicBezTo>
                  <a:pt x="3200109" y="3296272"/>
                  <a:pt x="3203030" y="3270248"/>
                  <a:pt x="3207323" y="3244490"/>
                </a:cubicBezTo>
                <a:cubicBezTo>
                  <a:pt x="3198737" y="3175803"/>
                  <a:pt x="3216248" y="3098334"/>
                  <a:pt x="3181565" y="3038428"/>
                </a:cubicBezTo>
                <a:cubicBezTo>
                  <a:pt x="3161159" y="3003182"/>
                  <a:pt x="3103249" y="3015455"/>
                  <a:pt x="3065655" y="2999791"/>
                </a:cubicBezTo>
                <a:cubicBezTo>
                  <a:pt x="3051367" y="2993838"/>
                  <a:pt x="3040863" y="2980956"/>
                  <a:pt x="3027019" y="2974034"/>
                </a:cubicBezTo>
                <a:cubicBezTo>
                  <a:pt x="3006341" y="2963695"/>
                  <a:pt x="2984271" y="2956394"/>
                  <a:pt x="2962624" y="2948276"/>
                </a:cubicBezTo>
                <a:cubicBezTo>
                  <a:pt x="2949913" y="2943509"/>
                  <a:pt x="2935855" y="2941990"/>
                  <a:pt x="2923988" y="2935397"/>
                </a:cubicBezTo>
                <a:cubicBezTo>
                  <a:pt x="2896927" y="2920363"/>
                  <a:pt x="2868604" y="2905772"/>
                  <a:pt x="2846714" y="2883882"/>
                </a:cubicBezTo>
                <a:cubicBezTo>
                  <a:pt x="2820956" y="2858124"/>
                  <a:pt x="2800331" y="2825914"/>
                  <a:pt x="2769441" y="2806608"/>
                </a:cubicBezTo>
                <a:cubicBezTo>
                  <a:pt x="2735097" y="2785143"/>
                  <a:pt x="2699164" y="2766035"/>
                  <a:pt x="2666410" y="2742214"/>
                </a:cubicBezTo>
                <a:cubicBezTo>
                  <a:pt x="2651680" y="2731501"/>
                  <a:pt x="2641765" y="2715237"/>
                  <a:pt x="2627773" y="2703577"/>
                </a:cubicBezTo>
                <a:cubicBezTo>
                  <a:pt x="2615882" y="2693668"/>
                  <a:pt x="2602016" y="2686406"/>
                  <a:pt x="2589137" y="2677820"/>
                </a:cubicBezTo>
                <a:lnTo>
                  <a:pt x="2537621" y="2600546"/>
                </a:lnTo>
                <a:cubicBezTo>
                  <a:pt x="2529035" y="2587667"/>
                  <a:pt x="2516759" y="2576594"/>
                  <a:pt x="2511864" y="2561910"/>
                </a:cubicBezTo>
                <a:cubicBezTo>
                  <a:pt x="2503278" y="2536152"/>
                  <a:pt x="2499107" y="2508473"/>
                  <a:pt x="2486106" y="2484637"/>
                </a:cubicBezTo>
                <a:cubicBezTo>
                  <a:pt x="2426756" y="2375830"/>
                  <a:pt x="2443978" y="2465376"/>
                  <a:pt x="2408833" y="2368727"/>
                </a:cubicBezTo>
                <a:cubicBezTo>
                  <a:pt x="2398152" y="2339355"/>
                  <a:pt x="2393477" y="2308046"/>
                  <a:pt x="2383075" y="2278575"/>
                </a:cubicBezTo>
                <a:cubicBezTo>
                  <a:pt x="2367686" y="2234974"/>
                  <a:pt x="2331559" y="2149786"/>
                  <a:pt x="2331559" y="2149786"/>
                </a:cubicBezTo>
                <a:cubicBezTo>
                  <a:pt x="2335852" y="2102563"/>
                  <a:pt x="2338171" y="2055119"/>
                  <a:pt x="2344438" y="2008118"/>
                </a:cubicBezTo>
                <a:cubicBezTo>
                  <a:pt x="2346777" y="1990573"/>
                  <a:pt x="2347499" y="1971330"/>
                  <a:pt x="2357317" y="1956603"/>
                </a:cubicBezTo>
                <a:cubicBezTo>
                  <a:pt x="2365903" y="1943724"/>
                  <a:pt x="2383075" y="1939431"/>
                  <a:pt x="2395954" y="1930845"/>
                </a:cubicBezTo>
                <a:cubicBezTo>
                  <a:pt x="2526411" y="1669929"/>
                  <a:pt x="2357161" y="2042253"/>
                  <a:pt x="2460348" y="1608873"/>
                </a:cubicBezTo>
                <a:cubicBezTo>
                  <a:pt x="2465973" y="1585249"/>
                  <a:pt x="2487862" y="1561051"/>
                  <a:pt x="2511864" y="1557358"/>
                </a:cubicBezTo>
                <a:cubicBezTo>
                  <a:pt x="2660612" y="1534474"/>
                  <a:pt x="2812371" y="1540186"/>
                  <a:pt x="2962624" y="1531600"/>
                </a:cubicBezTo>
                <a:cubicBezTo>
                  <a:pt x="3055051" y="1469981"/>
                  <a:pt x="3018007" y="1501974"/>
                  <a:pt x="3078534" y="1441448"/>
                </a:cubicBezTo>
                <a:cubicBezTo>
                  <a:pt x="3156374" y="1285768"/>
                  <a:pt x="3051910" y="1473397"/>
                  <a:pt x="3142928" y="1364175"/>
                </a:cubicBezTo>
                <a:cubicBezTo>
                  <a:pt x="3155219" y="1349426"/>
                  <a:pt x="3156192" y="1327236"/>
                  <a:pt x="3168686" y="1312659"/>
                </a:cubicBezTo>
                <a:cubicBezTo>
                  <a:pt x="3182655" y="1296362"/>
                  <a:pt x="3204319" y="1288461"/>
                  <a:pt x="3220202" y="1274022"/>
                </a:cubicBezTo>
                <a:cubicBezTo>
                  <a:pt x="3335704" y="1169020"/>
                  <a:pt x="3265006" y="1198987"/>
                  <a:pt x="3348990" y="1170991"/>
                </a:cubicBezTo>
                <a:cubicBezTo>
                  <a:pt x="3384506" y="1135476"/>
                  <a:pt x="3384426" y="1130505"/>
                  <a:pt x="3426264" y="1106597"/>
                </a:cubicBezTo>
                <a:cubicBezTo>
                  <a:pt x="3442933" y="1097072"/>
                  <a:pt x="3462420" y="1092358"/>
                  <a:pt x="3477779" y="1080839"/>
                </a:cubicBezTo>
                <a:cubicBezTo>
                  <a:pt x="3497207" y="1066268"/>
                  <a:pt x="3509534" y="1043439"/>
                  <a:pt x="3529295" y="1029324"/>
                </a:cubicBezTo>
                <a:cubicBezTo>
                  <a:pt x="3540342" y="1021434"/>
                  <a:pt x="3556064" y="1023038"/>
                  <a:pt x="3567931" y="1016445"/>
                </a:cubicBezTo>
                <a:cubicBezTo>
                  <a:pt x="3594992" y="1001411"/>
                  <a:pt x="3645204" y="964929"/>
                  <a:pt x="3645204" y="964929"/>
                </a:cubicBezTo>
                <a:cubicBezTo>
                  <a:pt x="3649497" y="947757"/>
                  <a:pt x="3646752" y="927012"/>
                  <a:pt x="3658083" y="913414"/>
                </a:cubicBezTo>
                <a:cubicBezTo>
                  <a:pt x="3670374" y="898665"/>
                  <a:pt x="3693136" y="897534"/>
                  <a:pt x="3709599" y="887656"/>
                </a:cubicBezTo>
                <a:cubicBezTo>
                  <a:pt x="3736144" y="871729"/>
                  <a:pt x="3762436" y="855147"/>
                  <a:pt x="3786872" y="836141"/>
                </a:cubicBezTo>
                <a:cubicBezTo>
                  <a:pt x="3801249" y="824959"/>
                  <a:pt x="3809695" y="806541"/>
                  <a:pt x="3825509" y="797504"/>
                </a:cubicBezTo>
                <a:cubicBezTo>
                  <a:pt x="3840877" y="788722"/>
                  <a:pt x="3859852" y="788918"/>
                  <a:pt x="3877024" y="784625"/>
                </a:cubicBezTo>
                <a:cubicBezTo>
                  <a:pt x="3909397" y="687510"/>
                  <a:pt x="3865727" y="807219"/>
                  <a:pt x="3915661" y="707352"/>
                </a:cubicBezTo>
                <a:cubicBezTo>
                  <a:pt x="3921732" y="695210"/>
                  <a:pt x="3923192" y="681193"/>
                  <a:pt x="3928540" y="668715"/>
                </a:cubicBezTo>
                <a:cubicBezTo>
                  <a:pt x="3936103" y="651069"/>
                  <a:pt x="3945711" y="634372"/>
                  <a:pt x="3954297" y="617200"/>
                </a:cubicBezTo>
                <a:cubicBezTo>
                  <a:pt x="3945711" y="582856"/>
                  <a:pt x="3946753" y="544525"/>
                  <a:pt x="3928540" y="514169"/>
                </a:cubicBezTo>
                <a:cubicBezTo>
                  <a:pt x="3918662" y="497706"/>
                  <a:pt x="3893487" y="498289"/>
                  <a:pt x="3877024" y="488411"/>
                </a:cubicBezTo>
                <a:cubicBezTo>
                  <a:pt x="3850479" y="472484"/>
                  <a:pt x="3825509" y="454068"/>
                  <a:pt x="3799751" y="436896"/>
                </a:cubicBezTo>
                <a:cubicBezTo>
                  <a:pt x="3657281" y="341916"/>
                  <a:pt x="3776561" y="412203"/>
                  <a:pt x="3387627" y="385380"/>
                </a:cubicBezTo>
                <a:cubicBezTo>
                  <a:pt x="3353283" y="368208"/>
                  <a:pt x="3296738" y="370292"/>
                  <a:pt x="3284596" y="333865"/>
                </a:cubicBezTo>
                <a:cubicBezTo>
                  <a:pt x="3265646" y="277015"/>
                  <a:pt x="3283859" y="301299"/>
                  <a:pt x="3220202" y="269470"/>
                </a:cubicBezTo>
                <a:cubicBezTo>
                  <a:pt x="3168415" y="140005"/>
                  <a:pt x="3230816" y="254651"/>
                  <a:pt x="3142928" y="179318"/>
                </a:cubicBezTo>
                <a:cubicBezTo>
                  <a:pt x="2975193" y="35546"/>
                  <a:pt x="3208551" y="197309"/>
                  <a:pt x="3065655" y="102045"/>
                </a:cubicBezTo>
                <a:cubicBezTo>
                  <a:pt x="3057069" y="84873"/>
                  <a:pt x="3052188" y="65278"/>
                  <a:pt x="3039897" y="50529"/>
                </a:cubicBezTo>
                <a:cubicBezTo>
                  <a:pt x="2997790" y="0"/>
                  <a:pt x="2944124" y="31121"/>
                  <a:pt x="2885351" y="37651"/>
                </a:cubicBezTo>
                <a:cubicBezTo>
                  <a:pt x="2872472" y="46237"/>
                  <a:pt x="2860558" y="56486"/>
                  <a:pt x="2846714" y="63408"/>
                </a:cubicBezTo>
                <a:cubicBezTo>
                  <a:pt x="2834572" y="69479"/>
                  <a:pt x="2820556" y="70939"/>
                  <a:pt x="2808078" y="76287"/>
                </a:cubicBezTo>
                <a:cubicBezTo>
                  <a:pt x="2790431" y="83850"/>
                  <a:pt x="2773231" y="92520"/>
                  <a:pt x="2756562" y="102045"/>
                </a:cubicBezTo>
                <a:cubicBezTo>
                  <a:pt x="2743123" y="109724"/>
                  <a:pt x="2731365" y="120124"/>
                  <a:pt x="2717926" y="127803"/>
                </a:cubicBezTo>
                <a:cubicBezTo>
                  <a:pt x="2673369" y="153264"/>
                  <a:pt x="2671116" y="151991"/>
                  <a:pt x="2627773" y="166439"/>
                </a:cubicBezTo>
                <a:cubicBezTo>
                  <a:pt x="2470692" y="271161"/>
                  <a:pt x="2617776" y="177718"/>
                  <a:pt x="2498985" y="243713"/>
                </a:cubicBezTo>
                <a:cubicBezTo>
                  <a:pt x="2477103" y="255870"/>
                  <a:pt x="2455817" y="269082"/>
                  <a:pt x="2434590" y="282349"/>
                </a:cubicBezTo>
                <a:cubicBezTo>
                  <a:pt x="2421464" y="290552"/>
                  <a:pt x="2410181" y="302010"/>
                  <a:pt x="2395954" y="308107"/>
                </a:cubicBezTo>
                <a:cubicBezTo>
                  <a:pt x="2379685" y="315080"/>
                  <a:pt x="2361610" y="316693"/>
                  <a:pt x="2344438" y="320986"/>
                </a:cubicBezTo>
                <a:cubicBezTo>
                  <a:pt x="2327266" y="329572"/>
                  <a:pt x="2310569" y="339181"/>
                  <a:pt x="2292923" y="346744"/>
                </a:cubicBezTo>
                <a:cubicBezTo>
                  <a:pt x="2213119" y="380945"/>
                  <a:pt x="2298889" y="331981"/>
                  <a:pt x="2202771" y="385380"/>
                </a:cubicBezTo>
                <a:cubicBezTo>
                  <a:pt x="2180889" y="397537"/>
                  <a:pt x="2161384" y="414156"/>
                  <a:pt x="2138376" y="424017"/>
                </a:cubicBezTo>
                <a:cubicBezTo>
                  <a:pt x="2095121" y="442555"/>
                  <a:pt x="2023102" y="463943"/>
                  <a:pt x="1970951" y="475532"/>
                </a:cubicBezTo>
                <a:cubicBezTo>
                  <a:pt x="1949583" y="480281"/>
                  <a:pt x="1927793" y="483102"/>
                  <a:pt x="1906557" y="488411"/>
                </a:cubicBezTo>
                <a:cubicBezTo>
                  <a:pt x="1829867" y="507584"/>
                  <a:pt x="1894693" y="511465"/>
                  <a:pt x="1764889" y="514169"/>
                </a:cubicBezTo>
                <a:cubicBezTo>
                  <a:pt x="1593208" y="517746"/>
                  <a:pt x="1421452" y="514169"/>
                  <a:pt x="1249734" y="514169"/>
                </a:cubicBezTo>
              </a:path>
            </a:pathLst>
          </a:custGeom>
          <a:noFill/>
          <a:ln w="76200">
            <a:solidFill>
              <a:srgbClr val="ff0000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7"/>
          <p:cNvSpPr/>
          <p:nvPr/>
        </p:nvSpPr>
        <p:spPr>
          <a:xfrm>
            <a:off x="1475640" y="3789000"/>
            <a:ext cx="1079640" cy="14396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3954297" h="4068738">
                <a:moveTo>
                  <a:pt x="1301250" y="514169"/>
                </a:moveTo>
                <a:cubicBezTo>
                  <a:pt x="1184088" y="467304"/>
                  <a:pt x="1288260" y="514103"/>
                  <a:pt x="1159582" y="436896"/>
                </a:cubicBezTo>
                <a:cubicBezTo>
                  <a:pt x="1123486" y="415238"/>
                  <a:pt x="1082425" y="400882"/>
                  <a:pt x="1043672" y="385380"/>
                </a:cubicBezTo>
                <a:cubicBezTo>
                  <a:pt x="794680" y="393966"/>
                  <a:pt x="545030" y="391111"/>
                  <a:pt x="296697" y="411138"/>
                </a:cubicBezTo>
                <a:cubicBezTo>
                  <a:pt x="275302" y="412863"/>
                  <a:pt x="263946" y="439351"/>
                  <a:pt x="245182" y="449775"/>
                </a:cubicBezTo>
                <a:cubicBezTo>
                  <a:pt x="224973" y="461002"/>
                  <a:pt x="202253" y="466946"/>
                  <a:pt x="180788" y="475532"/>
                </a:cubicBezTo>
                <a:cubicBezTo>
                  <a:pt x="163616" y="492704"/>
                  <a:pt x="142743" y="506842"/>
                  <a:pt x="129272" y="527048"/>
                </a:cubicBezTo>
                <a:cubicBezTo>
                  <a:pt x="116448" y="546283"/>
                  <a:pt x="112903" y="570316"/>
                  <a:pt x="103514" y="591442"/>
                </a:cubicBezTo>
                <a:cubicBezTo>
                  <a:pt x="64591" y="679021"/>
                  <a:pt x="93441" y="609071"/>
                  <a:pt x="51999" y="681594"/>
                </a:cubicBezTo>
                <a:cubicBezTo>
                  <a:pt x="42474" y="698263"/>
                  <a:pt x="34827" y="715938"/>
                  <a:pt x="26241" y="733110"/>
                </a:cubicBezTo>
                <a:cubicBezTo>
                  <a:pt x="30534" y="831848"/>
                  <a:pt x="31540" y="930784"/>
                  <a:pt x="39120" y="1029324"/>
                </a:cubicBezTo>
                <a:cubicBezTo>
                  <a:pt x="40161" y="1042859"/>
                  <a:pt x="48270" y="1054907"/>
                  <a:pt x="51999" y="1067960"/>
                </a:cubicBezTo>
                <a:cubicBezTo>
                  <a:pt x="56862" y="1084979"/>
                  <a:pt x="59792" y="1102522"/>
                  <a:pt x="64878" y="1119476"/>
                </a:cubicBezTo>
                <a:cubicBezTo>
                  <a:pt x="64883" y="1119494"/>
                  <a:pt x="97072" y="1216059"/>
                  <a:pt x="103514" y="1235386"/>
                </a:cubicBezTo>
                <a:cubicBezTo>
                  <a:pt x="107807" y="1248265"/>
                  <a:pt x="108863" y="1262727"/>
                  <a:pt x="116393" y="1274022"/>
                </a:cubicBezTo>
                <a:lnTo>
                  <a:pt x="142151" y="1312659"/>
                </a:lnTo>
                <a:cubicBezTo>
                  <a:pt x="146444" y="1329831"/>
                  <a:pt x="146248" y="1348807"/>
                  <a:pt x="155030" y="1364175"/>
                </a:cubicBezTo>
                <a:cubicBezTo>
                  <a:pt x="164066" y="1379989"/>
                  <a:pt x="182006" y="1388819"/>
                  <a:pt x="193666" y="1402811"/>
                </a:cubicBezTo>
                <a:cubicBezTo>
                  <a:pt x="203575" y="1414702"/>
                  <a:pt x="210838" y="1428569"/>
                  <a:pt x="219424" y="1441448"/>
                </a:cubicBezTo>
                <a:cubicBezTo>
                  <a:pt x="254080" y="1580071"/>
                  <a:pt x="197779" y="1385277"/>
                  <a:pt x="283819" y="1557358"/>
                </a:cubicBezTo>
                <a:cubicBezTo>
                  <a:pt x="293608" y="1576937"/>
                  <a:pt x="288839" y="1601321"/>
                  <a:pt x="296697" y="1621752"/>
                </a:cubicBezTo>
                <a:cubicBezTo>
                  <a:pt x="310481" y="1657590"/>
                  <a:pt x="336071" y="1688356"/>
                  <a:pt x="348213" y="1724783"/>
                </a:cubicBezTo>
                <a:cubicBezTo>
                  <a:pt x="387288" y="1842009"/>
                  <a:pt x="327351" y="1656874"/>
                  <a:pt x="373971" y="1827814"/>
                </a:cubicBezTo>
                <a:cubicBezTo>
                  <a:pt x="381115" y="1854008"/>
                  <a:pt x="399728" y="1905087"/>
                  <a:pt x="399728" y="1905087"/>
                </a:cubicBezTo>
                <a:cubicBezTo>
                  <a:pt x="391142" y="1952310"/>
                  <a:pt x="394084" y="2003176"/>
                  <a:pt x="373971" y="2046755"/>
                </a:cubicBezTo>
                <a:cubicBezTo>
                  <a:pt x="370555" y="2054157"/>
                  <a:pt x="298073" y="2083714"/>
                  <a:pt x="283819" y="2085391"/>
                </a:cubicBezTo>
                <a:cubicBezTo>
                  <a:pt x="223977" y="2092431"/>
                  <a:pt x="163616" y="2093977"/>
                  <a:pt x="103514" y="2098270"/>
                </a:cubicBezTo>
                <a:cubicBezTo>
                  <a:pt x="0" y="2253544"/>
                  <a:pt x="41646" y="2158129"/>
                  <a:pt x="64878" y="2471758"/>
                </a:cubicBezTo>
                <a:cubicBezTo>
                  <a:pt x="66890" y="2498925"/>
                  <a:pt x="83020" y="2535256"/>
                  <a:pt x="90635" y="2561910"/>
                </a:cubicBezTo>
                <a:cubicBezTo>
                  <a:pt x="95497" y="2578929"/>
                  <a:pt x="94732" y="2598057"/>
                  <a:pt x="103514" y="2613425"/>
                </a:cubicBezTo>
                <a:cubicBezTo>
                  <a:pt x="112551" y="2629239"/>
                  <a:pt x="129272" y="2639183"/>
                  <a:pt x="142151" y="2652062"/>
                </a:cubicBezTo>
                <a:cubicBezTo>
                  <a:pt x="176018" y="2787527"/>
                  <a:pt x="125463" y="2622858"/>
                  <a:pt x="193666" y="2742214"/>
                </a:cubicBezTo>
                <a:cubicBezTo>
                  <a:pt x="202448" y="2757582"/>
                  <a:pt x="199572" y="2777460"/>
                  <a:pt x="206545" y="2793729"/>
                </a:cubicBezTo>
                <a:cubicBezTo>
                  <a:pt x="214409" y="2812077"/>
                  <a:pt x="264343" y="2872886"/>
                  <a:pt x="270940" y="2883882"/>
                </a:cubicBezTo>
                <a:cubicBezTo>
                  <a:pt x="336343" y="2992888"/>
                  <a:pt x="271346" y="2938217"/>
                  <a:pt x="373971" y="2999791"/>
                </a:cubicBezTo>
                <a:cubicBezTo>
                  <a:pt x="391143" y="3021256"/>
                  <a:pt x="403495" y="3047693"/>
                  <a:pt x="425486" y="3064186"/>
                </a:cubicBezTo>
                <a:cubicBezTo>
                  <a:pt x="439646" y="3074806"/>
                  <a:pt x="461170" y="3069149"/>
                  <a:pt x="477002" y="3077065"/>
                </a:cubicBezTo>
                <a:cubicBezTo>
                  <a:pt x="504691" y="3090909"/>
                  <a:pt x="529839" y="3109574"/>
                  <a:pt x="554275" y="3128580"/>
                </a:cubicBezTo>
                <a:cubicBezTo>
                  <a:pt x="568652" y="3139762"/>
                  <a:pt x="577546" y="3157439"/>
                  <a:pt x="592912" y="3167217"/>
                </a:cubicBezTo>
                <a:cubicBezTo>
                  <a:pt x="625306" y="3187832"/>
                  <a:pt x="665225" y="3195693"/>
                  <a:pt x="695943" y="3218732"/>
                </a:cubicBezTo>
                <a:cubicBezTo>
                  <a:pt x="713115" y="3231611"/>
                  <a:pt x="732280" y="3242191"/>
                  <a:pt x="747458" y="3257369"/>
                </a:cubicBezTo>
                <a:cubicBezTo>
                  <a:pt x="762636" y="3272547"/>
                  <a:pt x="769605" y="3295143"/>
                  <a:pt x="786095" y="3308884"/>
                </a:cubicBezTo>
                <a:cubicBezTo>
                  <a:pt x="796524" y="3317575"/>
                  <a:pt x="812589" y="3315692"/>
                  <a:pt x="824731" y="3321763"/>
                </a:cubicBezTo>
                <a:cubicBezTo>
                  <a:pt x="838575" y="3328685"/>
                  <a:pt x="850489" y="3338935"/>
                  <a:pt x="863368" y="3347521"/>
                </a:cubicBezTo>
                <a:cubicBezTo>
                  <a:pt x="867661" y="3360400"/>
                  <a:pt x="868102" y="3375297"/>
                  <a:pt x="876247" y="3386158"/>
                </a:cubicBezTo>
                <a:cubicBezTo>
                  <a:pt x="935736" y="3465477"/>
                  <a:pt x="925178" y="3436123"/>
                  <a:pt x="992157" y="3476310"/>
                </a:cubicBezTo>
                <a:cubicBezTo>
                  <a:pt x="1018702" y="3492237"/>
                  <a:pt x="1047541" y="3505935"/>
                  <a:pt x="1069430" y="3527825"/>
                </a:cubicBezTo>
                <a:cubicBezTo>
                  <a:pt x="1082309" y="3540704"/>
                  <a:pt x="1092912" y="3556359"/>
                  <a:pt x="1108066" y="3566462"/>
                </a:cubicBezTo>
                <a:cubicBezTo>
                  <a:pt x="1119362" y="3573992"/>
                  <a:pt x="1135062" y="3572356"/>
                  <a:pt x="1146703" y="3579341"/>
                </a:cubicBezTo>
                <a:cubicBezTo>
                  <a:pt x="1199794" y="3611195"/>
                  <a:pt x="1249734" y="3648028"/>
                  <a:pt x="1301250" y="3682372"/>
                </a:cubicBezTo>
                <a:cubicBezTo>
                  <a:pt x="1314129" y="3690958"/>
                  <a:pt x="1327503" y="3698842"/>
                  <a:pt x="1339886" y="3708129"/>
                </a:cubicBezTo>
                <a:cubicBezTo>
                  <a:pt x="1357058" y="3721008"/>
                  <a:pt x="1372765" y="3736116"/>
                  <a:pt x="1391402" y="3746766"/>
                </a:cubicBezTo>
                <a:cubicBezTo>
                  <a:pt x="1403189" y="3753501"/>
                  <a:pt x="1417159" y="3755352"/>
                  <a:pt x="1430038" y="3759645"/>
                </a:cubicBezTo>
                <a:cubicBezTo>
                  <a:pt x="1438624" y="3772524"/>
                  <a:pt x="1443115" y="3789406"/>
                  <a:pt x="1455796" y="3798282"/>
                </a:cubicBezTo>
                <a:cubicBezTo>
                  <a:pt x="1487252" y="3820301"/>
                  <a:pt x="1558827" y="3849797"/>
                  <a:pt x="1558827" y="3849797"/>
                </a:cubicBezTo>
                <a:cubicBezTo>
                  <a:pt x="1575999" y="3875555"/>
                  <a:pt x="1588453" y="3905180"/>
                  <a:pt x="1610343" y="3927070"/>
                </a:cubicBezTo>
                <a:cubicBezTo>
                  <a:pt x="1619942" y="3936669"/>
                  <a:pt x="1636837" y="3933878"/>
                  <a:pt x="1648979" y="3939949"/>
                </a:cubicBezTo>
                <a:cubicBezTo>
                  <a:pt x="1662823" y="3946871"/>
                  <a:pt x="1674177" y="3958027"/>
                  <a:pt x="1687616" y="3965707"/>
                </a:cubicBezTo>
                <a:cubicBezTo>
                  <a:pt x="1704285" y="3975232"/>
                  <a:pt x="1722462" y="3981940"/>
                  <a:pt x="1739131" y="3991465"/>
                </a:cubicBezTo>
                <a:cubicBezTo>
                  <a:pt x="1797876" y="4025033"/>
                  <a:pt x="1762094" y="4018960"/>
                  <a:pt x="1842162" y="4042980"/>
                </a:cubicBezTo>
                <a:cubicBezTo>
                  <a:pt x="1925056" y="4067848"/>
                  <a:pt x="2087602" y="4065917"/>
                  <a:pt x="2138376" y="4068738"/>
                </a:cubicBezTo>
                <a:cubicBezTo>
                  <a:pt x="2340145" y="4055859"/>
                  <a:pt x="2542507" y="4050219"/>
                  <a:pt x="2743683" y="4030101"/>
                </a:cubicBezTo>
                <a:cubicBezTo>
                  <a:pt x="2759085" y="4028561"/>
                  <a:pt x="2769047" y="4012308"/>
                  <a:pt x="2782320" y="4004344"/>
                </a:cubicBezTo>
                <a:cubicBezTo>
                  <a:pt x="2811999" y="3986537"/>
                  <a:pt x="2843674" y="3972027"/>
                  <a:pt x="2872472" y="3952828"/>
                </a:cubicBezTo>
                <a:cubicBezTo>
                  <a:pt x="2895343" y="3937580"/>
                  <a:pt x="2914875" y="3917806"/>
                  <a:pt x="2936866" y="3901313"/>
                </a:cubicBezTo>
                <a:cubicBezTo>
                  <a:pt x="2949249" y="3892026"/>
                  <a:pt x="2962624" y="3884141"/>
                  <a:pt x="2975503" y="3875555"/>
                </a:cubicBezTo>
                <a:cubicBezTo>
                  <a:pt x="3049317" y="3764833"/>
                  <a:pt x="2960823" y="3904917"/>
                  <a:pt x="3014140" y="3798282"/>
                </a:cubicBezTo>
                <a:cubicBezTo>
                  <a:pt x="3051110" y="3724341"/>
                  <a:pt x="3074439" y="3720414"/>
                  <a:pt x="3104292" y="3630856"/>
                </a:cubicBezTo>
                <a:cubicBezTo>
                  <a:pt x="3182128" y="3397351"/>
                  <a:pt x="3088320" y="3689422"/>
                  <a:pt x="3142928" y="3489189"/>
                </a:cubicBezTo>
                <a:cubicBezTo>
                  <a:pt x="3150072" y="3462994"/>
                  <a:pt x="3160884" y="3437921"/>
                  <a:pt x="3168686" y="3411915"/>
                </a:cubicBezTo>
                <a:cubicBezTo>
                  <a:pt x="3173772" y="3394961"/>
                  <a:pt x="3176702" y="3377419"/>
                  <a:pt x="3181565" y="3360400"/>
                </a:cubicBezTo>
                <a:cubicBezTo>
                  <a:pt x="3185295" y="3347347"/>
                  <a:pt x="3191499" y="3335015"/>
                  <a:pt x="3194444" y="3321763"/>
                </a:cubicBezTo>
                <a:cubicBezTo>
                  <a:pt x="3200109" y="3296272"/>
                  <a:pt x="3203030" y="3270248"/>
                  <a:pt x="3207323" y="3244490"/>
                </a:cubicBezTo>
                <a:cubicBezTo>
                  <a:pt x="3198737" y="3175803"/>
                  <a:pt x="3216248" y="3098334"/>
                  <a:pt x="3181565" y="3038428"/>
                </a:cubicBezTo>
                <a:cubicBezTo>
                  <a:pt x="3161159" y="3003182"/>
                  <a:pt x="3103249" y="3015455"/>
                  <a:pt x="3065655" y="2999791"/>
                </a:cubicBezTo>
                <a:cubicBezTo>
                  <a:pt x="3051367" y="2993838"/>
                  <a:pt x="3040863" y="2980956"/>
                  <a:pt x="3027019" y="2974034"/>
                </a:cubicBezTo>
                <a:cubicBezTo>
                  <a:pt x="3006341" y="2963695"/>
                  <a:pt x="2984271" y="2956394"/>
                  <a:pt x="2962624" y="2948276"/>
                </a:cubicBezTo>
                <a:cubicBezTo>
                  <a:pt x="2949913" y="2943509"/>
                  <a:pt x="2935855" y="2941990"/>
                  <a:pt x="2923988" y="2935397"/>
                </a:cubicBezTo>
                <a:cubicBezTo>
                  <a:pt x="2896927" y="2920363"/>
                  <a:pt x="2868604" y="2905772"/>
                  <a:pt x="2846714" y="2883882"/>
                </a:cubicBezTo>
                <a:cubicBezTo>
                  <a:pt x="2820956" y="2858124"/>
                  <a:pt x="2800331" y="2825914"/>
                  <a:pt x="2769441" y="2806608"/>
                </a:cubicBezTo>
                <a:cubicBezTo>
                  <a:pt x="2735097" y="2785143"/>
                  <a:pt x="2699164" y="2766035"/>
                  <a:pt x="2666410" y="2742214"/>
                </a:cubicBezTo>
                <a:cubicBezTo>
                  <a:pt x="2651680" y="2731501"/>
                  <a:pt x="2641765" y="2715237"/>
                  <a:pt x="2627773" y="2703577"/>
                </a:cubicBezTo>
                <a:cubicBezTo>
                  <a:pt x="2615882" y="2693668"/>
                  <a:pt x="2602016" y="2686406"/>
                  <a:pt x="2589137" y="2677820"/>
                </a:cubicBezTo>
                <a:lnTo>
                  <a:pt x="2537621" y="2600546"/>
                </a:lnTo>
                <a:cubicBezTo>
                  <a:pt x="2529035" y="2587667"/>
                  <a:pt x="2516759" y="2576594"/>
                  <a:pt x="2511864" y="2561910"/>
                </a:cubicBezTo>
                <a:cubicBezTo>
                  <a:pt x="2503278" y="2536152"/>
                  <a:pt x="2499107" y="2508473"/>
                  <a:pt x="2486106" y="2484637"/>
                </a:cubicBezTo>
                <a:cubicBezTo>
                  <a:pt x="2426756" y="2375830"/>
                  <a:pt x="2443978" y="2465376"/>
                  <a:pt x="2408833" y="2368727"/>
                </a:cubicBezTo>
                <a:cubicBezTo>
                  <a:pt x="2398152" y="2339355"/>
                  <a:pt x="2393477" y="2308046"/>
                  <a:pt x="2383075" y="2278575"/>
                </a:cubicBezTo>
                <a:cubicBezTo>
                  <a:pt x="2367686" y="2234974"/>
                  <a:pt x="2331559" y="2149786"/>
                  <a:pt x="2331559" y="2149786"/>
                </a:cubicBezTo>
                <a:cubicBezTo>
                  <a:pt x="2335852" y="2102563"/>
                  <a:pt x="2338171" y="2055119"/>
                  <a:pt x="2344438" y="2008118"/>
                </a:cubicBezTo>
                <a:cubicBezTo>
                  <a:pt x="2346777" y="1990573"/>
                  <a:pt x="2347499" y="1971330"/>
                  <a:pt x="2357317" y="1956603"/>
                </a:cubicBezTo>
                <a:cubicBezTo>
                  <a:pt x="2365903" y="1943724"/>
                  <a:pt x="2383075" y="1939431"/>
                  <a:pt x="2395954" y="1930845"/>
                </a:cubicBezTo>
                <a:cubicBezTo>
                  <a:pt x="2526411" y="1669929"/>
                  <a:pt x="2357161" y="2042253"/>
                  <a:pt x="2460348" y="1608873"/>
                </a:cubicBezTo>
                <a:cubicBezTo>
                  <a:pt x="2465973" y="1585249"/>
                  <a:pt x="2487862" y="1561051"/>
                  <a:pt x="2511864" y="1557358"/>
                </a:cubicBezTo>
                <a:cubicBezTo>
                  <a:pt x="2660612" y="1534474"/>
                  <a:pt x="2812371" y="1540186"/>
                  <a:pt x="2962624" y="1531600"/>
                </a:cubicBezTo>
                <a:cubicBezTo>
                  <a:pt x="3055051" y="1469981"/>
                  <a:pt x="3018007" y="1501974"/>
                  <a:pt x="3078534" y="1441448"/>
                </a:cubicBezTo>
                <a:cubicBezTo>
                  <a:pt x="3156374" y="1285768"/>
                  <a:pt x="3051910" y="1473397"/>
                  <a:pt x="3142928" y="1364175"/>
                </a:cubicBezTo>
                <a:cubicBezTo>
                  <a:pt x="3155219" y="1349426"/>
                  <a:pt x="3156192" y="1327236"/>
                  <a:pt x="3168686" y="1312659"/>
                </a:cubicBezTo>
                <a:cubicBezTo>
                  <a:pt x="3182655" y="1296362"/>
                  <a:pt x="3204319" y="1288461"/>
                  <a:pt x="3220202" y="1274022"/>
                </a:cubicBezTo>
                <a:cubicBezTo>
                  <a:pt x="3335704" y="1169020"/>
                  <a:pt x="3265006" y="1198987"/>
                  <a:pt x="3348990" y="1170991"/>
                </a:cubicBezTo>
                <a:cubicBezTo>
                  <a:pt x="3384506" y="1135476"/>
                  <a:pt x="3384426" y="1130505"/>
                  <a:pt x="3426264" y="1106597"/>
                </a:cubicBezTo>
                <a:cubicBezTo>
                  <a:pt x="3442933" y="1097072"/>
                  <a:pt x="3462420" y="1092358"/>
                  <a:pt x="3477779" y="1080839"/>
                </a:cubicBezTo>
                <a:cubicBezTo>
                  <a:pt x="3497207" y="1066268"/>
                  <a:pt x="3509534" y="1043439"/>
                  <a:pt x="3529295" y="1029324"/>
                </a:cubicBezTo>
                <a:cubicBezTo>
                  <a:pt x="3540342" y="1021434"/>
                  <a:pt x="3556064" y="1023038"/>
                  <a:pt x="3567931" y="1016445"/>
                </a:cubicBezTo>
                <a:cubicBezTo>
                  <a:pt x="3594992" y="1001411"/>
                  <a:pt x="3645204" y="964929"/>
                  <a:pt x="3645204" y="964929"/>
                </a:cubicBezTo>
                <a:cubicBezTo>
                  <a:pt x="3649497" y="947757"/>
                  <a:pt x="3646752" y="927012"/>
                  <a:pt x="3658083" y="913414"/>
                </a:cubicBezTo>
                <a:cubicBezTo>
                  <a:pt x="3670374" y="898665"/>
                  <a:pt x="3693136" y="897534"/>
                  <a:pt x="3709599" y="887656"/>
                </a:cubicBezTo>
                <a:cubicBezTo>
                  <a:pt x="3736144" y="871729"/>
                  <a:pt x="3762436" y="855147"/>
                  <a:pt x="3786872" y="836141"/>
                </a:cubicBezTo>
                <a:cubicBezTo>
                  <a:pt x="3801249" y="824959"/>
                  <a:pt x="3809695" y="806541"/>
                  <a:pt x="3825509" y="797504"/>
                </a:cubicBezTo>
                <a:cubicBezTo>
                  <a:pt x="3840877" y="788722"/>
                  <a:pt x="3859852" y="788918"/>
                  <a:pt x="3877024" y="784625"/>
                </a:cubicBezTo>
                <a:cubicBezTo>
                  <a:pt x="3909397" y="687510"/>
                  <a:pt x="3865727" y="807219"/>
                  <a:pt x="3915661" y="707352"/>
                </a:cubicBezTo>
                <a:cubicBezTo>
                  <a:pt x="3921732" y="695210"/>
                  <a:pt x="3923192" y="681193"/>
                  <a:pt x="3928540" y="668715"/>
                </a:cubicBezTo>
                <a:cubicBezTo>
                  <a:pt x="3936103" y="651069"/>
                  <a:pt x="3945711" y="634372"/>
                  <a:pt x="3954297" y="617200"/>
                </a:cubicBezTo>
                <a:cubicBezTo>
                  <a:pt x="3945711" y="582856"/>
                  <a:pt x="3946753" y="544525"/>
                  <a:pt x="3928540" y="514169"/>
                </a:cubicBezTo>
                <a:cubicBezTo>
                  <a:pt x="3918662" y="497706"/>
                  <a:pt x="3893487" y="498289"/>
                  <a:pt x="3877024" y="488411"/>
                </a:cubicBezTo>
                <a:cubicBezTo>
                  <a:pt x="3850479" y="472484"/>
                  <a:pt x="3825509" y="454068"/>
                  <a:pt x="3799751" y="436896"/>
                </a:cubicBezTo>
                <a:cubicBezTo>
                  <a:pt x="3657281" y="341916"/>
                  <a:pt x="3776561" y="412203"/>
                  <a:pt x="3387627" y="385380"/>
                </a:cubicBezTo>
                <a:cubicBezTo>
                  <a:pt x="3353283" y="368208"/>
                  <a:pt x="3296738" y="370292"/>
                  <a:pt x="3284596" y="333865"/>
                </a:cubicBezTo>
                <a:cubicBezTo>
                  <a:pt x="3265646" y="277015"/>
                  <a:pt x="3283859" y="301299"/>
                  <a:pt x="3220202" y="269470"/>
                </a:cubicBezTo>
                <a:cubicBezTo>
                  <a:pt x="3168415" y="140005"/>
                  <a:pt x="3230816" y="254651"/>
                  <a:pt x="3142928" y="179318"/>
                </a:cubicBezTo>
                <a:cubicBezTo>
                  <a:pt x="2975193" y="35546"/>
                  <a:pt x="3208551" y="197309"/>
                  <a:pt x="3065655" y="102045"/>
                </a:cubicBezTo>
                <a:cubicBezTo>
                  <a:pt x="3057069" y="84873"/>
                  <a:pt x="3052188" y="65278"/>
                  <a:pt x="3039897" y="50529"/>
                </a:cubicBezTo>
                <a:cubicBezTo>
                  <a:pt x="2997790" y="0"/>
                  <a:pt x="2944124" y="31121"/>
                  <a:pt x="2885351" y="37651"/>
                </a:cubicBezTo>
                <a:cubicBezTo>
                  <a:pt x="2872472" y="46237"/>
                  <a:pt x="2860558" y="56486"/>
                  <a:pt x="2846714" y="63408"/>
                </a:cubicBezTo>
                <a:cubicBezTo>
                  <a:pt x="2834572" y="69479"/>
                  <a:pt x="2820556" y="70939"/>
                  <a:pt x="2808078" y="76287"/>
                </a:cubicBezTo>
                <a:cubicBezTo>
                  <a:pt x="2790431" y="83850"/>
                  <a:pt x="2773231" y="92520"/>
                  <a:pt x="2756562" y="102045"/>
                </a:cubicBezTo>
                <a:cubicBezTo>
                  <a:pt x="2743123" y="109724"/>
                  <a:pt x="2731365" y="120124"/>
                  <a:pt x="2717926" y="127803"/>
                </a:cubicBezTo>
                <a:cubicBezTo>
                  <a:pt x="2673369" y="153264"/>
                  <a:pt x="2671116" y="151991"/>
                  <a:pt x="2627773" y="166439"/>
                </a:cubicBezTo>
                <a:cubicBezTo>
                  <a:pt x="2470692" y="271161"/>
                  <a:pt x="2617776" y="177718"/>
                  <a:pt x="2498985" y="243713"/>
                </a:cubicBezTo>
                <a:cubicBezTo>
                  <a:pt x="2477103" y="255870"/>
                  <a:pt x="2455817" y="269082"/>
                  <a:pt x="2434590" y="282349"/>
                </a:cubicBezTo>
                <a:cubicBezTo>
                  <a:pt x="2421464" y="290552"/>
                  <a:pt x="2410181" y="302010"/>
                  <a:pt x="2395954" y="308107"/>
                </a:cubicBezTo>
                <a:cubicBezTo>
                  <a:pt x="2379685" y="315080"/>
                  <a:pt x="2361610" y="316693"/>
                  <a:pt x="2344438" y="320986"/>
                </a:cubicBezTo>
                <a:cubicBezTo>
                  <a:pt x="2327266" y="329572"/>
                  <a:pt x="2310569" y="339181"/>
                  <a:pt x="2292923" y="346744"/>
                </a:cubicBezTo>
                <a:cubicBezTo>
                  <a:pt x="2213119" y="380945"/>
                  <a:pt x="2298889" y="331981"/>
                  <a:pt x="2202771" y="385380"/>
                </a:cubicBezTo>
                <a:cubicBezTo>
                  <a:pt x="2180889" y="397537"/>
                  <a:pt x="2161384" y="414156"/>
                  <a:pt x="2138376" y="424017"/>
                </a:cubicBezTo>
                <a:cubicBezTo>
                  <a:pt x="2095121" y="442555"/>
                  <a:pt x="2023102" y="463943"/>
                  <a:pt x="1970951" y="475532"/>
                </a:cubicBezTo>
                <a:cubicBezTo>
                  <a:pt x="1949583" y="480281"/>
                  <a:pt x="1927793" y="483102"/>
                  <a:pt x="1906557" y="488411"/>
                </a:cubicBezTo>
                <a:cubicBezTo>
                  <a:pt x="1829867" y="507584"/>
                  <a:pt x="1894693" y="511465"/>
                  <a:pt x="1764889" y="514169"/>
                </a:cubicBezTo>
                <a:cubicBezTo>
                  <a:pt x="1593208" y="517746"/>
                  <a:pt x="1421452" y="514169"/>
                  <a:pt x="1249734" y="514169"/>
                </a:cubicBezTo>
              </a:path>
            </a:pathLst>
          </a:custGeom>
          <a:noFill/>
          <a:ln w="76200">
            <a:solidFill>
              <a:srgbClr val="ff0000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олилиния 8"/>
          <p:cNvSpPr/>
          <p:nvPr/>
        </p:nvSpPr>
        <p:spPr>
          <a:xfrm>
            <a:off x="4356000" y="3213000"/>
            <a:ext cx="1367640" cy="2160000"/>
          </a:xfrm>
          <a:custGeom>
            <a:avLst/>
            <a:gdLst>
              <a:gd name="textAreaLeft" fmla="*/ 0 w 1367640"/>
              <a:gd name="textAreaRight" fmla="*/ 1368000 w 1367640"/>
              <a:gd name="textAreaTop" fmla="*/ 0 h 2160000"/>
              <a:gd name="textAreaBottom" fmla="*/ 2160360 h 2160000"/>
            </a:gdLst>
            <a:ahLst/>
            <a:rect l="textAreaLeft" t="textAreaTop" r="textAreaRight" b="textAreaBottom"/>
            <a:pathLst>
              <a:path w="3954297" h="4068738">
                <a:moveTo>
                  <a:pt x="1301250" y="514169"/>
                </a:moveTo>
                <a:cubicBezTo>
                  <a:pt x="1184088" y="467304"/>
                  <a:pt x="1288260" y="514103"/>
                  <a:pt x="1159582" y="436896"/>
                </a:cubicBezTo>
                <a:cubicBezTo>
                  <a:pt x="1123486" y="415238"/>
                  <a:pt x="1082425" y="400882"/>
                  <a:pt x="1043672" y="385380"/>
                </a:cubicBezTo>
                <a:cubicBezTo>
                  <a:pt x="794680" y="393966"/>
                  <a:pt x="545030" y="391111"/>
                  <a:pt x="296697" y="411138"/>
                </a:cubicBezTo>
                <a:cubicBezTo>
                  <a:pt x="275302" y="412863"/>
                  <a:pt x="263946" y="439351"/>
                  <a:pt x="245182" y="449775"/>
                </a:cubicBezTo>
                <a:cubicBezTo>
                  <a:pt x="224973" y="461002"/>
                  <a:pt x="202253" y="466946"/>
                  <a:pt x="180788" y="475532"/>
                </a:cubicBezTo>
                <a:cubicBezTo>
                  <a:pt x="163616" y="492704"/>
                  <a:pt x="142743" y="506842"/>
                  <a:pt x="129272" y="527048"/>
                </a:cubicBezTo>
                <a:cubicBezTo>
                  <a:pt x="116448" y="546283"/>
                  <a:pt x="112903" y="570316"/>
                  <a:pt x="103514" y="591442"/>
                </a:cubicBezTo>
                <a:cubicBezTo>
                  <a:pt x="64591" y="679021"/>
                  <a:pt x="93441" y="609071"/>
                  <a:pt x="51999" y="681594"/>
                </a:cubicBezTo>
                <a:cubicBezTo>
                  <a:pt x="42474" y="698263"/>
                  <a:pt x="34827" y="715938"/>
                  <a:pt x="26241" y="733110"/>
                </a:cubicBezTo>
                <a:cubicBezTo>
                  <a:pt x="30534" y="831848"/>
                  <a:pt x="31540" y="930784"/>
                  <a:pt x="39120" y="1029324"/>
                </a:cubicBezTo>
                <a:cubicBezTo>
                  <a:pt x="40161" y="1042859"/>
                  <a:pt x="48270" y="1054907"/>
                  <a:pt x="51999" y="1067960"/>
                </a:cubicBezTo>
                <a:cubicBezTo>
                  <a:pt x="56862" y="1084979"/>
                  <a:pt x="59792" y="1102522"/>
                  <a:pt x="64878" y="1119476"/>
                </a:cubicBezTo>
                <a:cubicBezTo>
                  <a:pt x="64883" y="1119494"/>
                  <a:pt x="97072" y="1216059"/>
                  <a:pt x="103514" y="1235386"/>
                </a:cubicBezTo>
                <a:cubicBezTo>
                  <a:pt x="107807" y="1248265"/>
                  <a:pt x="108863" y="1262727"/>
                  <a:pt x="116393" y="1274022"/>
                </a:cubicBezTo>
                <a:lnTo>
                  <a:pt x="142151" y="1312659"/>
                </a:lnTo>
                <a:cubicBezTo>
                  <a:pt x="146444" y="1329831"/>
                  <a:pt x="146248" y="1348807"/>
                  <a:pt x="155030" y="1364175"/>
                </a:cubicBezTo>
                <a:cubicBezTo>
                  <a:pt x="164066" y="1379989"/>
                  <a:pt x="182006" y="1388819"/>
                  <a:pt x="193666" y="1402811"/>
                </a:cubicBezTo>
                <a:cubicBezTo>
                  <a:pt x="203575" y="1414702"/>
                  <a:pt x="210838" y="1428569"/>
                  <a:pt x="219424" y="1441448"/>
                </a:cubicBezTo>
                <a:cubicBezTo>
                  <a:pt x="254080" y="1580071"/>
                  <a:pt x="197779" y="1385277"/>
                  <a:pt x="283819" y="1557358"/>
                </a:cubicBezTo>
                <a:cubicBezTo>
                  <a:pt x="293608" y="1576937"/>
                  <a:pt x="288839" y="1601321"/>
                  <a:pt x="296697" y="1621752"/>
                </a:cubicBezTo>
                <a:cubicBezTo>
                  <a:pt x="310481" y="1657590"/>
                  <a:pt x="336071" y="1688356"/>
                  <a:pt x="348213" y="1724783"/>
                </a:cubicBezTo>
                <a:cubicBezTo>
                  <a:pt x="387288" y="1842009"/>
                  <a:pt x="327351" y="1656874"/>
                  <a:pt x="373971" y="1827814"/>
                </a:cubicBezTo>
                <a:cubicBezTo>
                  <a:pt x="381115" y="1854008"/>
                  <a:pt x="399728" y="1905087"/>
                  <a:pt x="399728" y="1905087"/>
                </a:cubicBezTo>
                <a:cubicBezTo>
                  <a:pt x="391142" y="1952310"/>
                  <a:pt x="394084" y="2003176"/>
                  <a:pt x="373971" y="2046755"/>
                </a:cubicBezTo>
                <a:cubicBezTo>
                  <a:pt x="370555" y="2054157"/>
                  <a:pt x="298073" y="2083714"/>
                  <a:pt x="283819" y="2085391"/>
                </a:cubicBezTo>
                <a:cubicBezTo>
                  <a:pt x="223977" y="2092431"/>
                  <a:pt x="163616" y="2093977"/>
                  <a:pt x="103514" y="2098270"/>
                </a:cubicBezTo>
                <a:cubicBezTo>
                  <a:pt x="0" y="2253544"/>
                  <a:pt x="41646" y="2158129"/>
                  <a:pt x="64878" y="2471758"/>
                </a:cubicBezTo>
                <a:cubicBezTo>
                  <a:pt x="66890" y="2498925"/>
                  <a:pt x="83020" y="2535256"/>
                  <a:pt x="90635" y="2561910"/>
                </a:cubicBezTo>
                <a:cubicBezTo>
                  <a:pt x="95497" y="2578929"/>
                  <a:pt x="94732" y="2598057"/>
                  <a:pt x="103514" y="2613425"/>
                </a:cubicBezTo>
                <a:cubicBezTo>
                  <a:pt x="112551" y="2629239"/>
                  <a:pt x="129272" y="2639183"/>
                  <a:pt x="142151" y="2652062"/>
                </a:cubicBezTo>
                <a:cubicBezTo>
                  <a:pt x="176018" y="2787527"/>
                  <a:pt x="125463" y="2622858"/>
                  <a:pt x="193666" y="2742214"/>
                </a:cubicBezTo>
                <a:cubicBezTo>
                  <a:pt x="202448" y="2757582"/>
                  <a:pt x="199572" y="2777460"/>
                  <a:pt x="206545" y="2793729"/>
                </a:cubicBezTo>
                <a:cubicBezTo>
                  <a:pt x="214409" y="2812077"/>
                  <a:pt x="264343" y="2872886"/>
                  <a:pt x="270940" y="2883882"/>
                </a:cubicBezTo>
                <a:cubicBezTo>
                  <a:pt x="336343" y="2992888"/>
                  <a:pt x="271346" y="2938217"/>
                  <a:pt x="373971" y="2999791"/>
                </a:cubicBezTo>
                <a:cubicBezTo>
                  <a:pt x="391143" y="3021256"/>
                  <a:pt x="403495" y="3047693"/>
                  <a:pt x="425486" y="3064186"/>
                </a:cubicBezTo>
                <a:cubicBezTo>
                  <a:pt x="439646" y="3074806"/>
                  <a:pt x="461170" y="3069149"/>
                  <a:pt x="477002" y="3077065"/>
                </a:cubicBezTo>
                <a:cubicBezTo>
                  <a:pt x="504691" y="3090909"/>
                  <a:pt x="529839" y="3109574"/>
                  <a:pt x="554275" y="3128580"/>
                </a:cubicBezTo>
                <a:cubicBezTo>
                  <a:pt x="568652" y="3139762"/>
                  <a:pt x="577546" y="3157439"/>
                  <a:pt x="592912" y="3167217"/>
                </a:cubicBezTo>
                <a:cubicBezTo>
                  <a:pt x="625306" y="3187832"/>
                  <a:pt x="665225" y="3195693"/>
                  <a:pt x="695943" y="3218732"/>
                </a:cubicBezTo>
                <a:cubicBezTo>
                  <a:pt x="713115" y="3231611"/>
                  <a:pt x="732280" y="3242191"/>
                  <a:pt x="747458" y="3257369"/>
                </a:cubicBezTo>
                <a:cubicBezTo>
                  <a:pt x="762636" y="3272547"/>
                  <a:pt x="769605" y="3295143"/>
                  <a:pt x="786095" y="3308884"/>
                </a:cubicBezTo>
                <a:cubicBezTo>
                  <a:pt x="796524" y="3317575"/>
                  <a:pt x="812589" y="3315692"/>
                  <a:pt x="824731" y="3321763"/>
                </a:cubicBezTo>
                <a:cubicBezTo>
                  <a:pt x="838575" y="3328685"/>
                  <a:pt x="850489" y="3338935"/>
                  <a:pt x="863368" y="3347521"/>
                </a:cubicBezTo>
                <a:cubicBezTo>
                  <a:pt x="867661" y="3360400"/>
                  <a:pt x="868102" y="3375297"/>
                  <a:pt x="876247" y="3386158"/>
                </a:cubicBezTo>
                <a:cubicBezTo>
                  <a:pt x="935736" y="3465477"/>
                  <a:pt x="925178" y="3436123"/>
                  <a:pt x="992157" y="3476310"/>
                </a:cubicBezTo>
                <a:cubicBezTo>
                  <a:pt x="1018702" y="3492237"/>
                  <a:pt x="1047541" y="3505935"/>
                  <a:pt x="1069430" y="3527825"/>
                </a:cubicBezTo>
                <a:cubicBezTo>
                  <a:pt x="1082309" y="3540704"/>
                  <a:pt x="1092912" y="3556359"/>
                  <a:pt x="1108066" y="3566462"/>
                </a:cubicBezTo>
                <a:cubicBezTo>
                  <a:pt x="1119362" y="3573992"/>
                  <a:pt x="1135062" y="3572356"/>
                  <a:pt x="1146703" y="3579341"/>
                </a:cubicBezTo>
                <a:cubicBezTo>
                  <a:pt x="1199794" y="3611195"/>
                  <a:pt x="1249734" y="3648028"/>
                  <a:pt x="1301250" y="3682372"/>
                </a:cubicBezTo>
                <a:cubicBezTo>
                  <a:pt x="1314129" y="3690958"/>
                  <a:pt x="1327503" y="3698842"/>
                  <a:pt x="1339886" y="3708129"/>
                </a:cubicBezTo>
                <a:cubicBezTo>
                  <a:pt x="1357058" y="3721008"/>
                  <a:pt x="1372765" y="3736116"/>
                  <a:pt x="1391402" y="3746766"/>
                </a:cubicBezTo>
                <a:cubicBezTo>
                  <a:pt x="1403189" y="3753501"/>
                  <a:pt x="1417159" y="3755352"/>
                  <a:pt x="1430038" y="3759645"/>
                </a:cubicBezTo>
                <a:cubicBezTo>
                  <a:pt x="1438624" y="3772524"/>
                  <a:pt x="1443115" y="3789406"/>
                  <a:pt x="1455796" y="3798282"/>
                </a:cubicBezTo>
                <a:cubicBezTo>
                  <a:pt x="1487252" y="3820301"/>
                  <a:pt x="1558827" y="3849797"/>
                  <a:pt x="1558827" y="3849797"/>
                </a:cubicBezTo>
                <a:cubicBezTo>
                  <a:pt x="1575999" y="3875555"/>
                  <a:pt x="1588453" y="3905180"/>
                  <a:pt x="1610343" y="3927070"/>
                </a:cubicBezTo>
                <a:cubicBezTo>
                  <a:pt x="1619942" y="3936669"/>
                  <a:pt x="1636837" y="3933878"/>
                  <a:pt x="1648979" y="3939949"/>
                </a:cubicBezTo>
                <a:cubicBezTo>
                  <a:pt x="1662823" y="3946871"/>
                  <a:pt x="1674177" y="3958027"/>
                  <a:pt x="1687616" y="3965707"/>
                </a:cubicBezTo>
                <a:cubicBezTo>
                  <a:pt x="1704285" y="3975232"/>
                  <a:pt x="1722462" y="3981940"/>
                  <a:pt x="1739131" y="3991465"/>
                </a:cubicBezTo>
                <a:cubicBezTo>
                  <a:pt x="1797876" y="4025033"/>
                  <a:pt x="1762094" y="4018960"/>
                  <a:pt x="1842162" y="4042980"/>
                </a:cubicBezTo>
                <a:cubicBezTo>
                  <a:pt x="1925056" y="4067848"/>
                  <a:pt x="2087602" y="4065917"/>
                  <a:pt x="2138376" y="4068738"/>
                </a:cubicBezTo>
                <a:cubicBezTo>
                  <a:pt x="2340145" y="4055859"/>
                  <a:pt x="2542507" y="4050219"/>
                  <a:pt x="2743683" y="4030101"/>
                </a:cubicBezTo>
                <a:cubicBezTo>
                  <a:pt x="2759085" y="4028561"/>
                  <a:pt x="2769047" y="4012308"/>
                  <a:pt x="2782320" y="4004344"/>
                </a:cubicBezTo>
                <a:cubicBezTo>
                  <a:pt x="2811999" y="3986537"/>
                  <a:pt x="2843674" y="3972027"/>
                  <a:pt x="2872472" y="3952828"/>
                </a:cubicBezTo>
                <a:cubicBezTo>
                  <a:pt x="2895343" y="3937580"/>
                  <a:pt x="2914875" y="3917806"/>
                  <a:pt x="2936866" y="3901313"/>
                </a:cubicBezTo>
                <a:cubicBezTo>
                  <a:pt x="2949249" y="3892026"/>
                  <a:pt x="2962624" y="3884141"/>
                  <a:pt x="2975503" y="3875555"/>
                </a:cubicBezTo>
                <a:cubicBezTo>
                  <a:pt x="3049317" y="3764833"/>
                  <a:pt x="2960823" y="3904917"/>
                  <a:pt x="3014140" y="3798282"/>
                </a:cubicBezTo>
                <a:cubicBezTo>
                  <a:pt x="3051110" y="3724341"/>
                  <a:pt x="3074439" y="3720414"/>
                  <a:pt x="3104292" y="3630856"/>
                </a:cubicBezTo>
                <a:cubicBezTo>
                  <a:pt x="3182128" y="3397351"/>
                  <a:pt x="3088320" y="3689422"/>
                  <a:pt x="3142928" y="3489189"/>
                </a:cubicBezTo>
                <a:cubicBezTo>
                  <a:pt x="3150072" y="3462994"/>
                  <a:pt x="3160884" y="3437921"/>
                  <a:pt x="3168686" y="3411915"/>
                </a:cubicBezTo>
                <a:cubicBezTo>
                  <a:pt x="3173772" y="3394961"/>
                  <a:pt x="3176702" y="3377419"/>
                  <a:pt x="3181565" y="3360400"/>
                </a:cubicBezTo>
                <a:cubicBezTo>
                  <a:pt x="3185295" y="3347347"/>
                  <a:pt x="3191499" y="3335015"/>
                  <a:pt x="3194444" y="3321763"/>
                </a:cubicBezTo>
                <a:cubicBezTo>
                  <a:pt x="3200109" y="3296272"/>
                  <a:pt x="3203030" y="3270248"/>
                  <a:pt x="3207323" y="3244490"/>
                </a:cubicBezTo>
                <a:cubicBezTo>
                  <a:pt x="3198737" y="3175803"/>
                  <a:pt x="3216248" y="3098334"/>
                  <a:pt x="3181565" y="3038428"/>
                </a:cubicBezTo>
                <a:cubicBezTo>
                  <a:pt x="3161159" y="3003182"/>
                  <a:pt x="3103249" y="3015455"/>
                  <a:pt x="3065655" y="2999791"/>
                </a:cubicBezTo>
                <a:cubicBezTo>
                  <a:pt x="3051367" y="2993838"/>
                  <a:pt x="3040863" y="2980956"/>
                  <a:pt x="3027019" y="2974034"/>
                </a:cubicBezTo>
                <a:cubicBezTo>
                  <a:pt x="3006341" y="2963695"/>
                  <a:pt x="2984271" y="2956394"/>
                  <a:pt x="2962624" y="2948276"/>
                </a:cubicBezTo>
                <a:cubicBezTo>
                  <a:pt x="2949913" y="2943509"/>
                  <a:pt x="2935855" y="2941990"/>
                  <a:pt x="2923988" y="2935397"/>
                </a:cubicBezTo>
                <a:cubicBezTo>
                  <a:pt x="2896927" y="2920363"/>
                  <a:pt x="2868604" y="2905772"/>
                  <a:pt x="2846714" y="2883882"/>
                </a:cubicBezTo>
                <a:cubicBezTo>
                  <a:pt x="2820956" y="2858124"/>
                  <a:pt x="2800331" y="2825914"/>
                  <a:pt x="2769441" y="2806608"/>
                </a:cubicBezTo>
                <a:cubicBezTo>
                  <a:pt x="2735097" y="2785143"/>
                  <a:pt x="2699164" y="2766035"/>
                  <a:pt x="2666410" y="2742214"/>
                </a:cubicBezTo>
                <a:cubicBezTo>
                  <a:pt x="2651680" y="2731501"/>
                  <a:pt x="2641765" y="2715237"/>
                  <a:pt x="2627773" y="2703577"/>
                </a:cubicBezTo>
                <a:cubicBezTo>
                  <a:pt x="2615882" y="2693668"/>
                  <a:pt x="2602016" y="2686406"/>
                  <a:pt x="2589137" y="2677820"/>
                </a:cubicBezTo>
                <a:lnTo>
                  <a:pt x="2537621" y="2600546"/>
                </a:lnTo>
                <a:cubicBezTo>
                  <a:pt x="2529035" y="2587667"/>
                  <a:pt x="2516759" y="2576594"/>
                  <a:pt x="2511864" y="2561910"/>
                </a:cubicBezTo>
                <a:cubicBezTo>
                  <a:pt x="2503278" y="2536152"/>
                  <a:pt x="2499107" y="2508473"/>
                  <a:pt x="2486106" y="2484637"/>
                </a:cubicBezTo>
                <a:cubicBezTo>
                  <a:pt x="2426756" y="2375830"/>
                  <a:pt x="2443978" y="2465376"/>
                  <a:pt x="2408833" y="2368727"/>
                </a:cubicBezTo>
                <a:cubicBezTo>
                  <a:pt x="2398152" y="2339355"/>
                  <a:pt x="2393477" y="2308046"/>
                  <a:pt x="2383075" y="2278575"/>
                </a:cubicBezTo>
                <a:cubicBezTo>
                  <a:pt x="2367686" y="2234974"/>
                  <a:pt x="2331559" y="2149786"/>
                  <a:pt x="2331559" y="2149786"/>
                </a:cubicBezTo>
                <a:cubicBezTo>
                  <a:pt x="2335852" y="2102563"/>
                  <a:pt x="2338171" y="2055119"/>
                  <a:pt x="2344438" y="2008118"/>
                </a:cubicBezTo>
                <a:cubicBezTo>
                  <a:pt x="2346777" y="1990573"/>
                  <a:pt x="2347499" y="1971330"/>
                  <a:pt x="2357317" y="1956603"/>
                </a:cubicBezTo>
                <a:cubicBezTo>
                  <a:pt x="2365903" y="1943724"/>
                  <a:pt x="2383075" y="1939431"/>
                  <a:pt x="2395954" y="1930845"/>
                </a:cubicBezTo>
                <a:cubicBezTo>
                  <a:pt x="2526411" y="1669929"/>
                  <a:pt x="2357161" y="2042253"/>
                  <a:pt x="2460348" y="1608873"/>
                </a:cubicBezTo>
                <a:cubicBezTo>
                  <a:pt x="2465973" y="1585249"/>
                  <a:pt x="2487862" y="1561051"/>
                  <a:pt x="2511864" y="1557358"/>
                </a:cubicBezTo>
                <a:cubicBezTo>
                  <a:pt x="2660612" y="1534474"/>
                  <a:pt x="2812371" y="1540186"/>
                  <a:pt x="2962624" y="1531600"/>
                </a:cubicBezTo>
                <a:cubicBezTo>
                  <a:pt x="3055051" y="1469981"/>
                  <a:pt x="3018007" y="1501974"/>
                  <a:pt x="3078534" y="1441448"/>
                </a:cubicBezTo>
                <a:cubicBezTo>
                  <a:pt x="3156374" y="1285768"/>
                  <a:pt x="3051910" y="1473397"/>
                  <a:pt x="3142928" y="1364175"/>
                </a:cubicBezTo>
                <a:cubicBezTo>
                  <a:pt x="3155219" y="1349426"/>
                  <a:pt x="3156192" y="1327236"/>
                  <a:pt x="3168686" y="1312659"/>
                </a:cubicBezTo>
                <a:cubicBezTo>
                  <a:pt x="3182655" y="1296362"/>
                  <a:pt x="3204319" y="1288461"/>
                  <a:pt x="3220202" y="1274022"/>
                </a:cubicBezTo>
                <a:cubicBezTo>
                  <a:pt x="3335704" y="1169020"/>
                  <a:pt x="3265006" y="1198987"/>
                  <a:pt x="3348990" y="1170991"/>
                </a:cubicBezTo>
                <a:cubicBezTo>
                  <a:pt x="3384506" y="1135476"/>
                  <a:pt x="3384426" y="1130505"/>
                  <a:pt x="3426264" y="1106597"/>
                </a:cubicBezTo>
                <a:cubicBezTo>
                  <a:pt x="3442933" y="1097072"/>
                  <a:pt x="3462420" y="1092358"/>
                  <a:pt x="3477779" y="1080839"/>
                </a:cubicBezTo>
                <a:cubicBezTo>
                  <a:pt x="3497207" y="1066268"/>
                  <a:pt x="3509534" y="1043439"/>
                  <a:pt x="3529295" y="1029324"/>
                </a:cubicBezTo>
                <a:cubicBezTo>
                  <a:pt x="3540342" y="1021434"/>
                  <a:pt x="3556064" y="1023038"/>
                  <a:pt x="3567931" y="1016445"/>
                </a:cubicBezTo>
                <a:cubicBezTo>
                  <a:pt x="3594992" y="1001411"/>
                  <a:pt x="3645204" y="964929"/>
                  <a:pt x="3645204" y="964929"/>
                </a:cubicBezTo>
                <a:cubicBezTo>
                  <a:pt x="3649497" y="947757"/>
                  <a:pt x="3646752" y="927012"/>
                  <a:pt x="3658083" y="913414"/>
                </a:cubicBezTo>
                <a:cubicBezTo>
                  <a:pt x="3670374" y="898665"/>
                  <a:pt x="3693136" y="897534"/>
                  <a:pt x="3709599" y="887656"/>
                </a:cubicBezTo>
                <a:cubicBezTo>
                  <a:pt x="3736144" y="871729"/>
                  <a:pt x="3762436" y="855147"/>
                  <a:pt x="3786872" y="836141"/>
                </a:cubicBezTo>
                <a:cubicBezTo>
                  <a:pt x="3801249" y="824959"/>
                  <a:pt x="3809695" y="806541"/>
                  <a:pt x="3825509" y="797504"/>
                </a:cubicBezTo>
                <a:cubicBezTo>
                  <a:pt x="3840877" y="788722"/>
                  <a:pt x="3859852" y="788918"/>
                  <a:pt x="3877024" y="784625"/>
                </a:cubicBezTo>
                <a:cubicBezTo>
                  <a:pt x="3909397" y="687510"/>
                  <a:pt x="3865727" y="807219"/>
                  <a:pt x="3915661" y="707352"/>
                </a:cubicBezTo>
                <a:cubicBezTo>
                  <a:pt x="3921732" y="695210"/>
                  <a:pt x="3923192" y="681193"/>
                  <a:pt x="3928540" y="668715"/>
                </a:cubicBezTo>
                <a:cubicBezTo>
                  <a:pt x="3936103" y="651069"/>
                  <a:pt x="3945711" y="634372"/>
                  <a:pt x="3954297" y="617200"/>
                </a:cubicBezTo>
                <a:cubicBezTo>
                  <a:pt x="3945711" y="582856"/>
                  <a:pt x="3946753" y="544525"/>
                  <a:pt x="3928540" y="514169"/>
                </a:cubicBezTo>
                <a:cubicBezTo>
                  <a:pt x="3918662" y="497706"/>
                  <a:pt x="3893487" y="498289"/>
                  <a:pt x="3877024" y="488411"/>
                </a:cubicBezTo>
                <a:cubicBezTo>
                  <a:pt x="3850479" y="472484"/>
                  <a:pt x="3825509" y="454068"/>
                  <a:pt x="3799751" y="436896"/>
                </a:cubicBezTo>
                <a:cubicBezTo>
                  <a:pt x="3657281" y="341916"/>
                  <a:pt x="3776561" y="412203"/>
                  <a:pt x="3387627" y="385380"/>
                </a:cubicBezTo>
                <a:cubicBezTo>
                  <a:pt x="3353283" y="368208"/>
                  <a:pt x="3296738" y="370292"/>
                  <a:pt x="3284596" y="333865"/>
                </a:cubicBezTo>
                <a:cubicBezTo>
                  <a:pt x="3265646" y="277015"/>
                  <a:pt x="3283859" y="301299"/>
                  <a:pt x="3220202" y="269470"/>
                </a:cubicBezTo>
                <a:cubicBezTo>
                  <a:pt x="3168415" y="140005"/>
                  <a:pt x="3230816" y="254651"/>
                  <a:pt x="3142928" y="179318"/>
                </a:cubicBezTo>
                <a:cubicBezTo>
                  <a:pt x="2975193" y="35546"/>
                  <a:pt x="3208551" y="197309"/>
                  <a:pt x="3065655" y="102045"/>
                </a:cubicBezTo>
                <a:cubicBezTo>
                  <a:pt x="3057069" y="84873"/>
                  <a:pt x="3052188" y="65278"/>
                  <a:pt x="3039897" y="50529"/>
                </a:cubicBezTo>
                <a:cubicBezTo>
                  <a:pt x="2997790" y="0"/>
                  <a:pt x="2944124" y="31121"/>
                  <a:pt x="2885351" y="37651"/>
                </a:cubicBezTo>
                <a:cubicBezTo>
                  <a:pt x="2872472" y="46237"/>
                  <a:pt x="2860558" y="56486"/>
                  <a:pt x="2846714" y="63408"/>
                </a:cubicBezTo>
                <a:cubicBezTo>
                  <a:pt x="2834572" y="69479"/>
                  <a:pt x="2820556" y="70939"/>
                  <a:pt x="2808078" y="76287"/>
                </a:cubicBezTo>
                <a:cubicBezTo>
                  <a:pt x="2790431" y="83850"/>
                  <a:pt x="2773231" y="92520"/>
                  <a:pt x="2756562" y="102045"/>
                </a:cubicBezTo>
                <a:cubicBezTo>
                  <a:pt x="2743123" y="109724"/>
                  <a:pt x="2731365" y="120124"/>
                  <a:pt x="2717926" y="127803"/>
                </a:cubicBezTo>
                <a:cubicBezTo>
                  <a:pt x="2673369" y="153264"/>
                  <a:pt x="2671116" y="151991"/>
                  <a:pt x="2627773" y="166439"/>
                </a:cubicBezTo>
                <a:cubicBezTo>
                  <a:pt x="2470692" y="271161"/>
                  <a:pt x="2617776" y="177718"/>
                  <a:pt x="2498985" y="243713"/>
                </a:cubicBezTo>
                <a:cubicBezTo>
                  <a:pt x="2477103" y="255870"/>
                  <a:pt x="2455817" y="269082"/>
                  <a:pt x="2434590" y="282349"/>
                </a:cubicBezTo>
                <a:cubicBezTo>
                  <a:pt x="2421464" y="290552"/>
                  <a:pt x="2410181" y="302010"/>
                  <a:pt x="2395954" y="308107"/>
                </a:cubicBezTo>
                <a:cubicBezTo>
                  <a:pt x="2379685" y="315080"/>
                  <a:pt x="2361610" y="316693"/>
                  <a:pt x="2344438" y="320986"/>
                </a:cubicBezTo>
                <a:cubicBezTo>
                  <a:pt x="2327266" y="329572"/>
                  <a:pt x="2310569" y="339181"/>
                  <a:pt x="2292923" y="346744"/>
                </a:cubicBezTo>
                <a:cubicBezTo>
                  <a:pt x="2213119" y="380945"/>
                  <a:pt x="2298889" y="331981"/>
                  <a:pt x="2202771" y="385380"/>
                </a:cubicBezTo>
                <a:cubicBezTo>
                  <a:pt x="2180889" y="397537"/>
                  <a:pt x="2161384" y="414156"/>
                  <a:pt x="2138376" y="424017"/>
                </a:cubicBezTo>
                <a:cubicBezTo>
                  <a:pt x="2095121" y="442555"/>
                  <a:pt x="2023102" y="463943"/>
                  <a:pt x="1970951" y="475532"/>
                </a:cubicBezTo>
                <a:cubicBezTo>
                  <a:pt x="1949583" y="480281"/>
                  <a:pt x="1927793" y="483102"/>
                  <a:pt x="1906557" y="488411"/>
                </a:cubicBezTo>
                <a:cubicBezTo>
                  <a:pt x="1829867" y="507584"/>
                  <a:pt x="1894693" y="511465"/>
                  <a:pt x="1764889" y="514169"/>
                </a:cubicBezTo>
                <a:cubicBezTo>
                  <a:pt x="1593208" y="517746"/>
                  <a:pt x="1421452" y="514169"/>
                  <a:pt x="1249734" y="514169"/>
                </a:cubicBezTo>
              </a:path>
            </a:pathLst>
          </a:custGeom>
          <a:noFill/>
          <a:ln w="76200">
            <a:solidFill>
              <a:srgbClr val="ff0000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Таблица 1"/>
          <p:cNvGraphicFramePr/>
          <p:nvPr/>
        </p:nvGraphicFramePr>
        <p:xfrm>
          <a:off x="323640" y="1268640"/>
          <a:ext cx="8568720" cy="5382000"/>
        </p:xfrm>
        <a:graphic>
          <a:graphicData uri="http://schemas.openxmlformats.org/drawingml/2006/table">
            <a:tbl>
              <a:tblPr/>
              <a:tblGrid>
                <a:gridCol w="2856240"/>
                <a:gridCol w="2856240"/>
                <a:gridCol w="2856240"/>
              </a:tblGrid>
              <a:tr h="198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Государ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Годовой расход на сухопутные войс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На душу насе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1045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Австро-Венгр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169 469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3,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</a:tr>
              <a:tr h="57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Англ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229 515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5,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</a:tr>
              <a:tr h="57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Герм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290 955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5,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</a:tr>
              <a:tr h="57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284 379 9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2,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</a:tr>
              <a:tr h="573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Фран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236 515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ln>
                            <a:solidFill>
                              <a:srgbClr val="ffffff"/>
                            </a:solidFill>
                          </a:ln>
                          <a:solidFill>
                            <a:srgbClr val="ffffff"/>
                          </a:solidFill>
                          <a:latin typeface="Bookman Old Style"/>
                        </a:rPr>
                        <a:t>5,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>
                        <a:lumMod val="5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56" name="Прямоугольник 2"/>
          <p:cNvSpPr/>
          <p:nvPr/>
        </p:nvSpPr>
        <p:spPr>
          <a:xfrm>
            <a:off x="755640" y="260640"/>
            <a:ext cx="7704360" cy="82116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Сравнительная таблица военных расходов на 1897 год. В рубл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"/>
          <p:cNvSpPr/>
          <p:nvPr/>
        </p:nvSpPr>
        <p:spPr>
          <a:xfrm>
            <a:off x="755640" y="332640"/>
            <a:ext cx="7776360" cy="1308600"/>
          </a:xfrm>
          <a:prstGeom prst="rect">
            <a:avLst/>
          </a:prstGeom>
          <a:solidFill>
            <a:schemeClr val="tx2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chemeClr val="lt1"/>
                </a:solidFill>
                <a:latin typeface="Bookman Old Style"/>
              </a:rPr>
              <a:t>«Золотой век» просвещения и величия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251640" y="1917000"/>
            <a:ext cx="8640720" cy="942840"/>
          </a:xfrm>
          <a:prstGeom prst="rect">
            <a:avLst/>
          </a:prstGeom>
          <a:noFill/>
          <a:ln w="38100">
            <a:solidFill>
              <a:srgbClr val="1f497d">
                <a:lumMod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Ведущая роль в культуре принадлежит дворянской и разночинной интеллиген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323640" y="3645000"/>
            <a:ext cx="6120360" cy="821160"/>
          </a:xfrm>
          <a:prstGeom prst="rect">
            <a:avLst/>
          </a:prstGeom>
          <a:solidFill>
            <a:schemeClr val="bg2">
              <a:lumMod val="90000"/>
            </a:schemeClr>
          </a:solidFill>
          <a:ln w="0">
            <a:noFill/>
          </a:ln>
          <a:effectLst>
            <a:softEdge rad="6336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 cap="all">
                <a:solidFill>
                  <a:srgbClr val="4d78bb"/>
                </a:solidFill>
                <a:latin typeface="Bookman Old Style"/>
              </a:rPr>
              <a:t>ЛИТЕРАТУРА</a:t>
            </a:r>
            <a:r>
              <a:rPr b="1" lang="ru-RU" sz="2400" spc="-1" strike="noStrike" cap="all">
                <a:solidFill>
                  <a:srgbClr val="4d78bb"/>
                </a:solidFill>
                <a:latin typeface="Bookman Old Style"/>
              </a:rPr>
              <a:t> – «Ослепительные свети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1043640" y="4653000"/>
            <a:ext cx="7632360" cy="1979280"/>
          </a:xfrm>
          <a:prstGeom prst="rect">
            <a:avLst/>
          </a:prstGeom>
          <a:solidFill>
            <a:schemeClr val="bg2">
              <a:lumMod val="90000"/>
            </a:schemeClr>
          </a:solidFill>
          <a:ln w="0">
            <a:noFill/>
          </a:ln>
          <a:effectLst>
            <a:softEdge rad="1270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 cap="all">
                <a:solidFill>
                  <a:srgbClr val="4d78bb"/>
                </a:solidFill>
                <a:latin typeface="Bookman Old Style"/>
              </a:rPr>
              <a:t>МУЗЫКА</a:t>
            </a:r>
            <a:r>
              <a:rPr b="1" lang="ru-RU" sz="2800" spc="-1" strike="noStrike" cap="all">
                <a:solidFill>
                  <a:srgbClr val="4d78bb"/>
                </a:solidFill>
                <a:latin typeface="Bookman Old Style"/>
              </a:rPr>
              <a:t>-</a:t>
            </a:r>
            <a:r>
              <a:rPr b="1" lang="ru-RU" sz="2400" spc="-1" strike="noStrike" cap="all">
                <a:solidFill>
                  <a:srgbClr val="4d78bb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 cap="all">
                <a:solidFill>
                  <a:srgbClr val="4d78bb"/>
                </a:solidFill>
                <a:latin typeface="Bookman Old Style"/>
              </a:rPr>
              <a:t>«отход от социальной проблематики и возрастание интереса к внутреннему миру человека, к философско-этическим проблема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C:\Program Files\QIP\Users\453621037\RcvdFiles\402453795_`Nik@\cd3a5f2992a5.jpg"/>
          <p:cNvPicPr/>
          <p:nvPr/>
        </p:nvPicPr>
        <p:blipFill>
          <a:blip r:embed="rId1"/>
          <a:stretch/>
        </p:blipFill>
        <p:spPr>
          <a:xfrm>
            <a:off x="214200" y="285840"/>
            <a:ext cx="8726400" cy="607176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C:\Program Files\QIP\Users\453621037\RcvdFiles\402453795_`Nik@\8365461255623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C:\Program Files\QIP\Users\453621037\RcvdFiles\402453795_`Nik@\imgB.asp.jpg"/>
          <p:cNvPicPr/>
          <p:nvPr/>
        </p:nvPicPr>
        <p:blipFill>
          <a:blip r:embed="rId1"/>
          <a:stretch/>
        </p:blipFill>
        <p:spPr>
          <a:xfrm>
            <a:off x="214200" y="214200"/>
            <a:ext cx="4714560" cy="358956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pic>
        <p:nvPicPr>
          <p:cNvPr id="166" name="Picture 4" descr="C:\Program Files\QIP\Users\453621037\RcvdFiles\402453795_`Nik@\746.jpg"/>
          <p:cNvPicPr/>
          <p:nvPr/>
        </p:nvPicPr>
        <p:blipFill>
          <a:blip r:embed="rId2"/>
          <a:stretch/>
        </p:blipFill>
        <p:spPr>
          <a:xfrm>
            <a:off x="5214960" y="142920"/>
            <a:ext cx="3638160" cy="378576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pic>
        <p:nvPicPr>
          <p:cNvPr id="167" name="Picture 5" descr="C:\Program Files\QIP\Users\453621037\RcvdFiles\402453795_`Nik@\bea24a8aebf5f779687f41e6d9675d4d.jpg"/>
          <p:cNvPicPr/>
          <p:nvPr/>
        </p:nvPicPr>
        <p:blipFill>
          <a:blip r:embed="rId3"/>
          <a:stretch/>
        </p:blipFill>
        <p:spPr>
          <a:xfrm>
            <a:off x="857160" y="4000680"/>
            <a:ext cx="3428640" cy="267372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pic>
        <p:nvPicPr>
          <p:cNvPr id="168" name="Picture 6" descr="C:\Program Files\QIP\Users\453621037\RcvdFiles\402453795_`Nik@\ortodox046.jpg"/>
          <p:cNvPicPr/>
          <p:nvPr/>
        </p:nvPicPr>
        <p:blipFill>
          <a:blip r:embed="rId4"/>
          <a:stretch/>
        </p:blipFill>
        <p:spPr>
          <a:xfrm>
            <a:off x="4572000" y="4214880"/>
            <a:ext cx="4262040" cy="241236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3"/>
          <p:cNvSpPr/>
          <p:nvPr/>
        </p:nvSpPr>
        <p:spPr>
          <a:xfrm>
            <a:off x="2162880" y="428760"/>
            <a:ext cx="5013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9f5c"/>
                </a:solidFill>
                <a:latin typeface="Calibri"/>
              </a:rPr>
              <a:t>Досуг и обыча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C:\Program Files\QIP\Users\453621037\RcvdFiles\402453795_`Nik@\004.jpg"/>
          <p:cNvPicPr/>
          <p:nvPr/>
        </p:nvPicPr>
        <p:blipFill>
          <a:blip r:embed="rId1"/>
          <a:stretch/>
        </p:blipFill>
        <p:spPr>
          <a:xfrm>
            <a:off x="642960" y="1428840"/>
            <a:ext cx="8143560" cy="507600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C:\Program Files\QIP\Users\453621037\RcvdFiles\402453795_`Nik@\27.jpg"/>
          <p:cNvPicPr/>
          <p:nvPr/>
        </p:nvPicPr>
        <p:blipFill>
          <a:blip r:embed="rId1"/>
          <a:stretch/>
        </p:blipFill>
        <p:spPr>
          <a:xfrm>
            <a:off x="428760" y="500040"/>
            <a:ext cx="8286480" cy="5703840"/>
          </a:xfrm>
          <a:prstGeom prst="rect">
            <a:avLst/>
          </a:prstGeom>
          <a:ln w="0">
            <a:noFill/>
          </a:ln>
          <a:effectLst>
            <a:glow rad="22860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Program Files\QIP\Users\453621037\RcvdFiles\402453795_`Nik@\pic1848_1536.jpg"/>
          <p:cNvPicPr/>
          <p:nvPr/>
        </p:nvPicPr>
        <p:blipFill>
          <a:blip r:embed="rId1"/>
          <a:stretch/>
        </p:blipFill>
        <p:spPr>
          <a:xfrm>
            <a:off x="285840" y="357120"/>
            <a:ext cx="4000320" cy="535752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pic>
        <p:nvPicPr>
          <p:cNvPr id="175" name="Picture 5" descr="C:\Program Files\QIP\Users\453621037\RcvdFiles\402453795_`Nik@\53221249_kustodiev05.jpg"/>
          <p:cNvPicPr/>
          <p:nvPr/>
        </p:nvPicPr>
        <p:blipFill>
          <a:blip r:embed="rId2"/>
          <a:stretch/>
        </p:blipFill>
        <p:spPr>
          <a:xfrm>
            <a:off x="4500720" y="1071720"/>
            <a:ext cx="4447800" cy="428580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Блок-схема: альтернативный процесс 1"/>
          <p:cNvSpPr/>
          <p:nvPr/>
        </p:nvSpPr>
        <p:spPr>
          <a:xfrm>
            <a:off x="357120" y="620640"/>
            <a:ext cx="3500280" cy="1428480"/>
          </a:xfrm>
          <a:prstGeom prst="flowChartAlternateProcess">
            <a:avLst/>
          </a:prstGeom>
          <a:solidFill>
            <a:schemeClr val="tx2">
              <a:lumMod val="75000"/>
            </a:schemeClr>
          </a:solidFill>
          <a:ln w="76200">
            <a:solidFill>
              <a:srgbClr val="ffffff"/>
            </a:solidFill>
            <a:prstDash val="sysDot"/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ИМПЕРА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Овал 2"/>
          <p:cNvSpPr/>
          <p:nvPr/>
        </p:nvSpPr>
        <p:spPr>
          <a:xfrm>
            <a:off x="4788000" y="2349000"/>
            <a:ext cx="3024000" cy="1356480"/>
          </a:xfrm>
          <a:prstGeom prst="ellipse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Сен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3"/>
          <p:cNvSpPr/>
          <p:nvPr/>
        </p:nvSpPr>
        <p:spPr>
          <a:xfrm>
            <a:off x="179640" y="4941000"/>
            <a:ext cx="3960000" cy="1356480"/>
          </a:xfrm>
          <a:prstGeom prst="ellipse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Комитет министерств (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4"/>
          <p:cNvSpPr/>
          <p:nvPr/>
        </p:nvSpPr>
        <p:spPr>
          <a:xfrm>
            <a:off x="3276000" y="3933000"/>
            <a:ext cx="3024000" cy="1356480"/>
          </a:xfrm>
          <a:prstGeom prst="ellipse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Син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5"/>
          <p:cNvSpPr/>
          <p:nvPr/>
        </p:nvSpPr>
        <p:spPr>
          <a:xfrm>
            <a:off x="4751640" y="260640"/>
            <a:ext cx="4392000" cy="1644480"/>
          </a:xfrm>
          <a:prstGeom prst="ellipse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Государствен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со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Выгнутая вправо стрелка 7"/>
          <p:cNvSpPr/>
          <p:nvPr/>
        </p:nvSpPr>
        <p:spPr>
          <a:xfrm rot="18774000">
            <a:off x="4703040" y="1620360"/>
            <a:ext cx="723240" cy="126288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tx2">
              <a:lumMod val="75000"/>
            </a:schemeClr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Выгнутая вправо стрелка 8"/>
          <p:cNvSpPr/>
          <p:nvPr/>
        </p:nvSpPr>
        <p:spPr>
          <a:xfrm rot="19629600">
            <a:off x="3817800" y="2633400"/>
            <a:ext cx="744120" cy="155484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tx2">
              <a:lumMod val="75000"/>
            </a:schemeClr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Выгнутая вправо стрелка 9"/>
          <p:cNvSpPr/>
          <p:nvPr/>
        </p:nvSpPr>
        <p:spPr>
          <a:xfrm rot="20356200">
            <a:off x="2080440" y="3162240"/>
            <a:ext cx="883440" cy="195300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tx2">
              <a:lumMod val="75000"/>
            </a:schemeClr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Выгнутая вправо стрелка 10"/>
          <p:cNvSpPr/>
          <p:nvPr/>
        </p:nvSpPr>
        <p:spPr>
          <a:xfrm rot="17813400">
            <a:off x="4433040" y="381240"/>
            <a:ext cx="723240" cy="126288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tx2">
              <a:lumMod val="75000"/>
            </a:schemeClr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Program Files\QIP\Users\453621037\RcvdFiles\402453795_`Nik@\surikov01.jpg"/>
          <p:cNvPicPr/>
          <p:nvPr/>
        </p:nvPicPr>
        <p:blipFill>
          <a:blip r:embed="rId1"/>
          <a:stretch/>
        </p:blipFill>
        <p:spPr>
          <a:xfrm>
            <a:off x="500040" y="642960"/>
            <a:ext cx="8168400" cy="521460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Documents and Settings\Zloi_Z\Рабочий стол\купала.jpg"/>
          <p:cNvPicPr/>
          <p:nvPr/>
        </p:nvPicPr>
        <p:blipFill>
          <a:blip r:embed="rId1"/>
          <a:srcRect l="0" t="0" r="0" b="8851"/>
          <a:stretch/>
        </p:blipFill>
        <p:spPr>
          <a:xfrm>
            <a:off x="428760" y="1143000"/>
            <a:ext cx="8244360" cy="514368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sp>
        <p:nvSpPr>
          <p:cNvPr id="178" name="Прямоугольник 4"/>
          <p:cNvSpPr/>
          <p:nvPr/>
        </p:nvSpPr>
        <p:spPr>
          <a:xfrm>
            <a:off x="2328840" y="0"/>
            <a:ext cx="4113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9f5c"/>
                </a:solidFill>
                <a:latin typeface="Calibri"/>
              </a:rPr>
              <a:t>Иван Купал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3"/>
          <p:cNvSpPr/>
          <p:nvPr/>
        </p:nvSpPr>
        <p:spPr>
          <a:xfrm>
            <a:off x="1535040" y="357120"/>
            <a:ext cx="5975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9f5c"/>
                </a:solidFill>
                <a:latin typeface="Calibri"/>
              </a:rPr>
              <a:t>Семейные обряд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C:\Documents and Settings\Zloi_Z\Рабочий стол\семья1.jpg"/>
          <p:cNvPicPr/>
          <p:nvPr/>
        </p:nvPicPr>
        <p:blipFill>
          <a:blip r:embed="rId1"/>
          <a:stretch/>
        </p:blipFill>
        <p:spPr>
          <a:xfrm>
            <a:off x="1000080" y="1285920"/>
            <a:ext cx="7471080" cy="533376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6" descr="C:\Program Files\QIP\Users\453621037\RcvdFiles\402453795_`Nik@\942-2.jpg"/>
          <p:cNvPicPr/>
          <p:nvPr/>
        </p:nvPicPr>
        <p:blipFill>
          <a:blip r:embed="rId1"/>
          <a:stretch/>
        </p:blipFill>
        <p:spPr>
          <a:xfrm>
            <a:off x="428760" y="428760"/>
            <a:ext cx="8235000" cy="592884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Program Files\QIP\Users\453621037\RcvdFiles\402453795_`Nik@\Новая папка\свадебная.jpg"/>
          <p:cNvPicPr/>
          <p:nvPr/>
        </p:nvPicPr>
        <p:blipFill>
          <a:blip r:embed="rId1"/>
          <a:stretch/>
        </p:blipFill>
        <p:spPr>
          <a:xfrm>
            <a:off x="1071360" y="428760"/>
            <a:ext cx="3093840" cy="550044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pic>
        <p:nvPicPr>
          <p:cNvPr id="183" name="Picture 3" descr="C:\Program Files\QIP\Users\453621037\RcvdFiles\402453795_`Nik@\Новая папка\свадебная одежда.gif"/>
          <p:cNvPicPr/>
          <p:nvPr/>
        </p:nvPicPr>
        <p:blipFill>
          <a:blip r:embed="rId2"/>
          <a:stretch/>
        </p:blipFill>
        <p:spPr>
          <a:xfrm>
            <a:off x="5286240" y="500040"/>
            <a:ext cx="2747880" cy="542880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sp>
        <p:nvSpPr>
          <p:cNvPr id="184" name="TextBox 5"/>
          <p:cNvSpPr/>
          <p:nvPr/>
        </p:nvSpPr>
        <p:spPr>
          <a:xfrm>
            <a:off x="2571840" y="6072120"/>
            <a:ext cx="3785760" cy="1064520"/>
          </a:xfrm>
          <a:prstGeom prst="rect">
            <a:avLst/>
          </a:prstGeom>
          <a:solidFill>
            <a:schemeClr val="tx2">
              <a:lumMod val="50000"/>
            </a:schemeClr>
          </a:solidFill>
          <a:ln w="9525">
            <a:solidFill>
              <a:srgbClr val="8064a2">
                <a:lumMod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Свадебная одеж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Zloi_Z\Рабочий стол\attach.asp.jpeg"/>
          <p:cNvPicPr/>
          <p:nvPr/>
        </p:nvPicPr>
        <p:blipFill>
          <a:blip r:embed="rId1"/>
          <a:stretch/>
        </p:blipFill>
        <p:spPr>
          <a:xfrm>
            <a:off x="642960" y="357120"/>
            <a:ext cx="4500360" cy="627696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pic>
        <p:nvPicPr>
          <p:cNvPr id="186" name="Picture 3" descr="C:\Program Files\QIP\Users\453621037\RcvdFiles\402453795_`Nik@\Новая папка\dress2.jpg"/>
          <p:cNvPicPr/>
          <p:nvPr/>
        </p:nvPicPr>
        <p:blipFill>
          <a:blip r:embed="rId2"/>
          <a:stretch/>
        </p:blipFill>
        <p:spPr>
          <a:xfrm>
            <a:off x="5857920" y="571320"/>
            <a:ext cx="2499840" cy="571464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Program Files\QIP\Users\453621037\RcvdFiles\402453795_`Nik@\Новая папка\5.jpg"/>
          <p:cNvPicPr/>
          <p:nvPr/>
        </p:nvPicPr>
        <p:blipFill>
          <a:blip r:embed="rId1"/>
          <a:stretch/>
        </p:blipFill>
        <p:spPr>
          <a:xfrm>
            <a:off x="428760" y="571320"/>
            <a:ext cx="4214520" cy="579492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  <p:pic>
        <p:nvPicPr>
          <p:cNvPr id="188" name="Picture 3" descr="C:\Program Files\QIP\Users\453621037\RcvdFiles\402453795_`Nik@\Новая папка\праздничная одежда.jpg"/>
          <p:cNvPicPr/>
          <p:nvPr/>
        </p:nvPicPr>
        <p:blipFill>
          <a:blip r:embed="rId2"/>
          <a:stretch/>
        </p:blipFill>
        <p:spPr>
          <a:xfrm>
            <a:off x="4929120" y="571320"/>
            <a:ext cx="3625920" cy="5786280"/>
          </a:xfrm>
          <a:prstGeom prst="rect">
            <a:avLst/>
          </a:prstGeom>
          <a:ln w="0">
            <a:noFill/>
          </a:ln>
          <a:effectLst>
            <a:glow rad="139680">
              <a:srgbClr val="267de6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Program Files\QIP\Users\453621037\RcvdFiles\402453795_`Nik@\f71ae45ebe7at.jpg"/>
          <p:cNvPicPr/>
          <p:nvPr/>
        </p:nvPicPr>
        <p:blipFill>
          <a:blip r:embed="rId1"/>
          <a:srcRect l="0" t="0" r="0" b="5779"/>
          <a:stretch/>
        </p:blipFill>
        <p:spPr>
          <a:xfrm>
            <a:off x="357120" y="285840"/>
            <a:ext cx="4357440" cy="6141600"/>
          </a:xfrm>
          <a:prstGeom prst="rect">
            <a:avLst/>
          </a:prstGeom>
          <a:ln w="9525">
            <a:noFill/>
          </a:ln>
        </p:spPr>
      </p:pic>
      <p:pic>
        <p:nvPicPr>
          <p:cNvPr id="190" name="Picture 3" descr="C:\Program Files\QIP\Users\453621037\RcvdFiles\402453795_`Nik@\DSC07602.jpg"/>
          <p:cNvPicPr/>
          <p:nvPr/>
        </p:nvPicPr>
        <p:blipFill>
          <a:blip r:embed="rId2"/>
          <a:srcRect l="3192" t="0" r="0" b="4049"/>
          <a:stretch/>
        </p:blipFill>
        <p:spPr>
          <a:xfrm>
            <a:off x="4857840" y="500040"/>
            <a:ext cx="3571560" cy="5581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755640" y="332640"/>
            <a:ext cx="7776360" cy="699120"/>
          </a:xfrm>
          <a:prstGeom prst="rect">
            <a:avLst/>
          </a:prstGeom>
          <a:solidFill>
            <a:schemeClr val="tx2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chemeClr val="lt1"/>
                </a:solidFill>
                <a:latin typeface="Bookman Old Style"/>
              </a:rPr>
              <a:t>Внешняя полит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79640" y="1340640"/>
            <a:ext cx="8496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9fc0ff"/>
                </a:solidFill>
                <a:latin typeface="Bookman Old Style"/>
              </a:rPr>
              <a:t>Ведущее положение в мировой поли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icture 7"/>
          <p:cNvSpPr/>
          <p:nvPr/>
        </p:nvSpPr>
        <p:spPr>
          <a:xfrm>
            <a:off x="5940000" y="2420640"/>
            <a:ext cx="2955960" cy="20743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icture 5"/>
          <p:cNvSpPr/>
          <p:nvPr/>
        </p:nvSpPr>
        <p:spPr>
          <a:xfrm>
            <a:off x="6300000" y="3861000"/>
            <a:ext cx="2485800" cy="22626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icture 2"/>
          <p:cNvSpPr/>
          <p:nvPr/>
        </p:nvSpPr>
        <p:spPr>
          <a:xfrm>
            <a:off x="179640" y="2680560"/>
            <a:ext cx="2952000" cy="20545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icture 4"/>
          <p:cNvSpPr/>
          <p:nvPr/>
        </p:nvSpPr>
        <p:spPr>
          <a:xfrm>
            <a:off x="467280" y="3717000"/>
            <a:ext cx="2757960" cy="23076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icture 2">
            <a:hlinkClick r:id="rId5"/>
          </p:cNvPr>
          <p:cNvSpPr/>
          <p:nvPr/>
        </p:nvSpPr>
        <p:spPr>
          <a:xfrm>
            <a:off x="4212000" y="4581000"/>
            <a:ext cx="3240000" cy="215784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icture 2">
            <a:hlinkClick r:id="rId7"/>
          </p:cNvPr>
          <p:cNvSpPr/>
          <p:nvPr/>
        </p:nvSpPr>
        <p:spPr>
          <a:xfrm>
            <a:off x="3131640" y="5229000"/>
            <a:ext cx="2592000" cy="173124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icture 4">
            <a:hlinkClick r:id="rId9"/>
          </p:cNvPr>
          <p:cNvSpPr/>
          <p:nvPr/>
        </p:nvSpPr>
        <p:spPr>
          <a:xfrm>
            <a:off x="1187640" y="5373000"/>
            <a:ext cx="2448000" cy="16347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Блок-схема: решение 1"/>
          <p:cNvSpPr/>
          <p:nvPr/>
        </p:nvSpPr>
        <p:spPr>
          <a:xfrm>
            <a:off x="4212000" y="260640"/>
            <a:ext cx="449964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lt1"/>
              </a:solidFill>
              <a:latin typeface="Bookman Old Style"/>
            </a:endParaRPr>
          </a:p>
        </p:txBody>
      </p:sp>
      <p:sp>
        <p:nvSpPr>
          <p:cNvPr id="109" name="Блок-схема: решение 3"/>
          <p:cNvSpPr/>
          <p:nvPr/>
        </p:nvSpPr>
        <p:spPr>
          <a:xfrm>
            <a:off x="0" y="2781000"/>
            <a:ext cx="4643640" cy="1583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lt1"/>
              </a:solidFill>
              <a:latin typeface="Bookman Old Style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932000" y="76464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Дворян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755640" y="335700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Крестьян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Блок-схема: альтернативный процесс 11"/>
          <p:cNvSpPr/>
          <p:nvPr/>
        </p:nvSpPr>
        <p:spPr>
          <a:xfrm>
            <a:off x="395640" y="404640"/>
            <a:ext cx="3500280" cy="1428480"/>
          </a:xfrm>
          <a:prstGeom prst="flowChartAlternateProcess">
            <a:avLst/>
          </a:prstGeom>
          <a:solidFill>
            <a:schemeClr val="tx2">
              <a:lumMod val="75000"/>
            </a:schemeClr>
          </a:solidFill>
          <a:ln w="76200">
            <a:solidFill>
              <a:srgbClr val="ffffff"/>
            </a:solidFill>
            <a:prstDash val="sysDot"/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dk1"/>
          </a:lnRef>
          <a:fillRef idx="3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Сосло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Блок-схема: решение 16"/>
          <p:cNvSpPr/>
          <p:nvPr/>
        </p:nvSpPr>
        <p:spPr>
          <a:xfrm>
            <a:off x="4284000" y="2133000"/>
            <a:ext cx="449964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lt1"/>
              </a:solidFill>
              <a:latin typeface="Bookman Old Style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5076000" y="263700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Духовен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Блок-схема: решение 18"/>
          <p:cNvSpPr/>
          <p:nvPr/>
        </p:nvSpPr>
        <p:spPr>
          <a:xfrm>
            <a:off x="4356000" y="3789000"/>
            <a:ext cx="449964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lt1"/>
              </a:solidFill>
              <a:latin typeface="Bookman Old Style"/>
            </a:endParaRPr>
          </a:p>
        </p:txBody>
      </p:sp>
      <p:sp>
        <p:nvSpPr>
          <p:cNvPr id="116" name="TextBox 19"/>
          <p:cNvSpPr/>
          <p:nvPr/>
        </p:nvSpPr>
        <p:spPr>
          <a:xfrm>
            <a:off x="5076000" y="429300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Купе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Блок-схема: решение 20"/>
          <p:cNvSpPr/>
          <p:nvPr/>
        </p:nvSpPr>
        <p:spPr>
          <a:xfrm>
            <a:off x="4356000" y="5346000"/>
            <a:ext cx="449964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lt1"/>
              </a:solidFill>
              <a:latin typeface="Bookman Old Style"/>
            </a:endParaRPr>
          </a:p>
        </p:txBody>
      </p:sp>
      <p:sp>
        <p:nvSpPr>
          <p:cNvPr id="118" name="TextBox 21"/>
          <p:cNvSpPr/>
          <p:nvPr/>
        </p:nvSpPr>
        <p:spPr>
          <a:xfrm>
            <a:off x="5076000" y="580536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Мещан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Блок-схема: решение 22"/>
          <p:cNvSpPr/>
          <p:nvPr/>
        </p:nvSpPr>
        <p:spPr>
          <a:xfrm>
            <a:off x="0" y="5346000"/>
            <a:ext cx="432000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lt1"/>
              </a:solidFill>
              <a:latin typeface="Bookman Old Style"/>
            </a:endParaRPr>
          </a:p>
        </p:txBody>
      </p:sp>
      <p:sp>
        <p:nvSpPr>
          <p:cNvPr id="120" name="TextBox 23"/>
          <p:cNvSpPr/>
          <p:nvPr/>
        </p:nvSpPr>
        <p:spPr>
          <a:xfrm>
            <a:off x="539640" y="580536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Каза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Блок-схема: решение 1"/>
          <p:cNvSpPr/>
          <p:nvPr/>
        </p:nvSpPr>
        <p:spPr>
          <a:xfrm>
            <a:off x="4212000" y="620640"/>
            <a:ext cx="449964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dk1"/>
              </a:solidFill>
              <a:latin typeface="Bookman Old Style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5004000" y="112464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Буржуаз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Блок-схема: решение 3"/>
          <p:cNvSpPr/>
          <p:nvPr/>
        </p:nvSpPr>
        <p:spPr>
          <a:xfrm>
            <a:off x="3132000" y="2493000"/>
            <a:ext cx="449964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dk1"/>
              </a:solidFill>
              <a:latin typeface="Bookman Old Style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3924000" y="299700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Разночин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Блок-схема: решение 5"/>
          <p:cNvSpPr/>
          <p:nvPr/>
        </p:nvSpPr>
        <p:spPr>
          <a:xfrm>
            <a:off x="1331640" y="4221000"/>
            <a:ext cx="4499640" cy="151164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dk1"/>
              </a:solidFill>
              <a:latin typeface="Bookman Old Style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2123640" y="4725000"/>
            <a:ext cx="3384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Пролета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Блок-схема: решение 7"/>
          <p:cNvSpPr/>
          <p:nvPr/>
        </p:nvSpPr>
        <p:spPr>
          <a:xfrm>
            <a:off x="4428000" y="5157360"/>
            <a:ext cx="4715640" cy="1700280"/>
          </a:xfrm>
          <a:prstGeom prst="flowChartDecision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chemeClr val="dk1"/>
              </a:solidFill>
              <a:latin typeface="Bookman Old Style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5004000" y="5661360"/>
            <a:ext cx="3888000" cy="57708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Интеллиген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Блок-схема: альтернативный процесс 10"/>
          <p:cNvSpPr/>
          <p:nvPr/>
        </p:nvSpPr>
        <p:spPr>
          <a:xfrm>
            <a:off x="395640" y="404640"/>
            <a:ext cx="3500280" cy="1428480"/>
          </a:xfrm>
          <a:prstGeom prst="flowChartAlternateProcess">
            <a:avLst/>
          </a:prstGeom>
          <a:solidFill>
            <a:schemeClr val="tx2">
              <a:lumMod val="75000"/>
            </a:schemeClr>
          </a:solidFill>
          <a:ln w="76200">
            <a:solidFill>
              <a:srgbClr val="ffffff"/>
            </a:solidFill>
            <a:prstDash val="sysDot"/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dk1"/>
          </a:lnRef>
          <a:fillRef idx="3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Клас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Блок-схема: альтернативный процесс 1"/>
          <p:cNvSpPr/>
          <p:nvPr/>
        </p:nvSpPr>
        <p:spPr>
          <a:xfrm>
            <a:off x="323640" y="332640"/>
            <a:ext cx="3500280" cy="1428480"/>
          </a:xfrm>
          <a:prstGeom prst="flowChartAlternateProcess">
            <a:avLst/>
          </a:prstGeom>
          <a:solidFill>
            <a:schemeClr val="accent1">
              <a:lumMod val="50000"/>
            </a:schemeClr>
          </a:solidFill>
          <a:ln w="76200">
            <a:solidFill>
              <a:srgbClr val="ffffff"/>
            </a:solidFill>
            <a:prstDash val="sysDot"/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dk1"/>
          </a:lnRef>
          <a:fillRef idx="3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Эконом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4284000" y="476640"/>
            <a:ext cx="93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5148000" y="476640"/>
            <a:ext cx="3744000" cy="1369440"/>
          </a:xfrm>
          <a:prstGeom prst="rect">
            <a:avLst/>
          </a:prstGeom>
          <a:solidFill>
            <a:schemeClr val="accent1">
              <a:lumMod val="75000"/>
            </a:schemeClr>
          </a:solidFill>
          <a:ln w="0">
            <a:noFill/>
          </a:ln>
          <a:effectLst>
            <a:softEdge rad="31752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Слабо- средний уровень развития капит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755640" y="2205000"/>
            <a:ext cx="7560360" cy="516240"/>
          </a:xfrm>
          <a:prstGeom prst="rect">
            <a:avLst/>
          </a:prstGeom>
          <a:solidFill>
            <a:srgbClr val="ffffff"/>
          </a:solidFill>
          <a:ln w="57150">
            <a:solidFill>
              <a:srgbClr val="1f497d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dk1"/>
                </a:solidFill>
                <a:latin typeface="Bookman Old Style"/>
              </a:rPr>
              <a:t>Аграрно - индустриальное госуд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251640" y="3285000"/>
            <a:ext cx="86407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SzPct val="100058"/>
              <a:buBlip>
                <a:blip r:embed="rId1"/>
              </a:buBlip>
            </a:pP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Многоукладный характер экономики - наряду с частнокапиталистическим, монополистическим и государственно-монополистическим сохранялись мелкотоварный (кустарная промышленность), полукрепостнический и натурально-патриархальный (община) укл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539640" y="836640"/>
            <a:ext cx="799236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SzPct val="100000"/>
              <a:buBlip>
                <a:blip r:embed="rId1"/>
              </a:buBlip>
            </a:pPr>
            <a:r>
              <a:rPr b="1" lang="ru-RU" sz="3600" spc="-1" strike="noStrike">
                <a:solidFill>
                  <a:srgbClr val="9fc0ff"/>
                </a:solidFill>
                <a:latin typeface="Bookman Old Style"/>
              </a:rPr>
              <a:t>Зависимость от внешних рынков зерна и иностранных инвестиц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SzPct val="100000"/>
              <a:buBlip>
                <a:blip r:embed="rId2"/>
              </a:buBlip>
            </a:pPr>
            <a:r>
              <a:rPr b="1" lang="ru-RU" sz="3600" spc="-1" strike="noStrike">
                <a:solidFill>
                  <a:srgbClr val="9fc0ff"/>
                </a:solidFill>
                <a:latin typeface="Bookman Old Style"/>
              </a:rPr>
              <a:t>  </a:t>
            </a:r>
            <a:r>
              <a:rPr b="1" lang="ru-RU" sz="3600" spc="-1" strike="noStrike">
                <a:solidFill>
                  <a:srgbClr val="9fc0ff"/>
                </a:solidFill>
                <a:latin typeface="Bookman Old Style"/>
              </a:rPr>
              <a:t>Сочетание высоких темпов развития экономики с низкой производительностью труд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SzPct val="100000"/>
              <a:buBlip>
                <a:blip r:embed="rId3"/>
              </a:buBlip>
            </a:pPr>
            <a:r>
              <a:rPr b="1" lang="ru-RU" sz="3600" spc="-1" strike="noStrike">
                <a:solidFill>
                  <a:srgbClr val="9fc0ff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9fc0ff"/>
                </a:solidFill>
                <a:latin typeface="Bookman Old Style"/>
              </a:rPr>
              <a:t>Российская буржуазия не имела доступа к власти и не была свободна в принятии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323640" y="1628640"/>
            <a:ext cx="849672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SzPct val="100058"/>
              <a:buBlip>
                <a:blip r:embed="rId1"/>
              </a:buBlip>
            </a:pP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Страны с высоким уровнем развития капитализма (Англия, Франция, СШ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SzPct val="100058"/>
              <a:buBlip>
                <a:blip r:embed="rId2"/>
              </a:buBlip>
            </a:pP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Страны со средним (Германия, Япония) и слабо-средним (Россия, Австро-Венгрия) уровнем развития капит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SzPct val="100058"/>
              <a:buBlip>
                <a:blip r:embed="rId3"/>
              </a:buBlip>
            </a:pP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9fc0ff"/>
                </a:solidFill>
                <a:latin typeface="Bookman Old Style"/>
              </a:rPr>
              <a:t>Страны слабого развития капитализма (страны Латинской Америки, Африки, Аз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539640" y="188640"/>
            <a:ext cx="7776360" cy="1064520"/>
          </a:xfrm>
          <a:prstGeom prst="rect">
            <a:avLst/>
          </a:prstGeom>
          <a:solidFill>
            <a:schemeClr val="tx2">
              <a:lumMod val="50000"/>
            </a:schemeClr>
          </a:solidFill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ookman Old Style"/>
              </a:rPr>
              <a:t>В современной науке выделяют три эшелона модерниза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251640" y="260640"/>
            <a:ext cx="871272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 cap="all">
                <a:solidFill>
                  <a:schemeClr val="accent4"/>
                </a:solidFill>
                <a:latin typeface="Bookman Old Style"/>
              </a:rPr>
              <a:t>Модернизация 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усовершенствование, улучшение, обновление объекта, приведение его в соответствие с новыми требованиями и нормами, техническими условиями, показателями ка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2"/>
          <p:cNvSpPr/>
          <p:nvPr/>
        </p:nvSpPr>
        <p:spPr>
          <a:xfrm>
            <a:off x="179640" y="3429000"/>
            <a:ext cx="3024000" cy="1079640"/>
          </a:xfrm>
          <a:prstGeom prst="ellipse">
            <a:avLst/>
          </a:prstGeom>
          <a:solidFill>
            <a:schemeClr val="accent4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Bookman Old Style"/>
              </a:rPr>
              <a:t>Поли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Овал 3"/>
          <p:cNvSpPr/>
          <p:nvPr/>
        </p:nvSpPr>
        <p:spPr>
          <a:xfrm>
            <a:off x="2915640" y="3645000"/>
            <a:ext cx="3600000" cy="1079640"/>
          </a:xfrm>
          <a:prstGeom prst="ellipse">
            <a:avLst/>
          </a:prstGeom>
          <a:solidFill>
            <a:schemeClr val="accent4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Bookman Old Style"/>
              </a:rPr>
              <a:t>Эконом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Овал 4"/>
          <p:cNvSpPr/>
          <p:nvPr/>
        </p:nvSpPr>
        <p:spPr>
          <a:xfrm>
            <a:off x="6119640" y="3429000"/>
            <a:ext cx="3024000" cy="1079640"/>
          </a:xfrm>
          <a:prstGeom prst="ellipse">
            <a:avLst/>
          </a:prstGeom>
          <a:solidFill>
            <a:schemeClr val="accent4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Bookman Old Style"/>
              </a:rPr>
              <a:t>Куль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251640" y="4725000"/>
            <a:ext cx="2808000" cy="94284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glow">
                <a:rot lat="0" lon="0" rev="3600000"/>
              </a:lightRig>
            </a:scene3d>
            <a:sp3d prstMaterial="softEdge">
              <a:bevelT w="29210" h="16510"/>
              <a:contourClr>
                <a:schemeClr val="accent4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9278b5"/>
                </a:solidFill>
                <a:latin typeface="Bookman Old Style"/>
              </a:rPr>
              <a:t>Республика, демокра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132000" y="4941000"/>
            <a:ext cx="2808000" cy="94284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glow">
                <a:rot lat="0" lon="0" rev="3600000"/>
              </a:lightRig>
            </a:scene3d>
            <a:sp3d prstMaterial="softEdge">
              <a:bevelT w="29210" h="16510"/>
              <a:contourClr>
                <a:schemeClr val="accent4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9278b5"/>
                </a:solidFill>
                <a:latin typeface="Bookman Old Style"/>
              </a:rPr>
              <a:t>Капитализм, кл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6372360" y="4725000"/>
            <a:ext cx="2771280" cy="136944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glow">
                <a:rot lat="0" lon="0" rev="3600000"/>
              </a:lightRig>
            </a:scene3d>
            <a:sp3d prstMaterial="softEdge">
              <a:bevelT w="29210" h="16510"/>
              <a:contourClr>
                <a:schemeClr val="accent4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9278b5"/>
                </a:solidFill>
                <a:latin typeface="Bookman Old Style"/>
              </a:rPr>
              <a:t>Новая система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  <Words>320</Words>
  <Paragraphs>1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5:44:17Z</dcterms:created>
  <dc:creator>Масютка</dc:creator>
  <dc:description/>
  <dc:language>en-US</dc:language>
  <cp:lastModifiedBy>Оксана</cp:lastModifiedBy>
  <dcterms:modified xsi:type="dcterms:W3CDTF">2010-09-16T16:35:27Z</dcterms:modified>
  <cp:revision>5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Экран (4:3)</vt:lpwstr>
  </property>
  <property fmtid="{D5CDD505-2E9C-101B-9397-08002B2CF9AE}" pid="4" name="Slides">
    <vt:r8>27</vt:r8>
  </property>
</Properties>
</file>