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7EE-D270-43BE-BA0D-EF79B0C1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3C8-83AE-44CE-9B87-13199950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D6B-BBE4-4C4A-9A31-568B06B5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925-624C-4E8B-8422-2D0F1560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CD2-A896-4119-8589-803F315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DEF-D305-4427-BBC7-D4CFADA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F41-46C1-475F-B82C-5A5C7D45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4B6-B986-4406-BCAC-A9F751E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139-F461-46C4-AD5A-ED7BD200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8EA-B033-46DC-A307-E154FB4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621-F7E1-463F-A808-18AB452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B68-39B2-4DFC-8CBD-B331822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20C1-A503-4DAC-8556-FCBFD94F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Интегрированный урок литературного чтения и изобразительного искусства по теме С. Есенин « Берёза».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3-3 кл.(1-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Левитан «Берёзовая роща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7080" y="1600200"/>
            <a:ext cx="7628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Шишкин « Берёзовый лес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Файл:Берёзовый лес.jpg"/>
          <p:cNvPicPr/>
          <p:nvPr/>
        </p:nvPicPr>
        <p:blipFill>
          <a:blip r:embed="rId1"/>
          <a:stretch/>
        </p:blipFill>
        <p:spPr>
          <a:xfrm>
            <a:off x="993600" y="1600200"/>
            <a:ext cx="715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3080" cy="547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.Грабарь «Февральская лазур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897440" cy="569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entralImgId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96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росто белая берёза"/>
          <p:cNvPicPr/>
          <p:nvPr/>
        </p:nvPicPr>
        <p:blipFill>
          <a:blip r:embed="rId1"/>
          <a:stretch/>
        </p:blipFill>
        <p:spPr>
          <a:xfrm>
            <a:off x="1979640" y="1268280"/>
            <a:ext cx="5146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 И. Г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линка Михаил - русский композитор (Glinka)"/>
          <p:cNvPicPr/>
          <p:nvPr/>
        </p:nvPicPr>
        <p:blipFill>
          <a:blip r:embed="rId1"/>
          <a:stretch/>
        </p:blipFill>
        <p:spPr>
          <a:xfrm>
            <a:off x="2556000" y="1844640"/>
            <a:ext cx="424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ргей Александрович Есе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ергей Есенин"/>
          <p:cNvPicPr/>
          <p:nvPr/>
        </p:nvPicPr>
        <p:blipFill>
          <a:blip r:embed="rId1"/>
          <a:stretch/>
        </p:blipFill>
        <p:spPr>
          <a:xfrm>
            <a:off x="2843280" y="1268280"/>
            <a:ext cx="3544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043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р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яркое освещение горизонта перед восходом или заходом солнца. Зимой небо озаряется не так ярко, как л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10:25Z</dcterms:created>
  <dc:creator>Татьяна</dc:creator>
  <dc:description/>
  <dc:language>en-US</dc:language>
  <cp:lastModifiedBy>Татьяна</cp:lastModifiedBy>
  <dcterms:modified xsi:type="dcterms:W3CDTF">2010-02-06T16:41:28Z</dcterms:modified>
  <cp:revision>3</cp:revision>
  <dc:subject/>
  <dc:title>Слайд 1</dc:title>
</cp:coreProperties>
</file>