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971-82C3-4FBA-AAF1-CFD17A34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22B-2702-46BD-93F4-6213337A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58B-6AB7-49B9-A1F6-FB462905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DC6-4669-4488-8AED-9079E677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7C-432A-464B-B66F-5AA91A5D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DB8-D188-475F-B6E3-EAE16618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F09-AE53-47E0-BED1-8F323ABA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F26-AFB9-4403-99E9-8612A10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A5C-4066-41C1-B022-881AA5A5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B27-B075-40E9-87C3-2E28F87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032-A0B6-494C-BB79-F8F9442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4CA-3890-47D8-9950-5C160612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A24-D58E-47F4-9E4D-C327D8AA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Интегрированный урок литературного чтения и изобразительного искусства по теме С. Есенин « Берёза».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3-3 кл.(1-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Левитан «Берёзовая роща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7080" y="1600200"/>
            <a:ext cx="7628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Шишкин « Берёзовый лес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Файл:Берёзовый лес.jpg"/>
          <p:cNvPicPr/>
          <p:nvPr/>
        </p:nvPicPr>
        <p:blipFill>
          <a:blip r:embed="rId1"/>
          <a:stretch/>
        </p:blipFill>
        <p:spPr>
          <a:xfrm>
            <a:off x="993600" y="1600200"/>
            <a:ext cx="715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3080" cy="547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.Грабарь «Февральская лазур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897440" cy="569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entralImgId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96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росто белая берёза"/>
          <p:cNvPicPr/>
          <p:nvPr/>
        </p:nvPicPr>
        <p:blipFill>
          <a:blip r:embed="rId1"/>
          <a:stretch/>
        </p:blipFill>
        <p:spPr>
          <a:xfrm>
            <a:off x="1979640" y="1268280"/>
            <a:ext cx="5146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 И. Г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линка Михаил - русский композитор (Glinka)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ргей Александрович Есе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ергей Есенин"/>
          <p:cNvPicPr/>
          <p:nvPr/>
        </p:nvPicPr>
        <p:blipFill>
          <a:blip r:embed="rId1"/>
          <a:stretch/>
        </p:blipFill>
        <p:spPr>
          <a:xfrm>
            <a:off x="2843280" y="1268280"/>
            <a:ext cx="3544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043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р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яркое освещение горизонта перед восходом или заходом солнца. Зимой небо озаряется не так ярко, как л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10:25Z</dcterms:created>
  <dc:creator>Татьяна</dc:creator>
  <dc:description/>
  <dc:language>en-US</dc:language>
  <cp:lastModifiedBy>Татьяна</cp:lastModifiedBy>
  <dcterms:modified xsi:type="dcterms:W3CDTF">2010-02-06T16:41:28Z</dcterms:modified>
  <cp:revision>3</cp:revision>
  <dc:subject/>
  <dc:title>Слайд 1</dc:title>
</cp:coreProperties>
</file>