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BF9-6AD3-4173-9749-286CD925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3F5-9AC8-483E-9AD8-CA3FC18D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7D1-D7A6-48D3-9BDC-49B4A1E1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BD6-0050-40E9-999C-29D07B2C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4AB-19C5-46BE-89A0-0B8C89B8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2F6-4506-4DB9-8B20-25FCD165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801-14E9-4D3A-87F3-B107C61C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E94-A4D3-4105-B568-88CA09A3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0B2-98CD-4BCC-9009-8983694A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18A-EEFC-4E15-B316-4FAC976B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FD5-D682-4707-A982-980F1776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1DB-8738-4A65-8FF6-606C56D1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C5F6-9BCE-4CE5-9874-2F3AB4E9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Интегрированный урок литературного чтения и изобразительного искусства по теме С. Есенин « Берёза».</a:t>
            </a:r>
            <a:br>
              <a:rPr sz="4000"/>
            </a:b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3-3 кл.(1-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.Левитан «Берёзовая роща»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7080" y="1600200"/>
            <a:ext cx="7628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.Шишкин « Берёзовый лес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Файл:Берёзовый лес.jpg"/>
          <p:cNvPicPr/>
          <p:nvPr/>
        </p:nvPicPr>
        <p:blipFill>
          <a:blip r:embed="rId1"/>
          <a:stretch/>
        </p:blipFill>
        <p:spPr>
          <a:xfrm>
            <a:off x="993600" y="1600200"/>
            <a:ext cx="715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753080" cy="5473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.Грабарь «Февральская лазур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897440" cy="569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entralImgId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496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705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росто белая берёза"/>
          <p:cNvPicPr/>
          <p:nvPr/>
        </p:nvPicPr>
        <p:blipFill>
          <a:blip r:embed="rId1"/>
          <a:stretch/>
        </p:blipFill>
        <p:spPr>
          <a:xfrm>
            <a:off x="1979640" y="1268280"/>
            <a:ext cx="51465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. И. Гл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Глинка Михаил - русский композитор (Glinka)"/>
          <p:cNvPicPr/>
          <p:nvPr/>
        </p:nvPicPr>
        <p:blipFill>
          <a:blip r:embed="rId1"/>
          <a:stretch/>
        </p:blipFill>
        <p:spPr>
          <a:xfrm>
            <a:off x="2556000" y="1844640"/>
            <a:ext cx="4248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ргей Александрович Есе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Сергей Есенин"/>
          <p:cNvPicPr/>
          <p:nvPr/>
        </p:nvPicPr>
        <p:blipFill>
          <a:blip r:embed="rId1"/>
          <a:stretch/>
        </p:blipFill>
        <p:spPr>
          <a:xfrm>
            <a:off x="2843280" y="1268280"/>
            <a:ext cx="35449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043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Зар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яркое освещение горизонта перед восходом или заходом солнца. Зимой небо озаряется не так ярко, как ле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6360" y="2332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6:10:25Z</dcterms:created>
  <dc:creator>Татьяна</dc:creator>
  <dc:description/>
  <dc:language>en-US</dc:language>
  <cp:lastModifiedBy>Татьяна</cp:lastModifiedBy>
  <dcterms:modified xsi:type="dcterms:W3CDTF">2010-02-06T16:41:28Z</dcterms:modified>
  <cp:revision>3</cp:revision>
  <dc:subject/>
  <dc:title>Слайд 1</dc:title>
</cp:coreProperties>
</file>