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4C8-BF0A-4267-AFE3-28B8D2E2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985-CEAF-4A13-9DFE-8DF23A3B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D63-D0F5-41AF-8F5F-E9C67F91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247-51E0-475A-9E85-CF9601AF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01870-83DF-42B4-95DF-6F61C829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BC8EF-1C2C-46DB-86BF-DADEA66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C850F-33A6-4993-A2E0-0B137E10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45EE4-7841-4459-A6F7-2564CFCF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14D7B-8BF8-41C4-AF86-B2BA9996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F6C01-7942-4F04-9C3A-F254F3E8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7CFB3-517A-4845-B2B3-11F46C93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3D0-7ED8-4717-A528-CA45A5B7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0B34C-6F50-4F59-BC98-3F1E6EB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3FEE2-2469-424E-8C2B-22567818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8FABB-FB36-4A32-8581-62EF7FB0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1F973-A188-45CD-B170-D0F0578B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CFEA7-7966-4560-AA15-26437227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2F6AA-E3A3-4620-A22A-BD9D84C3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08191-64FC-433B-8D73-47DF443E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0F39-02D9-4B0F-8412-BCC05737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5717-1FBD-4D41-ABE7-A98CEA52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1E11-FB47-4055-A171-9B2EB659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373-E3B4-45EA-BA24-B629FF5D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7BAD-C0ED-4307-9D50-E59752D1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57B2-5E4D-4424-A129-AC60DCD4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2E23-8062-46AB-A4E1-FC1F6738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3C9E-E561-4DD0-81EB-03772BC4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4913-16DB-40EC-AC13-6FD9F34D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912C-FE6C-42E7-8FEA-CC467FDF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9554-62AA-47BD-9516-5897B3A9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1EFB9B-AE5A-4787-977A-87C4EAD9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22B64-93BA-4560-9AA9-2007A4D1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E1C108-A51A-4AC8-A64C-70B4A545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C30-02B1-439D-AF82-9C7EC256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C3DF12-579D-4A90-96AA-EB95B60F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62525-837A-4DEA-95A5-9FB1A141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77BFD-0025-4396-A650-6566E0D0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3F6E6-333A-4B4F-9B65-038B7550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854E73-AF98-4173-AE9A-E03D4947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3E32E-A4F4-4968-80BA-94B1DCA1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1C869-692F-40B8-9347-E06BCB87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6F6C6-3A5B-4F66-BF61-F8F9754E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C9E804-DAAF-4C0D-A546-945B777E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A0163-D529-45A7-8C3F-A357EFFB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E79-5B49-4C00-8ABA-3F4D6B54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F93C3-3C9B-429E-82C8-2161858A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E1CCE-9F62-49B8-8BE0-24A6F4D4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9E2F0-A060-4690-9C16-99EFF559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671B0-28BF-4230-9B69-4A0A3A20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BDAB7-F959-46E4-9580-BDBD889A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772BB-8F47-4A85-9DC9-8A4B78A2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FE4D8-8AD8-45A1-887B-1FE2174C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1DBD3-B91D-4314-B080-E351D946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A0A70-549D-43CA-BF0F-54589C60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19FCB-4682-4AD5-B345-818B3D2B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F2A-B559-4403-BC5E-2BBAF1F4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66DAD-EF3E-46D4-80AB-B565C3B8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CC650-D0E4-49F6-B73F-E064A09D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9F92C0-1635-4A32-A31E-FC5B2EB9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92584-252F-4FED-AB7A-BDF70E20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3DF36-5EE2-4C0A-8267-4C413E70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F3515-4716-4244-83BA-1DB50EAE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79226-ED87-4B81-B7C3-7E2A91E9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011B7-5EC8-4C75-9E06-B8F299FD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CBB8C-20BF-4A02-9A27-56FAD6AB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EDE2BD-771A-4C63-BA2A-91074143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65B-0A2A-4BA4-8343-01114F98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A90BD-3565-439D-BBA3-FE153EAB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CF8053-C3B4-46E8-9889-6C3D780C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0CEF9-C841-4518-ABB8-21FD2703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D7CBD-3C69-4101-BC3F-03D3187B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0363D-0556-435F-BD8A-AAB01C12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50A31-FA39-44C0-8784-BFAC2DAA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E45BB-919F-45D9-89F7-F77F059A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8AAD3-7AC2-4FAA-A2C9-C5055C53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48FF4-9B0F-40E9-A442-4F26EC19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D1A69-EACB-47F7-988C-81248084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186-E07E-41D1-894A-A68268A9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F81EF-C46A-4094-98E3-939472C7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0CD53-535B-419A-A7C3-CF99B776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9E374-1FAB-4EBF-9017-8D5A2762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8D542-0AFB-4718-A4F5-917E96E7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2DEC8-61C3-4209-9DF8-FA7D2091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D0A-3CDD-4558-A2B0-4554870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59DA-D842-43F3-A7A3-AEB7084DA502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caf0a"/>
          </a:solidFill>
          <a:ln w="25560">
            <a:solidFill>
              <a:srgbClr val="ccaf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B29A-5AD6-4B49-A4F2-0F4A3081724D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B8C3-7EB0-48E2-9FB5-BE13EE359BB1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EC5B-E284-4EBB-9364-E62EFFEA80D8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2DAD-9047-49DF-8B76-55D10D3178DB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31E6-527C-4367-AA42-33351214D6FE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B7C7-0F68-4693-9B33-EE93A5C47E2B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d4d2d0"/>
              </a:solidFill>
              <a:latin typeface="Corbel"/>
            </a:endParaRPr>
          </a:p>
        </p:txBody>
      </p:sp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Rectangle 3" descr=""/>
          <p:cNvPicPr/>
          <p:nvPr/>
        </p:nvPicPr>
        <p:blipFill>
          <a:blip r:embed="rId2"/>
          <a:stretch/>
        </p:blipFill>
        <p:spPr>
          <a:xfrm>
            <a:off x="-23796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298440" y="-23760"/>
            <a:ext cx="839484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45720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АНДАШН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РЖНЕВ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5720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ЛОМАСТЕРН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РКУЛЬН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324000" y="66600"/>
            <a:ext cx="8369280" cy="13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45720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ПЛ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Д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5720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311040" y="182520"/>
            <a:ext cx="8382240" cy="15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457200" y="1916280"/>
          <a:ext cx="4038480" cy="18698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8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ОВН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648320" y="1916280"/>
          <a:ext cx="4038480" cy="18698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8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" y="4221000"/>
          <a:ext cx="4038480" cy="1905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4648320" y="4221000"/>
          <a:ext cx="4038480" cy="1905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ОДЯЩ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324000" y="66600"/>
            <a:ext cx="8448480" cy="13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45720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О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ЛЕКИСЛЫЙ ГАЗ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5720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Р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ЗОН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378000" y="396720"/>
            <a:ext cx="8394480" cy="159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457200" y="2276640"/>
          <a:ext cx="4038480" cy="18000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ПАРИ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4648320" y="2276640"/>
          <a:ext cx="4038480" cy="18000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РЁЗ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457200" y="4221000"/>
          <a:ext cx="4038480" cy="1905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В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4648320" y="4221000"/>
          <a:ext cx="4038480" cy="1905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ПОРОТНИ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24" name="WordArt 4"/>
          <p:cNvSpPr txBox="1"/>
          <p:nvPr/>
        </p:nvSpPr>
        <p:spPr>
          <a:xfrm>
            <a:off x="468360" y="1052640"/>
            <a:ext cx="82072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ЗДРАВЛЯЕМ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3:53:49Z</dcterms:created>
  <dc:creator>Index</dc:creator>
  <dc:description/>
  <dc:language>en-US</dc:language>
  <cp:lastModifiedBy>Максим</cp:lastModifiedBy>
  <dcterms:modified xsi:type="dcterms:W3CDTF">2011-09-24T15:53:28Z</dcterms:modified>
  <cp:revision>8</cp:revision>
  <dc:subject/>
  <dc:title>Вопрос №1</dc:title>
</cp:coreProperties>
</file>