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5BDC-3359-4BBC-966D-0C5EA6217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4447-87DF-491E-B060-CB13C44E5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CE9A-A167-47DF-9124-D554AD5F5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98BE-1439-4187-987D-E47AC394C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695ED6-CE3C-44D9-AE23-885BAEE24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17620A-5D25-4097-82C5-BE7E15C81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9DE0FC-2F18-4B53-B975-2301DEA44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D1027C-326E-49A7-8AED-EF9E8222C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968032-F4C9-463F-A8E5-9472C4C72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0A6867-888F-43DD-B546-78D6F42F8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D648CB-535F-471C-BC40-94015502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BB4E-CFD8-4367-A6CD-C6F478496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FBD474-10CB-4760-A8ED-140E5099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009BA7-4089-49B1-A2AF-AB22A5A6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69FB7C-B7FC-4F67-8DDC-F251B104B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990309-50D8-4975-BB16-C8361E92B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0C41AC-4065-477D-BAA5-E74817AAC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C5645-C8ED-49FF-A03C-90B4321DA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0C14E-9FF8-48B1-997C-EA84829D7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E2AB8-42A1-474A-A1D7-306145117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9941F-83C8-4CCF-9875-910A27B93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B7D47-B6ED-4710-A104-B3831A65B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5A2A-ECEB-4683-B315-275B09FCB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8B67B-18B4-4CCF-99A9-731BF858F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A1225-B215-42BA-9FC1-C1DB85F4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5E0D9-FCBC-4964-BF2E-4AB7D381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F26A5-5182-4966-89C3-6D85C58F1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79870-062F-49AF-9C55-33166BD49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3455A-E773-406C-B2E9-15F851344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752F6-38D1-432B-83E9-F6A18E652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6C4F27-3C9A-4C39-85E9-902B3FC54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D07561-CEEF-40CA-BC69-75612A5CA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027BB4-D222-471E-82AF-8B52C02E5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93B7-1DB2-43D4-B044-713037A89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C79378-12E5-419B-A9A3-7C410DA57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F8B28A-EF6F-4626-BB22-7E4AECA61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7E6D7E-1FB4-41DE-A1BD-208D219CD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4F6B30-17C2-4CF2-99C4-C3FECC0C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37614F-B981-4D03-87CC-149D45DB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1055F0-437F-416C-A667-B6367C07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819AD8-DB62-438E-BAAE-532321AF8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78C5CD-9009-4D22-ABF2-5AC818751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89DBB4-E80F-427A-A560-878D90D70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839D07-1943-49E3-AB5D-A4009C167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A980-02FE-4052-A6BC-803F17A0D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3E5023-DD4F-43EC-A0E9-7CB7CE279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29B4C9-4F5F-4517-A5C2-1FBCE43FE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D76B3C-9462-4E39-9C65-DEAFE1D9E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9AE3D2-3D33-4288-A5A9-205A8D2EC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958FEE-D47D-4A1D-8CEB-0E8B21852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6F0D1A-6CC3-48F1-8A74-C49203B9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5ABE8F-7781-4D72-8D3E-A0A8F267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90B19C-070F-4123-A2BB-F2BE0094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7D9988-E9B2-41DB-9633-19F436ABD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66A014-22FB-4C83-B5CC-6F16DB88A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6B0B-A9A1-407C-ABCF-DBCFF1783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6D05BC-2181-4D39-862F-8386751D7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6CD70C-5B4E-4693-B699-EEC40B9E5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E39FA0-F9AA-4874-9391-5E8A7BC5E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A9C9B8-BC09-4282-8DC4-EF65AF00D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95D45A-047E-4ADF-BC4C-24EE014D0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532293-74F5-4B93-8D3E-43A78EF71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263981-C7B7-477C-8915-BE32E02AA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A30F4C-AF20-4838-9741-FC798327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E91424-7E6D-4B5F-A4FA-114823AC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9CD818-6090-459C-8B07-666A3F52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EC3F-21F5-4BD0-A6B2-D395BF84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78B95F-D07B-46BA-80A1-9253CC341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F29350-FE11-43C7-9FAE-C9D1FDB79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1F7F80-A76F-4F27-A864-49E10EC83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1C03D-C8D1-48F5-AED9-84D16D554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9F6D7-1B94-4B37-A0D2-50FA3ED84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F93E98-07E7-46BE-BBA2-AAD127FDA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C84BA6-2927-47C0-84E0-1069B91B6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0E39C-C85A-4425-A48A-8171DAC03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12F27D-86E1-463F-8342-31B513063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9943D-9BBA-416A-ADA0-85FE1A4D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75E8-EB0C-4ECB-9139-260545C5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1BBCCF-19BE-43AF-9769-13447AD0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125555-35CD-47C5-8DF7-4773DC09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D74E6-EDBB-49E4-8DF4-03EBC2ACD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517AD8-E5E6-4EDC-B5BC-6F8640EE4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5AA6A-647F-48E5-89D1-1DB6A4414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1C95-8618-4A04-B50E-FA6A0C00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caf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639720" indent="-272880">
              <a:spcBef>
                <a:spcPts val="601"/>
              </a:spcBef>
              <a:buClr>
                <a:srgbClr val="b3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1004760" indent="-228600">
              <a:spcBef>
                <a:spcPts val="601"/>
              </a:spcBef>
              <a:buClr>
                <a:srgbClr val="95800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3" marL="1279440" indent="-228600">
              <a:spcBef>
                <a:spcPts val="601"/>
              </a:spcBef>
              <a:buClr>
                <a:srgbClr val="b3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4" marL="1554120" indent="-228600">
              <a:spcBef>
                <a:spcPts val="601"/>
              </a:spcBef>
              <a:buClr>
                <a:srgbClr val="b3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4d2d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B8251-D991-4064-A609-E0F2C6CA8C90}" type="slidenum">
              <a:rPr b="0" lang="ru-RU" sz="1600" spc="-1" strike="noStrike">
                <a:solidFill>
                  <a:srgbClr val="d4d2d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olas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8e8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8e8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ccaf0a"/>
          </a:solidFill>
          <a:ln w="25560">
            <a:solidFill>
              <a:srgbClr val="ccaf0a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caf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639720" indent="-272880">
              <a:spcBef>
                <a:spcPts val="601"/>
              </a:spcBef>
              <a:buClr>
                <a:srgbClr val="b3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1004760" indent="-228600">
              <a:spcBef>
                <a:spcPts val="601"/>
              </a:spcBef>
              <a:buClr>
                <a:srgbClr val="95800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3" marL="1279440" indent="-228600">
              <a:spcBef>
                <a:spcPts val="601"/>
              </a:spcBef>
              <a:buClr>
                <a:srgbClr val="b3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4" marL="1554120" indent="-228600">
              <a:spcBef>
                <a:spcPts val="601"/>
              </a:spcBef>
              <a:buClr>
                <a:srgbClr val="b3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olas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4d2d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31644-AECA-4BB2-8E23-ED5686B699EA}" type="slidenum">
              <a:rPr b="0" lang="ru-RU" sz="1600" spc="-1" strike="noStrike">
                <a:solidFill>
                  <a:srgbClr val="d4d2d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caf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639720" indent="-272880">
              <a:spcBef>
                <a:spcPts val="601"/>
              </a:spcBef>
              <a:buClr>
                <a:srgbClr val="b3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1004760" indent="-228600">
              <a:spcBef>
                <a:spcPts val="601"/>
              </a:spcBef>
              <a:buClr>
                <a:srgbClr val="95800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3" marL="1279440" indent="-228600">
              <a:spcBef>
                <a:spcPts val="601"/>
              </a:spcBef>
              <a:buClr>
                <a:srgbClr val="b3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4" marL="1554120" indent="-228600">
              <a:spcBef>
                <a:spcPts val="601"/>
              </a:spcBef>
              <a:buClr>
                <a:srgbClr val="b3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olas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4d2d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1CC7-114F-4A36-80A6-DF366918476C}" type="slidenum">
              <a:rPr b="0" lang="ru-RU" sz="1600" spc="-1" strike="noStrike">
                <a:solidFill>
                  <a:srgbClr val="d4d2d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8e8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8e8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caf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639720" indent="-272880">
              <a:spcBef>
                <a:spcPts val="601"/>
              </a:spcBef>
              <a:buClr>
                <a:srgbClr val="b3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1004760" indent="-228600">
              <a:spcBef>
                <a:spcPts val="601"/>
              </a:spcBef>
              <a:buClr>
                <a:srgbClr val="95800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3" marL="1279440" indent="-228600">
              <a:spcBef>
                <a:spcPts val="601"/>
              </a:spcBef>
              <a:buClr>
                <a:srgbClr val="b3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4" marL="1554120" indent="-228600">
              <a:spcBef>
                <a:spcPts val="601"/>
              </a:spcBef>
              <a:buClr>
                <a:srgbClr val="b3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olas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4d2d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60C06-B903-4050-8DF9-B977EAC44A6E}" type="slidenum">
              <a:rPr b="0" lang="ru-RU" sz="1600" spc="-1" strike="noStrike">
                <a:solidFill>
                  <a:srgbClr val="d4d2d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caf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639720" indent="-272880">
              <a:spcBef>
                <a:spcPts val="601"/>
              </a:spcBef>
              <a:buClr>
                <a:srgbClr val="b3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1004760" indent="-228600">
              <a:spcBef>
                <a:spcPts val="601"/>
              </a:spcBef>
              <a:buClr>
                <a:srgbClr val="95800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3" marL="1279440" indent="-228600">
              <a:spcBef>
                <a:spcPts val="601"/>
              </a:spcBef>
              <a:buClr>
                <a:srgbClr val="b3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4" marL="1554120" indent="-228600">
              <a:spcBef>
                <a:spcPts val="601"/>
              </a:spcBef>
              <a:buClr>
                <a:srgbClr val="b3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olas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4d2d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5E2CE-9165-479C-92F3-EBE3CCDFA342}" type="slidenum">
              <a:rPr b="0" lang="ru-RU" sz="1600" spc="-1" strike="noStrike">
                <a:solidFill>
                  <a:srgbClr val="d4d2d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caf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639720" indent="-272880">
              <a:spcBef>
                <a:spcPts val="601"/>
              </a:spcBef>
              <a:buClr>
                <a:srgbClr val="b3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1004760" indent="-228600">
              <a:spcBef>
                <a:spcPts val="601"/>
              </a:spcBef>
              <a:buClr>
                <a:srgbClr val="95800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3" marL="1279440" indent="-228600">
              <a:spcBef>
                <a:spcPts val="601"/>
              </a:spcBef>
              <a:buClr>
                <a:srgbClr val="b3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4" marL="1554120" indent="-228600">
              <a:spcBef>
                <a:spcPts val="601"/>
              </a:spcBef>
              <a:buClr>
                <a:srgbClr val="b3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olas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4d2d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277CA-774E-4C49-BF82-B8407C7DA9DC}" type="slidenum">
              <a:rPr b="0" lang="ru-RU" sz="1600" spc="-1" strike="noStrike">
                <a:solidFill>
                  <a:srgbClr val="d4d2d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caf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639720" indent="-272880">
              <a:spcBef>
                <a:spcPts val="601"/>
              </a:spcBef>
              <a:buClr>
                <a:srgbClr val="b3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1004760" indent="-228600">
              <a:spcBef>
                <a:spcPts val="601"/>
              </a:spcBef>
              <a:buClr>
                <a:srgbClr val="95800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3" marL="1279440" indent="-228600">
              <a:spcBef>
                <a:spcPts val="601"/>
              </a:spcBef>
              <a:buClr>
                <a:srgbClr val="b3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4" marL="1554120" indent="-228600">
              <a:spcBef>
                <a:spcPts val="601"/>
              </a:spcBef>
              <a:buClr>
                <a:srgbClr val="b3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olas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4d2d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D89EC-E6BF-4AE8-B562-AE738915E996}" type="slidenum">
              <a:rPr b="0" lang="ru-RU" sz="1600" spc="-1" strike="noStrike">
                <a:solidFill>
                  <a:srgbClr val="d4d2d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d4d2d0"/>
              </a:solidFill>
              <a:latin typeface="Corbel"/>
            </a:endParaRPr>
          </a:p>
        </p:txBody>
      </p:sp>
      <p:pic>
        <p:nvPicPr>
          <p:cNvPr id="294" name="Заголовок 1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6" name="Rectangle 3" descr=""/>
          <p:cNvPicPr/>
          <p:nvPr/>
        </p:nvPicPr>
        <p:blipFill>
          <a:blip r:embed="rId2"/>
          <a:stretch/>
        </p:blipFill>
        <p:spPr>
          <a:xfrm>
            <a:off x="-237960" y="268200"/>
            <a:ext cx="847404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Rectangle 2" descr=""/>
          <p:cNvPicPr/>
          <p:nvPr/>
        </p:nvPicPr>
        <p:blipFill>
          <a:blip r:embed="rId1"/>
          <a:stretch/>
        </p:blipFill>
        <p:spPr>
          <a:xfrm>
            <a:off x="298440" y="-23760"/>
            <a:ext cx="8394840" cy="1450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8" name=""/>
          <p:cNvGraphicFramePr/>
          <p:nvPr/>
        </p:nvGraphicFramePr>
        <p:xfrm>
          <a:off x="457200" y="1600200"/>
          <a:ext cx="4038480" cy="21859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1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РАНДАШНАЯ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4648320" y="1600200"/>
          <a:ext cx="4038480" cy="21859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1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ЕРЖНЕВАЯ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0" name=""/>
          <p:cNvGraphicFramePr/>
          <p:nvPr/>
        </p:nvGraphicFramePr>
        <p:xfrm>
          <a:off x="457200" y="3938760"/>
          <a:ext cx="4038480" cy="218736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1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ЛОМАСТЕРНА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1" name=""/>
          <p:cNvGraphicFramePr/>
          <p:nvPr/>
        </p:nvGraphicFramePr>
        <p:xfrm>
          <a:off x="4648320" y="3938760"/>
          <a:ext cx="4038480" cy="218736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1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Г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ИРКУЛЬНАЯ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Rectangle 2" descr=""/>
          <p:cNvPicPr/>
          <p:nvPr/>
        </p:nvPicPr>
        <p:blipFill>
          <a:blip r:embed="rId1"/>
          <a:stretch/>
        </p:blipFill>
        <p:spPr>
          <a:xfrm>
            <a:off x="324000" y="66600"/>
            <a:ext cx="8369280" cy="136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3" name=""/>
          <p:cNvGraphicFramePr/>
          <p:nvPr/>
        </p:nvGraphicFramePr>
        <p:xfrm>
          <a:off x="457200" y="1600200"/>
          <a:ext cx="4038480" cy="21859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1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ПЛО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4648320" y="1600200"/>
          <a:ext cx="4038480" cy="21859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1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ДА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457200" y="3938760"/>
          <a:ext cx="4038480" cy="218736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1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ЗДУХ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4648320" y="3938760"/>
          <a:ext cx="4038480" cy="218736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1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Г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ВЕТ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1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Rectangle 2" descr=""/>
          <p:cNvPicPr/>
          <p:nvPr/>
        </p:nvPicPr>
        <p:blipFill>
          <a:blip r:embed="rId1"/>
          <a:stretch/>
        </p:blipFill>
        <p:spPr>
          <a:xfrm>
            <a:off x="311040" y="182520"/>
            <a:ext cx="8382240" cy="1596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8" name=""/>
          <p:cNvGraphicFramePr/>
          <p:nvPr/>
        </p:nvGraphicFramePr>
        <p:xfrm>
          <a:off x="457200" y="1916280"/>
          <a:ext cx="4038480" cy="186984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186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РОВНА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4648320" y="1916280"/>
          <a:ext cx="4038480" cy="186984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186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ХАНИЧЕСКА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457200" y="4221000"/>
          <a:ext cx="4038480" cy="19051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190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НА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4648320" y="4221000"/>
          <a:ext cx="4038480" cy="19051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190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Г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ВОДЯЩА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" dur="1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Rectangle 2" descr=""/>
          <p:cNvPicPr/>
          <p:nvPr/>
        </p:nvPicPr>
        <p:blipFill>
          <a:blip r:embed="rId1"/>
          <a:stretch/>
        </p:blipFill>
        <p:spPr>
          <a:xfrm>
            <a:off x="324000" y="66600"/>
            <a:ext cx="8448480" cy="136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3" name=""/>
          <p:cNvGraphicFramePr/>
          <p:nvPr/>
        </p:nvGraphicFramePr>
        <p:xfrm>
          <a:off x="457200" y="1600200"/>
          <a:ext cx="4038480" cy="21859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1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ЗОТ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4" name=""/>
          <p:cNvGraphicFramePr/>
          <p:nvPr/>
        </p:nvGraphicFramePr>
        <p:xfrm>
          <a:off x="4648320" y="1600200"/>
          <a:ext cx="4038480" cy="21859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1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ГЛЕКИСЛЫЙ ГАЗ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457200" y="3938760"/>
          <a:ext cx="4038480" cy="218736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1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ИСЛОРОД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4648320" y="3938760"/>
          <a:ext cx="4038480" cy="218736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1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Г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ЗОН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10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" dur="10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Rectangle 2" descr=""/>
          <p:cNvPicPr/>
          <p:nvPr/>
        </p:nvPicPr>
        <p:blipFill>
          <a:blip r:embed="rId1"/>
          <a:stretch/>
        </p:blipFill>
        <p:spPr>
          <a:xfrm>
            <a:off x="378000" y="396720"/>
            <a:ext cx="8394480" cy="1597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8" name=""/>
          <p:cNvGraphicFramePr/>
          <p:nvPr/>
        </p:nvGraphicFramePr>
        <p:xfrm>
          <a:off x="457200" y="2276640"/>
          <a:ext cx="4038480" cy="180000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180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ИПАРИС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4648320" y="2276640"/>
          <a:ext cx="4038480" cy="180000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180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ЕРЁЗА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457200" y="4221000"/>
          <a:ext cx="4038480" cy="19051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190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АВР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1" name=""/>
          <p:cNvGraphicFramePr/>
          <p:nvPr/>
        </p:nvGraphicFramePr>
        <p:xfrm>
          <a:off x="4648320" y="4221000"/>
          <a:ext cx="4038480" cy="19051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190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Г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АПОРОТНИК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" dur="10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" dur="10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457200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-238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324" name="WordArt 4"/>
          <p:cNvSpPr txBox="1"/>
          <p:nvPr/>
        </p:nvSpPr>
        <p:spPr>
          <a:xfrm>
            <a:off x="468360" y="1052640"/>
            <a:ext cx="820728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ЗДРАВЛЯЕМ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8T13:53:49Z</dcterms:created>
  <dc:creator>Index</dc:creator>
  <dc:description/>
  <dc:language>en-US</dc:language>
  <cp:lastModifiedBy>Максим</cp:lastModifiedBy>
  <dcterms:modified xsi:type="dcterms:W3CDTF">2011-09-24T15:53:28Z</dcterms:modified>
  <cp:revision>8</cp:revision>
  <dc:subject/>
  <dc:title>Вопрос №1</dc:title>
</cp:coreProperties>
</file>