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5DE1-73E9-420F-B15A-8C5572CE6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B014-B6B6-49FF-8044-E0A5E38F5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3DD3-876C-46C9-8DD4-4F37BEA2A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7B65-7A10-474C-8313-D59DCA8EA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3A4E64-FCDF-4C3E-A477-1F4873622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567309-FBA3-4B06-8789-FC9611A56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75FF78-FBFF-42D8-8706-27647D2AE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751432-E416-41D1-8722-2C6220903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981BC4-DD75-4890-90A2-8C5124E9C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457EC6-2E57-4879-8C04-7DE76138A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4CFB1A-BB80-4365-A389-DCA3ED3D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408E-C40B-4F15-823B-C6F5C5A4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C22118-327A-4F18-A391-420BA972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82FEF1-5683-45FA-BA06-DF5B2623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9407FC-0ED0-44B1-A72B-DE341E074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44222F-4798-40F8-BF99-DBE261AF7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3DA473-2AAB-4E32-9BE7-0136F45EE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1C89B-5EE7-4E6C-8304-8143A2130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C46D6-F95C-4DD9-897A-22E96B6F8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2D92D-1BCF-490C-A922-ADC1CDF4B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F5D61-7FB3-49AD-96BF-966EC43E4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5FDD0-E751-453E-A5A4-BC6ABF355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3239-9658-4B94-AD0D-4E49C119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20E2A-0FCE-4523-AE7C-2B54B8FCA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C9268-128A-4FE0-9D64-11E78D07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E1907-CB81-4BB9-9AE4-C66FA70D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A312E-D0D8-4B42-9701-C1DB0A03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D56EE-6C73-4AD0-AE3E-AF3DEA884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3E471-838F-488C-ABA9-CB9B3EFA7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2E2A8-FA8E-4CA6-9D27-074161487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BA048C-FDB6-45A1-9330-F95B446FD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C503CA-C0A9-4638-92B3-2B2DF77B4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F930E2-938E-4AF4-9240-2A23EB956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BCDB-39E9-463E-ADAD-7BD03FA33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9C32BA-A9A9-4695-919A-0C27F4003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4B9D50-1342-4B20-A334-393985A35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FEDF39-99DA-46D9-B6E6-A9CA40EB9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B8E3AD-2876-460D-B006-97A9F682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FD5B31-ABE1-42C5-9C24-43D1D552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123465-1BEC-428F-8911-5541FFD2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36F7A8-537F-4661-B260-3E87F03C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F914E8-3536-4918-BF04-5EB62F485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2ED823-9D11-4C7B-8567-F70CCA031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DE46DB-A839-45E2-9628-6F7D5BE61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B178-5620-41AC-A03F-6A790DF63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8E75E0-3563-4F01-9D4F-99F4F7F41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1302CC-99B5-42D1-A0A5-BB8B7BB2E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A4176F-D191-4819-88D1-975628FE8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254215-4A11-4BE1-B047-B7A72EA44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339711-B324-4616-B921-14D1EB29E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5B2BF9-70F9-4F6D-8BC9-31B71CDB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D6254C-E33A-4F89-8147-EB317AC8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110EBE-38A8-4EC9-8901-45AFA899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B1A040-471D-4DCC-AAC2-0D27711EC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BAA757-4718-4523-8F0A-40829F93D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BF5C-BE51-4463-8DB1-F7E3C528A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434E7B-565E-49C2-9EF3-0B8217560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FB06E0-B87C-424B-9711-F30D2BAD9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801B86-70F1-4E4B-AC37-952EFE572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3FEA2E-5092-411A-9751-B6C3B7308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C376C3-FD68-46DF-9B8F-94982FF59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D724E7-1286-47E2-931F-10440D6B2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76A06A-9A66-472A-89FC-80E7FB170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3B69F5-6E05-4C96-AC4E-9B91DD3C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922FB4-CFA6-4425-B387-D1B991F0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9D2B5E-2EB0-404B-B051-F6703FA2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244B-54A9-4E2D-8665-FC476B5F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BF4A6D-6CB7-4A6B-9767-7B47533D0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B271B0-CF40-41FD-AAD6-032682624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B7F48D-FC5E-41D5-9495-CA43122B5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EF3207-B3AE-44B9-92F8-C0E2653E2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A33C4-8024-48E3-A7BC-2BD84E74B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B599A-2B65-4CCD-A719-D8878CA79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E6A61-72E2-4AE6-994A-7A046B860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F2690-2D2B-4214-BA07-3A46EB4CC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D4CA73-5E1B-4A10-A047-26ECB0920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F8BE9-8F06-4F44-AD80-EE3DAE4C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B86E-BD73-4D7C-8DEB-F9420321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D024F2-161D-4420-B4B1-FB77FCAB3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B5580A-4A16-4D61-8D72-033A120A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4F980A-ADE9-4260-AF83-0E6173181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69C0BC-A1B5-4516-8E3E-54035A50C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26CAAF-193B-4B3C-87E7-8A4DC575C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3622-668A-4AED-84F4-10BEEECA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caf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639720" indent="-272880">
              <a:spcBef>
                <a:spcPts val="601"/>
              </a:spcBef>
              <a:buClr>
                <a:srgbClr val="b3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1004760" indent="-228600">
              <a:spcBef>
                <a:spcPts val="601"/>
              </a:spcBef>
              <a:buClr>
                <a:srgbClr val="95800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3" marL="1279440" indent="-228600">
              <a:spcBef>
                <a:spcPts val="601"/>
              </a:spcBef>
              <a:buClr>
                <a:srgbClr val="b3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4" marL="1554120" indent="-228600">
              <a:spcBef>
                <a:spcPts val="601"/>
              </a:spcBef>
              <a:buClr>
                <a:srgbClr val="b3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4d2d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00EA0-C0B8-4F41-8069-A105B2BCE01D}" type="slidenum">
              <a:rPr b="0" lang="ru-RU" sz="1600" spc="-1" strike="noStrike">
                <a:solidFill>
                  <a:srgbClr val="d4d2d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olas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8e8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8e8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ccaf0a"/>
          </a:solidFill>
          <a:ln w="25560">
            <a:solidFill>
              <a:srgbClr val="ccaf0a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caf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639720" indent="-272880">
              <a:spcBef>
                <a:spcPts val="601"/>
              </a:spcBef>
              <a:buClr>
                <a:srgbClr val="b3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1004760" indent="-228600">
              <a:spcBef>
                <a:spcPts val="601"/>
              </a:spcBef>
              <a:buClr>
                <a:srgbClr val="95800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3" marL="1279440" indent="-228600">
              <a:spcBef>
                <a:spcPts val="601"/>
              </a:spcBef>
              <a:buClr>
                <a:srgbClr val="b3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4" marL="1554120" indent="-228600">
              <a:spcBef>
                <a:spcPts val="601"/>
              </a:spcBef>
              <a:buClr>
                <a:srgbClr val="b3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olas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4d2d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87DF-E888-4BCE-90FD-A3AC0D64E651}" type="slidenum">
              <a:rPr b="0" lang="ru-RU" sz="1600" spc="-1" strike="noStrike">
                <a:solidFill>
                  <a:srgbClr val="d4d2d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caf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639720" indent="-272880">
              <a:spcBef>
                <a:spcPts val="601"/>
              </a:spcBef>
              <a:buClr>
                <a:srgbClr val="b3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1004760" indent="-228600">
              <a:spcBef>
                <a:spcPts val="601"/>
              </a:spcBef>
              <a:buClr>
                <a:srgbClr val="95800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3" marL="1279440" indent="-228600">
              <a:spcBef>
                <a:spcPts val="601"/>
              </a:spcBef>
              <a:buClr>
                <a:srgbClr val="b3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4" marL="1554120" indent="-228600">
              <a:spcBef>
                <a:spcPts val="601"/>
              </a:spcBef>
              <a:buClr>
                <a:srgbClr val="b3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olas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4d2d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E27A1-0E19-4AAE-9A2C-952C41A6B164}" type="slidenum">
              <a:rPr b="0" lang="ru-RU" sz="1600" spc="-1" strike="noStrike">
                <a:solidFill>
                  <a:srgbClr val="d4d2d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8e8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8e8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caf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639720" indent="-272880">
              <a:spcBef>
                <a:spcPts val="601"/>
              </a:spcBef>
              <a:buClr>
                <a:srgbClr val="b3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1004760" indent="-228600">
              <a:spcBef>
                <a:spcPts val="601"/>
              </a:spcBef>
              <a:buClr>
                <a:srgbClr val="95800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3" marL="1279440" indent="-228600">
              <a:spcBef>
                <a:spcPts val="601"/>
              </a:spcBef>
              <a:buClr>
                <a:srgbClr val="b3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4" marL="1554120" indent="-228600">
              <a:spcBef>
                <a:spcPts val="601"/>
              </a:spcBef>
              <a:buClr>
                <a:srgbClr val="b3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olas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4d2d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D90D6-A29C-43CD-9659-21097AE8F1AF}" type="slidenum">
              <a:rPr b="0" lang="ru-RU" sz="1600" spc="-1" strike="noStrike">
                <a:solidFill>
                  <a:srgbClr val="d4d2d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caf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639720" indent="-272880">
              <a:spcBef>
                <a:spcPts val="601"/>
              </a:spcBef>
              <a:buClr>
                <a:srgbClr val="b3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1004760" indent="-228600">
              <a:spcBef>
                <a:spcPts val="601"/>
              </a:spcBef>
              <a:buClr>
                <a:srgbClr val="95800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3" marL="1279440" indent="-228600">
              <a:spcBef>
                <a:spcPts val="601"/>
              </a:spcBef>
              <a:buClr>
                <a:srgbClr val="b3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4" marL="1554120" indent="-228600">
              <a:spcBef>
                <a:spcPts val="601"/>
              </a:spcBef>
              <a:buClr>
                <a:srgbClr val="b3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olas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4d2d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F158-247D-452B-8E26-2FF4F9D9F338}" type="slidenum">
              <a:rPr b="0" lang="ru-RU" sz="1600" spc="-1" strike="noStrike">
                <a:solidFill>
                  <a:srgbClr val="d4d2d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caf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639720" indent="-272880">
              <a:spcBef>
                <a:spcPts val="601"/>
              </a:spcBef>
              <a:buClr>
                <a:srgbClr val="b3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1004760" indent="-228600">
              <a:spcBef>
                <a:spcPts val="601"/>
              </a:spcBef>
              <a:buClr>
                <a:srgbClr val="95800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3" marL="1279440" indent="-228600">
              <a:spcBef>
                <a:spcPts val="601"/>
              </a:spcBef>
              <a:buClr>
                <a:srgbClr val="b3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4" marL="1554120" indent="-228600">
              <a:spcBef>
                <a:spcPts val="601"/>
              </a:spcBef>
              <a:buClr>
                <a:srgbClr val="b3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olas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4d2d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1FA2A-DD16-42E7-B2D5-A2836E713682}" type="slidenum">
              <a:rPr b="0" lang="ru-RU" sz="1600" spc="-1" strike="noStrike">
                <a:solidFill>
                  <a:srgbClr val="d4d2d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caf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639720" indent="-272880">
              <a:spcBef>
                <a:spcPts val="601"/>
              </a:spcBef>
              <a:buClr>
                <a:srgbClr val="b3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1004760" indent="-228600">
              <a:spcBef>
                <a:spcPts val="601"/>
              </a:spcBef>
              <a:buClr>
                <a:srgbClr val="95800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3" marL="1279440" indent="-228600">
              <a:spcBef>
                <a:spcPts val="601"/>
              </a:spcBef>
              <a:buClr>
                <a:srgbClr val="b3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4" marL="1554120" indent="-228600">
              <a:spcBef>
                <a:spcPts val="601"/>
              </a:spcBef>
              <a:buClr>
                <a:srgbClr val="b3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olas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4d2d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157BC-C87E-412D-B4B5-05E4BD2341E4}" type="slidenum">
              <a:rPr b="0" lang="ru-RU" sz="1600" spc="-1" strike="noStrike">
                <a:solidFill>
                  <a:srgbClr val="d4d2d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d4d2d0"/>
              </a:solidFill>
              <a:latin typeface="Corbel"/>
            </a:endParaRPr>
          </a:p>
        </p:txBody>
      </p:sp>
      <p:pic>
        <p:nvPicPr>
          <p:cNvPr id="294" name="Заголовок 1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6" name="Rectangle 3" descr=""/>
          <p:cNvPicPr/>
          <p:nvPr/>
        </p:nvPicPr>
        <p:blipFill>
          <a:blip r:embed="rId2"/>
          <a:stretch/>
        </p:blipFill>
        <p:spPr>
          <a:xfrm>
            <a:off x="-237960" y="268200"/>
            <a:ext cx="847404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Rectangle 2" descr=""/>
          <p:cNvPicPr/>
          <p:nvPr/>
        </p:nvPicPr>
        <p:blipFill>
          <a:blip r:embed="rId1"/>
          <a:stretch/>
        </p:blipFill>
        <p:spPr>
          <a:xfrm>
            <a:off x="298440" y="-23760"/>
            <a:ext cx="8394840" cy="1450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8" name=""/>
          <p:cNvGraphicFramePr/>
          <p:nvPr/>
        </p:nvGraphicFramePr>
        <p:xfrm>
          <a:off x="457200" y="1600200"/>
          <a:ext cx="4038480" cy="21859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1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РАНДАШНАЯ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4648320" y="1600200"/>
          <a:ext cx="4038480" cy="21859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1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ЕРЖНЕВАЯ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0" name=""/>
          <p:cNvGraphicFramePr/>
          <p:nvPr/>
        </p:nvGraphicFramePr>
        <p:xfrm>
          <a:off x="457200" y="3938760"/>
          <a:ext cx="4038480" cy="218736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1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ЛОМАСТЕРНА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1" name=""/>
          <p:cNvGraphicFramePr/>
          <p:nvPr/>
        </p:nvGraphicFramePr>
        <p:xfrm>
          <a:off x="4648320" y="3938760"/>
          <a:ext cx="4038480" cy="218736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1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Г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ИРКУЛЬНАЯ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Rectangle 2" descr=""/>
          <p:cNvPicPr/>
          <p:nvPr/>
        </p:nvPicPr>
        <p:blipFill>
          <a:blip r:embed="rId1"/>
          <a:stretch/>
        </p:blipFill>
        <p:spPr>
          <a:xfrm>
            <a:off x="324000" y="66600"/>
            <a:ext cx="8369280" cy="136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3" name=""/>
          <p:cNvGraphicFramePr/>
          <p:nvPr/>
        </p:nvGraphicFramePr>
        <p:xfrm>
          <a:off x="457200" y="1600200"/>
          <a:ext cx="4038480" cy="21859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1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ПЛО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4648320" y="1600200"/>
          <a:ext cx="4038480" cy="21859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1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ДА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457200" y="3938760"/>
          <a:ext cx="4038480" cy="218736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1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ЗДУХ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4648320" y="3938760"/>
          <a:ext cx="4038480" cy="218736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1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Г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ВЕТ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1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Rectangle 2" descr=""/>
          <p:cNvPicPr/>
          <p:nvPr/>
        </p:nvPicPr>
        <p:blipFill>
          <a:blip r:embed="rId1"/>
          <a:stretch/>
        </p:blipFill>
        <p:spPr>
          <a:xfrm>
            <a:off x="311040" y="182520"/>
            <a:ext cx="8382240" cy="1596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8" name=""/>
          <p:cNvGraphicFramePr/>
          <p:nvPr/>
        </p:nvGraphicFramePr>
        <p:xfrm>
          <a:off x="457200" y="1916280"/>
          <a:ext cx="4038480" cy="186984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186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РОВНА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4648320" y="1916280"/>
          <a:ext cx="4038480" cy="186984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186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ХАНИЧЕСКА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457200" y="4221000"/>
          <a:ext cx="4038480" cy="19051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190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НА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4648320" y="4221000"/>
          <a:ext cx="4038480" cy="19051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190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Г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ВОДЯЩА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" dur="1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Rectangle 2" descr=""/>
          <p:cNvPicPr/>
          <p:nvPr/>
        </p:nvPicPr>
        <p:blipFill>
          <a:blip r:embed="rId1"/>
          <a:stretch/>
        </p:blipFill>
        <p:spPr>
          <a:xfrm>
            <a:off x="324000" y="66600"/>
            <a:ext cx="8448480" cy="136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3" name=""/>
          <p:cNvGraphicFramePr/>
          <p:nvPr/>
        </p:nvGraphicFramePr>
        <p:xfrm>
          <a:off x="457200" y="1600200"/>
          <a:ext cx="4038480" cy="21859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1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ЗОТ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4" name=""/>
          <p:cNvGraphicFramePr/>
          <p:nvPr/>
        </p:nvGraphicFramePr>
        <p:xfrm>
          <a:off x="4648320" y="1600200"/>
          <a:ext cx="4038480" cy="21859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1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ГЛЕКИСЛЫЙ ГАЗ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457200" y="3938760"/>
          <a:ext cx="4038480" cy="218736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1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ИСЛОРОД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4648320" y="3938760"/>
          <a:ext cx="4038480" cy="218736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1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Г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ЗОН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10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" dur="10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Rectangle 2" descr=""/>
          <p:cNvPicPr/>
          <p:nvPr/>
        </p:nvPicPr>
        <p:blipFill>
          <a:blip r:embed="rId1"/>
          <a:stretch/>
        </p:blipFill>
        <p:spPr>
          <a:xfrm>
            <a:off x="378000" y="396720"/>
            <a:ext cx="8394480" cy="1597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8" name=""/>
          <p:cNvGraphicFramePr/>
          <p:nvPr/>
        </p:nvGraphicFramePr>
        <p:xfrm>
          <a:off x="457200" y="2276640"/>
          <a:ext cx="4038480" cy="180000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180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ИПАРИС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4648320" y="2276640"/>
          <a:ext cx="4038480" cy="180000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180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ЕРЁЗА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457200" y="4221000"/>
          <a:ext cx="4038480" cy="19051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190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АВР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1" name=""/>
          <p:cNvGraphicFramePr/>
          <p:nvPr/>
        </p:nvGraphicFramePr>
        <p:xfrm>
          <a:off x="4648320" y="4221000"/>
          <a:ext cx="4038480" cy="19051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190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Г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АПОРОТНИК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" dur="10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" dur="10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457200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-238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olas"/>
            </a:endParaRPr>
          </a:p>
        </p:txBody>
      </p:sp>
      <p:sp>
        <p:nvSpPr>
          <p:cNvPr id="324" name="WordArt 4"/>
          <p:cNvSpPr txBox="1"/>
          <p:nvPr/>
        </p:nvSpPr>
        <p:spPr>
          <a:xfrm>
            <a:off x="468360" y="1052640"/>
            <a:ext cx="820728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ЗДРАВЛЯЕМ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8T13:53:49Z</dcterms:created>
  <dc:creator>Index</dc:creator>
  <dc:description/>
  <dc:language>en-US</dc:language>
  <cp:lastModifiedBy>Максим</cp:lastModifiedBy>
  <dcterms:modified xsi:type="dcterms:W3CDTF">2011-09-24T15:53:28Z</dcterms:modified>
  <cp:revision>8</cp:revision>
  <dc:subject/>
  <dc:title>Вопрос №1</dc:title>
</cp:coreProperties>
</file>