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894-C438-4955-A398-023A38E2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B6B-6D53-4DB5-B1EA-768A46BA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1EF-B29D-4511-982D-36604738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20F-751B-4F73-B84F-A0B04D69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7E23-5960-42A8-A3FB-40ADE500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C441-2718-4EA7-A327-AC6D7639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E264-0BE0-4E43-9AA7-7ECEEF9A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1934-91BA-430A-9A2D-FF3BF912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5E40-90D5-4EDC-A78D-5A9BE823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9431-BDB3-49F4-848E-889942F3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DB46-B4BD-4805-A0BC-5BD8C04D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FE8-E1DD-49DE-AFB1-B8C228D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494-C550-4AA7-88D4-BFF247D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5C9B-6603-449D-BE91-8CF55E0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8AB8-C213-4805-BC03-268E067A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A081-CC9D-45DD-A6C6-4B9039A4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0F3C-27DC-4432-B44D-29B81074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B438-A9C7-4B9A-9E58-0A144858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7BF7-D577-4B58-8943-F4369CB5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2EEF-65C5-4B6D-853F-9EEC4E71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FDFF-EC6E-4C5C-88A9-7C2B5745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419A-5F3D-4FB3-8E7D-65C5C71B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FAA-855A-4FB3-8EF5-64CAFE7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8A79-7DAB-4F30-9BEC-D45683F5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CDBB-016C-499D-9325-9D5AF29E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B09D-FEBC-4BE3-A2FA-5D1FF84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C6DE-96C8-48DF-8A1C-0766A5E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BB704-0829-4AAB-B373-3CBEA5A9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8A90-DF08-43D8-825C-C716F59F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8F47-CD3F-4FFF-A414-E9B5F17B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99D4-339F-4D7C-B2CF-9E54E573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CE82-F01E-4575-B9AD-45017789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9A84E-5C23-4601-AEA9-9AF0B711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B9E-B3F5-4F05-BFF0-0784DE47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D000-54BA-4E50-9065-64A5089C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A2D3C-0B17-4587-A678-F53C1A04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1862-42FB-424C-B613-0FBBDCA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49E10-2B0C-4F9C-A955-2C756648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EC304-A660-452C-8AB3-21818AF0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0D58-ED96-469E-A481-B8D1527D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EBBD-8255-45E8-8023-9670EBC2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AAA5-0E03-4606-B45A-D0707A0A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E740-F68C-4DD9-9F50-818AF404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C9B9-ADEA-47A5-9E5B-03EE38E4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C58-B8A7-4CEF-A98B-DB987CE9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C875C-3007-4DAC-A9BA-779D44C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AED89-9637-489C-9E17-E273438D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A560-9C08-4F7B-BCCF-FFEF275A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96DDA-3291-4202-9625-8C820981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3B2D-E78C-4330-930D-51AEA334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C0AA0-1BBB-4F99-A5CA-22AA13DA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FE53-F23A-42ED-A4B2-E6E93198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3BE99-D80C-4041-B9C1-0E4B7FA4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4BB5A-B7D4-4AB0-B780-928CBF50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18CA7-4D26-44C7-91DC-DEAD9986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4A9A-F165-49F4-9BC5-28B289B8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0D88C-363C-4AA7-872B-949F84E9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5723E-32DE-4C3D-A2F2-D639DAE2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BEFA3-C29D-4F86-A863-9416F75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663C-B0B2-4CAB-A9A1-B4786F2C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6375-9658-4E81-8C1A-DAAB238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496DB-6F0D-4C64-A1B8-F493316B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6206-43C1-4C95-97BD-416A81E3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9EBA-3926-401F-BED0-9804DB5B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036EB-F593-4FD4-9A05-2B34A417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0B244-531C-42CB-A0D5-8652617C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B01-EB10-443F-9B2D-69DDE39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14775-0396-490D-8A83-69405B7E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F7446-2F10-4926-AA1E-62705415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8EA5D-B743-411E-BAC0-73BCFB45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D6C23-6737-4682-B29A-3295C0D7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04270-C891-4644-B56C-2B5F8C9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02685-3415-49A7-85FE-8F6C10D2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3F60-4015-48A5-9962-4D56C7D4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EF6E-F617-4048-910F-CAAB5580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94E0E-0620-4785-9AAF-1CB4CC4A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17BCD-BAA9-4268-A3BF-BAAD7981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434-2DF5-426D-B94C-5D0C43E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E0F1D-F4C9-40C9-AB81-91B39593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BBA2E-373F-44F6-8469-F282316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A4A27-681C-47FF-B80D-9F57516E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2740F-3E48-458F-AC2E-BCE4BC58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9CFA8-8C89-4A77-B70A-6FB27C4E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C87-E576-4BA6-A175-A439907C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602-C82C-47E1-8994-52E70A163FE1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C5A5-E72B-49BA-81C0-93A0033344E9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4D91-4017-4D6F-9CA6-77824627E272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1B30-74A4-42D4-954B-B5493CC82E25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FB18-BCDB-4AB9-854E-2540C61AA0E5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B9D3-9472-4FF2-8C21-E40379AF98A7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5DFC-E475-4E51-9115-FFEA739C5BBC}" type="slidenum">
              <a:rPr b="0" lang="en-US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500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74396"/>
                </a:solidFill>
                <a:latin typeface="Corbel"/>
              </a:rPr>
              <a:t>Художественная гимнастика</a:t>
            </a:r>
            <a:br>
              <a:rPr sz="4400"/>
            </a:br>
            <a:endParaRPr b="0" lang="en-US" sz="44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229716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5" descr="Cervenkova.JPG"/>
          <p:cNvPicPr/>
          <p:nvPr/>
        </p:nvPicPr>
        <p:blipFill>
          <a:blip r:embed="rId2"/>
          <a:stretch/>
        </p:blipFill>
        <p:spPr>
          <a:xfrm>
            <a:off x="1481040" y="1305000"/>
            <a:ext cx="3657600" cy="32176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6" descr="rsg2.jpg"/>
          <p:cNvPicPr/>
          <p:nvPr/>
        </p:nvPicPr>
        <p:blipFill>
          <a:blip r:embed="rId3"/>
          <a:stretch/>
        </p:blipFill>
        <p:spPr>
          <a:xfrm>
            <a:off x="4767120" y="2389320"/>
            <a:ext cx="4084920" cy="3878280"/>
          </a:xfrm>
          <a:prstGeom prst="rect">
            <a:avLst/>
          </a:prstGeom>
          <a:ln w="0">
            <a:noFill/>
          </a:ln>
        </p:spPr>
      </p:pic>
      <p:sp>
        <p:nvSpPr>
          <p:cNvPr id="322" name="Подзаголовок 2"/>
          <p:cNvSpPr/>
          <p:nvPr/>
        </p:nvSpPr>
        <p:spPr>
          <a:xfrm>
            <a:off x="642960" y="4786200"/>
            <a:ext cx="41432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Учитель физической культу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МОУ СОШ №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Г.Калинин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Ульдан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orbel"/>
              </a:rPr>
              <a:t>Наталья Владимир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4396"/>
                </a:solidFill>
                <a:latin typeface="Corbel"/>
              </a:rPr>
              <a:t>Художественная гимнастика</a:t>
            </a:r>
            <a:r>
              <a:rPr b="0" lang="en-US" sz="3200" spc="-1" strike="noStrike">
                <a:solidFill>
                  <a:srgbClr val="874396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— вид спорта, выполнение под музыку различных гимнастических и танцевальных упражнений без предмета, а также с предметом (скакалка, обруч, мяч, булавы, лента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3" descr="bi023293.jpg"/>
          <p:cNvPicPr/>
          <p:nvPr/>
        </p:nvPicPr>
        <p:blipFill>
          <a:blip r:embed="rId2"/>
          <a:stretch/>
        </p:blipFill>
        <p:spPr>
          <a:xfrm>
            <a:off x="804960" y="4200480"/>
            <a:ext cx="2535120" cy="26020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32096_78943.jpg"/>
          <p:cNvPicPr/>
          <p:nvPr/>
        </p:nvPicPr>
        <p:blipFill>
          <a:blip r:embed="rId3"/>
          <a:stretch/>
        </p:blipFill>
        <p:spPr>
          <a:xfrm>
            <a:off x="5851440" y="-6480"/>
            <a:ext cx="2414520" cy="154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4" descr="ууууу.jpg"/>
          <p:cNvPicPr/>
          <p:nvPr/>
        </p:nvPicPr>
        <p:blipFill>
          <a:blip r:embed="rId2"/>
          <a:stretch/>
        </p:blipFill>
        <p:spPr>
          <a:xfrm rot="20088000">
            <a:off x="6889680" y="3715920"/>
            <a:ext cx="2357640" cy="20797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3" descr="1216969309_aliya1.jpg"/>
          <p:cNvPicPr/>
          <p:nvPr/>
        </p:nvPicPr>
        <p:blipFill>
          <a:blip r:embed="rId3"/>
          <a:stretch/>
        </p:blipFill>
        <p:spPr>
          <a:xfrm>
            <a:off x="6638760" y="633240"/>
            <a:ext cx="2829240" cy="28162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                       </a:t>
            </a:r>
            <a:r>
              <a:rPr b="1" lang="en-US" sz="4300" spc="-1" strike="noStrike">
                <a:solidFill>
                  <a:srgbClr val="c22ea4"/>
                </a:solidFill>
                <a:latin typeface="Corbel"/>
              </a:rPr>
              <a:t>История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71680" y="714240"/>
            <a:ext cx="70005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Художественная гимнастика — сравнительно молодой вид спорта; своим появлением он обязан мэтрам балета прославленного Марлинского театра. За сравнительно небольшой срок своего существования этот вид спорта завоевал мировую признательность и имеет многочисленных поклонников во всех уголках земного ша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1913 году в Ленинградском институте физической культуры имени П. Ф. Лесгафта была открыта высшая школа художественного движения. Первыми педагогами ее стали Роза Варшавская, Елена Горлова, Анастасия Невинская, Александра Семенова-Найпак. Все эти преподаватели до прихода в ВШХГ имели свой опыт в работе по преподаванию : «эстетической гимнастики» — Франсуа Дельсарта, «ритмической гимнастики» — Эмиля Жака дель-Кроза, «танцевальной гимнастики» — Жоржа Демини и «свободного танца» — Айседоры Дункан. Слияние воедино всех этих направлений гимнастики способствовало появлению этого изящного вида спор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Рисунок 4" descr="Xud Gimn v KEO_211008.jpg"/>
          <p:cNvPicPr/>
          <p:nvPr/>
        </p:nvPicPr>
        <p:blipFill>
          <a:blip r:embed="rId2"/>
          <a:stretch/>
        </p:blipFill>
        <p:spPr>
          <a:xfrm>
            <a:off x="7375680" y="5541840"/>
            <a:ext cx="1774800" cy="13226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" descr="o-00049809-a-00012644.jpg"/>
          <p:cNvPicPr/>
          <p:nvPr/>
        </p:nvPicPr>
        <p:blipFill>
          <a:blip r:embed="rId3"/>
          <a:stretch/>
        </p:blipFill>
        <p:spPr>
          <a:xfrm>
            <a:off x="-6480" y="-6480"/>
            <a:ext cx="1938600" cy="1457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Олимпийская история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3880" y="12859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980 — стал для художественной гимнастики поворотным, после завершения Олимпийских игр в Москве, на конгрессе МОК было принято решение о включении этого вида спорта в программу Олимпийских игр. Олимпийская же история художественной гимнастики начинается в 1984 году когда первое Олимпийское золото завоевала в Лос-Анджелесе канадка Лори Фан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пустя четыре года олимпийской чемпионкой в Сеуле стала Марина Лобач, Александра Тимошенко одержала победу в Барселоне, в Атланте — Екатерина Серебрянская, в Сиднее — Юлия Барсукова, в Афинах — Алина Кабаева, в Пекине — Евгения Канаева. Начиная с Олимпийских Игр в Атланте художественная гимнастика была представлена полностью двумя разделами: соревнованиями в индивидуальных и групповых упражнения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4" descr="8-web.jpg"/>
          <p:cNvPicPr/>
          <p:nvPr/>
        </p:nvPicPr>
        <p:blipFill>
          <a:blip r:embed="rId2"/>
          <a:stretch/>
        </p:blipFill>
        <p:spPr>
          <a:xfrm>
            <a:off x="6566040" y="5425920"/>
            <a:ext cx="2584440" cy="14385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Lenta.jpg"/>
          <p:cNvPicPr/>
          <p:nvPr/>
        </p:nvPicPr>
        <p:blipFill>
          <a:blip r:embed="rId3"/>
          <a:stretch/>
        </p:blipFill>
        <p:spPr>
          <a:xfrm>
            <a:off x="-6480" y="-6480"/>
            <a:ext cx="1871640" cy="26766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Система оценок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Международная федерация гимнастики в 2001, 2003 и 2005 годах меняла технический регламент для того, чтобы подчеркнуть технические элементы и уменьшить субъективность оценок. До 2001 года оценка выставлялась по 10-и балльной шкале, что было изменено на 30-и балльную шкалу в 2003 и на 20-и балльную шкалу в 2005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700"/>
                            </p:stCondLst>
                            <p:childTnLst>
                              <p:par>
                                <p:cTn id="17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7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5" descr="66.jpg"/>
          <p:cNvPicPr/>
          <p:nvPr/>
        </p:nvPicPr>
        <p:blipFill>
          <a:blip r:embed="rId2"/>
          <a:stretch/>
        </p:blipFill>
        <p:spPr>
          <a:xfrm>
            <a:off x="-23760" y="-6480"/>
            <a:ext cx="1243080" cy="3608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ккккк.jpg"/>
          <p:cNvPicPr/>
          <p:nvPr/>
        </p:nvPicPr>
        <p:blipFill>
          <a:blip r:embed="rId3"/>
          <a:stretch/>
        </p:blipFill>
        <p:spPr>
          <a:xfrm>
            <a:off x="7500960" y="4714920"/>
            <a:ext cx="1270080" cy="1905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Некоторые особенности </a:t>
            </a:r>
            <a:r>
              <a:rPr b="1" lang="en-US" sz="3900" spc="-1" strike="noStrike">
                <a:solidFill>
                  <a:srgbClr val="c22ea4"/>
                </a:solidFill>
                <a:latin typeface="Gill Sans MT"/>
              </a:rPr>
              <a:t>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художественной гимнастики</a:t>
            </a:r>
            <a:br>
              <a:rPr sz="3900"/>
            </a:br>
            <a:endParaRPr b="0" lang="en-US" sz="39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14280" y="135684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Первые шаги в художественной гимнастике желательны в очень юном возрасте — в 3-5 лет, т.к организм ребенка гораздо восприимчивее к развитию гибкости, координации и быстроты движений. Главные качества гимнаста это сила воли, выносливость и пластика. Как правило, уже в 14-16 лет многим спортсменам приходится расставаться с гимнастикой или переходить в спортивный балет. Лишь немногие гимнастки продолжают спортивную карьеру до 20-22 лет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                   </a:t>
            </a: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Судейство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ельзя не отметить тот факт, что художественная гимнастика, точнее оценка результатов выступлений, вещь крайне субъективная. Не раз возникали серьезные скандалы и даже дисквалификации судей из-за неравноценного отношения к спортсмен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3" descr="o-00049809-a-00012644.jpg"/>
          <p:cNvPicPr/>
          <p:nvPr/>
        </p:nvPicPr>
        <p:blipFill>
          <a:blip r:embed="rId2"/>
          <a:stretch/>
        </p:blipFill>
        <p:spPr>
          <a:xfrm>
            <a:off x="1000080" y="0"/>
            <a:ext cx="2071800" cy="1785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5" name="Рисунок 4" descr="dsc_5468.jpg"/>
          <p:cNvPicPr/>
          <p:nvPr/>
        </p:nvPicPr>
        <p:blipFill>
          <a:blip r:embed="rId3"/>
          <a:stretch/>
        </p:blipFill>
        <p:spPr>
          <a:xfrm>
            <a:off x="7477200" y="4705200"/>
            <a:ext cx="1666800" cy="215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pull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Олимпийские чемпионки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баева  Али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наева Евг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пранова  Ольг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щина  Ири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9" descr="чащина 2.jpg"/>
          <p:cNvPicPr/>
          <p:nvPr/>
        </p:nvPicPr>
        <p:blipFill>
          <a:blip r:embed="rId2"/>
          <a:stretch/>
        </p:blipFill>
        <p:spPr>
          <a:xfrm>
            <a:off x="6924600" y="4492800"/>
            <a:ext cx="1811520" cy="17985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0" descr="Капранова.jpg"/>
          <p:cNvPicPr/>
          <p:nvPr/>
        </p:nvPicPr>
        <p:blipFill>
          <a:blip r:embed="rId3"/>
          <a:stretch/>
        </p:blipFill>
        <p:spPr>
          <a:xfrm>
            <a:off x="4925880" y="2919240"/>
            <a:ext cx="1511280" cy="17989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1" descr="канаева.jpg"/>
          <p:cNvPicPr/>
          <p:nvPr/>
        </p:nvPicPr>
        <p:blipFill>
          <a:blip r:embed="rId4"/>
          <a:stretch/>
        </p:blipFill>
        <p:spPr>
          <a:xfrm>
            <a:off x="2852640" y="3852720"/>
            <a:ext cx="1652760" cy="15242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2" descr="bi012773.jpg"/>
          <p:cNvPicPr/>
          <p:nvPr/>
        </p:nvPicPr>
        <p:blipFill>
          <a:blip r:embed="rId5"/>
          <a:stretch/>
        </p:blipFill>
        <p:spPr>
          <a:xfrm>
            <a:off x="6492960" y="1066680"/>
            <a:ext cx="1498680" cy="1652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9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9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90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9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9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900"/>
                            </p:stCondLst>
                            <p:childTnLst>
                              <p:par>
                                <p:cTn id="2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9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90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3" descr="0_5d89_9b0f186_XL.jpg"/>
          <p:cNvPicPr/>
          <p:nvPr/>
        </p:nvPicPr>
        <p:blipFill>
          <a:blip r:embed="rId2"/>
          <a:stretch/>
        </p:blipFill>
        <p:spPr>
          <a:xfrm>
            <a:off x="1857240" y="142920"/>
            <a:ext cx="5500800" cy="6572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09:33:22Z</dcterms:created>
  <dc:creator>Kutuzov</dc:creator>
  <dc:description/>
  <dc:language>en-US</dc:language>
  <cp:lastModifiedBy>MAMA</cp:lastModifiedBy>
  <dcterms:modified xsi:type="dcterms:W3CDTF">2009-12-07T07:37:52Z</dcterms:modified>
  <cp:revision>15</cp:revision>
  <dc:subject/>
  <dc:title>Художественная гимнастика</dc:title>
</cp:coreProperties>
</file>