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5D1A-12DB-4C66-A5CA-37C4B121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8535-8363-4CA1-AE77-B11C7F8A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A0A-D7E9-4FFE-B8DC-63248499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FCB-B7E5-435A-9162-8B0B4379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DE44-9AA0-4D63-8EF7-8CBEC377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09D8-8184-429A-B0C1-B1B3154C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0E76-2926-457C-899E-CD818A33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D38E-665F-446D-93F3-418C54BC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6814-CBDF-44A0-AF50-A6860503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5303-99BD-4714-B073-6B573861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6517-F6EA-42F0-A489-6CE3A0EB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B8F-F778-4451-B0F5-33902A68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0F8C-3D0A-4930-96F7-7B9A4ED0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E27B-D11E-4439-93B4-F7E3ACCC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751E-56CC-49E2-8E0A-D3537642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1BE5-52E2-42A7-BBBD-37E8E0B1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6C7E-764F-463F-B39F-CCDC823F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BAEF4-51B7-4E25-8EE1-B057764D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E8826-EFA0-41AE-A361-5DA60326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9FEE6-C65E-4614-AED6-A37E45B5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9A775-A24D-4019-9AEC-65BA5998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F85DE-F33E-4841-806E-BEB43709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CD9-EF72-4858-8FDD-AACA7CF4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C09BA-ABAA-4B43-B06D-0D3E5C09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95647-5B1A-40EB-9FA4-253D09DD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ECE53-3345-4224-9E7A-7E89AB0F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40BCA-B723-4ED9-8574-BD991A6D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86A71-4BB0-4E7E-8C1E-36AD3793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B8CF1-84F9-458C-B2B0-8E4EBEE6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864FB-D20B-4C01-BCF9-44DD520C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584F9-2B87-4E92-A3F7-EABC2927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684C1-E1C8-419F-A03A-316028C4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5E8EF-C101-4AA7-8C79-826E4BF5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CEE4-3B5D-45D3-ABE6-12CC1619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AA369-5375-4470-BF56-C54E795A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760EA-DC19-40FC-8426-D4D30B18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F8C35-0D31-4DA3-B89F-BA796B53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D2C48-C600-4651-ACE3-8558DD63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2E54F-1A32-41CF-B814-29A875C7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006CD-9CC6-4B6F-BD29-00D9C1B3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A5E9E-37A9-4FFD-BBAD-84A8E97B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2FEFB-AB4C-4253-A79E-6AC3D86C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6869E-0233-4C26-BB1D-8408511A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54A3B-0A62-4A22-89DE-8522DE07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7FB-049E-48A0-9BEC-983ED83D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C30F8-C8EC-4F41-9671-3937D21B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69F1D-E8FE-42E2-B872-4B00A817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994FC-CE26-4E53-A330-502824F0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D5FBA-26EA-4600-B75D-846F5F72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A64A8-45FC-4B7D-9884-CB9C255A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A9292-039F-4E96-9158-047F5EA3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3B56F-AE9B-4F25-8108-A468DC3C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060F8-43AD-4085-93E5-59A1E8EC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11DD4-2877-4344-912A-39C2F22F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117B0-4825-4619-BAC0-58C3BE7D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DFA-DBF1-4631-ADCC-93FE91C8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33049-7C7A-4C48-BFC4-23A31663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C5EB7-FE02-4263-A014-06259C98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3C0C9-5818-4C00-ABBD-EF1BFF2F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288AB-63B1-46A4-BA9D-15CE9016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41ED8-CAA1-4097-8ABD-49CAD221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5FDF6-C8C8-4EE2-BA9E-418E08DA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FA766-8C84-4E6D-9E7F-7A530C89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926AF-9F3C-46BE-9090-CB8A8330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DDCAF-65A6-4345-BE15-44F8B97F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6338C-FCB2-41FE-BB3B-FDF3934D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DD24-2897-4400-9156-D4E03F7E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AE262-FC3D-4028-93FD-0F1ECB3E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6A4AA-0629-4D97-9FDE-4FE71F3D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B2CD1-B3E5-4A4A-B15B-83FD2C3F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1FF6A-C7A2-43FC-9ED9-FB2638F3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03262-5C8C-43C9-8DCB-02B143D8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630BB-F391-46C0-B4F3-592E96D3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0EF16-2298-42B9-A366-1FD8734D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8797D-F95A-42CF-A78C-96A90AAC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8A90F-BE3F-4A68-A9FD-68848896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705BC-43A5-4B49-87B1-93B95587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8D5-DE0C-46AC-A7FF-17D1DA0F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119BE-13E4-47EA-9F01-FC7FB4F1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7A8B7-3751-4C63-A52D-6E3F07AE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73479-4042-4C85-A69E-9810E12C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59C9D-B1B8-47E7-84CD-58586CE0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049D0-B200-4AA2-9EA3-10F22D38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AAC-5AAC-4C75-A372-0D5EDD37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F617-C33C-4374-B490-247989A6501B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4FF9-37B4-4131-A88F-29CDB761C02F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D2DE-928D-487B-B07E-85D35FBCC5B3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A7CC-3FA2-4E86-A5B8-E1A70020AF24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EF5A-D6C1-4217-9DB3-B46CC1C403B1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C46B-6825-4E82-AAAC-575B71D5776A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A27A-8688-46ED-999F-D16ADB5C1A95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840" y="5000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74396"/>
                </a:solidFill>
                <a:latin typeface="Corbel"/>
              </a:rPr>
              <a:t>Художественная гимнастика</a:t>
            </a:r>
            <a:br>
              <a:rPr sz="4400"/>
            </a:br>
            <a:endParaRPr b="0" lang="en-US" sz="44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9" name="Прямоугольник 3"/>
          <p:cNvSpPr/>
          <p:nvPr/>
        </p:nvSpPr>
        <p:spPr>
          <a:xfrm>
            <a:off x="229716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5" descr="Cervenkova.JPG"/>
          <p:cNvPicPr/>
          <p:nvPr/>
        </p:nvPicPr>
        <p:blipFill>
          <a:blip r:embed="rId2"/>
          <a:stretch/>
        </p:blipFill>
        <p:spPr>
          <a:xfrm>
            <a:off x="1481040" y="1305000"/>
            <a:ext cx="3657600" cy="321768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6" descr="rsg2.jpg"/>
          <p:cNvPicPr/>
          <p:nvPr/>
        </p:nvPicPr>
        <p:blipFill>
          <a:blip r:embed="rId3"/>
          <a:stretch/>
        </p:blipFill>
        <p:spPr>
          <a:xfrm>
            <a:off x="4767120" y="2389320"/>
            <a:ext cx="4084920" cy="3878280"/>
          </a:xfrm>
          <a:prstGeom prst="rect">
            <a:avLst/>
          </a:prstGeom>
          <a:ln w="0">
            <a:noFill/>
          </a:ln>
        </p:spPr>
      </p:pic>
      <p:sp>
        <p:nvSpPr>
          <p:cNvPr id="322" name="Подзаголовок 2"/>
          <p:cNvSpPr/>
          <p:nvPr/>
        </p:nvSpPr>
        <p:spPr>
          <a:xfrm>
            <a:off x="642960" y="4786200"/>
            <a:ext cx="41432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orbel"/>
              </a:rPr>
              <a:t>Учитель физической культу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orbel"/>
              </a:rPr>
              <a:t>МОУ СОШ №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orbel"/>
              </a:rPr>
              <a:t>Г.Калинингра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orbel"/>
              </a:rPr>
              <a:t>Ульдано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i="1" lang="ru-RU" sz="2200" spc="-1" strike="noStrike">
                <a:solidFill>
                  <a:srgbClr val="002060"/>
                </a:solidFill>
                <a:latin typeface="Corbel"/>
              </a:rPr>
              <a:t>Наталья Владимир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50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5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5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4396"/>
                </a:solidFill>
                <a:latin typeface="Corbel"/>
              </a:rPr>
              <a:t>Художественная гимнастика</a:t>
            </a:r>
            <a:r>
              <a:rPr b="0" lang="en-US" sz="3200" spc="-1" strike="noStrike">
                <a:solidFill>
                  <a:srgbClr val="874396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— вид спорта, выполнение под музыку различных гимнастических и танцевальных упражнений без предмета, а также с предметом (скакалка, обруч, мяч, булавы, лента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Рисунок 3" descr="bi023293.jpg"/>
          <p:cNvPicPr/>
          <p:nvPr/>
        </p:nvPicPr>
        <p:blipFill>
          <a:blip r:embed="rId2"/>
          <a:stretch/>
        </p:blipFill>
        <p:spPr>
          <a:xfrm>
            <a:off x="804960" y="4200480"/>
            <a:ext cx="2535120" cy="260208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4" descr="32096_78943.jpg"/>
          <p:cNvPicPr/>
          <p:nvPr/>
        </p:nvPicPr>
        <p:blipFill>
          <a:blip r:embed="rId3"/>
          <a:stretch/>
        </p:blipFill>
        <p:spPr>
          <a:xfrm>
            <a:off x="5851440" y="-6480"/>
            <a:ext cx="2414520" cy="154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Рисунок 4" descr="ууууу.jpg"/>
          <p:cNvPicPr/>
          <p:nvPr/>
        </p:nvPicPr>
        <p:blipFill>
          <a:blip r:embed="rId2"/>
          <a:stretch/>
        </p:blipFill>
        <p:spPr>
          <a:xfrm rot="20088000">
            <a:off x="6889680" y="3715920"/>
            <a:ext cx="2357640" cy="207972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3" descr="1216969309_aliya1.jpg"/>
          <p:cNvPicPr/>
          <p:nvPr/>
        </p:nvPicPr>
        <p:blipFill>
          <a:blip r:embed="rId3"/>
          <a:stretch/>
        </p:blipFill>
        <p:spPr>
          <a:xfrm>
            <a:off x="6638760" y="633240"/>
            <a:ext cx="2829240" cy="281628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                       </a:t>
            </a:r>
            <a:r>
              <a:rPr b="1" lang="en-US" sz="4300" spc="-1" strike="noStrike">
                <a:solidFill>
                  <a:srgbClr val="c22ea4"/>
                </a:solidFill>
                <a:latin typeface="Corbel"/>
              </a:rPr>
              <a:t>История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71680" y="714240"/>
            <a:ext cx="70005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Художественная гимнастика — сравнительно молодой вид спорта; своим появлением он обязан мэтрам балета прославленного Марлинского театра. За сравнительно небольшой срок своего существования этот вид спорта завоевал мировую признательность и имеет многочисленных поклонников во всех уголках земного ша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1913 году в Ленинградском институте физической культуры имени П. Ф. Лесгафта была открыта высшая школа художественного движения. Первыми педагогами ее стали Роза Варшавская, Елена Горлова, Анастасия Невинская, Александра Семенова-Найпак. Все эти преподаватели до прихода в ВШХГ имели свой опыт в работе по преподаванию : «эстетической гимнастики» — Франсуа Дельсарта, «ритмической гимнастики» — Эмиля Жака дель-Кроза, «танцевальной гимнастики» — Жоржа Демини и «свободного танца» — Айседоры Дункан. Слияние воедино всех этих направлений гимнастики способствовало появлению этого изящного вида спорт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Рисунок 4" descr="Xud Gimn v KEO_211008.jpg"/>
          <p:cNvPicPr/>
          <p:nvPr/>
        </p:nvPicPr>
        <p:blipFill>
          <a:blip r:embed="rId2"/>
          <a:stretch/>
        </p:blipFill>
        <p:spPr>
          <a:xfrm>
            <a:off x="7375680" y="5541840"/>
            <a:ext cx="1774800" cy="132264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3" descr="o-00049809-a-00012644.jpg"/>
          <p:cNvPicPr/>
          <p:nvPr/>
        </p:nvPicPr>
        <p:blipFill>
          <a:blip r:embed="rId3"/>
          <a:stretch/>
        </p:blipFill>
        <p:spPr>
          <a:xfrm>
            <a:off x="-6480" y="-6480"/>
            <a:ext cx="1938600" cy="14572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c22ea4"/>
                </a:solidFill>
                <a:latin typeface="Gill Sans MT"/>
              </a:rPr>
              <a:t>        </a:t>
            </a: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Олимпийская история</a:t>
            </a:r>
            <a:br>
              <a:rPr sz="3900"/>
            </a:b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13880" y="1285920"/>
            <a:ext cx="82868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980 — стал для художественной гимнастики поворотным, после завершения Олимпийских игр в Москве, на конгрессе МОК было принято решение о включении этого вида спорта в программу Олимпийских игр. Олимпийская же история художественной гимнастики начинается в 1984 году когда первое Олимпийское золото завоевала в Лос-Анджелесе канадка Лори Фанг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пустя четыре года олимпийской чемпионкой в Сеуле стала Марина Лобач, Александра Тимошенко одержала победу в Барселоне, в Атланте — Екатерина Серебрянская, в Сиднее — Юлия Барсукова, в Афинах — Алина Кабаева, в Пекине — Евгения Канаева. Начиная с Олимпийских Игр в Атланте художественная гимнастика была представлена полностью двумя разделами: соревнованиями в индивидуальных и групповых упражнения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in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Рисунок 4" descr="8-web.jpg"/>
          <p:cNvPicPr/>
          <p:nvPr/>
        </p:nvPicPr>
        <p:blipFill>
          <a:blip r:embed="rId2"/>
          <a:stretch/>
        </p:blipFill>
        <p:spPr>
          <a:xfrm>
            <a:off x="6566040" y="5425920"/>
            <a:ext cx="2584440" cy="143856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" descr="Lenta.jpg"/>
          <p:cNvPicPr/>
          <p:nvPr/>
        </p:nvPicPr>
        <p:blipFill>
          <a:blip r:embed="rId3"/>
          <a:stretch/>
        </p:blipFill>
        <p:spPr>
          <a:xfrm>
            <a:off x="-6480" y="-6480"/>
            <a:ext cx="1871640" cy="26766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c22ea4"/>
                </a:solidFill>
                <a:latin typeface="Gill Sans MT"/>
              </a:rPr>
              <a:t>            </a:t>
            </a: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Система оценок</a:t>
            </a:r>
            <a:br>
              <a:rPr sz="3900"/>
            </a:b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1285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Международная федерация гимнастики в 2001, 2003 и 2005 годах меняла технический регламент для того, чтобы подчеркнуть технические элементы и уменьшить субъективность оценок. До 2001 года оценка выставлялась по 10-и балльной шкале, что было изменено на 30-и балльную шкалу в 2003 и на 20-и балльную шкалу в 2005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lus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700"/>
                            </p:stCondLst>
                            <p:childTnLst>
                              <p:par>
                                <p:cTn id="17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700"/>
                            </p:stCondLst>
                            <p:childTnLst>
                              <p:par>
                                <p:cTn id="1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Рисунок 5" descr="66.jpg"/>
          <p:cNvPicPr/>
          <p:nvPr/>
        </p:nvPicPr>
        <p:blipFill>
          <a:blip r:embed="rId2"/>
          <a:stretch/>
        </p:blipFill>
        <p:spPr>
          <a:xfrm>
            <a:off x="-23760" y="-6480"/>
            <a:ext cx="1243080" cy="360864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4" descr="ккккк.jpg"/>
          <p:cNvPicPr/>
          <p:nvPr/>
        </p:nvPicPr>
        <p:blipFill>
          <a:blip r:embed="rId3"/>
          <a:stretch/>
        </p:blipFill>
        <p:spPr>
          <a:xfrm>
            <a:off x="7500960" y="4714920"/>
            <a:ext cx="1270080" cy="1905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c22ea4"/>
                </a:solidFill>
                <a:latin typeface="Gill Sans MT"/>
              </a:rPr>
              <a:t>     </a:t>
            </a: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Некоторые особенности </a:t>
            </a:r>
            <a:r>
              <a:rPr b="1" lang="en-US" sz="3900" spc="-1" strike="noStrike">
                <a:solidFill>
                  <a:srgbClr val="c22ea4"/>
                </a:solidFill>
                <a:latin typeface="Gill Sans MT"/>
              </a:rPr>
              <a:t>        </a:t>
            </a: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художественной гимнастики</a:t>
            </a:r>
            <a:br>
              <a:rPr sz="3900"/>
            </a:b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214280" y="135684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Первые шаги в художественной гимнастике желательны в очень юном возрасте — в 3-5 лет, т.к организм ребенка гораздо восприимчивее к развитию гибкости, координации и быстроты движений. Главные качества гимнаста это сила воли, выносливость и пластика. Как правило, уже в 14-16 лет многим спортсменам приходится расставаться с гимнастикой или переходить в спортивный балет. Лишь немногие гимнастки продолжают спортивную карьеру до 20-22 лет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                   </a:t>
            </a: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Судейство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Нельзя не отметить тот факт, что художественная гимнастика, точнее оценка результатов выступлений, вещь крайне субъективная. Не раз возникали серьезные скандалы и даже дисквалификации судей из-за неравноценного отношения к спортсмена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Рисунок 3" descr="o-00049809-a-00012644.jpg"/>
          <p:cNvPicPr/>
          <p:nvPr/>
        </p:nvPicPr>
        <p:blipFill>
          <a:blip r:embed="rId2"/>
          <a:stretch/>
        </p:blipFill>
        <p:spPr>
          <a:xfrm>
            <a:off x="1000080" y="0"/>
            <a:ext cx="2071800" cy="1785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45" name="Рисунок 4" descr="dsc_5468.jpg"/>
          <p:cNvPicPr/>
          <p:nvPr/>
        </p:nvPicPr>
        <p:blipFill>
          <a:blip r:embed="rId3"/>
          <a:stretch/>
        </p:blipFill>
        <p:spPr>
          <a:xfrm>
            <a:off x="7477200" y="4705200"/>
            <a:ext cx="1666800" cy="2152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pull dir="r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Олимпийские чемпионки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баева  Али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наева Евг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пранова  Ольг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щина  Ири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Рисунок 9" descr="чащина 2.jpg"/>
          <p:cNvPicPr/>
          <p:nvPr/>
        </p:nvPicPr>
        <p:blipFill>
          <a:blip r:embed="rId2"/>
          <a:stretch/>
        </p:blipFill>
        <p:spPr>
          <a:xfrm>
            <a:off x="6924600" y="4492800"/>
            <a:ext cx="1811520" cy="179856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10" descr="Капранова.jpg"/>
          <p:cNvPicPr/>
          <p:nvPr/>
        </p:nvPicPr>
        <p:blipFill>
          <a:blip r:embed="rId3"/>
          <a:stretch/>
        </p:blipFill>
        <p:spPr>
          <a:xfrm>
            <a:off x="4925880" y="2919240"/>
            <a:ext cx="1511280" cy="179892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1" descr="канаева.jpg"/>
          <p:cNvPicPr/>
          <p:nvPr/>
        </p:nvPicPr>
        <p:blipFill>
          <a:blip r:embed="rId4"/>
          <a:stretch/>
        </p:blipFill>
        <p:spPr>
          <a:xfrm>
            <a:off x="2852640" y="3852720"/>
            <a:ext cx="1652760" cy="152424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12" descr="bi012773.jpg"/>
          <p:cNvPicPr/>
          <p:nvPr/>
        </p:nvPicPr>
        <p:blipFill>
          <a:blip r:embed="rId5"/>
          <a:stretch/>
        </p:blipFill>
        <p:spPr>
          <a:xfrm>
            <a:off x="6492960" y="1066680"/>
            <a:ext cx="1498680" cy="1652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900"/>
                            </p:stCondLst>
                            <p:childTnLst>
                              <p:par>
                                <p:cTn id="2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900"/>
                            </p:stCondLst>
                            <p:childTnLst>
                              <p:par>
                                <p:cTn id="2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900"/>
                            </p:stCondLst>
                            <p:childTnLst>
                              <p:par>
                                <p:cTn id="2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900"/>
                            </p:stCondLst>
                            <p:childTnLst>
                              <p:par>
                                <p:cTn id="2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900"/>
                            </p:stCondLst>
                            <p:childTnLst>
                              <p:par>
                                <p:cTn id="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900"/>
                            </p:stCondLst>
                            <p:childTnLst>
                              <p:par>
                                <p:cTn id="2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900"/>
                            </p:stCondLst>
                            <p:childTnLst>
                              <p:par>
                                <p:cTn id="3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900"/>
                            </p:stCondLst>
                            <p:childTnLst>
                              <p:par>
                                <p:cTn id="3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Рисунок 3" descr="0_5d89_9b0f186_XL.jpg"/>
          <p:cNvPicPr/>
          <p:nvPr/>
        </p:nvPicPr>
        <p:blipFill>
          <a:blip r:embed="rId2"/>
          <a:stretch/>
        </p:blipFill>
        <p:spPr>
          <a:xfrm>
            <a:off x="1857240" y="142920"/>
            <a:ext cx="5500800" cy="6572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09:33:22Z</dcterms:created>
  <dc:creator>Kutuzov</dc:creator>
  <dc:description/>
  <dc:language>en-US</dc:language>
  <cp:lastModifiedBy>MAMA</cp:lastModifiedBy>
  <dcterms:modified xsi:type="dcterms:W3CDTF">2009-12-07T07:37:52Z</dcterms:modified>
  <cp:revision>15</cp:revision>
  <dc:subject/>
  <dc:title>Художественная гимнастика</dc:title>
</cp:coreProperties>
</file>