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B99-BD56-40A9-8E21-FAE699D1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448-F195-45F1-A5FA-089F83D7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D6E-BA93-4869-86C8-8C6E4A7D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CA4-5B4B-4614-9E7C-F67C717A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BBB-ECBE-41B5-9A84-F55F33B2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E387-44DA-49F6-8F03-341BD96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969-D8F6-4FF9-BBEC-A868337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8AB1-34BD-467A-AFEE-F7F9AD77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10D-2980-4DDA-AE84-E94E881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E1D-844C-420E-8587-35EA87C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8DE4-3BB2-42EF-80F4-38B19E1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971-756C-4F5F-BD00-891BFD8D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EC1-D4A5-4B8A-BE6C-505DE20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AA7-C340-4AC6-8456-6E299AF9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C8DF-7623-4551-A91B-ACAD6E2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F757-D2B4-4C39-8DA8-810D300E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F14-E136-4DC9-B7A6-FA7333F6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FE1E-C55C-4070-853A-2F577DF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2D77-6D36-4079-87D9-DF03691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E7B9-0451-4F2C-A869-E134452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96B7-61C0-461E-91D5-1B5B557C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BC60-BD93-4D00-B5F2-1E73AD5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9BB-AE81-4112-BCB4-BC708F9C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DE94-3108-417D-A2B3-BE57705D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A9D2-3714-4553-892B-E99EB49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FF52-9481-4920-A318-89E8152F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6155-C369-428B-9681-5688E0D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26AF-A525-43A8-95B9-4C38978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3953-CA38-4967-847D-AF853AE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2D1A-7EA0-4BEE-8625-D7C0F33F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6D7B-1AEF-4689-8FB3-A9B339F8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EAE8-92A2-4888-AFD0-056DD4B2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DC37-93C8-4CEC-AC49-3D42F2E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16E-ED19-4939-A611-64BC121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6979-BA27-42B8-A65C-C650ED0C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5924-3B8B-4CCF-8020-EA5D645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45C2-87BD-4C5E-A382-F6826DA5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F822-108E-417C-8C79-C0A3F38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1C73-5559-49F5-AD5E-7F497AA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FC4B-44F9-471A-9FB0-8C3369D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3749-0683-483C-A807-4282130C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3E94-77D3-4CE0-A1C7-2DF0A49B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9DED-279B-4684-B8F6-C361CDC0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7FB51-CDB1-4297-A4F0-FBC09750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70A-EB37-483E-8994-5F826A9B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B271-0235-4887-A7D8-302DE87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BCA9-239D-4050-A8FF-50A2BCB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30434-AB89-48F2-8546-5431C90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DE69-3A13-485F-B9AE-8895899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1819-7DA3-4667-8728-DBEBAA6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E20C-DE0D-4912-AE5D-0A1E687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D8C0-16B9-49A3-B76E-ED2DAC6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A9C29-E9D3-4A60-8BF4-585214EB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AC0B-A2C5-40E6-AFA3-3ABF8DE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8BC1-097B-43D8-83E8-64538C5F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301-3103-4CD2-B3A8-F5A7D4BA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62745-CDAF-4A4E-A5CD-61F9104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7A0C-B535-4D2F-B8DE-7B1BE66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A91D1-FE33-49BD-91E2-07E5407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89CB-BD63-4F8B-9049-B6D3F130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17AA-8B64-4B91-8DDD-8CA137E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CF55-8800-4BA7-B6F7-94A537E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748D-BBEB-4800-B233-D0017A2D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F4723-0AAE-4AFD-93EB-7DDA739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375B-FEC5-4243-8AEA-3D120DB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0560-9F22-4500-AB1F-9438480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A1C-B288-408F-A97F-71B0B72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32799-3E67-4CAF-93C0-E8DF9C1C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7C9C-64AA-47E2-8819-2688F181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8298-C8D1-4E9B-A60F-4A716C8D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2534E-3331-46E3-A81D-6165D15A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F3B2-D9C1-40CF-9717-68DA395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71221-9717-4315-945B-5517BBE2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A429-6652-46D6-94AF-F07760D0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769F3-2ACB-4E09-97F5-1D0478E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A534-2DDF-41DC-A5AA-FC2F05D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E0BF-EDC6-46D4-9735-83A5811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BD2-64D7-419D-9F2E-13C904E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1A3F-DA45-4900-93BC-E5FC79C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20DD-BDA3-456C-B9E5-FD2E28A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2B48-60F4-413E-82F8-FE76BC9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8BC9-2157-407B-8FC8-5A20D57B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6601-761D-4627-9F7E-29874A75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B90-C922-45DA-B7F0-02FF0A8A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173D-792D-425D-BAB9-31A2825AEC50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A9A-B8FC-4A59-9B50-8D1D28D4F48E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BA3-635F-4D74-88D1-A1335E90984E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B09B-0EA2-4B35-88B6-804C39391A9B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61C-7385-4A79-930F-376020CA710B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7EF-0B30-483C-9B23-F390033315D3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1D00-6E6B-493B-A403-B1EFF6176DB7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500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br>
              <a:rPr sz="4400"/>
            </a:br>
            <a:endParaRPr b="0" lang="en-US" sz="4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2971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5" descr="Cervenkova.JPG"/>
          <p:cNvPicPr/>
          <p:nvPr/>
        </p:nvPicPr>
        <p:blipFill>
          <a:blip r:embed="rId2"/>
          <a:stretch/>
        </p:blipFill>
        <p:spPr>
          <a:xfrm>
            <a:off x="1481040" y="1305000"/>
            <a:ext cx="3657600" cy="32176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rsg2.jpg"/>
          <p:cNvPicPr/>
          <p:nvPr/>
        </p:nvPicPr>
        <p:blipFill>
          <a:blip r:embed="rId3"/>
          <a:stretch/>
        </p:blipFill>
        <p:spPr>
          <a:xfrm>
            <a:off x="4767120" y="2389320"/>
            <a:ext cx="4084920" cy="3878280"/>
          </a:xfrm>
          <a:prstGeom prst="rect">
            <a:avLst/>
          </a:prstGeom>
          <a:ln w="0">
            <a:noFill/>
          </a:ln>
        </p:spPr>
      </p:pic>
      <p:sp>
        <p:nvSpPr>
          <p:cNvPr id="322" name="Подзаголовок 2"/>
          <p:cNvSpPr/>
          <p:nvPr/>
        </p:nvSpPr>
        <p:spPr>
          <a:xfrm>
            <a:off x="642960" y="4786200"/>
            <a:ext cx="4143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читель физическо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МОУ СОШ №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Г.Калинин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льдан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Наталья Владими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r>
              <a:rPr b="0" lang="en-US" sz="3200" spc="-1" strike="noStrike">
                <a:solidFill>
                  <a:srgbClr val="874396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— 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bi023293.jpg"/>
          <p:cNvPicPr/>
          <p:nvPr/>
        </p:nvPicPr>
        <p:blipFill>
          <a:blip r:embed="rId2"/>
          <a:stretch/>
        </p:blipFill>
        <p:spPr>
          <a:xfrm>
            <a:off x="804960" y="4200480"/>
            <a:ext cx="2535120" cy="26020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32096_78943.jpg"/>
          <p:cNvPicPr/>
          <p:nvPr/>
        </p:nvPicPr>
        <p:blipFill>
          <a:blip r:embed="rId3"/>
          <a:stretch/>
        </p:blipFill>
        <p:spPr>
          <a:xfrm>
            <a:off x="5851440" y="-6480"/>
            <a:ext cx="2414520" cy="15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ууууу.jpg"/>
          <p:cNvPicPr/>
          <p:nvPr/>
        </p:nvPicPr>
        <p:blipFill>
          <a:blip r:embed="rId2"/>
          <a:stretch/>
        </p:blipFill>
        <p:spPr>
          <a:xfrm rot="20088000">
            <a:off x="6889680" y="3715920"/>
            <a:ext cx="2357640" cy="2079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3" descr="1216969309_aliya1.jpg"/>
          <p:cNvPicPr/>
          <p:nvPr/>
        </p:nvPicPr>
        <p:blipFill>
          <a:blip r:embed="rId3"/>
          <a:stretch/>
        </p:blipFill>
        <p:spPr>
          <a:xfrm>
            <a:off x="6638760" y="633240"/>
            <a:ext cx="2829240" cy="2816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    </a:t>
            </a: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История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71680" y="714240"/>
            <a:ext cx="70005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удожественная гимнастика — сравнительно молодой вид спорта; своим появлением он обязан мэтрам балета прославленного Марлинского театра. За сравнительно небольшой срок своего существования этот вид спорта завоевал мировую признательность и имеет многочисленных поклонников во всех уголках земного ша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1913 году в Ленинградском институте физической культуры имени П. Ф. Лесгафта была открыта высшая школа художественного движения. Первыми педагогами ее стали Роза Варшавская, Елена Горлова, Анастасия Невинская, Александра Семенова-Найпак. Все эти преподаватели до прихода в ВШХГ имели свой опыт в работе по преподаванию : «эстетической гимнастики» — Франсуа Дельсарта, «ритмической гимнастики» — Эмиля Жака дель-Кроза, «танцевальной гимнастики» — Жоржа Демини и «свободного танца» — Айседоры Дункан. Слияние воедино всех этих направлений гимнастики способствовало появлению этого изящного вида спор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4" descr="Xud Gimn v KEO_211008.jpg"/>
          <p:cNvPicPr/>
          <p:nvPr/>
        </p:nvPicPr>
        <p:blipFill>
          <a:blip r:embed="rId2"/>
          <a:stretch/>
        </p:blipFill>
        <p:spPr>
          <a:xfrm>
            <a:off x="7375680" y="5541840"/>
            <a:ext cx="1774800" cy="1322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o-00049809-a-00012644.jpg"/>
          <p:cNvPicPr/>
          <p:nvPr/>
        </p:nvPicPr>
        <p:blipFill>
          <a:blip r:embed="rId3"/>
          <a:stretch/>
        </p:blipFill>
        <p:spPr>
          <a:xfrm>
            <a:off x="-6480" y="-6480"/>
            <a:ext cx="1938600" cy="145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Олимпийская история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388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980 — стал для художественной гимнастики поворотным, после завершения Олимпийских игр в Москве, на конгрессе МОК было принято решение о включении этого вида спорта в программу Олимпийских игр. Олимпийская же история художественной гимнастики начинается в 1984 году когда первое Олимпийское золото завоевала в Лос-Анджелесе канадка Лори Фан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пустя четыре года олимпийской чемпионкой в Сеуле стала Марина Лобач, Александра Тимошенко одержала победу в Барселоне, в Атланте — Екатерина Серебрянская, в Сиднее — Юлия Барсукова, в Афинах — Алина Кабаева, в Пекине — Евгения Канаева. Начиная с Олимпийских Игр в Атланте художественная гимнастика была представлена полностью двумя разделами: соревнованиями в индивидуальных и групповых упражнения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4" descr="8-web.jpg"/>
          <p:cNvPicPr/>
          <p:nvPr/>
        </p:nvPicPr>
        <p:blipFill>
          <a:blip r:embed="rId2"/>
          <a:stretch/>
        </p:blipFill>
        <p:spPr>
          <a:xfrm>
            <a:off x="6566040" y="5425920"/>
            <a:ext cx="2584440" cy="14385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Lenta.jpg"/>
          <p:cNvPicPr/>
          <p:nvPr/>
        </p:nvPicPr>
        <p:blipFill>
          <a:blip r:embed="rId3"/>
          <a:stretch/>
        </p:blipFill>
        <p:spPr>
          <a:xfrm>
            <a:off x="-6480" y="-6480"/>
            <a:ext cx="1871640" cy="2676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Система оценок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Международная федерация гимнастики в 2001, 2003 и 2005 годах меняла технический регламент для того, чтобы подчеркнуть технические элементы и уменьшить субъективность оценок. До 2001 года оценка выставлялась по 10-и балльной шкале, что было изменено на 30-и балльную шкалу в 2003 и на 20-и балльную шкалу в 2005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7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5" descr="66.jpg"/>
          <p:cNvPicPr/>
          <p:nvPr/>
        </p:nvPicPr>
        <p:blipFill>
          <a:blip r:embed="rId2"/>
          <a:stretch/>
        </p:blipFill>
        <p:spPr>
          <a:xfrm>
            <a:off x="-23760" y="-6480"/>
            <a:ext cx="1243080" cy="3608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ккккк.jpg"/>
          <p:cNvPicPr/>
          <p:nvPr/>
        </p:nvPicPr>
        <p:blipFill>
          <a:blip r:embed="rId3"/>
          <a:stretch/>
        </p:blipFill>
        <p:spPr>
          <a:xfrm>
            <a:off x="7500960" y="4714920"/>
            <a:ext cx="1270080" cy="1905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Некоторые особенности </a:t>
            </a: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художественной гимнастики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4280" y="13568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Первые шаги в художественной гимнастике желательны в очень юном возрасте — в 3-5 лет, т.к организм ребенка гораздо восприимчивее к развитию гибкости, координации и быстроты движений. Главные качества гимнаста это сила воли, выносливость и пластика. Как правило, уже в 14-16 лет многим спортсменам приходится расставаться с гимнастикой или переходить в спортивный балет. Лишь немногие гимнастки продолжают спортивную карьеру до 20-22 лет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</a:t>
            </a: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Судейство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льзя не отметить тот факт, что художественная гимнастика, точнее оценка результатов выступлений, вещь крайне субъективная. Не раз возникали серьезные скандалы и даже дисквалификации судей из-за неравноценного отношения к спортсмен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o-00049809-a-00012644.jpg"/>
          <p:cNvPicPr/>
          <p:nvPr/>
        </p:nvPicPr>
        <p:blipFill>
          <a:blip r:embed="rId2"/>
          <a:stretch/>
        </p:blipFill>
        <p:spPr>
          <a:xfrm>
            <a:off x="1000080" y="0"/>
            <a:ext cx="20718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5" name="Рисунок 4" descr="dsc_5468.jpg"/>
          <p:cNvPicPr/>
          <p:nvPr/>
        </p:nvPicPr>
        <p:blipFill>
          <a:blip r:embed="rId3"/>
          <a:stretch/>
        </p:blipFill>
        <p:spPr>
          <a:xfrm>
            <a:off x="7477200" y="4705200"/>
            <a:ext cx="1666800" cy="21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pull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Олимпийские чемпионк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баева  Ал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наева Евг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пранова  Оль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щина  Ир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9" descr="чащина 2.jpg"/>
          <p:cNvPicPr/>
          <p:nvPr/>
        </p:nvPicPr>
        <p:blipFill>
          <a:blip r:embed="rId2"/>
          <a:stretch/>
        </p:blipFill>
        <p:spPr>
          <a:xfrm>
            <a:off x="6924600" y="4492800"/>
            <a:ext cx="1811520" cy="17985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Капранова.jpg"/>
          <p:cNvPicPr/>
          <p:nvPr/>
        </p:nvPicPr>
        <p:blipFill>
          <a:blip r:embed="rId3"/>
          <a:stretch/>
        </p:blipFill>
        <p:spPr>
          <a:xfrm>
            <a:off x="4925880" y="2919240"/>
            <a:ext cx="1511280" cy="17989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1" descr="канаева.jpg"/>
          <p:cNvPicPr/>
          <p:nvPr/>
        </p:nvPicPr>
        <p:blipFill>
          <a:blip r:embed="rId4"/>
          <a:stretch/>
        </p:blipFill>
        <p:spPr>
          <a:xfrm>
            <a:off x="2852640" y="3852720"/>
            <a:ext cx="1652760" cy="1524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bi012773.jpg"/>
          <p:cNvPicPr/>
          <p:nvPr/>
        </p:nvPicPr>
        <p:blipFill>
          <a:blip r:embed="rId5"/>
          <a:stretch/>
        </p:blipFill>
        <p:spPr>
          <a:xfrm>
            <a:off x="6492960" y="1066680"/>
            <a:ext cx="14986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9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9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90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9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9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90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9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0_5d89_9b0f186_XL.jpg"/>
          <p:cNvPicPr/>
          <p:nvPr/>
        </p:nvPicPr>
        <p:blipFill>
          <a:blip r:embed="rId2"/>
          <a:stretch/>
        </p:blipFill>
        <p:spPr>
          <a:xfrm>
            <a:off x="1857240" y="142920"/>
            <a:ext cx="5500800" cy="6572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9:33:22Z</dcterms:created>
  <dc:creator>Kutuzov</dc:creator>
  <dc:description/>
  <dc:language>en-US</dc:language>
  <cp:lastModifiedBy>MAMA</cp:lastModifiedBy>
  <dcterms:modified xsi:type="dcterms:W3CDTF">2009-12-07T07:37:52Z</dcterms:modified>
  <cp:revision>15</cp:revision>
  <dc:subject/>
  <dc:title>Художественная гимнастика</dc:title>
</cp:coreProperties>
</file>