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0812-CEFC-4F96-905E-0AFD9BC8EF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7A58-A6F5-4F16-8CE4-E148F83B63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F909-EB99-44DE-BB3C-1190AF0C4E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6EE5-0D2D-4319-B900-B8EA201807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2C6-26A5-4122-946B-B169CDA3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6D2-DB29-4E72-8A94-8F5A1D83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0E8-52B8-4C71-BE17-307B9FBB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B9B-6D4B-4CB7-8F9E-5E2083C0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EF82-6A85-425C-A6A5-F526D708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EE1E-5665-4E3B-879D-75AEFDFF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45A5-9C5D-4ED5-9458-07B9234F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CE63-3A89-4577-836C-884EA6D7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7DB0-6DC4-4FD9-A05C-C9C0662E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6BF3-0BFE-4BEB-BD1D-5A1ECB98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ED9E-024F-41BD-ADBB-1C92320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4E9-ACF6-4032-929D-0055BCC0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9000-6929-4FB3-A2CA-6ABCA07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6566-83E5-444F-8C29-AB64032D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7630-62BB-47A4-9005-E891308B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3BF7-7C4C-4A98-A50C-DD4FCCCE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3085-1ADA-4078-9692-2EDFCCE4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0AC6-7215-4ED1-99A6-B983DF7D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1D8D-7429-4CC9-BA65-79CADD7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A02F-CAD1-4E3F-989D-075EDA69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073D-C4A3-4D6E-8E11-92AD9F7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8821-5F16-4F04-915D-1DA0DD01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A76-35E0-45CA-BDFE-B0BFB7FB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8959-856F-4955-A457-5D73AD53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51FE-1E7B-4901-ACF3-EE532F50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1500-850E-481B-AF61-CF0D6742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14902-57FC-4D00-AEC1-887D447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575B-57EA-4F85-9E63-F5796862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5E34-33F9-4596-84E1-BB33312F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7CC4-97C9-4961-BBC6-EA994E02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A23DF-9650-4F2F-BCC6-50733DA2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64BF9-1C3E-4035-B256-F22C04A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476E-B0FB-49C2-8A77-5ED1DD5B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73F-5B9B-4129-B599-C86271D8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236A-AFB4-48D8-98EA-F3C7768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DE14-E7C2-4AD6-8B65-94BE99B4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565A-E9EB-43B7-98A8-2BE99E17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D2907-235F-40AE-8070-C28B4AC0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F3D2-A1A5-4BCD-A448-1DDC89BE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C074-D2C8-4DAA-85D7-A844CBB7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4958-F293-4A51-8F59-9E03E1C8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609C2-A681-4BC6-B292-587EAEF0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28223-0E9A-4465-A083-6CBE1BA6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B841-B57D-4B47-98D4-E518F5CE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25D-25DB-4AF6-A338-D2A9FA01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4325-FF64-4E28-B5B5-A025DD43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945F3-2F79-46FD-B1FF-ADDA1E65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37A2-6E74-4D33-B4EA-4F70112A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A3F3F-BD2F-4C8A-93CD-EB7F89E7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4FAC2-A74C-4C9B-9ECF-6BB26F0E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983DE-F01D-4E33-8AC2-2054B702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5FA2A-A105-47B4-A487-8B66BF1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A6317-0D63-41C8-A111-F5E42A20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382B8-4B59-4450-B77E-2224B8D6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43519-B516-406E-AF89-E7D1909E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BEC-A938-43FB-8432-DF1C14C2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8BF4-4C3D-41B0-A721-D34D289A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341-8D54-4AC3-AE3B-BC7941C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F2B-68A2-48AC-A065-7171CE3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992-9285-4DBC-AC20-F67A5CCB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D514-EA0E-4FFC-AF74-EC42529480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CC39-C59C-4FA1-AD1D-45BB544E0F5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EA97-B50D-41DB-821D-7981EA129B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DE2C-93A2-40AB-907E-055552EEB0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85BD-681F-4CBF-8FCC-CD9B4E26142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ihi.ru/avtor/irinalats" TargetMode="External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«Лёгкое» и «серьёзное» в песне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Цель: Познакомиться с классическими образцами французской песенной эстра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Documents and Settings\Администратор\Мои документы\Тексты из интернета\портреты музыкантов из инета\мирей2.jpg"/>
          <p:cNvPicPr/>
          <p:nvPr/>
        </p:nvPicPr>
        <p:blipFill>
          <a:blip r:embed="rId1"/>
          <a:stretch/>
        </p:blipFill>
        <p:spPr>
          <a:xfrm>
            <a:off x="785880" y="571680"/>
            <a:ext cx="7715160" cy="6143400"/>
          </a:xfrm>
          <a:prstGeom prst="rect">
            <a:avLst/>
          </a:prstGeom>
          <a:ln w="0">
            <a:noFill/>
          </a:ln>
        </p:spPr>
      </p:pic>
      <p:pic>
        <p:nvPicPr>
          <p:cNvPr id="252" name="padam-padam.mp3" descr=""/>
          <p:cNvPicPr/>
          <p:nvPr/>
        </p:nvPicPr>
        <p:blipFill>
          <a:blip r:embed="rId2"/>
          <a:stretch/>
        </p:blipFill>
        <p:spPr>
          <a:xfrm>
            <a:off x="7715160" y="100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7655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Documents and Settings\Администратор\Мои документы\Тексты из интернета\портреты музыкантов из инета\матье7.jpg"/>
          <p:cNvPicPr/>
          <p:nvPr/>
        </p:nvPicPr>
        <p:blipFill>
          <a:blip r:embed="rId1"/>
          <a:stretch/>
        </p:blipFill>
        <p:spPr>
          <a:xfrm>
            <a:off x="-666720" y="-166680"/>
            <a:ext cx="10477440" cy="7191360"/>
          </a:xfrm>
          <a:prstGeom prst="rect">
            <a:avLst/>
          </a:prstGeom>
          <a:ln w="0">
            <a:noFill/>
          </a:ln>
        </p:spPr>
      </p:pic>
      <p:pic>
        <p:nvPicPr>
          <p:cNvPr id="254" name="Шарль Азнавур и Мирей Матье - История любви (zvukoff.ru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4272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857760"/>
            <a:ext cx="81835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жо Дассен</a:t>
            </a:r>
            <a:r>
              <a:rPr b="0" lang="ru-RU" sz="59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29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жозеф Дассен появился на свет в Нью-Йорке 5 ноября 1938 года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6" name="Picture 2" descr="C:\Documents and Settings\Администратор\Мои документы\Тексты из интернета\портреты музыкантов из инета\джо дассен2.gif"/>
          <p:cNvPicPr/>
          <p:nvPr/>
        </p:nvPicPr>
        <p:blipFill>
          <a:blip r:embed="rId1"/>
          <a:stretch/>
        </p:blipFill>
        <p:spPr>
          <a:xfrm>
            <a:off x="5000760" y="357120"/>
            <a:ext cx="3500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4280" y="4071600"/>
            <a:ext cx="685800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Песня имеет важную          социальную роль, -Она помогает людям жить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2" descr="C:\Documents and Settings\Администратор\Мои документы\Тексты из интернета\портреты музыкантов из инета\джо дассен5.jpg"/>
          <p:cNvPicPr/>
          <p:nvPr/>
        </p:nvPicPr>
        <p:blipFill>
          <a:blip r:embed="rId1"/>
          <a:stretch/>
        </p:blipFill>
        <p:spPr>
          <a:xfrm>
            <a:off x="2000160" y="571680"/>
            <a:ext cx="5214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Когда Джо Дассен выходил на сцену, импульсы его искусства действительно доходили до каждого в зале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0" name="Picture 3" descr="C:\Documents and Settings\Администратор\Мои документы\Тексты из интернета\портреты музыкантов из инета\джо дассен4.jpg"/>
          <p:cNvPicPr/>
          <p:nvPr/>
        </p:nvPicPr>
        <p:blipFill>
          <a:blip r:embed="rId1"/>
          <a:stretch/>
        </p:blipFill>
        <p:spPr>
          <a:xfrm>
            <a:off x="2665440" y="642960"/>
            <a:ext cx="3813120" cy="4143240"/>
          </a:xfrm>
          <a:prstGeom prst="rect">
            <a:avLst/>
          </a:prstGeom>
          <a:ln w="0">
            <a:noFill/>
          </a:ln>
        </p:spPr>
      </p:pic>
      <p:pic>
        <p:nvPicPr>
          <p:cNvPr id="261" name="dzo-dassen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7092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Администратор\Мои документы\Тексты из интернета\портреты музыкантов из инета\джо дассен3.jpg"/>
          <p:cNvPicPr/>
          <p:nvPr/>
        </p:nvPicPr>
        <p:blipFill>
          <a:blip r:embed="rId1"/>
          <a:stretch/>
        </p:blipFill>
        <p:spPr>
          <a:xfrm>
            <a:off x="1643040" y="428760"/>
            <a:ext cx="5786640" cy="6000480"/>
          </a:xfrm>
          <a:prstGeom prst="rect">
            <a:avLst/>
          </a:prstGeom>
          <a:ln w="0">
            <a:noFill/>
          </a:ln>
        </p:spPr>
      </p:pic>
      <p:pic>
        <p:nvPicPr>
          <p:cNvPr id="263" name="Taka-Takata.mp3" descr=""/>
          <p:cNvPicPr/>
          <p:nvPr/>
        </p:nvPicPr>
        <p:blipFill>
          <a:blip r:embed="rId2"/>
          <a:stretch/>
        </p:blipFill>
        <p:spPr>
          <a:xfrm>
            <a:off x="7000920" y="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53743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2357280" y="1285920"/>
            <a:ext cx="357192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жо Дассен Портре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b9f25"/>
                </a:solidFill>
                <a:uFillTx/>
                <a:latin typeface="Calibri"/>
                <a:ea typeface="Times New Roman"/>
                <a:hlinkClick r:id="rId1"/>
              </a:rPr>
              <a:t>Ирина Цыбульская-Ла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ырое утро, пар туман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он туфлей резвых по камня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дной мольберт и песня в ван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шум воды и мыла шарм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тив тоски и измерени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здесь, и может быть, я та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ду, по гулкому ступа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ожу и плачу: «Джо, я к Вам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чу войти в больное сердц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ушать тихой боли зву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иться тонким счастьем, верьт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ышать и плакать от разлук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лышу нежное призна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чувствую немой испуг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овь сердце бьётся так нестар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мой Париж, где Вы – мой др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500720"/>
            <a:ext cx="818352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d3e"/>
                </a:solidFill>
                <a:latin typeface="Verdana"/>
              </a:rPr>
              <a:t>Внезапная смерть оборвала карьеру Джо Дассена: он умер вдали от Родины, на далёком острове Таити от сердечного приступа в возрасте 42 лет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Picture 2" descr="C:\Documents and Settings\Администратор\Мои документы\Тексты из интернета\портреты музыкантов из инета\джо дассен.jpg"/>
          <p:cNvPicPr/>
          <p:nvPr/>
        </p:nvPicPr>
        <p:blipFill>
          <a:blip r:embed="rId1"/>
          <a:stretch/>
        </p:blipFill>
        <p:spPr>
          <a:xfrm>
            <a:off x="2811600" y="530280"/>
            <a:ext cx="3566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Патрисия Каас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1" descr="C:\Documents and Settings\Администратор\Мои документы\Тексты из интернета\портреты музыкантов из инета\каас2.jpg"/>
          <p:cNvPicPr/>
          <p:nvPr/>
        </p:nvPicPr>
        <p:blipFill>
          <a:blip r:embed="rId1"/>
          <a:stretch/>
        </p:blipFill>
        <p:spPr>
          <a:xfrm>
            <a:off x="642960" y="571680"/>
            <a:ext cx="77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Патрисия Каас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ленький пыльный городишко Форбак, Лотарингия (почти на границе Франции)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атрис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явилась на свет 5 декабря 1966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Франция- республика шансонов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755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ансон- пес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ансонье-певец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современной французской песни два истока- кафеконцерт и высокая политическая поэзия, породнившаяся с народной музык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ансонье-франц. поэты и исполнители песен (часто авторы их текстов, иногда и музыки; обычно используют популярные мелодии). Истоки франц. Ш. восходят к иск-ву менестрелей, трубаду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Администратор\Мои документы\Тексты из интернета\портреты музыкантов из инета\каас6.jpg"/>
          <p:cNvPicPr/>
          <p:nvPr/>
        </p:nvPicPr>
        <p:blipFill>
          <a:blip r:embed="rId1"/>
          <a:stretch/>
        </p:blipFill>
        <p:spPr>
          <a:xfrm>
            <a:off x="1500120" y="530280"/>
            <a:ext cx="5857920" cy="5827680"/>
          </a:xfrm>
          <a:prstGeom prst="rect">
            <a:avLst/>
          </a:prstGeom>
          <a:ln w="0">
            <a:noFill/>
          </a:ln>
        </p:spPr>
      </p:pic>
      <p:pic>
        <p:nvPicPr>
          <p:cNvPr id="272" name="patricia_kaas_-_mon_mec_a_mo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55068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Администратор\Мои документы\Тексты из интернета\портреты музыкантов из инета\каас.jpeg"/>
          <p:cNvPicPr/>
          <p:nvPr/>
        </p:nvPicPr>
        <p:blipFill>
          <a:blip r:embed="rId1"/>
          <a:stretch/>
        </p:blipFill>
        <p:spPr>
          <a:xfrm>
            <a:off x="928800" y="571680"/>
            <a:ext cx="7286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C:\Documents and Settings\Администратор\Мои документы\Тексты из интернета\портреты музыкантов из инета\каас5.jpg"/>
          <p:cNvPicPr/>
          <p:nvPr/>
        </p:nvPicPr>
        <p:blipFill>
          <a:blip r:embed="rId1"/>
          <a:stretch/>
        </p:blipFill>
        <p:spPr>
          <a:xfrm>
            <a:off x="714240" y="428760"/>
            <a:ext cx="80726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C:\Documents and Settings\Администратор\Мои документы\Тексты из интернета\портреты музыкантов из инета\каас3.jpg"/>
          <p:cNvPicPr/>
          <p:nvPr/>
        </p:nvPicPr>
        <p:blipFill>
          <a:blip r:embed="rId1"/>
          <a:stretch/>
        </p:blipFill>
        <p:spPr>
          <a:xfrm>
            <a:off x="1957320" y="357120"/>
            <a:ext cx="5829480" cy="60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наменитые французские певцы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Эдит Пиаф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Мирэй Мать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Джо Дассен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Патриссия Каа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дит Пиаф(Эдит Джованна Гассион)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19 декабря 1915-11 октября 1963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иограф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ет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Уличный воробыш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одозреваем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щество Раймонда Асс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Актри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наменитый ром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Жизнь ради пес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C:\Documents and Settings\Администратор\Мои документы\Тексты из интернета\портреты музыкантов из инета\пиаф.jpg"/>
          <p:cNvPicPr/>
          <p:nvPr/>
        </p:nvPicPr>
        <p:blipFill>
          <a:blip r:embed="rId1"/>
          <a:stretch/>
        </p:blipFill>
        <p:spPr>
          <a:xfrm>
            <a:off x="5429160" y="571680"/>
            <a:ext cx="314172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Нет, я ни о чём не жалею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2" descr="C:\Documents and Settings\Администратор\Мои документы\Тексты из интернета\портреты музыкантов из инета\пиаф3.jpg"/>
          <p:cNvPicPr/>
          <p:nvPr/>
        </p:nvPicPr>
        <p:blipFill>
          <a:blip r:embed="rId1"/>
          <a:stretch/>
        </p:blipFill>
        <p:spPr>
          <a:xfrm>
            <a:off x="1000080" y="530280"/>
            <a:ext cx="6929640" cy="4755960"/>
          </a:xfrm>
          <a:prstGeom prst="rect">
            <a:avLst/>
          </a:prstGeom>
          <a:ln w="0">
            <a:noFill/>
          </a:ln>
        </p:spPr>
      </p:pic>
      <p:pic>
        <p:nvPicPr>
          <p:cNvPr id="238" name="Non_Je_Ne_Regrette_Rien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9448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8d3e"/>
                </a:solidFill>
                <a:latin typeface="Verdana"/>
              </a:rPr>
              <a:t>Эдит Пиаф умерла 11 октября 1963 года в Париже.</a:t>
            </a:r>
            <a:br>
              <a:rPr sz="1600"/>
            </a:br>
            <a:r>
              <a:rPr b="1" i="1" lang="ru-RU" sz="1600" spc="-1" strike="noStrike">
                <a:solidFill>
                  <a:srgbClr val="ff8d3e"/>
                </a:solidFill>
                <a:latin typeface="Verdana"/>
              </a:rPr>
              <a:t>Её похоронили на кладбище Пер-Лашез</a:t>
            </a:r>
            <a:r>
              <a:rPr b="1" i="1" lang="ru-RU" sz="22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Non_Je_Ne_Regrette_Rien1.mp3" descr=""/>
          <p:cNvPicPr/>
          <p:nvPr/>
        </p:nvPicPr>
        <p:blipFill>
          <a:blip r:embed="rId1"/>
          <a:stretch/>
        </p:blipFill>
        <p:spPr>
          <a:xfrm>
            <a:off x="4443480" y="2471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Администратор\Мои документы\Тексты из интернета\портреты музыкантов из инета\пиаф4.jpg"/>
          <p:cNvPicPr/>
          <p:nvPr/>
        </p:nvPicPr>
        <p:blipFill>
          <a:blip r:embed="rId2"/>
          <a:stretch/>
        </p:blipFill>
        <p:spPr>
          <a:xfrm>
            <a:off x="500040" y="1500120"/>
            <a:ext cx="8215200" cy="5072040"/>
          </a:xfrm>
          <a:prstGeom prst="rect">
            <a:avLst/>
          </a:prstGeom>
          <a:ln w="0">
            <a:noFill/>
          </a:ln>
        </p:spPr>
      </p:pic>
      <p:pic>
        <p:nvPicPr>
          <p:cNvPr id="242" name="Эдит Пиаф -Le Ballet Des Coeurs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7973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9448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ей Матьё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е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тьё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одилась 22 июля 1946 года в Авиньоне, в семье каменщика, где была старшей из четырнадцати братьев и сестё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3" descr="C:\Documents and Settings\Администратор\Мои документы\Тексты из интернета\портреты музыкантов из инета\матье6.jpg"/>
          <p:cNvPicPr/>
          <p:nvPr/>
        </p:nvPicPr>
        <p:blipFill>
          <a:blip r:embed="rId1"/>
          <a:stretch/>
        </p:blipFill>
        <p:spPr>
          <a:xfrm>
            <a:off x="4857840" y="2000160"/>
            <a:ext cx="3071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 из лучших исполнительниц французских современных пес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обширном репертуаре преобладают песни о любви, чистой, нежной. скром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шателей пленяет красивый голос и стиль её исполн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C:\Documents and Settings\Администратор\Мои документы\Тексты из интернета\портреты музыкантов из инета\мирей матье.jpg"/>
          <p:cNvPicPr/>
          <p:nvPr/>
        </p:nvPicPr>
        <p:blipFill>
          <a:blip r:embed="rId1"/>
          <a:stretch/>
        </p:blipFill>
        <p:spPr>
          <a:xfrm>
            <a:off x="6072120" y="3571920"/>
            <a:ext cx="2357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571720" y="3642840"/>
            <a:ext cx="3164040" cy="29847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щай, мальчик, мне жаль, но я ухожу…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2" descr="C:\Documents and Settings\Администратор\Мои документы\Тексты из интернета\портреты музыкантов из инета\матье3.jpg"/>
          <p:cNvPicPr/>
          <p:nvPr/>
        </p:nvPicPr>
        <p:blipFill>
          <a:blip r:embed="rId1"/>
          <a:stretch/>
        </p:blipFill>
        <p:spPr>
          <a:xfrm>
            <a:off x="0" y="357120"/>
            <a:ext cx="5643720" cy="6072120"/>
          </a:xfrm>
          <a:prstGeom prst="rect">
            <a:avLst/>
          </a:prstGeom>
          <a:ln w="0">
            <a:noFill/>
          </a:ln>
        </p:spPr>
      </p:pic>
      <p:pic>
        <p:nvPicPr>
          <p:cNvPr id="250" name="chao-bambino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69984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40:51Z</dcterms:created>
  <dc:creator>XP GAME 2008</dc:creator>
  <dc:description/>
  <dc:language>en-US</dc:language>
  <cp:lastModifiedBy>XP GAME 2008</cp:lastModifiedBy>
  <dcterms:modified xsi:type="dcterms:W3CDTF">2011-11-07T09:32:41Z</dcterms:modified>
  <cp:revision>21</cp:revision>
  <dc:subject/>
  <dc:title>«Лёгкое» и «серьёзное» в песне</dc:title>
</cp:coreProperties>
</file>