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20DD-ACC4-46C8-B873-BC942461AB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CFDA-DC28-41AB-94AF-48219FAA45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5E0A-8797-4FE3-A0DB-AF5CCFE08B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9BD9-A812-4F5E-8B5D-89922984E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98F-0871-4AB1-B49F-8CBBF44C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B84-A30F-4875-BEAF-1441D48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11E-2338-4E9A-B587-35378519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3D2-5D56-455C-9E34-9005EC22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F92-6920-4135-95AC-B6646F4D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CC4D-F0C6-4BE0-99ED-566C3A2F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A37C-F0E9-491B-81DF-52345AFC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D5A-FB92-40F6-B4C2-78660B37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3011-3762-48A4-8420-CD4D5481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331D-2670-4736-B242-66CD07C0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2A52-9B30-4DF4-A187-5F06F5F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1B2-8AAC-4B8F-8BFE-B528434D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455-3C12-457C-A4BC-4A840CF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0692-F967-4769-A083-1BAAFD2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C349-D744-494C-80A7-5C3FFAA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2065-DB7F-48F3-8D51-D8ABB271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CD7-1A6B-439A-A287-A82E2CB5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170D-A46F-4088-8AD4-0B45B2F7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F330-C709-4D11-A320-DFAD48BA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441C-DE68-4528-80C5-95D34C8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D01CC-DCB6-458A-82AE-EAAD87B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9E2C-4761-4F0A-B91D-40DE033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030-4AB0-411B-848A-A2A38B3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164B-C713-4855-9580-4A7D5BD4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7DB0-7803-4F7D-BF66-EF0936F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7D1D-7638-43CB-B486-7517CEC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CAD65-906B-44FF-A52A-4E3FB979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7E80-738C-4D69-AF99-E5E538D5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A84E-5DCC-40B1-9CBD-92A65833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5F07-1DBF-47C4-B667-74255066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DD5F-B718-4E3C-A21D-610D1C87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5887-7651-4063-9FD2-F2F3C09A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500F-45FE-477C-99EB-1CC01AA5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DA4-5EC0-4466-B023-33BE2A1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52B1-27A4-459C-A5AB-B30ED56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8368-4273-4D15-8328-B8C879A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B0D3-8278-48C4-BC30-3D292D61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1578-9397-430A-BE7B-34DCBF2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679C-97C5-408F-B426-3B8AD89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16DD-5BC6-4543-A42E-5109221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1F9C1-61AF-49BA-960C-2EF92E9F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6AE4-426F-4C67-B00F-B388B2AF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57D0-E792-4763-905B-35FDDC52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F72B1-E5AE-4F7A-B30A-16F51355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686-08B6-4112-A208-88514439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8643C-021E-46EA-A99C-DE7607F0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780E-032E-45C1-B04A-FD98587C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1EF62-3A69-4D3F-BADE-998B4823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5498-9665-4599-BAEE-DBA0F1F8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D1B0-2EE0-48AD-9918-D74C9D0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530A1-43EE-4230-9AA4-8AEE906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92CC-6454-4E8E-8CFF-CCC0C60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189E-4D7F-4F27-B54B-0DFA944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447A-F469-482C-BF61-8AC3F5C7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6F15-312C-4790-BBD1-60403C35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461-9403-44A9-9104-47C5CDC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0726-DBDB-4B49-A8D6-5B211D89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E08-C5F1-4298-86CB-96DFB7B5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AB5-BC3D-4661-8A41-DEBF36D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FBD-2CF3-49A3-BBFC-53E9B13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709F-4A6C-4A5E-8490-88256C47C1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2ACA-AC5C-4BB2-8FFA-3FA233C912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796-D097-4B8D-A023-4D9B162FDE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5846-EB6E-46C0-934B-8CCC3B28236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7E34-8297-4E2E-AA01-397AEAC0BC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ihi.ru/avtor/irinalats" TargetMode="External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«Лёгкое» и «серьёзное» в песн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Цель: Познакомиться с классическими образцами французской песенной эстра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Documents and Settings\Администратор\Мои документы\Тексты из интернета\портреты музыкантов из инета\мирей2.jpg"/>
          <p:cNvPicPr/>
          <p:nvPr/>
        </p:nvPicPr>
        <p:blipFill>
          <a:blip r:embed="rId1"/>
          <a:stretch/>
        </p:blipFill>
        <p:spPr>
          <a:xfrm>
            <a:off x="785880" y="571680"/>
            <a:ext cx="7715160" cy="6143400"/>
          </a:xfrm>
          <a:prstGeom prst="rect">
            <a:avLst/>
          </a:prstGeom>
          <a:ln w="0">
            <a:noFill/>
          </a:ln>
        </p:spPr>
      </p:pic>
      <p:pic>
        <p:nvPicPr>
          <p:cNvPr id="252" name="padam-padam.mp3" descr=""/>
          <p:cNvPicPr/>
          <p:nvPr/>
        </p:nvPicPr>
        <p:blipFill>
          <a:blip r:embed="rId2"/>
          <a:stretch/>
        </p:blipFill>
        <p:spPr>
          <a:xfrm>
            <a:off x="7715160" y="100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765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Администратор\Мои документы\Тексты из интернета\портреты музыкантов из инета\матье7.jpg"/>
          <p:cNvPicPr/>
          <p:nvPr/>
        </p:nvPicPr>
        <p:blipFill>
          <a:blip r:embed="rId1"/>
          <a:stretch/>
        </p:blipFill>
        <p:spPr>
          <a:xfrm>
            <a:off x="-666720" y="-166680"/>
            <a:ext cx="10477440" cy="7191360"/>
          </a:xfrm>
          <a:prstGeom prst="rect">
            <a:avLst/>
          </a:prstGeom>
          <a:ln w="0">
            <a:noFill/>
          </a:ln>
        </p:spPr>
      </p:pic>
      <p:pic>
        <p:nvPicPr>
          <p:cNvPr id="254" name="Шарль Азнавур и Мирей Матье - История любви (zvukoff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4272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857760"/>
            <a:ext cx="81835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жо Дассен</a:t>
            </a:r>
            <a:r>
              <a:rPr b="0" lang="ru-RU" sz="59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9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жозеф Дассен появился на свет в Нью-Йорке 5 ноября 1938 год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Picture 2" descr="C:\Documents and Settings\Администратор\Мои документы\Тексты из интернета\портреты музыкантов из инета\джо дассен2.gif"/>
          <p:cNvPicPr/>
          <p:nvPr/>
        </p:nvPicPr>
        <p:blipFill>
          <a:blip r:embed="rId1"/>
          <a:stretch/>
        </p:blipFill>
        <p:spPr>
          <a:xfrm>
            <a:off x="5000760" y="357120"/>
            <a:ext cx="3500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4280" y="4071600"/>
            <a:ext cx="68580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Песня имеет важную          социальную роль, -Она помогает людям жить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" descr="C:\Documents and Settings\Администратор\Мои документы\Тексты из интернета\портреты музыкантов из инета\джо дассен5.jpg"/>
          <p:cNvPicPr/>
          <p:nvPr/>
        </p:nvPicPr>
        <p:blipFill>
          <a:blip r:embed="rId1"/>
          <a:stretch/>
        </p:blipFill>
        <p:spPr>
          <a:xfrm>
            <a:off x="2000160" y="571680"/>
            <a:ext cx="5214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Когда Джо Дассен выходил на сцену, импульсы его искусства действительно доходили до каждого в зал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Picture 3" descr="C:\Documents and Settings\Администратор\Мои документы\Тексты из интернета\портреты музыкантов из инета\джо дассен4.jpg"/>
          <p:cNvPicPr/>
          <p:nvPr/>
        </p:nvPicPr>
        <p:blipFill>
          <a:blip r:embed="rId1"/>
          <a:stretch/>
        </p:blipFill>
        <p:spPr>
          <a:xfrm>
            <a:off x="2665440" y="642960"/>
            <a:ext cx="3813120" cy="4143240"/>
          </a:xfrm>
          <a:prstGeom prst="rect">
            <a:avLst/>
          </a:prstGeom>
          <a:ln w="0">
            <a:noFill/>
          </a:ln>
        </p:spPr>
      </p:pic>
      <p:pic>
        <p:nvPicPr>
          <p:cNvPr id="261" name="dzo-dasse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7092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Администратор\Мои документы\Тексты из интернета\портреты музыкантов из инета\джо дассен3.jpg"/>
          <p:cNvPicPr/>
          <p:nvPr/>
        </p:nvPicPr>
        <p:blipFill>
          <a:blip r:embed="rId1"/>
          <a:stretch/>
        </p:blipFill>
        <p:spPr>
          <a:xfrm>
            <a:off x="1643040" y="428760"/>
            <a:ext cx="5786640" cy="6000480"/>
          </a:xfrm>
          <a:prstGeom prst="rect">
            <a:avLst/>
          </a:prstGeom>
          <a:ln w="0">
            <a:noFill/>
          </a:ln>
        </p:spPr>
      </p:pic>
      <p:pic>
        <p:nvPicPr>
          <p:cNvPr id="263" name="Taka-Takata.mp3" descr=""/>
          <p:cNvPicPr/>
          <p:nvPr/>
        </p:nvPicPr>
        <p:blipFill>
          <a:blip r:embed="rId2"/>
          <a:stretch/>
        </p:blipFill>
        <p:spPr>
          <a:xfrm>
            <a:off x="700092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3743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2357280" y="1285920"/>
            <a:ext cx="357192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жо Дассен Портр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b9f25"/>
                </a:solidFill>
                <a:uFillTx/>
                <a:latin typeface="Calibri"/>
                <a:ea typeface="Times New Roman"/>
                <a:hlinkClick r:id="rId1"/>
              </a:rPr>
              <a:t>Ирина Цыбульская-Ла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ырое утро, пар тума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он туфлей резвых по камня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дной мольберт и песня в ван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шум воды и мыла шар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тив тоски и измерени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здесь, и может быть, я та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ду, по гулкому ступ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жу и плачу: «Джо, я к Вам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чу войти в больное сердц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ушать тихой боли зву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иться тонким счастьем, верьт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ышать и плакать от разлук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лышу нежное призна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чувствую немой испуг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овь сердце бьётся так нестар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мой Париж, где Вы – мой др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500720"/>
            <a:ext cx="818352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d3e"/>
                </a:solidFill>
                <a:latin typeface="Verdana"/>
              </a:rPr>
              <a:t>Внезапная смерть оборвала карьеру Джо Дассена: он умер вдали от Родины, на далёком острове Таити от сердечного приступа в возрасте 42 лет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2" descr="C:\Documents and Settings\Администратор\Мои документы\Тексты из интернета\портреты музыкантов из инета\джо дассен.jpg"/>
          <p:cNvPicPr/>
          <p:nvPr/>
        </p:nvPicPr>
        <p:blipFill>
          <a:blip r:embed="rId1"/>
          <a:stretch/>
        </p:blipFill>
        <p:spPr>
          <a:xfrm>
            <a:off x="2811600" y="530280"/>
            <a:ext cx="3566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Патрисия Каас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1" descr="C:\Documents and Settings\Администратор\Мои документы\Тексты из интернета\портреты музыкантов из инета\каас2.jpg"/>
          <p:cNvPicPr/>
          <p:nvPr/>
        </p:nvPicPr>
        <p:blipFill>
          <a:blip r:embed="rId1"/>
          <a:stretch/>
        </p:blipFill>
        <p:spPr>
          <a:xfrm>
            <a:off x="642960" y="571680"/>
            <a:ext cx="77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Патрисия Каас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енький пыльный городишко Форбак, Лотарингия (почти на границе Франции)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атрис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явилась на свет 5 декабря 1966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ранция- республика шансонов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755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- пес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ье-певец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современной французской песни два истока- кафеконцерт и высокая политическая поэзия, породнившаяся с народной музык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ье-франц. поэты и исполнители песен (часто авторы их текстов, иногда и музыки; обычно используют популярные мелодии). Истоки франц. Ш. восходят к иск-ву менестрелей, трубаду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Администратор\Мои документы\Тексты из интернета\портреты музыкантов из инета\каас6.jpg"/>
          <p:cNvPicPr/>
          <p:nvPr/>
        </p:nvPicPr>
        <p:blipFill>
          <a:blip r:embed="rId1"/>
          <a:stretch/>
        </p:blipFill>
        <p:spPr>
          <a:xfrm>
            <a:off x="1500120" y="530280"/>
            <a:ext cx="5857920" cy="5827680"/>
          </a:xfrm>
          <a:prstGeom prst="rect">
            <a:avLst/>
          </a:prstGeom>
          <a:ln w="0">
            <a:noFill/>
          </a:ln>
        </p:spPr>
      </p:pic>
      <p:pic>
        <p:nvPicPr>
          <p:cNvPr id="272" name="patricia_kaas_-_mon_mec_a_mo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5506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Администратор\Мои документы\Тексты из интернета\портреты музыкантов из инета\каас.jpeg"/>
          <p:cNvPicPr/>
          <p:nvPr/>
        </p:nvPicPr>
        <p:blipFill>
          <a:blip r:embed="rId1"/>
          <a:stretch/>
        </p:blipFill>
        <p:spPr>
          <a:xfrm>
            <a:off x="928800" y="571680"/>
            <a:ext cx="7286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Documents and Settings\Администратор\Мои документы\Тексты из интернета\портреты музыкантов из инета\каас5.jpg"/>
          <p:cNvPicPr/>
          <p:nvPr/>
        </p:nvPicPr>
        <p:blipFill>
          <a:blip r:embed="rId1"/>
          <a:stretch/>
        </p:blipFill>
        <p:spPr>
          <a:xfrm>
            <a:off x="714240" y="428760"/>
            <a:ext cx="80726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Documents and Settings\Администратор\Мои документы\Тексты из интернета\портреты музыкантов из инета\каас3.jpg"/>
          <p:cNvPicPr/>
          <p:nvPr/>
        </p:nvPicPr>
        <p:blipFill>
          <a:blip r:embed="rId1"/>
          <a:stretch/>
        </p:blipFill>
        <p:spPr>
          <a:xfrm>
            <a:off x="1957320" y="357120"/>
            <a:ext cx="582948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наменитые французские певцы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Эдит Пиаф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Мирэй Мать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Джо Дассен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Патриссия Каа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дит Пиаф(Эдит Джованна Гассион)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19 декабря 1915-11 октября 1963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ограф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ет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Уличный воробыш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одозреваем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щество Раймонда Ас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ктри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наменитый ро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Жизнь ради пе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C:\Documents and Settings\Администратор\Мои документы\Тексты из интернета\портреты музыкантов из инета\пиаф.jpg"/>
          <p:cNvPicPr/>
          <p:nvPr/>
        </p:nvPicPr>
        <p:blipFill>
          <a:blip r:embed="rId1"/>
          <a:stretch/>
        </p:blipFill>
        <p:spPr>
          <a:xfrm>
            <a:off x="5429160" y="571680"/>
            <a:ext cx="314172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Нет, я ни о чём не жалею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Documents and Settings\Администратор\Мои документы\Тексты из интернета\портреты музыкантов из инета\пиаф3.jpg"/>
          <p:cNvPicPr/>
          <p:nvPr/>
        </p:nvPicPr>
        <p:blipFill>
          <a:blip r:embed="rId1"/>
          <a:stretch/>
        </p:blipFill>
        <p:spPr>
          <a:xfrm>
            <a:off x="1000080" y="530280"/>
            <a:ext cx="6929640" cy="4755960"/>
          </a:xfrm>
          <a:prstGeom prst="rect">
            <a:avLst/>
          </a:prstGeom>
          <a:ln w="0">
            <a:noFill/>
          </a:ln>
        </p:spPr>
      </p:pic>
      <p:pic>
        <p:nvPicPr>
          <p:cNvPr id="238" name="Non_Je_Ne_Regrette_Rien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448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8d3e"/>
                </a:solidFill>
                <a:latin typeface="Verdana"/>
              </a:rPr>
              <a:t>Эдит Пиаф умерла 11 октября 1963 года в Париже.</a:t>
            </a:r>
            <a:br>
              <a:rPr sz="1600"/>
            </a:br>
            <a:r>
              <a:rPr b="1" i="1" lang="ru-RU" sz="1600" spc="-1" strike="noStrike">
                <a:solidFill>
                  <a:srgbClr val="ff8d3e"/>
                </a:solidFill>
                <a:latin typeface="Verdana"/>
              </a:rPr>
              <a:t>Её похоронили на кладбище Пер-Лашез</a:t>
            </a:r>
            <a:r>
              <a:rPr b="1" i="1" lang="ru-RU" sz="22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Non_Je_Ne_Regrette_Rien1.mp3" descr=""/>
          <p:cNvPicPr/>
          <p:nvPr/>
        </p:nvPicPr>
        <p:blipFill>
          <a:blip r:embed="rId1"/>
          <a:stretch/>
        </p:blipFill>
        <p:spPr>
          <a:xfrm>
            <a:off x="4443480" y="2471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Администратор\Мои документы\Тексты из интернета\портреты музыкантов из инета\пиаф4.jpg"/>
          <p:cNvPicPr/>
          <p:nvPr/>
        </p:nvPicPr>
        <p:blipFill>
          <a:blip r:embed="rId2"/>
          <a:stretch/>
        </p:blipFill>
        <p:spPr>
          <a:xfrm>
            <a:off x="500040" y="1500120"/>
            <a:ext cx="8215200" cy="5072040"/>
          </a:xfrm>
          <a:prstGeom prst="rect">
            <a:avLst/>
          </a:prstGeom>
          <a:ln w="0">
            <a:noFill/>
          </a:ln>
        </p:spPr>
      </p:pic>
      <p:pic>
        <p:nvPicPr>
          <p:cNvPr id="242" name="Эдит Пиаф -Le Ballet Des Coeur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97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944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ей Матьё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тьё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одилась 22 июля 1946 года в Авиньоне, в семье каменщика, где была старшей из четырнадцати братьев и сестё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3" descr="C:\Documents and Settings\Администратор\Мои документы\Тексты из интернета\портреты музыкантов из инета\матье6.jpg"/>
          <p:cNvPicPr/>
          <p:nvPr/>
        </p:nvPicPr>
        <p:blipFill>
          <a:blip r:embed="rId1"/>
          <a:stretch/>
        </p:blipFill>
        <p:spPr>
          <a:xfrm>
            <a:off x="4857840" y="2000160"/>
            <a:ext cx="3071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 из лучших исполнительниц французских современных пес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обширном репертуаре преобладают песни о любви, чистой, нежной. скром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елей пленяет красивый голос и стиль её исполн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C:\Documents and Settings\Администратор\Мои документы\Тексты из интернета\портреты музыкантов из инета\мирей матье.jpg"/>
          <p:cNvPicPr/>
          <p:nvPr/>
        </p:nvPicPr>
        <p:blipFill>
          <a:blip r:embed="rId1"/>
          <a:stretch/>
        </p:blipFill>
        <p:spPr>
          <a:xfrm>
            <a:off x="6072120" y="3571920"/>
            <a:ext cx="2357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571720" y="3642840"/>
            <a:ext cx="3164040" cy="2984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щай, мальчик, мне жаль, но я ухожу…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C:\Documents and Settings\Администратор\Мои документы\Тексты из интернета\портреты музыкантов из инета\матье3.jpg"/>
          <p:cNvPicPr/>
          <p:nvPr/>
        </p:nvPicPr>
        <p:blipFill>
          <a:blip r:embed="rId1"/>
          <a:stretch/>
        </p:blipFill>
        <p:spPr>
          <a:xfrm>
            <a:off x="0" y="357120"/>
            <a:ext cx="5643720" cy="6072120"/>
          </a:xfrm>
          <a:prstGeom prst="rect">
            <a:avLst/>
          </a:prstGeom>
          <a:ln w="0">
            <a:noFill/>
          </a:ln>
        </p:spPr>
      </p:pic>
      <p:pic>
        <p:nvPicPr>
          <p:cNvPr id="250" name="chao-bambino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9984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40:51Z</dcterms:created>
  <dc:creator>XP GAME 2008</dc:creator>
  <dc:description/>
  <dc:language>en-US</dc:language>
  <cp:lastModifiedBy>XP GAME 2008</cp:lastModifiedBy>
  <dcterms:modified xsi:type="dcterms:W3CDTF">2011-11-07T09:32:41Z</dcterms:modified>
  <cp:revision>21</cp:revision>
  <dc:subject/>
  <dc:title>«Лёгкое» и «серьёзное» в песне</dc:title>
</cp:coreProperties>
</file>