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ACE6-9B48-4C35-874D-AD1932BE17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8D2-9B90-4448-B7D7-7CE3CF4933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5B6-3DAD-47EF-90AB-BAE4E495BB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46BE-FC2B-48E2-9D30-C501B5B1FA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A76-6496-4305-B94E-ECB50D05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E7B-6146-43F9-A883-CF2123F3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091-199E-480E-AA06-9E8CB630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A41-E95B-4EA0-A64F-43B515F3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F86B-16D7-4397-9D07-BCB01117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4906-2549-4FC0-ADAE-8196491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3D6B-9F77-47A2-BDFF-18E3D33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042E-C5B1-4BD1-B9A7-BA49E39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E3E-9178-4BEC-B2E1-446C570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6F1B-3F04-4307-B310-38BCADF0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C42B-AC7C-471F-81E0-1BDE0B5A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227-D0DE-444D-B193-B10DD51C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F43D-E7B9-4456-A7B4-94B8AB0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CD82-F90E-4F76-A2A5-BC4D04D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3586-8CF7-43DB-B87A-636175BB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55DC-5334-4883-B4FE-CFE5DA08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005-3203-4335-8652-250D36A3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7FB6-4C8A-4975-A9C7-443500F4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3203-1B3D-4912-92C2-9CE340A0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E5CF-BEC3-4B2A-8D8B-067A772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8EB0-2750-4460-BB6D-3F6CCD46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F5FA-1D26-4D4C-BA23-4222DEE3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0CD-B9B4-4E4C-83C8-3F4D633C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AA46-F144-4844-94F1-3815A1E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E40C-EF11-415B-93BD-36208A93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BD9A-AC45-45B2-ADA9-4FC23CF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872D-FAC1-4C88-AD5B-D3B30F2B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DFF5-AF96-421E-B17F-A028B64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A3F7-8149-4B53-AA0F-CB11E036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9AC6-2E57-4DBD-9DAC-5C18A764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2420-9618-4FA2-9033-4B58E4DD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BF66-DE86-49AA-852B-D53C239A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2491-C0FC-4170-A90E-5513C8A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E8F-EFBE-44DF-87D2-3928328C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CAD3-94BA-43F7-9F51-2EFB2BB7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2DFE-F417-4991-8EA5-F95D70C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1AF5-2450-4633-88C7-0CF36ABF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EBC1-DE20-4BB9-B63C-2063774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E348-5385-4DBE-8B7B-339CBA0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7B0B-1094-4AE6-BBA1-543A8936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B1F0-C06E-4AE7-809E-91D356AC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3C38-386B-4673-A73A-1D7E503F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4BEA-6836-4A6F-A958-BCB8890F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3F2A-4F71-40E5-9B03-47CAF82C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0B7-ECDF-4632-A615-427E937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43FE-F414-440E-B338-9DA09A04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AA89-2883-4717-AA61-B9900D9C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05A2-9284-4CE5-90C9-FD2F7AB4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F187-43B9-45F9-9938-6022DD09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49DF7-7198-4DEA-A871-FC44C714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AD5F-20F0-4821-934D-8358BBF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D7C1A-F6E7-4B7F-8186-2DBFCEF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3314-BC6F-47C8-A00C-9D63FF2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915B6-69F8-4702-B118-AE90819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D3A6-FD85-46D2-AA85-EC897930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E03-D9A8-4B3D-838C-F9F675FB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041C-4004-4AFE-89DE-580427F9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A97-A30B-402E-AED6-B311709A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89C-6862-47C1-BD42-D71DC5F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D09-7307-40FD-8BF2-30FF880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DFCC-C3B8-4C64-96DB-5B403DFF686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3DA-DB79-41DA-B91B-D4D37F6194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D277-8EAC-42FE-853A-66F04C46EC5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745-64A5-4A20-81B7-0D9BCB454A4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3977-0A48-4711-AD12-218AAA99FE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ihi.ru/avtor/irinalats" TargetMode="External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«Лёгкое» и «серьёзное» в песн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Цель: Познакомиться с классическими образцами французской песенной эстра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Documents and Settings\Администратор\Мои документы\Тексты из интернета\портреты музыкантов из инета\мирей2.jpg"/>
          <p:cNvPicPr/>
          <p:nvPr/>
        </p:nvPicPr>
        <p:blipFill>
          <a:blip r:embed="rId1"/>
          <a:stretch/>
        </p:blipFill>
        <p:spPr>
          <a:xfrm>
            <a:off x="785880" y="571680"/>
            <a:ext cx="7715160" cy="6143400"/>
          </a:xfrm>
          <a:prstGeom prst="rect">
            <a:avLst/>
          </a:prstGeom>
          <a:ln w="0">
            <a:noFill/>
          </a:ln>
        </p:spPr>
      </p:pic>
      <p:pic>
        <p:nvPicPr>
          <p:cNvPr id="252" name="padam-padam.mp3" descr=""/>
          <p:cNvPicPr/>
          <p:nvPr/>
        </p:nvPicPr>
        <p:blipFill>
          <a:blip r:embed="rId2"/>
          <a:stretch/>
        </p:blipFill>
        <p:spPr>
          <a:xfrm>
            <a:off x="7715160" y="100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765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Documents and Settings\Администратор\Мои документы\Тексты из интернета\портреты музыкантов из инета\матье7.jpg"/>
          <p:cNvPicPr/>
          <p:nvPr/>
        </p:nvPicPr>
        <p:blipFill>
          <a:blip r:embed="rId1"/>
          <a:stretch/>
        </p:blipFill>
        <p:spPr>
          <a:xfrm>
            <a:off x="-666720" y="-166680"/>
            <a:ext cx="10477440" cy="7191360"/>
          </a:xfrm>
          <a:prstGeom prst="rect">
            <a:avLst/>
          </a:prstGeom>
          <a:ln w="0">
            <a:noFill/>
          </a:ln>
        </p:spPr>
      </p:pic>
      <p:pic>
        <p:nvPicPr>
          <p:cNvPr id="254" name="Шарль Азнавур и Мирей Матье - История любви (zvukoff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4272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857760"/>
            <a:ext cx="81835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Джо Дассен</a:t>
            </a:r>
            <a:r>
              <a:rPr b="0" lang="ru-RU" sz="59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br>
              <a:rPr sz="29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жозеф Дассен появился на свет в Нью-Йорке 5 ноября 1938 год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6" name="Picture 2" descr="C:\Documents and Settings\Администратор\Мои документы\Тексты из интернета\портреты музыкантов из инета\джо дассен2.gif"/>
          <p:cNvPicPr/>
          <p:nvPr/>
        </p:nvPicPr>
        <p:blipFill>
          <a:blip r:embed="rId1"/>
          <a:stretch/>
        </p:blipFill>
        <p:spPr>
          <a:xfrm>
            <a:off x="5000760" y="357120"/>
            <a:ext cx="3500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4280" y="4071600"/>
            <a:ext cx="68580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Песня имеет важную          социальную роль, -Она помогает людям жить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2" descr="C:\Documents and Settings\Администратор\Мои документы\Тексты из интернета\портреты музыкантов из инета\джо дассен5.jpg"/>
          <p:cNvPicPr/>
          <p:nvPr/>
        </p:nvPicPr>
        <p:blipFill>
          <a:blip r:embed="rId1"/>
          <a:stretch/>
        </p:blipFill>
        <p:spPr>
          <a:xfrm>
            <a:off x="2000160" y="571680"/>
            <a:ext cx="5214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Когда Джо Дассен выходил на сцену, импульсы его искусства действительно доходили до каждого в зале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Picture 3" descr="C:\Documents and Settings\Администратор\Мои документы\Тексты из интернета\портреты музыкантов из инета\джо дассен4.jpg"/>
          <p:cNvPicPr/>
          <p:nvPr/>
        </p:nvPicPr>
        <p:blipFill>
          <a:blip r:embed="rId1"/>
          <a:stretch/>
        </p:blipFill>
        <p:spPr>
          <a:xfrm>
            <a:off x="2665440" y="642960"/>
            <a:ext cx="3813120" cy="4143240"/>
          </a:xfrm>
          <a:prstGeom prst="rect">
            <a:avLst/>
          </a:prstGeom>
          <a:ln w="0">
            <a:noFill/>
          </a:ln>
        </p:spPr>
      </p:pic>
      <p:pic>
        <p:nvPicPr>
          <p:cNvPr id="261" name="dzo-dassen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7092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Администратор\Мои документы\Тексты из интернета\портреты музыкантов из инета\джо дассен3.jpg"/>
          <p:cNvPicPr/>
          <p:nvPr/>
        </p:nvPicPr>
        <p:blipFill>
          <a:blip r:embed="rId1"/>
          <a:stretch/>
        </p:blipFill>
        <p:spPr>
          <a:xfrm>
            <a:off x="1643040" y="428760"/>
            <a:ext cx="5786640" cy="6000480"/>
          </a:xfrm>
          <a:prstGeom prst="rect">
            <a:avLst/>
          </a:prstGeom>
          <a:ln w="0">
            <a:noFill/>
          </a:ln>
        </p:spPr>
      </p:pic>
      <p:pic>
        <p:nvPicPr>
          <p:cNvPr id="263" name="Taka-Takata.mp3" descr=""/>
          <p:cNvPicPr/>
          <p:nvPr/>
        </p:nvPicPr>
        <p:blipFill>
          <a:blip r:embed="rId2"/>
          <a:stretch/>
        </p:blipFill>
        <p:spPr>
          <a:xfrm>
            <a:off x="7000920" y="642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3743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2357280" y="1285920"/>
            <a:ext cx="357192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жо Дассен Портре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b9f25"/>
                </a:solidFill>
                <a:uFillTx/>
                <a:latin typeface="Calibri"/>
                <a:ea typeface="Times New Roman"/>
                <a:hlinkClick r:id="rId1"/>
              </a:rPr>
              <a:t>Ирина Цыбульская-Ла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ырое утро, пар тума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он туфлей резвых по камня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дной мольберт и песня в ван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 шум воды и мыла шар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тив тоски и измерени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здесь, и может быть, я та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ду, по гулкому ступа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жу и плачу: «Джо, я к Вам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чу войти в больное сердц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ушать тихой боли зву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питься тонким счастьем, верьт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ышать и плакать от разлук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слышу нежное призна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чувствую немой испуг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овь сердце бьётся так нестар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мой Париж, где Вы – мой дру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500720"/>
            <a:ext cx="818352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d3e"/>
                </a:solidFill>
                <a:latin typeface="Verdana"/>
              </a:rPr>
              <a:t>Внезапная смерть оборвала карьеру Джо Дассена: он умер вдали от Родины, на далёком острове Таити от сердечного приступа в возрасте 42 лет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2" descr="C:\Documents and Settings\Администратор\Мои документы\Тексты из интернета\портреты музыкантов из инета\джо дассен.jpg"/>
          <p:cNvPicPr/>
          <p:nvPr/>
        </p:nvPicPr>
        <p:blipFill>
          <a:blip r:embed="rId1"/>
          <a:stretch/>
        </p:blipFill>
        <p:spPr>
          <a:xfrm>
            <a:off x="2811600" y="530280"/>
            <a:ext cx="3566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Патрисия Каас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1" descr="C:\Documents and Settings\Администратор\Мои документы\Тексты из интернета\портреты музыкантов из инета\каас2.jpg"/>
          <p:cNvPicPr/>
          <p:nvPr/>
        </p:nvPicPr>
        <p:blipFill>
          <a:blip r:embed="rId1"/>
          <a:stretch/>
        </p:blipFill>
        <p:spPr>
          <a:xfrm>
            <a:off x="642960" y="571680"/>
            <a:ext cx="77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Патрисия Каас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ленький пыльный городишко Форбак, Лотарингия (почти на границе Франции)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атрис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явилась на свет 5 декабря 1966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ранция- республика шансонов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755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- песн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ье-певец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современной французской песни два истока- кафеконцерт и высокая политическая поэзия, породнившаяся с народной музык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Шансонье-франц. поэты и исполнители песен (часто авторы их текстов, иногда и музыки; обычно используют популярные мелодии). Истоки франц. Ш. восходят к иск-ву менестрелей, трубаду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Documents and Settings\Администратор\Мои документы\Тексты из интернета\портреты музыкантов из инета\каас6.jpg"/>
          <p:cNvPicPr/>
          <p:nvPr/>
        </p:nvPicPr>
        <p:blipFill>
          <a:blip r:embed="rId1"/>
          <a:stretch/>
        </p:blipFill>
        <p:spPr>
          <a:xfrm>
            <a:off x="1500120" y="530280"/>
            <a:ext cx="5857920" cy="5827680"/>
          </a:xfrm>
          <a:prstGeom prst="rect">
            <a:avLst/>
          </a:prstGeom>
          <a:ln w="0">
            <a:noFill/>
          </a:ln>
        </p:spPr>
      </p:pic>
      <p:pic>
        <p:nvPicPr>
          <p:cNvPr id="272" name="patricia_kaas_-_mon_mec_a_mo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25506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Администратор\Мои документы\Тексты из интернета\портреты музыкантов из инета\каас.jpeg"/>
          <p:cNvPicPr/>
          <p:nvPr/>
        </p:nvPicPr>
        <p:blipFill>
          <a:blip r:embed="rId1"/>
          <a:stretch/>
        </p:blipFill>
        <p:spPr>
          <a:xfrm>
            <a:off x="928800" y="571680"/>
            <a:ext cx="7286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Documents and Settings\Администратор\Мои документы\Тексты из интернета\портреты музыкантов из инета\каас5.jpg"/>
          <p:cNvPicPr/>
          <p:nvPr/>
        </p:nvPicPr>
        <p:blipFill>
          <a:blip r:embed="rId1"/>
          <a:stretch/>
        </p:blipFill>
        <p:spPr>
          <a:xfrm>
            <a:off x="714240" y="428760"/>
            <a:ext cx="80726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Documents and Settings\Администратор\Мои документы\Тексты из интернета\портреты музыкантов из инета\каас3.jpg"/>
          <p:cNvPicPr/>
          <p:nvPr/>
        </p:nvPicPr>
        <p:blipFill>
          <a:blip r:embed="rId1"/>
          <a:stretch/>
        </p:blipFill>
        <p:spPr>
          <a:xfrm>
            <a:off x="1957320" y="357120"/>
            <a:ext cx="5829480" cy="60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наменитые французские певцы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Эдит Пиаф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Мирэй Мать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Джо Дассен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Патриссия Каа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дит Пиаф(Эдит Джованна Гассион)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19 декабря 1915-11 октября 1963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иограф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ет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Уличный воробыш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одозреваем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щество Раймонда Асс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ктри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наменитый ром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Жизнь ради пе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C:\Documents and Settings\Администратор\Мои документы\Тексты из интернета\портреты музыкантов из инета\пиаф.jpg"/>
          <p:cNvPicPr/>
          <p:nvPr/>
        </p:nvPicPr>
        <p:blipFill>
          <a:blip r:embed="rId1"/>
          <a:stretch/>
        </p:blipFill>
        <p:spPr>
          <a:xfrm>
            <a:off x="5429160" y="571680"/>
            <a:ext cx="314172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Нет, я ни о чём не жалею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7" name="Picture 2" descr="C:\Documents and Settings\Администратор\Мои документы\Тексты из интернета\портреты музыкантов из инета\пиаф3.jpg"/>
          <p:cNvPicPr/>
          <p:nvPr/>
        </p:nvPicPr>
        <p:blipFill>
          <a:blip r:embed="rId1"/>
          <a:stretch/>
        </p:blipFill>
        <p:spPr>
          <a:xfrm>
            <a:off x="1000080" y="530280"/>
            <a:ext cx="6929640" cy="4755960"/>
          </a:xfrm>
          <a:prstGeom prst="rect">
            <a:avLst/>
          </a:prstGeom>
          <a:ln w="0">
            <a:noFill/>
          </a:ln>
        </p:spPr>
      </p:pic>
      <p:pic>
        <p:nvPicPr>
          <p:cNvPr id="238" name="Non_Je_Ne_Regrette_Rien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448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8d3e"/>
                </a:solidFill>
                <a:latin typeface="Verdana"/>
              </a:rPr>
              <a:t>Эдит Пиаф умерла 11 октября 1963 года в Париже.</a:t>
            </a:r>
            <a:br>
              <a:rPr sz="1600"/>
            </a:br>
            <a:r>
              <a:rPr b="1" i="1" lang="ru-RU" sz="1600" spc="-1" strike="noStrike">
                <a:solidFill>
                  <a:srgbClr val="ff8d3e"/>
                </a:solidFill>
                <a:latin typeface="Verdana"/>
              </a:rPr>
              <a:t>Её похоронили на кладбище Пер-Лашез</a:t>
            </a:r>
            <a:r>
              <a:rPr b="1" i="1" lang="ru-RU" sz="22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Non_Je_Ne_Regrette_Rien1.mp3" descr=""/>
          <p:cNvPicPr/>
          <p:nvPr/>
        </p:nvPicPr>
        <p:blipFill>
          <a:blip r:embed="rId1"/>
          <a:stretch/>
        </p:blipFill>
        <p:spPr>
          <a:xfrm>
            <a:off x="4443480" y="2471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Администратор\Мои документы\Тексты из интернета\портреты музыкантов из инета\пиаф4.jpg"/>
          <p:cNvPicPr/>
          <p:nvPr/>
        </p:nvPicPr>
        <p:blipFill>
          <a:blip r:embed="rId2"/>
          <a:stretch/>
        </p:blipFill>
        <p:spPr>
          <a:xfrm>
            <a:off x="500040" y="1500120"/>
            <a:ext cx="8215200" cy="5072040"/>
          </a:xfrm>
          <a:prstGeom prst="rect">
            <a:avLst/>
          </a:prstGeom>
          <a:ln w="0">
            <a:noFill/>
          </a:ln>
        </p:spPr>
      </p:pic>
      <p:pic>
        <p:nvPicPr>
          <p:cNvPr id="242" name="Эдит Пиаф -Le Ballet Des Coeurs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973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944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ей Матьё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е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тьё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одилась 22 июля 1946 года в Авиньоне, в семье каменщика, где была старшей из четырнадцати братьев и сестё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3" descr="C:\Documents and Settings\Администратор\Мои документы\Тексты из интернета\портреты музыкантов из инета\матье6.jpg"/>
          <p:cNvPicPr/>
          <p:nvPr/>
        </p:nvPicPr>
        <p:blipFill>
          <a:blip r:embed="rId1"/>
          <a:stretch/>
        </p:blipFill>
        <p:spPr>
          <a:xfrm>
            <a:off x="4857840" y="2000160"/>
            <a:ext cx="3071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а из лучших исполнительниц французских современных пес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обширном репертуаре преобладают песни о любви, чистой, нежной. скром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шателей пленяет красивый голос и стиль её исполн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C:\Documents and Settings\Администратор\Мои документы\Тексты из интернета\портреты музыкантов из инета\мирей матье.jpg"/>
          <p:cNvPicPr/>
          <p:nvPr/>
        </p:nvPicPr>
        <p:blipFill>
          <a:blip r:embed="rId1"/>
          <a:stretch/>
        </p:blipFill>
        <p:spPr>
          <a:xfrm>
            <a:off x="6072120" y="3571920"/>
            <a:ext cx="2357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571720" y="3642840"/>
            <a:ext cx="3164040" cy="2984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щай, мальчик, мне жаль, но я ухожу…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2" descr="C:\Documents and Settings\Администратор\Мои документы\Тексты из интернета\портреты музыкантов из инета\матье3.jpg"/>
          <p:cNvPicPr/>
          <p:nvPr/>
        </p:nvPicPr>
        <p:blipFill>
          <a:blip r:embed="rId1"/>
          <a:stretch/>
        </p:blipFill>
        <p:spPr>
          <a:xfrm>
            <a:off x="0" y="357120"/>
            <a:ext cx="5643720" cy="6072120"/>
          </a:xfrm>
          <a:prstGeom prst="rect">
            <a:avLst/>
          </a:prstGeom>
          <a:ln w="0">
            <a:noFill/>
          </a:ln>
        </p:spPr>
      </p:pic>
      <p:pic>
        <p:nvPicPr>
          <p:cNvPr id="250" name="chao-bambino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9984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40:51Z</dcterms:created>
  <dc:creator>XP GAME 2008</dc:creator>
  <dc:description/>
  <dc:language>en-US</dc:language>
  <cp:lastModifiedBy>XP GAME 2008</cp:lastModifiedBy>
  <dcterms:modified xsi:type="dcterms:W3CDTF">2011-11-07T09:32:41Z</dcterms:modified>
  <cp:revision>21</cp:revision>
  <dc:subject/>
  <dc:title>«Лёгкое» и «серьёзное» в песне</dc:title>
</cp:coreProperties>
</file>