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9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D03-3C2D-447D-B5A6-E08BBE70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FA9-B674-4E4D-86D9-A16A76D7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B2D-388F-4568-A9C3-427E7118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6ED-AC93-48DF-BC7A-7D81C064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9CA-C639-4108-AC4C-0A15DACA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16E-A916-4F08-AC54-D9987E18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B73-FF7C-43D3-BE02-95725A86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BE4-B5E9-4BEC-9F42-9B03A315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1C3-52F9-42CA-9FBA-B86BC401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6AA-8B46-4521-8859-15898A4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78D-88BC-4534-B8CF-16C769F2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D70-D486-4638-B750-51D7135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1B94-9C73-4D35-ADD4-24E5CA83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askerville Old Face"/>
              </a:rPr>
              <a:t>ЭЛЕКТИВНЫЙ КУРС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«Система, многообразие и эволюция живой природы»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roadway"/>
              </a:rPr>
              <a:t>для 9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86864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Broadway"/>
              </a:rPr>
              <a:t>Руководитель кур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roadway"/>
              </a:rPr>
              <a:t>учитель биологии высшей квалификационная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roadway"/>
              </a:rPr>
              <a:t>Ядыкина Елена Никола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Imprint MT Shadow"/>
              </a:rPr>
              <a:t>Я   рада ВАМ помочь при освоении курса  жду В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Imprint MT Shadow"/>
              </a:rPr>
              <a:t>в корпусе №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Imprint MT Shadow"/>
              </a:rPr>
              <a:t>кабинет биологии №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Imprint MT Shadow"/>
              </a:rPr>
              <a:t>До встреч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3812400">
            <a:off x="565200" y="304344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72360" y="1052640"/>
            <a:ext cx="723960" cy="676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390680" cy="1352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635280" y="5805360"/>
            <a:ext cx="685800" cy="50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300720" y="5373720"/>
            <a:ext cx="1224000" cy="1100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812000" y="472428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7667640" y="2852640"/>
            <a:ext cx="1209600" cy="933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</a:rPr>
              <a:t>ДЕВЯТИКЛАССНИК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Broadway"/>
              </a:rPr>
              <a:t>Тебе  нравится предмет биолог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Broadway"/>
              </a:rPr>
              <a:t>Ты желаешь хорошо подготовиться для сдачи ГИА по биолог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Broadway"/>
              </a:rPr>
              <a:t>Ты в будущем планируешь связать свою работу  с биологической направленност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48360" y="31417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67640" y="1052640"/>
            <a:ext cx="123840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486900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84360" y="5589720"/>
            <a:ext cx="1152720" cy="780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askerville Old Face"/>
              </a:rPr>
              <a:t>Тогда тебе сю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askerville Old Face"/>
              </a:rPr>
              <a:t>На элективный 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Baskerville Old Face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Baskerville Old Face"/>
              </a:rPr>
              <a:t>«Система, многообразие и эволюция живой природы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rint MT Shadow"/>
              </a:rPr>
              <a:t>Который состоит из следующих бло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Биология как  на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Признаки живых систе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Система, многообразие и эволюция живой природ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Человек и его здоров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Взаимосвязи  организмов и окружающей сре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Imprint MT Shadow"/>
              </a:rPr>
              <a:t>Ведь именно из этих блоков состоят задания контрольно измерительных материалов по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308720" y="1125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roadway"/>
              </a:rPr>
              <a:t>Цель курс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Imprint MT Shadow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Imprint MT Shadow"/>
              </a:rPr>
              <a:t>Систематизация знаний о важнейших отличительных признаках основных царств  живой природы и  подготовка к государственной итоговой аттестации (ГИ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Вы будите знать: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классификацию растений, животных, грибов, лишайников и простейших организ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клеток растений, животных, грибов, простейших организ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бактериаль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тканей  растений и  живо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вегетативных  и генеративных органов растений и основные процессы жизне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многообразие и распространение основных систематических групп растений, животных, грибов, простейших организ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происхождение основных групп растений и основных типов и классов живо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значение растений, животных, грибов, бактерий и простейших организмов в природе и жизн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Вы будите уме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сравнивать строение  организмов различных царств живой при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определять и классифицирова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распознавать и описывать и характеризовать биологические объ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проводить лабораторные наблюдения, описывать и объяснять результаты опы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осуществлять самостоятельный поиск биологической информации в разных источниках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составлять краткие рефераты и сообщения по интересующим темам, представлять их ауд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oadway"/>
              </a:rPr>
              <a:t>Что будем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выполнять лабораторны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Выполнять  тренинговы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выполнять задания повышенного уров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использовать Интернет ресурсы, Ц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089080" cy="146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740720" y="2133720"/>
            <a:ext cx="102240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oadway"/>
              </a:rPr>
              <a:t>Что для этого необходим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Жел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Настойчив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Открытость нов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Восприимчив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Целеустрем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Любопыт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Умение искать информ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Стремление самосовершенствов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Уверенность в с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adway"/>
              </a:rPr>
              <a:t>И тогда</a:t>
            </a:r>
            <a:r>
              <a:rPr b="1" lang="en-US" sz="2800" spc="-1" strike="noStrike">
                <a:solidFill>
                  <a:srgbClr val="ff0000"/>
                </a:solidFill>
                <a:latin typeface="Broadway"/>
              </a:rPr>
              <a:t>     У ВАС ВСЕ ПОЛУЧ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4:01:03Z</dcterms:created>
  <dc:creator>мин образования</dc:creator>
  <dc:description/>
  <dc:language>en-US</dc:language>
  <cp:lastModifiedBy>мин образования</cp:lastModifiedBy>
  <dcterms:modified xsi:type="dcterms:W3CDTF">2010-09-29T05:15:43Z</dcterms:modified>
  <cp:revision>5</cp:revision>
  <dc:subject/>
  <dc:title>«Система, многообразие и эволюция живой природы»</dc:title>
</cp:coreProperties>
</file>