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3D3-EF82-4451-8573-FA422DB2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4EC-9379-468D-9591-E098BEA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AEC-8009-48AA-A550-98D3AC70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326-2EC9-4536-9241-CEAB44A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D94-22B0-43A1-B259-17882F90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49F-8838-43DC-9D0E-7AB7129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6D3-90A5-4BC1-8BE7-78DAEF99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D78-F609-4C53-AC0D-E4C890F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56C-4B85-41E0-B9CA-8C764B2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58B-701F-44D4-B083-00A5F68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416-C174-495E-9F09-BABA27F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23C-59D2-4092-9D33-CD33021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1EC-2B1C-421B-B8AE-A58304FC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askerville Old Face"/>
              </a:rPr>
              <a:t>ЭЛЕКТИВНЫЙ КУРС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«Система, многообразие и эволюция живой природы»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roadway"/>
              </a:rPr>
              <a:t>для 9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Broadway"/>
              </a:rPr>
              <a:t>Руководитель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oadway"/>
              </a:rPr>
              <a:t>учитель биологии высшей квалификационная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roadway"/>
              </a:rPr>
              <a:t>Ядыкина Еле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Imprint MT Shadow"/>
              </a:rPr>
              <a:t>Я   рада ВАМ помочь при освоении курса  жду В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в корпусе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кабинет биологии №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Imprint MT Shadow"/>
              </a:rPr>
              <a:t>До встреч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3812400">
            <a:off x="565200" y="304344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72360" y="1052640"/>
            <a:ext cx="72396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390680" cy="135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635280" y="5805360"/>
            <a:ext cx="68580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300720" y="537372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812000" y="472428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667640" y="2852640"/>
            <a:ext cx="1209600" cy="93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</a:rPr>
              <a:t>ДЕВЯТИКЛАССНИК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ебе  нравится предмет би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желаешь хорошо подготовиться для сдачи ГИА по биолог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в будущем планируешь связать свою работу  с биологической направлен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31417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67640" y="1052640"/>
            <a:ext cx="123840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486900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84360" y="5589720"/>
            <a:ext cx="1152720" cy="780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Тогда тебе сю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askerville Old Face"/>
              </a:rPr>
              <a:t>На элективны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«Система, многообразие и эволюция живой природы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rint MT Shadow"/>
              </a:rPr>
              <a:t>Который состоит из следующих бл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Биология как  на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Признаки живых систе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Система, многообразие и эволюция живой природ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Человек и его здоров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Взаимосвязи  организмов и окружающей ср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Imprint MT Shadow"/>
              </a:rPr>
              <a:t>Ведь именно из этих блоков состоят задания контрольно измерительных материалов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oadway"/>
              </a:rPr>
              <a:t>Цель кур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Систематизация знаний о важнейших отличительных признаках основных царств  живой природы и  подготовка к государственной итоговой аттестации (ГИ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знать: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классификацию растений, животных, грибов, лишайников и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клеток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бактериаль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тканей  растений и 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вегетативных  и генеративных органов растений и основные процессы жизне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многообразие и распространение основных систематических групп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происхождение основных групп растений и основных типов и классов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значение растений, животных, грибов, бактерий и простейших организмов в природе и жизн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уме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равнивать строение  организмов различных царств живой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пределять и классифициров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распознавать и описывать и характеризовать биологически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проводить лабораторные наблюдения, описывать и объяснять результаты опы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существлять самостоятельный поиск биологической информации в разных источниках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оставлять краткие рефераты и сообщения по интересующим темам, представлять их ауд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буде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лабораторн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 тренингов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задания повышенного уров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использовать Интернет ресурсы, Ц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08908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10224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для этого необходим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Жел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Настойч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ткрытость но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Восприимч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Любопыт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мение искать информ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тремление самосовершенство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веренность в с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adway"/>
              </a:rPr>
              <a:t>И тогда</a:t>
            </a: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     У ВАС ВСЕ ПОЛУЧ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4:01:03Z</dcterms:created>
  <dc:creator>мин образования</dc:creator>
  <dc:description/>
  <dc:language>en-US</dc:language>
  <cp:lastModifiedBy>мин образования</cp:lastModifiedBy>
  <dcterms:modified xsi:type="dcterms:W3CDTF">2010-09-29T05:15:43Z</dcterms:modified>
  <cp:revision>5</cp:revision>
  <dc:subject/>
  <dc:title>«Система, многообразие и эволюция живой природы»</dc:title>
</cp:coreProperties>
</file>