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C37-1DF5-4099-AAFC-541B1A22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8F9-7AFD-4317-A26F-2B58A43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57E-8327-4294-89BF-E3CA631C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FEB-AE40-44CA-9AC1-DFEB2540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135-50F2-4841-938A-789E5082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68A-5F35-499B-A573-69F89D1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DAD-0C2A-418D-841D-226101E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0EF-1F2E-4042-AB45-924A3AD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4AA-FB60-47A7-9FEE-E87455F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047-BA04-4503-B17D-897207F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0E0-1CEF-4C5C-BCA7-87ED19B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160-1C02-441B-83CE-4B3219E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EE9-1DB1-487B-B4D7-055810F0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askerville Old Face"/>
              </a:rPr>
              <a:t>ЭЛЕКТИВНЫЙ КУРС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«Система, многообразие и эволюция живой природы»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roadway"/>
              </a:rPr>
              <a:t>для 9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Broadway"/>
              </a:rPr>
              <a:t>Руководитель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oadway"/>
              </a:rPr>
              <a:t>учитель биологии высшей квалификационная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roadway"/>
              </a:rPr>
              <a:t>Ядыкина Еле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Imprint MT Shadow"/>
              </a:rPr>
              <a:t>Я   рада ВАМ помочь при освоении курса  жду В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в корпусе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Imprint MT Shadow"/>
              </a:rPr>
              <a:t>кабинет биологии №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Imprint MT Shadow"/>
              </a:rPr>
              <a:t>До встреч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3812400">
            <a:off x="565200" y="304344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72360" y="1052640"/>
            <a:ext cx="72396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390680" cy="1352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635280" y="5805360"/>
            <a:ext cx="68580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300720" y="537372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812000" y="472428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667640" y="2852640"/>
            <a:ext cx="1209600" cy="93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askerville Old Face"/>
              </a:rPr>
              <a:t>ДЕВЯТИКЛАССНИК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ебе  нравится предмет би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желаешь хорошо подготовиться для сдачи ГИА по биолог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Broadway"/>
              </a:rPr>
              <a:t>Ты в будущем планируешь связать свою работу  с биологической направлен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31417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67640" y="1052640"/>
            <a:ext cx="123840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486900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84360" y="5589720"/>
            <a:ext cx="1152720" cy="780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Тогда тебе сю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askerville Old Face"/>
              </a:rPr>
              <a:t>На элективны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Baskerville Old Face"/>
              </a:rPr>
              <a:t>«Система, многообразие и эволюция живой природы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rint MT Shadow"/>
              </a:rPr>
              <a:t>Который состоит из следующих бло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Биология как  на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Признаки живых систе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Система, многообразие и эволюция живой природ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Человек и его здоров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oadway"/>
              </a:rPr>
              <a:t>« Взаимосвязи  организмов и окружающей ср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Imprint MT Shadow"/>
              </a:rPr>
              <a:t>Ведь именно из этих блоков состоят задания контрольно измерительных материалов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oadway"/>
              </a:rPr>
              <a:t>Цель кур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Imprint MT Shadow"/>
              </a:rPr>
              <a:t>Систематизация знаний о важнейших отличительных признаках основных царств  живой природы и  подготовка к государственной итоговой аттестации (ГИ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знать: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классификацию растений, животных, грибов, лишайников и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клеток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бактериаль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тканей  растений и 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особенности строения вегетативных  и генеративных органов растений и основные процессы жизне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многообразие и распространение основных систематических групп растений, животных, грибов, простейших организ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происхождение основных групп растений и основных типов и классов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Imprint MT Shadow"/>
              </a:rPr>
              <a:t>значение растений, животных, грибов, бактерий и простейших организмов в природе и жизн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Вы будите уме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равнивать строение  организмов различных царств живой при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пределять и классифициров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распознавать и описывать и характеризовать биологически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проводить лабораторные наблюдения, описывать и объяснять результаты опы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существлять самостоятельный поиск биологической информации в разных источниках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оставлять краткие рефераты и сообщения по интересующим темам, представлять их ауд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буде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лабораторн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 тренинговы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выполнять задания повышенного уров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rint MT Shadow"/>
              </a:rPr>
              <a:t>использовать Интернет ресурсы, Ц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08908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102240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oadway"/>
              </a:rPr>
              <a:t>Что для этого необходим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Жел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Настойч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Открытость но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Восприимч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Любопыт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мение искать информ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Стремление самосовершенство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Imprint MT Shadow"/>
              </a:rPr>
              <a:t>Уверенность в с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oadway"/>
              </a:rPr>
              <a:t>И тогда</a:t>
            </a: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     У ВАС ВСЕ ПОЛУЧ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4:01:03Z</dcterms:created>
  <dc:creator>мин образования</dc:creator>
  <dc:description/>
  <dc:language>en-US</dc:language>
  <cp:lastModifiedBy>мин образования</cp:lastModifiedBy>
  <dcterms:modified xsi:type="dcterms:W3CDTF">2010-09-29T05:15:43Z</dcterms:modified>
  <cp:revision>5</cp:revision>
  <dc:subject/>
  <dc:title>«Система, многообразие и эволюция живой природы»</dc:title>
</cp:coreProperties>
</file>