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4A2-21F1-4617-85A6-4A0958E1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45A-541D-4ED4-B98B-47D20414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ABE-C005-4110-81F2-C62EC461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BB0-1E48-4428-8238-3A56B36A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E63-B082-4FD6-BADE-7430EF37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E6B-99D1-498C-B74B-BDB4E73F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9A9-6D15-4436-8712-68996F5A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2D6-FB1F-4E01-A1A2-D871A8CA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4B7-26EA-440C-B64F-DBF0D523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A6B-8878-41E6-874D-48843B26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475-5F46-4FFD-8DE0-09CF40E2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54E-3BCE-472A-9136-C7BB51A8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43D9-450F-414E-82AB-60723399A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renerovka.ru/images/skating2.j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ccff"/>
                </a:solidFill>
                <a:latin typeface="Arial"/>
              </a:rPr>
              <a:t>Конь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Деревя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Вик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3 «А» школа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45626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 а красивая фигура, грация, хорошая пластика и удовольствие от самого катания – дополнительные и, согласитесь, приятные бонус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оит воспользоваться!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46580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гры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4859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мей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гра поможет вам выработать равномерный четкий шаг. Станьте в затылок друг другу. Первый конькобежец — ведущий — скользит сначала прямо, а затем начинает делать повороты в разные стороны. По его команде эти же движения выполняет и вся «змейка». При этом запомните: надо строго выдерживать расстояние между собой и идти только по следу ведущего. </a:t>
            </a:r>
            <a:br>
              <a:rPr sz="1800"/>
            </a:br>
            <a:br>
              <a:rPr sz="1400"/>
            </a:b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288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907920"/>
            <a:ext cx="40323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играх становление техники приходит незаметно — в подвижной, разнообразной эмоциональной обстановке, в атмосфере смеха и веселья.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е игры рассчитаны на то, чтобы без всякой подготовки можно было объединить ребят, пришедших на лед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гры можно проводить на любом катке — во дворе, на школьной площадке, на большом стадионе. Важно лишь кому-то бросить клич. Игры на льду такие как «Салочки», «Змейка», Круговая эстафета» доставят вам много приятных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нтересное ф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181400" cy="3235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411012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35600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Что такое кон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это спортивный или прогулочный инвентарь, который представляет из себя совокупность специализированных ботинок и прикрепляемой к ним системе подвижных или неподвижных лезвий. Используются для передвижения по ровной твёрдой ледяной поверхности. Ботинки изготавливаются из композитных материалов, кожи или пластика, лезвие — металли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8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стория катания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Родиной фигурного кат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 вида спорта считается Голландия, там появились первые в мире железные лезвия для конь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В Росс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оньки привез известный своими новаторскими идеями Петр I. Он же и первый придумал крепить лезвия прямо к сапо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2857680" cy="501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Фигурное катание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6360" y="1197000"/>
            <a:ext cx="3683160" cy="1324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Фигурное катание на коньк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вид спорта, включающий соревнования женщин и мужчин в катании и в спортивных танцах на коньках. Олимпийский вид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435640" y="3500280"/>
            <a:ext cx="27147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3789360"/>
            <a:ext cx="4537080" cy="259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гурное катание на коньках — один из самых популярных видов спорта в России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рина Лобачева и Илья Авербух, Евгений Плющенко, Татьяна Навка, Алексей Ягудин, Ирина Слуцк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для многих россиян стали национальными геро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онькобежный 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31640" y="980640"/>
            <a:ext cx="5759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обежный спо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вид спорта, в котором необходимо как можно быстрее преодолевать определённую дистанцию на ледовом стадионе по замкнутому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ый зрелищный вид скоростного бега на коньках – шорт-трек, где спортсменам необходимо максимально быстро преодолеть соревновательную дистанцию по овальной ледовой дорожке длиной 111,1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648160" cy="374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4578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атание на коньках и его поль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тание на коньках – огромная польза, прежде всего, для ослабленных здоровьем детей. В чем же она заключа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513320" y="31640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3213000"/>
          <a:ext cx="3779640" cy="811440"/>
        </p:xfrm>
        <a:graphic>
          <a:graphicData uri="http://schemas.openxmlformats.org/drawingml/2006/table">
            <a:tbl>
              <a:tblPr/>
              <a:tblGrid>
                <a:gridCol w="320400"/>
                <a:gridCol w="34592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это физическая нагрузка циклического вида, подобная бегу или плаванию, во время которой постепенно улучшается обмен веществ, нормализуется работа дыхательной и сердечно-сосудистой системы, укрепляется иммунная систе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Катание на коньках и его поль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76640"/>
            <a:ext cx="3598920" cy="400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на конька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ание на коньках издавна считается прекрасным средством оздоровления. Оно доступно людям разного возраста, но особенно показано младшим школьникам. Регулярное катание на коньках развивает двигательный аппарат, улучшает обмен веществ, деятельность сердечно-сосудистой и дыхательной систем, укрепляет нервную систему. Кроме того, катание на коньках тренирует вестибулярный аппарат, повышает его функциональную устойчив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88944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40000" y="1341000"/>
            <a:ext cx="4787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гда можно подобрать индивидуальный темп для занятий, посильный конкретному ребёнку. Поэтому катание на коньках полезно детям с ослабленной иммунной системой, часто болеющим респираторными заболеваниями, и даже при заболеваниях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но из-за слабого здоровья на лед привели и многих других известных фигуристов. Поэтому, кто знает, что уготовано вашему чад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дл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03380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4956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м оздоравливающим эффектом катания на коньках является благотворное действие его на осанку детей. Не секрет, что нарушения осанки и сколиозы сейчас лидируют среди детской патологии. Не удивительно, если учесть всё возрастающую нагрузку в школах, недостаток двигательной активности в свободное время и многочасовое сидение за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01:15:05Z</dcterms:created>
  <dc:creator>Вика</dc:creator>
  <dc:description/>
  <dc:language>en-US</dc:language>
  <cp:lastModifiedBy>Вика</cp:lastModifiedBy>
  <dcterms:modified xsi:type="dcterms:W3CDTF">2011-02-06T09:22:59Z</dcterms:modified>
  <cp:revision>7</cp:revision>
  <dc:subject/>
  <dc:title>Коньки</dc:title>
</cp:coreProperties>
</file>