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0040-31F1-4BA2-9EAF-5E1B6AC9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37E-8342-44D8-8C45-CA27CBC6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7B2-C3CB-45DE-9BEC-312D3ACB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D54-067B-449C-A2B0-CCF3F1BE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962-0341-4611-A839-A3E2489F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F35-7ED8-4ACC-99BF-A3BAE9A9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15A-A3DF-44D4-AA1B-45C83F2E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AEA-4AF2-49E6-80C1-A66625A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DB6-234F-43AB-A156-48352ADC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45C-7106-4A61-B5E7-05A6151A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60B-097A-4EDA-98A9-7E1205B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5A8-6F99-47A2-9088-D0E42A2B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ADC5-0C8A-46D6-8EC5-72B4911A1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enerovka.ru/images/skating2.j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ff"/>
                </a:solidFill>
                <a:latin typeface="Arial"/>
              </a:rPr>
              <a:t>Конь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Деревя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Вик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3 «А» школа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45626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 а красивая фигура, грация, хорошая пластика и удовольствие от самого катания – дополнительные и, согласитесь, приятные бонус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ит воспользоваться!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46580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гры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59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мей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а поможет вам выработать равномерный четкий шаг. Станьте в затылок друг другу. Первый конькобежец — ведущий — скользит сначала прямо, а затем начинает делать повороты в разные стороны. По его команде эти же движения выполняет и вся «змейка». При этом запомните: надо строго выдерживать расстояние между собой и идти только по следу ведущего. </a:t>
            </a:r>
            <a:br>
              <a:rPr sz="1800"/>
            </a:br>
            <a:br>
              <a:rPr sz="14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28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907920"/>
            <a:ext cx="40323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грах становление техники приходит незаметно — в подвижной, разнообразной эмоциональной обстановке, в атмосфере смеха и веселья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игры рассчитаны на то, чтобы без всякой подготовки можно было объединить ребят, пришедших на ле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можно проводить на любом катке — во дворе, на школьной площадке, на большом стадионе. Важно лишь кому-то бросить клич. Игры на льду такие как «Салочки», «Змейка», Круговая эстафета» доставят вам много приятных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нтересное ф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1814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41101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35600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Что такое ко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это спортивный или прогулочный инвентарь, который представляет из себя совокупность специализированных ботинок и прикрепляемой к ним системе подвижных или неподвижных лезвий. Используются для передвижения по ровной твёрдой ледяной поверхности. Ботинки изготавливаются из композитных материалов, кожи или пластика, лезвие — металл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стория катания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Родиной фигурного кат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 вида спорта считается Голландия, там появились первые в мире железные лезвия для конь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В Росс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оньки привез известный своими новаторскими идеями Петр I. Он же и первый придумал крепить лезвия прямо к сап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85768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Фигурное катание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683160" cy="1324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Фигурное катание на коньк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вид спорта, включающий соревнования женщин и мужчин в катании и в спортивных танцах на коньках. Олимпийски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35640" y="350028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789360"/>
            <a:ext cx="4537080" cy="259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ное катание на коньках — один из самых популярных видов спорта в России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рина Лобачева и Илья Авербух, Евгений Плющенко, Татьяна Навка, Алексей Ягудин, Ирина Слуц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ля многих россиян стали национальными геро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онькобе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759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обежный 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вид спорта, в котором необходимо как можно быстрее преодолевать определённую дистанцию на ледовом 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й зрелищный вид скоростного бега на коньках – шорт-трек, где спортсменам необходимо максимально быстро преодолеть соревновательную дистанцию по овальной ледовой дорожке длиной 111,1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64816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457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атание на коньках и его поль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ание на коньках – огромная польза, прежде всего, для ослабленных здоровьем детей. В чем же она заключ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513320" y="31640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3213000"/>
          <a:ext cx="3779640" cy="811440"/>
        </p:xfrm>
        <a:graphic>
          <a:graphicData uri="http://schemas.openxmlformats.org/drawingml/2006/table">
            <a:tbl>
              <a:tblPr/>
              <a:tblGrid>
                <a:gridCol w="320400"/>
                <a:gridCol w="34592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это физическая нагрузка циклического вида, подобная бегу или плаванию, во время которой постепенно улучшается обмен веществ, нормализуется работа дыхательной и сердечно-сосудистой системы, укрепляется иммун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Катание на коньках и его поль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76640"/>
            <a:ext cx="359892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на коньк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ние на коньках издавна считается прекрасным средством оздоровления. Оно доступно людям разного возраста, но особенно показано младшим школьникам. Регулярное катание на коньках развивает двигательный аппарат, улучшает обмен веществ, деятельность сердечно-сосудистой и дыхательной систем, укрепляет нервную систему. Кроме того, катание на коньках тренирует вестибулярный аппарат, повышает его функциональную устойч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40000" y="1341000"/>
            <a:ext cx="4787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можно подобрать индивидуальный темп для занятий, посильный конкретному ребёнку. Поэтому катание на коньках полезно детям с ослабленной иммунной системой, часто болеющим респираторными заболеваниями, и даже при заболеваниях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но из-за слабого здоровья на лед привели и многих других известных фигуристов. Поэтому, кто знает, что уготовано вашему ча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дл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38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м оздоравливающим эффектом катания на коньках является благотворное действие его на осанку детей. Не секрет, что нарушения осанки и сколиозы сейчас лидируют среди детской патологии. Не удивительно, если учесть всё возрастающую нагрузку в школах, недостаток двигательной активности в свободное время и многочасовое сидение за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01:15:05Z</dcterms:created>
  <dc:creator>Вика</dc:creator>
  <dc:description/>
  <dc:language>en-US</dc:language>
  <cp:lastModifiedBy>Вика</cp:lastModifiedBy>
  <dcterms:modified xsi:type="dcterms:W3CDTF">2011-02-06T09:22:59Z</dcterms:modified>
  <cp:revision>7</cp:revision>
  <dc:subject/>
  <dc:title>Коньки</dc:title>
</cp:coreProperties>
</file>