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503-E097-4152-8774-7A949CCC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CC5-C68C-4BA7-9023-CBF25DA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067-AE3B-4B75-B562-9C0DC6A4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F4F-8DEC-4AB2-8652-26F77E4E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6143-832F-426C-88C3-CAE0F8FC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2798-D168-4F17-A072-D9937752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ED35-7BA8-4667-9B0D-C1EEE5E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A0D6-2298-4FF1-B8B4-8B829D6E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C29-A3A5-40D0-B03B-FE767688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112-29AA-48C1-8111-A0009E81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A07-4C47-488B-A91F-A4AD475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344-6435-4EE8-ABB6-813B8385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A4E-4DDE-4298-AA5F-757E100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45CC-FC49-46A8-9376-D8EDB4B0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4DB-1DE9-4EE0-B4A6-53C92D8C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7489-57E7-4219-BC25-201B576F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8F4-36B6-4E83-A559-0A30B7E7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EC2-3FAE-4F3D-A1A9-5A198BF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13D-EE5A-4EA3-B790-45D542E4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F84-4187-48F3-BB2C-40363E1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F57-D3AB-470D-98C4-62F6CC7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EBF-3187-4AB4-9CF6-2C07BF8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DF0-2C3F-479C-80D7-741E46C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9A5-29DF-43D5-B9AE-01C7B27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A6B-7E96-43E6-93D2-A888E1229C6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3D28-5A60-46C9-8D6C-5D2CCC20CE8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АКОЕ НАРКОТИКИ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52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ркотики - это химические вещества растительного или синтетического происхождения, способные вызывать изменение психического состояния, систематическое применение которых приводит к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НАРКОМАНИЯ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ркомания - заболевание, обусловленное зависимостью от наркотического средства или психотропного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ФИЗИЧЕСКАЯ ЗАВИСИМОСТЬ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Физическая зависимость - проявляется в том, что организм не может нормально функционировать без наркотика и в его отсутствие развивается синдром отмены (абстинентный синдром.) Он характеризуется физическими и психологическими нарушениями, связанными с тем, что наркотик стал частью обменных процессов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ВКЛЮЧАЕТ В СЕБЯ СИНДРОМ ФИЗИЧЕСКОЙ ЗАВИСИМОСТ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зическое (компульсивное) вле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Абстинентный синдр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индром измененной реактив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ндром измененной реактивност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ключа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потреб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· изменение толерант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счезновение защитных реакций при передозиров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опья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Биологический аспект зависимости</a:t>
            </a:r>
            <a:br>
              <a:rPr sz="32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Наркотики включаются в обменные процессы в организме - формируется физическая зависимость. Длительное отравление организма наркотиками приводит к тому, что у зависимого человека не может нормально функционировать ни один орган или систе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сихический аспект зависимост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6932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эмоциональная опустошен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адение активности и энергетического потенц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ытеснение обычных стремлений и потребностей тягой к нарко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нижение интелл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худшение памяти и снижение продуктивности умствен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тревога и депрессия, раздражи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спышки злобы и агре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ужается круг интересов, снижается стремление узнать что-то нов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счезает желание что-либо дел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вышенная утомляе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72400" y="724680"/>
            <a:ext cx="793836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циальный аспект зависимости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исходит постепенное разрушение социальных связей и снижение их значимости. Это проявляется в том, что зависимый человек перестает быть частью об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8:43:53Z</dcterms:created>
  <dc:creator>руслан</dc:creator>
  <dc:description/>
  <dc:language>en-US</dc:language>
  <cp:lastModifiedBy>руслан</cp:lastModifiedBy>
  <dcterms:modified xsi:type="dcterms:W3CDTF">2002-08-15T19:12:29Z</dcterms:modified>
  <cp:revision>2</cp:revision>
  <dc:subject/>
  <dc:title>ЧТО ТАКОЕ НАРКОТИКИ?</dc:title>
</cp:coreProperties>
</file>