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93B-570B-49E0-B6CA-5794AB96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6063-99BD-4D1A-B857-4EF4FC05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A05-2250-455A-9143-872A9DA9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A86-9C1F-4EF3-98B9-7F3FD528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8238-503B-4A20-8E53-E48C39A0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D44B-ED31-48B0-98FF-B3F789E4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C060-78A1-4A5F-966B-39FC6F6E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3DE5-EADC-4456-9A1A-84BE8971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A739-94E3-4393-928D-9C86FD21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A20B-9BEC-4757-895C-BAB065A1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275A-1A34-4580-8393-1C4282D1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3F2-BC82-4C4C-911A-72443569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9DE6-100D-42DA-83FC-A7F3EB85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58BF-5FA2-4A62-B389-085F660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8DC1-9283-4780-9A49-C83DC221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ABB6-5AF8-4CB0-A7EB-55C79E84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0ECC-6642-4331-B14E-6889B856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353-CDBF-4471-98E3-AC3AF73B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632-72CC-4A77-A87D-4A9D7C03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72B-6058-4CA6-B49D-96BF16FA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0DC-BB5E-4D8A-8E51-1EF4EF78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C64-A0D0-4D58-B724-A0C8051B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F03-F1A0-4F1A-9741-6658B66A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6AF-D719-482F-8080-4E0E249A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1EA2-F8BE-4171-879F-CB149CB62927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0047-29F0-420A-87DB-34D91B85D966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ТАКОЕ НАРКОТИКИ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00000" y="1341360"/>
            <a:ext cx="7523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Наркотики - это химические вещества растительного или синтетического происхождения, способные вызывать изменение психического состояния, систематическое применение которых приводит к зависим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ТАКОЕ НАРКОМАНИЯ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Наркомания - заболевание, обусловленное зависимостью от наркотического средства или психотропного веще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ТАКОЕ ФИЗИЧЕСКАЯ ЗАВИСИМОСТЬ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Физическая зависимость - проявляется в том, что организм не может нормально функционировать без наркотика и в его отсутствие развивается синдром отмены (абстинентный синдром.) Он характеризуется физическими и психологическими нарушениями, связанными с тем, что наркотик стал частью обменных процессов орган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ВКЛЮЧАЕТ В СЕБЯ СИНДРОМ ФИЗИЧЕСКОЙ ЗАВИСИМОСТИ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Физическое (компульсивное) влеч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Абстинентный синдро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Синдром измененной реактивнос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индром измененной реактивности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ключает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изменение формы потреб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· изменение толерант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исчезновение защитных реакций при передозиров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изменение формы опья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Биологический аспект зависимости</a:t>
            </a:r>
            <a:br>
              <a:rPr sz="32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Наркотики включаются в обменные процессы в организме - формируется физическая зависимость. Длительное отравление организма наркотиками приводит к тому, что у зависимого человека не может нормально функционировать ни один орган или систе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сихический аспект зависимости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69320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эмоциональная опустошен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адение активности и энергетического потенциа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ытеснение обычных стремлений и потребностей тягой к наркотик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снижение интеллек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ухудшение памяти и снижение продуктивности умственной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тревога и депрессия, раздражитель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спышки злобы и агресс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сужается круг интересов, снижается стремление узнать что-то ново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исчезает желание что-либо дел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овышенная утомляем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72400" y="724680"/>
            <a:ext cx="7938360" cy="14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оциальный аспект зависимости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оисходит постепенное разрушение социальных связей и снижение их значимости. Это проявляется в том, что зависимый человек перестает быть частью общест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18:43:53Z</dcterms:created>
  <dc:creator>руслан</dc:creator>
  <dc:description/>
  <dc:language>en-US</dc:language>
  <cp:lastModifiedBy>руслан</cp:lastModifiedBy>
  <dcterms:modified xsi:type="dcterms:W3CDTF">2002-08-15T19:12:29Z</dcterms:modified>
  <cp:revision>2</cp:revision>
  <dc:subject/>
  <dc:title>ЧТО ТАКОЕ НАРКОТИКИ?</dc:title>
</cp:coreProperties>
</file>