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DDC-9E8B-41DF-99F8-66490F98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537-8A3A-4436-A404-34B5F35C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8D4-01BB-4423-B3AD-D7CF3691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DFF-651E-44C7-8951-2DA3A6BB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76E5-78FD-438F-9D9C-43459412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A539-5BCB-4E0F-BBBB-499F30D9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DD7E-5EA6-45F2-9CF0-5E35F885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6A75-F4BE-4C6D-9DC9-27305995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06B6-EE70-4396-9EA3-72EF2405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0C72-AC5D-4E0E-BF9B-C4832477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9A55-BC90-4402-89E0-BFEE06D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DAC-5FD7-4D22-866D-40EF70E8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BC27-5B5C-4BBD-8893-A45D468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F5A7-60B1-4063-B544-01AC9F4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0FB2-9C11-43CD-BDF3-248FC50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B0FF-1247-46CF-B998-DB6DDB31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2F87-B12E-4471-BCCD-F83EC6DC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DFC-F271-442D-8D15-B4237D8B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59F-DE27-40D8-88F7-FA3D315D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6EC-5F06-4631-B7FF-0C38C736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134-D82F-4A98-96D0-48993274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3F9-E373-472A-86CF-31B49C0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860-166E-4B2E-B950-38F08612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C57-C055-4CEC-8F44-0548FFB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DC7B-B480-42F7-BF12-410EB345F059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83DC-F8D7-4E8F-8BC7-FA2552C1C006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ТАКОЕ НАРКОТИКИ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00000" y="1341360"/>
            <a:ext cx="7523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Наркотики - это химические вещества растительного или синтетического происхождения, способные вызывать изменение психического состояния, систематическое применение которых приводит к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ТАКОЕ НАРКОМАНИЯ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аркомания - заболевание, обусловленное зависимостью от наркотического средства или психотропного вещ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ТАКОЕ ФИЗИЧЕСКАЯ ЗАВИСИМОСТЬ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Физическая зависимость - проявляется в том, что организм не может нормально функционировать без наркотика и в его отсутствие развивается синдром отмены (абстинентный синдром.) Он характеризуется физическими и психологическими нарушениями, связанными с тем, что наркотик стал частью обменных процессов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ВКЛЮЧАЕТ В СЕБЯ СИНДРОМ ФИЗИЧЕСКОЙ ЗАВИСИМОСТИ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зическое (компульсивное) влеч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Абстинентный синдр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Синдром измененной реактивн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индром измененной реактивности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ключает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зменение формы потреб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· изменение толерант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счезновение защитных реакций при передозиров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изменение формы опья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Биологический аспект зависимости</a:t>
            </a:r>
            <a:br>
              <a:rPr sz="32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Наркотики включаются в обменные процессы в организме - формируется физическая зависимость. Длительное отравление организма наркотиками приводит к тому, что у зависимого человека не может нормально функционировать ни один орган или систе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сихический аспект зависимост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69320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эмоциональная опустошен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адение активности и энергетического потенциа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ытеснение обычных стремлений и потребностей тягой к наркоти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нижение интеллек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худшение памяти и снижение продуктивности умственной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тревога и депрессия, раздражи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спышки злобы и агре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ужается круг интересов, снижается стремление узнать что-то нов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исчезает желание что-либо дел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овышенная утомляем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72400" y="724680"/>
            <a:ext cx="7938360" cy="14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оциальный аспект зависимости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исходит постепенное разрушение социальных связей и снижение их значимости. Это проявляется в том, что зависимый человек перестает быть частью общ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8:43:53Z</dcterms:created>
  <dc:creator>руслан</dc:creator>
  <dc:description/>
  <dc:language>en-US</dc:language>
  <cp:lastModifiedBy>руслан</cp:lastModifiedBy>
  <dcterms:modified xsi:type="dcterms:W3CDTF">2002-08-15T19:12:29Z</dcterms:modified>
  <cp:revision>2</cp:revision>
  <dc:subject/>
  <dc:title>ЧТО ТАКОЕ НАРКОТИКИ?</dc:title>
</cp:coreProperties>
</file>