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272-99E8-410F-9F3C-D670A377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0C4-2BB1-427A-AA12-AC3FE7AD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325-B6EA-41F9-97DB-DF0B333F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EB9-68B8-48A7-9E4A-48B29617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0B0-0B95-400D-9EFF-0E989FB5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768-9523-49C2-805F-67B18118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2BE7-CBC4-4F4C-8EF4-3C05E35F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51D-1D55-4964-9CF3-39BBEEE6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37DD-178F-4912-A229-BD7E6DB5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17B-21FA-410A-A2A0-DF4B830B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8D2-83A3-4E33-8529-5202E0E4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0938-2680-4F24-944F-21FE4DA1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B6CA-8ED4-4FE2-A47A-32E5C925B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реометр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браз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26653" b="0"/>
          <a:stretch/>
        </p:blipFill>
        <p:spPr>
          <a:xfrm>
            <a:off x="1014480" y="1600200"/>
            <a:ext cx="2922480" cy="2185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rcRect l="28421" t="0" r="12738" b="0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rcRect l="7035" t="0" r="0" b="0"/>
          <a:stretch/>
        </p:blipFill>
        <p:spPr>
          <a:xfrm>
            <a:off x="1014480" y="3938760"/>
            <a:ext cx="2924280" cy="2187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5359320" y="3284640"/>
            <a:ext cx="21258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81280" y="1806480"/>
            <a:ext cx="1390680" cy="1773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932120" y="4605480"/>
            <a:ext cx="1087200" cy="853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184800" y="2212920"/>
            <a:ext cx="963720" cy="960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6080040" y="4143240"/>
            <a:ext cx="1173240" cy="1776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3348000" y="836640"/>
            <a:ext cx="33148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878440" y="3938760"/>
            <a:ext cx="1577880" cy="2187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994040" y="3381480"/>
            <a:ext cx="96336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я: Учеб. для 10-11 кл. сред. шк./ Л.С. Атанасян, В.Ф. Бутузов, С.Б. Кадомцев и др.- 2-е изд.-М.: Просвещение, 200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рофеев А.В. Страницы истории на уроках математики.- Киев, Журнал «Квантор», 19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р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подразде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и, изучающий свойства фигур в пространств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71640" y="1987560"/>
            <a:ext cx="7431120" cy="945720"/>
            <a:chOff x="971640" y="1987560"/>
            <a:chExt cx="7431120" cy="945720"/>
          </a:xfrm>
        </p:grpSpPr>
        <p:sp>
          <p:nvSpPr>
            <p:cNvPr id="46" name=""/>
            <p:cNvSpPr/>
            <p:nvPr/>
          </p:nvSpPr>
          <p:spPr>
            <a:xfrm>
              <a:off x="971640" y="2476440"/>
              <a:ext cx="74311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99280" y="198756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стейшие фиг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1413000"/>
            <a:ext cx="17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  <a:ea typeface="Arial"/>
              </a:rPr>
              <a:t>Пря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16720" y="1413000"/>
            <a:ext cx="21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  <a:ea typeface="Arial"/>
              </a:rPr>
              <a:t>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852640"/>
            <a:ext cx="215640" cy="193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3716280"/>
            <a:ext cx="216000" cy="193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2924280"/>
            <a:ext cx="216000" cy="193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744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7080" y="263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472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771640" y="2349000"/>
            <a:ext cx="2160720" cy="13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66000" y="21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4005360"/>
            <a:ext cx="1728720" cy="64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37640" y="4097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8619600">
            <a:off x="5136840" y="2460240"/>
            <a:ext cx="2736720" cy="1484280"/>
          </a:xfrm>
          <a:custGeom>
            <a:avLst/>
            <a:gdLst>
              <a:gd name="textAreaLeft" fmla="*/ 221400 w 2736720"/>
              <a:gd name="textAreaRight" fmla="*/ 2515320 w 2736720"/>
              <a:gd name="textAreaTop" fmla="*/ 120240 h 1484280"/>
              <a:gd name="textAreaBottom" fmla="*/ 13640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d6d"/>
              </a:gs>
              <a:gs pos="50000">
                <a:srgbClr val="ffff00"/>
              </a:gs>
              <a:gs pos="100000">
                <a:srgbClr val="ff6d6d"/>
              </a:gs>
            </a:gsLst>
            <a:lin ang="4878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4360" y="2565360"/>
            <a:ext cx="2376720" cy="30862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009999">
                  <a:alpha val="18039"/>
                </a:srgbClr>
              </a:gs>
              <a:gs pos="50000">
                <a:srgbClr val="33ccff"/>
              </a:gs>
              <a:gs pos="100000">
                <a:srgbClr val="009999">
                  <a:alpha val="18039"/>
                </a:srgbClr>
              </a:gs>
            </a:gsLst>
            <a:lin ang="135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9419600">
            <a:off x="5940360" y="3645000"/>
            <a:ext cx="2735280" cy="1338120"/>
          </a:xfrm>
          <a:prstGeom prst="flowChartDocument">
            <a:avLst/>
          </a:prstGeom>
          <a:gradFill rotWithShape="0">
            <a:gsLst>
              <a:gs pos="0">
                <a:srgbClr val="ff6d6d"/>
              </a:gs>
              <a:gs pos="100000">
                <a:srgbClr val="ffff00"/>
              </a:gs>
            </a:gsLst>
            <a:lin ang="15678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292720" y="3284640"/>
                <a:ext cx="5032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24360" y="5084640"/>
                <a:ext cx="4273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126040" y="1600200"/>
            <a:ext cx="30830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659640" y="6021360"/>
                <a:ext cx="644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1763640" y="2708280"/>
            <a:ext cx="3024360" cy="1727280"/>
          </a:xfrm>
          <a:prstGeom prst="parallelogram">
            <a:avLst>
              <a:gd name="adj" fmla="val 43773"/>
            </a:avLst>
          </a:prstGeom>
          <a:gradFill rotWithShape="0">
            <a:gsLst>
              <a:gs pos="0">
                <a:srgbClr val="009999"/>
              </a:gs>
              <a:gs pos="50000">
                <a:srgbClr val="33ccff"/>
              </a:gs>
              <a:gs pos="100000">
                <a:srgbClr val="00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43280" y="3141720"/>
            <a:ext cx="288720" cy="287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800" y="25653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4869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476360" y="494172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050920" y="4797360"/>
                <a:ext cx="8002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473760" y="5516640"/>
            <a:ext cx="56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чка М принадлежит плос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156360" y="5519880"/>
                <a:ext cx="720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211640" y="1989000"/>
            <a:ext cx="289080" cy="28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02880" y="148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788000" y="4724280"/>
                <a:ext cx="409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395280" y="59500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чка Т не принадлежит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6880" y="47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364000" y="4724280"/>
                <a:ext cx="501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400480" y="3792600"/>
                <a:ext cx="442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33320" y="4149720"/>
            <a:ext cx="8021520" cy="1532880"/>
            <a:chOff x="733320" y="4149720"/>
            <a:chExt cx="8021520" cy="1532880"/>
          </a:xfrm>
        </p:grpSpPr>
        <p:sp>
          <p:nvSpPr>
            <p:cNvPr id="96" name=""/>
            <p:cNvSpPr/>
            <p:nvPr/>
          </p:nvSpPr>
          <p:spPr>
            <a:xfrm>
              <a:off x="2435040" y="4176720"/>
              <a:ext cx="631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Прямая </a:t>
              </a:r>
              <a:r>
                <a:rPr b="1" lang="en-US" sz="2800" spc="-1" strike="noStrike">
                  <a:solidFill>
                    <a:srgbClr val="ff3300"/>
                  </a:solidFill>
                  <a:latin typeface="Tahoma"/>
                  <a:ea typeface="Arial"/>
                </a:rPr>
                <a:t>р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принадлежит плоскости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734760" y="4149720"/>
                  <a:ext cx="154620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∈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>
              <a:off x="4473360" y="4189320"/>
              <a:ext cx="3589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733320" y="4682880"/>
                  <a:ext cx="144612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∉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2422440" y="4735440"/>
              <a:ext cx="5786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Прямая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v </a:t>
              </a:r>
              <a:r>
                <a:rPr b="1" lang="ru-RU" sz="2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не принадлежит плоск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332000" y="2492280"/>
            <a:ext cx="4752720" cy="1008000"/>
          </a:xfrm>
          <a:prstGeom prst="parallelogram">
            <a:avLst>
              <a:gd name="adj" fmla="val 117875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835280" y="2849400"/>
                <a:ext cx="6490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 flipV="1">
            <a:off x="1187280" y="2276640"/>
            <a:ext cx="5472360" cy="1296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97640" y="19112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00720" y="5157720"/>
                <a:ext cx="6109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835280" y="2133720"/>
            <a:ext cx="165708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2781360"/>
            <a:ext cx="1657080" cy="647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3429000"/>
            <a:ext cx="1008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2637000"/>
            <a:ext cx="287280" cy="264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72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5016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440" y="566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16000" y="5661000"/>
                <a:ext cx="334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476360" y="5661000"/>
                <a:ext cx="5032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910520" y="5661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51840" y="5629320"/>
            <a:ext cx="635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екает плоскость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оч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8244000" y="5589720"/>
                <a:ext cx="539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собы задания </a:t>
            </a:r>
            <a:br>
              <a:rPr sz="4000"/>
            </a:b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т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3382920" cy="2360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076720" y="2060640"/>
            <a:ext cx="3160800" cy="1797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19120" y="4745160"/>
            <a:ext cx="311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            =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яма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секает плоск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13960" y="3141720"/>
            <a:ext cx="570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    в=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сечение двух пря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26720" y="200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516360" y="2276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547640" y="3357720"/>
            <a:ext cx="865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78360" y="294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rcRect l="0" t="9653" r="0" b="0"/>
          <a:stretch/>
        </p:blipFill>
        <p:spPr>
          <a:xfrm>
            <a:off x="5084640" y="4149720"/>
            <a:ext cx="3164040" cy="1976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5364000" y="5084280"/>
            <a:ext cx="100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50520" y="4579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52680" y="5516640"/>
            <a:ext cx="310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Пересе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ех плоск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71640" y="4797360"/>
                <a:ext cx="276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332000" y="4795920"/>
                <a:ext cx="647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643280" y="3141720"/>
                <a:ext cx="417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500"/>
                            </p:stCondLst>
                            <p:childTnLst>
                              <p:par>
                                <p:cTn id="2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особы зад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рям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4038840" cy="2792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81280" y="316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29280" y="28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81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55640" y="3141720"/>
            <a:ext cx="3095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435640" y="3141720"/>
            <a:ext cx="1657440" cy="93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042920" y="3284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492000" y="278136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724360" y="3500280"/>
            <a:ext cx="64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54360" y="3881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двум точ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20520" y="4673520"/>
            <a:ext cx="23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ву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оск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3573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3141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2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9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2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1968480" cy="1440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особы задания </a:t>
            </a:r>
            <a:br>
              <a:rPr sz="4000"/>
            </a:b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98000" y="33764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 3 точ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86440" y="1600200"/>
            <a:ext cx="3160800" cy="2185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893880" y="3938760"/>
            <a:ext cx="3163680" cy="2187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700360" y="2135160"/>
            <a:ext cx="1871640" cy="1293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5084640" y="3938760"/>
            <a:ext cx="3164040" cy="2187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H="1" flipV="1">
            <a:off x="2195640" y="2781360"/>
            <a:ext cx="287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763640" y="270792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195640" y="234936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635280" y="2421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780000" y="2924280"/>
            <a:ext cx="504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203640" y="299736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7692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65640" y="265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314172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8128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65640" y="28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6370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7524720" y="4292640"/>
            <a:ext cx="13208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7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500"/>
                            </p:stCondLst>
                            <p:childTnLst>
                              <p:par>
                                <p:cTn id="3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500"/>
                            </p:stCondLst>
                            <p:childTnLst>
                              <p:par>
                                <p:cTn id="3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850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3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5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06:42:42Z</dcterms:created>
  <dc:creator>Алексей</dc:creator>
  <dc:description/>
  <dc:language>en-US</dc:language>
  <cp:lastModifiedBy>Админ</cp:lastModifiedBy>
  <dcterms:modified xsi:type="dcterms:W3CDTF">2011-09-10T16:48:49Z</dcterms:modified>
  <cp:revision>8</cp:revision>
  <dc:subject/>
  <dc:title>Стереометрия </dc:title>
</cp:coreProperties>
</file>