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5C9-B5D6-4824-875E-E68403BE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8E0-0978-4901-A52B-0C6F21D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E43-D073-4B28-8333-FCAD3BB0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E86-FD56-432A-9606-0AD3DF2E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C2E-9DC3-4FE5-96EE-7C7887E4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7E0-318C-454E-9570-D767A92D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6A2-DB7E-48D2-BAB3-3ED16F94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893-9585-4A65-B5CC-416CC574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D8D-599F-4DD2-880A-72F2F5AE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CDC-2D58-424F-90F9-42BD8B1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DDD-4845-44C2-95F2-FE814FC3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11C-60B4-40BD-B51A-23D12B8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B88-5C70-446E-8AA6-4772E1CC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6653" b="0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28421" t="0" r="12738" b="0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7035" t="0" r="0" b="0"/>
          <a:stretch/>
        </p:blipFill>
        <p:spPr>
          <a:xfrm>
            <a:off x="1014480" y="3938760"/>
            <a:ext cx="2924280" cy="218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59320" y="3284640"/>
            <a:ext cx="2125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81280" y="1806480"/>
            <a:ext cx="1390680" cy="177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32120" y="4605480"/>
            <a:ext cx="108720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84800" y="2212920"/>
            <a:ext cx="963720" cy="96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80040" y="4143240"/>
            <a:ext cx="1173240" cy="1776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348000" y="836640"/>
            <a:ext cx="3314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78440" y="3938760"/>
            <a:ext cx="1577880" cy="218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994040" y="3381480"/>
            <a:ext cx="9633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феев А.В. Страницы истории на уроках математики.- Киев, Журнал «Квантор»,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одразд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и, изучающий свойства фигур в пространств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71640" y="1987560"/>
            <a:ext cx="7431120" cy="945720"/>
            <a:chOff x="971640" y="1987560"/>
            <a:chExt cx="7431120" cy="945720"/>
          </a:xfrm>
        </p:grpSpPr>
        <p:sp>
          <p:nvSpPr>
            <p:cNvPr id="46" name=""/>
            <p:cNvSpPr/>
            <p:nvPr/>
          </p:nvSpPr>
          <p:spPr>
            <a:xfrm>
              <a:off x="971640" y="2476440"/>
              <a:ext cx="7431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9280" y="198756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тейш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41300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41300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852640"/>
            <a:ext cx="21564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716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924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44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7080" y="26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2349000"/>
            <a:ext cx="216072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600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005360"/>
            <a:ext cx="172872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37640" y="4097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619600">
            <a:off x="5136840" y="2460240"/>
            <a:ext cx="2736720" cy="1484280"/>
          </a:xfrm>
          <a:custGeom>
            <a:avLst/>
            <a:gdLst>
              <a:gd name="textAreaLeft" fmla="*/ 221400 w 2736720"/>
              <a:gd name="textAreaRight" fmla="*/ 2515320 w 2736720"/>
              <a:gd name="textAreaTop" fmla="*/ 120240 h 1484280"/>
              <a:gd name="textAreaBottom" fmla="*/ 13640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d6d"/>
              </a:gs>
              <a:gs pos="50000">
                <a:srgbClr val="ffff00"/>
              </a:gs>
              <a:gs pos="100000">
                <a:srgbClr val="ff6d6d"/>
              </a:gs>
            </a:gsLst>
            <a:lin ang="48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2565360"/>
            <a:ext cx="2376720" cy="3086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9999">
                  <a:alpha val="18039"/>
                </a:srgbClr>
              </a:gs>
              <a:gs pos="50000">
                <a:srgbClr val="33ccff"/>
              </a:gs>
              <a:gs pos="100000">
                <a:srgbClr val="009999">
                  <a:alpha val="18039"/>
                </a:srgbClr>
              </a:gs>
            </a:gsLst>
            <a:lin ang="135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9419600">
            <a:off x="5940360" y="3645000"/>
            <a:ext cx="2735280" cy="1338120"/>
          </a:xfrm>
          <a:prstGeom prst="flowChartDocument">
            <a:avLst/>
          </a:prstGeom>
          <a:gradFill rotWithShape="0">
            <a:gsLst>
              <a:gs pos="0">
                <a:srgbClr val="ff6d6d"/>
              </a:gs>
              <a:gs pos="100000">
                <a:srgbClr val="ffff00"/>
              </a:gs>
            </a:gsLst>
            <a:lin ang="156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3284640"/>
                <a:ext cx="503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24360" y="5084640"/>
                <a:ext cx="4273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26040" y="1600200"/>
            <a:ext cx="3083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659640" y="6021360"/>
                <a:ext cx="644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763640" y="2708280"/>
            <a:ext cx="3024360" cy="1727280"/>
          </a:xfrm>
          <a:prstGeom prst="parallelogram">
            <a:avLst>
              <a:gd name="adj" fmla="val 43773"/>
            </a:avLst>
          </a:prstGeom>
          <a:gradFill rotWithShape="0">
            <a:gsLst>
              <a:gs pos="0">
                <a:srgbClr val="009999"/>
              </a:gs>
              <a:gs pos="50000">
                <a:srgbClr val="33cc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141720"/>
            <a:ext cx="28872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800" y="25653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6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76360" y="494172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50920" y="4797360"/>
                <a:ext cx="800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73760" y="5516640"/>
            <a:ext cx="56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М принадлежит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56360" y="5519880"/>
                <a:ext cx="72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11640" y="1989000"/>
            <a:ext cx="289080" cy="28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2880" y="148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788000" y="4724280"/>
                <a:ext cx="409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95280" y="59500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Т не принадлежит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688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64000" y="4724280"/>
                <a:ext cx="501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00480" y="3792600"/>
                <a:ext cx="442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3320" y="4149720"/>
            <a:ext cx="8021520" cy="1532880"/>
            <a:chOff x="733320" y="4149720"/>
            <a:chExt cx="8021520" cy="1532880"/>
          </a:xfrm>
        </p:grpSpPr>
        <p:sp>
          <p:nvSpPr>
            <p:cNvPr id="96" name=""/>
            <p:cNvSpPr/>
            <p:nvPr/>
          </p:nvSpPr>
          <p:spPr>
            <a:xfrm>
              <a:off x="2435040" y="4176720"/>
              <a:ext cx="631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ff3300"/>
                  </a:solidFill>
                  <a:latin typeface="Tahoma"/>
                  <a:ea typeface="Arial"/>
                </a:rPr>
                <a:t>р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принадлежит плоскости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734760" y="4149720"/>
                  <a:ext cx="15462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∈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4473360" y="4189320"/>
              <a:ext cx="3589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733320" y="4682880"/>
                  <a:ext cx="14461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∉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22440" y="4735440"/>
              <a:ext cx="5786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v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е принадлежит плоск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332000" y="2492280"/>
            <a:ext cx="4752720" cy="1008000"/>
          </a:xfrm>
          <a:prstGeom prst="parallelogram">
            <a:avLst>
              <a:gd name="adj" fmla="val 117875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35280" y="2849400"/>
                <a:ext cx="649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1187280" y="2276640"/>
            <a:ext cx="5472360" cy="129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1911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00720" y="5157720"/>
                <a:ext cx="610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835280" y="213372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78136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429000"/>
            <a:ext cx="1008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2637000"/>
            <a:ext cx="287280" cy="264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7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0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6000" y="5661000"/>
                <a:ext cx="334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360" y="5661000"/>
                <a:ext cx="503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910520" y="5661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1840" y="5629320"/>
            <a:ext cx="63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244000" y="5589720"/>
                <a:ext cx="53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3382920" cy="236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160800" cy="179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9120" y="4745160"/>
            <a:ext cx="311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        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3960" y="3141720"/>
            <a:ext cx="57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в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чение двух пря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2672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1636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47640" y="3357720"/>
            <a:ext cx="865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8360" y="29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0" t="9653" r="0" b="0"/>
          <a:stretch/>
        </p:blipFill>
        <p:spPr>
          <a:xfrm>
            <a:off x="5084640" y="4149720"/>
            <a:ext cx="3164040" cy="197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5364000" y="508428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0520" y="457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52680" y="5516640"/>
            <a:ext cx="31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Перес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х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4797360"/>
                <a:ext cx="276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4795920"/>
                <a:ext cx="64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43280" y="3141720"/>
                <a:ext cx="417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зад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03884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8128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928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55640" y="314172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35640" y="3141720"/>
            <a:ext cx="1657440" cy="9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42920" y="328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92000" y="278136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24360" y="350028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4360" y="3881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двум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20520" y="467352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141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19684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8000" y="33764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3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8644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93880" y="3938760"/>
            <a:ext cx="3163680" cy="218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700360" y="2135160"/>
            <a:ext cx="1871640" cy="1293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084640" y="3938760"/>
            <a:ext cx="3164040" cy="2187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2195640" y="278136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3640" y="2707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95640" y="2349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635280" y="2421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80000" y="292428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3640" y="2997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69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564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141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81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65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6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524720" y="4292640"/>
            <a:ext cx="1320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6:42:42Z</dcterms:created>
  <dc:creator>Алексей</dc:creator>
  <dc:description/>
  <dc:language>en-US</dc:language>
  <cp:lastModifiedBy>Админ</cp:lastModifiedBy>
  <dcterms:modified xsi:type="dcterms:W3CDTF">2011-09-10T16:48:49Z</dcterms:modified>
  <cp:revision>8</cp:revision>
  <dc:subject/>
  <dc:title>Стереометрия </dc:title>
</cp:coreProperties>
</file>