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42D8-1C4C-4657-8DA6-138FA368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373D-412A-4342-BB0C-D0B549D4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974F-247A-4692-B93D-E88ED365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FE55-57BC-49E3-81D9-83C87218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0F1F-531B-46C7-A718-1073F26E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B3A6-87DB-4A5D-A242-37F8E806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8505-4708-4A17-ADB8-D662F0D9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8130-F6C3-4DA7-9165-8FAF4C1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F9B1-F916-4811-9636-376BF6B9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4966-C97F-4C47-9CD2-4DB8550C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201C-8D5C-4626-A024-18ED85C4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9972-5D1D-431F-A4A4-6763A985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B485-0974-4E43-9E21-3A51BD52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E60D-3501-4BC8-9175-35718365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C744-C4B1-4CDC-8856-868D1DFC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8901-6C5A-447F-B722-02FA40E5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CBA3-C025-41D4-AF27-B4754F33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5974-629A-4632-B147-DD169D87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901D-987B-4F68-87D0-AE6FF22F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4934-28D9-4DE3-8D1D-F9E99AE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8439-A1C6-4821-8198-7987D2C3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7716-D4CC-4B1C-93E4-8A5625DF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13AB-2E25-4CF3-A622-E310820B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281C-4CAE-4C57-8158-274766B4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7B4-F254-4498-B97D-724C1F61F2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02CB-95E8-443E-887F-00ED50B125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1828800"/>
            <a:ext cx="7515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f8cc3"/>
                </a:solidFill>
                <a:latin typeface="Times New Roman"/>
              </a:rPr>
              <a:t>ПРЕОБРАЗОВАНИЕ ПЛОСК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Хандогина Е.С.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учитель математики ГБОУ СОШ №112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85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4ce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ижение переводит угол в равный ему уго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ч в лу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 flipH="1">
            <a:off x="1547280" y="3068640"/>
            <a:ext cx="792360" cy="792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547640" y="3860640"/>
            <a:ext cx="11527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547640" y="41497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2"/>
              <p:cNvSpPr txBox="1"/>
              <p:nvPr/>
            </p:nvSpPr>
            <p:spPr>
              <a:xfrm>
                <a:off x="1692360" y="436572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14"/>
          <p:cNvSpPr/>
          <p:nvPr/>
        </p:nvSpPr>
        <p:spPr>
          <a:xfrm>
            <a:off x="1979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1547280" y="3068640"/>
            <a:ext cx="792360" cy="792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1547640" y="3860640"/>
            <a:ext cx="11527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7"/>
              <p:cNvSpPr txBox="1"/>
              <p:nvPr/>
            </p:nvSpPr>
            <p:spPr>
              <a:xfrm>
                <a:off x="5940360" y="4248000"/>
                <a:ext cx="287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Text Box 19"/>
          <p:cNvSpPr/>
          <p:nvPr/>
        </p:nvSpPr>
        <p:spPr>
          <a:xfrm>
            <a:off x="630072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1"/>
              <p:cNvSpPr txBox="1"/>
              <p:nvPr/>
            </p:nvSpPr>
            <p:spPr>
              <a:xfrm>
                <a:off x="3276720" y="4437000"/>
                <a:ext cx="16164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3851280" y="4437000"/>
                <a:ext cx="16200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25"/>
          <p:cNvSpPr/>
          <p:nvPr/>
        </p:nvSpPr>
        <p:spPr>
          <a:xfrm>
            <a:off x="3924360" y="429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3059280" y="4724280"/>
            <a:ext cx="1368360" cy="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042920" y="5445000"/>
            <a:ext cx="1297080" cy="936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1258920" y="638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241128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2"/>
          <p:cNvSpPr/>
          <p:nvPr/>
        </p:nvSpPr>
        <p:spPr>
          <a:xfrm flipV="1">
            <a:off x="1042920" y="5445000"/>
            <a:ext cx="1297080" cy="936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940360" y="630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709128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2411280" y="623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6"/>
          <p:cNvSpPr/>
          <p:nvPr/>
        </p:nvSpPr>
        <p:spPr>
          <a:xfrm>
            <a:off x="3348000" y="645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4067280" y="623736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'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96532E-006 L 0.32882 -1.96532E-006 E">
                                      <p:cBhvr>
                                        <p:cTn id="46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-2.13873E-006 L 0.33073 -2.13873E-006 E">
                                      <p:cBhvr>
                                        <p:cTn id="47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6763E-006 L 0.48055 -0.00532 E">
                                      <p:cBhvr>
                                        <p:cTn id="52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вижение переводит взаимно перпендикулярные прямые  во взаимно перпендикулярные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116000" y="587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971640" y="4437000"/>
            <a:ext cx="1655640" cy="1008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04292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908000" y="4797360"/>
            <a:ext cx="216000" cy="1443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1979280" y="4941720"/>
            <a:ext cx="144360" cy="142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3132000" y="4292640"/>
            <a:ext cx="2232000" cy="0"/>
          </a:xfrm>
          <a:prstGeom prst="line">
            <a:avLst/>
          </a:prstGeom>
          <a:ln w="2844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8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6443640" y="5950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971640" y="4437000"/>
            <a:ext cx="1655640" cy="1008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6084720" y="400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2"/>
          <p:cNvSpPr/>
          <p:nvPr/>
        </p:nvSpPr>
        <p:spPr>
          <a:xfrm>
            <a:off x="6588000" y="4797360"/>
            <a:ext cx="216000" cy="1443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 flipH="1">
            <a:off x="6659280" y="4941720"/>
            <a:ext cx="144360" cy="142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3419640" y="4292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8555E-006 L 0.51771 -2.48555E-006 E">
                                      <p:cBhvr>
                                        <p:cTn id="63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0.00023 L 0.50799 0.00023 E">
                                      <p:cBhvr>
                                        <p:cTn id="64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движении флаг переводится во фла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148360" y="3749760"/>
            <a:ext cx="3744720" cy="2055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3603600" cy="20289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>
            <a:off x="3203640" y="2924280"/>
            <a:ext cx="3313080" cy="720720"/>
          </a:xfrm>
          <a:custGeom>
            <a:avLst/>
            <a:gdLst>
              <a:gd name="textAreaLeft" fmla="*/ 579600 w 3313080"/>
              <a:gd name="textAreaRight" fmla="*/ 2401920 w 33130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684360" y="59500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где </a:t>
            </a:r>
            <a:r>
              <a:rPr b="1" i="1" lang="ru-RU" sz="2400" spc="-1" strike="noStrike" u="sng">
                <a:solidFill>
                  <a:srgbClr val="ff7c80"/>
                </a:solidFill>
                <a:uFillTx/>
                <a:latin typeface="Times New Roman"/>
              </a:rPr>
              <a:t>флаг</a:t>
            </a: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 - это тройка, состоящая из точки, луча и полуплос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Organization Chart 2"/>
          <p:cNvGrpSpPr/>
          <p:nvPr/>
        </p:nvGrpSpPr>
        <p:grpSpPr>
          <a:xfrm>
            <a:off x="826920" y="549360"/>
            <a:ext cx="8100360" cy="5237280"/>
            <a:chOff x="826920" y="549360"/>
            <a:chExt cx="8100360" cy="5237280"/>
          </a:xfrm>
        </p:grpSpPr>
        <p:cxnSp>
          <p:nvCxnSpPr>
            <p:cNvPr id="240" name="_s2052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443560" y="2076840"/>
              <a:ext cx="1047960" cy="218088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2053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262680" y="2076480"/>
              <a:ext cx="1047960" cy="218196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2" name="_s2054"/>
            <p:cNvSpPr/>
            <p:nvPr/>
          </p:nvSpPr>
          <p:spPr>
            <a:xfrm>
              <a:off x="3008160" y="54936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Arial"/>
                </a:rPr>
                <a:t>2 РЕПЕР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) и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=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называются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55"/>
            <p:cNvSpPr/>
            <p:nvPr/>
          </p:nvSpPr>
          <p:spPr>
            <a:xfrm>
              <a:off x="82692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ОДИНАКОВ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ориентированным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056"/>
            <p:cNvSpPr/>
            <p:nvPr/>
          </p:nvSpPr>
          <p:spPr>
            <a:xfrm>
              <a:off x="518868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ПРОТИВОПОЛОЖН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Ориентированным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1692360" y="5229360"/>
                <a:ext cx="1871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3"/>
              <p:cNvSpPr txBox="1"/>
              <p:nvPr/>
            </p:nvSpPr>
            <p:spPr>
              <a:xfrm>
                <a:off x="6372360" y="5084640"/>
                <a:ext cx="187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8036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4ce"/>
                </a:solidFill>
                <a:latin typeface="Times New Roman"/>
              </a:rPr>
              <a:t>Преобразование точек плоскости сохраняет ориентацию плоскости </a:t>
            </a: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или </a:t>
            </a:r>
            <a:r>
              <a:rPr b="1" lang="ru-RU" sz="4000" spc="-1" strike="noStrike">
                <a:solidFill>
                  <a:srgbClr val="2f14ce"/>
                </a:solidFill>
                <a:latin typeface="Times New Roman"/>
              </a:rPr>
              <a:t>меняет ориентацию плоскос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если любой репер и его об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сохраняют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ли</a:t>
            </a:r>
            <a:r>
              <a:rPr b="1" lang="ru-RU" sz="5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меняют ориента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ВИДЫ ДВИ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900000" y="1484280"/>
            <a:ext cx="1150920" cy="180036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826920" y="350028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Движение, не меняющее ориентацию, называ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324000" y="494172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ДВИЖЕНИЕМ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1"/>
          <p:cNvSpPr/>
          <p:nvPr/>
        </p:nvSpPr>
        <p:spPr>
          <a:xfrm>
            <a:off x="6877080" y="1484280"/>
            <a:ext cx="1295280" cy="158436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292720" y="3500280"/>
            <a:ext cx="3240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Движен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меняющее ориентацию, называ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5219640" y="4869000"/>
            <a:ext cx="338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ДВИЖЕНИЕМ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II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АНАЛИТИЧЕСКИЕ ВЫРАЖЕНИЯ ДВИ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– ε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ε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 flipH="1">
            <a:off x="1979280" y="3357720"/>
            <a:ext cx="1152360" cy="143964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971640" y="472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при ε =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826920" y="537372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826920" y="5305320"/>
            <a:ext cx="230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5364000" y="3357720"/>
            <a:ext cx="1224000" cy="12952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586728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при ε = -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5651640" y="5229360"/>
            <a:ext cx="244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97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Comic Sans MS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рот на уго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4788000" y="2060640"/>
                <a:ext cx="1511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Oval 6"/>
          <p:cNvSpPr/>
          <p:nvPr/>
        </p:nvSpPr>
        <p:spPr>
          <a:xfrm>
            <a:off x="3276720" y="3716280"/>
            <a:ext cx="7308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348000" y="386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>
            <a:off x="3276720" y="3789360"/>
            <a:ext cx="136656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50072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3"/>
          <p:cNvSpPr/>
          <p:nvPr/>
        </p:nvSpPr>
        <p:spPr>
          <a:xfrm flipH="1" flipV="1">
            <a:off x="3347640" y="3573360"/>
            <a:ext cx="144360" cy="216000"/>
          </a:xfrm>
          <a:prstGeom prst="line">
            <a:avLst/>
          </a:prstGeom>
          <a:ln w="2844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3276720" y="2637000"/>
            <a:ext cx="647640" cy="107928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7280" y="256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М</a:t>
            </a:r>
            <a:r>
              <a:rPr b="1" i="1" lang="ru-RU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867280" y="249228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156360" y="3284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sinα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osα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914400" y="464184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а) тождественное    пре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3780000" y="4795920"/>
                <a:ext cx="129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22"/>
          <p:cNvSpPr/>
          <p:nvPr/>
        </p:nvSpPr>
        <p:spPr>
          <a:xfrm>
            <a:off x="971640" y="57340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б) центральная симметри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7"/>
          <p:cNvSpPr/>
          <p:nvPr/>
        </p:nvSpPr>
        <p:spPr>
          <a:xfrm>
            <a:off x="385128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8"/>
              <p:cNvSpPr txBox="1"/>
              <p:nvPr/>
            </p:nvSpPr>
            <p:spPr>
              <a:xfrm>
                <a:off x="3780000" y="5950080"/>
                <a:ext cx="1223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30"/>
          <p:cNvSpPr/>
          <p:nvPr/>
        </p:nvSpPr>
        <p:spPr>
          <a:xfrm>
            <a:off x="5219640" y="4941720"/>
            <a:ext cx="1081080" cy="142920"/>
          </a:xfrm>
          <a:prstGeom prst="rightArrow">
            <a:avLst>
              <a:gd name="adj1" fmla="val 50000"/>
              <a:gd name="adj2" fmla="val 189106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6516720" y="47973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2"/>
          <p:cNvSpPr/>
          <p:nvPr/>
        </p:nvSpPr>
        <p:spPr>
          <a:xfrm>
            <a:off x="5148360" y="6093000"/>
            <a:ext cx="1224000" cy="142560"/>
          </a:xfrm>
          <a:prstGeom prst="rightArrow">
            <a:avLst>
              <a:gd name="adj1" fmla="val 50000"/>
              <a:gd name="adj2" fmla="val 214646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6516720" y="5877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-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х</a:t>
            </a:r>
            <a:r>
              <a:rPr b="1" i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-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Comic Sans MS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а)Параллельный перенос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7164360" y="1844640"/>
                <a:ext cx="1079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Line 7"/>
          <p:cNvSpPr/>
          <p:nvPr/>
        </p:nvSpPr>
        <p:spPr>
          <a:xfrm>
            <a:off x="1258920" y="4869000"/>
            <a:ext cx="497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V="1">
            <a:off x="1619280" y="292392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2124000" y="3716280"/>
            <a:ext cx="1079640" cy="865080"/>
          </a:xfrm>
          <a:prstGeom prst="octagon">
            <a:avLst>
              <a:gd name="adj" fmla="val 2928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0"/>
          <p:cNvSpPr/>
          <p:nvPr/>
        </p:nvSpPr>
        <p:spPr>
          <a:xfrm>
            <a:off x="2627280" y="4076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262728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2627280" y="4076640"/>
            <a:ext cx="2881440" cy="0"/>
          </a:xfrm>
          <a:prstGeom prst="line">
            <a:avLst/>
          </a:prstGeom>
          <a:ln w="381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5580000" y="4076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5148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5148360" y="4292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5435640" y="45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 flipV="1">
            <a:off x="5940360" y="429264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 flipV="1">
            <a:off x="61563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 flipH="1" flipV="1">
            <a:off x="5940360" y="3715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H="1">
            <a:off x="543564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 flipH="1">
            <a:off x="5148360" y="3716280"/>
            <a:ext cx="287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565164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7"/>
          <p:cNvSpPr/>
          <p:nvPr/>
        </p:nvSpPr>
        <p:spPr>
          <a:xfrm flipH="1">
            <a:off x="1186560" y="5084640"/>
            <a:ext cx="7225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279" y="4000"/>
                </a:moveTo>
                <a:lnTo>
                  <a:pt x="-60101" y="4000"/>
                </a:lnTo>
                <a:lnTo>
                  <a:pt x="-60101" y="-15188"/>
                </a:lnTo>
                <a:lnTo>
                  <a:pt x="-58866" y="-34425"/>
                </a:lnTo>
              </a:path>
              <a:path w="21600" h="21600">
                <a:moveTo>
                  <a:pt x="-2279" y="0"/>
                </a:moveTo>
                <a:lnTo>
                  <a:pt x="-2279" y="21600"/>
                </a:lnTo>
              </a:path>
            </a:pathLst>
          </a:custGeom>
          <a:solidFill>
            <a:srgbClr val="ff505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716360" y="5084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6588000" y="2852640"/>
            <a:ext cx="226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2"/>
          <p:cNvSpPr/>
          <p:nvPr/>
        </p:nvSpPr>
        <p:spPr>
          <a:xfrm>
            <a:off x="6588000" y="371628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х</a:t>
            </a:r>
            <a:r>
              <a:rPr b="1" i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3"/>
          <p:cNvSpPr/>
          <p:nvPr/>
        </p:nvSpPr>
        <p:spPr>
          <a:xfrm>
            <a:off x="1042920" y="57913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Параллельный перенос н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4"/>
              <p:cNvSpPr txBox="1"/>
              <p:nvPr/>
            </p:nvSpPr>
            <p:spPr>
              <a:xfrm>
                <a:off x="7451640" y="5648400"/>
                <a:ext cx="1368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Text Box 36"/>
          <p:cNvSpPr/>
          <p:nvPr/>
        </p:nvSpPr>
        <p:spPr>
          <a:xfrm>
            <a:off x="1547640" y="638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- тождественное преобразов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37"/>
          <p:cNvGraphicFramePr/>
          <p:nvPr/>
        </p:nvGraphicFramePr>
        <p:xfrm>
          <a:off x="1116000" y="5068800"/>
          <a:ext cx="129528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068800"/>
                    <a:ext cx="1295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39"/>
          <p:cNvSpPr/>
          <p:nvPr/>
        </p:nvSpPr>
        <p:spPr>
          <a:xfrm>
            <a:off x="6443640" y="47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0"/>
          <p:cNvSpPr/>
          <p:nvPr/>
        </p:nvSpPr>
        <p:spPr>
          <a:xfrm>
            <a:off x="1042920" y="2708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4ce"/>
                </a:solidFill>
                <a:latin typeface="Comic Sans MS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сев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19719000">
            <a:off x="1332000" y="3068640"/>
            <a:ext cx="1727280" cy="57636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476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763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059280" y="2852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1332000" y="3068640"/>
            <a:ext cx="3024000" cy="201600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90000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3132000" y="3141720"/>
            <a:ext cx="792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 flipV="1">
            <a:off x="3419640" y="3357720"/>
            <a:ext cx="215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3635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3708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39243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421164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1619280" y="407664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 flipV="1">
            <a:off x="1979640" y="4365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2195640" y="4365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1835280" y="4221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1908000" y="4365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5"/>
          <p:cNvSpPr/>
          <p:nvPr/>
        </p:nvSpPr>
        <p:spPr>
          <a:xfrm>
            <a:off x="226836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6"/>
          <p:cNvSpPr/>
          <p:nvPr/>
        </p:nvSpPr>
        <p:spPr>
          <a:xfrm>
            <a:off x="2340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7"/>
          <p:cNvSpPr/>
          <p:nvPr/>
        </p:nvSpPr>
        <p:spPr>
          <a:xfrm>
            <a:off x="2484360" y="5084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2340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2050920" y="3141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1"/>
          <p:cNvSpPr/>
          <p:nvPr/>
        </p:nvSpPr>
        <p:spPr>
          <a:xfrm>
            <a:off x="2411280" y="3573360"/>
            <a:ext cx="1152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2987640" y="429264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2556000" y="378936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9"/>
          <p:cNvSpPr/>
          <p:nvPr/>
        </p:nvSpPr>
        <p:spPr>
          <a:xfrm>
            <a:off x="3492360" y="486900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0"/>
          <p:cNvSpPr/>
          <p:nvPr/>
        </p:nvSpPr>
        <p:spPr>
          <a:xfrm>
            <a:off x="3708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1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2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3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4"/>
          <p:cNvSpPr/>
          <p:nvPr/>
        </p:nvSpPr>
        <p:spPr>
          <a:xfrm>
            <a:off x="5435640" y="3068640"/>
            <a:ext cx="295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5"/>
          <p:cNvSpPr/>
          <p:nvPr/>
        </p:nvSpPr>
        <p:spPr>
          <a:xfrm>
            <a:off x="5435640" y="4149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6"/>
          <p:cNvSpPr/>
          <p:nvPr/>
        </p:nvSpPr>
        <p:spPr>
          <a:xfrm>
            <a:off x="1619280" y="57340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если прямая а совпадает с осью О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0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22210"/>
                </a:solidFill>
                <a:latin typeface="Times New Roman"/>
              </a:rPr>
              <a:t>ДВИ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Century Gothic"/>
              </a:rPr>
              <a:t>Образуют специальный класс преобразов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0dd5"/>
                </a:solidFill>
                <a:latin typeface="Comic Sans MS"/>
              </a:rPr>
              <a:t>играющих особую роль в различных науках и их при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0dd5"/>
                </a:solidFill>
                <a:latin typeface="Comic Sans MS"/>
              </a:rPr>
              <a:t>и широко распространенных в области природных и технических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Comic Sans MS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кользящая симметри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 rot="19719000">
            <a:off x="1332000" y="3068640"/>
            <a:ext cx="1727280" cy="57636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476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763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059280" y="2852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8"/>
          <p:cNvSpPr/>
          <p:nvPr/>
        </p:nvSpPr>
        <p:spPr>
          <a:xfrm flipV="1">
            <a:off x="1332000" y="3068640"/>
            <a:ext cx="3024000" cy="201600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90000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0"/>
          <p:cNvSpPr/>
          <p:nvPr/>
        </p:nvSpPr>
        <p:spPr>
          <a:xfrm>
            <a:off x="3132000" y="3141720"/>
            <a:ext cx="792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"/>
          <p:cNvSpPr/>
          <p:nvPr/>
        </p:nvSpPr>
        <p:spPr>
          <a:xfrm flipV="1">
            <a:off x="3419640" y="3357720"/>
            <a:ext cx="215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"/>
          <p:cNvSpPr/>
          <p:nvPr/>
        </p:nvSpPr>
        <p:spPr>
          <a:xfrm>
            <a:off x="3635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708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5"/>
          <p:cNvSpPr/>
          <p:nvPr/>
        </p:nvSpPr>
        <p:spPr>
          <a:xfrm>
            <a:off x="39243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421164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7"/>
          <p:cNvSpPr/>
          <p:nvPr/>
        </p:nvSpPr>
        <p:spPr>
          <a:xfrm>
            <a:off x="1619280" y="407664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8"/>
          <p:cNvSpPr/>
          <p:nvPr/>
        </p:nvSpPr>
        <p:spPr>
          <a:xfrm flipV="1">
            <a:off x="1979640" y="4365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9"/>
          <p:cNvSpPr/>
          <p:nvPr/>
        </p:nvSpPr>
        <p:spPr>
          <a:xfrm>
            <a:off x="2195640" y="4365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0"/>
          <p:cNvSpPr/>
          <p:nvPr/>
        </p:nvSpPr>
        <p:spPr>
          <a:xfrm>
            <a:off x="1835280" y="4221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1"/>
          <p:cNvSpPr/>
          <p:nvPr/>
        </p:nvSpPr>
        <p:spPr>
          <a:xfrm>
            <a:off x="1908000" y="4365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2"/>
          <p:cNvSpPr/>
          <p:nvPr/>
        </p:nvSpPr>
        <p:spPr>
          <a:xfrm>
            <a:off x="226836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2340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2484360" y="5084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2340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6"/>
          <p:cNvSpPr/>
          <p:nvPr/>
        </p:nvSpPr>
        <p:spPr>
          <a:xfrm>
            <a:off x="2050920" y="3141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7"/>
          <p:cNvSpPr/>
          <p:nvPr/>
        </p:nvSpPr>
        <p:spPr>
          <a:xfrm>
            <a:off x="2411280" y="3573360"/>
            <a:ext cx="1152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8"/>
          <p:cNvSpPr/>
          <p:nvPr/>
        </p:nvSpPr>
        <p:spPr>
          <a:xfrm>
            <a:off x="2987640" y="429264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9"/>
          <p:cNvSpPr/>
          <p:nvPr/>
        </p:nvSpPr>
        <p:spPr>
          <a:xfrm>
            <a:off x="2556000" y="378936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3492360" y="486900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1"/>
          <p:cNvSpPr/>
          <p:nvPr/>
        </p:nvSpPr>
        <p:spPr>
          <a:xfrm>
            <a:off x="3708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4643280" y="2637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g=s*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9"/>
          <p:cNvSpPr/>
          <p:nvPr/>
        </p:nvSpPr>
        <p:spPr>
          <a:xfrm>
            <a:off x="5364000" y="3068640"/>
            <a:ext cx="719280" cy="64764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156360" y="3645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Comic Sans MS"/>
              </a:rPr>
              <a:t>Осевая сим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1"/>
          <p:cNvSpPr/>
          <p:nvPr/>
        </p:nvSpPr>
        <p:spPr>
          <a:xfrm>
            <a:off x="5724360" y="2924280"/>
            <a:ext cx="3603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5940360" y="278136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Параллельный перено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3"/>
          <p:cNvSpPr/>
          <p:nvPr/>
        </p:nvSpPr>
        <p:spPr>
          <a:xfrm>
            <a:off x="3276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4"/>
          <p:cNvSpPr/>
          <p:nvPr/>
        </p:nvSpPr>
        <p:spPr>
          <a:xfrm>
            <a:off x="334800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5"/>
          <p:cNvSpPr/>
          <p:nvPr/>
        </p:nvSpPr>
        <p:spPr>
          <a:xfrm>
            <a:off x="4067280" y="45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en-US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6"/>
          <p:cNvSpPr/>
          <p:nvPr/>
        </p:nvSpPr>
        <p:spPr>
          <a:xfrm flipH="1">
            <a:off x="1258920" y="4724280"/>
            <a:ext cx="2160720" cy="1297080"/>
          </a:xfrm>
          <a:prstGeom prst="line">
            <a:avLst/>
          </a:prstGeom>
          <a:ln w="381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7"/>
          <p:cNvSpPr/>
          <p:nvPr/>
        </p:nvSpPr>
        <p:spPr>
          <a:xfrm>
            <a:off x="971640" y="609300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48"/>
          <p:cNvGraphicFramePr/>
          <p:nvPr/>
        </p:nvGraphicFramePr>
        <p:xfrm>
          <a:off x="395280" y="6093000"/>
          <a:ext cx="3031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3000"/>
                    <a:ext cx="303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Oval 50"/>
          <p:cNvSpPr/>
          <p:nvPr/>
        </p:nvSpPr>
        <p:spPr>
          <a:xfrm>
            <a:off x="1258920" y="595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1"/>
          <p:cNvSpPr/>
          <p:nvPr/>
        </p:nvSpPr>
        <p:spPr>
          <a:xfrm>
            <a:off x="140328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3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4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5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7"/>
          <p:cNvSpPr/>
          <p:nvPr/>
        </p:nvSpPr>
        <p:spPr>
          <a:xfrm flipV="1">
            <a:off x="611280" y="6237360"/>
            <a:ext cx="8650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5724360" y="429264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9"/>
          <p:cNvSpPr/>
          <p:nvPr/>
        </p:nvSpPr>
        <p:spPr>
          <a:xfrm>
            <a:off x="5071320" y="434016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0"/>
          <p:cNvSpPr/>
          <p:nvPr/>
        </p:nvSpPr>
        <p:spPr>
          <a:xfrm>
            <a:off x="4572000" y="479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` =-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1"/>
          <p:cNvSpPr/>
          <p:nvPr/>
        </p:nvSpPr>
        <p:spPr>
          <a:xfrm>
            <a:off x="2195640" y="59119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если прямая а совпадает с осью ОХ и вектор переноса параллелен прямой 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0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2.60116E-006 L -0.22431 0.1993 E">
                                      <p:cBhvr>
                                        <p:cTn id="1635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2104 L -0.21268 0.17826 E">
                                      <p:cBhvr>
                                        <p:cTn id="1650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РЕОБРАЗОВАНИЕ</a:t>
            </a:r>
            <a:br>
              <a:rPr sz="4800"/>
            </a:b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ние плоскости называется </a:t>
            </a: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преобразованием подобия</a:t>
            </a: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если  существуе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gt; 0, такое что для любых точе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`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`  выполняется равенст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k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1 преобразование подобия является </a:t>
            </a:r>
            <a:r>
              <a:rPr b="1" lang="ru-RU" sz="4800" spc="-1" strike="noStrike">
                <a:solidFill>
                  <a:srgbClr val="2f14ce"/>
                </a:solidFill>
                <a:latin typeface="Times New Roman"/>
              </a:rPr>
              <a:t>движением</a:t>
            </a:r>
            <a:r>
              <a:rPr b="0" lang="ru-RU" sz="4800" spc="-1" strike="noStrike">
                <a:solidFill>
                  <a:srgbClr val="2f14ce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nodeType="clickEffect" fill="hold">
                      <p:stCondLst>
                        <p:cond delay="0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3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3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Рассмотрим на плоскости три точки М, М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2f14ce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` и некоторое число </a:t>
            </a:r>
            <a:r>
              <a:rPr b="1" lang="en-US" sz="3600" spc="-1" strike="noStrike">
                <a:solidFill>
                  <a:srgbClr val="2f14ce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, такое, что 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 *М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"/>
          <p:cNvSpPr/>
          <p:nvPr/>
        </p:nvSpPr>
        <p:spPr>
          <a:xfrm flipV="1">
            <a:off x="826920" y="2276280"/>
            <a:ext cx="252108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826920" y="3284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1"/>
          <p:cNvSpPr/>
          <p:nvPr/>
        </p:nvSpPr>
        <p:spPr>
          <a:xfrm>
            <a:off x="1547640" y="2997360"/>
            <a:ext cx="71640" cy="72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2"/>
          <p:cNvSpPr/>
          <p:nvPr/>
        </p:nvSpPr>
        <p:spPr>
          <a:xfrm>
            <a:off x="3276720" y="2276640"/>
            <a:ext cx="71280" cy="72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1619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826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341964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41964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3851280" y="2349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2f14ce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` = 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 *М</a:t>
            </a:r>
            <a:r>
              <a:rPr b="1" lang="ru-RU" sz="1200" spc="-1" strike="noStrike">
                <a:solidFill>
                  <a:srgbClr val="2f14ce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2627280" y="3284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ое преобразование называется 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гомотетией</a:t>
            </a: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0"/>
          <p:cNvSpPr/>
          <p:nvPr/>
        </p:nvSpPr>
        <p:spPr>
          <a:xfrm>
            <a:off x="4427640" y="2276640"/>
            <a:ext cx="36036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2"/>
          <p:cNvSpPr/>
          <p:nvPr/>
        </p:nvSpPr>
        <p:spPr>
          <a:xfrm flipV="1">
            <a:off x="4788000" y="2133720"/>
            <a:ext cx="1655640" cy="287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651672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Центр гомотет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4"/>
          <p:cNvSpPr/>
          <p:nvPr/>
        </p:nvSpPr>
        <p:spPr>
          <a:xfrm>
            <a:off x="5292720" y="2276640"/>
            <a:ext cx="287280" cy="504720"/>
          </a:xfrm>
          <a:prstGeom prst="ellipse">
            <a:avLst/>
          </a:prstGeom>
          <a:noFill/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5"/>
          <p:cNvSpPr/>
          <p:nvPr/>
        </p:nvSpPr>
        <p:spPr>
          <a:xfrm>
            <a:off x="5580000" y="2708280"/>
            <a:ext cx="1297080" cy="7308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020000" y="2276640"/>
            <a:ext cx="21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Коэффициен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гомотет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3924360" y="4221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9"/>
          <p:cNvSpPr/>
          <p:nvPr/>
        </p:nvSpPr>
        <p:spPr>
          <a:xfrm>
            <a:off x="3780000" y="4221000"/>
            <a:ext cx="936360" cy="936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0"/>
          <p:cNvSpPr/>
          <p:nvPr/>
        </p:nvSpPr>
        <p:spPr>
          <a:xfrm flipH="1">
            <a:off x="2916360" y="4653000"/>
            <a:ext cx="79200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1"/>
          <p:cNvSpPr/>
          <p:nvPr/>
        </p:nvSpPr>
        <p:spPr>
          <a:xfrm>
            <a:off x="4716360" y="4653000"/>
            <a:ext cx="792360" cy="431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2"/>
          <p:cNvSpPr/>
          <p:nvPr/>
        </p:nvSpPr>
        <p:spPr>
          <a:xfrm>
            <a:off x="262728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m&gt;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1763640" y="5661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положитель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4"/>
          <p:cNvSpPr/>
          <p:nvPr/>
        </p:nvSpPr>
        <p:spPr>
          <a:xfrm>
            <a:off x="5435640" y="50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m&lt;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5"/>
          <p:cNvSpPr/>
          <p:nvPr/>
        </p:nvSpPr>
        <p:spPr>
          <a:xfrm>
            <a:off x="5148360" y="5661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отрицатель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nodeType="clickEffect" fill="hold">
                      <p:stCondLst>
                        <p:cond delay="0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2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0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ПРЕОБРАЗОВАНИЕ</a:t>
            </a:r>
            <a:br>
              <a:rPr sz="4400"/>
            </a:b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ПОДОБИЯ (</a:t>
            </a:r>
            <a:r>
              <a:rPr b="1" i="1" lang="en-US" sz="4400" spc="-1" strike="noStrike">
                <a:solidFill>
                  <a:srgbClr val="d22210"/>
                </a:solidFill>
                <a:latin typeface="Times New Roman"/>
              </a:rPr>
              <a:t>f</a:t>
            </a: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f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 =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g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 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"/>
          <p:cNvSpPr/>
          <p:nvPr/>
        </p:nvSpPr>
        <p:spPr>
          <a:xfrm>
            <a:off x="4356000" y="2205000"/>
            <a:ext cx="792360" cy="7923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6"/>
          <p:cNvSpPr/>
          <p:nvPr/>
        </p:nvSpPr>
        <p:spPr>
          <a:xfrm flipH="1">
            <a:off x="2987280" y="2781360"/>
            <a:ext cx="1368360" cy="576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2050920" y="3357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движе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8"/>
          <p:cNvSpPr/>
          <p:nvPr/>
        </p:nvSpPr>
        <p:spPr>
          <a:xfrm>
            <a:off x="5292720" y="2133720"/>
            <a:ext cx="792000" cy="790560"/>
          </a:xfrm>
          <a:prstGeom prst="ellipse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6084720" y="2708280"/>
            <a:ext cx="1079640" cy="576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5003640" y="3429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с коэффициентом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и центром в точке М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5796000" y="414972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24000" y="40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cos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ε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sin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en-US" sz="900" spc="-1" strike="noStrike">
                <a:solidFill>
                  <a:srgbClr val="2f14ce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sin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ε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cos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en-US" sz="900" spc="-1" strike="noStrike">
                <a:solidFill>
                  <a:srgbClr val="2f14ce"/>
                </a:solidFill>
                <a:latin typeface="Times New Roman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2411280" y="4724280"/>
            <a:ext cx="792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755640" y="5661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АНАЛИТИЧЕСКИЕ ВЫРАЖЕНИЯ ПОДОБ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7"/>
          <p:cNvSpPr/>
          <p:nvPr/>
        </p:nvSpPr>
        <p:spPr>
          <a:xfrm>
            <a:off x="2916360" y="4437000"/>
            <a:ext cx="215640" cy="216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8"/>
          <p:cNvSpPr/>
          <p:nvPr/>
        </p:nvSpPr>
        <p:spPr>
          <a:xfrm>
            <a:off x="3132000" y="4653000"/>
            <a:ext cx="1871640" cy="1008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9"/>
          <p:cNvSpPr/>
          <p:nvPr/>
        </p:nvSpPr>
        <p:spPr>
          <a:xfrm>
            <a:off x="5003640" y="5157720"/>
            <a:ext cx="0" cy="935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"/>
          <p:cNvSpPr/>
          <p:nvPr/>
        </p:nvSpPr>
        <p:spPr>
          <a:xfrm>
            <a:off x="5003640" y="5157720"/>
            <a:ext cx="7923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5867280" y="4797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ε =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ие 1-го р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5003640" y="6093000"/>
            <a:ext cx="7923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5867280" y="566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ε = 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ие 2-го р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nodeType="clickEffect" fill="hold">
                      <p:stCondLst>
                        <p:cond delay="0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 РО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Аналитические выражения</a:t>
            </a:r>
            <a:r>
              <a:rPr b="1" lang="ru-RU" sz="3200" spc="-1" strike="noStrike">
                <a:solidFill>
                  <a:srgbClr val="2f14ce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7"/>
              <p:cNvSpPr txBox="1"/>
              <p:nvPr/>
            </p:nvSpPr>
            <p:spPr>
              <a:xfrm>
                <a:off x="4788000" y="3933720"/>
                <a:ext cx="1655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 Box 4"/>
          <p:cNvSpPr/>
          <p:nvPr/>
        </p:nvSpPr>
        <p:spPr>
          <a:xfrm>
            <a:off x="2771640" y="270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116000" y="3860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395280" y="38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оворот на уго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966600" y="4627440"/>
            <a:ext cx="55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) тождественное    преобразование, ес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6516720" y="4581360"/>
                <a:ext cx="1368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12"/>
          <p:cNvSpPr/>
          <p:nvPr/>
        </p:nvSpPr>
        <p:spPr>
          <a:xfrm>
            <a:off x="971640" y="5229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б) центрально-подобное вращение, ес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6443640" y="5229360"/>
                <a:ext cx="1224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Rectangle 14"/>
          <p:cNvSpPr/>
          <p:nvPr/>
        </p:nvSpPr>
        <p:spPr>
          <a:xfrm>
            <a:off x="1036800" y="578016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в) центрально-подобная сим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2" dur="indefinite" restart="never" nodeType="tmRoot">
          <p:childTnLst>
            <p:seq>
              <p:cTn id="1993" dur="indefinite" nodeType="mainSeq">
                <p:childTnLst>
                  <p:par>
                    <p:cTn id="1994" nodeType="clickEffect" fill="hold">
                      <p:stCondLst>
                        <p:cond delay="0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2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2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Параллельный перенос 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7236000" y="765000"/>
                <a:ext cx="1439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Freeform 8"/>
          <p:cNvSpPr/>
          <p:nvPr/>
        </p:nvSpPr>
        <p:spPr>
          <a:xfrm>
            <a:off x="1619280" y="220500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2195640" y="2852640"/>
            <a:ext cx="7128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219564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 flipV="1">
            <a:off x="2195640" y="2421000"/>
            <a:ext cx="3024000" cy="50328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3"/>
              <p:cNvSpPr txBox="1"/>
              <p:nvPr/>
            </p:nvSpPr>
            <p:spPr>
              <a:xfrm>
                <a:off x="3276720" y="1916280"/>
                <a:ext cx="934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Oval 15"/>
          <p:cNvSpPr/>
          <p:nvPr/>
        </p:nvSpPr>
        <p:spPr>
          <a:xfrm>
            <a:off x="5219640" y="2349360"/>
            <a:ext cx="7308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536400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7"/>
          <p:cNvSpPr/>
          <p:nvPr/>
        </p:nvSpPr>
        <p:spPr>
          <a:xfrm>
            <a:off x="1619280" y="220500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4211640" y="1413000"/>
            <a:ext cx="2089080" cy="18367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2484360" y="335772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2843280" y="465300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nodeType="clickEffect" fill="hold">
                      <p:stCondLst>
                        <p:cond delay="0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68208E-006 L 0.32361 -0.07583 E">
                                      <p:cBhvr>
                                        <p:cTn id="2126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Осевая сим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"/>
          <p:cNvSpPr/>
          <p:nvPr/>
        </p:nvSpPr>
        <p:spPr>
          <a:xfrm rot="4343400">
            <a:off x="1787400" y="275724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5"/>
          <p:cNvSpPr/>
          <p:nvPr/>
        </p:nvSpPr>
        <p:spPr>
          <a:xfrm>
            <a:off x="2411280" y="3357720"/>
            <a:ext cx="73080" cy="71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2556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1547640" y="3141360"/>
            <a:ext cx="3240360" cy="194292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1187280" y="522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2484360" y="3357720"/>
            <a:ext cx="214560" cy="358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1"/>
          <p:cNvSpPr/>
          <p:nvPr/>
        </p:nvSpPr>
        <p:spPr>
          <a:xfrm>
            <a:off x="2700360" y="3716280"/>
            <a:ext cx="86364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3"/>
          <p:cNvSpPr/>
          <p:nvPr/>
        </p:nvSpPr>
        <p:spPr>
          <a:xfrm flipV="1">
            <a:off x="2916360" y="400536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5"/>
          <p:cNvSpPr/>
          <p:nvPr/>
        </p:nvSpPr>
        <p:spPr>
          <a:xfrm>
            <a:off x="3059280" y="4005360"/>
            <a:ext cx="7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6"/>
          <p:cNvSpPr/>
          <p:nvPr/>
        </p:nvSpPr>
        <p:spPr>
          <a:xfrm>
            <a:off x="3059280" y="443700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7"/>
          <p:cNvSpPr/>
          <p:nvPr/>
        </p:nvSpPr>
        <p:spPr>
          <a:xfrm>
            <a:off x="2700360" y="378936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8"/>
          <p:cNvSpPr/>
          <p:nvPr/>
        </p:nvSpPr>
        <p:spPr>
          <a:xfrm>
            <a:off x="3492360" y="5157720"/>
            <a:ext cx="7164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370836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0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0"/>
          <p:cNvSpPr/>
          <p:nvPr/>
        </p:nvSpPr>
        <p:spPr>
          <a:xfrm rot="4343400">
            <a:off x="2645640" y="4275000"/>
            <a:ext cx="1943280" cy="22669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2"/>
          <p:cNvSpPr/>
          <p:nvPr/>
        </p:nvSpPr>
        <p:spPr>
          <a:xfrm>
            <a:off x="5435640" y="270828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3"/>
          <p:cNvSpPr/>
          <p:nvPr/>
        </p:nvSpPr>
        <p:spPr>
          <a:xfrm>
            <a:off x="5796000" y="400536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4"/>
          <p:cNvSpPr/>
          <p:nvPr/>
        </p:nvSpPr>
        <p:spPr>
          <a:xfrm>
            <a:off x="5327640" y="51577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7c80"/>
                </a:solidFill>
                <a:latin typeface="Times New Roman"/>
              </a:rPr>
              <a:t>Прямая а совпадает с осью О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nodeType="clickEffect" fill="hold">
                      <p:stCondLst>
                        <p:cond delay="0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кользящ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900000" y="4365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572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 flipV="1">
            <a:off x="1042920" y="2636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468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0"/>
          <p:cNvSpPr/>
          <p:nvPr/>
        </p:nvSpPr>
        <p:spPr>
          <a:xfrm rot="4343400">
            <a:off x="1718640" y="2897280"/>
            <a:ext cx="958680" cy="101268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1"/>
          <p:cNvSpPr/>
          <p:nvPr/>
        </p:nvSpPr>
        <p:spPr>
          <a:xfrm>
            <a:off x="2124000" y="3357720"/>
            <a:ext cx="71640" cy="71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2195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5"/>
          <p:cNvSpPr/>
          <p:nvPr/>
        </p:nvSpPr>
        <p:spPr>
          <a:xfrm>
            <a:off x="2195640" y="3357720"/>
            <a:ext cx="0" cy="502920"/>
          </a:xfrm>
          <a:prstGeom prst="line">
            <a:avLst/>
          </a:prstGeom>
          <a:ln w="93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2195640" y="3860640"/>
            <a:ext cx="0" cy="1584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9"/>
          <p:cNvSpPr/>
          <p:nvPr/>
        </p:nvSpPr>
        <p:spPr>
          <a:xfrm>
            <a:off x="2195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34000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1"/>
          <p:cNvSpPr/>
          <p:nvPr/>
        </p:nvSpPr>
        <p:spPr>
          <a:xfrm flipV="1">
            <a:off x="2124000" y="3933360"/>
            <a:ext cx="144360" cy="142920"/>
          </a:xfrm>
          <a:prstGeom prst="line">
            <a:avLst/>
          </a:prstGeom>
          <a:ln w="2844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2"/>
          <p:cNvSpPr/>
          <p:nvPr/>
        </p:nvSpPr>
        <p:spPr>
          <a:xfrm flipV="1">
            <a:off x="2124000" y="4581000"/>
            <a:ext cx="144360" cy="142920"/>
          </a:xfrm>
          <a:prstGeom prst="line">
            <a:avLst/>
          </a:prstGeom>
          <a:ln w="2844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3"/>
          <p:cNvSpPr/>
          <p:nvPr/>
        </p:nvSpPr>
        <p:spPr>
          <a:xfrm>
            <a:off x="2124000" y="5373720"/>
            <a:ext cx="73080" cy="71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234000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5"/>
          <p:cNvSpPr/>
          <p:nvPr/>
        </p:nvSpPr>
        <p:spPr>
          <a:xfrm rot="3815400">
            <a:off x="1369800" y="4830480"/>
            <a:ext cx="1584360" cy="151776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6"/>
          <p:cNvSpPr/>
          <p:nvPr/>
        </p:nvSpPr>
        <p:spPr>
          <a:xfrm>
            <a:off x="2195640" y="5445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27"/>
          <p:cNvGraphicFramePr/>
          <p:nvPr/>
        </p:nvGraphicFramePr>
        <p:xfrm>
          <a:off x="2700360" y="4886280"/>
          <a:ext cx="9349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886280"/>
                    <a:ext cx="9349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Freeform 29"/>
          <p:cNvSpPr/>
          <p:nvPr/>
        </p:nvSpPr>
        <p:spPr>
          <a:xfrm rot="3815400">
            <a:off x="3242880" y="4757400"/>
            <a:ext cx="1584360" cy="15174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0"/>
          <p:cNvSpPr/>
          <p:nvPr/>
        </p:nvSpPr>
        <p:spPr>
          <a:xfrm>
            <a:off x="3995640" y="5445000"/>
            <a:ext cx="7164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4284720" y="5300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2"/>
          <p:cNvSpPr/>
          <p:nvPr/>
        </p:nvSpPr>
        <p:spPr>
          <a:xfrm>
            <a:off x="5940360" y="285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5292720" y="2997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5435640" y="414972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+x</a:t>
            </a:r>
            <a:r>
              <a:rPr b="1" lang="en-US" sz="16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1" dur="indefinite" restart="never" nodeType="tmRoot">
          <p:childTnLst>
            <p:seq>
              <p:cTn id="2272" dur="indefinite" nodeType="mainSeq">
                <p:childTnLst>
                  <p:par>
                    <p:cTn id="2273" nodeType="clickEffect" fill="hold">
                      <p:stCondLst>
                        <p:cond delay="0"/>
                      </p:stCondLst>
                      <p:childTnLst>
                        <p:par>
                          <p:cTn id="2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3</a:t>
            </a: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мотетия(центральная симметр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"/>
          <p:cNvSpPr/>
          <p:nvPr/>
        </p:nvSpPr>
        <p:spPr>
          <a:xfrm>
            <a:off x="3995640" y="3357720"/>
            <a:ext cx="71640" cy="712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924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6"/>
          <p:cNvSpPr/>
          <p:nvPr/>
        </p:nvSpPr>
        <p:spPr>
          <a:xfrm rot="18436800">
            <a:off x="4968360" y="2499840"/>
            <a:ext cx="1060560" cy="11779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"/>
          <p:cNvSpPr/>
          <p:nvPr/>
        </p:nvSpPr>
        <p:spPr>
          <a:xfrm flipH="1">
            <a:off x="2195640" y="2276640"/>
            <a:ext cx="3456000" cy="237636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1332000" y="2781360"/>
            <a:ext cx="5111640" cy="115236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 flipV="1">
            <a:off x="1835280" y="3213000"/>
            <a:ext cx="3241440" cy="50328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0"/>
          <p:cNvSpPr/>
          <p:nvPr/>
        </p:nvSpPr>
        <p:spPr>
          <a:xfrm flipV="1">
            <a:off x="5076720" y="3068280"/>
            <a:ext cx="790560" cy="144360"/>
          </a:xfrm>
          <a:prstGeom prst="line">
            <a:avLst/>
          </a:prstGeom>
          <a:ln w="9360">
            <a:solidFill>
              <a:srgbClr val="00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1"/>
          <p:cNvSpPr/>
          <p:nvPr/>
        </p:nvSpPr>
        <p:spPr>
          <a:xfrm flipV="1">
            <a:off x="5867280" y="2781360"/>
            <a:ext cx="1152720" cy="28728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5435640" y="3068640"/>
            <a:ext cx="73080" cy="73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148360" y="2637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14"/>
          <p:cNvSpPr/>
          <p:nvPr/>
        </p:nvSpPr>
        <p:spPr>
          <a:xfrm rot="18436800">
            <a:off x="1056240" y="2767320"/>
            <a:ext cx="1584360" cy="18972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5"/>
          <p:cNvSpPr/>
          <p:nvPr/>
        </p:nvSpPr>
        <p:spPr>
          <a:xfrm>
            <a:off x="1835280" y="3645000"/>
            <a:ext cx="72720" cy="712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197964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3276720" y="4076640"/>
            <a:ext cx="33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3492360" y="522936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+x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+y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nodeType="clickEffect" fill="hold">
                      <p:stCondLst>
                        <p:cond delay="0"/>
                      </p:stCondLst>
                      <p:childTnLst>
                        <p:par>
                          <p:cTn id="2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0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ущность понятия движения ясна каждому из его жизненного и учебного опыта, 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4"/>
          <p:cNvSpPr txBox="1"/>
          <p:nvPr/>
        </p:nvSpPr>
        <p:spPr>
          <a:xfrm>
            <a:off x="1547640" y="3284640"/>
            <a:ext cx="648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вижение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WordArt 5"/>
          <p:cNvSpPr txBox="1"/>
          <p:nvPr/>
        </p:nvSpPr>
        <p:spPr>
          <a:xfrm>
            <a:off x="1979640" y="5300640"/>
            <a:ext cx="576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жизнь..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9" dur="indefinite" restart="never" nodeType="tmRoot">
          <p:childTnLst>
            <p:seq>
              <p:cTn id="2530" dur="indefinite" nodeType="mainSeq">
                <p:childTnLst>
                  <p:par>
                    <p:cTn id="2531" nodeType="clickEffect" fill="hold">
                      <p:stCondLst>
                        <p:cond delay="0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или</a:t>
            </a: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ПЕРЕМЕ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- это преобразование плоскос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храняющее рас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7"/>
          <p:cNvGrpSpPr/>
          <p:nvPr/>
        </p:nvGrpSpPr>
        <p:grpSpPr>
          <a:xfrm>
            <a:off x="539640" y="549360"/>
            <a:ext cx="8100360" cy="5237280"/>
            <a:chOff x="539640" y="549360"/>
            <a:chExt cx="8100360" cy="5237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156280" y="2076840"/>
              <a:ext cx="1047960" cy="218088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H="1" flipV="1" rot="5400000">
              <a:off x="2975400" y="2076480"/>
              <a:ext cx="1047960" cy="218196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0"/>
            <p:cNvSpPr/>
            <p:nvPr/>
          </p:nvSpPr>
          <p:spPr>
            <a:xfrm>
              <a:off x="2720880" y="54936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Arial"/>
                </a:rPr>
                <a:t>РЕПЕР-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порядоченная тройка точек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лежащих на одной прямой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означается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=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53964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АФИННЫЙ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ΔАВС произвольный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90140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ОРТОНОРМИРОВАННЫЙ,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ΔАВС – прямоугольны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=90º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=АС=1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 – начало репера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и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– вершины репера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7859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При движении репер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образованный точками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В, С, переходит в репер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R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образованный точками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A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B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C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причем это движение един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2"/>
          <p:cNvSpPr/>
          <p:nvPr/>
        </p:nvSpPr>
        <p:spPr>
          <a:xfrm>
            <a:off x="1258920" y="4724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111600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1258920" y="4724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2771640" y="501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6"/>
          <p:cNvSpPr/>
          <p:nvPr/>
        </p:nvSpPr>
        <p:spPr>
          <a:xfrm flipV="1">
            <a:off x="1258920" y="3789000"/>
            <a:ext cx="115236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2340000" y="32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755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Times New Roman"/>
              </a:rPr>
              <a:t>R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9"/>
          <p:cNvSpPr/>
          <p:nvPr/>
        </p:nvSpPr>
        <p:spPr>
          <a:xfrm>
            <a:off x="1258920" y="4724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5292720" y="50148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7020000" y="49417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3"/>
          <p:cNvSpPr/>
          <p:nvPr/>
        </p:nvSpPr>
        <p:spPr>
          <a:xfrm flipV="1">
            <a:off x="1258920" y="3789000"/>
            <a:ext cx="115236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6948360" y="32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5724360" y="32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2f14ce"/>
                </a:solidFill>
                <a:latin typeface="Arial"/>
              </a:rPr>
              <a:t>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6"/>
          <p:cNvSpPr/>
          <p:nvPr/>
        </p:nvSpPr>
        <p:spPr>
          <a:xfrm>
            <a:off x="684360" y="3213000"/>
            <a:ext cx="5745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8"/>
          <p:cNvSpPr/>
          <p:nvPr/>
        </p:nvSpPr>
        <p:spPr>
          <a:xfrm flipV="1">
            <a:off x="1042920" y="292428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9"/>
          <p:cNvSpPr/>
          <p:nvPr/>
        </p:nvSpPr>
        <p:spPr>
          <a:xfrm>
            <a:off x="1042920" y="2924280"/>
            <a:ext cx="489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0"/>
          <p:cNvSpPr/>
          <p:nvPr/>
        </p:nvSpPr>
        <p:spPr>
          <a:xfrm>
            <a:off x="5940360" y="292428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1"/>
          <p:cNvSpPr/>
          <p:nvPr/>
        </p:nvSpPr>
        <p:spPr>
          <a:xfrm>
            <a:off x="5724360" y="321300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0.46475 -2.48555E-006 E">
                                      <p:cBhvr>
                                        <p:cTn id="12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9306E-006 L 0.46476 -0.00508 E">
                                      <p:cBhvr>
                                        <p:cTn id="14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Движение  переводит прямую в прямую, параллельную прямую в параллельную ей прям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1042920" y="3715920"/>
            <a:ext cx="2089080" cy="201780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187280" y="566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203640" y="3933720"/>
            <a:ext cx="3097080" cy="432000"/>
          </a:xfrm>
          <a:custGeom>
            <a:avLst/>
            <a:gdLst>
              <a:gd name="textAreaLeft" fmla="*/ 541800 w 3097080"/>
              <a:gd name="textAreaRight" fmla="*/ 2245320 w 30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3348000" y="4581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Times New Roman"/>
              </a:rPr>
              <a:t>движ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V="1">
            <a:off x="1042920" y="3715920"/>
            <a:ext cx="2089080" cy="201780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443640" y="566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а </a:t>
            </a:r>
            <a:r>
              <a:rPr b="1" i="1" lang="en-US" sz="2400" spc="-1" strike="noStrike">
                <a:solidFill>
                  <a:srgbClr val="ff7c80"/>
                </a:solidFill>
                <a:latin typeface="Times New Roman"/>
              </a:rPr>
              <a:t>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3203640" y="5734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||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а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'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48555E-006 L 0.53941 -2.48555E-006 E">
                                      <p:cBhvr>
                                        <p:cTn id="23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2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переводит полуплоскость с границе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олуплоскост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ницей 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где 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образ прямо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H="1">
            <a:off x="826920" y="3933720"/>
            <a:ext cx="936720" cy="201636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84360" y="602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1763640" y="3933720"/>
            <a:ext cx="136836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>
            <a:off x="826920" y="5950080"/>
            <a:ext cx="151308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28"/>
          <p:cNvCxnSpPr>
            <a:stCxn id="150" idx="0"/>
          </p:cNvCxnSpPr>
          <p:nvPr/>
        </p:nvCxnSpPr>
        <p:spPr>
          <a:xfrm rot="5400000">
            <a:off x="1736640" y="4555440"/>
            <a:ext cx="1998000" cy="792720"/>
          </a:xfrm>
          <a:prstGeom prst="curvedConnector5">
            <a:avLst>
              <a:gd name="adj1" fmla="val 49522"/>
              <a:gd name="adj2" fmla="val 49977"/>
              <a:gd name="adj3" fmla="val 49522"/>
            </a:avLst>
          </a:prstGeom>
          <a:ln w="38160">
            <a:solidFill>
              <a:srgbClr val="ff7c80"/>
            </a:solidFill>
            <a:miter/>
          </a:ln>
        </p:spPr>
      </p:cxnSp>
      <p:sp>
        <p:nvSpPr>
          <p:cNvPr id="153" name="AutoShape 29"/>
          <p:cNvSpPr/>
          <p:nvPr/>
        </p:nvSpPr>
        <p:spPr>
          <a:xfrm>
            <a:off x="3419640" y="4653000"/>
            <a:ext cx="2087280" cy="360360"/>
          </a:xfrm>
          <a:custGeom>
            <a:avLst/>
            <a:gdLst>
              <a:gd name="textAreaLeft" fmla="*/ 365040 w 2087280"/>
              <a:gd name="textAreaRight" fmla="*/ 1513440 w 2087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H="1">
            <a:off x="826920" y="3933720"/>
            <a:ext cx="936720" cy="201636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763640" y="3933720"/>
            <a:ext cx="136836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2"/>
          <p:cNvSpPr/>
          <p:nvPr/>
        </p:nvSpPr>
        <p:spPr>
          <a:xfrm>
            <a:off x="826920" y="5950080"/>
            <a:ext cx="151308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33"/>
          <p:cNvCxnSpPr/>
          <p:nvPr/>
        </p:nvCxnSpPr>
        <p:spPr>
          <a:xfrm rot="5400000">
            <a:off x="1736640" y="4536360"/>
            <a:ext cx="1998000" cy="792720"/>
          </a:xfrm>
          <a:prstGeom prst="curvedConnector5">
            <a:avLst>
              <a:gd name="adj1" fmla="val 49522"/>
              <a:gd name="adj2" fmla="val 49977"/>
              <a:gd name="adj3" fmla="val 49522"/>
            </a:avLst>
          </a:prstGeom>
          <a:ln w="38160">
            <a:solidFill>
              <a:srgbClr val="ff7c80"/>
            </a:solidFill>
            <a:miter/>
          </a:ln>
        </p:spPr>
      </p:cxnSp>
      <p:sp>
        <p:nvSpPr>
          <p:cNvPr id="158" name="Text Box 34"/>
          <p:cNvSpPr/>
          <p:nvPr/>
        </p:nvSpPr>
        <p:spPr>
          <a:xfrm>
            <a:off x="565164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2556000" y="63388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Образ прямой 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6"/>
          <p:cNvSpPr/>
          <p:nvPr/>
        </p:nvSpPr>
        <p:spPr>
          <a:xfrm>
            <a:off x="6372360" y="6165720"/>
            <a:ext cx="431640" cy="692280"/>
          </a:xfrm>
          <a:custGeom>
            <a:avLst/>
            <a:gdLst>
              <a:gd name="textAreaLeft" fmla="*/ 57600 w 431640"/>
              <a:gd name="textAreaRight" fmla="*/ 374040 w 431640"/>
              <a:gd name="textAreaTop" fmla="*/ 120960 h 692280"/>
              <a:gd name="textAreaBottom" fmla="*/ 5018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1387E-006 L 0.53941 1.21387E-006 E">
                                      <p:cBhvr>
                                        <p:cTn id="27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2.02312E-006 L 0.53542 2.02312E-006 E">
                                      <p:cBhvr>
                                        <p:cTn id="28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64 L 0.53576 4.04624E-007 E">
                                      <p:cBhvr>
                                        <p:cTn id="29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08 0.00139 L 0.5316 0.00139 E">
                                      <p:cBhvr>
                                        <p:cTn id="29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3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сохраняет простое отношение  трех точек прямо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1187280" y="5300640"/>
            <a:ext cx="7164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835280" y="3716280"/>
            <a:ext cx="7128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58920" y="544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50920" y="33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1187280" y="3716280"/>
            <a:ext cx="719280" cy="16574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1403280" y="4724280"/>
            <a:ext cx="7308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1692360" y="4508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684360" y="57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λ</a:t>
            </a:r>
            <a:r>
              <a:rPr b="1" lang="ru-RU" sz="2400" spc="-1" strike="noStrike">
                <a:solidFill>
                  <a:srgbClr val="2f14c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971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AC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1187280" y="5300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1835280" y="3716280"/>
            <a:ext cx="7272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1187280" y="5300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227640" y="54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1835280" y="3716280"/>
            <a:ext cx="7272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745164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V="1">
            <a:off x="1187280" y="3716280"/>
            <a:ext cx="719280" cy="16574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0400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1403280" y="4797360"/>
            <a:ext cx="5256360" cy="0"/>
          </a:xfrm>
          <a:prstGeom prst="line">
            <a:avLst/>
          </a:prstGeom>
          <a:ln w="93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227640" y="5805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λ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=A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ru-RU" sz="16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2843280" y="5950080"/>
            <a:ext cx="30970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λ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λ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9"/>
          <p:cNvSpPr/>
          <p:nvPr/>
        </p:nvSpPr>
        <p:spPr>
          <a:xfrm>
            <a:off x="3059280" y="5877000"/>
            <a:ext cx="2665080" cy="7207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4 -0.00532 L 0.5632 0.00532 E">
                                      <p:cBhvr>
                                        <p:cTn id="37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4624E-007 L 0.571 -0.00532 E">
                                      <p:cBhvr>
                                        <p:cTn id="38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60116E-006 L 0.56493 2.60116E-006 E">
                                      <p:cBhvr>
                                        <p:cTn id="39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сохраняет отношение «лежать межд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переводит отрезо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отрезо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'B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ри этом середина отрез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ереходит в середину отрез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'B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56:49Z</dcterms:created>
  <dc:creator>Тухиль</dc:creator>
  <dc:description/>
  <dc:language>en-US</dc:language>
  <cp:lastModifiedBy>Sony</cp:lastModifiedBy>
  <dcterms:modified xsi:type="dcterms:W3CDTF">2013-01-16T17:54:40Z</dcterms:modified>
  <cp:revision>50</cp:revision>
  <dc:subject/>
  <dc:title>ПРЕОБРАЗОВАНИЕ ПЛОСКОСТИ</dc:title>
</cp:coreProperties>
</file>