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ECD-1D5D-4B2A-BD80-2EA7C77E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7EC-1232-40FB-ABDD-4984B3C1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367-187C-4DA6-95DC-4DAA12FA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BEF-C8F9-4256-B206-8EF2333F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1BD60-4558-465D-AFF6-BF631238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8764-9731-4B0A-BF94-E4E16211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85917-5B4D-47CE-9BE8-6E69D58A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D3B43-85A1-4EE4-B695-5DBEC193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91DB2-C3BA-4126-8C3B-0E436BD3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3952-F1D0-4E68-B71E-0283B170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9ACD6-9762-48FB-B3CF-C5D0F15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652-E611-43CC-A893-466B9B7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CF3B-3A37-4CEC-9813-BF0408FB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08FA-3D6F-411D-8B5F-1576106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7613A-2286-48BD-AF14-AEDC1C3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213F7-FF41-4D15-8E53-896BC20C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27957-FDDD-4609-BD7B-166A115C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6CF-25A6-470F-BDE0-5B7F3716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389-BD69-4ACE-A722-84A24939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6C7-EBF6-44A7-A9D8-624CDC81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414-0EAB-404D-A61C-90D98587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6A0-D28E-48E1-89FA-1E597A13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14A-9ACA-48F6-AEE5-980212E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FD9-CD35-4797-AB42-072CD0F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7A5E-B4CE-49C9-B73E-67DD95C68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A511-351D-415E-B8DB-F4734D2976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образно и благотворно воздействие Океана на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единении с океаном формируется здоровая сильная личность. Океан – это великое благо, выпавшее на долю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лазов А.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69840"/>
            <a:ext cx="5472360" cy="529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рсей и Андромеда. Картина П.П. Рубенса. 1621 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720" y="291960"/>
            <a:ext cx="5410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иан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7564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2000" y="291960"/>
            <a:ext cx="55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63640" y="1579680"/>
            <a:ext cx="561672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291960"/>
            <a:ext cx="55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195640" y="1887480"/>
            <a:ext cx="4824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720" y="291960"/>
            <a:ext cx="5410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уре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476360" y="1793880"/>
            <a:ext cx="6264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280" y="291960"/>
            <a:ext cx="54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и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546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аше эмоциональное настро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молод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916360" y="2492280"/>
            <a:ext cx="3097080" cy="2808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Алгоритм ученической рефлек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На уроке 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Узнал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Понял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Научился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Лучше всего на занятиях у меня получалось: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Основные трудности у меня были: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У меня произошли изменения: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знаниях по предмету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умениях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Tahoma"/>
              </a:rPr>
              <a:t>В творческих способностях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Благодарю всех за продуктивную рабо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nt"/>
          <p:cNvSpPr/>
          <p:nvPr/>
        </p:nvSpPr>
        <p:spPr>
          <a:xfrm>
            <a:off x="5508720" y="256536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Music"/>
          <p:cNvSpPr/>
          <p:nvPr/>
        </p:nvSpPr>
        <p:spPr>
          <a:xfrm>
            <a:off x="3059280" y="3429000"/>
            <a:ext cx="1809720" cy="1809720"/>
          </a:xfrm>
          <a:custGeom>
            <a:avLst/>
            <a:gdLst>
              <a:gd name="textAreaLeft" fmla="*/ 668160 w 1809720"/>
              <a:gd name="textAreaRight" fmla="*/ 1754280 w 1809720"/>
              <a:gd name="textAreaTop" fmla="*/ 77040 h 1809720"/>
              <a:gd name="textAreaBottom" fmla="*/ 448560 h 180972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nt"/>
          <p:cNvSpPr/>
          <p:nvPr/>
        </p:nvSpPr>
        <p:spPr>
          <a:xfrm>
            <a:off x="1187280" y="2492280"/>
            <a:ext cx="1810080" cy="1809720"/>
          </a:xfrm>
          <a:custGeom>
            <a:avLst/>
            <a:gdLst>
              <a:gd name="textAreaLeft" fmla="*/ 595080 w 1810080"/>
              <a:gd name="textAreaRight" fmla="*/ 1218960 w 181008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аше эмоциональное настро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900000" y="2492280"/>
            <a:ext cx="2303640" cy="2232000"/>
          </a:xfrm>
          <a:prstGeom prst="smileyFace">
            <a:avLst>
              <a:gd name="adj" fmla="val 1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492360" y="2852640"/>
            <a:ext cx="2232000" cy="1800360"/>
          </a:xfrm>
          <a:prstGeom prst="smileyFace">
            <a:avLst>
              <a:gd name="adj" fmla="val 9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227640" y="2492280"/>
            <a:ext cx="2232000" cy="2232000"/>
          </a:xfrm>
          <a:prstGeom prst="smileyFace">
            <a:avLst>
              <a:gd name="adj" fmla="val -46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Многообразие кишечнополостных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их значение в природе и жизни       человека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рок-путешествие по гидросфе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Задачи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многообразие кишечнополостных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, какое значение кишечнополостные имеют в природе и жизн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, какое влияние на здоровье человека оказывают кишечнополостные, как обитатели Мирового оке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дуза-крестович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3169" r="711" b="0"/>
          <a:stretch/>
        </p:blipFill>
        <p:spPr>
          <a:xfrm>
            <a:off x="1619280" y="1506600"/>
            <a:ext cx="612144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291960"/>
            <a:ext cx="749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ртугальский корабл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ртугальский корабл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2447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00480" y="189000"/>
            <a:ext cx="4398840" cy="46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0328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ладшая из Горгон -Меду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120000" cy="4817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ка Медузы Горгоны в Дидиме(Турц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8:16:44Z</dcterms:created>
  <dc:creator>Вера</dc:creator>
  <dc:description/>
  <dc:language>en-US</dc:language>
  <cp:lastModifiedBy>Коля</cp:lastModifiedBy>
  <dcterms:modified xsi:type="dcterms:W3CDTF">2013-05-23T20:42:11Z</dcterms:modified>
  <cp:revision>11</cp:revision>
  <dc:subject/>
  <dc:title>Медуза-крестовичок</dc:title>
</cp:coreProperties>
</file>