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EE4-45C8-4D79-98D1-3F73CAB6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064-91A3-4C7B-B5A9-EC7C0FF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9E8-37AD-4E66-A5A6-9AC50CA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50D-07D7-473A-8D7F-12B67213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3433-DE49-4C18-BD83-79F7A65D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06BB8-76F5-466E-A58A-4C290EB2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934F7-2BF4-4C04-942B-C97C8C13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F6CA-68B8-46FC-9713-6F855F3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0A4E-9A1F-4B96-8C32-32EEFF7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1204-9B04-4DD3-872D-B19BD416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ED8D-A37B-4B19-BF99-500478EA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458-5592-4D50-8C96-CD51436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A47E-EB0B-4BA1-806E-8211D98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FE8D-FDFD-434C-AAF4-EFCDE8F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1526B-7074-4401-BC18-0BDE249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5C4EE-D25A-4B9E-8137-805CA76A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8DF23-EA32-4208-A94C-E949CDA1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A0F-F461-4F73-BFA8-EE3A5FE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7A2-EBFA-42E0-B120-C0D5853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106-AE23-4B05-BD5C-C62AC11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F6F-7690-4CAD-8365-6ADC1E9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E0E-07E9-4946-B247-C67BC57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A9B-2485-451C-807B-01E7E7E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78B-FCD4-4E2C-B6E8-39B8011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835-AF39-4618-89CB-0BF91C16E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D485-46E6-4BB9-A35F-3DB8F905D0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образно и благотворно воздействие Океана на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единении с океаном формируется здоровая сильная личность. Океан – это великое благо, выпавшее на долю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лазов А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69840"/>
            <a:ext cx="5472360" cy="529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рсей и Андромеда. Картина П.П. Рубенса. 1621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иан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7564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63640" y="1579680"/>
            <a:ext cx="56167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195640" y="1887480"/>
            <a:ext cx="4824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476360" y="1793880"/>
            <a:ext cx="6264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280" y="291960"/>
            <a:ext cx="54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и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46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молод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916360" y="2492280"/>
            <a:ext cx="3097080" cy="28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Алгоритм ученической рефлек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 уроке 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зна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Поня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учился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Лучше всего на занятиях у меня получалось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Основные трудности у меня были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 меня произошли изменения: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знаниях по предмету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умени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творческих способност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Благодарю всех за продуктивную рабо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nt"/>
          <p:cNvSpPr/>
          <p:nvPr/>
        </p:nvSpPr>
        <p:spPr>
          <a:xfrm>
            <a:off x="5508720" y="256536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Music"/>
          <p:cNvSpPr/>
          <p:nvPr/>
        </p:nvSpPr>
        <p:spPr>
          <a:xfrm>
            <a:off x="3059280" y="3429000"/>
            <a:ext cx="1809720" cy="1809720"/>
          </a:xfrm>
          <a:custGeom>
            <a:avLst/>
            <a:gdLst>
              <a:gd name="textAreaLeft" fmla="*/ 668160 w 1809720"/>
              <a:gd name="textAreaRight" fmla="*/ 1754280 w 1809720"/>
              <a:gd name="textAreaTop" fmla="*/ 77040 h 1809720"/>
              <a:gd name="textAreaBottom" fmla="*/ 448560 h 180972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nt"/>
          <p:cNvSpPr/>
          <p:nvPr/>
        </p:nvSpPr>
        <p:spPr>
          <a:xfrm>
            <a:off x="1187280" y="249228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900000" y="2492280"/>
            <a:ext cx="2303640" cy="2232000"/>
          </a:xfrm>
          <a:prstGeom prst="smileyFace">
            <a:avLst>
              <a:gd name="adj" fmla="val 1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492360" y="2852640"/>
            <a:ext cx="2232000" cy="1800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27640" y="2492280"/>
            <a:ext cx="2232000" cy="2232000"/>
          </a:xfrm>
          <a:prstGeom prst="smileyFace">
            <a:avLst>
              <a:gd name="adj" fmla="val -46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ногообразие кишечнополостных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их значение в природе и жизни       человека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ок-путешествие по гидросфе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дачи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многообразие кишечнополостных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какое значение кишечнополостные имеют в природе и жизн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какое влияние на здоровье человека оказывают кишечнополостные, как обитатели Мирового оке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уза-крестович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3169" r="711" b="0"/>
          <a:stretch/>
        </p:blipFill>
        <p:spPr>
          <a:xfrm>
            <a:off x="1619280" y="1506600"/>
            <a:ext cx="612144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291960"/>
            <a:ext cx="749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447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00480" y="189000"/>
            <a:ext cx="4398840" cy="46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ладшая из Горгон -Меду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20000" cy="481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ка Медузы Горгоны в Дидиме(Тур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16:44Z</dcterms:created>
  <dc:creator>Вера</dc:creator>
  <dc:description/>
  <dc:language>en-US</dc:language>
  <cp:lastModifiedBy>Коля</cp:lastModifiedBy>
  <dcterms:modified xsi:type="dcterms:W3CDTF">2013-05-23T20:42:11Z</dcterms:modified>
  <cp:revision>11</cp:revision>
  <dc:subject/>
  <dc:title>Медуза-крестовичок</dc:title>
</cp:coreProperties>
</file>