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A1B-C122-423D-9E98-D2AB2D9D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833-172C-4315-A823-261A223A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3E9-D519-4B97-AA3E-2D123688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232-3F19-4E63-BFF2-FB0270F8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424DA-2556-4C58-B801-957F433C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D92C-171D-4FAE-9821-B398B1C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4E78D-762D-4C10-A0F4-2BB20273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891E8-AC37-4734-BE29-A7AC8A6D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4B3D9-BF79-466F-94A7-4055984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08725-F12D-4CF9-A3FF-60E8B4F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54D88-5347-4336-BF32-34011EF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334-7A9E-4A6A-9B8C-7747A8D1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C3601-6364-4B67-AAA6-021F11D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39CB-FD9E-4010-8CB5-14A5351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4BA34-B2AB-41D4-B410-8DF3421D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C3B50-B414-4DD8-8801-E05CA2C6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3699E-29E0-48A6-8755-8D821A0A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933-1830-4451-BF25-B401190E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989-EB51-4299-92DB-27930BD2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AB1-E176-4D75-B437-539EA4A1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E0A-5B54-4D07-93DB-C8E6A55F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110-3F41-4F95-B8F5-F105F22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A28-ED50-4487-AF09-6150232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5F7-6509-4D75-9E7E-C361A039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A04C-E9A1-46A4-B2A3-113D0134E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10F1-9C16-4F70-A14B-04EEAF8AEA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образно и благотворно воздействие Океана на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единении с океаном формируется здоровая сильная личность. Океан – это великое благо, выпавшее на долю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лазов А.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69840"/>
            <a:ext cx="5472360" cy="529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рсей и Андромеда. Картина П.П. Рубенса. 1621 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720" y="291960"/>
            <a:ext cx="5410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иан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7564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2000" y="291960"/>
            <a:ext cx="55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63640" y="1579680"/>
            <a:ext cx="561672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291960"/>
            <a:ext cx="55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195640" y="1887480"/>
            <a:ext cx="4824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720" y="291960"/>
            <a:ext cx="5410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476360" y="1793880"/>
            <a:ext cx="6264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280" y="291960"/>
            <a:ext cx="54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и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546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аше эмоциональное настро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молод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916360" y="2492280"/>
            <a:ext cx="3097080" cy="2808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Алгоритм ученической рефлек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На уроке 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Узнал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Понял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Научился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Лучше всего на занятиях у меня получалось: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Основные трудности у меня были: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У меня произошли изменения: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знаниях по предмету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умениях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творческих способностях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Благодарю всех за продуктивную рабо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nt"/>
          <p:cNvSpPr/>
          <p:nvPr/>
        </p:nvSpPr>
        <p:spPr>
          <a:xfrm>
            <a:off x="5508720" y="256536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Music"/>
          <p:cNvSpPr/>
          <p:nvPr/>
        </p:nvSpPr>
        <p:spPr>
          <a:xfrm>
            <a:off x="3059280" y="3429000"/>
            <a:ext cx="1809720" cy="1809720"/>
          </a:xfrm>
          <a:custGeom>
            <a:avLst/>
            <a:gdLst>
              <a:gd name="textAreaLeft" fmla="*/ 668160 w 1809720"/>
              <a:gd name="textAreaRight" fmla="*/ 1754280 w 1809720"/>
              <a:gd name="textAreaTop" fmla="*/ 77040 h 1809720"/>
              <a:gd name="textAreaBottom" fmla="*/ 448560 h 180972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nt"/>
          <p:cNvSpPr/>
          <p:nvPr/>
        </p:nvSpPr>
        <p:spPr>
          <a:xfrm>
            <a:off x="1187280" y="2492280"/>
            <a:ext cx="1810080" cy="1809720"/>
          </a:xfrm>
          <a:custGeom>
            <a:avLst/>
            <a:gdLst>
              <a:gd name="textAreaLeft" fmla="*/ 595080 w 1810080"/>
              <a:gd name="textAreaRight" fmla="*/ 1218960 w 181008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аше эмоциональное настро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900000" y="2492280"/>
            <a:ext cx="2303640" cy="2232000"/>
          </a:xfrm>
          <a:prstGeom prst="smileyFace">
            <a:avLst>
              <a:gd name="adj" fmla="val 1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492360" y="2852640"/>
            <a:ext cx="2232000" cy="1800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227640" y="2492280"/>
            <a:ext cx="2232000" cy="2232000"/>
          </a:xfrm>
          <a:prstGeom prst="smileyFace">
            <a:avLst>
              <a:gd name="adj" fmla="val -46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Многообразие кишечнополостных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их значение в природе и жизни       человека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рок-путешествие по гидросфе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Задачи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многообразие кишечнополостных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, какое значение кишечнополостные имеют в природе и жизн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, какое влияние на здоровье человека оказывают кишечнополостные, как обитатели Мирового оке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дуза-крестович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3169" r="711" b="0"/>
          <a:stretch/>
        </p:blipFill>
        <p:spPr>
          <a:xfrm>
            <a:off x="1619280" y="1506600"/>
            <a:ext cx="612144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291960"/>
            <a:ext cx="749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ртугальский корабл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ртугальский корабл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2447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00480" y="189000"/>
            <a:ext cx="4398840" cy="46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0328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ладшая из Горгон -Меду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120000" cy="4817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ка Медузы Горгоны в Дидиме(Турц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8:16:44Z</dcterms:created>
  <dc:creator>Вера</dc:creator>
  <dc:description/>
  <dc:language>en-US</dc:language>
  <cp:lastModifiedBy>Коля</cp:lastModifiedBy>
  <dcterms:modified xsi:type="dcterms:W3CDTF">2013-05-23T20:42:11Z</dcterms:modified>
  <cp:revision>11</cp:revision>
  <dc:subject/>
  <dc:title>Медуза-крестовичок</dc:title>
</cp:coreProperties>
</file>